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24A-5BE1-422E-BE20-097D9CD1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C9A-25EB-41B6-AF37-C4B8AE65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225-11E9-4726-9078-CC224FD6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D0B-4126-41F7-8891-9749BAF8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B205A-62D0-45C9-9FAA-B99E06BC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FD430-D8B3-4987-B32E-055BCDB7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6D33B-EA4A-4914-B077-1452B959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B7867-494B-4FF5-AEE5-9EE15552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762C3-849E-462A-B25C-ED2C35A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18196-DF8B-4C87-AAC7-E0B224E5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18143-DF64-45D5-A8AD-4AC31CB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853-0253-4325-A52D-9DB04150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0CA6E-D724-4893-9A6A-03B5DFCA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EB2CC-CDA4-49AD-8946-B1C7FE0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2A066-BC55-48DC-BCE2-649AF00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F9DCC-6202-4B87-83DD-9A77327F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06E5D-2ACF-4FF6-AE81-670AB0C4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020-C6A8-4387-9418-0C20659A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C10-7D48-4FD6-BC5E-5D8E0CAF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753-DB6D-427B-B811-56D5135D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928-AC9B-4E36-AFDA-8B4888A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61B-D60D-4AF0-8B3C-17E5463E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DAC-EF78-4A6A-A130-F62B442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3C3-41E0-47C1-8FE2-565352C4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6A17-08A9-4C7E-8F6A-B7B9FFC1C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BBFA-23D4-444C-AF08-459D84ECBA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terolateral 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bdominal </a:t>
            </a:r>
            <a:r>
              <a:rPr b="1" lang="en-US" sz="4000" spc="-1" strike="noStrike">
                <a:solidFill>
                  <a:srgbClr val="92d050"/>
                </a:solidFill>
                <a:latin typeface="Arial"/>
              </a:rPr>
              <a:t>Wall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d</a:t>
            </a:r>
            <a:br>
              <a:rPr sz="48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5640" y="4508280"/>
            <a:ext cx="7920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rof. Saeed Abuel Maka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324000" y="126828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5" name="Rectangle 4" descr=""/>
          <p:cNvPicPr/>
          <p:nvPr/>
        </p:nvPicPr>
        <p:blipFill>
          <a:blip r:embed="rId3"/>
          <a:stretch/>
        </p:blipFill>
        <p:spPr>
          <a:xfrm>
            <a:off x="176040" y="1773360"/>
            <a:ext cx="86439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Layers of the Anterior </a:t>
            </a:r>
            <a:br>
              <a:rPr sz="4400"/>
            </a:b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Abdominal Wal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1- Ski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2- Superficial fasci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a- Superficial fatty layer, (Camper’s fascia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b- Deep membranous layer, (Scarpa’s fasc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o Deep Fascia in the anterior abdominal wa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3- Ex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4- In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5- Transversus abdominis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6- Fascia Transversal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7- Extraperitoneal fatty Tissu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8- Peritoneu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Picture 4" descr="de08$002"/>
          <p:cNvPicPr/>
          <p:nvPr/>
        </p:nvPicPr>
        <p:blipFill>
          <a:blip r:embed="rId4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7"/>
          <p:cNvSpPr/>
          <p:nvPr/>
        </p:nvSpPr>
        <p:spPr>
          <a:xfrm>
            <a:off x="6659640" y="476280"/>
            <a:ext cx="2089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Superficial inguin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50" name="Straight Arrow Connector 9"/>
          <p:cNvCxnSpPr/>
          <p:nvPr/>
        </p:nvCxnSpPr>
        <p:spPr>
          <a:xfrm flipH="1">
            <a:off x="5579280" y="1341000"/>
            <a:ext cx="1801080" cy="2088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1" name="Rectangle 12"/>
          <p:cNvSpPr/>
          <p:nvPr/>
        </p:nvSpPr>
        <p:spPr>
          <a:xfrm>
            <a:off x="179280" y="907920"/>
            <a:ext cx="1656000" cy="720720"/>
          </a:xfrm>
          <a:prstGeom prst="rect">
            <a:avLst/>
          </a:prstGeom>
          <a:solidFill>
            <a:srgbClr val="ffff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5940360" y="5229360"/>
            <a:ext cx="3024360" cy="100800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de08$001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611280" y="2708280"/>
            <a:ext cx="1944720" cy="433440"/>
          </a:xfrm>
          <a:prstGeom prst="rect">
            <a:avLst/>
          </a:prstGeom>
          <a:solidFill>
            <a:srgbClr val="ff00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16-Point Star 3"/>
          <p:cNvSpPr/>
          <p:nvPr/>
        </p:nvSpPr>
        <p:spPr>
          <a:xfrm>
            <a:off x="4067280" y="3357720"/>
            <a:ext cx="360360" cy="431640"/>
          </a:xfrm>
          <a:custGeom>
            <a:avLst/>
            <a:gdLst>
              <a:gd name="textAreaLeft" fmla="*/ 82080 w 360360"/>
              <a:gd name="textAreaRight" fmla="*/ 278280 w 36036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755640" y="270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Femor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57" name="Straight Arrow Connector 6"/>
          <p:cNvCxnSpPr/>
          <p:nvPr/>
        </p:nvCxnSpPr>
        <p:spPr>
          <a:xfrm>
            <a:off x="2484000" y="2997000"/>
            <a:ext cx="1583640" cy="503640"/>
          </a:xfrm>
          <a:prstGeom prst="straightConnector1">
            <a:avLst/>
          </a:prstGeom>
          <a:ln w="9360">
            <a:solidFill>
              <a:srgbClr val="463416"/>
            </a:solidFill>
            <a:miter/>
            <a:tailEnd len="med" type="arrow" w="med"/>
          </a:ln>
        </p:spPr>
      </p:cxnSp>
      <p:sp>
        <p:nvSpPr>
          <p:cNvPr id="258" name="Rectangle 8"/>
          <p:cNvSpPr/>
          <p:nvPr/>
        </p:nvSpPr>
        <p:spPr>
          <a:xfrm>
            <a:off x="5148360" y="1484280"/>
            <a:ext cx="2808360" cy="86508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39610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Internal Obliqu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0" name="Picture 4" descr="Int obl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4427640" y="189000"/>
            <a:ext cx="4392360" cy="6669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61" name="Line 5"/>
          <p:cNvSpPr/>
          <p:nvPr/>
        </p:nvSpPr>
        <p:spPr>
          <a:xfrm flipH="1" flipV="1">
            <a:off x="5292720" y="2924280"/>
            <a:ext cx="1006560" cy="129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Line 5"/>
          <p:cNvSpPr/>
          <p:nvPr/>
        </p:nvSpPr>
        <p:spPr>
          <a:xfrm flipH="1" flipV="1">
            <a:off x="5219640" y="3213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Line 5"/>
          <p:cNvSpPr/>
          <p:nvPr/>
        </p:nvSpPr>
        <p:spPr>
          <a:xfrm flipH="1" flipV="1">
            <a:off x="5292720" y="3860640"/>
            <a:ext cx="79200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79280" y="836640"/>
            <a:ext cx="4105440" cy="5031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ateral 2/3  of inguinal ligament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terior 2/3 of iliac crest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umbar fasc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Direction of its Fibers</a:t>
            </a:r>
            <a:r>
              <a:rPr b="1" lang="en-US" sz="2000" spc="-1" strike="noStrike">
                <a:solidFill>
                  <a:srgbClr val="ffc000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pward forward and medial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at right angle with the fibers of external oblique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wer 3 ribs and their costal cartilage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Xiphoid proces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nea alb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crest a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ctineal lin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Line 5"/>
          <p:cNvSpPr/>
          <p:nvPr/>
        </p:nvSpPr>
        <p:spPr>
          <a:xfrm flipH="1" flipV="1">
            <a:off x="5219280" y="4436640"/>
            <a:ext cx="64764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3923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nsversus Abdomin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11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Orig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1/3 of inguinal ligamen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erior 2/3 of inner lip of iliac cres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mber fascia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6 costal cartil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Direction of its fiber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Inser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phoid Proc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 alb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ic crest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ctine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Transversus abd"/>
          <p:cNvPicPr/>
          <p:nvPr/>
        </p:nvPicPr>
        <p:blipFill>
          <a:blip r:embed="rId1"/>
          <a:stretch/>
        </p:blipFill>
        <p:spPr>
          <a:xfrm>
            <a:off x="4859280" y="260280"/>
            <a:ext cx="4105440" cy="6048360"/>
          </a:xfrm>
          <a:prstGeom prst="rect">
            <a:avLst/>
          </a:prstGeom>
          <a:ln w="0">
            <a:noFill/>
          </a:ln>
        </p:spPr>
      </p:pic>
      <p:sp>
        <p:nvSpPr>
          <p:cNvPr id="269" name="Line 5"/>
          <p:cNvSpPr/>
          <p:nvPr/>
        </p:nvSpPr>
        <p:spPr>
          <a:xfrm flipH="1" flipV="1">
            <a:off x="5651640" y="3645000"/>
            <a:ext cx="14414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Line 5"/>
          <p:cNvSpPr/>
          <p:nvPr/>
        </p:nvSpPr>
        <p:spPr>
          <a:xfrm flipH="1">
            <a:off x="5796000" y="3868560"/>
            <a:ext cx="1449360" cy="65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5940000" y="4005360"/>
            <a:ext cx="12956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8920" y="272880"/>
            <a:ext cx="2808360" cy="116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Century Gothic"/>
              </a:rPr>
              <a:t>Deep Inguinal Ring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880000" cy="41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s an opening in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ascia transversalis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m above the middle  of the inguinal ligament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midpoint of inguinal liga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t lie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teral to the inferior epigastric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Content Placeholder 4" descr="de15$001"/>
          <p:cNvPicPr/>
          <p:nvPr/>
        </p:nvPicPr>
        <p:blipFill>
          <a:blip r:embed="rId1"/>
          <a:stretch/>
        </p:blipFill>
        <p:spPr>
          <a:xfrm>
            <a:off x="3132000" y="272880"/>
            <a:ext cx="5761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3816360" cy="6191280"/>
          </a:xfrm>
          <a:prstGeom prst="rect">
            <a:avLst/>
          </a:prstGeom>
          <a:solidFill>
            <a:srgbClr val="00206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n oblique intramuscular passage in the lower medial part of the </a:t>
            </a:r>
            <a:r>
              <a:rPr b="0" i="1" lang="en-US" sz="2000" spc="-1" strike="noStrike">
                <a:solidFill>
                  <a:srgbClr val="ffc000"/>
                </a:solidFill>
                <a:latin typeface="Arial"/>
              </a:rPr>
              <a:t>Anterior Abdominal Wall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uns just above and parallel to the medial half of the </a:t>
            </a:r>
            <a:r>
              <a:rPr b="0" i="1" lang="en-US" sz="2000" spc="-1" strike="noStrike">
                <a:solidFill>
                  <a:srgbClr val="ffc000"/>
                </a:solidFill>
                <a:latin typeface="Arial"/>
              </a:rPr>
              <a:t>inguinal ligamen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length is about 2 inches  (5 cm), long in adu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connects between the superficial and deep inguinal r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gives a passage for the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permatic cor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le, or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ound ligament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 the uterus  in fem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it gives a passage for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lioinguinal ner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both se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3995640" y="189000"/>
            <a:ext cx="4969080" cy="581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INGIUNAL CAN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7" name="Picture 4" descr="de09$001"/>
          <p:cNvPicPr/>
          <p:nvPr/>
        </p:nvPicPr>
        <p:blipFill>
          <a:blip r:embed="rId1"/>
          <a:srcRect l="4523" t="7053" r="4918" b="20131"/>
          <a:stretch/>
        </p:blipFill>
        <p:spPr>
          <a:xfrm>
            <a:off x="4140360" y="1844640"/>
            <a:ext cx="4752720" cy="3743280"/>
          </a:xfrm>
          <a:prstGeom prst="rect">
            <a:avLst/>
          </a:prstGeom>
          <a:ln w="0">
            <a:noFill/>
          </a:ln>
        </p:spPr>
      </p:pic>
      <p:sp>
        <p:nvSpPr>
          <p:cNvPr id="278" name="Cloud"/>
          <p:cNvSpPr/>
          <p:nvPr/>
        </p:nvSpPr>
        <p:spPr>
          <a:xfrm>
            <a:off x="7020000" y="3933720"/>
            <a:ext cx="1008000" cy="1295640"/>
          </a:xfrm>
          <a:custGeom>
            <a:avLst/>
            <a:gdLst>
              <a:gd name="textAreaLeft" fmla="*/ 138960 w 1008000"/>
              <a:gd name="textAreaRight" fmla="*/ 797400 w 1008000"/>
              <a:gd name="textAreaTop" fmla="*/ 195480 h 1295640"/>
              <a:gd name="textAreaBottom" fmla="*/ 1040040 h 129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6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2160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Superficial Inguinal Ring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2305080" cy="430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an oval slit in the lower  aponerotic  fibers of the 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ternal obliqu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ust above &amp; lateral to the  pubic tuberc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teral crus attaches to pubic tubercle &amp; the medial crus attaches to pubic cre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de09$004"/>
          <p:cNvPicPr/>
          <p:nvPr/>
        </p:nvPicPr>
        <p:blipFill>
          <a:blip r:embed="rId1"/>
          <a:srcRect l="1981" t="0" r="0" b="0"/>
          <a:stretch/>
        </p:blipFill>
        <p:spPr>
          <a:xfrm>
            <a:off x="2556000" y="189000"/>
            <a:ext cx="6337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920" y="272880"/>
            <a:ext cx="2808360" cy="116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Century Gothic"/>
              </a:rPr>
              <a:t>Deep Inguinal Ring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880000" cy="41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s an opening in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ascia transversalis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m above the middle  of the inguinal ligament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midpoint of inguinal liga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t lie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teral to the inferior epigastric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Content Placeholder 4" descr="de15$001"/>
          <p:cNvPicPr/>
          <p:nvPr/>
        </p:nvPicPr>
        <p:blipFill>
          <a:blip r:embed="rId1"/>
          <a:stretch/>
        </p:blipFill>
        <p:spPr>
          <a:xfrm>
            <a:off x="3132000" y="272880"/>
            <a:ext cx="5761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de09$013"/>
          <p:cNvPicPr/>
          <p:nvPr/>
        </p:nvPicPr>
        <p:blipFill>
          <a:blip r:embed="rId1"/>
          <a:srcRect l="3861" t="2826" r="7507" b="6886"/>
          <a:stretch/>
        </p:blipFill>
        <p:spPr>
          <a:xfrm>
            <a:off x="250920" y="189000"/>
            <a:ext cx="8713800" cy="475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6" name="Rectangle 4"/>
          <p:cNvSpPr/>
          <p:nvPr/>
        </p:nvSpPr>
        <p:spPr>
          <a:xfrm>
            <a:off x="1042920" y="4869000"/>
            <a:ext cx="7561440" cy="1923480"/>
          </a:xfrm>
          <a:prstGeom prst="rect">
            <a:avLst/>
          </a:prstGeom>
          <a:solidFill>
            <a:srgbClr val="00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NGUINAL CANA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nterior. Wal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 External oblique along whole lengt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ternal oblique along lateral half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osterior. Wal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Fascia Transversalis along whole leng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joint tendon along the medial par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flected ligament along the medial par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5435640" y="333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416"/>
                </a:solidFill>
                <a:latin typeface="Century Gothic"/>
              </a:rPr>
              <a:t>Superficial inguin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364000" y="333360"/>
            <a:ext cx="3168720" cy="431640"/>
          </a:xfrm>
          <a:prstGeom prst="rect">
            <a:avLst/>
          </a:prstGeom>
          <a:solidFill>
            <a:srgbClr val="b3b3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89" name="Straight Arrow Connector 7"/>
          <p:cNvCxnSpPr/>
          <p:nvPr/>
        </p:nvCxnSpPr>
        <p:spPr>
          <a:xfrm flipH="1">
            <a:off x="4571640" y="765000"/>
            <a:ext cx="1296000" cy="122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Straight Arrow Connector 10"/>
          <p:cNvCxnSpPr/>
          <p:nvPr/>
        </p:nvCxnSpPr>
        <p:spPr>
          <a:xfrm flipH="1">
            <a:off x="5723640" y="765000"/>
            <a:ext cx="143640" cy="936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1" name="TextBox 8"/>
          <p:cNvSpPr/>
          <p:nvPr/>
        </p:nvSpPr>
        <p:spPr>
          <a:xfrm>
            <a:off x="3276720" y="260280"/>
            <a:ext cx="1439640" cy="39888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eep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92" name="Straight Arrow Connector 11"/>
          <p:cNvCxnSpPr/>
          <p:nvPr/>
        </p:nvCxnSpPr>
        <p:spPr>
          <a:xfrm flipH="1">
            <a:off x="2555280" y="333000"/>
            <a:ext cx="64836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de09$010"/>
          <p:cNvPicPr/>
          <p:nvPr/>
        </p:nvPicPr>
        <p:blipFill>
          <a:blip r:embed="rId1"/>
          <a:srcRect l="0" t="3798" r="0" b="49888"/>
          <a:stretch/>
        </p:blipFill>
        <p:spPr>
          <a:xfrm>
            <a:off x="250920" y="260280"/>
            <a:ext cx="8497800" cy="50403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2"/>
          <p:cNvSpPr/>
          <p:nvPr/>
        </p:nvSpPr>
        <p:spPr>
          <a:xfrm>
            <a:off x="250920" y="5526000"/>
            <a:ext cx="856908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nt. Wall</a:t>
            </a: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:  External oblique along whole leng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847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785440" cy="352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oin or the inguinal region, extending between the </a:t>
            </a:r>
            <a:r>
              <a:rPr b="0" lang="en-US" sz="2600" spc="-1" strike="noStrike">
                <a:solidFill>
                  <a:srgbClr val="ffc000"/>
                </a:solidFill>
                <a:latin typeface="Arial"/>
              </a:rPr>
              <a:t>ASI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ubic tubercl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gically and anatomically, it is a very important area where structures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ent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exi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 abdominal cavi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 is a potential site for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erni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In fac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the majority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ll abdominal  hernia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ccur in this region in particular the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inguinal hern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which account for about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80 to 90 %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ll abdominal herni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de09$010"/>
          <p:cNvPicPr/>
          <p:nvPr/>
        </p:nvPicPr>
        <p:blipFill>
          <a:blip r:embed="rId1"/>
          <a:srcRect l="0" t="51734" r="0" b="4847"/>
          <a:stretch/>
        </p:blipFill>
        <p:spPr>
          <a:xfrm>
            <a:off x="250920" y="333360"/>
            <a:ext cx="8497800" cy="50403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4427640" y="333360"/>
            <a:ext cx="367344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435640" y="836640"/>
            <a:ext cx="134604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5629320"/>
            <a:ext cx="871380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nterior wall:  Internal oblique along lateral half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de09$011"/>
          <p:cNvPicPr/>
          <p:nvPr/>
        </p:nvPicPr>
        <p:blipFill>
          <a:blip r:embed="rId1"/>
          <a:srcRect l="0" t="0" r="0" b="4855"/>
          <a:stretch/>
        </p:blipFill>
        <p:spPr>
          <a:xfrm>
            <a:off x="250920" y="0"/>
            <a:ext cx="8713800" cy="66690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324000" y="3141720"/>
            <a:ext cx="216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Deep Inguinal Ring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ts an opening in the fascia transversalis  1cm above the middle of the inguinal ligament and lateral to the inferior epigastric vessel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732720" y="5300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Posterior wa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732720" y="5229360"/>
            <a:ext cx="1800000" cy="503280"/>
          </a:xfrm>
          <a:prstGeom prst="rect">
            <a:avLst/>
          </a:prstGeom>
          <a:solidFill>
            <a:srgbClr val="ff00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de15$002"/>
          <p:cNvPicPr/>
          <p:nvPr/>
        </p:nvPicPr>
        <p:blipFill>
          <a:blip r:embed="rId1"/>
          <a:srcRect l="7658" t="0" r="0" b="0"/>
          <a:stretch/>
        </p:blipFill>
        <p:spPr>
          <a:xfrm>
            <a:off x="468360" y="260280"/>
            <a:ext cx="8496360" cy="5040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250920" y="5445000"/>
            <a:ext cx="8713800" cy="1252080"/>
          </a:xfrm>
          <a:prstGeom prst="rect">
            <a:avLst/>
          </a:prstGeom>
          <a:solidFill>
            <a:srgbClr val="00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loor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guinal ligament supported medially by the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cunar liga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oof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Arching lower fibers of internal obliq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516720" y="1628640"/>
            <a:ext cx="1295280" cy="28764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undaries of the Inguinal cana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38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nt. W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xternal obliqu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whole leng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ternal obl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long lateral hal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st. W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Fascia transversali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whole leng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Conjoint tend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long the medial hal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Reflected liga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the medial par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Floor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guinal liga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orted medially by th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Lacunar liga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oof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Arching lower fibers of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ternal obl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4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4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BA1A-9345-46AA-ABC7-2DC74A7A7C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5651280" y="333360"/>
            <a:ext cx="3313080" cy="612000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inguinal canal is a potential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eak poi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 the anterior  abdominal wall.  But it posses a protective mechanis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rotective mechani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lique transmission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erior wall reinforced  laterally by the internal oblique in front of the deep r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terior wall reinforced  medially by the conjoint tendon behind the superficial r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coughing and straining (micturition and defecation ) the arching lower fibers of the  internal oblique and  transversus abdominis  contract and flatten the roof of the canal, compressing it's cont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great straining (defecation and parturition), the person naturally assumes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quatting posi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in which the anterior abdominal wall is protected by the thigh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5" descr="Inguinal canal 008"/>
          <p:cNvPicPr/>
          <p:nvPr/>
        </p:nvPicPr>
        <p:blipFill>
          <a:blip r:embed="rId1"/>
          <a:srcRect l="1266" t="2448" r="1253" b="3262"/>
          <a:stretch/>
        </p:blipFill>
        <p:spPr>
          <a:xfrm>
            <a:off x="250920" y="333360"/>
            <a:ext cx="5329080" cy="62643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3276720" y="476280"/>
            <a:ext cx="2149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CHANIC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my06_004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755640" y="549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Shutter Mechanis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826920" y="549360"/>
            <a:ext cx="1584360" cy="79200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3529080" cy="75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liopubic Trac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3672000" cy="4969080"/>
          </a:xfrm>
          <a:prstGeom prst="rect">
            <a:avLst/>
          </a:prstGeom>
          <a:solidFill>
            <a:srgbClr val="000079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the thickened inferior margin in the fascia transversal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appears as a fibrous band running deep (posterior) to the inguinal liga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parosco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is seen as it span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ingui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through which the flexors of the hip joint and the neurovascular bundle  pass to the lower li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inguinal ligament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Iliopubic trac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 a bilaminar retinaculum which span an area of weakness in the groin called the myopectineal orif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de17$001"/>
          <p:cNvPicPr/>
          <p:nvPr/>
        </p:nvPicPr>
        <p:blipFill>
          <a:blip r:embed="rId1"/>
          <a:stretch/>
        </p:blipFill>
        <p:spPr>
          <a:xfrm>
            <a:off x="3924360" y="18900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7812000" y="3573360"/>
            <a:ext cx="720720" cy="287280"/>
          </a:xfrm>
          <a:prstGeom prst="rect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3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de15$010"/>
          <p:cNvPicPr/>
          <p:nvPr/>
        </p:nvPicPr>
        <p:blipFill>
          <a:blip r:embed="rId1"/>
          <a:stretch/>
        </p:blipFill>
        <p:spPr>
          <a:xfrm>
            <a:off x="324000" y="0"/>
            <a:ext cx="864072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8459640" y="2565360"/>
            <a:ext cx="505080" cy="503280"/>
          </a:xfrm>
          <a:prstGeom prst="rect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277164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he Iliopubic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tra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marcates between, the inferior margin of the deep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guinal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ng, and the superomedial margin of th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emoral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a useful landmark during laparoscopic repair of inguinal her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de15$011"/>
          <p:cNvPicPr/>
          <p:nvPr/>
        </p:nvPicPr>
        <p:blipFill>
          <a:blip r:embed="rId1"/>
          <a:stretch/>
        </p:blipFill>
        <p:spPr>
          <a:xfrm>
            <a:off x="2771640" y="333360"/>
            <a:ext cx="6121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5075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nternal Surface of the Anterolateral Abdominal Wall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961080" cy="540072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terior surface of the anterolateral abdominal wall is covered by fascia transversal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ve umbilical peritoneal folds are se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- </a:t>
            </a:r>
            <a:r>
              <a:rPr b="0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Media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umbilical f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tends from apex of urinary bladder to umbilicus, (obliterated urachu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- Two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medi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umbilical fo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Obliterated distal part of the umbilical art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wo lateral umbilical fo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he peritoneum cover the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Inferior Epigastric vesse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o i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leed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 is inju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de15$011"/>
          <p:cNvPicPr/>
          <p:nvPr/>
        </p:nvPicPr>
        <p:blipFill>
          <a:blip r:embed="rId1"/>
          <a:stretch/>
        </p:blipFill>
        <p:spPr>
          <a:xfrm>
            <a:off x="4211640" y="1268280"/>
            <a:ext cx="475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44" descr="بدون عنوان"/>
          <p:cNvPicPr/>
          <p:nvPr/>
        </p:nvPicPr>
        <p:blipFill>
          <a:blip r:embed="rId2"/>
          <a:srcRect l="0" t="0" r="24535" b="0"/>
          <a:stretch/>
        </p:blipFill>
        <p:spPr>
          <a:xfrm>
            <a:off x="210960" y="204840"/>
            <a:ext cx="5656320" cy="65818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45"/>
          <p:cNvSpPr/>
          <p:nvPr/>
        </p:nvSpPr>
        <p:spPr>
          <a:xfrm>
            <a:off x="755640" y="3571920"/>
            <a:ext cx="4464000" cy="1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Freeform 46"/>
          <p:cNvSpPr/>
          <p:nvPr/>
        </p:nvSpPr>
        <p:spPr>
          <a:xfrm>
            <a:off x="755640" y="4525920"/>
            <a:ext cx="4464000" cy="1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Oval 47"/>
          <p:cNvSpPr/>
          <p:nvPr/>
        </p:nvSpPr>
        <p:spPr>
          <a:xfrm>
            <a:off x="2773440" y="836640"/>
            <a:ext cx="21420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Oval 48"/>
          <p:cNvSpPr/>
          <p:nvPr/>
        </p:nvSpPr>
        <p:spPr>
          <a:xfrm>
            <a:off x="2771640" y="6021360"/>
            <a:ext cx="21456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Oval 49"/>
          <p:cNvSpPr/>
          <p:nvPr/>
        </p:nvSpPr>
        <p:spPr>
          <a:xfrm>
            <a:off x="2771640" y="3429000"/>
            <a:ext cx="22068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reeform 50"/>
          <p:cNvSpPr/>
          <p:nvPr/>
        </p:nvSpPr>
        <p:spPr>
          <a:xfrm>
            <a:off x="757080" y="4003560"/>
            <a:ext cx="4464360" cy="180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Freeform 51"/>
          <p:cNvSpPr/>
          <p:nvPr/>
        </p:nvSpPr>
        <p:spPr>
          <a:xfrm>
            <a:off x="755640" y="4886280"/>
            <a:ext cx="4464000" cy="1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Oval 52"/>
          <p:cNvSpPr/>
          <p:nvPr/>
        </p:nvSpPr>
        <p:spPr>
          <a:xfrm>
            <a:off x="3998880" y="3860640"/>
            <a:ext cx="21276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Oval 53"/>
          <p:cNvSpPr/>
          <p:nvPr/>
        </p:nvSpPr>
        <p:spPr>
          <a:xfrm>
            <a:off x="1692360" y="386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Oval 54"/>
          <p:cNvSpPr/>
          <p:nvPr/>
        </p:nvSpPr>
        <p:spPr>
          <a:xfrm>
            <a:off x="3995640" y="436572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Oval 55"/>
          <p:cNvSpPr/>
          <p:nvPr/>
        </p:nvSpPr>
        <p:spPr>
          <a:xfrm>
            <a:off x="1619280" y="4365720"/>
            <a:ext cx="21888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179280" y="6308640"/>
            <a:ext cx="28083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entury Gothic"/>
              </a:rPr>
              <a:t>The body plan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Text Box 57"/>
          <p:cNvSpPr/>
          <p:nvPr/>
        </p:nvSpPr>
        <p:spPr>
          <a:xfrm>
            <a:off x="5856120" y="44280"/>
            <a:ext cx="303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transpyloric plane L 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Text Box 58"/>
          <p:cNvSpPr/>
          <p:nvPr/>
        </p:nvSpPr>
        <p:spPr>
          <a:xfrm>
            <a:off x="5997960" y="1935000"/>
            <a:ext cx="27014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0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subcost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Text Box 59"/>
          <p:cNvSpPr/>
          <p:nvPr/>
        </p:nvSpPr>
        <p:spPr>
          <a:xfrm>
            <a:off x="5651640" y="3073320"/>
            <a:ext cx="3238200" cy="6426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entury Gothic"/>
              </a:rPr>
              <a:t>The supracrestal plane L4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5651640" y="4184640"/>
            <a:ext cx="3317760" cy="7038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he intertubercular plane L 5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Text Box 61"/>
          <p:cNvSpPr/>
          <p:nvPr/>
        </p:nvSpPr>
        <p:spPr>
          <a:xfrm>
            <a:off x="6493320" y="836640"/>
            <a:ext cx="175356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midway betwee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Text Box 62"/>
          <p:cNvSpPr/>
          <p:nvPr/>
        </p:nvSpPr>
        <p:spPr>
          <a:xfrm>
            <a:off x="6081840" y="1197000"/>
            <a:ext cx="253224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suprasternal notch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Text Box 63"/>
          <p:cNvSpPr/>
          <p:nvPr/>
        </p:nvSpPr>
        <p:spPr>
          <a:xfrm>
            <a:off x="6134400" y="1568520"/>
            <a:ext cx="247140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&amp;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symphysis pubi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 Box 64"/>
          <p:cNvSpPr/>
          <p:nvPr/>
        </p:nvSpPr>
        <p:spPr>
          <a:xfrm>
            <a:off x="5722920" y="2359080"/>
            <a:ext cx="3313080" cy="47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It is </a:t>
            </a:r>
            <a:r>
              <a:rPr b="1" lang="en-US" sz="1400" spc="-1" strike="noStrike">
                <a:solidFill>
                  <a:srgbClr val="0000ff"/>
                </a:solidFill>
                <a:latin typeface="Century Gothic"/>
              </a:rPr>
              <a:t>a transverse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 Box 65"/>
          <p:cNvSpPr/>
          <p:nvPr/>
        </p:nvSpPr>
        <p:spPr>
          <a:xfrm>
            <a:off x="5753160" y="3860640"/>
            <a:ext cx="336420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highest points</a:t>
            </a:r>
            <a:r>
              <a:rPr b="1" lang="en-US" sz="14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of the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9900"/>
                </a:solidFill>
                <a:latin typeface="Century Gothic"/>
              </a:rPr>
              <a:t>iliac crest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5435640" y="5014800"/>
            <a:ext cx="370836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2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tubercles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of the2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iliac crest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Text Box 67"/>
          <p:cNvSpPr/>
          <p:nvPr/>
        </p:nvSpPr>
        <p:spPr>
          <a:xfrm>
            <a:off x="5550840" y="2719440"/>
            <a:ext cx="356256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lowest points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of the costal margi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724360" y="3505320"/>
            <a:ext cx="3313440" cy="47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It is a transverse line 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4211640" y="4724280"/>
            <a:ext cx="216000" cy="217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Oval 70"/>
          <p:cNvSpPr/>
          <p:nvPr/>
        </p:nvSpPr>
        <p:spPr>
          <a:xfrm>
            <a:off x="1332000" y="4724280"/>
            <a:ext cx="215640" cy="217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5940360" y="4657680"/>
            <a:ext cx="3095640" cy="477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a transverse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Freeform 72"/>
          <p:cNvSpPr/>
          <p:nvPr/>
        </p:nvSpPr>
        <p:spPr>
          <a:xfrm rot="5400000">
            <a:off x="754200" y="2996280"/>
            <a:ext cx="5834160" cy="73080"/>
          </a:xfrm>
          <a:custGeom>
            <a:avLst/>
            <a:gdLst>
              <a:gd name="textAreaLeft" fmla="*/ 0 w 5834160"/>
              <a:gd name="textAreaRight" fmla="*/ 5834160 w 58341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Freeform 73"/>
          <p:cNvSpPr/>
          <p:nvPr/>
        </p:nvSpPr>
        <p:spPr>
          <a:xfrm flipH="1" rot="16200000">
            <a:off x="-866880" y="3032640"/>
            <a:ext cx="5906880" cy="73080"/>
          </a:xfrm>
          <a:custGeom>
            <a:avLst/>
            <a:gdLst>
              <a:gd name="textAreaLeft" fmla="*/ 360 w 5906880"/>
              <a:gd name="textAreaRight" fmla="*/ 5907600 w 59068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Oval 74"/>
          <p:cNvSpPr/>
          <p:nvPr/>
        </p:nvSpPr>
        <p:spPr>
          <a:xfrm>
            <a:off x="3637080" y="620640"/>
            <a:ext cx="2142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Oval 75"/>
          <p:cNvSpPr/>
          <p:nvPr/>
        </p:nvSpPr>
        <p:spPr>
          <a:xfrm>
            <a:off x="3565440" y="5589720"/>
            <a:ext cx="21456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Oval 76"/>
          <p:cNvSpPr/>
          <p:nvPr/>
        </p:nvSpPr>
        <p:spPr>
          <a:xfrm>
            <a:off x="1908000" y="5518080"/>
            <a:ext cx="21456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Oval 77"/>
          <p:cNvSpPr/>
          <p:nvPr/>
        </p:nvSpPr>
        <p:spPr>
          <a:xfrm>
            <a:off x="1908000" y="620640"/>
            <a:ext cx="21600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Text Box 78"/>
          <p:cNvSpPr/>
          <p:nvPr/>
        </p:nvSpPr>
        <p:spPr>
          <a:xfrm>
            <a:off x="5724360" y="5394240"/>
            <a:ext cx="33591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The lateral vertic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Text Box 79"/>
          <p:cNvSpPr/>
          <p:nvPr/>
        </p:nvSpPr>
        <p:spPr>
          <a:xfrm>
            <a:off x="6302160" y="5805360"/>
            <a:ext cx="259164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A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vertical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from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Text Box 80"/>
          <p:cNvSpPr/>
          <p:nvPr/>
        </p:nvSpPr>
        <p:spPr>
          <a:xfrm>
            <a:off x="6343920" y="6529320"/>
            <a:ext cx="2404440" cy="28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o the </a:t>
            </a:r>
            <a:r>
              <a:rPr b="1" lang="en-US" sz="1400" spc="-1" strike="noStrike">
                <a:solidFill>
                  <a:srgbClr val="ff00ff"/>
                </a:solidFill>
                <a:latin typeface="Century Gothic"/>
              </a:rPr>
              <a:t>midinguinal poin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Text Box 81"/>
          <p:cNvSpPr/>
          <p:nvPr/>
        </p:nvSpPr>
        <p:spPr>
          <a:xfrm>
            <a:off x="6311520" y="6140520"/>
            <a:ext cx="2586960" cy="31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midclavicular point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Text Box 82"/>
          <p:cNvSpPr/>
          <p:nvPr/>
        </p:nvSpPr>
        <p:spPr>
          <a:xfrm>
            <a:off x="5796000" y="476280"/>
            <a:ext cx="309708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It is </a:t>
            </a:r>
            <a:r>
              <a:rPr b="1" lang="en-US" sz="1600" spc="-1" strike="noStrike">
                <a:solidFill>
                  <a:srgbClr val="ff00ff"/>
                </a:solidFill>
                <a:latin typeface="Century Gothic"/>
              </a:rPr>
              <a:t>a transverse lin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draw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Fossae in between the Umbilical Fold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3168720" cy="5832360"/>
          </a:xfrm>
          <a:prstGeom prst="rect">
            <a:avLst/>
          </a:prstGeom>
          <a:solidFill>
            <a:srgbClr val="00007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 Supravesic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both sides of the median umbilical fold, rare type of external supravesical  hern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 Medial Inguin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edial &amp; Lateral umbilical folds. It is also called inguinal o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esselbach triang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irect  inguinal hern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 lateral Inguin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to lateral umbilical folds (including deep inguinal ring – Indirect or oblique inguinal herni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de15$011"/>
          <p:cNvPicPr/>
          <p:nvPr/>
        </p:nvPicPr>
        <p:blipFill>
          <a:blip r:embed="rId1"/>
          <a:srcRect l="0" t="0" r="41557" b="3747"/>
          <a:stretch/>
        </p:blipFill>
        <p:spPr>
          <a:xfrm>
            <a:off x="3419640" y="981000"/>
            <a:ext cx="5400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B8BB-7A1D-481E-8913-2CC032437E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Picture 4" descr="Inguinal canal 011"/>
          <p:cNvPicPr/>
          <p:nvPr/>
        </p:nvPicPr>
        <p:blipFill>
          <a:blip r:embed="rId1"/>
          <a:srcRect l="0" t="0" r="2934" b="0"/>
          <a:stretch/>
        </p:blipFill>
        <p:spPr>
          <a:xfrm>
            <a:off x="179280" y="105264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4788000" y="189000"/>
            <a:ext cx="4176720" cy="627264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DEFINI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 protrusion of part of the abdominal contents outside of the abd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PAR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ntents of the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verings of the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SA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It is a pouch of peritoneum (diverticulum)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It has a 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neck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 and a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 body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CONTEN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ny mobile structure from the abdominal cavity usually loop of intestine or part of greater omentum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COVERING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ormed by the layers of  abdominal wal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9280" y="18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BDOMINAL HERNI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700360" y="1628640"/>
            <a:ext cx="1366920" cy="360360"/>
          </a:xfrm>
          <a:prstGeom prst="rect">
            <a:avLst/>
          </a:prstGeom>
          <a:solidFill>
            <a:srgbClr val="ffff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203640" y="3213000"/>
            <a:ext cx="1368360" cy="36036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E32F-CC83-4A73-A067-74A71A282F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ABDOMINAL HERNIAE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360072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uinal- most common- (indirect or direc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o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bilical (congenital or acquire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gastr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of the two recti abdominis mus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her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FC05-0F5C-49B2-9858-9D974B9C02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Picture 4" descr="Inguinal canal 012A"/>
          <p:cNvPicPr/>
          <p:nvPr/>
        </p:nvPicPr>
        <p:blipFill>
          <a:blip r:embed="rId1"/>
          <a:srcRect l="0" t="0" r="0" b="5303"/>
          <a:stretch/>
        </p:blipFill>
        <p:spPr>
          <a:xfrm>
            <a:off x="250920" y="189000"/>
            <a:ext cx="4854600" cy="34560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5148360" y="18900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INDIRECT OR  (OBLIQUE) INGIUIN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79280" y="3860640"/>
            <a:ext cx="7632720" cy="277092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st common form of hernia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c000"/>
                </a:solidFill>
                <a:latin typeface="Century Gothic"/>
              </a:rPr>
              <a:t>Origin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: congenita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more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ommon in mal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30 %  bilatera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re common on the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right side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re common in children and young adult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Located inside the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remains of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processus vaginalis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It's extend depends on the state of obliteration of the processus vaginalis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nters the inguinal canal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ateral to the inferior epigastric vessel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 lie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above and medial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o the pubic tubercl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ay extend down to the scrotum or (labium maju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7" descr="C:\Documents and Settings\Dr.Saeed\Desktop\Groin_hernia_exam[1].jpg"/>
          <p:cNvPicPr/>
          <p:nvPr/>
        </p:nvPicPr>
        <p:blipFill>
          <a:blip r:embed="rId2"/>
          <a:srcRect l="7747" t="24724" r="6239" b="28654"/>
          <a:stretch/>
        </p:blipFill>
        <p:spPr>
          <a:xfrm>
            <a:off x="5076720" y="1628640"/>
            <a:ext cx="3888000" cy="3672000"/>
          </a:xfrm>
          <a:prstGeom prst="rect">
            <a:avLst/>
          </a:prstGeom>
          <a:ln w="0">
            <a:noFill/>
          </a:ln>
        </p:spPr>
      </p:pic>
      <p:sp>
        <p:nvSpPr>
          <p:cNvPr id="347" name="Oval 7"/>
          <p:cNvSpPr/>
          <p:nvPr/>
        </p:nvSpPr>
        <p:spPr>
          <a:xfrm>
            <a:off x="6659640" y="4724280"/>
            <a:ext cx="576360" cy="36036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B17-F830-4B2B-A585-D1C11DB71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979640" y="1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DIRECT INGIUIN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11280" y="5300640"/>
            <a:ext cx="7777080" cy="131076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15 % of inguinal hernia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mmon in old men with weak abdominal wall, rare in w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 bulges through the posterior wall of the inguinal canal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medial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to the inferior  epigastric vessel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neck of the hernial sac is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wid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6" descr="Inguinal canal 012B"/>
          <p:cNvPicPr/>
          <p:nvPr/>
        </p:nvPicPr>
        <p:blipFill>
          <a:blip r:embed="rId1"/>
          <a:srcRect l="1784" t="4741" r="3718" b="3132"/>
          <a:stretch/>
        </p:blipFill>
        <p:spPr>
          <a:xfrm>
            <a:off x="971640" y="765000"/>
            <a:ext cx="741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F23B-4A42-4F1C-BF46-534B7BA7B5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4" descr="Inguinal canal 014"/>
          <p:cNvPicPr/>
          <p:nvPr/>
        </p:nvPicPr>
        <p:blipFill>
          <a:blip r:embed="rId1"/>
          <a:srcRect l="0" t="0" r="6477" b="0"/>
          <a:stretch/>
        </p:blipFill>
        <p:spPr>
          <a:xfrm>
            <a:off x="179280" y="260280"/>
            <a:ext cx="4897440" cy="45370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5"/>
          <p:cNvSpPr/>
          <p:nvPr/>
        </p:nvSpPr>
        <p:spPr>
          <a:xfrm>
            <a:off x="5364000" y="22860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FEMOR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8" descr="Inguinal canal 013 001"/>
          <p:cNvPicPr/>
          <p:nvPr/>
        </p:nvPicPr>
        <p:blipFill>
          <a:blip r:embed="rId2"/>
          <a:srcRect l="4798" t="8358" r="4750" b="6586"/>
          <a:stretch/>
        </p:blipFill>
        <p:spPr>
          <a:xfrm>
            <a:off x="5257800" y="914400"/>
            <a:ext cx="3352680" cy="3733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9"/>
          <p:cNvSpPr/>
          <p:nvPr/>
        </p:nvSpPr>
        <p:spPr>
          <a:xfrm>
            <a:off x="179280" y="4869000"/>
            <a:ext cx="8785440" cy="173988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hernial sac descends through the femoral canal within  femoral sheath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ore common in wome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neck of the sac lie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below and lateral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o the pubic tubercl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neck of the sac is narrow and lies at the femoral  ring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cause of the narrow neck,  it is often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irreducible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and may become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trangulated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F6FE-8FA8-4AAD-BEFB-30E8CD9959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4" descr="Inguinal canal 019"/>
          <p:cNvPicPr/>
          <p:nvPr/>
        </p:nvPicPr>
        <p:blipFill>
          <a:blip r:embed="rId1"/>
          <a:srcRect l="15659" t="4455" r="49663" b="15699"/>
          <a:stretch/>
        </p:blipFill>
        <p:spPr>
          <a:xfrm>
            <a:off x="179280" y="189000"/>
            <a:ext cx="3240360" cy="66690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4140360" y="162000"/>
            <a:ext cx="47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entury Gothic"/>
              </a:rPr>
              <a:t>UMBILICAL HERNIA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3564000" y="765000"/>
            <a:ext cx="5329080" cy="146556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CONGENITAL UMBILIC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used by failure of part of the midgut  loop to return to the abdominal cavity during fetal development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492360" y="2492280"/>
            <a:ext cx="5472360" cy="170892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ACQUIRED INFANTILE UMBILIC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mall hernia caused by a weakness of the umbilical scar at linea alb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ccurs in children and often disappears without treatment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3492360" y="4437000"/>
            <a:ext cx="5472360" cy="198324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ACQUIRED UMBILICAL HERNIA OF ADUL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 paraumbilical herni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used by a weakness of linea alba in the region of the umbilicu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ore common in women especially with repeated pregnancy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6F63-B049-45AA-963F-EECB36F154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4" descr="Inguinal canal 019"/>
          <p:cNvPicPr/>
          <p:nvPr/>
        </p:nvPicPr>
        <p:blipFill>
          <a:blip r:embed="rId1"/>
          <a:srcRect l="62352" t="3163" r="11462" b="14866"/>
          <a:stretch/>
        </p:blipFill>
        <p:spPr>
          <a:xfrm>
            <a:off x="179280" y="189000"/>
            <a:ext cx="2305080" cy="6480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2577960" y="404640"/>
            <a:ext cx="6408720" cy="1191240"/>
          </a:xfrm>
          <a:prstGeom prst="rect">
            <a:avLst/>
          </a:prstGeom>
          <a:solidFill>
            <a:srgbClr val="007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EPIGASTRIC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ccurs through the widest part of linea alb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Usually a smal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ommon in middle-aged manual worker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577960" y="2112840"/>
            <a:ext cx="6408720" cy="106740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SEPARATION OF THE RECTI ABDOMINI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hernial sac lies between the medial margins of the 2 recti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mmon in elderly multiparous w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aused by a weakness of the recti muscl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577960" y="3914640"/>
            <a:ext cx="658836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INCISION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 postoperative complica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Large hernial sa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aus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- damage to segmental nerve  supplying the muscles of the anterior abdominal wal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- postoperative infection with necrosis of the musc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Freeform 5"/>
          <p:cNvSpPr/>
          <p:nvPr/>
        </p:nvSpPr>
        <p:spPr>
          <a:xfrm>
            <a:off x="479520" y="0"/>
            <a:ext cx="3949560" cy="5278320"/>
          </a:xfrm>
          <a:custGeom>
            <a:avLst/>
            <a:gdLst>
              <a:gd name="textAreaLeft" fmla="*/ 0 w 3949560"/>
              <a:gd name="textAreaRight" fmla="*/ 3949920 w 3949560"/>
              <a:gd name="textAreaTop" fmla="*/ 0 h 5278320"/>
              <a:gd name="textAreaBottom" fmla="*/ 5278680 h 5278320"/>
            </a:gdLst>
            <a:ahLst/>
            <a:rect l="textAreaLeft" t="textAreaTop" r="textAreaRight" b="textAreaBottom"/>
            <a:pathLst>
              <a:path w="2488" h="3325">
                <a:moveTo>
                  <a:pt x="159" y="75"/>
                </a:moveTo>
                <a:cubicBezTo>
                  <a:pt x="121" y="150"/>
                  <a:pt x="129" y="286"/>
                  <a:pt x="159" y="528"/>
                </a:cubicBezTo>
                <a:cubicBezTo>
                  <a:pt x="189" y="770"/>
                  <a:pt x="318" y="1254"/>
                  <a:pt x="341" y="1526"/>
                </a:cubicBezTo>
                <a:cubicBezTo>
                  <a:pt x="364" y="1798"/>
                  <a:pt x="325" y="1942"/>
                  <a:pt x="295" y="2161"/>
                </a:cubicBezTo>
                <a:cubicBezTo>
                  <a:pt x="265" y="2380"/>
                  <a:pt x="204" y="2661"/>
                  <a:pt x="159" y="2842"/>
                </a:cubicBezTo>
                <a:cubicBezTo>
                  <a:pt x="114" y="3023"/>
                  <a:pt x="0" y="3175"/>
                  <a:pt x="23" y="3250"/>
                </a:cubicBezTo>
                <a:cubicBezTo>
                  <a:pt x="46" y="3325"/>
                  <a:pt x="136" y="3288"/>
                  <a:pt x="295" y="3295"/>
                </a:cubicBezTo>
                <a:cubicBezTo>
                  <a:pt x="454" y="3302"/>
                  <a:pt x="742" y="3295"/>
                  <a:pt x="976" y="3295"/>
                </a:cubicBezTo>
                <a:cubicBezTo>
                  <a:pt x="1210" y="3295"/>
                  <a:pt x="1467" y="3295"/>
                  <a:pt x="1701" y="3295"/>
                </a:cubicBezTo>
                <a:cubicBezTo>
                  <a:pt x="1935" y="3295"/>
                  <a:pt x="2276" y="3325"/>
                  <a:pt x="2382" y="3295"/>
                </a:cubicBezTo>
                <a:cubicBezTo>
                  <a:pt x="2488" y="3265"/>
                  <a:pt x="2344" y="3189"/>
                  <a:pt x="2336" y="3114"/>
                </a:cubicBezTo>
                <a:cubicBezTo>
                  <a:pt x="2328" y="3039"/>
                  <a:pt x="2351" y="2933"/>
                  <a:pt x="2336" y="2842"/>
                </a:cubicBezTo>
                <a:cubicBezTo>
                  <a:pt x="2321" y="2751"/>
                  <a:pt x="2269" y="2668"/>
                  <a:pt x="2246" y="2570"/>
                </a:cubicBezTo>
                <a:cubicBezTo>
                  <a:pt x="2223" y="2472"/>
                  <a:pt x="2215" y="2350"/>
                  <a:pt x="2200" y="2252"/>
                </a:cubicBezTo>
                <a:cubicBezTo>
                  <a:pt x="2185" y="2154"/>
                  <a:pt x="2163" y="2071"/>
                  <a:pt x="2155" y="1980"/>
                </a:cubicBezTo>
                <a:cubicBezTo>
                  <a:pt x="2147" y="1889"/>
                  <a:pt x="2155" y="1806"/>
                  <a:pt x="2155" y="1708"/>
                </a:cubicBezTo>
                <a:cubicBezTo>
                  <a:pt x="2155" y="1610"/>
                  <a:pt x="2148" y="1518"/>
                  <a:pt x="2155" y="1390"/>
                </a:cubicBezTo>
                <a:cubicBezTo>
                  <a:pt x="2162" y="1262"/>
                  <a:pt x="2177" y="1073"/>
                  <a:pt x="2200" y="937"/>
                </a:cubicBezTo>
                <a:cubicBezTo>
                  <a:pt x="2223" y="801"/>
                  <a:pt x="2276" y="702"/>
                  <a:pt x="2291" y="574"/>
                </a:cubicBezTo>
                <a:cubicBezTo>
                  <a:pt x="2306" y="446"/>
                  <a:pt x="2291" y="249"/>
                  <a:pt x="2291" y="166"/>
                </a:cubicBezTo>
                <a:cubicBezTo>
                  <a:pt x="2291" y="83"/>
                  <a:pt x="2352" y="98"/>
                  <a:pt x="2291" y="75"/>
                </a:cubicBezTo>
                <a:cubicBezTo>
                  <a:pt x="2230" y="52"/>
                  <a:pt x="2072" y="37"/>
                  <a:pt x="1928" y="29"/>
                </a:cubicBezTo>
                <a:cubicBezTo>
                  <a:pt x="1784" y="21"/>
                  <a:pt x="1618" y="29"/>
                  <a:pt x="1429" y="29"/>
                </a:cubicBezTo>
                <a:cubicBezTo>
                  <a:pt x="1240" y="29"/>
                  <a:pt x="968" y="21"/>
                  <a:pt x="794" y="29"/>
                </a:cubicBezTo>
                <a:cubicBezTo>
                  <a:pt x="620" y="37"/>
                  <a:pt x="492" y="67"/>
                  <a:pt x="386" y="75"/>
                </a:cubicBezTo>
                <a:cubicBezTo>
                  <a:pt x="280" y="83"/>
                  <a:pt x="197" y="0"/>
                  <a:pt x="159" y="75"/>
                </a:cubicBezTo>
                <a:close/>
              </a:path>
            </a:pathLst>
          </a:custGeom>
          <a:solidFill>
            <a:srgbClr val="ffb9b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0" name="Picture 6" descr="بدون عنوان"/>
          <p:cNvPicPr/>
          <p:nvPr/>
        </p:nvPicPr>
        <p:blipFill>
          <a:blip r:embed="rId2"/>
          <a:srcRect l="0" t="0" r="30800" b="0"/>
          <a:stretch/>
        </p:blipFill>
        <p:spPr>
          <a:xfrm>
            <a:off x="428760" y="57240"/>
            <a:ext cx="4105080" cy="5300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4583160" y="2781360"/>
            <a:ext cx="4024440" cy="86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8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800" spc="-1" strike="noStrike" u="sng">
                <a:solidFill>
                  <a:srgbClr val="ff33cc"/>
                </a:solidFill>
                <a:uFillTx/>
                <a:latin typeface="Century Gothic"/>
              </a:rPr>
              <a:t>transpyloric</a:t>
            </a:r>
            <a:r>
              <a:rPr b="1" lang="en-US" sz="2800" spc="-1" strike="noStrike">
                <a:solidFill>
                  <a:srgbClr val="ff33cc"/>
                </a:solidFill>
                <a:latin typeface="Century Gothic"/>
              </a:rPr>
              <a:t> pla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3500280"/>
            <a:ext cx="46497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Century Gothic"/>
              </a:rPr>
              <a:t>&amp;</a:t>
            </a: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entury Gothic"/>
              </a:rPr>
              <a:t>intertubercular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 pla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702320" y="4581360"/>
            <a:ext cx="4041720" cy="1245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Century Gothic"/>
              </a:rPr>
              <a:t>The Rt. &amp; L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entury Gothic"/>
              </a:rPr>
              <a:t>lateral vertical plan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Freeform 11"/>
          <p:cNvSpPr/>
          <p:nvPr/>
        </p:nvSpPr>
        <p:spPr>
          <a:xfrm flipV="1">
            <a:off x="458640" y="1988640"/>
            <a:ext cx="4248360" cy="69840"/>
          </a:xfrm>
          <a:custGeom>
            <a:avLst/>
            <a:gdLst>
              <a:gd name="textAreaLeft" fmla="*/ 0 w 4248360"/>
              <a:gd name="textAreaRight" fmla="*/ 4248720 w 424836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Freeform 12"/>
          <p:cNvSpPr/>
          <p:nvPr/>
        </p:nvSpPr>
        <p:spPr>
          <a:xfrm rot="5400000">
            <a:off x="576360" y="2742480"/>
            <a:ext cx="5329080" cy="7596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Freeform 13"/>
          <p:cNvSpPr/>
          <p:nvPr/>
        </p:nvSpPr>
        <p:spPr>
          <a:xfrm flipH="1" rot="16200000">
            <a:off x="-1010520" y="2816280"/>
            <a:ext cx="5473800" cy="73080"/>
          </a:xfrm>
          <a:custGeom>
            <a:avLst/>
            <a:gdLst>
              <a:gd name="textAreaLeft" fmla="*/ -360 w 5473800"/>
              <a:gd name="textAreaRight" fmla="*/ 5473800 w 54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Freeform 14"/>
          <p:cNvSpPr/>
          <p:nvPr/>
        </p:nvSpPr>
        <p:spPr>
          <a:xfrm>
            <a:off x="458640" y="3716280"/>
            <a:ext cx="3753000" cy="46080"/>
          </a:xfrm>
          <a:custGeom>
            <a:avLst/>
            <a:gdLst>
              <a:gd name="textAreaLeft" fmla="*/ 0 w 3753000"/>
              <a:gd name="textAreaRight" fmla="*/ 3753360 w 3753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76680" y="6165720"/>
            <a:ext cx="56124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entury Gothic"/>
              </a:rPr>
              <a:t>divisions of the abdome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497120" y="262080"/>
            <a:ext cx="446472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anterior abdominal wa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640480" y="1484280"/>
            <a:ext cx="20001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9 regions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606640" y="836640"/>
            <a:ext cx="217548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is divided i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292720" y="2060640"/>
            <a:ext cx="2760840" cy="75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2 transverse li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1456920" y="5516640"/>
            <a:ext cx="28872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Century Gothic"/>
              </a:rPr>
              <a:t>and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Century Gothic"/>
              </a:rPr>
              <a:t>2 vertical li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102120" y="222552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Freeform 5"/>
          <p:cNvSpPr/>
          <p:nvPr/>
        </p:nvSpPr>
        <p:spPr>
          <a:xfrm>
            <a:off x="693720" y="69840"/>
            <a:ext cx="3949560" cy="5278320"/>
          </a:xfrm>
          <a:custGeom>
            <a:avLst/>
            <a:gdLst>
              <a:gd name="textAreaLeft" fmla="*/ 0 w 3949560"/>
              <a:gd name="textAreaRight" fmla="*/ 3949920 w 3949560"/>
              <a:gd name="textAreaTop" fmla="*/ 0 h 5278320"/>
              <a:gd name="textAreaBottom" fmla="*/ 5278680 h 5278320"/>
            </a:gdLst>
            <a:ahLst/>
            <a:rect l="textAreaLeft" t="textAreaTop" r="textAreaRight" b="textAreaBottom"/>
            <a:pathLst>
              <a:path w="2488" h="3325">
                <a:moveTo>
                  <a:pt x="159" y="75"/>
                </a:moveTo>
                <a:cubicBezTo>
                  <a:pt x="121" y="150"/>
                  <a:pt x="129" y="286"/>
                  <a:pt x="159" y="528"/>
                </a:cubicBezTo>
                <a:cubicBezTo>
                  <a:pt x="189" y="770"/>
                  <a:pt x="318" y="1254"/>
                  <a:pt x="341" y="1526"/>
                </a:cubicBezTo>
                <a:cubicBezTo>
                  <a:pt x="364" y="1798"/>
                  <a:pt x="325" y="1942"/>
                  <a:pt x="295" y="2161"/>
                </a:cubicBezTo>
                <a:cubicBezTo>
                  <a:pt x="265" y="2380"/>
                  <a:pt x="204" y="2661"/>
                  <a:pt x="159" y="2842"/>
                </a:cubicBezTo>
                <a:cubicBezTo>
                  <a:pt x="114" y="3023"/>
                  <a:pt x="0" y="3175"/>
                  <a:pt x="23" y="3250"/>
                </a:cubicBezTo>
                <a:cubicBezTo>
                  <a:pt x="46" y="3325"/>
                  <a:pt x="136" y="3288"/>
                  <a:pt x="295" y="3295"/>
                </a:cubicBezTo>
                <a:cubicBezTo>
                  <a:pt x="454" y="3302"/>
                  <a:pt x="742" y="3295"/>
                  <a:pt x="976" y="3295"/>
                </a:cubicBezTo>
                <a:cubicBezTo>
                  <a:pt x="1210" y="3295"/>
                  <a:pt x="1467" y="3295"/>
                  <a:pt x="1701" y="3295"/>
                </a:cubicBezTo>
                <a:cubicBezTo>
                  <a:pt x="1935" y="3295"/>
                  <a:pt x="2276" y="3325"/>
                  <a:pt x="2382" y="3295"/>
                </a:cubicBezTo>
                <a:cubicBezTo>
                  <a:pt x="2488" y="3265"/>
                  <a:pt x="2344" y="3189"/>
                  <a:pt x="2336" y="3114"/>
                </a:cubicBezTo>
                <a:cubicBezTo>
                  <a:pt x="2328" y="3039"/>
                  <a:pt x="2351" y="2933"/>
                  <a:pt x="2336" y="2842"/>
                </a:cubicBezTo>
                <a:cubicBezTo>
                  <a:pt x="2321" y="2751"/>
                  <a:pt x="2269" y="2668"/>
                  <a:pt x="2246" y="2570"/>
                </a:cubicBezTo>
                <a:cubicBezTo>
                  <a:pt x="2223" y="2472"/>
                  <a:pt x="2215" y="2350"/>
                  <a:pt x="2200" y="2252"/>
                </a:cubicBezTo>
                <a:cubicBezTo>
                  <a:pt x="2185" y="2154"/>
                  <a:pt x="2163" y="2071"/>
                  <a:pt x="2155" y="1980"/>
                </a:cubicBezTo>
                <a:cubicBezTo>
                  <a:pt x="2147" y="1889"/>
                  <a:pt x="2155" y="1806"/>
                  <a:pt x="2155" y="1708"/>
                </a:cubicBezTo>
                <a:cubicBezTo>
                  <a:pt x="2155" y="1610"/>
                  <a:pt x="2148" y="1518"/>
                  <a:pt x="2155" y="1390"/>
                </a:cubicBezTo>
                <a:cubicBezTo>
                  <a:pt x="2162" y="1262"/>
                  <a:pt x="2177" y="1073"/>
                  <a:pt x="2200" y="937"/>
                </a:cubicBezTo>
                <a:cubicBezTo>
                  <a:pt x="2223" y="801"/>
                  <a:pt x="2276" y="702"/>
                  <a:pt x="2291" y="574"/>
                </a:cubicBezTo>
                <a:cubicBezTo>
                  <a:pt x="2306" y="446"/>
                  <a:pt x="2291" y="249"/>
                  <a:pt x="2291" y="166"/>
                </a:cubicBezTo>
                <a:cubicBezTo>
                  <a:pt x="2291" y="83"/>
                  <a:pt x="2352" y="98"/>
                  <a:pt x="2291" y="75"/>
                </a:cubicBezTo>
                <a:cubicBezTo>
                  <a:pt x="2230" y="52"/>
                  <a:pt x="2072" y="37"/>
                  <a:pt x="1928" y="29"/>
                </a:cubicBezTo>
                <a:cubicBezTo>
                  <a:pt x="1784" y="21"/>
                  <a:pt x="1618" y="29"/>
                  <a:pt x="1429" y="29"/>
                </a:cubicBezTo>
                <a:cubicBezTo>
                  <a:pt x="1240" y="29"/>
                  <a:pt x="968" y="21"/>
                  <a:pt x="794" y="29"/>
                </a:cubicBezTo>
                <a:cubicBezTo>
                  <a:pt x="620" y="37"/>
                  <a:pt x="492" y="67"/>
                  <a:pt x="386" y="75"/>
                </a:cubicBezTo>
                <a:cubicBezTo>
                  <a:pt x="280" y="83"/>
                  <a:pt x="197" y="0"/>
                  <a:pt x="159" y="75"/>
                </a:cubicBezTo>
                <a:close/>
              </a:path>
            </a:pathLst>
          </a:custGeom>
          <a:solidFill>
            <a:srgbClr val="ff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6" descr="بدون عنوان"/>
          <p:cNvPicPr/>
          <p:nvPr/>
        </p:nvPicPr>
        <p:blipFill>
          <a:blip r:embed="rId2"/>
          <a:srcRect l="0" t="0" r="30800" b="0"/>
          <a:stretch/>
        </p:blipFill>
        <p:spPr>
          <a:xfrm>
            <a:off x="571680" y="142920"/>
            <a:ext cx="4105080" cy="5300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003640" y="1916280"/>
            <a:ext cx="3022920" cy="642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astriu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10360" y="2565360"/>
            <a:ext cx="2428560" cy="703440"/>
          </a:xfrm>
          <a:prstGeom prst="rect">
            <a:avLst/>
          </a:prstGeom>
          <a:solidFill>
            <a:srgbClr val="6a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mbil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427640" y="3933720"/>
            <a:ext cx="4762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on the right side &amp; 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3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on the left si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Freeform 11"/>
          <p:cNvSpPr/>
          <p:nvPr/>
        </p:nvSpPr>
        <p:spPr>
          <a:xfrm flipV="1">
            <a:off x="538200" y="1988640"/>
            <a:ext cx="4248000" cy="69840"/>
          </a:xfrm>
          <a:custGeom>
            <a:avLst/>
            <a:gdLst>
              <a:gd name="textAreaLeft" fmla="*/ 0 w 4248000"/>
              <a:gd name="textAreaRight" fmla="*/ 4248360 w 424800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Freeform 12"/>
          <p:cNvSpPr/>
          <p:nvPr/>
        </p:nvSpPr>
        <p:spPr>
          <a:xfrm rot="5400000">
            <a:off x="649440" y="2742480"/>
            <a:ext cx="5329080" cy="7596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Freeform 13"/>
          <p:cNvSpPr/>
          <p:nvPr/>
        </p:nvSpPr>
        <p:spPr>
          <a:xfrm flipH="1" rot="16200000">
            <a:off x="-937440" y="2816280"/>
            <a:ext cx="5473800" cy="73080"/>
          </a:xfrm>
          <a:custGeom>
            <a:avLst/>
            <a:gdLst>
              <a:gd name="textAreaLeft" fmla="*/ -360 w 5473800"/>
              <a:gd name="textAreaRight" fmla="*/ 5473800 w 54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Freeform 14"/>
          <p:cNvSpPr/>
          <p:nvPr/>
        </p:nvSpPr>
        <p:spPr>
          <a:xfrm flipV="1">
            <a:off x="538200" y="3645000"/>
            <a:ext cx="4176720" cy="71280"/>
          </a:xfrm>
          <a:custGeom>
            <a:avLst/>
            <a:gdLst>
              <a:gd name="textAreaLeft" fmla="*/ 0 w 4176720"/>
              <a:gd name="textAreaRight" fmla="*/ 4176720 w 4176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50920" y="6165720"/>
            <a:ext cx="59832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entury Gothic"/>
              </a:rPr>
              <a:t>Divisions of the abdome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716360" y="5329080"/>
            <a:ext cx="429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t. &amp; Lt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umbar reg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5020920" y="189000"/>
            <a:ext cx="3231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The 9 regions</a:t>
            </a:r>
            <a:r>
              <a:rPr b="1" lang="en-US" sz="2800" spc="-1" strike="noStrike">
                <a:solidFill>
                  <a:srgbClr val="33cccc"/>
                </a:solidFill>
                <a:latin typeface="Century Gothic"/>
              </a:rPr>
              <a:t> a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4572000" y="4826160"/>
            <a:ext cx="468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Rt. &amp; Lt.  Hypochondriu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5367240" y="812880"/>
            <a:ext cx="2824920" cy="47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3 </a:t>
            </a:r>
            <a:r>
              <a:rPr b="1" lang="en-US" sz="2800" spc="-1" strike="noStrike">
                <a:solidFill>
                  <a:srgbClr val="9900ff"/>
                </a:solidFill>
                <a:latin typeface="Century Gothic"/>
              </a:rPr>
              <a:t>in the midd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5019840" y="3213000"/>
            <a:ext cx="3224160" cy="703440"/>
          </a:xfrm>
          <a:prstGeom prst="rect">
            <a:avLst/>
          </a:prstGeom>
          <a:solidFill>
            <a:srgbClr val="6d6d6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ypogastriu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4932360" y="5761080"/>
            <a:ext cx="3805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t. &amp; Lt. Iliac reg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953600" y="1434960"/>
            <a:ext cx="367380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entury Gothic"/>
              </a:rPr>
              <a:t>From above downwar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5076720" y="4367160"/>
            <a:ext cx="3456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From above downwa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24620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AutoShape 25"/>
          <p:cNvSpPr/>
          <p:nvPr/>
        </p:nvSpPr>
        <p:spPr>
          <a:xfrm>
            <a:off x="2195640" y="1268280"/>
            <a:ext cx="792000" cy="64800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2122560" y="2492280"/>
            <a:ext cx="79200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2195640" y="3860640"/>
            <a:ext cx="792000" cy="625680"/>
          </a:xfrm>
          <a:custGeom>
            <a:avLst/>
            <a:gdLst/>
            <a:ahLst/>
            <a:rect l="l" t="t" r="r" b="b"/>
            <a:pathLst>
              <a:path w="792162" h="625475">
                <a:moveTo>
                  <a:pt x="1" y="238910"/>
                </a:moveTo>
                <a:lnTo>
                  <a:pt x="302581" y="238911"/>
                </a:lnTo>
                <a:lnTo>
                  <a:pt x="396081" y="0"/>
                </a:lnTo>
                <a:lnTo>
                  <a:pt x="489581" y="238911"/>
                </a:lnTo>
                <a:lnTo>
                  <a:pt x="792161" y="238910"/>
                </a:lnTo>
                <a:lnTo>
                  <a:pt x="547368" y="386563"/>
                </a:lnTo>
                <a:lnTo>
                  <a:pt x="640872" y="625473"/>
                </a:lnTo>
                <a:lnTo>
                  <a:pt x="396081" y="477817"/>
                </a:lnTo>
                <a:lnTo>
                  <a:pt x="151290" y="625473"/>
                </a:lnTo>
                <a:lnTo>
                  <a:pt x="244794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900000" y="1268280"/>
            <a:ext cx="792360" cy="64800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AutoShape 29"/>
          <p:cNvSpPr/>
          <p:nvPr/>
        </p:nvSpPr>
        <p:spPr>
          <a:xfrm>
            <a:off x="900000" y="2419200"/>
            <a:ext cx="79236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AutoShape 30"/>
          <p:cNvSpPr/>
          <p:nvPr/>
        </p:nvSpPr>
        <p:spPr>
          <a:xfrm>
            <a:off x="1042920" y="3645000"/>
            <a:ext cx="792360" cy="625320"/>
          </a:xfrm>
          <a:custGeom>
            <a:avLst/>
            <a:gdLst/>
            <a:ahLst/>
            <a:rect l="l" t="t" r="r" b="b"/>
            <a:pathLst>
              <a:path w="792162" h="625475">
                <a:moveTo>
                  <a:pt x="1" y="238910"/>
                </a:moveTo>
                <a:lnTo>
                  <a:pt x="302581" y="238911"/>
                </a:lnTo>
                <a:lnTo>
                  <a:pt x="396081" y="0"/>
                </a:lnTo>
                <a:lnTo>
                  <a:pt x="489581" y="238911"/>
                </a:lnTo>
                <a:lnTo>
                  <a:pt x="792161" y="238910"/>
                </a:lnTo>
                <a:lnTo>
                  <a:pt x="547368" y="386563"/>
                </a:lnTo>
                <a:lnTo>
                  <a:pt x="640872" y="625473"/>
                </a:lnTo>
                <a:lnTo>
                  <a:pt x="396081" y="477817"/>
                </a:lnTo>
                <a:lnTo>
                  <a:pt x="151290" y="625473"/>
                </a:lnTo>
                <a:lnTo>
                  <a:pt x="244794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31"/>
          <p:cNvSpPr/>
          <p:nvPr/>
        </p:nvSpPr>
        <p:spPr>
          <a:xfrm>
            <a:off x="3348000" y="1197000"/>
            <a:ext cx="792360" cy="64764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AutoShape 32"/>
          <p:cNvSpPr/>
          <p:nvPr/>
        </p:nvSpPr>
        <p:spPr>
          <a:xfrm>
            <a:off x="3490920" y="2565360"/>
            <a:ext cx="79200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AutoShape 33"/>
          <p:cNvSpPr/>
          <p:nvPr/>
        </p:nvSpPr>
        <p:spPr>
          <a:xfrm>
            <a:off x="3346560" y="3645000"/>
            <a:ext cx="792000" cy="625320"/>
          </a:xfrm>
          <a:custGeom>
            <a:avLst/>
            <a:gdLst/>
            <a:ahLst/>
            <a:rect l="l" t="t" r="r" b="b"/>
            <a:pathLst>
              <a:path w="792163" h="625475">
                <a:moveTo>
                  <a:pt x="1" y="238910"/>
                </a:moveTo>
                <a:lnTo>
                  <a:pt x="302581" y="238911"/>
                </a:lnTo>
                <a:lnTo>
                  <a:pt x="396082" y="0"/>
                </a:lnTo>
                <a:lnTo>
                  <a:pt x="489582" y="238911"/>
                </a:lnTo>
                <a:lnTo>
                  <a:pt x="792162" y="238910"/>
                </a:lnTo>
                <a:lnTo>
                  <a:pt x="547368" y="386563"/>
                </a:lnTo>
                <a:lnTo>
                  <a:pt x="640873" y="625473"/>
                </a:lnTo>
                <a:lnTo>
                  <a:pt x="396082" y="477817"/>
                </a:lnTo>
                <a:lnTo>
                  <a:pt x="151290" y="625473"/>
                </a:lnTo>
                <a:lnTo>
                  <a:pt x="244795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248360" cy="6480000"/>
          </a:xfrm>
          <a:prstGeom prst="rect">
            <a:avLst/>
          </a:prstGeom>
          <a:solidFill>
            <a:srgbClr val="002673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yers of antero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domina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erficial fasc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 Superficial fatty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Camper’s fas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 Deep membra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Scarp’s fas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NO DEEP FAS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cular laye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External obliqu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Internal obliqu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Transversus abdomin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ia transversal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tra peritoneal fatty tiss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etal periton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my07_002"/>
          <p:cNvPicPr/>
          <p:nvPr/>
        </p:nvPicPr>
        <p:blipFill>
          <a:blip r:embed="rId1"/>
          <a:srcRect l="0" t="0" r="3927" b="10236"/>
          <a:stretch/>
        </p:blipFill>
        <p:spPr>
          <a:xfrm>
            <a:off x="4500720" y="189000"/>
            <a:ext cx="446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my07_001"/>
          <p:cNvPicPr/>
          <p:nvPr/>
        </p:nvPicPr>
        <p:blipFill>
          <a:blip r:embed="rId1"/>
          <a:srcRect l="25409" t="0" r="0" b="3262"/>
          <a:stretch/>
        </p:blipFill>
        <p:spPr>
          <a:xfrm>
            <a:off x="468360" y="260280"/>
            <a:ext cx="849636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cxnSp>
        <p:nvCxnSpPr>
          <p:cNvPr id="217" name="AutoShape 5"/>
          <p:cNvCxnSpPr/>
          <p:nvPr/>
        </p:nvCxnSpPr>
        <p:spPr>
          <a:xfrm>
            <a:off x="9378720" y="3141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8" name="Line 6"/>
          <p:cNvSpPr/>
          <p:nvPr/>
        </p:nvSpPr>
        <p:spPr>
          <a:xfrm>
            <a:off x="7740720" y="907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875640" y="1484280"/>
            <a:ext cx="43164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7308720" y="981000"/>
            <a:ext cx="43200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7164360" y="1484280"/>
            <a:ext cx="360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4211640" y="3573360"/>
            <a:ext cx="36036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Line 11"/>
          <p:cNvSpPr/>
          <p:nvPr/>
        </p:nvSpPr>
        <p:spPr>
          <a:xfrm flipV="1">
            <a:off x="3924360" y="3428640"/>
            <a:ext cx="504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Line 12"/>
          <p:cNvSpPr/>
          <p:nvPr/>
        </p:nvSpPr>
        <p:spPr>
          <a:xfrm flipV="1">
            <a:off x="4500720" y="3645000"/>
            <a:ext cx="431640" cy="57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1692360" y="2133720"/>
            <a:ext cx="71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169236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1619280" y="1844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xt obl"/>
          <p:cNvPicPr/>
          <p:nvPr/>
        </p:nvPicPr>
        <p:blipFill>
          <a:blip r:embed="rId1"/>
          <a:stretch/>
        </p:blipFill>
        <p:spPr>
          <a:xfrm>
            <a:off x="4716360" y="333360"/>
            <a:ext cx="4176720" cy="652464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 flipH="1">
            <a:off x="5940000" y="2565360"/>
            <a:ext cx="129708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6084360" y="2781360"/>
            <a:ext cx="12970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Line 5"/>
          <p:cNvSpPr/>
          <p:nvPr/>
        </p:nvSpPr>
        <p:spPr>
          <a:xfrm flipH="1">
            <a:off x="6227280" y="2997360"/>
            <a:ext cx="12970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79280" y="981000"/>
            <a:ext cx="4464000" cy="4667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uter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urface of lower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rib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Direction of its fibers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ownward, Forward, and Medially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Xiphoid proces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nea alb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ymphysis pubi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 crest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tubercle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SI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terior ½ of outer lip of iliac cres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24000" y="18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xternal Oblique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5940360" y="2205000"/>
            <a:ext cx="115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Line 5"/>
          <p:cNvSpPr/>
          <p:nvPr/>
        </p:nvSpPr>
        <p:spPr>
          <a:xfrm flipH="1">
            <a:off x="5867280" y="1916280"/>
            <a:ext cx="11541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Layers of the Anterior </a:t>
            </a:r>
            <a:br>
              <a:rPr sz="4400"/>
            </a:b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Abdominal Wal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1- Ski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2- Superficial fasci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a- Superficial fatty layer, (Camper’s fascia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b- Deep membranous layer, (Scarpa’s fasc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o Deep Fascia in the anterior abdominal wa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3- Ex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4- In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5- Transversus abdominis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6- Fascia Transversal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7- Extraperitoneal fatty Tissu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8- Peritoneu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1" name="Picture 4" descr="de09$004"/>
          <p:cNvPicPr/>
          <p:nvPr/>
        </p:nvPicPr>
        <p:blipFill>
          <a:blip r:embed="rId4"/>
          <a:stretch/>
        </p:blipFill>
        <p:spPr>
          <a:xfrm>
            <a:off x="324000" y="142920"/>
            <a:ext cx="8677080" cy="6715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7"/>
          <p:cNvSpPr/>
          <p:nvPr/>
        </p:nvSpPr>
        <p:spPr>
          <a:xfrm>
            <a:off x="3708360" y="260280"/>
            <a:ext cx="5256360" cy="1767240"/>
          </a:xfrm>
          <a:prstGeom prst="rect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63416"/>
                </a:solidFill>
                <a:uFillTx/>
                <a:latin typeface="Century Gothic"/>
              </a:rPr>
              <a:t>Superficial Inguinal Ring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It’s an oval slit in the lower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aponerotic fibers 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of the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External oblique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  just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above &amp; lateral 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to the pubic tubercle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The lateral crus attaches to pubic tubercle &amp; the medial crus attaches to pubic crest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Its base is formed by the lateral part of  pubic crest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0:53:27Z</dcterms:created>
  <dc:creator>Moniem</dc:creator>
  <dc:description/>
  <dc:language>en-US</dc:language>
  <cp:lastModifiedBy>ESSAM</cp:lastModifiedBy>
  <dcterms:modified xsi:type="dcterms:W3CDTF">2015-05-31T09:54:09Z</dcterms:modified>
  <cp:revision>87</cp:revision>
  <dc:subject/>
  <dc:title>Slide 1</dc:title>
</cp:coreProperties>
</file>