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6.jpeg" ContentType="image/jpeg"/>
  <Override PartName="/ppt/media/image2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1B3-BD84-4F31-8BB2-F1DD4A36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F041-7126-41EA-B5FE-26E4D983AE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C01-CAA2-4EEC-9A1E-87B090732D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4795-A313-4DF8-995B-4DEA37E9E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E7E5-9F23-4ECA-B5D7-EF8714E423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 exa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327-CC48-42DE-B5C3-6E3B5CE4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49C0-BBE1-48FB-B3FF-3FF06B3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E669-291F-4D7E-9AD6-E9817F38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B5A-C8DC-4185-A252-884297B0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0905-FDD5-459F-BC5B-8CF5FC00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D8FD-5AD1-43D2-8FA8-7BD1BE97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69E5-3815-4FD1-8221-025B9557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6AC-9A5F-48A9-9D6B-FD99181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5EC4-F8C0-42D2-84D0-49122E0D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ADDD-F36C-4147-902F-8A860DEE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8ECE-9515-4D2B-A167-7001EC5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DBA-4BC6-44A1-ADCA-F0EC5C5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AFF1-DC4F-44EF-9C37-2E8ECA9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D606-A143-44B1-8C23-3373D56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1987B-AB8D-4F2C-92A4-8CEE78E1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EF6E-BB4E-40BE-8DE4-9C812E75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A972-98E7-452E-96B3-AF64E767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1A39F-0F74-40BA-938B-DF5E2EF5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AE52-C274-484F-A08B-F8B1A019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AA851-61A8-4C65-A10A-CFADEB4E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4F63-56E2-4CD3-A89C-89A4714C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BA0C-D7C8-4DD4-AD0A-5244FE54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DCC1-F54C-4B64-8341-543B9B7C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D531-F6EB-47B1-A135-6C37B591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70C64-A63C-4EF1-941C-7BB871E9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39228-A48A-40D1-B617-ECCB719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D9482-ACF5-4F18-8D97-1391D3F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74FE-7BCC-4645-922D-05C740F0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C84E6-28BD-4293-850E-8A03C305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B5AA-5650-4BAB-8CE8-1A55769A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9A9B-879A-4A60-90C2-78278F16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55531-5404-4094-95C4-9CDB7AEF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D7455-8FF5-43A9-9423-3B36883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5B8-5237-4665-9188-E86BC0B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FEA9-755E-45DD-88A6-16B4ECED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2A7C-09A4-40E6-9061-0A81CAC4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0C56-CF34-4D68-B6D5-F8F5F21F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133A9-5AF4-426B-BAB4-A52B392D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3FE3-77EA-4082-90E1-E281C338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1B889-C757-47A0-856B-B608BD34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1422D-9FD8-4D9C-8666-14A97002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9797-AB85-4FFF-8431-E50ADC61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A364D-CA9A-4075-BBA9-670A53D4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9BD-3922-425E-BD89-B5ABA153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712-F383-43FB-8A4D-FDBAA60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BEF-E117-48A6-9178-6939EE8F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049-34EF-4DF0-8A80-DEF76661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639-C9AA-45B3-981D-0D808313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C09E-1008-4C8D-B65F-E85865391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F9C4-8FE4-4C5F-8761-A5CF09719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59F-AE27-4C3B-9598-69F91D6752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4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-</a:t>
            </a:r>
            <a:fld id="{92987381-0E44-46D8-84C0-63A4E7E1AB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27.pn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9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google.com.sa/url?sa=i&amp;source=images&amp;cd=&amp;cad=rja&amp;docid=ROnV4G0Pxo87iM&amp;tbnid=jThjworZa_MO0M:&amp;ved=0CAgQjRwwAA&amp;url=http%3A%2F%2Fwww.pc.maricopa.edu%2FBiology%2Fpfinkenstadt%2FBIO201%2F201LessonBuilder%2FUnitFour%2FNervous_tissue%2Findex.html&amp;ei=1cEqUsGTCbOe7AaEhYHwCA&amp;psig=AFQjCNGjgpgbzZqERLd1n-7eTeiUUi0jXQ&amp;ust=1378620245300450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1511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Rounded MT Bold"/>
              </a:rPr>
              <a:t>The Nervous Syste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b11"/>
          <p:cNvPicPr/>
          <p:nvPr/>
        </p:nvPicPr>
        <p:blipFill>
          <a:blip r:embed="rId1"/>
          <a:stretch/>
        </p:blipFill>
        <p:spPr>
          <a:xfrm>
            <a:off x="3995640" y="476280"/>
            <a:ext cx="1224000" cy="5047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"/>
          <p:cNvSpPr/>
          <p:nvPr/>
        </p:nvSpPr>
        <p:spPr>
          <a:xfrm>
            <a:off x="1692360" y="422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 JAMILA EL MED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ra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8"/>
          <p:cNvSpPr/>
          <p:nvPr/>
        </p:nvSpPr>
        <p:spPr>
          <a:xfrm>
            <a:off x="611280" y="1989000"/>
            <a:ext cx="20160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rum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Cerebral hemisphe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9"/>
          <p:cNvSpPr/>
          <p:nvPr/>
        </p:nvSpPr>
        <p:spPr>
          <a:xfrm>
            <a:off x="6588000" y="3789360"/>
            <a:ext cx="21607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erebell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Box 10"/>
          <p:cNvSpPr/>
          <p:nvPr/>
        </p:nvSpPr>
        <p:spPr>
          <a:xfrm>
            <a:off x="6300720" y="4797360"/>
            <a:ext cx="25923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rainstem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db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ulla oblong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39640" y="3284640"/>
            <a:ext cx="2160720" cy="161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encephalon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lamus, Hypothalamus, Subthalamus &amp; Epithala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5" descr="C:\Users\user\Pictures\111.jpg"/>
          <p:cNvPicPr/>
          <p:nvPr/>
        </p:nvPicPr>
        <p:blipFill>
          <a:blip r:embed="rId1"/>
          <a:stretch/>
        </p:blipFill>
        <p:spPr>
          <a:xfrm>
            <a:off x="2843280" y="2133720"/>
            <a:ext cx="3409920" cy="3456000"/>
          </a:xfrm>
          <a:prstGeom prst="rect">
            <a:avLst/>
          </a:prstGeom>
          <a:ln w="0">
            <a:noFill/>
          </a:ln>
        </p:spPr>
      </p:pic>
      <p:sp>
        <p:nvSpPr>
          <p:cNvPr id="383" name="Straight Connector 13"/>
          <p:cNvSpPr/>
          <p:nvPr/>
        </p:nvSpPr>
        <p:spPr>
          <a:xfrm>
            <a:off x="2627280" y="2708280"/>
            <a:ext cx="1006560" cy="7308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traight Connector 14"/>
          <p:cNvSpPr/>
          <p:nvPr/>
        </p:nvSpPr>
        <p:spPr>
          <a:xfrm flipV="1">
            <a:off x="2700360" y="3500280"/>
            <a:ext cx="1727280" cy="4334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traight Connector 19"/>
          <p:cNvSpPr/>
          <p:nvPr/>
        </p:nvSpPr>
        <p:spPr>
          <a:xfrm flipH="1">
            <a:off x="5724360" y="4149720"/>
            <a:ext cx="936720" cy="23184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5"/>
          <p:cNvSpPr/>
          <p:nvPr/>
        </p:nvSpPr>
        <p:spPr>
          <a:xfrm>
            <a:off x="826920" y="907920"/>
            <a:ext cx="7848720" cy="825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ain is a large mass of nervous tissue located in the cranial cavity. It has four major reg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ight Bracket 21"/>
          <p:cNvSpPr/>
          <p:nvPr/>
        </p:nvSpPr>
        <p:spPr>
          <a:xfrm rot="20547600">
            <a:off x="4862160" y="3622680"/>
            <a:ext cx="71280" cy="1436760"/>
          </a:xfrm>
          <a:custGeom>
            <a:avLst/>
            <a:gdLst>
              <a:gd name="textAreaLeft" fmla="*/ 0 w 71280"/>
              <a:gd name="textAreaRight" fmla="*/ 50040 w 71280"/>
              <a:gd name="textAreaTop" fmla="*/ 2880 h 1436760"/>
              <a:gd name="textAreaBottom" fmla="*/ 143388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"/>
                  <a:pt x="21600" y="89"/>
                </a:cubicBezTo>
                <a:lnTo>
                  <a:pt x="21600" y="21511"/>
                </a:lnTo>
                <a:cubicBezTo>
                  <a:pt x="21600" y="21556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4500720" y="400536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4643280" y="45813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4427640" y="3716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m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Straight Connector 25"/>
          <p:cNvSpPr/>
          <p:nvPr/>
        </p:nvSpPr>
        <p:spPr>
          <a:xfrm flipH="1" flipV="1">
            <a:off x="4932000" y="4365720"/>
            <a:ext cx="1368360" cy="792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C:\Documents and Settings\user\My Documents\My Pictures\corpus c.bmp"/>
          <p:cNvPicPr/>
          <p:nvPr/>
        </p:nvPicPr>
        <p:blipFill>
          <a:blip r:embed="rId1"/>
          <a:stretch/>
        </p:blipFill>
        <p:spPr>
          <a:xfrm>
            <a:off x="5219640" y="747720"/>
            <a:ext cx="3571920" cy="45338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10"/>
          <p:cNvSpPr/>
          <p:nvPr/>
        </p:nvSpPr>
        <p:spPr>
          <a:xfrm>
            <a:off x="6159600" y="33336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4" name="Straight Arrow Connector 15"/>
          <p:cNvCxnSpPr/>
          <p:nvPr/>
        </p:nvCxnSpPr>
        <p:spPr>
          <a:xfrm>
            <a:off x="6991200" y="691920"/>
            <a:ext cx="15120" cy="1732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" name="TextBox 19"/>
          <p:cNvSpPr/>
          <p:nvPr/>
        </p:nvSpPr>
        <p:spPr>
          <a:xfrm>
            <a:off x="7167600" y="2060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Box 20"/>
          <p:cNvSpPr/>
          <p:nvPr/>
        </p:nvSpPr>
        <p:spPr>
          <a:xfrm>
            <a:off x="543888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 hemi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15"/>
          <p:cNvSpPr/>
          <p:nvPr/>
        </p:nvSpPr>
        <p:spPr>
          <a:xfrm rot="19797000">
            <a:off x="7119720" y="331740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95280" y="836640"/>
            <a:ext cx="4753080" cy="266364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largest part of the brain, has two hemisphe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erebral hemispheres are connected by a thick bundle of nerve fiber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corpus callos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urface shows ridges of tissue,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gyri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d by grooves called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l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99" name="Straight Arrow Connector 11"/>
          <p:cNvCxnSpPr/>
          <p:nvPr/>
        </p:nvCxnSpPr>
        <p:spPr>
          <a:xfrm flipH="1" flipV="1">
            <a:off x="8071920" y="4149360"/>
            <a:ext cx="216720" cy="720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0" name="Straight Arrow Connector 12"/>
          <p:cNvCxnSpPr/>
          <p:nvPr/>
        </p:nvCxnSpPr>
        <p:spPr>
          <a:xfrm flipH="1" flipV="1">
            <a:off x="7495920" y="4652640"/>
            <a:ext cx="792720" cy="21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01" name="Straight Arrow Connector 13"/>
          <p:cNvCxnSpPr/>
          <p:nvPr/>
        </p:nvCxnSpPr>
        <p:spPr>
          <a:xfrm flipH="1" flipV="1">
            <a:off x="8214480" y="3212640"/>
            <a:ext cx="73800" cy="1656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02" name="TextBox 15"/>
          <p:cNvSpPr/>
          <p:nvPr/>
        </p:nvSpPr>
        <p:spPr>
          <a:xfrm>
            <a:off x="7999560" y="4797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lc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95280" y="3645000"/>
            <a:ext cx="3168720" cy="22320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ded by deeper sulci, into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4 lob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ron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i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mp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86d1ec"/>
              </a:buClr>
              <a:buSzPct val="84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ipit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457200" y="115920"/>
            <a:ext cx="785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U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17" descr="C:\Documents and Settings\user\My Documents\My Pictures\figure5-22.jpg"/>
          <p:cNvPicPr/>
          <p:nvPr/>
        </p:nvPicPr>
        <p:blipFill>
          <a:blip r:embed="rId6"/>
          <a:srcRect l="0" t="0" r="0" b="6015"/>
          <a:stretch/>
        </p:blipFill>
        <p:spPr>
          <a:xfrm>
            <a:off x="2700360" y="4292640"/>
            <a:ext cx="2448000" cy="22446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15"/>
          <p:cNvSpPr/>
          <p:nvPr/>
        </p:nvSpPr>
        <p:spPr>
          <a:xfrm rot="19797000">
            <a:off x="6972120" y="43984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"/>
          <p:cNvSpPr/>
          <p:nvPr/>
        </p:nvSpPr>
        <p:spPr>
          <a:xfrm rot="2286600">
            <a:off x="5824440" y="348624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y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SSUE OF THE CEREBRAL HEMISPH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3429000"/>
            <a:ext cx="8424720" cy="295272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utermost layer is calle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gray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eper is located the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white mat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composed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ber trac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bundles of nerve fibers), carrying impulses to and from the cort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deep within the white matter are masses of grey matter called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sal nucle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y help the motor cortex in the regulation of voluntary motor activ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8" descr="File0525a"/>
          <p:cNvPicPr/>
          <p:nvPr/>
        </p:nvPicPr>
        <p:blipFill>
          <a:blip r:embed="rId4"/>
          <a:srcRect l="0" t="35133" r="1253" b="16229"/>
          <a:stretch/>
        </p:blipFill>
        <p:spPr>
          <a:xfrm>
            <a:off x="1763640" y="765000"/>
            <a:ext cx="5616720" cy="2592720"/>
          </a:xfrm>
          <a:prstGeom prst="rect">
            <a:avLst/>
          </a:prstGeom>
          <a:ln w="0">
            <a:noFill/>
          </a:ln>
        </p:spPr>
      </p:pic>
      <p:cxnSp>
        <p:nvCxnSpPr>
          <p:cNvPr id="411" name="Straight Arrow Connector 5"/>
          <p:cNvCxnSpPr/>
          <p:nvPr/>
        </p:nvCxnSpPr>
        <p:spPr>
          <a:xfrm>
            <a:off x="4932000" y="980640"/>
            <a:ext cx="648360" cy="1080"/>
          </a:xfrm>
          <a:prstGeom prst="straightConnector1">
            <a:avLst/>
          </a:prstGeom>
          <a:ln w="9360">
            <a:solidFill>
              <a:srgbClr val="2d61fe"/>
            </a:solidFill>
            <a:miter/>
            <a:tailEnd len="med" type="triangle" w="med"/>
          </a:ln>
        </p:spPr>
      </p:cxnSp>
      <p:sp>
        <p:nvSpPr>
          <p:cNvPr id="412" name="TextBox 6"/>
          <p:cNvSpPr/>
          <p:nvPr/>
        </p:nvSpPr>
        <p:spPr>
          <a:xfrm>
            <a:off x="5580000" y="8366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cort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516720" y="1052640"/>
            <a:ext cx="79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Arial"/>
              </a:rPr>
              <a:t>White mat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2"/>
          <p:cNvSpPr/>
          <p:nvPr/>
        </p:nvSpPr>
        <p:spPr>
          <a:xfrm>
            <a:off x="5940360" y="1773360"/>
            <a:ext cx="792360" cy="14436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EL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5" descr="File0526"/>
          <p:cNvPicPr/>
          <p:nvPr/>
        </p:nvPicPr>
        <p:blipFill>
          <a:blip r:embed="rId1"/>
          <a:stretch/>
        </p:blipFill>
        <p:spPr>
          <a:xfrm>
            <a:off x="395280" y="692280"/>
            <a:ext cx="4975200" cy="31683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8"/>
          <p:cNvSpPr/>
          <p:nvPr/>
        </p:nvSpPr>
        <p:spPr>
          <a:xfrm>
            <a:off x="395280" y="3933720"/>
            <a:ext cx="4968720" cy="1984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5400000"/>
          </a:gradFill>
          <a:ln w="9360">
            <a:solidFill>
              <a:srgbClr val="ffc000"/>
            </a:solidFill>
            <a:miter/>
          </a:ln>
          <a:effectLst>
            <a:outerShdw dist="40186" dir="1096358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cerebell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s 2 hemispheres and a convoluted surface. It has an outer cortex of gray matter and an inner region of white matter. It provid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cise coordination for body movements and helps to maintain equilibriu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6" descr="C:\Documents and Settings\Zeenet\My Documents\My Pictures\neuroCerebellumSuperiorGrayBB702.gif"/>
          <p:cNvPicPr/>
          <p:nvPr/>
        </p:nvPicPr>
        <p:blipFill>
          <a:blip r:embed="rId2"/>
          <a:stretch/>
        </p:blipFill>
        <p:spPr>
          <a:xfrm>
            <a:off x="5435640" y="692280"/>
            <a:ext cx="3217680" cy="18730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C:\Documents and Settings\Zeenet\My Documents\My Pictures\f15-22a_cerebellum_mids_c.jpg"/>
          <p:cNvPicPr/>
          <p:nvPr/>
        </p:nvPicPr>
        <p:blipFill>
          <a:blip r:embed="rId3"/>
          <a:srcRect l="0" t="11408" r="0" b="8775"/>
          <a:stretch/>
        </p:blipFill>
        <p:spPr>
          <a:xfrm>
            <a:off x="5435640" y="2708280"/>
            <a:ext cx="3268800" cy="3241800"/>
          </a:xfrm>
          <a:prstGeom prst="rect">
            <a:avLst/>
          </a:prstGeom>
          <a:ln w="0">
            <a:noFill/>
          </a:ln>
        </p:spPr>
      </p:pic>
      <p:sp>
        <p:nvSpPr>
          <p:cNvPr id="420" name="Oval 7"/>
          <p:cNvSpPr/>
          <p:nvPr/>
        </p:nvSpPr>
        <p:spPr>
          <a:xfrm>
            <a:off x="2771640" y="2276640"/>
            <a:ext cx="1152720" cy="93636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4920" y="837720"/>
            <a:ext cx="5040360" cy="575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a two-way conduction pathway to the brain &amp; a major reflex cen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42-45 cm long, cylindrical in shape, lies within the vertebral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foramen magnum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US" sz="2200" spc="-1" strike="noStrike">
                <a:solidFill>
                  <a:srgbClr val="ffc000"/>
                </a:solidFill>
                <a:latin typeface="Arial"/>
              </a:rPr>
              <a:t>L2 verteb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above with </a:t>
            </a:r>
            <a:r>
              <a:rPr b="0" lang="en-US" sz="2200" spc="-1" strike="noStrike">
                <a:solidFill>
                  <a:srgbClr val="ffc000"/>
                </a:solidFill>
                <a:latin typeface="Arial"/>
              </a:rPr>
              <a:t>medulla oblong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udal tapering end is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nus medullari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s 2 enlargements: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lumbosacr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s rise to 31 pairs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pinal ner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oup of spinal nerves at the end of the spinal cord is called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auda equina</a:t>
            </a: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3" descr="see65576_1201"/>
          <p:cNvPicPr/>
          <p:nvPr/>
        </p:nvPicPr>
        <p:blipFill>
          <a:blip r:embed="rId9"/>
          <a:stretch/>
        </p:blipFill>
        <p:spPr>
          <a:xfrm>
            <a:off x="5580000" y="1125360"/>
            <a:ext cx="3353040" cy="4724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24" name="AutoShape 8"/>
          <p:cNvSpPr/>
          <p:nvPr/>
        </p:nvSpPr>
        <p:spPr>
          <a:xfrm>
            <a:off x="802800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7956720" y="4221000"/>
            <a:ext cx="792000" cy="370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5796000" y="191628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8"/>
          <p:cNvSpPr/>
          <p:nvPr/>
        </p:nvSpPr>
        <p:spPr>
          <a:xfrm>
            <a:off x="5651640" y="3789360"/>
            <a:ext cx="792000" cy="3697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ross Section of Spinal Co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762120"/>
            <a:ext cx="3095640" cy="4179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347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pinal cord is incompletely divided into two equal parts,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short, shallow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n fissur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200" spc="-1" strike="noStrike">
                <a:solidFill>
                  <a:srgbClr val="ff00ff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by a deep narrow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median septu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t is composed of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grey matter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the centre surrounded by </a:t>
            </a:r>
            <a:r>
              <a:rPr b="1" lang="en-US" sz="2200" spc="-1" strike="noStrike">
                <a:solidFill>
                  <a:srgbClr val="85a3ff"/>
                </a:solidFill>
                <a:latin typeface="Arial"/>
              </a:rPr>
              <a:t>white matt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55640" y="5013360"/>
            <a:ext cx="7129440" cy="115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rrangement of grey matter resembles the shape of the letter H, having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ns/colum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12" descr="C:\Users\Zeenat\Pictures\Figure_35_03_07.jpg"/>
          <p:cNvPicPr/>
          <p:nvPr/>
        </p:nvPicPr>
        <p:blipFill>
          <a:blip r:embed="rId2"/>
          <a:stretch/>
        </p:blipFill>
        <p:spPr>
          <a:xfrm>
            <a:off x="3492360" y="1484280"/>
            <a:ext cx="55040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THE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4724280"/>
            <a:ext cx="4470120" cy="16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NS IS PROTECTED B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B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Skull and the vertebral colum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Mening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embranes): 3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erebrospinal flu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in the subarachnoid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364000" y="4724280"/>
            <a:ext cx="3456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ur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out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rachnoid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midd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pia ma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innermo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Picture 5" descr="File0529"/>
          <p:cNvPicPr/>
          <p:nvPr/>
        </p:nvPicPr>
        <p:blipFill>
          <a:blip r:embed="rId7"/>
          <a:srcRect l="0" t="6079" r="6688" b="12021"/>
          <a:stretch/>
        </p:blipFill>
        <p:spPr>
          <a:xfrm>
            <a:off x="611280" y="765000"/>
            <a:ext cx="8136000" cy="3872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11"/>
          <p:cNvSpPr/>
          <p:nvPr/>
        </p:nvSpPr>
        <p:spPr>
          <a:xfrm>
            <a:off x="8028000" y="2133720"/>
            <a:ext cx="574560" cy="4395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2"/>
          <p:cNvSpPr/>
          <p:nvPr/>
        </p:nvSpPr>
        <p:spPr>
          <a:xfrm>
            <a:off x="7093080" y="2565360"/>
            <a:ext cx="1295280" cy="23832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3"/>
          <p:cNvSpPr/>
          <p:nvPr/>
        </p:nvSpPr>
        <p:spPr>
          <a:xfrm>
            <a:off x="7020000" y="2781360"/>
            <a:ext cx="863640" cy="20808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39" name="Straight Arrow Connector 9"/>
          <p:cNvCxnSpPr/>
          <p:nvPr/>
        </p:nvCxnSpPr>
        <p:spPr>
          <a:xfrm flipV="1">
            <a:off x="4427640" y="5444640"/>
            <a:ext cx="1008720" cy="145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Straight Arrow Connector 10"/>
          <p:cNvCxnSpPr/>
          <p:nvPr/>
        </p:nvCxnSpPr>
        <p:spPr>
          <a:xfrm>
            <a:off x="4427280" y="5589360"/>
            <a:ext cx="937080" cy="2163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Straight Arrow Connector 11"/>
          <p:cNvCxnSpPr/>
          <p:nvPr/>
        </p:nvCxnSpPr>
        <p:spPr>
          <a:xfrm>
            <a:off x="4427280" y="5589720"/>
            <a:ext cx="937080" cy="504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2" name="AutoShape 11"/>
          <p:cNvSpPr/>
          <p:nvPr/>
        </p:nvSpPr>
        <p:spPr>
          <a:xfrm>
            <a:off x="684360" y="3500280"/>
            <a:ext cx="1223640" cy="439920"/>
          </a:xfrm>
          <a:prstGeom prst="roundRect">
            <a:avLst>
              <a:gd name="adj" fmla="val 16667"/>
            </a:avLst>
          </a:prstGeom>
          <a:solidFill>
            <a:srgbClr val="00b050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13760" cy="4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REBROSPINAL FL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8" descr="File0532"/>
          <p:cNvPicPr/>
          <p:nvPr/>
        </p:nvPicPr>
        <p:blipFill>
          <a:blip r:embed="rId1"/>
          <a:stretch/>
        </p:blipFill>
        <p:spPr>
          <a:xfrm>
            <a:off x="755640" y="674640"/>
            <a:ext cx="7561440" cy="60674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9"/>
          <p:cNvSpPr/>
          <p:nvPr/>
        </p:nvSpPr>
        <p:spPr>
          <a:xfrm>
            <a:off x="324000" y="907920"/>
            <a:ext cx="2174760" cy="1923480"/>
          </a:xfrm>
          <a:prstGeom prst="rect">
            <a:avLst/>
          </a:prstGeom>
          <a:gradFill rotWithShape="0">
            <a:gsLst>
              <a:gs pos="0">
                <a:srgbClr val="182f76">
                  <a:alpha val="53333"/>
                </a:srgbClr>
              </a:gs>
              <a:gs pos="100000">
                <a:srgbClr val="33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roduc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horoid plex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ide the ventricles of b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11"/>
          <p:cNvSpPr/>
          <p:nvPr/>
        </p:nvSpPr>
        <p:spPr>
          <a:xfrm>
            <a:off x="5708520" y="4151160"/>
            <a:ext cx="1071720" cy="28584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539640" y="4149720"/>
            <a:ext cx="3024360" cy="2533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of the CSF drains from the ventricles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ubarachoid spa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 the brain and spinal cord. A little amount flows down in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ntral can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the spinal c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5"/>
          <p:cNvSpPr/>
          <p:nvPr/>
        </p:nvSpPr>
        <p:spPr>
          <a:xfrm>
            <a:off x="5343480" y="4684680"/>
            <a:ext cx="905040" cy="399960"/>
          </a:xfrm>
          <a:prstGeom prst="roundRect">
            <a:avLst>
              <a:gd name="adj" fmla="val 16667"/>
            </a:avLst>
          </a:pr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Line 16"/>
          <p:cNvSpPr/>
          <p:nvPr/>
        </p:nvSpPr>
        <p:spPr>
          <a:xfrm>
            <a:off x="4686480" y="4071960"/>
            <a:ext cx="4680" cy="82404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Freeform 18"/>
          <p:cNvSpPr/>
          <p:nvPr/>
        </p:nvSpPr>
        <p:spPr>
          <a:xfrm>
            <a:off x="4732200" y="3833640"/>
            <a:ext cx="768600" cy="255600"/>
          </a:xfrm>
          <a:custGeom>
            <a:avLst/>
            <a:gdLst>
              <a:gd name="textAreaLeft" fmla="*/ 0 w 768600"/>
              <a:gd name="textAreaRight" fmla="*/ 768960 w 768600"/>
              <a:gd name="textAreaTop" fmla="*/ 0 h 255600"/>
              <a:gd name="textAreaBottom" fmla="*/ 255600 h 255600"/>
            </a:gdLst>
            <a:ahLst/>
            <a:rect l="textAreaLeft" t="textAreaTop" r="textAreaRight" b="textAreaBottom"/>
            <a:pathLst>
              <a:path w="484" h="161">
                <a:moveTo>
                  <a:pt x="4" y="138"/>
                </a:moveTo>
                <a:cubicBezTo>
                  <a:pt x="2" y="149"/>
                  <a:pt x="0" y="161"/>
                  <a:pt x="43" y="156"/>
                </a:cubicBezTo>
                <a:cubicBezTo>
                  <a:pt x="86" y="151"/>
                  <a:pt x="192" y="131"/>
                  <a:pt x="265" y="105"/>
                </a:cubicBezTo>
                <a:cubicBezTo>
                  <a:pt x="338" y="79"/>
                  <a:pt x="449" y="20"/>
                  <a:pt x="484" y="0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Freeform 19"/>
          <p:cNvSpPr/>
          <p:nvPr/>
        </p:nvSpPr>
        <p:spPr>
          <a:xfrm>
            <a:off x="5700600" y="1671480"/>
            <a:ext cx="147600" cy="176400"/>
          </a:xfrm>
          <a:custGeom>
            <a:avLst/>
            <a:gdLst/>
            <a:ahLst/>
            <a:rect l="l" t="t" r="r" b="b"/>
            <a:pathLst>
              <a:path w="93" h="111">
                <a:moveTo>
                  <a:pt x="0" y="0"/>
                </a:moveTo>
                <a:cubicBezTo>
                  <a:pt x="16" y="13"/>
                  <a:pt x="33" y="27"/>
                  <a:pt x="48" y="45"/>
                </a:cubicBezTo>
                <a:cubicBezTo>
                  <a:pt x="63" y="63"/>
                  <a:pt x="86" y="105"/>
                  <a:pt x="93" y="11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Freeform 20"/>
          <p:cNvSpPr/>
          <p:nvPr/>
        </p:nvSpPr>
        <p:spPr>
          <a:xfrm>
            <a:off x="4662360" y="1138320"/>
            <a:ext cx="209520" cy="33120"/>
          </a:xfrm>
          <a:custGeom>
            <a:avLst/>
            <a:gdLst>
              <a:gd name="textAreaLeft" fmla="*/ 0 w 209520"/>
              <a:gd name="textAreaRight" fmla="*/ 209880 w 20952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132" h="21">
                <a:moveTo>
                  <a:pt x="0" y="21"/>
                </a:moveTo>
                <a:cubicBezTo>
                  <a:pt x="10" y="10"/>
                  <a:pt x="20" y="0"/>
                  <a:pt x="42" y="0"/>
                </a:cubicBezTo>
                <a:cubicBezTo>
                  <a:pt x="64" y="0"/>
                  <a:pt x="120" y="17"/>
                  <a:pt x="132" y="21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Freeform 21"/>
          <p:cNvSpPr/>
          <p:nvPr/>
        </p:nvSpPr>
        <p:spPr>
          <a:xfrm>
            <a:off x="4425840" y="2882880"/>
            <a:ext cx="209520" cy="596880"/>
          </a:xfrm>
          <a:custGeom>
            <a:avLst/>
            <a:gdLst>
              <a:gd name="textAreaLeft" fmla="*/ 0 w 209520"/>
              <a:gd name="textAreaRight" fmla="*/ 209880 w 20952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132" h="376">
                <a:moveTo>
                  <a:pt x="0" y="0"/>
                </a:moveTo>
                <a:cubicBezTo>
                  <a:pt x="21" y="60"/>
                  <a:pt x="42" y="121"/>
                  <a:pt x="64" y="184"/>
                </a:cubicBezTo>
                <a:cubicBezTo>
                  <a:pt x="86" y="247"/>
                  <a:pt x="122" y="345"/>
                  <a:pt x="132" y="37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5580000" y="5084640"/>
            <a:ext cx="2448000" cy="1618560"/>
          </a:xfrm>
          <a:prstGeom prst="rect">
            <a:avLst/>
          </a:prstGeom>
          <a:gradFill rotWithShape="0">
            <a:gsLst>
              <a:gs pos="0">
                <a:srgbClr val="182f76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F is constantly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drai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ural  sinus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ough the arachnoid vill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eripheral Ner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541440" y="3355560"/>
            <a:ext cx="3959280" cy="23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ani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&amp; numbered from 1-1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Content Placeholder 2"/>
          <p:cNvSpPr/>
          <p:nvPr/>
        </p:nvSpPr>
        <p:spPr>
          <a:xfrm>
            <a:off x="1042920" y="1125360"/>
            <a:ext cx="726444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b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ns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to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x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Content Placeholder 2"/>
          <p:cNvSpPr/>
          <p:nvPr/>
        </p:nvSpPr>
        <p:spPr>
          <a:xfrm>
            <a:off x="4572000" y="2492280"/>
            <a:ext cx="41054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Spin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ached to spinal co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d and numbered according to the region of the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9" name="Straight Arrow Connector 8"/>
          <p:cNvCxnSpPr/>
          <p:nvPr/>
        </p:nvCxnSpPr>
        <p:spPr>
          <a:xfrm>
            <a:off x="3492000" y="2133720"/>
            <a:ext cx="1008720" cy="7912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460" name="Straight Arrow Connector 9"/>
          <p:cNvCxnSpPr/>
          <p:nvPr/>
        </p:nvCxnSpPr>
        <p:spPr>
          <a:xfrm flipH="1">
            <a:off x="2771280" y="2133360"/>
            <a:ext cx="721440" cy="115164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4" descr="NS04"/>
          <p:cNvPicPr/>
          <p:nvPr/>
        </p:nvPicPr>
        <p:blipFill>
          <a:blip r:embed="rId1"/>
          <a:stretch/>
        </p:blipFill>
        <p:spPr>
          <a:xfrm>
            <a:off x="4572000" y="620640"/>
            <a:ext cx="4300560" cy="576108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462" name="Text Box 5"/>
          <p:cNvSpPr/>
          <p:nvPr/>
        </p:nvSpPr>
        <p:spPr>
          <a:xfrm>
            <a:off x="709308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826920" y="404640"/>
            <a:ext cx="34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NIAL N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539640" y="1052640"/>
            <a:ext cx="3961080" cy="52160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 pairs are mix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igeminal n. (5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acial n. (7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lossopharyngeal n. (9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agus n. (10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 pairs are mo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culomotor n. (3r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rochlear n. (4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bducent n. (6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essory n. (11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poglossal n. (12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3 pairs are sens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lfactory n. (1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ptic n. (2nd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estibulocochlear n. (8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7030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39640" y="1125360"/>
            <a:ext cx="8064720" cy="5112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t the end of the lecture, the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ubdivisions of the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s: grey matter, white matter, nucleus, ganglion, tract and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parts of the br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 the external and internal features of spinal c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umerate the cranial ner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parts and distribution of the spin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 the term ‘dermatom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the structures protecting the central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inal Nerves and Nerve Plexu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78920" y="1052280"/>
            <a:ext cx="4038840" cy="55450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 pai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is attached by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two roots: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(sensory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(mo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rsal root bears a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ory ganglion (D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spinal nerve exits from the intervertebral foramen and divides into a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and ventral 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ami contain both sensory and motor fi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3" descr="C:\Documents and Settings\user\My Documents\My Pictures\800px-Spinal_nerve.svg.png"/>
          <p:cNvPicPr/>
          <p:nvPr/>
        </p:nvPicPr>
        <p:blipFill>
          <a:blip r:embed="rId7"/>
          <a:stretch/>
        </p:blipFill>
        <p:spPr>
          <a:xfrm>
            <a:off x="4284720" y="3860640"/>
            <a:ext cx="4370400" cy="27291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4"/>
          <p:cNvSpPr/>
          <p:nvPr/>
        </p:nvSpPr>
        <p:spPr>
          <a:xfrm>
            <a:off x="6156360" y="4076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4572000" y="558972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Ventr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Box 6"/>
          <p:cNvSpPr/>
          <p:nvPr/>
        </p:nvSpPr>
        <p:spPr>
          <a:xfrm>
            <a:off x="4500720" y="4221000"/>
            <a:ext cx="72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Dorsal ram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1" name="Picture 11" descr="C:\Users\user\Pictures\Picture1hgb.jpg"/>
          <p:cNvPicPr/>
          <p:nvPr/>
        </p:nvPicPr>
        <p:blipFill>
          <a:blip r:embed="rId8"/>
          <a:stretch/>
        </p:blipFill>
        <p:spPr>
          <a:xfrm>
            <a:off x="5219640" y="907920"/>
            <a:ext cx="261000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Content Placeholder 2"/>
          <p:cNvSpPr/>
          <p:nvPr/>
        </p:nvSpPr>
        <p:spPr>
          <a:xfrm>
            <a:off x="179280" y="260280"/>
            <a:ext cx="4032360" cy="3889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dors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distributed individually, supply the skin and muscles of the 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ventral rami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lexuses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 in thoracic region where the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tercostal nerv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 an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anterior part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3" name="Picture 5" descr="C:\Users\user\Pictures\asa.png"/>
          <p:cNvPicPr/>
          <p:nvPr/>
        </p:nvPicPr>
        <p:blipFill>
          <a:blip r:embed="rId4"/>
          <a:srcRect l="7408" t="1287" r="14816" b="999"/>
          <a:stretch/>
        </p:blipFill>
        <p:spPr>
          <a:xfrm>
            <a:off x="4356000" y="333360"/>
            <a:ext cx="4537080" cy="568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1" descr="C:\Users\user\Pictures\Picture1hgb.jpg"/>
          <p:cNvPicPr/>
          <p:nvPr/>
        </p:nvPicPr>
        <p:blipFill>
          <a:blip r:embed="rId5"/>
          <a:stretch/>
        </p:blipFill>
        <p:spPr>
          <a:xfrm>
            <a:off x="971640" y="4221000"/>
            <a:ext cx="237636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rmato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2663640" cy="2880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gment of skin supplied by a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gmental spinal ner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called a ‘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Dermatom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10" descr="see65576_1214"/>
          <p:cNvPicPr/>
          <p:nvPr/>
        </p:nvPicPr>
        <p:blipFill>
          <a:blip r:embed="rId2"/>
          <a:stretch/>
        </p:blipFill>
        <p:spPr>
          <a:xfrm>
            <a:off x="3276720" y="1052640"/>
            <a:ext cx="5560920" cy="468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thumb_flower16"/>
          <p:cNvPicPr/>
          <p:nvPr/>
        </p:nvPicPr>
        <p:blipFill>
          <a:blip r:embed="rId1"/>
          <a:srcRect l="16289" t="3075" r="14286" b="8317"/>
          <a:stretch/>
        </p:blipFill>
        <p:spPr>
          <a:xfrm>
            <a:off x="2214720" y="857160"/>
            <a:ext cx="5000400" cy="4786560"/>
          </a:xfrm>
          <a:prstGeom prst="rect">
            <a:avLst/>
          </a:prstGeom>
          <a:ln w="0">
            <a:noFill/>
          </a:ln>
        </p:spPr>
      </p:pic>
      <p:sp>
        <p:nvSpPr>
          <p:cNvPr id="479" name="WordArt 6"/>
          <p:cNvSpPr txBox="1"/>
          <p:nvPr/>
        </p:nvSpPr>
        <p:spPr>
          <a:xfrm>
            <a:off x="2500200" y="2714760"/>
            <a:ext cx="44006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atisse ITC"/>
              </a:rPr>
              <a:t>Thank 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atisse ITC"/>
              <a:ea typeface="Matiss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250560" y="189000"/>
            <a:ext cx="4608360" cy="6454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ervous system h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func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ollection of sensory inpu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dentifies changes occurring inside and outside the body by using sensory receptors. These changes are calle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mu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ocesses, analyses and interprets these changes and makes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ffects a response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ctivating muscles or glands (effectors) vi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tor out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7" descr="File0514"/>
          <p:cNvPicPr/>
          <p:nvPr/>
        </p:nvPicPr>
        <p:blipFill>
          <a:blip r:embed="rId3"/>
          <a:stretch/>
        </p:blipFill>
        <p:spPr>
          <a:xfrm>
            <a:off x="4859280" y="1773360"/>
            <a:ext cx="398772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5" descr="File0517"/>
          <p:cNvPicPr/>
          <p:nvPr/>
        </p:nvPicPr>
        <p:blipFill>
          <a:blip r:embed="rId1"/>
          <a:stretch/>
        </p:blipFill>
        <p:spPr>
          <a:xfrm>
            <a:off x="4572000" y="692280"/>
            <a:ext cx="3816360" cy="5905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ructur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42560" y="1412640"/>
            <a:ext cx="3313080" cy="36003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000"/>
                </a:solidFill>
                <a:uFillTx/>
                <a:latin typeface="Arial"/>
              </a:rPr>
              <a:t>Central Nervous System (CNS)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in &amp; Spinal 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eripheral Nervous System (PNS):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es (cranial, spinal) &amp; gang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643280" y="1341360"/>
            <a:ext cx="474840" cy="647640"/>
          </a:xfrm>
          <a:custGeom>
            <a:avLst/>
            <a:gdLst>
              <a:gd name="textAreaLeft" fmla="*/ 23040 w 474840"/>
              <a:gd name="textAreaRight" fmla="*/ 451800 w 474840"/>
              <a:gd name="textAreaTop" fmla="*/ 23040 h 647640"/>
              <a:gd name="textAreaBottom" fmla="*/ 624600 h 647640"/>
            </a:gdLst>
            <a:ahLst/>
            <a:rect l="textAreaLeft" t="textAreaTop" r="textAreaRight" b="textAreaBottom"/>
            <a:pathLst>
              <a:path w="21600" h="29455">
                <a:moveTo>
                  <a:pt x="3600" y="0"/>
                </a:moveTo>
                <a:arcTo wR="3600" hR="3600" stAng="16200000" swAng="-5400000"/>
                <a:lnTo>
                  <a:pt x="0" y="25855"/>
                </a:lnTo>
                <a:arcTo wR="3600" hR="3600" stAng="10800000" swAng="-5400000"/>
                <a:lnTo>
                  <a:pt x="18000" y="29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7667640" y="2349360"/>
            <a:ext cx="587520" cy="648000"/>
          </a:xfrm>
          <a:custGeom>
            <a:avLst/>
            <a:gdLst>
              <a:gd name="textAreaLeft" fmla="*/ 28440 w 587520"/>
              <a:gd name="textAreaRight" fmla="*/ 559080 w 587520"/>
              <a:gd name="textAreaTop" fmla="*/ 28440 h 648000"/>
              <a:gd name="textAreaBottom" fmla="*/ 619560 h 648000"/>
            </a:gdLst>
            <a:ahLst/>
            <a:rect l="textAreaLeft" t="textAreaTop" r="textAreaRight" b="textAreaBottom"/>
            <a:pathLst>
              <a:path w="21600" h="23822">
                <a:moveTo>
                  <a:pt x="3600" y="0"/>
                </a:moveTo>
                <a:arcTo wR="3600" hR="3600" stAng="16200000" swAng="-5400000"/>
                <a:lnTo>
                  <a:pt x="0" y="20222"/>
                </a:lnTo>
                <a:arcTo wR="3600" hR="3600" stAng="10800000" swAng="-5400000"/>
                <a:lnTo>
                  <a:pt x="18000" y="238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66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5219640" y="1700280"/>
            <a:ext cx="474840" cy="43344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5219640" y="1197000"/>
            <a:ext cx="474840" cy="287280"/>
          </a:xfrm>
          <a:prstGeom prst="roundRect">
            <a:avLst>
              <a:gd name="adj" fmla="val 16667"/>
            </a:avLst>
          </a:prstGeom>
          <a:solidFill>
            <a:srgbClr val="ffc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9"/>
          <p:cNvSpPr/>
          <p:nvPr/>
        </p:nvSpPr>
        <p:spPr>
          <a:xfrm>
            <a:off x="7236000" y="3716280"/>
            <a:ext cx="474480" cy="4334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7020000" y="1197000"/>
            <a:ext cx="474480" cy="431640"/>
          </a:xfrm>
          <a:prstGeom prst="roundRect">
            <a:avLst>
              <a:gd name="adj" fmla="val 16667"/>
            </a:avLst>
          </a:prstGeom>
          <a:solidFill>
            <a:srgbClr val="adb8ff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8920" y="765000"/>
            <a:ext cx="352908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sory/Motor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115920"/>
            <a:ext cx="9144000" cy="504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unctional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6" descr="http://www.pc.maricopa.edu/Biology/pfinkenstadt/BIO201/201LessonBuilder/UnitFour/Nervous_tissue/functional%20division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341360"/>
            <a:ext cx="7417080" cy="4845240"/>
          </a:xfrm>
          <a:prstGeom prst="rect">
            <a:avLst/>
          </a:prstGeom>
          <a:ln w="0">
            <a:noFill/>
          </a:ln>
        </p:spPr>
      </p:pic>
      <p:sp>
        <p:nvSpPr>
          <p:cNvPr id="350" name="Content Placeholder 2"/>
          <p:cNvSpPr/>
          <p:nvPr/>
        </p:nvSpPr>
        <p:spPr>
          <a:xfrm>
            <a:off x="3780000" y="765000"/>
            <a:ext cx="5184720" cy="43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atic/Autonomi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Visceral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C:\Users\Zeenat\Pictures\neuron.JPG"/>
          <p:cNvPicPr/>
          <p:nvPr/>
        </p:nvPicPr>
        <p:blipFill>
          <a:blip r:embed="rId1"/>
          <a:stretch/>
        </p:blipFill>
        <p:spPr>
          <a:xfrm>
            <a:off x="971640" y="1268280"/>
            <a:ext cx="7318440" cy="460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3"/>
          <p:cNvSpPr/>
          <p:nvPr/>
        </p:nvSpPr>
        <p:spPr>
          <a:xfrm>
            <a:off x="539640" y="260280"/>
            <a:ext cx="7921800" cy="719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rvous tissue consists of nerve cells (neurons) and supporting (neuroglia)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6227640" y="45813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rve fib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4" name="Straight Arrow Connector 8"/>
          <p:cNvCxnSpPr/>
          <p:nvPr/>
        </p:nvCxnSpPr>
        <p:spPr>
          <a:xfrm>
            <a:off x="2268360" y="2133360"/>
            <a:ext cx="43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9"/>
          <p:cNvCxnSpPr/>
          <p:nvPr/>
        </p:nvCxnSpPr>
        <p:spPr>
          <a:xfrm>
            <a:off x="3924000" y="3860280"/>
            <a:ext cx="71964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6" name="Straight Arrow Connector 10"/>
          <p:cNvCxnSpPr/>
          <p:nvPr/>
        </p:nvCxnSpPr>
        <p:spPr>
          <a:xfrm flipH="1" flipV="1">
            <a:off x="3419280" y="4149360"/>
            <a:ext cx="73440" cy="57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7" name="Straight Arrow Connector 11"/>
          <p:cNvCxnSpPr/>
          <p:nvPr/>
        </p:nvCxnSpPr>
        <p:spPr>
          <a:xfrm flipV="1">
            <a:off x="1619280" y="4076280"/>
            <a:ext cx="505440" cy="21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TextBox 12"/>
          <p:cNvSpPr/>
          <p:nvPr/>
        </p:nvSpPr>
        <p:spPr>
          <a:xfrm>
            <a:off x="2987640" y="5445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multipolar neur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611280" y="907920"/>
            <a:ext cx="7921440" cy="4334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rvous tissue is organize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rcRect l="0" t="1017" r="0" b="12454"/>
          <a:stretch/>
        </p:blipFill>
        <p:spPr>
          <a:xfrm>
            <a:off x="1187280" y="2997360"/>
            <a:ext cx="6696360" cy="348444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8"/>
          <p:cNvSpPr/>
          <p:nvPr/>
        </p:nvSpPr>
        <p:spPr>
          <a:xfrm>
            <a:off x="684360" y="1628640"/>
            <a:ext cx="3382920" cy="1312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Grey matt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ich contain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ell bodies &amp; the short 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4572000" y="1628640"/>
            <a:ext cx="3816360" cy="106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White matter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ntains the long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cesses of the neur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no cell bodies), the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eurogli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lood vess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"/>
          <p:cNvSpPr/>
          <p:nvPr/>
        </p:nvSpPr>
        <p:spPr>
          <a:xfrm>
            <a:off x="1332000" y="5877000"/>
            <a:ext cx="647640" cy="21600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Oval 2"/>
          <p:cNvSpPr/>
          <p:nvPr/>
        </p:nvSpPr>
        <p:spPr>
          <a:xfrm>
            <a:off x="7380360" y="4292640"/>
            <a:ext cx="431640" cy="28872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187280" y="1844640"/>
            <a:ext cx="27370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ucleu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63640" y="4365720"/>
            <a:ext cx="2448000" cy="1604520"/>
          </a:xfrm>
          <a:prstGeom prst="rect">
            <a:avLst/>
          </a:prstGeom>
          <a:solidFill>
            <a:srgbClr val="d6e0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urons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gang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http://upload.wikimedia.org/wikipedia/commons/thumb/c/c0/Medulla_spinalis_-_Substantia_grisea_-_English.svg/400px-Medulla_spinalis_-_Substantia_grisea_-_English.svg.png"/>
          <p:cNvPicPr/>
          <p:nvPr/>
        </p:nvPicPr>
        <p:blipFill>
          <a:blip r:embed="rId1"/>
          <a:stretch/>
        </p:blipFill>
        <p:spPr>
          <a:xfrm>
            <a:off x="3995640" y="620640"/>
            <a:ext cx="4176720" cy="29131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68" name="Picture 8" descr="http://www.humanneurophysiology.com/images/fig-1.gif"/>
          <p:cNvPicPr/>
          <p:nvPr/>
        </p:nvPicPr>
        <p:blipFill>
          <a:blip r:embed="rId2"/>
          <a:stretch/>
        </p:blipFill>
        <p:spPr>
          <a:xfrm>
            <a:off x="4211640" y="3645000"/>
            <a:ext cx="3330720" cy="2952720"/>
          </a:xfrm>
          <a:prstGeom prst="rect">
            <a:avLst/>
          </a:prstGeom>
          <a:ln w="28440">
            <a:solidFill>
              <a:srgbClr val="ff00ff"/>
            </a:solidFill>
            <a:miter/>
          </a:ln>
        </p:spPr>
      </p:pic>
      <p:sp>
        <p:nvSpPr>
          <p:cNvPr id="369" name="TextBox 12"/>
          <p:cNvSpPr/>
          <p:nvPr/>
        </p:nvSpPr>
        <p:spPr>
          <a:xfrm>
            <a:off x="395280" y="62064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0" name="Straight Arrow Connector 14"/>
          <p:cNvCxnSpPr/>
          <p:nvPr/>
        </p:nvCxnSpPr>
        <p:spPr>
          <a:xfrm flipH="1" flipV="1">
            <a:off x="5940000" y="544464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71" name="Straight Arrow Connector 15"/>
          <p:cNvCxnSpPr/>
          <p:nvPr/>
        </p:nvCxnSpPr>
        <p:spPr>
          <a:xfrm flipH="1" flipV="1">
            <a:off x="5940000" y="4797000"/>
            <a:ext cx="28800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2050920" y="2060640"/>
            <a:ext cx="2735280" cy="1312200"/>
          </a:xfrm>
          <a:prstGeom prst="rect">
            <a:avLst/>
          </a:prstGeom>
          <a:solidFill>
            <a:srgbClr val="d6e0ff"/>
          </a:solidFill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within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979640" y="4149720"/>
            <a:ext cx="1944720" cy="2189160"/>
          </a:xfrm>
          <a:prstGeom prst="rect">
            <a:avLst/>
          </a:prstGeom>
          <a:solidFill>
            <a:srgbClr val="d6e0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oup of nerve fibers (axons) outside the CNS is called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rv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Picture 10" descr="http://www.health.com/health/static/hw/media/medical/hw/hwkb17_032_001.jpg"/>
          <p:cNvPicPr/>
          <p:nvPr/>
        </p:nvPicPr>
        <p:blipFill>
          <a:blip r:embed="rId1"/>
          <a:srcRect l="8216" t="0" r="1397" b="6765"/>
          <a:stretch/>
        </p:blipFill>
        <p:spPr>
          <a:xfrm>
            <a:off x="3995640" y="4005360"/>
            <a:ext cx="3148200" cy="2448000"/>
          </a:xfrm>
          <a:prstGeom prst="rect">
            <a:avLst/>
          </a:prstGeom>
          <a:ln w="28440">
            <a:solidFill>
              <a:srgbClr val="66ffff"/>
            </a:solidFill>
            <a:miter/>
          </a:ln>
        </p:spPr>
      </p:pic>
      <p:pic>
        <p:nvPicPr>
          <p:cNvPr id="375" name="Picture 14" descr="http://img.tfd.com/MosbyMD/thumb/optic_nerve.jpg"/>
          <p:cNvPicPr/>
          <p:nvPr/>
        </p:nvPicPr>
        <p:blipFill>
          <a:blip r:embed="rId2"/>
          <a:stretch/>
        </p:blipFill>
        <p:spPr>
          <a:xfrm>
            <a:off x="4859280" y="907920"/>
            <a:ext cx="3049560" cy="2952720"/>
          </a:xfrm>
          <a:prstGeom prst="rect">
            <a:avLst/>
          </a:prstGeom>
          <a:ln w="28440">
            <a:solidFill>
              <a:srgbClr val="92d050"/>
            </a:solidFill>
            <a:miter/>
          </a:ln>
        </p:spPr>
      </p:pic>
      <p:sp>
        <p:nvSpPr>
          <p:cNvPr id="376" name="TextBox 12"/>
          <p:cNvSpPr/>
          <p:nvPr/>
        </p:nvSpPr>
        <p:spPr>
          <a:xfrm>
            <a:off x="395280" y="981000"/>
            <a:ext cx="266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auhaus 93"/>
              </a:rPr>
              <a:t>Remember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8:01:34Z</dcterms:created>
  <dc:creator>Dr. Zeenat Zaidi</dc:creator>
  <dc:description/>
  <dc:language>en-US</dc:language>
  <cp:lastModifiedBy>Gamilah H. Al-Madani</cp:lastModifiedBy>
  <dcterms:modified xsi:type="dcterms:W3CDTF">2015-08-30T07:58:36Z</dcterms:modified>
  <cp:revision>142</cp:revision>
  <dc:subject>General Anatomy</dc:subject>
  <dc:title>Nervous System</dc:title>
</cp:coreProperties>
</file>