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3FE-A81B-4E23-8F20-0451BC84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B1B-B52E-4055-BDC7-E5D6B7016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7D5D-D3A4-4638-872E-9AA2FEB914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C34B-A4FE-4F94-BA57-A1E4E4C20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F158-2BFB-4867-AF54-7AD3A6C78F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 exa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478-8007-4B71-AC6B-4A91EDA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1DC-90CD-48BD-9087-62AAA3F0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D79-8786-4CA0-B334-62F71986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A7B-915E-407F-A6A7-3A8ED7DD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585-FEC7-4B98-8B4A-D7BE0100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219-22F8-4991-8F0C-EAA4AE40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627-6C03-41C5-9C31-DD53BAE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EE0-89BC-4DEE-BC74-E60CBDF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499F-766E-4B62-AD0F-D5C99FA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CAF6-8232-4634-ADDA-AE80B8A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6B30-0A58-492C-96FC-EE8B621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BF0-D024-4656-925F-C6757898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852-A787-4621-BE9E-3692141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0AF0-17FE-48C6-BD4F-C516F07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040-84B3-4287-984A-F96BA456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23B-6B3D-4264-9FC1-48ACD93C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DDA1-6ADD-49F7-BDCA-D8A5A8C8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C270-55B8-4278-8669-7F53FFA8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458A-41E4-4514-A594-90C722B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38CD-A6CE-48C9-B013-6C9D8816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AB83-54FB-4007-ADAF-0653C5A8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62F0-3102-4006-80AC-10FBA22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BE7-39FC-4BB3-9E99-B4B014D8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E8F1-065E-434E-8AC7-6FB69A53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25B2-CF04-483D-B32B-0D9ADAA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B893-4888-432E-A879-A2A2B24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B8CF-18C4-41F5-BCB5-90F0AF3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6C0E-9BB5-4AB9-B7E1-5204ECC5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195F-2366-4985-BA6C-89A0BBC8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B07B-4ED9-4294-B3EE-5B2A4DA0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7C04-B288-4142-8C75-11CCFF10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9DFA-64A6-4CDE-9C54-5443C77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2E6A-C4B0-4A2E-8D70-F97C8036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FE0-B188-4C3E-AE0E-A45C5BAB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2FA8-86F1-4D04-B19D-A402AE94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20B9-3F05-488D-B1B4-B2AA59A4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BE01-8C6E-442D-82F0-1D3D27C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0EF8-6299-41C3-AE69-167D94F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8390-D6AE-453D-AE7E-6FFB5ED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5F7D-A50B-497C-AEAF-F777CD8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2AEA-3BBD-4F79-8472-6D17ED2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2D25-E722-427B-AF2B-9C148755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0056-7515-452C-A205-9AC606A5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E90-3D45-4801-B98F-30866B34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F00-05AD-4C05-839B-49FEE21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300-938F-43FE-AB84-5C54CD5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564-D148-4481-B174-001761D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1AA-6C9B-4182-A982-21CB527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ACC-FE6C-405C-A47E-0384DA7B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0FA-134A-441D-BB68-0B4B8A7E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3AE8-E418-4D1B-9D51-EACCCD31C1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-</a:t>
            </a:r>
            <a:fld id="{D5D7A8FD-757D-45EC-A821-7FE91D2109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source=images&amp;cd=&amp;cad=rja&amp;docid=ROnV4G0Pxo87iM&amp;tbnid=jThjworZa_MO0M:&amp;ved=0CAgQjRwwAA&amp;url=http%3A%2F%2Fwww.pc.maricopa.edu%2FBiology%2Fpfinkenstadt%2FBIO201%2F201LessonBuilder%2FUnitFour%2FNervous_tissue%2Findex.html&amp;ei=1cEqUsGTCbOe7AaEhYHwCA&amp;psig=AFQjCNGjgpgbzZqERLd1n-7eTeiUUi0jXQ&amp;ust=1378620245300450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51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Rounded MT Bold"/>
              </a:rPr>
              <a:t>The Nervous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b11"/>
          <p:cNvPicPr/>
          <p:nvPr/>
        </p:nvPicPr>
        <p:blipFill>
          <a:blip r:embed="rId1"/>
          <a:stretch/>
        </p:blipFill>
        <p:spPr>
          <a:xfrm>
            <a:off x="3995640" y="476280"/>
            <a:ext cx="1224000" cy="504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"/>
          <p:cNvSpPr/>
          <p:nvPr/>
        </p:nvSpPr>
        <p:spPr>
          <a:xfrm>
            <a:off x="1692360" y="422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611280" y="1989000"/>
            <a:ext cx="201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ru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Cerebral hemisphe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6588000" y="3789360"/>
            <a:ext cx="2160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0"/>
          <p:cNvSpPr/>
          <p:nvPr/>
        </p:nvSpPr>
        <p:spPr>
          <a:xfrm>
            <a:off x="6300720" y="4797360"/>
            <a:ext cx="25923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ain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ulla oblong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39640" y="3284640"/>
            <a:ext cx="216072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encephal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lamus, Hypothalamus, Subthalamus &amp; Epithala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C:\Users\user\Pictures\111.jpg"/>
          <p:cNvPicPr/>
          <p:nvPr/>
        </p:nvPicPr>
        <p:blipFill>
          <a:blip r:embed="rId1"/>
          <a:stretch/>
        </p:blipFill>
        <p:spPr>
          <a:xfrm>
            <a:off x="2843280" y="2133720"/>
            <a:ext cx="3409920" cy="345600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13"/>
          <p:cNvSpPr/>
          <p:nvPr/>
        </p:nvSpPr>
        <p:spPr>
          <a:xfrm>
            <a:off x="2627280" y="2708280"/>
            <a:ext cx="1006560" cy="7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traight Connector 14"/>
          <p:cNvSpPr/>
          <p:nvPr/>
        </p:nvSpPr>
        <p:spPr>
          <a:xfrm flipV="1">
            <a:off x="2700360" y="3500280"/>
            <a:ext cx="1727280" cy="433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19"/>
          <p:cNvSpPr/>
          <p:nvPr/>
        </p:nvSpPr>
        <p:spPr>
          <a:xfrm flipH="1">
            <a:off x="5724360" y="4149720"/>
            <a:ext cx="936720" cy="231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826920" y="907920"/>
            <a:ext cx="7848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large mass of nervous tissue located in the cranial cavity. It has four major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ight Bracket 21"/>
          <p:cNvSpPr/>
          <p:nvPr/>
        </p:nvSpPr>
        <p:spPr>
          <a:xfrm rot="20547600">
            <a:off x="4862160" y="3622680"/>
            <a:ext cx="71280" cy="1436760"/>
          </a:xfrm>
          <a:custGeom>
            <a:avLst/>
            <a:gdLst>
              <a:gd name="textAreaLeft" fmla="*/ 0 w 71280"/>
              <a:gd name="textAreaRight" fmla="*/ 50040 w 71280"/>
              <a:gd name="textAreaTop" fmla="*/ 2880 h 1436760"/>
              <a:gd name="textAreaBottom" fmla="*/ 143388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4500720" y="400536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4643280" y="45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442764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25"/>
          <p:cNvSpPr/>
          <p:nvPr/>
        </p:nvSpPr>
        <p:spPr>
          <a:xfrm flipH="1" flipV="1">
            <a:off x="4932000" y="4365720"/>
            <a:ext cx="1368360" cy="79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C:\Documents and Settings\user\My Documents\My Pictures\corpus c.bmp"/>
          <p:cNvPicPr/>
          <p:nvPr/>
        </p:nvPicPr>
        <p:blipFill>
          <a:blip r:embed="rId1"/>
          <a:stretch/>
        </p:blipFill>
        <p:spPr>
          <a:xfrm>
            <a:off x="5219640" y="747720"/>
            <a:ext cx="3571920" cy="45338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0"/>
          <p:cNvSpPr/>
          <p:nvPr/>
        </p:nvSpPr>
        <p:spPr>
          <a:xfrm>
            <a:off x="6159600" y="3333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4" name="Straight Arrow Connector 15"/>
          <p:cNvCxnSpPr/>
          <p:nvPr/>
        </p:nvCxnSpPr>
        <p:spPr>
          <a:xfrm>
            <a:off x="6991200" y="691920"/>
            <a:ext cx="15120" cy="173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TextBox 19"/>
          <p:cNvSpPr/>
          <p:nvPr/>
        </p:nvSpPr>
        <p:spPr>
          <a:xfrm>
            <a:off x="7167600" y="20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20"/>
          <p:cNvSpPr/>
          <p:nvPr/>
        </p:nvSpPr>
        <p:spPr>
          <a:xfrm>
            <a:off x="54388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 rot="19797000">
            <a:off x="7119720" y="33174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95280" y="836640"/>
            <a:ext cx="4753080" cy="2663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rgest part of the brain, has two hemisphe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rebral hemispheres are connected by a thick bundle of nerve fiber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rface shows ridges of tissue,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yri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d by groove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l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Straight Arrow Connector 11"/>
          <p:cNvCxnSpPr/>
          <p:nvPr/>
        </p:nvCxnSpPr>
        <p:spPr>
          <a:xfrm flipH="1" flipV="1">
            <a:off x="8071920" y="4149360"/>
            <a:ext cx="216720" cy="720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Straight Arrow Connector 12"/>
          <p:cNvCxnSpPr/>
          <p:nvPr/>
        </p:nvCxnSpPr>
        <p:spPr>
          <a:xfrm flipH="1" flipV="1">
            <a:off x="7495920" y="4652640"/>
            <a:ext cx="79272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1" name="Straight Arrow Connector 13"/>
          <p:cNvCxnSpPr/>
          <p:nvPr/>
        </p:nvCxnSpPr>
        <p:spPr>
          <a:xfrm flipH="1" flipV="1">
            <a:off x="8214480" y="3212640"/>
            <a:ext cx="7380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2" name="TextBox 15"/>
          <p:cNvSpPr/>
          <p:nvPr/>
        </p:nvSpPr>
        <p:spPr>
          <a:xfrm>
            <a:off x="7999560" y="4797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lc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95280" y="3645000"/>
            <a:ext cx="3168720" cy="2232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d by deeper sulci, in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 lob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n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p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ip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57200" y="115920"/>
            <a:ext cx="785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17" descr="C:\Documents and Settings\user\My Documents\My Pictures\figure5-22.jpg"/>
          <p:cNvPicPr/>
          <p:nvPr/>
        </p:nvPicPr>
        <p:blipFill>
          <a:blip r:embed="rId6"/>
          <a:srcRect l="0" t="0" r="0" b="6015"/>
          <a:stretch/>
        </p:blipFill>
        <p:spPr>
          <a:xfrm>
            <a:off x="2700360" y="4292640"/>
            <a:ext cx="2448000" cy="22446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5"/>
          <p:cNvSpPr/>
          <p:nvPr/>
        </p:nvSpPr>
        <p:spPr>
          <a:xfrm rot="19797000">
            <a:off x="6972120" y="4398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"/>
          <p:cNvSpPr/>
          <p:nvPr/>
        </p:nvSpPr>
        <p:spPr>
          <a:xfrm rot="2286600">
            <a:off x="5824440" y="34862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OF THE CEREBRAL HEMI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3429000"/>
            <a:ext cx="8424720" cy="2952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most layer i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ray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er is located the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ite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osed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ber tr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ndles of nerve fibers), carrying impulses to and from the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deep within the white matter are masses of grey matter calle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al nucle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y help the motor cortex in the regulation of voluntary motor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8" descr="File0525a"/>
          <p:cNvPicPr/>
          <p:nvPr/>
        </p:nvPicPr>
        <p:blipFill>
          <a:blip r:embed="rId4"/>
          <a:srcRect l="0" t="35133" r="1253" b="16229"/>
          <a:stretch/>
        </p:blipFill>
        <p:spPr>
          <a:xfrm>
            <a:off x="1763640" y="765000"/>
            <a:ext cx="5616720" cy="2592720"/>
          </a:xfrm>
          <a:prstGeom prst="rect">
            <a:avLst/>
          </a:prstGeom>
          <a:ln w="0">
            <a:noFill/>
          </a:ln>
        </p:spPr>
      </p:pic>
      <p:cxnSp>
        <p:nvCxnSpPr>
          <p:cNvPr id="411" name="Straight Arrow Connector 5"/>
          <p:cNvCxnSpPr/>
          <p:nvPr/>
        </p:nvCxnSpPr>
        <p:spPr>
          <a:xfrm>
            <a:off x="4932000" y="980640"/>
            <a:ext cx="648360" cy="1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triangle" w="med"/>
          </a:ln>
        </p:spPr>
      </p:cxnSp>
      <p:sp>
        <p:nvSpPr>
          <p:cNvPr id="412" name="TextBox 6"/>
          <p:cNvSpPr/>
          <p:nvPr/>
        </p:nvSpPr>
        <p:spPr>
          <a:xfrm>
            <a:off x="558000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t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516720" y="1052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White mat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5940360" y="1773360"/>
            <a:ext cx="792360" cy="144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5" descr="File0526"/>
          <p:cNvPicPr/>
          <p:nvPr/>
        </p:nvPicPr>
        <p:blipFill>
          <a:blip r:embed="rId1"/>
          <a:stretch/>
        </p:blipFill>
        <p:spPr>
          <a:xfrm>
            <a:off x="395280" y="692280"/>
            <a:ext cx="497520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8"/>
          <p:cNvSpPr/>
          <p:nvPr/>
        </p:nvSpPr>
        <p:spPr>
          <a:xfrm>
            <a:off x="395280" y="3933720"/>
            <a:ext cx="4968720" cy="1984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cerebel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2 hemispheres and a convoluted surface. It has an outer cortex of gray matter and an inner region of white matter. It provid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coordination for body movements and helps to maintain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6" descr="C:\Documents and Settings\Zeenet\My Documents\My Pictures\neuroCerebellumSuperiorGrayBB702.gif"/>
          <p:cNvPicPr/>
          <p:nvPr/>
        </p:nvPicPr>
        <p:blipFill>
          <a:blip r:embed="rId2"/>
          <a:stretch/>
        </p:blipFill>
        <p:spPr>
          <a:xfrm>
            <a:off x="5435640" y="692280"/>
            <a:ext cx="3217680" cy="1873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Zeenet\My Documents\My Pictures\f15-22a_cerebellum_mids_c.jpg"/>
          <p:cNvPicPr/>
          <p:nvPr/>
        </p:nvPicPr>
        <p:blipFill>
          <a:blip r:embed="rId3"/>
          <a:srcRect l="0" t="11408" r="0" b="8775"/>
          <a:stretch/>
        </p:blipFill>
        <p:spPr>
          <a:xfrm>
            <a:off x="5435640" y="2708280"/>
            <a:ext cx="3268800" cy="3241800"/>
          </a:xfrm>
          <a:prstGeom prst="rect">
            <a:avLst/>
          </a:prstGeom>
          <a:ln w="0">
            <a:noFill/>
          </a:ln>
        </p:spPr>
      </p:pic>
      <p:sp>
        <p:nvSpPr>
          <p:cNvPr id="420" name="Oval 7"/>
          <p:cNvSpPr/>
          <p:nvPr/>
        </p:nvSpPr>
        <p:spPr>
          <a:xfrm>
            <a:off x="2771640" y="2276640"/>
            <a:ext cx="1152720" cy="93636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4920" y="837720"/>
            <a:ext cx="5040360" cy="575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two-way conduction pathway to the brain &amp; a major reflex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2-45 cm long, cylindrical in shape, lies within the vertebral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foramen magnum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L2 verteb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above with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medulla oblong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dal tapering end is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us medull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2 enlargements: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umbosac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s rise to 31 pairs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pinal ner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oup of spinal nerves at the end of the spinal cord is called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auda equina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3" descr="see65576_1201"/>
          <p:cNvPicPr/>
          <p:nvPr/>
        </p:nvPicPr>
        <p:blipFill>
          <a:blip r:embed="rId9"/>
          <a:stretch/>
        </p:blipFill>
        <p:spPr>
          <a:xfrm>
            <a:off x="5580000" y="1125360"/>
            <a:ext cx="335304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4" name="AutoShape 8"/>
          <p:cNvSpPr/>
          <p:nvPr/>
        </p:nvSpPr>
        <p:spPr>
          <a:xfrm>
            <a:off x="802800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7956720" y="4221000"/>
            <a:ext cx="792000" cy="370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796000" y="191628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565164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oss Section of 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762120"/>
            <a:ext cx="3095640" cy="41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pinal cord is incompletely divided into two equal part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short, shallow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n fissu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deep narrow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edian sept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composed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rey matt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centre surrounded by </a:t>
            </a:r>
            <a:r>
              <a:rPr b="1" lang="en-US" sz="2200" spc="-1" strike="noStrike">
                <a:solidFill>
                  <a:srgbClr val="85a3ff"/>
                </a:solidFill>
                <a:latin typeface="Arial"/>
              </a:rPr>
              <a:t>white m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55640" y="5013360"/>
            <a:ext cx="712944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angement of grey matter resembles the shape of the letter H, hav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s/colum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12" descr="C:\Users\Zeenat\Pictures\Figure_35_03_07.jpg"/>
          <p:cNvPicPr/>
          <p:nvPr/>
        </p:nvPicPr>
        <p:blipFill>
          <a:blip r:embed="rId2"/>
          <a:stretch/>
        </p:blipFill>
        <p:spPr>
          <a:xfrm>
            <a:off x="3492360" y="1484280"/>
            <a:ext cx="550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447012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NS IS PROTEC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Skull and the vertebral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ening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mbranes): 3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erebrospinal fl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n the subarachnoid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64000" y="4724280"/>
            <a:ext cx="345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r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out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rachnoid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id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i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nn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5" descr="File0529"/>
          <p:cNvPicPr/>
          <p:nvPr/>
        </p:nvPicPr>
        <p:blipFill>
          <a:blip r:embed="rId7"/>
          <a:srcRect l="0" t="6079" r="6688" b="12021"/>
          <a:stretch/>
        </p:blipFill>
        <p:spPr>
          <a:xfrm>
            <a:off x="611280" y="765000"/>
            <a:ext cx="8136000" cy="3872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11"/>
          <p:cNvSpPr/>
          <p:nvPr/>
        </p:nvSpPr>
        <p:spPr>
          <a:xfrm>
            <a:off x="8028000" y="2133720"/>
            <a:ext cx="574560" cy="4395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2"/>
          <p:cNvSpPr/>
          <p:nvPr/>
        </p:nvSpPr>
        <p:spPr>
          <a:xfrm>
            <a:off x="7093080" y="2565360"/>
            <a:ext cx="1295280" cy="2383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>
            <a:off x="7020000" y="2781360"/>
            <a:ext cx="863640" cy="208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9" name="Straight Arrow Connector 9"/>
          <p:cNvCxnSpPr/>
          <p:nvPr/>
        </p:nvCxnSpPr>
        <p:spPr>
          <a:xfrm flipV="1">
            <a:off x="4427640" y="5444640"/>
            <a:ext cx="1008720" cy="1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Straight Arrow Connector 10"/>
          <p:cNvCxnSpPr/>
          <p:nvPr/>
        </p:nvCxnSpPr>
        <p:spPr>
          <a:xfrm>
            <a:off x="4427280" y="5589360"/>
            <a:ext cx="937080" cy="21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Straight Arrow Connector 11"/>
          <p:cNvCxnSpPr/>
          <p:nvPr/>
        </p:nvCxnSpPr>
        <p:spPr>
          <a:xfrm>
            <a:off x="4427280" y="5589720"/>
            <a:ext cx="937080" cy="5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2" name="AutoShape 11"/>
          <p:cNvSpPr/>
          <p:nvPr/>
        </p:nvSpPr>
        <p:spPr>
          <a:xfrm>
            <a:off x="684360" y="3500280"/>
            <a:ext cx="1223640" cy="439920"/>
          </a:xfrm>
          <a:prstGeom prst="roundRect">
            <a:avLst>
              <a:gd name="adj" fmla="val 16667"/>
            </a:avLst>
          </a:prstGeom>
          <a:solidFill>
            <a:srgbClr val="00b050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13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8" descr="File0532"/>
          <p:cNvPicPr/>
          <p:nvPr/>
        </p:nvPicPr>
        <p:blipFill>
          <a:blip r:embed="rId1"/>
          <a:stretch/>
        </p:blipFill>
        <p:spPr>
          <a:xfrm>
            <a:off x="755640" y="674640"/>
            <a:ext cx="7561440" cy="6067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9"/>
          <p:cNvSpPr/>
          <p:nvPr/>
        </p:nvSpPr>
        <p:spPr>
          <a:xfrm>
            <a:off x="324000" y="907920"/>
            <a:ext cx="2174760" cy="1923480"/>
          </a:xfrm>
          <a:prstGeom prst="rect">
            <a:avLst/>
          </a:prstGeom>
          <a:gradFill rotWithShape="0">
            <a:gsLst>
              <a:gs pos="0">
                <a:srgbClr val="182f76">
                  <a:alpha val="53333"/>
                </a:srgbClr>
              </a:gs>
              <a:gs pos="100000">
                <a:srgbClr val="33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rodu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oroid plex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de the ventricles of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5708520" y="415116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539640" y="4149720"/>
            <a:ext cx="3024360" cy="2533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CSF drains from the ventricles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barachoid spa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 the brain and spinal cord. A little amount flows down in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ntral can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the spinal c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5"/>
          <p:cNvSpPr/>
          <p:nvPr/>
        </p:nvSpPr>
        <p:spPr>
          <a:xfrm>
            <a:off x="5343480" y="4684680"/>
            <a:ext cx="905040" cy="3999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686480" y="4071960"/>
            <a:ext cx="4680" cy="8240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18"/>
          <p:cNvSpPr/>
          <p:nvPr/>
        </p:nvSpPr>
        <p:spPr>
          <a:xfrm>
            <a:off x="4732200" y="3833640"/>
            <a:ext cx="768600" cy="255600"/>
          </a:xfrm>
          <a:custGeom>
            <a:avLst/>
            <a:gdLst>
              <a:gd name="textAreaLeft" fmla="*/ 0 w 768600"/>
              <a:gd name="textAreaRight" fmla="*/ 768960 w 7686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484" h="161">
                <a:moveTo>
                  <a:pt x="4" y="138"/>
                </a:moveTo>
                <a:cubicBezTo>
                  <a:pt x="2" y="149"/>
                  <a:pt x="0" y="161"/>
                  <a:pt x="43" y="156"/>
                </a:cubicBezTo>
                <a:cubicBezTo>
                  <a:pt x="86" y="151"/>
                  <a:pt x="192" y="131"/>
                  <a:pt x="265" y="105"/>
                </a:cubicBezTo>
                <a:cubicBezTo>
                  <a:pt x="338" y="79"/>
                  <a:pt x="449" y="20"/>
                  <a:pt x="48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Freeform 19"/>
          <p:cNvSpPr/>
          <p:nvPr/>
        </p:nvSpPr>
        <p:spPr>
          <a:xfrm>
            <a:off x="5700600" y="1671480"/>
            <a:ext cx="147600" cy="176400"/>
          </a:xfrm>
          <a:custGeom>
            <a:avLst/>
            <a:gdLst/>
            <a:ahLst/>
            <a:rect l="l" t="t" r="r" b="b"/>
            <a:pathLst>
              <a:path w="93" h="111">
                <a:moveTo>
                  <a:pt x="0" y="0"/>
                </a:moveTo>
                <a:cubicBezTo>
                  <a:pt x="16" y="13"/>
                  <a:pt x="33" y="27"/>
                  <a:pt x="48" y="45"/>
                </a:cubicBezTo>
                <a:cubicBezTo>
                  <a:pt x="63" y="63"/>
                  <a:pt x="86" y="105"/>
                  <a:pt x="93" y="1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20"/>
          <p:cNvSpPr/>
          <p:nvPr/>
        </p:nvSpPr>
        <p:spPr>
          <a:xfrm>
            <a:off x="4662360" y="1138320"/>
            <a:ext cx="209520" cy="33120"/>
          </a:xfrm>
          <a:custGeom>
            <a:avLst/>
            <a:gdLst>
              <a:gd name="textAreaLeft" fmla="*/ 0 w 209520"/>
              <a:gd name="textAreaRight" fmla="*/ 209880 w 2095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32" h="21">
                <a:moveTo>
                  <a:pt x="0" y="21"/>
                </a:moveTo>
                <a:cubicBezTo>
                  <a:pt x="10" y="10"/>
                  <a:pt x="20" y="0"/>
                  <a:pt x="42" y="0"/>
                </a:cubicBezTo>
                <a:cubicBezTo>
                  <a:pt x="64" y="0"/>
                  <a:pt x="120" y="17"/>
                  <a:pt x="132" y="2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21"/>
          <p:cNvSpPr/>
          <p:nvPr/>
        </p:nvSpPr>
        <p:spPr>
          <a:xfrm>
            <a:off x="4425840" y="2882880"/>
            <a:ext cx="209520" cy="596880"/>
          </a:xfrm>
          <a:custGeom>
            <a:avLst/>
            <a:gdLst>
              <a:gd name="textAreaLeft" fmla="*/ 0 w 209520"/>
              <a:gd name="textAreaRight" fmla="*/ 209880 w 209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32" h="376">
                <a:moveTo>
                  <a:pt x="0" y="0"/>
                </a:moveTo>
                <a:cubicBezTo>
                  <a:pt x="21" y="60"/>
                  <a:pt x="42" y="121"/>
                  <a:pt x="64" y="184"/>
                </a:cubicBezTo>
                <a:cubicBezTo>
                  <a:pt x="86" y="247"/>
                  <a:pt x="122" y="345"/>
                  <a:pt x="132" y="37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5580000" y="5084640"/>
            <a:ext cx="2448000" cy="161856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drai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al  sin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arachnoid vil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ipheral 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41440" y="3355560"/>
            <a:ext cx="39592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an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&amp; numbered from 1-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Content Placeholder 2"/>
          <p:cNvSpPr/>
          <p:nvPr/>
        </p:nvSpPr>
        <p:spPr>
          <a:xfrm>
            <a:off x="1042920" y="1125360"/>
            <a:ext cx="7264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s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Content Placeholder 2"/>
          <p:cNvSpPr/>
          <p:nvPr/>
        </p:nvSpPr>
        <p:spPr>
          <a:xfrm>
            <a:off x="4572000" y="2492280"/>
            <a:ext cx="41054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p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spinal co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nd numbered according to the region of the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9" name="Straight Arrow Connector 8"/>
          <p:cNvCxnSpPr/>
          <p:nvPr/>
        </p:nvCxnSpPr>
        <p:spPr>
          <a:xfrm>
            <a:off x="3492000" y="2133720"/>
            <a:ext cx="1008720" cy="7912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60" name="Straight Arrow Connector 9"/>
          <p:cNvCxnSpPr/>
          <p:nvPr/>
        </p:nvCxnSpPr>
        <p:spPr>
          <a:xfrm flipH="1">
            <a:off x="2771280" y="2133360"/>
            <a:ext cx="721440" cy="1151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NS04"/>
          <p:cNvPicPr/>
          <p:nvPr/>
        </p:nvPicPr>
        <p:blipFill>
          <a:blip r:embed="rId1"/>
          <a:stretch/>
        </p:blipFill>
        <p:spPr>
          <a:xfrm>
            <a:off x="4572000" y="620640"/>
            <a:ext cx="4300560" cy="576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62" name="Text Box 5"/>
          <p:cNvSpPr/>
          <p:nvPr/>
        </p:nvSpPr>
        <p:spPr>
          <a:xfrm>
            <a:off x="709308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26920" y="404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539640" y="1052640"/>
            <a:ext cx="3961080" cy="521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pairs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geminal n. (5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acial n. (7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lossopharyngeal n. (9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us n. (10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airs are 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ulomotor n. (3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ochlear n. (4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ducent n. (6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ssory n. (11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poglossal n. (12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pairs are sens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lfactory n. (1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c n. (2n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tibulocochlear n. (8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the end of the lecture, the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ubdivisions of the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s: grey matter, white matter, nucleus, ganglion, tract and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parts of the b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external and internal features of spinal c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parts and distribution of the sp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 ‘dermatom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tructures protecting the central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inal Nerves and Nerve Plex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78920" y="1052280"/>
            <a:ext cx="4038840" cy="5545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is attached b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wo roots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(sensory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(mo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sal root bear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ory ganglion (D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exits from the intervertebral foramen and divides into a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and ventral 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mi contain both sensory and motor f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3" descr="C:\Documents and Settings\user\My Documents\My Pictures\800px-Spinal_nerve.svg.png"/>
          <p:cNvPicPr/>
          <p:nvPr/>
        </p:nvPicPr>
        <p:blipFill>
          <a:blip r:embed="rId7"/>
          <a:stretch/>
        </p:blipFill>
        <p:spPr>
          <a:xfrm>
            <a:off x="4284720" y="3860640"/>
            <a:ext cx="4370400" cy="27291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4"/>
          <p:cNvSpPr/>
          <p:nvPr/>
        </p:nvSpPr>
        <p:spPr>
          <a:xfrm>
            <a:off x="6156360" y="4076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4572000" y="55897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ntr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4500720" y="4221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ors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11" descr="C:\Users\user\Pictures\Picture1hgb.jpg"/>
          <p:cNvPicPr/>
          <p:nvPr/>
        </p:nvPicPr>
        <p:blipFill>
          <a:blip r:embed="rId8"/>
          <a:stretch/>
        </p:blipFill>
        <p:spPr>
          <a:xfrm>
            <a:off x="5219640" y="907920"/>
            <a:ext cx="261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Content Placeholder 2"/>
          <p:cNvSpPr/>
          <p:nvPr/>
        </p:nvSpPr>
        <p:spPr>
          <a:xfrm>
            <a:off x="179280" y="260280"/>
            <a:ext cx="4032360" cy="3889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istributed individually, supply the skin and muscles of the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xus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in thoracic region where the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costal ner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nterior part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5" descr="C:\Users\user\Pictures\asa.png"/>
          <p:cNvPicPr/>
          <p:nvPr/>
        </p:nvPicPr>
        <p:blipFill>
          <a:blip r:embed="rId4"/>
          <a:srcRect l="7408" t="1287" r="14816" b="999"/>
          <a:stretch/>
        </p:blipFill>
        <p:spPr>
          <a:xfrm>
            <a:off x="4356000" y="333360"/>
            <a:ext cx="4537080" cy="568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C:\Users\user\Pictures\Picture1hgb.jpg"/>
          <p:cNvPicPr/>
          <p:nvPr/>
        </p:nvPicPr>
        <p:blipFill>
          <a:blip r:embed="rId5"/>
          <a:stretch/>
        </p:blipFill>
        <p:spPr>
          <a:xfrm>
            <a:off x="971640" y="4221000"/>
            <a:ext cx="237636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rmat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663640" cy="288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gment of skin supplied b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gmental spinal ner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a 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ermato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10" descr="see65576_1214"/>
          <p:cNvPicPr/>
          <p:nvPr/>
        </p:nvPicPr>
        <p:blipFill>
          <a:blip r:embed="rId2"/>
          <a:stretch/>
        </p:blipFill>
        <p:spPr>
          <a:xfrm>
            <a:off x="3276720" y="1052640"/>
            <a:ext cx="5560920" cy="46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thumb_flower16"/>
          <p:cNvPicPr/>
          <p:nvPr/>
        </p:nvPicPr>
        <p:blipFill>
          <a:blip r:embed="rId1"/>
          <a:srcRect l="16289" t="3075" r="14286" b="8317"/>
          <a:stretch/>
        </p:blipFill>
        <p:spPr>
          <a:xfrm>
            <a:off x="2214720" y="857160"/>
            <a:ext cx="5000400" cy="4786560"/>
          </a:xfrm>
          <a:prstGeom prst="rect">
            <a:avLst/>
          </a:prstGeom>
          <a:ln w="0">
            <a:noFill/>
          </a:ln>
        </p:spPr>
      </p:pic>
      <p:sp>
        <p:nvSpPr>
          <p:cNvPr id="479" name="WordArt 6"/>
          <p:cNvSpPr txBox="1"/>
          <p:nvPr/>
        </p:nvSpPr>
        <p:spPr>
          <a:xfrm>
            <a:off x="2500200" y="2714760"/>
            <a:ext cx="44006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tisse ITC"/>
              </a:rPr>
              <a:t>Thank 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tisse ITC"/>
              <a:ea typeface="Matiss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50560" y="189000"/>
            <a:ext cx="4608360" cy="6454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rvous system h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f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ection of sensory inpu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es changes occurring inside and outside the body by using sensory receptors. These chang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ocesses, analyses and interprets these changes and makes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ffects a respon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ctivating muscles or glands (effectors) vi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or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File0514"/>
          <p:cNvPicPr/>
          <p:nvPr/>
        </p:nvPicPr>
        <p:blipFill>
          <a:blip r:embed="rId3"/>
          <a:stretch/>
        </p:blipFill>
        <p:spPr>
          <a:xfrm>
            <a:off x="4859280" y="1773360"/>
            <a:ext cx="398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File0517"/>
          <p:cNvPicPr/>
          <p:nvPr/>
        </p:nvPicPr>
        <p:blipFill>
          <a:blip r:embed="rId1"/>
          <a:stretch/>
        </p:blipFill>
        <p:spPr>
          <a:xfrm>
            <a:off x="4572000" y="692280"/>
            <a:ext cx="3816360" cy="5905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ctur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3313080" cy="3600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Central Nervous System (CNS)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&amp;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eripheral Nervous System (PNS)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es (cranial, spinal) &amp; gang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643280" y="1341360"/>
            <a:ext cx="474840" cy="647640"/>
          </a:xfrm>
          <a:custGeom>
            <a:avLst/>
            <a:gdLst>
              <a:gd name="textAreaLeft" fmla="*/ 23040 w 474840"/>
              <a:gd name="textAreaRight" fmla="*/ 451800 w 47484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29455">
                <a:moveTo>
                  <a:pt x="3600" y="0"/>
                </a:moveTo>
                <a:arcTo wR="3600" hR="3600" stAng="16200000" swAng="-5400000"/>
                <a:lnTo>
                  <a:pt x="0" y="25855"/>
                </a:lnTo>
                <a:arcTo wR="3600" hR="3600" stAng="10800000" swAng="-5400000"/>
                <a:lnTo>
                  <a:pt x="18000" y="2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7667640" y="2349360"/>
            <a:ext cx="587520" cy="648000"/>
          </a:xfrm>
          <a:custGeom>
            <a:avLst/>
            <a:gdLst>
              <a:gd name="textAreaLeft" fmla="*/ 28440 w 587520"/>
              <a:gd name="textAreaRight" fmla="*/ 559080 w 587520"/>
              <a:gd name="textAreaTop" fmla="*/ 28440 h 648000"/>
              <a:gd name="textAreaBottom" fmla="*/ 619560 h 648000"/>
            </a:gdLst>
            <a:ahLst/>
            <a:rect l="textAreaLeft" t="textAreaTop" r="textAreaRight" b="textAreaBottom"/>
            <a:pathLst>
              <a:path w="21600" h="23822">
                <a:moveTo>
                  <a:pt x="3600" y="0"/>
                </a:moveTo>
                <a:arcTo wR="3600" hR="3600" stAng="16200000" swAng="-5400000"/>
                <a:lnTo>
                  <a:pt x="0" y="20222"/>
                </a:lnTo>
                <a:arcTo wR="3600" hR="3600" stAng="10800000" swAng="-5400000"/>
                <a:lnTo>
                  <a:pt x="18000" y="2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5219640" y="1700280"/>
            <a:ext cx="474840" cy="43344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5219640" y="1197000"/>
            <a:ext cx="474840" cy="2872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7236000" y="3716280"/>
            <a:ext cx="474480" cy="4334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7020000" y="1197000"/>
            <a:ext cx="474480" cy="4316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8920" y="765000"/>
            <a:ext cx="352908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sory/Motor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c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pc.maricopa.edu/Biology/pfinkenstadt/BIO201/201LessonBuilder/UnitFour/Nervous_tissue/functional%20divisi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341360"/>
            <a:ext cx="7417080" cy="4845240"/>
          </a:xfrm>
          <a:prstGeom prst="rect">
            <a:avLst/>
          </a:prstGeom>
          <a:ln w="0">
            <a:noFill/>
          </a:ln>
        </p:spPr>
      </p:pic>
      <p:sp>
        <p:nvSpPr>
          <p:cNvPr id="350" name="Content Placeholder 2"/>
          <p:cNvSpPr/>
          <p:nvPr/>
        </p:nvSpPr>
        <p:spPr>
          <a:xfrm>
            <a:off x="3780000" y="765000"/>
            <a:ext cx="518472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atic/Autonomi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Viscera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Zeenat\Pictures\neuron.JPG"/>
          <p:cNvPicPr/>
          <p:nvPr/>
        </p:nvPicPr>
        <p:blipFill>
          <a:blip r:embed="rId1"/>
          <a:stretch/>
        </p:blipFill>
        <p:spPr>
          <a:xfrm>
            <a:off x="971640" y="1268280"/>
            <a:ext cx="7318440" cy="460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3"/>
          <p:cNvSpPr/>
          <p:nvPr/>
        </p:nvSpPr>
        <p:spPr>
          <a:xfrm>
            <a:off x="539640" y="260280"/>
            <a:ext cx="7921800" cy="719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rvous tissue consists of nerve cells (neurons) and supporting (neuroglia)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622764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rve fi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4" name="Straight Arrow Connector 8"/>
          <p:cNvCxnSpPr/>
          <p:nvPr/>
        </p:nvCxnSpPr>
        <p:spPr>
          <a:xfrm>
            <a:off x="2268360" y="2133360"/>
            <a:ext cx="43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9"/>
          <p:cNvCxnSpPr/>
          <p:nvPr/>
        </p:nvCxnSpPr>
        <p:spPr>
          <a:xfrm>
            <a:off x="3924000" y="3860280"/>
            <a:ext cx="7196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10"/>
          <p:cNvCxnSpPr/>
          <p:nvPr/>
        </p:nvCxnSpPr>
        <p:spPr>
          <a:xfrm flipH="1" flipV="1">
            <a:off x="3419280" y="4149360"/>
            <a:ext cx="73440" cy="5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11"/>
          <p:cNvCxnSpPr/>
          <p:nvPr/>
        </p:nvCxnSpPr>
        <p:spPr>
          <a:xfrm flipV="1">
            <a:off x="1619280" y="4076280"/>
            <a:ext cx="505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12"/>
          <p:cNvSpPr/>
          <p:nvPr/>
        </p:nvSpPr>
        <p:spPr>
          <a:xfrm>
            <a:off x="2987640" y="54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multipolar neu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1280" y="907920"/>
            <a:ext cx="7921440" cy="43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ous tissue is organiz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rcRect l="0" t="1017" r="0" b="12454"/>
          <a:stretch/>
        </p:blipFill>
        <p:spPr>
          <a:xfrm>
            <a:off x="1187280" y="2997360"/>
            <a:ext cx="6696360" cy="34844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8"/>
          <p:cNvSpPr/>
          <p:nvPr/>
        </p:nvSpPr>
        <p:spPr>
          <a:xfrm>
            <a:off x="684360" y="1628640"/>
            <a:ext cx="3382920" cy="131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Grey matt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contain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 bodies &amp; the short 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4572000" y="1628640"/>
            <a:ext cx="38163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White matter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ntains the lo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 cell bodies)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1332000" y="5877000"/>
            <a:ext cx="647640" cy="216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"/>
          <p:cNvSpPr/>
          <p:nvPr/>
        </p:nvSpPr>
        <p:spPr>
          <a:xfrm>
            <a:off x="7380360" y="4292640"/>
            <a:ext cx="431640" cy="28872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87280" y="1844640"/>
            <a:ext cx="27370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cl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63640" y="4365720"/>
            <a:ext cx="2448000" cy="1604520"/>
          </a:xfrm>
          <a:prstGeom prst="rect">
            <a:avLst/>
          </a:prstGeom>
          <a:solidFill>
            <a:srgbClr val="d6e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ng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http://upload.wikimedia.org/wikipedia/commons/thumb/c/c0/Medulla_spinalis_-_Substantia_grisea_-_English.svg/400px-Medulla_spinalis_-_Substantia_grisea_-_English.svg.png"/>
          <p:cNvPicPr/>
          <p:nvPr/>
        </p:nvPicPr>
        <p:blipFill>
          <a:blip r:embed="rId1"/>
          <a:stretch/>
        </p:blipFill>
        <p:spPr>
          <a:xfrm>
            <a:off x="3995640" y="620640"/>
            <a:ext cx="4176720" cy="291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68" name="Picture 8" descr="http://www.humanneurophysiology.com/images/fig-1.gif"/>
          <p:cNvPicPr/>
          <p:nvPr/>
        </p:nvPicPr>
        <p:blipFill>
          <a:blip r:embed="rId2"/>
          <a:stretch/>
        </p:blipFill>
        <p:spPr>
          <a:xfrm>
            <a:off x="4211640" y="3645000"/>
            <a:ext cx="3330720" cy="2952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369" name="TextBox 12"/>
          <p:cNvSpPr/>
          <p:nvPr/>
        </p:nvSpPr>
        <p:spPr>
          <a:xfrm>
            <a:off x="395280" y="62064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Straight Arrow Connector 14"/>
          <p:cNvCxnSpPr/>
          <p:nvPr/>
        </p:nvCxnSpPr>
        <p:spPr>
          <a:xfrm flipH="1" flipV="1">
            <a:off x="5940000" y="544464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Straight Arrow Connector 15"/>
          <p:cNvCxnSpPr/>
          <p:nvPr/>
        </p:nvCxnSpPr>
        <p:spPr>
          <a:xfrm flipH="1" flipV="1">
            <a:off x="5940000" y="479700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2050920" y="2060640"/>
            <a:ext cx="27352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979640" y="4149720"/>
            <a:ext cx="1944720" cy="2189160"/>
          </a:xfrm>
          <a:prstGeom prst="rect">
            <a:avLst/>
          </a:prstGeom>
          <a:solidFill>
            <a:srgbClr val="d6e0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10" descr="http://www.health.com/health/static/hw/media/medical/hw/hwkb17_032_001.jpg"/>
          <p:cNvPicPr/>
          <p:nvPr/>
        </p:nvPicPr>
        <p:blipFill>
          <a:blip r:embed="rId1"/>
          <a:srcRect l="8216" t="0" r="1397" b="6765"/>
          <a:stretch/>
        </p:blipFill>
        <p:spPr>
          <a:xfrm>
            <a:off x="3995640" y="4005360"/>
            <a:ext cx="3148200" cy="244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375" name="Picture 14" descr="http://img.tfd.com/MosbyMD/thumb/optic_nerve.jpg"/>
          <p:cNvPicPr/>
          <p:nvPr/>
        </p:nvPicPr>
        <p:blipFill>
          <a:blip r:embed="rId2"/>
          <a:stretch/>
        </p:blipFill>
        <p:spPr>
          <a:xfrm>
            <a:off x="4859280" y="907920"/>
            <a:ext cx="3049560" cy="295272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376" name="TextBox 12"/>
          <p:cNvSpPr/>
          <p:nvPr/>
        </p:nvSpPr>
        <p:spPr>
          <a:xfrm>
            <a:off x="395280" y="98100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8:01:34Z</dcterms:created>
  <dc:creator>Dr. Zeenat Zaidi</dc:creator>
  <dc:description/>
  <dc:language>en-US</dc:language>
  <cp:lastModifiedBy>Gamilah H. Al-Madani</cp:lastModifiedBy>
  <dcterms:modified xsi:type="dcterms:W3CDTF">2015-08-30T07:58:36Z</dcterms:modified>
  <cp:revision>142</cp:revision>
  <dc:subject>General Anatomy</dc:subject>
  <dc:title>Nervous System</dc:title>
</cp:coreProperties>
</file>