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9.gif" ContentType="image/gif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0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06FB-4FD8-45CA-8165-BDE5F5FD8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6663-CB18-424E-AE85-46C19153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5334-F633-4462-AF94-2A998FDDC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BD2B-A225-407D-958C-15ED022BB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342F-1A33-4A3B-92EF-8E762696F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5317-1B39-40F6-8C87-A10CCEA3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F2813-8202-4D02-A375-99A20F0A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ADC4-E9B0-4F56-BBD8-4B345F7E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A8459-4A52-4D0B-BC7C-33436680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A260-6907-4A60-8A2B-D3607B72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5E1A-DCD8-420A-A479-A05B6057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86DE-9329-46C1-B4F6-138975E3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94E43-02FD-43CB-B539-EAEA4094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8F19-137B-4FA3-AEDC-0A5BD866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DBE2F-4975-46E8-937A-3F6D07C4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515D9-9164-42F4-8854-457E6E05C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D39C-8E8F-4473-A6E4-420E9FCBD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8DC1-6916-4DF1-9282-8AC4DD62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D379-BCE9-4AF9-9B84-789BF95B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7D5D-545D-4341-B35A-30D20DDB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76C4-A088-4524-AC47-127C4A95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89E0-D56B-478D-988C-20A1A533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6B73-5EEA-470E-9764-1A860049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6243-AB6C-43B3-9919-686D540C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DCBA-5635-49A7-99CF-E317F91E28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3516-E8FC-4A30-9883-B32A1A6FE2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3640" y="1628640"/>
            <a:ext cx="8445240" cy="182880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nomic Nervous System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2" descr="C:\Documents and Settings\user\My Documents\My Pictures\BISMILLAH\Bismillah_blue.jpg"/>
          <p:cNvPicPr/>
          <p:nvPr/>
        </p:nvPicPr>
        <p:blipFill>
          <a:blip r:embed="rId1"/>
          <a:stretch/>
        </p:blipFill>
        <p:spPr>
          <a:xfrm>
            <a:off x="4211640" y="189000"/>
            <a:ext cx="1081080" cy="468360"/>
          </a:xfrm>
          <a:prstGeom prst="rect">
            <a:avLst/>
          </a:prstGeom>
          <a:ln w="0">
            <a:noFill/>
          </a:ln>
        </p:spPr>
      </p:pic>
      <p:sp>
        <p:nvSpPr>
          <p:cNvPr id="164" name="TextBox 1"/>
          <p:cNvSpPr/>
          <p:nvPr/>
        </p:nvSpPr>
        <p:spPr>
          <a:xfrm>
            <a:off x="1258920" y="4076640"/>
            <a:ext cx="662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R JAMILA EL MEDAN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3"/>
          <p:cNvSpPr/>
          <p:nvPr/>
        </p:nvSpPr>
        <p:spPr>
          <a:xfrm>
            <a:off x="468360" y="1557360"/>
            <a:ext cx="3887640" cy="295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n in the ventral roots of the spinal ner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vel through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pinal nerve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en join the sympathetic chain via th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ite rami communican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WR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Content Placeholder 3" descr="autonomic 003.jpg"/>
          <p:cNvPicPr/>
          <p:nvPr/>
        </p:nvPicPr>
        <p:blipFill>
          <a:blip r:embed="rId3"/>
          <a:srcRect l="9790" t="6366" r="7716" b="0"/>
          <a:stretch/>
        </p:blipFill>
        <p:spPr>
          <a:xfrm>
            <a:off x="4427640" y="981000"/>
            <a:ext cx="4476600" cy="446400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30" name="Rectangle 3"/>
          <p:cNvSpPr/>
          <p:nvPr/>
        </p:nvSpPr>
        <p:spPr>
          <a:xfrm>
            <a:off x="73800" y="404640"/>
            <a:ext cx="428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Preganglionic fi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Freeform 4"/>
          <p:cNvSpPr/>
          <p:nvPr/>
        </p:nvSpPr>
        <p:spPr>
          <a:xfrm>
            <a:off x="5319720" y="2732040"/>
            <a:ext cx="2398680" cy="1239840"/>
          </a:xfrm>
          <a:custGeom>
            <a:avLst/>
            <a:gdLst/>
            <a:ahLst/>
            <a:rect l="l" t="t" r="r" b="b"/>
            <a:pathLst>
              <a:path w="2397457" h="1239672">
                <a:moveTo>
                  <a:pt x="2275" y="147851"/>
                </a:moveTo>
                <a:cubicBezTo>
                  <a:pt x="1137" y="230875"/>
                  <a:pt x="0" y="313899"/>
                  <a:pt x="2275" y="379863"/>
                </a:cubicBezTo>
                <a:cubicBezTo>
                  <a:pt x="4550" y="445827"/>
                  <a:pt x="1" y="495869"/>
                  <a:pt x="15923" y="543636"/>
                </a:cubicBezTo>
                <a:cubicBezTo>
                  <a:pt x="31845" y="591403"/>
                  <a:pt x="20472" y="691487"/>
                  <a:pt x="97809" y="666466"/>
                </a:cubicBezTo>
                <a:cubicBezTo>
                  <a:pt x="175146" y="641445"/>
                  <a:pt x="327547" y="491319"/>
                  <a:pt x="479947" y="393510"/>
                </a:cubicBezTo>
                <a:cubicBezTo>
                  <a:pt x="632347" y="295701"/>
                  <a:pt x="846161" y="143301"/>
                  <a:pt x="1012209" y="79612"/>
                </a:cubicBezTo>
                <a:cubicBezTo>
                  <a:pt x="1178257" y="15923"/>
                  <a:pt x="1323833" y="0"/>
                  <a:pt x="1476233" y="11373"/>
                </a:cubicBezTo>
                <a:cubicBezTo>
                  <a:pt x="1628633" y="22746"/>
                  <a:pt x="1783308" y="90985"/>
                  <a:pt x="1926609" y="147851"/>
                </a:cubicBezTo>
                <a:cubicBezTo>
                  <a:pt x="2069910" y="204717"/>
                  <a:pt x="2274627" y="252484"/>
                  <a:pt x="2336042" y="352567"/>
                </a:cubicBezTo>
                <a:cubicBezTo>
                  <a:pt x="2397457" y="452650"/>
                  <a:pt x="2342866" y="636895"/>
                  <a:pt x="2295099" y="748352"/>
                </a:cubicBezTo>
                <a:cubicBezTo>
                  <a:pt x="2247332" y="859809"/>
                  <a:pt x="2126776" y="948519"/>
                  <a:pt x="2049439" y="1021307"/>
                </a:cubicBezTo>
                <a:cubicBezTo>
                  <a:pt x="1972102" y="1094095"/>
                  <a:pt x="1906137" y="1148686"/>
                  <a:pt x="1831075" y="1185080"/>
                </a:cubicBezTo>
                <a:cubicBezTo>
                  <a:pt x="1756013" y="1221474"/>
                  <a:pt x="1677538" y="1230573"/>
                  <a:pt x="1599063" y="12396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324000" y="189000"/>
            <a:ext cx="4464000" cy="6480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in the sympathetic chain, these fibers m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cend, descend or remain at the same level to synapse with neurons (postganglionic) of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aravertebral gangli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ed in sympathetic ch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ve the sympathetic chain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out synapse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reach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eliac &amp; mesenteric gangli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round branches of abdominal aorta) to synapse with their neurons (postganglionic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Content Placeholder 3" descr="autonomic 003.jpg"/>
          <p:cNvPicPr/>
          <p:nvPr/>
        </p:nvPicPr>
        <p:blipFill>
          <a:blip r:embed="rId2"/>
          <a:srcRect l="9790" t="6366" r="7716" b="0"/>
          <a:stretch/>
        </p:blipFill>
        <p:spPr>
          <a:xfrm>
            <a:off x="4861080" y="1197000"/>
            <a:ext cx="4114800" cy="410364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34" name="Freeform 4"/>
          <p:cNvSpPr/>
          <p:nvPr/>
        </p:nvSpPr>
        <p:spPr>
          <a:xfrm>
            <a:off x="6826320" y="1882800"/>
            <a:ext cx="393480" cy="2047680"/>
          </a:xfrm>
          <a:custGeom>
            <a:avLst/>
            <a:gdLst/>
            <a:ahLst/>
            <a:rect l="l" t="t" r="r" b="b"/>
            <a:pathLst>
              <a:path w="393511" h="2047165">
                <a:moveTo>
                  <a:pt x="393511" y="2047164"/>
                </a:moveTo>
                <a:cubicBezTo>
                  <a:pt x="275230" y="2047164"/>
                  <a:pt x="156950" y="2047165"/>
                  <a:pt x="93260" y="2019869"/>
                </a:cubicBezTo>
                <a:cubicBezTo>
                  <a:pt x="29570" y="1992574"/>
                  <a:pt x="0" y="1978925"/>
                  <a:pt x="11373" y="1883391"/>
                </a:cubicBezTo>
                <a:cubicBezTo>
                  <a:pt x="22746" y="1787857"/>
                  <a:pt x="125105" y="1567218"/>
                  <a:pt x="161499" y="1446663"/>
                </a:cubicBezTo>
                <a:cubicBezTo>
                  <a:pt x="197893" y="1326108"/>
                  <a:pt x="220640" y="1401171"/>
                  <a:pt x="229738" y="1160060"/>
                </a:cubicBezTo>
                <a:cubicBezTo>
                  <a:pt x="238837" y="918950"/>
                  <a:pt x="227463" y="459475"/>
                  <a:pt x="21609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Freeform 5"/>
          <p:cNvSpPr/>
          <p:nvPr/>
        </p:nvSpPr>
        <p:spPr>
          <a:xfrm>
            <a:off x="7000920" y="3944880"/>
            <a:ext cx="231840" cy="1146240"/>
          </a:xfrm>
          <a:custGeom>
            <a:avLst/>
            <a:gdLst/>
            <a:ahLst/>
            <a:rect l="l" t="t" r="r" b="b"/>
            <a:pathLst>
              <a:path w="232012" h="1146412">
                <a:moveTo>
                  <a:pt x="232012" y="0"/>
                </a:moveTo>
                <a:cubicBezTo>
                  <a:pt x="159224" y="48904"/>
                  <a:pt x="86437" y="97809"/>
                  <a:pt x="54592" y="163773"/>
                </a:cubicBezTo>
                <a:cubicBezTo>
                  <a:pt x="22747" y="229737"/>
                  <a:pt x="47768" y="250209"/>
                  <a:pt x="40944" y="395785"/>
                </a:cubicBezTo>
                <a:cubicBezTo>
                  <a:pt x="34120" y="541361"/>
                  <a:pt x="20472" y="928048"/>
                  <a:pt x="13648" y="1037230"/>
                </a:cubicBezTo>
                <a:cubicBezTo>
                  <a:pt x="6824" y="1146412"/>
                  <a:pt x="0" y="1050878"/>
                  <a:pt x="0" y="105087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Freeform 7"/>
          <p:cNvSpPr/>
          <p:nvPr/>
        </p:nvSpPr>
        <p:spPr>
          <a:xfrm>
            <a:off x="7056360" y="3780000"/>
            <a:ext cx="122400" cy="164880"/>
          </a:xfrm>
          <a:custGeom>
            <a:avLst/>
            <a:gdLst/>
            <a:ahLst/>
            <a:rect l="l" t="t" r="r" b="b"/>
            <a:pathLst>
              <a:path w="122829" h="163773">
                <a:moveTo>
                  <a:pt x="122829" y="16377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Freeform 8"/>
          <p:cNvSpPr/>
          <p:nvPr/>
        </p:nvSpPr>
        <p:spPr>
          <a:xfrm>
            <a:off x="6195960" y="3930480"/>
            <a:ext cx="792360" cy="436680"/>
          </a:xfrm>
          <a:custGeom>
            <a:avLst/>
            <a:gdLst/>
            <a:ahLst/>
            <a:rect l="l" t="t" r="r" b="b"/>
            <a:pathLst>
              <a:path w="791570" h="436729">
                <a:moveTo>
                  <a:pt x="791570" y="0"/>
                </a:moveTo>
                <a:cubicBezTo>
                  <a:pt x="727880" y="13648"/>
                  <a:pt x="664191" y="27296"/>
                  <a:pt x="559558" y="81887"/>
                </a:cubicBezTo>
                <a:cubicBezTo>
                  <a:pt x="454925" y="136478"/>
                  <a:pt x="257033" y="268406"/>
                  <a:pt x="163773" y="327546"/>
                </a:cubicBezTo>
                <a:cubicBezTo>
                  <a:pt x="70513" y="386686"/>
                  <a:pt x="0" y="436729"/>
                  <a:pt x="0" y="436729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250920" y="1341360"/>
            <a:ext cx="4033800" cy="46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From the sympathetic chain gangli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er again into the spinal nerve through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grey rami communicantes (GRC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y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tructures in head &amp; thorax + blood vessels &amp; sweat glan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From the cells of coeliac &amp; mesenteric gangli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y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bdominal &amp; pelvic visc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Content Placeholder 3" descr="autonomic 003.jpg"/>
          <p:cNvPicPr/>
          <p:nvPr/>
        </p:nvPicPr>
        <p:blipFill>
          <a:blip r:embed="rId4"/>
          <a:srcRect l="9790" t="6366" r="7716" b="0"/>
          <a:stretch/>
        </p:blipFill>
        <p:spPr>
          <a:xfrm>
            <a:off x="4356000" y="1352520"/>
            <a:ext cx="4537080" cy="45244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40" name="Freeform 3"/>
          <p:cNvSpPr/>
          <p:nvPr/>
        </p:nvSpPr>
        <p:spPr>
          <a:xfrm>
            <a:off x="6769080" y="3416400"/>
            <a:ext cx="1528920" cy="782640"/>
          </a:xfrm>
          <a:custGeom>
            <a:avLst/>
            <a:gdLst/>
            <a:ahLst/>
            <a:rect l="l" t="t" r="r" b="b"/>
            <a:pathLst>
              <a:path w="1528549" h="782472">
                <a:moveTo>
                  <a:pt x="0" y="659642"/>
                </a:moveTo>
                <a:lnTo>
                  <a:pt x="218364" y="632346"/>
                </a:lnTo>
                <a:cubicBezTo>
                  <a:pt x="304800" y="589128"/>
                  <a:pt x="443551" y="495868"/>
                  <a:pt x="518614" y="400334"/>
                </a:cubicBezTo>
                <a:cubicBezTo>
                  <a:pt x="593677" y="304800"/>
                  <a:pt x="605050" y="118280"/>
                  <a:pt x="668740" y="59140"/>
                </a:cubicBezTo>
                <a:cubicBezTo>
                  <a:pt x="732430" y="0"/>
                  <a:pt x="812042" y="9098"/>
                  <a:pt x="900752" y="45492"/>
                </a:cubicBezTo>
                <a:cubicBezTo>
                  <a:pt x="989462" y="81886"/>
                  <a:pt x="1096370" y="154674"/>
                  <a:pt x="1201003" y="277504"/>
                </a:cubicBezTo>
                <a:cubicBezTo>
                  <a:pt x="1305636" y="400334"/>
                  <a:pt x="1473958" y="702860"/>
                  <a:pt x="1528549" y="782472"/>
                </a:cubicBezTo>
              </a:path>
            </a:pathLst>
          </a:custGeom>
          <a:noFill/>
          <a:ln w="38160">
            <a:solidFill>
              <a:srgbClr val="001dd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-69120" y="476280"/>
            <a:ext cx="44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Postganglionic fi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684360" y="1267920"/>
            <a:ext cx="4248000" cy="4753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Preganglionic neur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ed i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clei of the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rd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, 7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, 9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&amp; 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cranial nerves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brain stem </a:t>
            </a:r>
            <a:r>
              <a:rPr b="1" lang="en-US" sz="2400" spc="-1" strike="noStrike">
                <a:solidFill>
                  <a:srgbClr val="ff99ff"/>
                </a:solidFill>
                <a:latin typeface="Arial"/>
              </a:rPr>
              <a:t>(Cranial outflo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ateral gray hor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S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gments of spinal cord (</a:t>
            </a:r>
            <a:r>
              <a:rPr b="1" lang="en-US" sz="2400" spc="-1" strike="noStrike">
                <a:solidFill>
                  <a:srgbClr val="ff99ff"/>
                </a:solidFill>
                <a:latin typeface="Arial"/>
              </a:rPr>
              <a:t>Sacral outflo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arasympathetic Divi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6" descr=""/>
          <p:cNvPicPr/>
          <p:nvPr/>
        </p:nvPicPr>
        <p:blipFill>
          <a:blip r:embed="rId4"/>
          <a:srcRect l="23437" t="6818" r="16304" b="7813"/>
          <a:stretch/>
        </p:blipFill>
        <p:spPr>
          <a:xfrm>
            <a:off x="5076720" y="838080"/>
            <a:ext cx="3810240" cy="5759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45" name="Oval 7"/>
          <p:cNvSpPr/>
          <p:nvPr/>
        </p:nvSpPr>
        <p:spPr>
          <a:xfrm>
            <a:off x="5580000" y="909720"/>
            <a:ext cx="990720" cy="9144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Oval 8"/>
          <p:cNvSpPr/>
          <p:nvPr/>
        </p:nvSpPr>
        <p:spPr>
          <a:xfrm>
            <a:off x="5842080" y="4387680"/>
            <a:ext cx="530280" cy="4827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68360" y="1268280"/>
            <a:ext cx="4464000" cy="4321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eganglionic fiber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rom </a:t>
            </a:r>
            <a:r>
              <a:rPr b="1" i="1" lang="en-US" sz="2400" spc="-1" strike="noStrike">
                <a:solidFill>
                  <a:srgbClr val="ff5050"/>
                </a:solidFill>
                <a:latin typeface="Arial"/>
              </a:rPr>
              <a:t>cranial outflow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carried by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rd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, 7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, 9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&amp; 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cranial nerv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erminate in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iliary, pterygopalatine, submandibular, otic &amp; peripheral gangl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ostganglionic fiber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vate organs of the head, neck, thorax, and abdo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6" descr=""/>
          <p:cNvPicPr/>
          <p:nvPr/>
        </p:nvPicPr>
        <p:blipFill>
          <a:blip r:embed="rId3"/>
          <a:srcRect l="23437" t="6818" r="16304" b="7813"/>
          <a:stretch/>
        </p:blipFill>
        <p:spPr>
          <a:xfrm>
            <a:off x="5076720" y="765000"/>
            <a:ext cx="3810240" cy="5759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49" name="Oval 4"/>
          <p:cNvSpPr/>
          <p:nvPr/>
        </p:nvSpPr>
        <p:spPr>
          <a:xfrm>
            <a:off x="5580000" y="836640"/>
            <a:ext cx="990720" cy="9144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Oval 5"/>
          <p:cNvSpPr/>
          <p:nvPr/>
        </p:nvSpPr>
        <p:spPr>
          <a:xfrm>
            <a:off x="5842080" y="4314960"/>
            <a:ext cx="530280" cy="4824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788364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sympathetic Div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68360" y="1413000"/>
            <a:ext cx="4464000" cy="374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eganglionic fiber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rom </a:t>
            </a:r>
            <a:r>
              <a:rPr b="1" i="1" lang="en-US" sz="2400" spc="-1" strike="noStrike">
                <a:solidFill>
                  <a:srgbClr val="ff5050"/>
                </a:solidFill>
                <a:latin typeface="Arial"/>
              </a:rPr>
              <a:t>sacral outflow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e carried by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lvic splanchnic nerv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peripheral ganglia in pelvis where they synaps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ostganglionic fiber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vate organs of the pelvis and lower abdo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6" descr=""/>
          <p:cNvPicPr/>
          <p:nvPr/>
        </p:nvPicPr>
        <p:blipFill>
          <a:blip r:embed="rId4"/>
          <a:srcRect l="23437" t="6818" r="16304" b="7813"/>
          <a:stretch/>
        </p:blipFill>
        <p:spPr>
          <a:xfrm>
            <a:off x="5076720" y="765000"/>
            <a:ext cx="3810240" cy="5759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54" name="Oval 4"/>
          <p:cNvSpPr/>
          <p:nvPr/>
        </p:nvSpPr>
        <p:spPr>
          <a:xfrm>
            <a:off x="5580000" y="836640"/>
            <a:ext cx="990720" cy="9144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Oval 5"/>
          <p:cNvSpPr/>
          <p:nvPr/>
        </p:nvSpPr>
        <p:spPr>
          <a:xfrm>
            <a:off x="5842080" y="4314960"/>
            <a:ext cx="530280" cy="4824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788364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sympathetic Div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3" descr="C:\Documents and Settings\user1\Desktop\terminology\terminlology 005.jpg"/>
          <p:cNvPicPr/>
          <p:nvPr/>
        </p:nvPicPr>
        <p:blipFill>
          <a:blip r:embed="rId1"/>
          <a:stretch/>
        </p:blipFill>
        <p:spPr>
          <a:xfrm>
            <a:off x="1981080" y="174600"/>
            <a:ext cx="6019920" cy="6472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f2"/>
          <p:cNvPicPr/>
          <p:nvPr/>
        </p:nvPicPr>
        <p:blipFill>
          <a:blip r:embed="rId1"/>
          <a:stretch/>
        </p:blipFill>
        <p:spPr>
          <a:xfrm>
            <a:off x="2195640" y="1484280"/>
            <a:ext cx="4464000" cy="3355920"/>
          </a:xfrm>
          <a:prstGeom prst="rect">
            <a:avLst/>
          </a:prstGeom>
          <a:ln w="0">
            <a:noFill/>
          </a:ln>
        </p:spPr>
      </p:pic>
      <p:sp>
        <p:nvSpPr>
          <p:cNvPr id="259" name="WordArt 2"/>
          <p:cNvSpPr txBox="1"/>
          <p:nvPr/>
        </p:nvSpPr>
        <p:spPr>
          <a:xfrm>
            <a:off x="1187280" y="2637000"/>
            <a:ext cx="6515280" cy="64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Lucida Console"/>
              </a:rPr>
              <a:t>Thank U &amp; Good Luck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Lucida Console"/>
              <a:ea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39640" y="1484280"/>
            <a:ext cx="8229600" cy="3154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the end of the lecture, students should be able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fine the autonomic nervous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cribe the structure of autonomic nervous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race the preganglionic &amp; postganglionic neurons in both sympathetic &amp; parasympathetic nervous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numerate in brief the main effects of sympathetic &amp; parasympathetic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utonomic Nervous Sys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7640" y="1196640"/>
            <a:ext cx="8785080" cy="5545080"/>
          </a:xfrm>
          <a:prstGeom prst="rect">
            <a:avLst/>
          </a:prstGeom>
          <a:solidFill>
            <a:srgbClr val="6666ff"/>
          </a:solidFill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rned with the innervation and control of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Involuntary structure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: visceral orga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mooth &amp; cardiac musc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unct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aintain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homeostasis of the internal environm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long with the Endocrin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ocated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oth in th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entral and peripheral nervous system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gulated (controlled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ypothalam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9144000" cy="2808360"/>
          </a:xfrm>
          <a:prstGeom prst="rect">
            <a:avLst/>
          </a:prstGeom>
          <a:solidFill>
            <a:srgbClr val="7070ff"/>
          </a:solidFill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like the somatic nervous system, the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Effer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thway of the autonomic nervous system is made up of two neurons called as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eganglioni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stganglion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eur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ell bodies of th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eganglionic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urons are located in the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brain and spinal cor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Their axons synapse with the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postganglion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eurons whose cell bodies are located in the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autonomic gangl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Content Placeholder 7" descr=""/>
          <p:cNvPicPr/>
          <p:nvPr/>
        </p:nvPicPr>
        <p:blipFill>
          <a:blip r:embed="rId3"/>
          <a:srcRect l="0" t="26471" r="0" b="21570"/>
          <a:stretch/>
        </p:blipFill>
        <p:spPr>
          <a:xfrm>
            <a:off x="1835280" y="3902040"/>
            <a:ext cx="5329080" cy="2766960"/>
          </a:xfrm>
          <a:prstGeom prst="rect">
            <a:avLst/>
          </a:prstGeom>
          <a:ln w="28440">
            <a:solidFill>
              <a:srgbClr val="3366ff"/>
            </a:solidFill>
            <a:miter/>
          </a:ln>
        </p:spPr>
      </p:pic>
      <p:sp>
        <p:nvSpPr>
          <p:cNvPr id="171" name="Rectangle 2"/>
          <p:cNvSpPr/>
          <p:nvPr/>
        </p:nvSpPr>
        <p:spPr>
          <a:xfrm>
            <a:off x="395280" y="189000"/>
            <a:ext cx="82296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utonomic Nervous Sys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504180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d on th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atomic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hysiologic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harmacologic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haracteristics, the autonomic nervous system is divided in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ympathetic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ctivated during exercise, excitement, and emergencies.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“fight, flight, or fright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arasympathetic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rned with conserving energy.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“rest and digest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5" descr="C:\Documents and Settings\user\My Documents\My Pictures\aas.png"/>
          <p:cNvPicPr/>
          <p:nvPr/>
        </p:nvPicPr>
        <p:blipFill>
          <a:blip r:embed="rId2"/>
          <a:stretch/>
        </p:blipFill>
        <p:spPr>
          <a:xfrm>
            <a:off x="5292720" y="2565360"/>
            <a:ext cx="3673440" cy="251460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174" name="Picture 6" descr="C:\Documents and Settings\user\My Documents\My Pictures\cc.png"/>
          <p:cNvPicPr/>
          <p:nvPr/>
        </p:nvPicPr>
        <p:blipFill>
          <a:blip r:embed="rId3"/>
          <a:stretch/>
        </p:blipFill>
        <p:spPr>
          <a:xfrm>
            <a:off x="5292720" y="54000"/>
            <a:ext cx="3657600" cy="24382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75" name="Picture 8" descr="runner"/>
          <p:cNvPicPr/>
          <p:nvPr/>
        </p:nvPicPr>
        <p:blipFill>
          <a:blip r:embed="rId4"/>
          <a:stretch/>
        </p:blipFill>
        <p:spPr>
          <a:xfrm>
            <a:off x="8028000" y="549360"/>
            <a:ext cx="868320" cy="6649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5"/>
          <p:cNvSpPr/>
          <p:nvPr/>
        </p:nvSpPr>
        <p:spPr>
          <a:xfrm>
            <a:off x="250920" y="5108400"/>
            <a:ext cx="871380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th divisions operate in conjunction with one another (hav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tagonist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ntrol over the viscera) to maintain a stable internal environment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Oval 3"/>
          <p:cNvSpPr/>
          <p:nvPr/>
        </p:nvSpPr>
        <p:spPr>
          <a:xfrm>
            <a:off x="6227640" y="2565360"/>
            <a:ext cx="865440" cy="863640"/>
          </a:xfrm>
          <a:prstGeom prst="ellipse">
            <a:avLst/>
          </a:prstGeom>
          <a:noFill/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4"/>
          <p:cNvSpPr/>
          <p:nvPr/>
        </p:nvSpPr>
        <p:spPr>
          <a:xfrm>
            <a:off x="2050920" y="1197000"/>
            <a:ext cx="289080" cy="287280"/>
          </a:xfrm>
          <a:prstGeom prst="ellipse">
            <a:avLst/>
          </a:prstGeom>
          <a:solidFill>
            <a:srgbClr val="ff5050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Oval 5"/>
          <p:cNvSpPr/>
          <p:nvPr/>
        </p:nvSpPr>
        <p:spPr>
          <a:xfrm>
            <a:off x="6516720" y="1197000"/>
            <a:ext cx="287280" cy="287280"/>
          </a:xfrm>
          <a:prstGeom prst="ellipse">
            <a:avLst/>
          </a:prstGeom>
          <a:solidFill>
            <a:srgbClr val="ff5050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6"/>
          <p:cNvSpPr/>
          <p:nvPr/>
        </p:nvSpPr>
        <p:spPr>
          <a:xfrm>
            <a:off x="2050920" y="4365720"/>
            <a:ext cx="289080" cy="287280"/>
          </a:xfrm>
          <a:prstGeom prst="ellipse">
            <a:avLst/>
          </a:prstGeom>
          <a:solidFill>
            <a:srgbClr val="00cc00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Oval 7"/>
          <p:cNvSpPr/>
          <p:nvPr/>
        </p:nvSpPr>
        <p:spPr>
          <a:xfrm>
            <a:off x="6516720" y="2924280"/>
            <a:ext cx="287280" cy="288720"/>
          </a:xfrm>
          <a:prstGeom prst="ellipse">
            <a:avLst/>
          </a:prstGeom>
          <a:solidFill>
            <a:srgbClr val="00cc00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Oval 8"/>
          <p:cNvSpPr/>
          <p:nvPr/>
        </p:nvSpPr>
        <p:spPr>
          <a:xfrm>
            <a:off x="1692360" y="3933720"/>
            <a:ext cx="934920" cy="863640"/>
          </a:xfrm>
          <a:prstGeom prst="ellipse">
            <a:avLst/>
          </a:prstGeom>
          <a:noFill/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Box 9"/>
          <p:cNvSpPr/>
          <p:nvPr/>
        </p:nvSpPr>
        <p:spPr>
          <a:xfrm>
            <a:off x="5940360" y="6021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rget org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Box 10"/>
          <p:cNvSpPr/>
          <p:nvPr/>
        </p:nvSpPr>
        <p:spPr>
          <a:xfrm>
            <a:off x="1403280" y="60213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rget org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Straight Connector 12"/>
          <p:cNvSpPr/>
          <p:nvPr/>
        </p:nvSpPr>
        <p:spPr>
          <a:xfrm>
            <a:off x="2195640" y="1484280"/>
            <a:ext cx="0" cy="266544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Straight Connector 14"/>
          <p:cNvSpPr/>
          <p:nvPr/>
        </p:nvSpPr>
        <p:spPr>
          <a:xfrm>
            <a:off x="6659640" y="1484280"/>
            <a:ext cx="0" cy="122400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Straight Connector 16"/>
          <p:cNvSpPr/>
          <p:nvPr/>
        </p:nvSpPr>
        <p:spPr>
          <a:xfrm>
            <a:off x="2195640" y="4653000"/>
            <a:ext cx="0" cy="1297080"/>
          </a:xfrm>
          <a:prstGeom prst="line">
            <a:avLst/>
          </a:prstGeom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Straight Connector 18"/>
          <p:cNvSpPr/>
          <p:nvPr/>
        </p:nvSpPr>
        <p:spPr>
          <a:xfrm>
            <a:off x="6659640" y="3213000"/>
            <a:ext cx="0" cy="2737080"/>
          </a:xfrm>
          <a:prstGeom prst="line">
            <a:avLst/>
          </a:prstGeom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Straight Connector 20"/>
          <p:cNvSpPr/>
          <p:nvPr/>
        </p:nvSpPr>
        <p:spPr>
          <a:xfrm flipV="1">
            <a:off x="6588000" y="5949720"/>
            <a:ext cx="71640" cy="142920"/>
          </a:xfrm>
          <a:prstGeom prst="line">
            <a:avLst/>
          </a:prstGeom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Straight Connector 22"/>
          <p:cNvSpPr/>
          <p:nvPr/>
        </p:nvSpPr>
        <p:spPr>
          <a:xfrm>
            <a:off x="6659640" y="5950080"/>
            <a:ext cx="144360" cy="142920"/>
          </a:xfrm>
          <a:prstGeom prst="line">
            <a:avLst/>
          </a:prstGeom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Straight Connector 24"/>
          <p:cNvSpPr/>
          <p:nvPr/>
        </p:nvSpPr>
        <p:spPr>
          <a:xfrm flipH="1">
            <a:off x="6587640" y="2708280"/>
            <a:ext cx="71640" cy="14436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Straight Connector 26"/>
          <p:cNvSpPr/>
          <p:nvPr/>
        </p:nvSpPr>
        <p:spPr>
          <a:xfrm>
            <a:off x="6659640" y="2708280"/>
            <a:ext cx="144360" cy="14436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Straight Connector 29"/>
          <p:cNvSpPr/>
          <p:nvPr/>
        </p:nvSpPr>
        <p:spPr>
          <a:xfrm flipH="1">
            <a:off x="2123640" y="4076640"/>
            <a:ext cx="71640" cy="21600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Straight Connector 31"/>
          <p:cNvSpPr/>
          <p:nvPr/>
        </p:nvSpPr>
        <p:spPr>
          <a:xfrm>
            <a:off x="2195640" y="4149720"/>
            <a:ext cx="144360" cy="14292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Straight Connector 35"/>
          <p:cNvSpPr/>
          <p:nvPr/>
        </p:nvSpPr>
        <p:spPr>
          <a:xfrm flipV="1">
            <a:off x="2124000" y="5949720"/>
            <a:ext cx="71640" cy="142920"/>
          </a:xfrm>
          <a:prstGeom prst="line">
            <a:avLst/>
          </a:prstGeom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Straight Connector 52"/>
          <p:cNvSpPr/>
          <p:nvPr/>
        </p:nvSpPr>
        <p:spPr>
          <a:xfrm>
            <a:off x="2195640" y="5950080"/>
            <a:ext cx="36360" cy="71280"/>
          </a:xfrm>
          <a:prstGeom prst="line">
            <a:avLst/>
          </a:prstGeom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Box 59"/>
          <p:cNvSpPr/>
          <p:nvPr/>
        </p:nvSpPr>
        <p:spPr>
          <a:xfrm>
            <a:off x="2987640" y="1052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ganglionic neur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Box 60"/>
          <p:cNvSpPr/>
          <p:nvPr/>
        </p:nvSpPr>
        <p:spPr>
          <a:xfrm>
            <a:off x="3132000" y="501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ganglionic fib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Box 61"/>
          <p:cNvSpPr/>
          <p:nvPr/>
        </p:nvSpPr>
        <p:spPr>
          <a:xfrm>
            <a:off x="3059280" y="2924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ngl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Box 62"/>
          <p:cNvSpPr/>
          <p:nvPr/>
        </p:nvSpPr>
        <p:spPr>
          <a:xfrm>
            <a:off x="3132000" y="364500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ganglionic neur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Box 63"/>
          <p:cNvSpPr/>
          <p:nvPr/>
        </p:nvSpPr>
        <p:spPr>
          <a:xfrm>
            <a:off x="2987640" y="2060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ganglionic fib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2" name="Straight Arrow Connector 65"/>
          <p:cNvCxnSpPr/>
          <p:nvPr/>
        </p:nvCxnSpPr>
        <p:spPr>
          <a:xfrm>
            <a:off x="2195640" y="2349000"/>
            <a:ext cx="4464720" cy="1080"/>
          </a:xfrm>
          <a:prstGeom prst="straightConnector1">
            <a:avLst/>
          </a:prstGeom>
          <a:ln w="1908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03" name="Straight Arrow Connector 67"/>
          <p:cNvCxnSpPr/>
          <p:nvPr/>
        </p:nvCxnSpPr>
        <p:spPr>
          <a:xfrm>
            <a:off x="2195640" y="5300280"/>
            <a:ext cx="4464720" cy="1080"/>
          </a:xfrm>
          <a:prstGeom prst="straightConnector1">
            <a:avLst/>
          </a:prstGeom>
          <a:ln w="1908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04" name="Straight Arrow Connector 69"/>
          <p:cNvCxnSpPr/>
          <p:nvPr/>
        </p:nvCxnSpPr>
        <p:spPr>
          <a:xfrm>
            <a:off x="4932360" y="3141360"/>
            <a:ext cx="1296000" cy="108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05" name="Straight Arrow Connector 70"/>
          <p:cNvCxnSpPr>
            <a:endCxn id="181" idx="3"/>
          </p:cNvCxnSpPr>
          <p:nvPr/>
        </p:nvCxnSpPr>
        <p:spPr>
          <a:xfrm flipV="1">
            <a:off x="5651640" y="3169800"/>
            <a:ext cx="907200" cy="69120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06" name="Straight Arrow Connector 71"/>
          <p:cNvCxnSpPr>
            <a:endCxn id="179" idx="2"/>
          </p:cNvCxnSpPr>
          <p:nvPr/>
        </p:nvCxnSpPr>
        <p:spPr>
          <a:xfrm>
            <a:off x="5508720" y="1267920"/>
            <a:ext cx="1008720" cy="7380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07" name="Straight Arrow Connector 77"/>
          <p:cNvCxnSpPr>
            <a:endCxn id="182" idx="7"/>
          </p:cNvCxnSpPr>
          <p:nvPr/>
        </p:nvCxnSpPr>
        <p:spPr>
          <a:xfrm flipH="1">
            <a:off x="2490480" y="3141360"/>
            <a:ext cx="1434240" cy="91836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08" name="Straight Arrow Connector 79"/>
          <p:cNvCxnSpPr>
            <a:endCxn id="180" idx="6"/>
          </p:cNvCxnSpPr>
          <p:nvPr/>
        </p:nvCxnSpPr>
        <p:spPr>
          <a:xfrm flipH="1">
            <a:off x="2339640" y="3860640"/>
            <a:ext cx="1008720" cy="64836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09" name="Straight Arrow Connector 81"/>
          <p:cNvCxnSpPr/>
          <p:nvPr/>
        </p:nvCxnSpPr>
        <p:spPr>
          <a:xfrm flipH="1">
            <a:off x="2339280" y="1267920"/>
            <a:ext cx="864360" cy="7380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210" name="TextBox 83"/>
          <p:cNvSpPr/>
          <p:nvPr/>
        </p:nvSpPr>
        <p:spPr>
          <a:xfrm>
            <a:off x="6804000" y="177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84"/>
          <p:cNvSpPr/>
          <p:nvPr/>
        </p:nvSpPr>
        <p:spPr>
          <a:xfrm>
            <a:off x="1258920" y="4724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Box 85"/>
          <p:cNvSpPr/>
          <p:nvPr/>
        </p:nvSpPr>
        <p:spPr>
          <a:xfrm>
            <a:off x="1258920" y="21337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Box 86"/>
          <p:cNvSpPr/>
          <p:nvPr/>
        </p:nvSpPr>
        <p:spPr>
          <a:xfrm>
            <a:off x="6732720" y="4365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Box 87"/>
          <p:cNvSpPr/>
          <p:nvPr/>
        </p:nvSpPr>
        <p:spPr>
          <a:xfrm>
            <a:off x="611280" y="404640"/>
            <a:ext cx="2376360" cy="398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 sympathet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Box 88"/>
          <p:cNvSpPr/>
          <p:nvPr/>
        </p:nvSpPr>
        <p:spPr>
          <a:xfrm>
            <a:off x="5724360" y="404640"/>
            <a:ext cx="2016360" cy="398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mpathet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11" descr="C:\Users\Zeenat\Pictures\xxx.jpg"/>
          <p:cNvPicPr/>
          <p:nvPr/>
        </p:nvPicPr>
        <p:blipFill>
          <a:blip r:embed="rId1"/>
          <a:srcRect l="19546" t="2523" r="12103" b="25563"/>
          <a:stretch/>
        </p:blipFill>
        <p:spPr>
          <a:xfrm>
            <a:off x="6732720" y="692280"/>
            <a:ext cx="1439640" cy="58640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1187280" y="1915920"/>
            <a:ext cx="4176720" cy="208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Preganglionic neurons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ed in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teral gray hor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L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gments of spinal cord 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oracolumbar outflo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Oval 4"/>
          <p:cNvSpPr/>
          <p:nvPr/>
        </p:nvSpPr>
        <p:spPr>
          <a:xfrm>
            <a:off x="7164360" y="3068640"/>
            <a:ext cx="503280" cy="2089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Freeform 9"/>
          <p:cNvSpPr/>
          <p:nvPr/>
        </p:nvSpPr>
        <p:spPr>
          <a:xfrm>
            <a:off x="6756480" y="5595840"/>
            <a:ext cx="12600" cy="68400"/>
          </a:xfrm>
          <a:custGeom>
            <a:avLst/>
            <a:gdLst/>
            <a:ahLst/>
            <a:rect l="l" t="t" r="r" b="b"/>
            <a:pathLst>
              <a:path w="13648" h="68239">
                <a:moveTo>
                  <a:pt x="0" y="68239"/>
                </a:moveTo>
                <a:lnTo>
                  <a:pt x="1364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604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ympathetic Divi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athetic Gang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95280" y="1052280"/>
            <a:ext cx="8424720" cy="136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ed nearer the central nervous system a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evertebral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iac &amp; mesenter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ravertebr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ing sympathetic ch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Content Placeholder 4" descr="177493"/>
          <p:cNvPicPr/>
          <p:nvPr/>
        </p:nvPicPr>
        <p:blipFill>
          <a:blip r:embed="rId2"/>
          <a:srcRect l="0" t="2317" r="0" b="5000"/>
          <a:stretch/>
        </p:blipFill>
        <p:spPr>
          <a:xfrm>
            <a:off x="1476360" y="2565360"/>
            <a:ext cx="3259080" cy="4027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24" name="Picture 7" descr="st22"/>
          <p:cNvPicPr/>
          <p:nvPr/>
        </p:nvPicPr>
        <p:blipFill>
          <a:blip r:embed="rId3"/>
          <a:stretch/>
        </p:blipFill>
        <p:spPr>
          <a:xfrm>
            <a:off x="4932360" y="2565360"/>
            <a:ext cx="2795760" cy="4032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vertebral Gang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8360" y="764640"/>
            <a:ext cx="4535280" cy="568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interconnected to form 2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ympathetic chai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one on each side of vertebral colum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ber of gangl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re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ervic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t of ch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leven to twelv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oracic p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u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umbar &amp; sacr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s ea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hains end into a commo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‘ganglion impar’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front of coccy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7" descr="st22"/>
          <p:cNvPicPr/>
          <p:nvPr/>
        </p:nvPicPr>
        <p:blipFill>
          <a:blip r:embed="rId2"/>
          <a:stretch/>
        </p:blipFill>
        <p:spPr>
          <a:xfrm>
            <a:off x="5148360" y="1052640"/>
            <a:ext cx="3646440" cy="52578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5:39:30Z</dcterms:created>
  <dc:creator>Dr. Zeenat Zaidi</dc:creator>
  <dc:description/>
  <dc:language>en-US</dc:language>
  <cp:lastModifiedBy>Gamilah H. Al-Madani</cp:lastModifiedBy>
  <dcterms:modified xsi:type="dcterms:W3CDTF">2015-09-07T06:11:30Z</dcterms:modified>
  <cp:revision>87</cp:revision>
  <dc:subject/>
  <dc:title>ANS</dc:title>
</cp:coreProperties>
</file>