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8170-68B3-40AE-827A-6195E7053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11BA-27AC-4373-BB3C-2911FDAC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D55-3798-47D0-8E94-3F84FA6C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D6C-357F-457B-A41A-5C61316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9A0-E486-4268-9492-E12D5DA0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014-FCEF-49F5-A611-659219DD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345-C1D5-4337-95CE-58ED5A83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855-712C-4E0E-B391-70B4D0E9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C1A-9AC4-4D89-88DA-A77E802C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728-B5B9-4F22-B3D5-48B75996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563-B1F1-4656-93B4-3992F6D2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104-F964-4CE0-8B07-2572A49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951-3E32-4DFB-BCE0-2CB91D56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966-BDB5-4FEF-ACC2-5C17A13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AAC6-3E15-4E8E-97EB-E21F2BADE64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Biochemical markers for diagnosis of diseases and follow up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7636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767171"/>
                </a:solidFill>
                <a:latin typeface="Calibri"/>
              </a:rPr>
              <a:t>Dr. Rana Hasan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767171"/>
                </a:solidFill>
                <a:latin typeface="Calibri"/>
              </a:rPr>
              <a:t>Associate professor and consulta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767171"/>
                </a:solidFill>
                <a:latin typeface="Calibri"/>
              </a:rPr>
              <a:t>Head of clinical chemistry de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amples of biomarkers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9047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Horm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Enzymes as biomarkers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47920" y="167616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  <a:ea typeface="MS PGothic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mylase, Lip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lanine aminotransferase (A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spartate aminotransferase (A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Amylas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vated serum amylase level is a diagnostic indicator of acute  pancreat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ylase level greater th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 tim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per limit indicates acute pancreat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st has low specificity because elevated amylase level is also present in other dis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ylase appears in the serum within 2-12 hours after abdominal pain, and returns to normal in 2-3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Lipas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Serum lipase has higher specificity than serum amyla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S PGothic"/>
              </a:rPr>
              <a:t>(elevated only in acute pancreatit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t appears in plasma within 4-8 hours and remains for 8-14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8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203864"/>
                </a:solidFill>
                <a:latin typeface="Calibri Light"/>
              </a:rPr>
              <a:t>Case:</a:t>
            </a:r>
            <a:br>
              <a:rPr sz="4000"/>
            </a:br>
            <a:br>
              <a:rPr sz="2400"/>
            </a:br>
            <a:r>
              <a:rPr b="0" lang="en-US" sz="2400" spc="-1" strike="noStrike">
                <a:solidFill>
                  <a:srgbClr val="ffc000"/>
                </a:solidFill>
                <a:latin typeface="Calibri Light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 GP was called to see a 21-year-old female student who had been complaining a flu-like illness for two days, with symptoms of fever, vomiting and abdominal tenderness in the right upper quadrant. On examination she was jaundiced, moreover; the liver was enlarged and tender. A blood was taken for liver function tests which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showed elevated ALT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(alanine aminotransferase)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 and AST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(aspartate aminotransferase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762120" y="441972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likely diagn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 Light"/>
              </a:rPr>
              <a:t>Aspartate aminotransferase (AST) Alanine aminotransferase (ALT)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600200"/>
          <a:ext cx="8305920" cy="4724280"/>
        </p:xfrm>
        <a:graphic>
          <a:graphicData uri="http://schemas.openxmlformats.org/drawingml/2006/table">
            <a:tbl>
              <a:tblPr/>
              <a:tblGrid>
                <a:gridCol w="2133720"/>
                <a:gridCol w="4191120"/>
                <a:gridCol w="1981080"/>
              </a:tblGrid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752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d b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rt, liver, skeletal muscle, kidney, erythrocy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22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ed i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ver disease, heart disease, skeletal muscle disease, hemo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Proteins as biomarkers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772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Fetoprote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state Specific Antigen (PS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ystatin 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-type Natriuretic Peptide (BN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a-Fetoprotein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produced by the fetal liver, and falls until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newborn bab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fetoprotein levels are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mains low under normal cond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conc. are observed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hepatocellular carcinoma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hepato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esticular 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GI tract 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7f7f7f"/>
              </a:buClr>
              <a:buFont typeface="Courier New"/>
              <a:buChar char="o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non specific mar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Prostate Specific Antigen (PSA)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by prostate 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A level is used as a tumor marker to aid diagnosis and for monitoring in patients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static canc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serum levels are also observed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Benign prostatic hyperplasia (BP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Prostatic inflammation/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Cystatin C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ysteine protease inhibitor mainly produced by all nucleated cells of th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 biomarker for measuring glomerular filtration rate (GFR) in assessing kidney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ike creatinine, its serum conc. is independent of gender, age or muscle 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vels of serum  cystatin C indicates early renal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nically used as a marker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tecting early kidney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nitoring kidney transpla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 Light"/>
              </a:rPr>
              <a:t>Lecture objectives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Upon completion of this lecture, the students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Define biomarkers and its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Recognize different types of biochemical mar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Demonstrate the clinical applications of biomarkers in diagnosis of various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B-type natriuretic peptide (BNP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ptide secreted mainly in the cardiac ventricles in response to cardiac expansion and pressure over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serum levels are observed in congestive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t can be used to differentiate patients whose symptoms are due to heart failure from those whose symptoms are due to other causes such as pulmonary dise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77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 u="sng">
                <a:solidFill>
                  <a:srgbClr val="002060"/>
                </a:solidFill>
                <a:uFillTx/>
                <a:latin typeface="Calibri Light"/>
              </a:rPr>
              <a:t>Hormones as biomarkers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5040" y="1142640"/>
            <a:ext cx="7975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Anti-Mullerian hormone (AMH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 females it is produced by ov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ppears to be a best marker for estimating egg cell reserve in the ovaries(ovarian reserve testing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nly growing follicles produce AM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S PGothic"/>
              </a:rPr>
              <a:t>Plasma AMH levels strongly correlate with number of growing foll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g with infer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26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Anti-Mullerian hormone (AM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38080" y="26352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vels in women with Polycystic ovarian syndrome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(P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724280" y="265104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vels in women with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ovarian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5"/>
          <p:cNvSpPr/>
          <p:nvPr/>
        </p:nvSpPr>
        <p:spPr>
          <a:xfrm>
            <a:off x="2971800" y="2209680"/>
            <a:ext cx="2743200" cy="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8"/>
          <p:cNvSpPr/>
          <p:nvPr/>
        </p:nvSpPr>
        <p:spPr>
          <a:xfrm>
            <a:off x="2994120" y="2198520"/>
            <a:ext cx="0" cy="38124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5707080" y="2201760"/>
            <a:ext cx="0" cy="38124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4343400" y="1828800"/>
            <a:ext cx="0" cy="38088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Take home message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9047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chemical markers are essential accurate  and non-invasive laboratory tools offering the treating physicians fast means for better man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ould be proteins, enzymes, or horm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nt development in medicine provides new bio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 Light"/>
              </a:rPr>
              <a:t>What is a biomarker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69704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biological molecule found in blood, other body fluids, or tissues that indicates a normal or abnormal process such as a disease or a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160" y="7621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S PGothic"/>
              </a:rPr>
              <a:t>Most common body fluids for the measurement of biomarkers ar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MS PGothic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S PGothic"/>
              </a:rPr>
              <a:t>Ur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S PGothic"/>
              </a:rPr>
              <a:t>Biomarkers are eithe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S PGothic"/>
              </a:rPr>
              <a:t>Plasma-speci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S PGothic"/>
              </a:rPr>
              <a:t>Tissue-speci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5331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Plasma-specific biomark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ly present in plas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form their functions in bl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gh level of activity in plasma than in tissue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440" y="4572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Tissue-specific biomarker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en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nside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low concentration can be detected in plasma due to cellular turno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higher concentration is detected in plasma, it indicate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ell dama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ell damage can be due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Tissue inflammation, </a:t>
            </a:r>
            <a:r>
              <a:rPr b="0" lang="en-US" sz="3200" spc="-1" strike="noStrike">
                <a:solidFill>
                  <a:srgbClr val="2e75b6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ALT* in liver disease (e.g. acute hepati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Amylase in acute pancreatitis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Ischem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ypox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farction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↑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lasma [Troponin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ocardial infar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*: alanine aminotransfe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diagnosis and prognosis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59984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agnosis: Identification of a disease from its signs and symp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gnosis: The future outcome of a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Criteria of a good biomarker assay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1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good biomarker assay should b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nsitiv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nsitivity is the Ability of an assay to detect small quantities of a mar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pecific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pecificity is the ability of an assay to detect only the marker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 to produce fast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3:06:37Z</dcterms:created>
  <dc:creator>Usman</dc:creator>
  <dc:description/>
  <dc:language>en-US</dc:language>
  <cp:lastModifiedBy>Rana Hasanato</cp:lastModifiedBy>
  <dcterms:modified xsi:type="dcterms:W3CDTF">2015-11-01T05:52:19Z</dcterms:modified>
  <cp:revision>106</cp:revision>
  <dc:subject/>
  <dc:title>Genetic Couns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5671033</vt:lpwstr>
  </property>
</Properties>
</file>