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7DAD-2E9F-4D81-B34D-0A27C7172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6622-E980-490D-BBF9-9BCC06B77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E512-A7D0-4863-8540-894C3872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622-D42B-469C-86B9-5D42D62C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4F4-996E-43EA-8B23-869941818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D62-DF23-4D16-9C6F-4720AC82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9B0A-39AC-49D5-BBF8-24721CC2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019-F478-406E-AF5C-8598B585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39A-0276-4F90-BF44-C4307BCB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F74-C524-4F77-80B4-368842BF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948-7272-4524-BE50-7921F8F0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2C3C-A476-4996-8B0C-D084AF1E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162-BD3A-45C0-BB22-FCDA100C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78B-A6D2-49AF-B813-EFE2283A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ACAB-C5B3-4D30-A300-20ADDC11324B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Biochemical markers for diagnosis of diseases and follow up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27636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767171"/>
                </a:solidFill>
                <a:latin typeface="Calibri"/>
              </a:rPr>
              <a:t>Dr. Rana Hasana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767171"/>
                </a:solidFill>
                <a:latin typeface="Calibri"/>
              </a:rPr>
              <a:t>Associate professor and consulta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767171"/>
                </a:solidFill>
                <a:latin typeface="Calibri"/>
              </a:rPr>
              <a:t>Head of clinical chemistry depar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Examples of biomarkers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904760"/>
            <a:ext cx="5943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Horm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ote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 Light"/>
              </a:rPr>
              <a:t>Enzymes as biomarkers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47920" y="1676160"/>
            <a:ext cx="6705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  <a:ea typeface="MS PGothic"/>
              </a:rPr>
              <a:t>Example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mylase, Lip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lanine aminotransferase (A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Aspartate aminotransferase (A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33520" y="456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 Light"/>
              </a:rPr>
              <a:t>Amylas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vated serum amylase level is a diagnostic indicator of acute  pancreat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ylase level greater tha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0 tim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pper limit indicates acute pancreat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est has low specificity because elevated amylase level is also present in other dis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ylase appears in the serum within 2-12 hours after abdominal pain, and returns to normal in 2-3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Lipas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Serum lipase has higher specificity than serum amylase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S PGothic"/>
              </a:rPr>
              <a:t>(elevated only in acute pancreatit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t appears in plasma within 4-8 hours and remains for 8-14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86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203864"/>
                </a:solidFill>
                <a:latin typeface="Calibri Light"/>
              </a:rPr>
              <a:t>Case:</a:t>
            </a:r>
            <a:br>
              <a:rPr sz="4000"/>
            </a:br>
            <a:br>
              <a:rPr sz="2400"/>
            </a:br>
            <a:r>
              <a:rPr b="0" lang="en-US" sz="2400" spc="-1" strike="noStrike">
                <a:solidFill>
                  <a:srgbClr val="ffc000"/>
                </a:solidFill>
                <a:latin typeface="Calibri Light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A GP was called to see a 21-year-old female student who had been complaining a flu-like illness for two days, with symptoms of fever, vomiting and abdominal tenderness in the right upper quadrant. On examination she was jaundiced, moreover; the liver was enlarged and tender. A blood was taken for liver function tests which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showed elevated ALT 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(alanine aminotransferase)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 and AST 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(aspartate aminotransferase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762120" y="4419720"/>
            <a:ext cx="78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likely diagnos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 Light"/>
              </a:rPr>
              <a:t>Aspartate aminotransferase (AST) Alanine aminotransferase (ALT)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80880" y="1600200"/>
          <a:ext cx="8305920" cy="4724280"/>
        </p:xfrm>
        <a:graphic>
          <a:graphicData uri="http://schemas.openxmlformats.org/drawingml/2006/table">
            <a:tbl>
              <a:tblPr/>
              <a:tblGrid>
                <a:gridCol w="2133720"/>
                <a:gridCol w="4191120"/>
                <a:gridCol w="1981080"/>
              </a:tblGrid>
              <a:tr h="84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752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d b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rt, liver, skeletal muscle, kidney, erythrocy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122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ed i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lvl="1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iver disease, heart disease, skeletal muscle disease, hemo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r dise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Proteins as biomarkers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7720" y="16761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Fetoprote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state Specific Antigen (PS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ystatin 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-type Natriuretic Peptide (BN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5840"/>
            <a:ext cx="82296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a-Fetoprotein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produced by the fetal liver, and falls until ter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newborn babi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fetoprotein levels are very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remains low under normal condi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conc. are observed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7f7f7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hepatocellular carcinomas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(hepato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7f7f7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testicular 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7f7f7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GI tract 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7f7f7f"/>
              </a:buClr>
              <a:buFont typeface="Courier New"/>
              <a:buChar char="o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a non specific mar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Prostate Specific Antigen (PSA)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by prostate g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A level is used as a tumor marker to aid diagnosis and for monitoring in patients with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prostatic canc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serum levels are also observed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Benign prostatic hyperplasia (BP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Prostatic inflammation/inf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Cystatin C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ysteine protease inhibitor mainly produced by all nucleated cells of the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ful biomarker for measuring glomerular filtration rate (GFR) in assessing kidney 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like creatinine, its serum conc. is independent of gender, age or muscle 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vels of serum  cystatin C indicates early renal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nically used as a marker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detecting early kidney 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nitoring kidney transpla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 Light"/>
              </a:rPr>
              <a:t>Lecture objectives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Upon completion of this lecture, the students 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Define biomarkers and its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Recognize different types of biochemical mar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Demonstrate the clinical applications of biomarkers in diagnosis of various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B-type natriuretic peptide (BNP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352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eptide secreted mainly in the cardiac ventricles in response to cardiac expansion and pressure overlo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serum levels are observed in congestive heart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It can be used to differentiate patients whose symptoms are due to heart failure from those whose symptoms are due to other causes such as pulmonary diseas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77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 u="sng">
                <a:solidFill>
                  <a:srgbClr val="002060"/>
                </a:solidFill>
                <a:uFillTx/>
                <a:latin typeface="Calibri Light"/>
              </a:rPr>
              <a:t>Hormones as biomarkers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5040" y="1142640"/>
            <a:ext cx="7975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 Light"/>
              </a:rPr>
              <a:t>Anti-Mullerian hormone (AMH)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 females it is produced by ova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Appears to be a best marker for estimating egg cell reserve in the ovaries(ovarian reserve testing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nly growing follicles produce AM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MS PGothic"/>
              </a:rPr>
              <a:t>Plasma AMH levels strongly correlate with number of growing foll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g with infert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126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Anti-Mullerian hormone (AM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838080" y="2635200"/>
            <a:ext cx="3124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Hi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vels in women with Polycystic ovarian syndrome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(P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724280" y="265104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vels in women with 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ovarian dys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5"/>
          <p:cNvSpPr/>
          <p:nvPr/>
        </p:nvSpPr>
        <p:spPr>
          <a:xfrm>
            <a:off x="2971800" y="2209680"/>
            <a:ext cx="2743200" cy="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8"/>
          <p:cNvSpPr/>
          <p:nvPr/>
        </p:nvSpPr>
        <p:spPr>
          <a:xfrm>
            <a:off x="2994120" y="2198520"/>
            <a:ext cx="0" cy="38124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5707080" y="2201760"/>
            <a:ext cx="0" cy="38124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4343400" y="1828800"/>
            <a:ext cx="0" cy="380880"/>
          </a:xfrm>
          <a:prstGeom prst="line">
            <a:avLst/>
          </a:prstGeom>
          <a:ln w="190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 Light"/>
              </a:rPr>
              <a:t>Take home message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28560" y="19047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iochemical markers are essential accurate  and non-invasive laboratory tools offering the treating physicians fast means for better man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y could be proteins, enzymes, or hormon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nt development in medicine provides new bioma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 Light"/>
              </a:rPr>
              <a:t>What is a biomarker?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69704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biological molecule found in blood, other body fluids, or tissues that indicates a normal or abnormal process such as a disease or a cond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3160" y="76212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S PGothic"/>
              </a:rPr>
              <a:t>Most common body fluids for the measurement of biomarkers ar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  <a:ea typeface="MS PGothic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S PGothic"/>
              </a:rPr>
              <a:t>Ur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MS PGothic"/>
              </a:rPr>
              <a:t>Biomarkers are eithe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S PGothic"/>
              </a:rPr>
              <a:t>Plasma-specif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MS PGothic"/>
              </a:rPr>
              <a:t>Tissue-specif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5331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 Light"/>
              </a:rPr>
              <a:t>Plasma-specific biomark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ally present in plas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form their functions in bloo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igh level of activity in plasma than in tissue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440" y="45720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Tissue-specific biomarker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cb09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sent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inside the ce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low concentration can be detected in plasma due to cellular turno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f higher concentration is detected in plasma, it indicates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ell damag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ell damage can be due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Tissue inflammation, </a:t>
            </a:r>
            <a:r>
              <a:rPr b="0" lang="en-US" sz="3200" spc="-1" strike="noStrike">
                <a:solidFill>
                  <a:srgbClr val="2e75b6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ALT* in liver disease (e.g. acute hepatit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Amylase in acute pancreatitis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algn="ctr">
              <a:lnSpc>
                <a:spcPct val="90000"/>
              </a:lnSpc>
              <a:spcBef>
                <a:spcPts val="374"/>
              </a:spcBef>
              <a:buClr>
                <a:srgbClr val="7f7f7f"/>
              </a:buClr>
              <a:buFont typeface="Calibri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Ischem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ypoxi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farction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↑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lasma [Troponin]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 myocardial infar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*: alanine aminotransfer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 u="sng">
                <a:solidFill>
                  <a:srgbClr val="c00000"/>
                </a:solidFill>
                <a:uFillTx/>
                <a:latin typeface="Calibri Light"/>
              </a:rPr>
              <a:t>diagnosis and prognosis: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599840"/>
            <a:ext cx="74678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agnosis: Identification of a disease from its signs and sympto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gnosis: The future outcome of a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 u="sng">
                <a:solidFill>
                  <a:srgbClr val="c00000"/>
                </a:solidFill>
                <a:uFillTx/>
                <a:latin typeface="Calibri Light"/>
              </a:rPr>
              <a:t>Criteria of a good biomarker assay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160" y="1676160"/>
            <a:ext cx="746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good biomarker assay should b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ensitiv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nsitivity is the Ability of an assay to detect small quantities of a mar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pecific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pecificity is the ability of an assay to detect only the marker of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bust to produce fast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3:06:37Z</dcterms:created>
  <dc:creator>Usman</dc:creator>
  <dc:description/>
  <dc:language>en-US</dc:language>
  <cp:lastModifiedBy>Rana Hasanato</cp:lastModifiedBy>
  <dcterms:modified xsi:type="dcterms:W3CDTF">2015-11-01T05:52:19Z</dcterms:modified>
  <cp:revision>106</cp:revision>
  <dc:subject/>
  <dc:title>Genetic Counsel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5671033</vt:lpwstr>
  </property>
</Properties>
</file>