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3553-4BDD-4545-BF74-AA6A902B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5D4D-26D5-4D04-8C76-0B17710D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5190-754B-4973-850B-50A97313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2C45-9CAE-4195-9067-A74ABD47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1058-4D4A-470B-876C-34BE79EB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A893-11D2-4975-91E6-CC8A67A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3A92-124E-403B-8C54-B74924F0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FAA5-C71C-4036-AF6A-DC4D469C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80A2-0BC7-4BF4-B89F-A6612DE8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54F1-A6A7-4561-B928-9231A8F6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6AF7-CDDD-41EA-9574-69654328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EED-61DF-41E0-AF22-371CE66E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0D69-9E63-43C6-A9D7-79F778CF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848A-699B-4CDF-9FAA-01219B40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7956-9298-4EBF-9219-80E5797D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4F87-56DA-4FAA-B83D-DF3D1B75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6C8ED-AB7D-40AD-B503-6425A9DF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DD7-9719-4D93-94F0-6A395C25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8F4-C8CE-46E6-9E94-8939780E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580-8282-4C09-B8C7-EC0E6810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2B7E-A1D0-412E-98AC-6089207D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309-BE5B-4BEF-99F2-E5A697BA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AA2-9D5B-4A9F-9371-62EE1DDA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8865-C277-429D-A59D-E82FC905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0224-55E7-46A9-9E90-AD0D4A52EA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91BB-8075-4C4B-A5C5-D98452FC6EC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xqFQoTCKnhl7DrqsgCFYZbGgodjxsDyw&amp;url=http%3A%2F%2Fwww.slideshare.net%2Fwonnietonnie%2Fregulation-of-enzyme-activity&amp;psig=AFQjCNF6wYHxQPtkBRRRMO6KcPdkrzrfJQ&amp;ust=1444117518295786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Enzymes and coenzymes II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Clinical Chemistry Un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5996"/>
                </a:solidFill>
                <a:latin typeface="Calibri"/>
              </a:rPr>
              <a:t>Department of Patholo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The inhibitor does not have structural similarity to the substra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9900"/>
                </a:solidFill>
                <a:latin typeface="Arial"/>
                <a:ea typeface="Arial"/>
              </a:rPr>
              <a:t>The inhibitor binds to the enzyme at a site away from the substrate binding si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No competition exists between the inhibitor and the substrat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9900"/>
                </a:solidFill>
                <a:latin typeface="Arial"/>
                <a:ea typeface="Arial"/>
              </a:rPr>
              <a:t>The inhibitor can bind to a free enzyme or to an enzyme-substrate complex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26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Arial"/>
                <a:ea typeface="Arial"/>
              </a:rPr>
              <a:t>In both cases the complex is catalytically inactive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Noncompetitive  inhibition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82800" y="5331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S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SI (inactive)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I (inactive)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he value of V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decreased by the inhibitor, but K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unchanged because the affinity of S for E is unchange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800600" y="3273480"/>
            <a:ext cx="3048120" cy="36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Regulatory enzymes usually catalyze the first or an early reaction in a metabolic pathw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Palatino"/>
              </a:rPr>
              <a:t>They catalyze a rate limiting reaction that controls the overall pathwa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latino"/>
              </a:rPr>
              <a:t>They may also catalyze a reaction unique to that pathway known as committed ste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Palatino"/>
              </a:rPr>
              <a:t>Regulation of enzyme activity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82800" y="45720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Feedback inhibit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n the end product of a metabolic pathway exceeds its concentration limit, it inhibits the regulatory enzyme to normalize the pathway (feedback inhibitio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Feed positive activatio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When the end product of a metabolic pathway is below its concentration limit, it activates the regulatory enzyme to normalize the pathwa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image.slidesharecdn.com/regulationofenzymeactivity-120118235808-phpapp01/95/regulation-of-enzyme-activity-8-728.jpg?cb=13269328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9144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8280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Allosteric enzyme regu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The enzymes in metabolic pathways whose activities can be regulated by certain compounds that bind to enzyme other than the catalytic site are known as allosteric enzym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The term “allosteric” came from Greek word “allos” meaning “other”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Types of regul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82800" y="990360"/>
            <a:ext cx="7315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ooperative bi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process by which binding of a ligand to a regulatory site affects binding of the same or of another ligand to the enzyme is known as cooperative bind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828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inding of an allosteric modulator causes a change in the conformation of the enzym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This causes a change in the binding affinity of enzyme for the substr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http://31.media.tumblr.com/tumblr_ls44leSmku1qmsda8o1_500.jpg"/>
          <p:cNvPicPr/>
          <p:nvPr/>
        </p:nvPicPr>
        <p:blipFill>
          <a:blip r:embed="rId1"/>
          <a:stretch/>
        </p:blipFill>
        <p:spPr>
          <a:xfrm>
            <a:off x="1008000" y="1066680"/>
            <a:ext cx="6459480" cy="43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764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Inhibition is a process in which the enzyme activity is regulated or controlle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o inhibit means to stop the enzyme activity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nzym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82800" y="837720"/>
            <a:ext cx="73152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effect of a modulator may be positive (activation) or negative (inhibi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Positive: increased E, S affin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Negative decreased E, S affin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Most allosteric enzymes are oligomers (two or more polypeptide chains or subunit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subunits are known as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protom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82800" y="762120"/>
            <a:ext cx="7315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wo types of interactions occur in allosteric enzyme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Homotrop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cc33"/>
                </a:solidFill>
                <a:latin typeface="Arial"/>
                <a:ea typeface="Arial"/>
              </a:rPr>
              <a:t>Heterotropic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Homotropic: Effect of one ligand on the binding of the same ligand (a regulatory enzyme modulated by its own substrate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eterotropic: Effect of one ligand on the binding of a different ligand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84240" y="456840"/>
            <a:ext cx="530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Enzymatic diagnosis and prognosis of disea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82800" y="1905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nzymes are used clinically in three way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As indicators of enzyme activity or conc. in body fluids (serum, urine) in the diagnosis/prognosis of diseas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s analytical reagents in measuring activity of other enzymes or compounds in body fluid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  <a:ea typeface="Arial"/>
              </a:rPr>
              <a:t>As therapeutic agent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82800" y="14479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most commonly used body fluids for measuring enzyme activity are 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seru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 plas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  <a:ea typeface="Arial"/>
              </a:rPr>
              <a:t>There a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Plasma-specific enzy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Nonplasma-specific enzym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Serum markers in the diagnosis of dise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82800" y="2438280"/>
            <a:ext cx="73152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Heart diseas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Pancreatic diseas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Liver diseases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ferenc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ppincott- Illustrated Reviews in Biochemistry, 4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di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et 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Biochemis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04 John Wiley &amp; S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62cb"/>
                </a:solidFill>
                <a:latin typeface="Arial"/>
              </a:rPr>
              <a:t>An enzyme without inhibito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703440" y="419040"/>
            <a:ext cx="7735680" cy="5105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 rot="16200000">
            <a:off x="-142560" y="470520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53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oet </a:t>
            </a:r>
            <a:r>
              <a:rPr b="0" i="1" lang="en-US" sz="1200" spc="-1" strike="noStrike">
                <a:solidFill>
                  <a:srgbClr val="ffffff"/>
                </a:solidFill>
                <a:latin typeface="Calibri"/>
              </a:rPr>
              <a:t>Biochemis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3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04 John Wiley &amp; Sons, In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7150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b62cb"/>
                </a:solidFill>
                <a:latin typeface="Arial"/>
              </a:rPr>
              <a:t>An enzyme with inhibitor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685800" y="561960"/>
            <a:ext cx="7772400" cy="4818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 rot="16200000">
            <a:off x="-139320" y="470520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53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re are mainly two types of enzyme inhibition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Compet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Arial"/>
                <a:ea typeface="Arial"/>
              </a:rPr>
              <a:t>Noncompetit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nzym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7535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r>
              <a:rPr b="1" lang="en-US" sz="33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s a measure of the affinity of the inhibitor for the enzyme. Also known as dissociation constant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K</a:t>
            </a:r>
            <a:r>
              <a:rPr b="1" lang="en-US" sz="4400" spc="-1" strike="noStrike" baseline="-25000">
                <a:solidFill>
                  <a:srgbClr val="ffff00"/>
                </a:solidFill>
                <a:latin typeface="Arial"/>
                <a:ea typeface="Arial"/>
              </a:rPr>
              <a:t>i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 (Inhibitor constant)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he inhibitor is a structural analogue that competes with the substrate for binding at the active site of enzym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Two equilibria are possible: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S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S </a:t>
            </a:r>
            <a:r>
              <a:rPr b="1" lang="en-US" sz="3300" spc="-1" strike="noStrike">
                <a:solidFill>
                  <a:srgbClr val="ff9900"/>
                </a:solidFill>
                <a:latin typeface="Wingdings"/>
                <a:ea typeface="Wingdings"/>
              </a:rPr>
              <a:t>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 + P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and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E + I </a:t>
            </a:r>
            <a:r>
              <a:rPr b="1" lang="en-US" sz="3300" spc="-1" strike="noStrike">
                <a:solidFill>
                  <a:srgbClr val="ff9900"/>
                </a:solidFill>
                <a:latin typeface="Symbol"/>
                <a:ea typeface="Symbol"/>
              </a:rPr>
              <a:t>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 EI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612800" y="533160"/>
            <a:ext cx="607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Competitive inhibi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76320" y="1371600"/>
            <a:ext cx="9199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61760" y="914400"/>
            <a:ext cx="753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In competitive inhibition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</a:t>
            </a:r>
            <a:r>
              <a:rPr b="1" lang="en-US" sz="3300" spc="-1" strike="noStrike" u="sng" baseline="-25000">
                <a:solidFill>
                  <a:srgbClr val="ffffff"/>
                </a:solidFill>
                <a:uFillTx/>
                <a:latin typeface="Arial"/>
                <a:ea typeface="Arial"/>
              </a:rPr>
              <a:t>max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is unchanged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 in the presence and the absence of inhibitor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The value of </a:t>
            </a:r>
            <a:r>
              <a:rPr b="1" lang="en-US" sz="33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K</a:t>
            </a:r>
            <a:r>
              <a:rPr b="1" lang="en-US" sz="3300" spc="-1" strike="noStrike" u="sng" baseline="-25000">
                <a:solidFill>
                  <a:srgbClr val="ff9900"/>
                </a:solidFill>
                <a:uFillTx/>
                <a:latin typeface="Arial"/>
                <a:ea typeface="Arial"/>
              </a:rPr>
              <a:t>m</a:t>
            </a:r>
            <a:r>
              <a:rPr b="1" lang="en-US" sz="3300" spc="-1" strike="noStrike" u="sng">
                <a:solidFill>
                  <a:srgbClr val="ff9900"/>
                </a:solidFill>
                <a:uFillTx/>
                <a:latin typeface="Arial"/>
                <a:ea typeface="Arial"/>
              </a:rPr>
              <a:t> is increased </a:t>
            </a:r>
            <a:r>
              <a:rPr b="1" lang="en-US" sz="3300" spc="-1" strike="noStrike">
                <a:solidFill>
                  <a:srgbClr val="ff9900"/>
                </a:solidFill>
                <a:latin typeface="Arial"/>
                <a:ea typeface="Arial"/>
              </a:rPr>
              <a:t>because substrate and inhibitor compete for binding at the same sit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 algn="just">
              <a:lnSpc>
                <a:spcPct val="100000"/>
              </a:lnSpc>
              <a:spcBef>
                <a:spcPts val="82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  <a:ea typeface="Arial"/>
              </a:rPr>
              <a:t>A higher concentration of substrate is required to achieve half-maximal velocity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325800" indent="0" algn="just">
              <a:lnSpc>
                <a:spcPct val="10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8:31:02Z</dcterms:created>
  <dc:creator>ddf</dc:creator>
  <dc:description/>
  <dc:language>en-US</dc:language>
  <cp:lastModifiedBy>Sumbul Fatma</cp:lastModifiedBy>
  <dcterms:modified xsi:type="dcterms:W3CDTF">2015-10-05T07:51:21Z</dcterms:modified>
  <cp:revision>14</cp:revision>
  <dc:subject/>
  <dc:title>Enzyme and coenzyme II</dc:title>
</cp:coreProperties>
</file>