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24E-F7B4-4D56-976F-0E1E4A3D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D9D-A1DA-4AA5-B21B-E4726A63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DDF-DBE0-4EFD-8E31-619E691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509-8766-46B9-AABC-5D0145B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9F41-1D20-4D95-82AE-63124075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925-0ABF-4FA5-9BDC-8A0F1CA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747-8F8D-4BDB-A4E8-8704ABC9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84FF-F6AF-4A28-B33C-724589AB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46B-E47F-460A-ABC0-AD7F4709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531-FA53-4196-B793-5C716A0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695E-5A14-4D69-A49D-BCF477D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714-F305-420E-93A4-2B73116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B743-6A7B-489E-93C8-C5F74457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E8A5-0356-4E64-94C9-CAFDBF8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FE5-6A8B-4C84-AB0D-4E5A34DF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73A-89B1-48AE-96AC-04103A55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E377-69D6-46F4-AFEE-EC84923F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60-2A22-4C68-A6A4-9203D792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1A8-EEEC-4B26-9F82-C967EF72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0D2-CE6B-41BD-96C6-2FBF124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F91-3FEE-42C2-9325-1EA131DD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26D-FE2C-41B8-BEB2-792977A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287-0670-43EA-885E-75C67EE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AC0-4657-4430-A2C1-1B0D1C8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666-F933-4CB3-B3E9-EEC136E9AB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AC2D-B21E-47C4-97C9-AE75969EBC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xqFQoTCKnhl7DrqsgCFYZbGgodjxsDyw&amp;url=http%3A%2F%2Fwww.slideshare.net%2Fwonnietonnie%2Fregulation-of-enzyme-activity&amp;psig=AFQjCNF6wYHxQPtkBRRRMO6KcPdkrzrfJQ&amp;ust=144411751829578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Enzymes and coenzymes I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The inhibitor does not have structural similarity to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binds to the enzyme at a site away from the substrate binding si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No competition exists between the inhibitor and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can bind to a free enzyme or to an enzyme-substrate complex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In both cases the complex is catalytically inactiv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Noncompetitive  inhib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2800" y="533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S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value of V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decreased by the inhibitor, but 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unchanged because the affinity of S for E is unchang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3273480"/>
            <a:ext cx="30481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Regulatory enzymes usually catalyze the first or an early reaction in a metabolic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Palatino"/>
              </a:rPr>
              <a:t>They catalyze a rate limiting reaction that controls the overall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They may also catalyze a reaction unique to that pathway known as committed st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"/>
              </a:rPr>
              <a:t>Regulation of enzyme activ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82800" y="4572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back inhibi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exceeds its concentration limit, it inhibits the regulatory enzyme to normalize the pathway (feedback inhibitio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 positive activa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is below its concentration limit, it activates the regulatory enzyme to normalize the pathwa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image.slidesharecdn.com/regulationofenzymeactivity-120118235808-phpapp01/95/regulation-of-enzyme-activity-8-728.jpg?cb=13269328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828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Allosteric enzyme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enzymes in metabolic pathways whose activities can be regulated by certain compounds that bind to enzyme other than the catalytic site are known as allosteric enzym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The term “allosteric” came from Greek word “allos” meaning “other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ypes of regul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process by which binding of a ligand to a regulatory site affects binding of the same or of another ligand to the enzyme is known as 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nding of an allosteric modulator causes a change in the conformation of the enzy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is causes a change in the binding affinity of enzyme for the substr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31.media.tumblr.com/tumblr_ls44leSmku1qmsda8o1_500.jpg"/>
          <p:cNvPicPr/>
          <p:nvPr/>
        </p:nvPicPr>
        <p:blipFill>
          <a:blip r:embed="rId1"/>
          <a:stretch/>
        </p:blipFill>
        <p:spPr>
          <a:xfrm>
            <a:off x="1008000" y="1066680"/>
            <a:ext cx="64594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6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hibition is a process in which the enzyme activity is regulated or controll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o inhibit means to stop the enzyme activ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82800" y="8377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effect of a modulator may be positive (activation) or negative (inhibi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Positive: in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Negative de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Most allosteric enzymes are oligomers (two or more polypeptide chains or sub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bunits are known a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ro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types of interactions occur in alloster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om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eter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Homotropic: Effect of one ligand on the binding of the same ligand (a regulatory enzyme modulated by its own subst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pic: Effect of one ligand on the binding of a different lig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84240" y="456840"/>
            <a:ext cx="530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nzymatic diagnosis and prognosis of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nzymes are used clinically in three way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indicators of enzyme activity or conc. in body fluids (serum, urine) in the diagnosis/prognosis of dis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 analytical reagents in measuring activity of other enzymes or compounds in body flui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therapeutic ag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828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most commonly used body fluids for measuring enzyme activity ar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seru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rum markers in the diagnosis of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82800" y="2438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Heart dise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Pancreatic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Liver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pincott- Illustrated Reviews in Biochemistry,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out inhibi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03440" y="419040"/>
            <a:ext cx="773568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 rot="16200000">
            <a:off x="-14256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 inhibitor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85800" y="56196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 rot="16200000">
            <a:off x="-13932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mainly two types of enzyme inhibi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53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a measure of the affinity of the inhibitor for the enzyme. Also known as dissociation constant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K</a:t>
            </a:r>
            <a:r>
              <a:rPr b="1" lang="en-US" sz="4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(Inhibitor constan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inhibitor is a structural analogue that competes with the substrate for binding at the active site of enzym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wo equilibria are possible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S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 </a:t>
            </a:r>
            <a:r>
              <a:rPr b="1" lang="en-US" sz="33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 + P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an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etitiv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19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5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 competitive inhibition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</a:t>
            </a:r>
            <a:r>
              <a:rPr b="1" lang="en-US" sz="3300" spc="-1" strike="noStrike" u="sng" baseline="-25000">
                <a:solidFill>
                  <a:srgbClr val="ffffff"/>
                </a:solidFill>
                <a:uFillTx/>
                <a:latin typeface="Arial"/>
                <a:ea typeface="Arial"/>
              </a:rPr>
              <a:t>max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is unchanged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n the presence and the absence of inhibitor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The value of 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K</a:t>
            </a:r>
            <a:r>
              <a:rPr b="1" lang="en-US" sz="3300" spc="-1" strike="noStrike" u="sng" baseline="-25000">
                <a:solidFill>
                  <a:srgbClr val="ff9900"/>
                </a:solidFill>
                <a:uFillTx/>
                <a:latin typeface="Arial"/>
                <a:ea typeface="Arial"/>
              </a:rPr>
              <a:t>m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 is increased 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because substrate and inhibitor compete for binding at the same sit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A higher concentration of substrate is required to achieve half-maximal veloc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8:31:02Z</dcterms:created>
  <dc:creator>ddf</dc:creator>
  <dc:description/>
  <dc:language>en-US</dc:language>
  <cp:lastModifiedBy>Sumbul Fatma</cp:lastModifiedBy>
  <dcterms:modified xsi:type="dcterms:W3CDTF">2015-10-05T07:51:21Z</dcterms:modified>
  <cp:revision>14</cp:revision>
  <dc:subject/>
  <dc:title>Enzyme and coenzyme II</dc:title>
</cp:coreProperties>
</file>