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36.jpeg" ContentType="image/jpeg"/>
  <Override PartName="/ppt/media/image21.png" ContentType="image/png"/>
  <Override PartName="/ppt/media/image19.png" ContentType="image/png"/>
  <Override PartName="/ppt/media/image28.png" ContentType="image/png"/>
  <Override PartName="/ppt/media/image29.jpeg" ContentType="image/jpeg"/>
  <Override PartName="/ppt/media/image30.png" ContentType="image/png"/>
  <Override PartName="/ppt/media/image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7077600" cy="905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4008240" y="-36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0" y="8597520"/>
            <a:ext cx="30672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4008240" y="8597520"/>
            <a:ext cx="30668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E7DD-135C-4D86-87F9-CAE52414AF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lain w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5797-7EC4-4A56-956D-E407B8271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99CA-F58A-48E5-BE64-F3547F4189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A551-F8FE-44A1-A2FB-3C29DB92B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B6DD-3832-42AF-8668-4B11EBA45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76200" y="679320"/>
            <a:ext cx="4524480" cy="3394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7760" y="4298760"/>
            <a:ext cx="5661000" cy="40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08600" y="8597880"/>
            <a:ext cx="30668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B7B6-EA37-46EE-BA9A-72B4FBBCB2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8D5-E5C7-47B5-A220-3B48BF444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8E9-032A-4A2E-8446-7E503A4A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0F51-F3C7-43F9-AEE3-0ADC81B8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30F-5D76-4C5E-B66E-007BFB8D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9B56-9CDE-49F9-8343-FF9B4A82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854-0764-4361-B99A-15A9C0F4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6A6C-00DD-47C7-A3CD-42B07A15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DF0A-DD93-4F6B-8020-0978FE92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9CA6-B62C-4973-BABC-EC82C2C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C32-CBF3-49BB-B849-A31AC793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AD94-549B-4AC7-9946-FD8990A67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495-5A56-460C-84BE-CD007EB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659B-F164-4610-9E02-3D5E97FA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97D2-AA74-4F7B-81A6-8F4D2C89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2D2E-80C6-47BC-8C1F-6A552FEE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F95C-2DE6-4C12-897B-519E6042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AEBB-6135-4939-9F75-FCE68F7F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51BD6-E9D3-4EF7-919C-CACE1F1B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3069-6DEC-4D4C-B05C-D98C9942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14AAE-1336-4DE7-AB13-4C1D0CAC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71AB1-BC6F-42F6-9BBE-35C82009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2F37-B1B2-4458-922D-4EA5C749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AB7-46BC-4B82-853E-FECCFD8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5EA1-BFC9-42CD-80C4-C1CCBCD1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54F5-1FBA-45B8-A2A3-961D9794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3B6B9-691F-43A8-AE3A-C11841C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FD78-6775-4A5B-9892-30811085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BE4E-5D5F-46B8-92BB-69DCA7BC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4806B-2D91-46E3-80AB-CAE91030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C175-4108-4C93-BC72-DDD02E02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D9DF-D320-4118-8FD1-368BDE36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EADE5-98CB-48A8-AC29-ED22CC74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FEA37-CD25-49F9-A0D4-549DF471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8E6-8CC5-4519-8BFB-584F49F0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7C34-B185-4F67-9E75-EE1B6D00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65B4-F513-4B50-8323-313C29F4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E6900-54AD-4415-8BC1-B723242B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AB65C-69E9-47B9-B419-CD13E7CE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E77AA-F56A-492C-A7CD-F9C9DFEE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E55A1-200A-4138-B4BB-60F9FCA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6067D-3F62-4399-A451-6B71414F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3438-C80F-42C0-AC68-BBD8FF9C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D82BF-CFE3-4FE0-887B-B53E893A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449E2-2386-4C87-9EB3-7083A923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3E4-2B5A-4381-9901-A200C57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B47A4-5DAF-4B35-9B53-DD476F9C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FCDDF-2BDE-4D49-BF9D-7C3EDD19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721D6-9012-4A1E-A707-03317AB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4EBBA-C30D-46D9-9339-F6975B50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C1BC-B232-4DE5-ADB0-155DEF04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DBC2B-8929-446B-8F56-E084DB44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982F4-B9C0-4B21-95FD-93B8986D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585D-47F0-4D6B-99B9-B467C65D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2BFE-D7D4-45AF-98F2-6EC34A4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2F8AB-723F-483F-A7E9-1848DAB3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CFF4-FA7B-406D-9EB9-CF12C81D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9BABE-E7D1-41C1-94EB-57BB0611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AD638-74CB-45E3-A9E0-A8E80D7D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A3136-7194-4C6F-9E91-B19BB555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98BF-5F40-40A7-B8C3-D2DDF30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C7BC2-2E3D-4274-BD38-CD509505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F69A-020A-4F69-9B01-929FD1B3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0EFC-DFC5-49E6-B699-8A9A7FCB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EC91-504C-4AB0-B44C-8E08CD1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94319-317F-486F-8B5A-64DA47F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1981B-869B-41B2-97C2-77D5EFB9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F99-67E2-47F6-8217-D35E075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3B97-A1DF-49CD-93A5-A2E7FA02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13C1-E29C-465A-9184-342AE6A6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A97F3-6385-481F-B5CF-46375400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758C-231E-4E40-9BFA-F9FC1C3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E9E-02DC-4E6C-B7B8-B63CC0E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6FCA-9F5C-4DC6-8AA3-E065180B8B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9F69-0938-4046-989A-9D750ED324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4C8-FC6F-4FB0-91C2-6228840729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6375-0AC6-4414-8985-F8D85B722A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CAC2-9364-47F5-A9BD-3E645610BB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096D-6020-446D-9D99-423F3C4E55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1" descr=""/>
          <p:cNvPicPr/>
          <p:nvPr/>
        </p:nvPicPr>
        <p:blipFill>
          <a:blip r:embed="rId1"/>
          <a:stretch/>
        </p:blipFill>
        <p:spPr>
          <a:xfrm>
            <a:off x="682560" y="530280"/>
            <a:ext cx="7815240" cy="1841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5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74b78"/>
                </a:solidFill>
                <a:latin typeface="Lucida Sans Unicode"/>
              </a:rPr>
              <a:t>B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Lucida Sans Unicode"/>
              </a:rPr>
              <a:t>Dr. Sumbul Fat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Rectangle 3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94480" cy="13842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0"/>
          <p:cNvSpPr/>
          <p:nvPr/>
        </p:nvSpPr>
        <p:spPr>
          <a:xfrm>
            <a:off x="380880" y="20574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ecursor molecules into complex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ergonic reactions require A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ergen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378000" y="73080"/>
            <a:ext cx="8394480" cy="1079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My Documents\My Pictures\08_004.jpg"/>
          <p:cNvPicPr/>
          <p:nvPr/>
        </p:nvPicPr>
        <p:blipFill>
          <a:blip r:embed="rId2"/>
          <a:srcRect l="11012" t="2469" r="11012" b="16048"/>
          <a:stretch/>
        </p:blipFill>
        <p:spPr>
          <a:xfrm>
            <a:off x="1371600" y="13716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3413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99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Anabolic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44720" y="1676520"/>
            <a:ext cx="4041720" cy="76176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 Unicode"/>
              </a:rPr>
              <a:t>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2763720"/>
            <a:ext cx="419256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Simple to complex 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nd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reduc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PH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i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489560" y="2763360"/>
            <a:ext cx="4349520" cy="34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mplex to simple molecul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Exergonic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Involves oxidation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7a8f"/>
                </a:solidFill>
                <a:latin typeface="Lucida Sans Unicode"/>
              </a:rPr>
              <a:t>Requires NAD</a:t>
            </a:r>
            <a:r>
              <a:rPr b="1" lang="en-US" sz="2800" spc="-1" strike="noStrike" baseline="30000">
                <a:solidFill>
                  <a:srgbClr val="227a8f"/>
                </a:solidFill>
                <a:latin typeface="Lucida Sans Unicode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199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Convergent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7200" y="14637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Amphi = Dual, amphibolic: dual pathwa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Krebs cycle is mainly a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cat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cycle, but with some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anabolic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features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e.g.,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part of Krebs cycle is used for the synthesis of glucose from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refore,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Krebs cycle is amphi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456840" y="1494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             ADP +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ree energy liberated in the hydrolysis of ATP is used to drive the endergonic re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P is formed from ADP and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hen fuel molecules are oxidized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ATP-ADP cyc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 the fundamental mode of energy exchange in biological system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cxnSp>
        <p:nvCxnSpPr>
          <p:cNvPr id="314" name="Straight Arrow Connector 4"/>
          <p:cNvCxnSpPr/>
          <p:nvPr/>
        </p:nvCxnSpPr>
        <p:spPr>
          <a:xfrm>
            <a:off x="4524480" y="1777680"/>
            <a:ext cx="776880" cy="108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7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169480" cy="115272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9"/>
          <p:cNvGrpSpPr/>
          <p:nvPr/>
        </p:nvGrpSpPr>
        <p:grpSpPr>
          <a:xfrm>
            <a:off x="2438280" y="1752480"/>
            <a:ext cx="4953240" cy="4191120"/>
            <a:chOff x="2438280" y="1752480"/>
            <a:chExt cx="4953240" cy="4191120"/>
          </a:xfrm>
        </p:grpSpPr>
        <p:pic>
          <p:nvPicPr>
            <p:cNvPr id="317" name="Picture 8" descr="C:\My Documents\My Pictures\06_005.jpg"/>
            <p:cNvPicPr/>
            <p:nvPr/>
          </p:nvPicPr>
          <p:blipFill>
            <a:blip r:embed="rId2"/>
            <a:srcRect l="5222" t="4347" r="4729" b="28264"/>
            <a:stretch/>
          </p:blipFill>
          <p:spPr>
            <a:xfrm>
              <a:off x="2438280" y="1752480"/>
              <a:ext cx="49532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9"/>
            <p:cNvSpPr/>
            <p:nvPr/>
          </p:nvSpPr>
          <p:spPr>
            <a:xfrm>
              <a:off x="2566800" y="4929840"/>
              <a:ext cx="31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"/>
                </a:rPr>
                <a:t>Δ Gº -7.3 kcal/mol/bo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5923080" y="6781680"/>
            <a:ext cx="2361960" cy="76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0" descr="C:\My Documents\My Pictures\06_006.jpg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632484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3" descr=""/>
          <p:cNvPicPr/>
          <p:nvPr/>
        </p:nvPicPr>
        <p:blipFill>
          <a:blip r:embed="rId3"/>
          <a:stretch/>
        </p:blipFill>
        <p:spPr>
          <a:xfrm>
            <a:off x="682560" y="49320"/>
            <a:ext cx="8163000" cy="1633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15"/>
          <p:cNvSpPr/>
          <p:nvPr/>
        </p:nvSpPr>
        <p:spPr>
          <a:xfrm>
            <a:off x="394920" y="2128680"/>
            <a:ext cx="35517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-rich compounds e.g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2586240" y="3038400"/>
            <a:ext cx="1819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5884920" y="2444760"/>
            <a:ext cx="30916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-ri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2069640" y="5248440"/>
            <a:ext cx="8895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3" descr=""/>
          <p:cNvPicPr/>
          <p:nvPr/>
        </p:nvPicPr>
        <p:blipFill>
          <a:blip r:embed="rId1"/>
          <a:stretch/>
        </p:blipFill>
        <p:spPr>
          <a:xfrm>
            <a:off x="682560" y="500040"/>
            <a:ext cx="7937640" cy="10303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1127160" y="1897200"/>
            <a:ext cx="7178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Oxid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oss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Redu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a1f28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ain of 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3" descr=""/>
          <p:cNvPicPr/>
          <p:nvPr/>
        </p:nvPicPr>
        <p:blipFill>
          <a:blip r:embed="rId1"/>
          <a:stretch/>
        </p:blipFill>
        <p:spPr>
          <a:xfrm>
            <a:off x="682560" y="268200"/>
            <a:ext cx="7937640" cy="10368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C:\My Documents\My Pictures\28_014.jpg"/>
          <p:cNvPicPr/>
          <p:nvPr/>
        </p:nvPicPr>
        <p:blipFill>
          <a:blip r:embed="rId2"/>
          <a:srcRect l="28337" t="3918" r="15001" b="16410"/>
          <a:stretch/>
        </p:blipFill>
        <p:spPr>
          <a:xfrm>
            <a:off x="2514600" y="1219320"/>
            <a:ext cx="4343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1633320"/>
            <a:ext cx="86868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Understand the concept of metabolic pathwa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types &amp; characters of metabolic pathways- anabolic and catabolic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Identify ATP as the energy currency of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94480" cy="10000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8"/>
          <p:cNvSpPr/>
          <p:nvPr/>
        </p:nvSpPr>
        <p:spPr>
          <a:xfrm>
            <a:off x="1235880" y="1523880"/>
            <a:ext cx="7529400" cy="46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Intracellular sign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Substrat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roduct inhi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Allosteric activ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Intercellular commun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emical signaling (hormone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Second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AMP, cG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a/phosphatidylinosit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rbohydrates &amp; lipid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mainly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d proteins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little extent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re used for energy produc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se are- </a:t>
            </a: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, fatty acids and amino aci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74b78"/>
                </a:solidFill>
                <a:latin typeface="Lucida Sans Unicode"/>
              </a:rPr>
              <a:t>Glucose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 is the major metabolic fuel of most tissu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etabolism is the sum of all biochemical pathways that occur inside the cell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 metabolic pathway is a multistep sequences of enzyme-catalyzed reaction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Catabolism is a convergent process that provides energy to cells in the form of AT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nabolism is a divergent process that consumes energy for the synthesis of complex molecu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spcAft>
                <a:spcPts val="1800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c pathways are tightly regulated and highly integrated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684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TP is the energy currency of the cel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3" descr=""/>
          <p:cNvPicPr/>
          <p:nvPr/>
        </p:nvPicPr>
        <p:blipFill>
          <a:blip r:embed="rId1"/>
          <a:stretch/>
        </p:blipFill>
        <p:spPr>
          <a:xfrm>
            <a:off x="682560" y="-19080"/>
            <a:ext cx="7937640" cy="939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C:\My Documents\My Pictures\06_008.jpg"/>
          <p:cNvPicPr/>
          <p:nvPr/>
        </p:nvPicPr>
        <p:blipFill>
          <a:blip r:embed="rId2"/>
          <a:srcRect l="3332" t="3588" r="2497" b="36923"/>
          <a:stretch/>
        </p:blipFill>
        <p:spPr>
          <a:xfrm>
            <a:off x="304920" y="1155600"/>
            <a:ext cx="8610480" cy="4419720"/>
          </a:xfrm>
          <a:prstGeom prst="rect">
            <a:avLst/>
          </a:prstGeom>
          <a:ln w="38160">
            <a:solidFill>
              <a:srgbClr val="474b78"/>
            </a:solidFill>
            <a:miter/>
          </a:ln>
        </p:spPr>
      </p:pic>
      <p:sp>
        <p:nvSpPr>
          <p:cNvPr id="342" name="Text Box 15"/>
          <p:cNvSpPr/>
          <p:nvPr/>
        </p:nvSpPr>
        <p:spPr>
          <a:xfrm rot="20044800">
            <a:off x="4672080" y="18457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Non-protein mobile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6"/>
          <p:cNvSpPr/>
          <p:nvPr/>
        </p:nvSpPr>
        <p:spPr>
          <a:xfrm rot="17558400">
            <a:off x="4114440" y="2908080"/>
            <a:ext cx="457200" cy="304560"/>
          </a:xfrm>
          <a:prstGeom prst="leftArrowCallout">
            <a:avLst>
              <a:gd name="adj1" fmla="val 25002"/>
              <a:gd name="adj2" fmla="val 12500"/>
              <a:gd name="adj3" fmla="val 25020"/>
              <a:gd name="adj4" fmla="val 6667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756360" y="5715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ectron transport and ATP synthesis are tightly coupl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1"/>
          <p:cNvSpPr/>
          <p:nvPr/>
        </p:nvSpPr>
        <p:spPr>
          <a:xfrm rot="19673400">
            <a:off x="-142920" y="1496880"/>
            <a:ext cx="3160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4b78"/>
                </a:solidFill>
                <a:latin typeface="Arial"/>
              </a:rPr>
              <a:t>Figure For Illustr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2"/>
          <p:cNvSpPr/>
          <p:nvPr/>
        </p:nvSpPr>
        <p:spPr>
          <a:xfrm>
            <a:off x="4266360" y="5205240"/>
            <a:ext cx="275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Sites for ATP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14"/>
          <p:cNvCxnSpPr/>
          <p:nvPr/>
        </p:nvCxnSpPr>
        <p:spPr>
          <a:xfrm flipH="1">
            <a:off x="6248160" y="4584600"/>
            <a:ext cx="91512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8" name="Straight Arrow Connector 15"/>
          <p:cNvCxnSpPr/>
          <p:nvPr/>
        </p:nvCxnSpPr>
        <p:spPr>
          <a:xfrm flipH="1">
            <a:off x="5637960" y="4584600"/>
            <a:ext cx="1080" cy="61056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  <p:cxnSp>
        <p:nvCxnSpPr>
          <p:cNvPr id="349" name="Straight Arrow Connector 16"/>
          <p:cNvCxnSpPr/>
          <p:nvPr/>
        </p:nvCxnSpPr>
        <p:spPr>
          <a:xfrm>
            <a:off x="3200400" y="3822840"/>
            <a:ext cx="1829520" cy="1372320"/>
          </a:xfrm>
          <a:prstGeom prst="straightConnector1">
            <a:avLst/>
          </a:prstGeom>
          <a:ln w="38160">
            <a:solidFill>
              <a:srgbClr val="474b7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052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spcAft>
                <a:spcPts val="2401"/>
              </a:spcAft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All the chemical reactions taking place inside a cell are collectively known as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METABOLIS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Metabolism consists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consuming </a:t>
            </a:r>
            <a:r>
              <a:rPr b="1" lang="en-US" sz="3200" spc="-1" strike="noStrike">
                <a:solidFill>
                  <a:srgbClr val="002060"/>
                </a:solidFill>
                <a:latin typeface="Lucida Sans Unicode"/>
              </a:rPr>
              <a:t>(an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energy producing </a:t>
            </a:r>
            <a:r>
              <a:rPr b="1" lang="en-US" sz="3200" spc="-1" strike="noStrike">
                <a:solidFill>
                  <a:srgbClr val="c00000"/>
                </a:solidFill>
                <a:latin typeface="Lucida Sans Unicode"/>
              </a:rPr>
              <a:t>(catabolic)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pathway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88" name="Title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378000" y="378000"/>
            <a:ext cx="8315280" cy="1384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533520" y="1674720"/>
            <a:ext cx="8229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abolic Pathwa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multi-step sequence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duct of first reactio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comes a substrate for seco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pathways: Me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http://thepointeedition.lww.com/FullTextService/CT%7b06b9ee1beed59419cc706ceee9ddda6cc77b987fd7479682287ccc275ac7ca3bb38b2b3d0236d7708568555d93246333%7d/DA2C8FF1.gif"/>
          <p:cNvPicPr/>
          <p:nvPr/>
        </p:nvPicPr>
        <p:blipFill>
          <a:blip r:embed="rId1"/>
          <a:stretch/>
        </p:blipFill>
        <p:spPr>
          <a:xfrm>
            <a:off x="1447920" y="1501920"/>
            <a:ext cx="6324480" cy="4973400"/>
          </a:xfrm>
          <a:prstGeom prst="rect">
            <a:avLst/>
          </a:prstGeom>
          <a:ln w="0">
            <a:noFill/>
          </a:ln>
        </p:spPr>
      </p:pic>
      <p:pic>
        <p:nvPicPr>
          <p:cNvPr id="292" name="Title 12" descr=""/>
          <p:cNvPicPr/>
          <p:nvPr/>
        </p:nvPicPr>
        <p:blipFill>
          <a:blip r:embed="rId2"/>
          <a:stretch/>
        </p:blipFill>
        <p:spPr>
          <a:xfrm>
            <a:off x="450720" y="311040"/>
            <a:ext cx="82854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6840" y="11430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Different pathways can intersect, forming an integrated and purposeful network of chemical reactions </a:t>
            </a:r>
            <a:r>
              <a:rPr b="1" lang="en-US" sz="3600" spc="-1" strike="noStrike">
                <a:solidFill>
                  <a:srgbClr val="c00000"/>
                </a:solidFill>
                <a:latin typeface="Lucida Sans Unicode"/>
              </a:rPr>
              <a:t>“The Metabolic Map”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C:\Documents and Settings\aa\My Documents\My Pictures\DA2C8FF2.bmp"/>
          <p:cNvPicPr/>
          <p:nvPr/>
        </p:nvPicPr>
        <p:blipFill>
          <a:blip r:embed="rId1"/>
          <a:stretch/>
        </p:blipFill>
        <p:spPr>
          <a:xfrm>
            <a:off x="914400" y="239760"/>
            <a:ext cx="7315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171252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Most pathways can be classified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cat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anabolic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c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ucida Sans Unicode"/>
              </a:rPr>
              <a:t>Note: Pathways that regenerate a component are called cycle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9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378000" y="26820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" descr="http://thepointeedition.lww.com/FullTextService/CT%7b06b9ee1beed59419cc706ceee9ddda6cc77b987fd7479682287ccc275ac7ca3bb38b2b3d0236d7708568555d93246333%7d/DA2C8FF3.gif"/>
          <p:cNvPicPr/>
          <p:nvPr/>
        </p:nvPicPr>
        <p:blipFill>
          <a:blip r:embed="rId2"/>
          <a:stretch/>
        </p:blipFill>
        <p:spPr>
          <a:xfrm>
            <a:off x="571680" y="1600200"/>
            <a:ext cx="7962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df</dc:creator>
  <dc:description/>
  <dc:language>en-US</dc:language>
  <cp:lastModifiedBy>ddf</cp:lastModifiedBy>
  <dcterms:modified xsi:type="dcterms:W3CDTF">2011-10-11T22:30:58Z</dcterms:modified>
  <cp:revision>94</cp:revision>
  <dc:subject/>
  <dc:title>Slide 1</dc:title>
</cp:coreProperties>
</file>