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D12-CDB4-4D3C-BA94-00C437A5B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lain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361-E566-4AF2-87BE-A39219BAF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E25C-A895-4B8F-8367-85F9BBB9C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950-5744-465C-8BB8-17763B9B4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E815-5BAF-402D-B644-B0EC115B0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DFB-875C-464A-B9CD-6F8A8E5FA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683-9E33-44CE-9530-13BA88A7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936-7A79-49BE-81DC-07D96DA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17A-C7E8-447B-96E8-DB502AC7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40F-A42D-4873-B115-249EE006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B382-09FB-492C-8B08-9E764F01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599-DF1F-441E-9A0C-D398C272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F9CB-7940-4517-B899-4CE52B2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8416-3242-490C-9F19-E247B18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60D9-CF60-4468-8D54-6C2B73D2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DF0-1F0B-4C06-AD87-7A551D9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7A4E-0A66-41CA-B545-7FAACD1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1B1-883E-4CD3-8793-D6C14A8F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B6E2-353A-4CD1-8277-023E9E4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799B-7FAD-486E-B9C0-0A17BA3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BBBF-7297-4F36-9167-B7452A5C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34A1-B38C-4E92-B66B-90C81E73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4EE2-3934-48DA-8E2E-540B7119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4113-909B-434A-8B08-5606AEE8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E917-8182-46F5-A4F9-3D170756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6B6C-C76F-4E64-9C73-8E7AA29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C211-2463-4CBD-82E7-758A600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4461-F426-4E70-91EB-9BCF069E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48A-B934-41E4-9CF2-2FE7C9D7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C124-6F5E-4C22-8CF1-AA9D0FD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0AA2-5B41-44F0-B704-00E999B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D66C-1754-4F12-BC48-6831EE5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F801-0684-46D1-A7A4-A703269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0452-D300-498E-A1A1-62B6926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2256-3695-43B1-B925-5D7A1219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7197-0AB9-4CFA-A849-D891EBEB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8E69-5060-44D2-9D18-AD9B02F4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4ACA-1857-4369-A3A5-A010FFB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4B57-CF4E-4D08-9599-A7B00583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0E-8105-4198-A78A-44377DB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A2E1-44EC-4568-80FF-8A2C1A9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B4B2-F3D7-4383-8B45-C2A4A16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34A4-4B2C-427A-A898-A2675C8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E4A8-271E-45D8-AF83-8E9F8382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6E53-DC4B-4E87-B271-78FF8D3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CA87-2759-467A-960B-7551A79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0378-8EEE-4C50-B4D1-19A9BD3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05B8-E4E6-4EB9-A610-C153DEB1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0017-899B-4AED-8D8B-6713CA92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50EA-4FBC-4627-B64B-22BDBA4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131-AAD7-47D5-9736-8BC1F32B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DE13-9346-4CF9-8848-41BFC64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5D35-23F8-4AAD-86CD-9B7B04A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94FF-1626-4193-B28B-9B2A9EAD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2A2C-CB94-4F27-A163-E7D5CEA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C455-4E22-46A1-B4E5-BBD94D9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1229-4939-4EA7-9E86-8105691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96A8-E319-4248-A857-C2ECFFC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524E-ED1F-42CF-B551-D0E6B37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7B80-CA36-4391-9778-2520DCA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F8AD-5CEC-4E94-8DDF-AB30F277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8A5-7382-4FBC-BFB6-A1128D5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368F-BF5F-4910-92A1-219CFECC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F8CD-F3F5-4BAE-B447-AABF1780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16FE-C65D-4EDC-875C-BB75A1D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7C15-94CA-4009-88E2-71010DFF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5760-90D6-4AE1-A6ED-EB38904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E489-FBE4-42D1-B60D-FD7731F9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C59F2-5EAC-4939-B0CA-8AFDDDB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C351-84B7-4004-A87B-6196B42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F83E-AA5C-4E87-AA7E-9792AE6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3C50-3BC4-445F-9B2D-9D75B2F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1FB-A9B3-474E-B494-E5A2ED3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377B-E3EE-441E-A247-15E3B04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0588C-DD16-4FC2-8AF4-032D21B6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B2EC-4A90-41BE-B229-9E3DD35D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BF-8787-4172-8702-C411F14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A9D-EEC2-4985-B3D3-0504ADA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356-F4C3-4770-9747-5B659E684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AF2A-D311-4465-B403-EEECB0423D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E12C-0CFA-423E-95B4-4742878E9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AF7-90C9-4716-A377-93093336B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47FC-71F7-4EEA-B4AB-28C6DB0A15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635-E65A-4A96-BD1C-5E2BEB114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682560" y="530280"/>
            <a:ext cx="7815240" cy="1841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5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74b78"/>
                </a:solidFill>
                <a:latin typeface="Lucida Sans Unicode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r. Sumbul Fat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3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94480" cy="1384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3808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cursor molecules into complex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ergonic reactions require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erg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78000" y="73080"/>
            <a:ext cx="8394480" cy="1079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My Documents\My Pictures\08_004.jpg"/>
          <p:cNvPicPr/>
          <p:nvPr/>
        </p:nvPicPr>
        <p:blipFill>
          <a:blip r:embed="rId2"/>
          <a:srcRect l="11012" t="2469" r="11012" b="16048"/>
          <a:stretch/>
        </p:blipFill>
        <p:spPr>
          <a:xfrm>
            <a:off x="1371600" y="13716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99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Anabolic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44720" y="1676520"/>
            <a:ext cx="40417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2763720"/>
            <a:ext cx="41925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imple to complex 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nd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red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489560" y="2763360"/>
            <a:ext cx="4349520" cy="34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plex to simple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x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oxid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</a:t>
            </a:r>
            <a:r>
              <a:rPr b="1" lang="en-US" sz="2800" spc="-1" strike="noStrike" baseline="30000">
                <a:solidFill>
                  <a:srgbClr val="227a8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mphi = Dual, amphibolic: dual pathwa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rebs cycle is mainly a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cat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cycle, but with some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an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features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e.g.,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part of Krebs cycle is used for the synthesis of glucose from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refore,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Krebs cycle is amphi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            ADP +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ree energy liberated in the hydrolysis of ATP is used to drive the endergonic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is formed from ADP and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fuel molecules are oxidiz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TP-ADP cyc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the fundamental mode of energy exchange in biological sys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314" name="Straight Arrow Connector 4"/>
          <p:cNvCxnSpPr/>
          <p:nvPr/>
        </p:nvCxnSpPr>
        <p:spPr>
          <a:xfrm>
            <a:off x="4524480" y="1777680"/>
            <a:ext cx="776880" cy="108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7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1694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9"/>
          <p:cNvGrpSpPr/>
          <p:nvPr/>
        </p:nvGrpSpPr>
        <p:grpSpPr>
          <a:xfrm>
            <a:off x="2438280" y="1752480"/>
            <a:ext cx="4953240" cy="4191120"/>
            <a:chOff x="2438280" y="1752480"/>
            <a:chExt cx="4953240" cy="4191120"/>
          </a:xfrm>
        </p:grpSpPr>
        <p:pic>
          <p:nvPicPr>
            <p:cNvPr id="317" name="Picture 8" descr="C:\My Documents\My Pictures\06_005.jpg"/>
            <p:cNvPicPr/>
            <p:nvPr/>
          </p:nvPicPr>
          <p:blipFill>
            <a:blip r:embed="rId2"/>
            <a:srcRect l="5222" t="4347" r="4729" b="28264"/>
            <a:stretch/>
          </p:blipFill>
          <p:spPr>
            <a:xfrm>
              <a:off x="2438280" y="1752480"/>
              <a:ext cx="49532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9"/>
            <p:cNvSpPr/>
            <p:nvPr/>
          </p:nvSpPr>
          <p:spPr>
            <a:xfrm>
              <a:off x="2566800" y="4929840"/>
              <a:ext cx="31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Δ Gº -7.3 kcal/mol/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5923080" y="6781680"/>
            <a:ext cx="2361960" cy="7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0" descr="C:\My Documents\My Pictures\06_006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63248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3" descr=""/>
          <p:cNvPicPr/>
          <p:nvPr/>
        </p:nvPicPr>
        <p:blipFill>
          <a:blip r:embed="rId3"/>
          <a:stretch/>
        </p:blipFill>
        <p:spPr>
          <a:xfrm>
            <a:off x="682560" y="49320"/>
            <a:ext cx="8163000" cy="1633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5"/>
          <p:cNvSpPr/>
          <p:nvPr/>
        </p:nvSpPr>
        <p:spPr>
          <a:xfrm>
            <a:off x="394920" y="2128680"/>
            <a:ext cx="355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-rich compounds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2586240" y="3038400"/>
            <a:ext cx="181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5884920" y="2444760"/>
            <a:ext cx="30916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-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2069640" y="5248440"/>
            <a:ext cx="889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3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7937640" cy="1030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1127160" y="1897200"/>
            <a:ext cx="717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Oxid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oss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Redu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ain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3" descr=""/>
          <p:cNvPicPr/>
          <p:nvPr/>
        </p:nvPicPr>
        <p:blipFill>
          <a:blip r:embed="rId1"/>
          <a:stretch/>
        </p:blipFill>
        <p:spPr>
          <a:xfrm>
            <a:off x="682560" y="268200"/>
            <a:ext cx="7937640" cy="1036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My Documents\My Pictures\28_014.jpg"/>
          <p:cNvPicPr/>
          <p:nvPr/>
        </p:nvPicPr>
        <p:blipFill>
          <a:blip r:embed="rId2"/>
          <a:srcRect l="28337" t="3918" r="15001" b="16410"/>
          <a:stretch/>
        </p:blipFill>
        <p:spPr>
          <a:xfrm>
            <a:off x="2514600" y="1219320"/>
            <a:ext cx="4343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163332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rstand the concept of metabolic pathw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types &amp; characters of metabolic pathways- anabolic and 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ATP as the energy currency of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9448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1235880" y="1523880"/>
            <a:ext cx="75294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Intracellular sign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ubstrat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duct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llosteric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Intercellular commun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emical signaling (hormon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Second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AMP, c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a/phosphatidy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rbohydrates &amp; lipid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mainly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d protein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little extent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e used for energy produc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se are-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, fatty acids and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is the major metabolic fuel of most t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bolism is the sum of all biochemical pathways that occur inside the cell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 metabolic pathway is a multistep sequences of enzyme-catalyzed reaction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tabolism is a convergent process that provides energy to cells in the form of AT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abolism is a divergent process that consumes energy for the synthesis of complex molecu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c pathways are tightly regulated and highly integrat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TP is the energy currency of the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3" descr=""/>
          <p:cNvPicPr/>
          <p:nvPr/>
        </p:nvPicPr>
        <p:blipFill>
          <a:blip r:embed="rId1"/>
          <a:stretch/>
        </p:blipFill>
        <p:spPr>
          <a:xfrm>
            <a:off x="682560" y="-19080"/>
            <a:ext cx="7937640" cy="939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:\My Documents\My Pictures\06_008.jpg"/>
          <p:cNvPicPr/>
          <p:nvPr/>
        </p:nvPicPr>
        <p:blipFill>
          <a:blip r:embed="rId2"/>
          <a:srcRect l="3332" t="3588" r="2497" b="36923"/>
          <a:stretch/>
        </p:blipFill>
        <p:spPr>
          <a:xfrm>
            <a:off x="304920" y="1155600"/>
            <a:ext cx="8610480" cy="4419720"/>
          </a:xfrm>
          <a:prstGeom prst="rect">
            <a:avLst/>
          </a:prstGeom>
          <a:ln w="38160">
            <a:solidFill>
              <a:srgbClr val="474b78"/>
            </a:solidFill>
            <a:miter/>
          </a:ln>
        </p:spPr>
      </p:pic>
      <p:sp>
        <p:nvSpPr>
          <p:cNvPr id="342" name="Text Box 15"/>
          <p:cNvSpPr/>
          <p:nvPr/>
        </p:nvSpPr>
        <p:spPr>
          <a:xfrm rot="20044800">
            <a:off x="4672080" y="18457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Non-protein mobil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 rot="17558400">
            <a:off x="4114440" y="2908080"/>
            <a:ext cx="457200" cy="304560"/>
          </a:xfrm>
          <a:prstGeom prst="leftArrowCallout">
            <a:avLst>
              <a:gd name="adj1" fmla="val 25002"/>
              <a:gd name="adj2" fmla="val 12500"/>
              <a:gd name="adj3" fmla="val 25020"/>
              <a:gd name="adj4" fmla="val 6667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56360" y="571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ectron transport and ATP synthesis are tightly coupl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 rot="19673400">
            <a:off x="-142920" y="1496880"/>
            <a:ext cx="3160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b78"/>
                </a:solidFill>
                <a:latin typeface="Arial"/>
              </a:rPr>
              <a:t>Figure For Illustr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4266360" y="52052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ites for ATP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14"/>
          <p:cNvCxnSpPr/>
          <p:nvPr/>
        </p:nvCxnSpPr>
        <p:spPr>
          <a:xfrm flipH="1">
            <a:off x="6248160" y="4584600"/>
            <a:ext cx="91512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8" name="Straight Arrow Connector 15"/>
          <p:cNvCxnSpPr/>
          <p:nvPr/>
        </p:nvCxnSpPr>
        <p:spPr>
          <a:xfrm flipH="1">
            <a:off x="5637960" y="4584600"/>
            <a:ext cx="108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9" name="Straight Arrow Connector 16"/>
          <p:cNvCxnSpPr/>
          <p:nvPr/>
        </p:nvCxnSpPr>
        <p:spPr>
          <a:xfrm>
            <a:off x="3200400" y="3822840"/>
            <a:ext cx="1829520" cy="137232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052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ll the chemical reactions taking place inside a cell are collectively known as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sm consists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consuming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(an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producing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cat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15280" cy="1384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33520" y="1674720"/>
            <a:ext cx="8229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bolic Path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multi-step sequence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duct of first reac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es a substrate for seco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pathways: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http://thepointeedition.lww.com/FullTextService/CT%7b06b9ee1beed59419cc706ceee9ddda6cc77b987fd7479682287ccc275ac7ca3bb38b2b3d0236d7708568555d93246333%7d/DA2C8FF1.gif"/>
          <p:cNvPicPr/>
          <p:nvPr/>
        </p:nvPicPr>
        <p:blipFill>
          <a:blip r:embed="rId1"/>
          <a:stretch/>
        </p:blipFill>
        <p:spPr>
          <a:xfrm>
            <a:off x="1447920" y="1501920"/>
            <a:ext cx="6324480" cy="4973400"/>
          </a:xfrm>
          <a:prstGeom prst="rect">
            <a:avLst/>
          </a:prstGeom>
          <a:ln w="0">
            <a:noFill/>
          </a:ln>
        </p:spPr>
      </p:pic>
      <p:pic>
        <p:nvPicPr>
          <p:cNvPr id="292" name="Title 12" descr=""/>
          <p:cNvPicPr/>
          <p:nvPr/>
        </p:nvPicPr>
        <p:blipFill>
          <a:blip r:embed="rId2"/>
          <a:stretch/>
        </p:blipFill>
        <p:spPr>
          <a:xfrm>
            <a:off x="450720" y="311040"/>
            <a:ext cx="8285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ifferent pathways can intersect, forming an integrated and purposeful network of chemical reactions </a:t>
            </a:r>
            <a:r>
              <a:rPr b="1" lang="en-US" sz="3600" spc="-1" strike="noStrike">
                <a:solidFill>
                  <a:srgbClr val="c00000"/>
                </a:solidFill>
                <a:latin typeface="Lucida Sans Unicode"/>
              </a:rPr>
              <a:t>“The Metabolic Map”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71252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ost pathways can be classified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at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Note: Pathways that regenerate a component are called cyc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http://thepointeedition.lww.com/FullTextService/CT%7b06b9ee1beed59419cc706ceee9ddda6cc77b987fd7479682287ccc275ac7ca3bb38b2b3d0236d7708568555d93246333%7d/DA2C8FF3.gif"/>
          <p:cNvPicPr/>
          <p:nvPr/>
        </p:nvPicPr>
        <p:blipFill>
          <a:blip r:embed="rId2"/>
          <a:stretch/>
        </p:blipFill>
        <p:spPr>
          <a:xfrm>
            <a:off x="571680" y="1600200"/>
            <a:ext cx="796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df</dc:creator>
  <dc:description/>
  <dc:language>en-US</dc:language>
  <cp:lastModifiedBy>ddf</cp:lastModifiedBy>
  <dcterms:modified xsi:type="dcterms:W3CDTF">2011-10-11T22:30:58Z</dcterms:modified>
  <cp:revision>94</cp:revision>
  <dc:subject/>
  <dc:title>Slide 1</dc:title>
</cp:coreProperties>
</file>