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408-2F0D-47EC-B8A2-CD15BE68C5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2D3-32EA-447C-BED8-D0351DAD94C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CFF-1E43-4CAB-A121-C4B8ED8F8D4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4E0F-C1AE-4EF9-B547-D0C6E5BCA1F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9996-7C7A-4DD9-9E5F-4D9B4C8C59E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12FE-3A70-4C94-9A9D-E93F4CFE12A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6C4-B7A0-4D11-9504-757CB2FC57E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EC1-979F-476C-9F35-8860B4F6795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6D2-38E6-40A3-A90B-63EB29CD90C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C5D-14A2-44E4-AB9C-EB390A63C19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DD11-098B-45BB-9CE1-8397D1F632B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0233-5B46-412A-A900-7C920357783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381-F85F-4E38-80EF-F53062B004F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C7E-AAF7-437E-BB5D-25D41E5ECAA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5B3-AE20-432A-9CD0-5D63118C83C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DD9-4CC2-4671-A8A3-12E065F7174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Muhammad Atteya</cp:lastModifiedBy>
  <dcterms:modified xsi:type="dcterms:W3CDTF">2013-09-08T16:38:56Z</dcterms:modified>
  <cp:revision>392</cp:revision>
  <dc:subject/>
  <dc:title>Epithelium</dc:title>
</cp:coreProperties>
</file>