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8560" y="731880"/>
            <a:ext cx="48769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584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3324-C012-4BCF-9362-20B2CCD8817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41EF-0234-4923-BCE5-ABE5E0510FC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16A4-2E1C-410E-9F33-CFE37A4809ED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F8B0-5EFA-4AE2-AC90-7311E93478D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C17B-E619-4D6F-ADFA-89BAE35D6EC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BF96-C687-4148-8D01-26B626E7CC1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3D7F-4E9B-4346-B7EA-56D2C97E8609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CC85-C5AB-4FD4-BCFB-D6A96224189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309B-BACD-47AD-A7E6-60C5DEE7502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44A1-40DA-47AB-91CD-33C53054EE0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DBCB-6572-4308-B592-CAC65E2DCEB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0010-14FB-4E09-BE2B-07C11E9383F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9233-198E-4148-A022-AFD156F9923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E9A6-5A5D-43B0-9567-87872607D55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6FE1-F136-4F5B-B7C8-8F0BF8059811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92631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EDB4-39BA-43A9-8850-ACA96B0421B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88920" y="73188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632480"/>
            <a:ext cx="50277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812880" y="1546200"/>
            <a:ext cx="772776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the end of this lecture, you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eneral characteristic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croscopic struc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different types of epithelial membra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assify glandular epitheliu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cording to different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epithelial tiss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 the following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nical applic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motile cilia syndrome (Kartagener’s syndrom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plas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4240" y="1343160"/>
            <a:ext cx="5832360" cy="468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presence or</a:t>
            </a:r>
            <a:br>
              <a:rPr sz="2400"/>
            </a:b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bsence of duct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crine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thyroid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ixed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e.g.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2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umber of cells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Un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ulticell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exoendocrine"/>
          <p:cNvPicPr/>
          <p:nvPr/>
        </p:nvPicPr>
        <p:blipFill>
          <a:blip r:embed="rId1"/>
          <a:srcRect l="0" t="0" r="72375" b="22226"/>
          <a:stretch/>
        </p:blipFill>
        <p:spPr>
          <a:xfrm>
            <a:off x="5538960" y="1419120"/>
            <a:ext cx="1593720" cy="2021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xoendocrine"/>
          <p:cNvPicPr/>
          <p:nvPr/>
        </p:nvPicPr>
        <p:blipFill>
          <a:blip r:embed="rId2"/>
          <a:srcRect l="68206" t="0" r="839" b="17619"/>
          <a:stretch/>
        </p:blipFill>
        <p:spPr>
          <a:xfrm>
            <a:off x="7188120" y="1419120"/>
            <a:ext cx="16858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4240" y="1342800"/>
            <a:ext cx="5451480" cy="47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3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mod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r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No part of the cell is lost with the secretion, e.g. salivary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p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top of the cell is lost with the secretion, e.g. mammary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Holocri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: The whole cell detaches with the secretion, e.g. sebaceous gl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9" descr="03_24"/>
          <p:cNvPicPr/>
          <p:nvPr/>
        </p:nvPicPr>
        <p:blipFill>
          <a:blip r:embed="rId1"/>
          <a:srcRect l="0" t="15111" r="28794" b="0"/>
          <a:stretch/>
        </p:blipFill>
        <p:spPr>
          <a:xfrm>
            <a:off x="5697360" y="2108160"/>
            <a:ext cx="3218040" cy="21463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5989680" y="3713040"/>
            <a:ext cx="834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r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024680" y="3713040"/>
            <a:ext cx="774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8016840" y="3713040"/>
            <a:ext cx="793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o-cr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4600" y="1343160"/>
            <a:ext cx="613728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4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shape of secretory part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1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stina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Alveolar (acinar)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mmar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 algn="just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66"/>
                </a:solidFill>
                <a:uFillTx/>
                <a:latin typeface="Arial"/>
              </a:rPr>
              <a:t>Tubulo-alveolar</a:t>
            </a: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p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cre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9" descr="Simple tubular"/>
          <p:cNvPicPr/>
          <p:nvPr/>
        </p:nvPicPr>
        <p:blipFill>
          <a:blip r:embed="rId1"/>
          <a:stretch/>
        </p:blipFill>
        <p:spPr>
          <a:xfrm>
            <a:off x="6192720" y="2584440"/>
            <a:ext cx="889200" cy="1028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Simple alveolar"/>
          <p:cNvPicPr/>
          <p:nvPr/>
        </p:nvPicPr>
        <p:blipFill>
          <a:blip r:embed="rId2"/>
          <a:stretch/>
        </p:blipFill>
        <p:spPr>
          <a:xfrm>
            <a:off x="6192720" y="3917880"/>
            <a:ext cx="828720" cy="97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Compound tubuloalveolar"/>
          <p:cNvPicPr/>
          <p:nvPr/>
        </p:nvPicPr>
        <p:blipFill>
          <a:blip r:embed="rId3"/>
          <a:stretch/>
        </p:blipFill>
        <p:spPr>
          <a:xfrm>
            <a:off x="6192720" y="5195880"/>
            <a:ext cx="19656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220680"/>
            <a:ext cx="851832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LANDS (Glandular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4600" y="1342800"/>
            <a:ext cx="557856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0">
              <a:spcBef>
                <a:spcPts val="11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Classific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5-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00ff00"/>
                </a:solidFill>
                <a:uFillTx/>
                <a:latin typeface="Arial"/>
                <a:ea typeface="Traditional Arabic"/>
              </a:rPr>
              <a:t>According to nature of secretion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arot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goblet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Muco-serous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sublingual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9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Watery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.g. sweat g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Epith-1"/>
          <p:cNvPicPr/>
          <p:nvPr/>
        </p:nvPicPr>
        <p:blipFill>
          <a:blip r:embed="rId1"/>
          <a:srcRect l="0" t="3869" r="38488" b="0"/>
          <a:stretch/>
        </p:blipFill>
        <p:spPr>
          <a:xfrm>
            <a:off x="4938840" y="2971800"/>
            <a:ext cx="40147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48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FUNCTIONS OF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84240" y="1554120"/>
            <a:ext cx="7174080" cy="378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rote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epidermis of sk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e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l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bsorp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small intest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4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xcre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5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production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gona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6-  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Smooth lining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as in blood vessel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000" y="1469520"/>
            <a:ext cx="814068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Immotile cilia syndrome (Kartegener’s syndrome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order that causes infertility in male and chronic respiratory tract infection in both sex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caused by immobility of cilia and flagella induced by deficiency of dyn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ein protein is responsible for movements of cilia and flagel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linical Application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95000" y="1469520"/>
            <a:ext cx="8140680" cy="420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Metaplas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the transformation of one type of tissue to another in response to injury. This condition is usually reversible if the injury is remo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pseudostratified ciliated columnar epithelium of the respiratory passages, e.g. trachea, of heavy smokers may undergo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quamous metapl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ransforming into stratified squamous epitheli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Squamous_metaplasia_(HE)_x_100_Labelled.jpg"/>
          <p:cNvPicPr/>
          <p:nvPr/>
        </p:nvPicPr>
        <p:blipFill>
          <a:blip r:embed="rId1"/>
          <a:stretch/>
        </p:blipFill>
        <p:spPr>
          <a:xfrm>
            <a:off x="920880" y="1450800"/>
            <a:ext cx="7207200" cy="5015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c000"/>
                </a:solidFill>
                <a:latin typeface="Times New Roman"/>
              </a:rPr>
              <a:t>Squamous Metapla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28573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EPITHELIAL TISSU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1720" y="1214280"/>
            <a:ext cx="513540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General characterist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ells are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tightly join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with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ittle intercellular spac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st on a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basement membra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Avasc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igh power of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regener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Classif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Epithelial membra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imple epithelium: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ratified epithelium: more than one lay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Glands (Glandular Epithelium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rcRect l="52501" t="6271" r="0" b="55905"/>
          <a:stretch/>
        </p:blipFill>
        <p:spPr>
          <a:xfrm>
            <a:off x="5734080" y="1371600"/>
            <a:ext cx="2895480" cy="130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"/>
          <p:cNvPicPr/>
          <p:nvPr/>
        </p:nvPicPr>
        <p:blipFill>
          <a:blip r:embed="rId2"/>
          <a:srcRect l="0" t="0" r="52112" b="56034"/>
          <a:stretch/>
        </p:blipFill>
        <p:spPr>
          <a:xfrm>
            <a:off x="5711760" y="2889360"/>
            <a:ext cx="2919600" cy="151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Epith-1"/>
          <p:cNvPicPr/>
          <p:nvPr/>
        </p:nvPicPr>
        <p:blipFill>
          <a:blip r:embed="rId3"/>
          <a:srcRect l="6099" t="13701" r="71878" b="52390"/>
          <a:stretch/>
        </p:blipFill>
        <p:spPr>
          <a:xfrm>
            <a:off x="5700600" y="4552920"/>
            <a:ext cx="139392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7480" y="1344240"/>
            <a:ext cx="5403960" cy="46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0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Squamous Epithelium</a:t>
            </a:r>
            <a:r>
              <a:rPr b="1" lang="en-GB" sz="30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flat nuclei. Provides smooth thin surfac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s of site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ndothelium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(lining the CVS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006560" indent="-285840"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Alveoli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of lu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031" descr="Simple"/>
          <p:cNvPicPr/>
          <p:nvPr/>
        </p:nvPicPr>
        <p:blipFill>
          <a:blip r:embed="rId1"/>
          <a:srcRect l="0" t="18629" r="56365" b="4236"/>
          <a:stretch/>
        </p:blipFill>
        <p:spPr>
          <a:xfrm>
            <a:off x="5632560" y="1892160"/>
            <a:ext cx="3273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1960" y="1344240"/>
            <a:ext cx="50673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32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uboidal Epithelium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 laye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of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central rounded nucl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1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61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hyroi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follic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Simple"/>
          <p:cNvPicPr/>
          <p:nvPr/>
        </p:nvPicPr>
        <p:blipFill>
          <a:blip r:embed="rId1"/>
          <a:srcRect l="50285" t="0" r="0" b="0"/>
          <a:stretch/>
        </p:blipFill>
        <p:spPr>
          <a:xfrm>
            <a:off x="5329080" y="1928880"/>
            <a:ext cx="325440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5240" y="1240920"/>
            <a:ext cx="5333760" cy="531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700"/>
              </a:spcBef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imple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 with basal oval nucle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Lining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tomac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stines (with goblet cells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gall bladd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81160" indent="-3808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4381560"/>
                <a:tab algn="l" pos="876312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ith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il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on free surface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llopian tub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Simple-col"/>
          <p:cNvPicPr/>
          <p:nvPr/>
        </p:nvPicPr>
        <p:blipFill>
          <a:blip r:embed="rId1"/>
          <a:srcRect l="0" t="0" r="52036" b="0"/>
          <a:stretch/>
        </p:blipFill>
        <p:spPr>
          <a:xfrm>
            <a:off x="5589720" y="1440000"/>
            <a:ext cx="3263760" cy="234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Simple-col"/>
          <p:cNvPicPr/>
          <p:nvPr/>
        </p:nvPicPr>
        <p:blipFill>
          <a:blip r:embed="rId2"/>
          <a:srcRect l="53809" t="0" r="0" b="0"/>
          <a:stretch/>
        </p:blipFill>
        <p:spPr>
          <a:xfrm>
            <a:off x="5587920" y="4255920"/>
            <a:ext cx="325116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. Simple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6560" y="1312560"/>
            <a:ext cx="63183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seudo-Stratified Columnar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n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layer of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lumn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me cells are ta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hers are short and don’t reach the surf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l cells rest on the basement membra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uclei appear at different lev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ciliated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as defere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2240" indent="-29196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Ciliated with Goblet Cells</a:t>
            </a:r>
            <a:r>
              <a:rPr b="0" lang="en-GB" sz="24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trachea &amp; bronch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PseudoStrat-col"/>
          <p:cNvPicPr/>
          <p:nvPr/>
        </p:nvPicPr>
        <p:blipFill>
          <a:blip r:embed="rId1"/>
          <a:srcRect l="0" t="0" r="54041" b="0"/>
          <a:stretch/>
        </p:blipFill>
        <p:spPr>
          <a:xfrm>
            <a:off x="6515280" y="1746360"/>
            <a:ext cx="2438280" cy="198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PseudoStrat-col"/>
          <p:cNvPicPr/>
          <p:nvPr/>
        </p:nvPicPr>
        <p:blipFill>
          <a:blip r:embed="rId2"/>
          <a:srcRect l="53179" t="0" r="539" b="0"/>
          <a:stretch/>
        </p:blipFill>
        <p:spPr>
          <a:xfrm>
            <a:off x="6497640" y="4456080"/>
            <a:ext cx="24559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228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5800" y="1190160"/>
            <a:ext cx="5429160" cy="547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Squamous Epithelium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 with basal oval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 with central round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ar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la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flattened nuc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ypes</a:t>
            </a: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pidermis of ski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190600"/>
                <a:tab algn="l" pos="4381560"/>
                <a:tab algn="l" pos="6572160"/>
                <a:tab algn="l" pos="8763120"/>
                <a:tab algn="l" pos="10953720"/>
              </a:tabLst>
            </a:pPr>
            <a:r>
              <a:rPr b="0" lang="en-GB" sz="2000" spc="-1" strike="noStrike" u="sng">
                <a:solidFill>
                  <a:srgbClr val="fbcab6"/>
                </a:solidFill>
                <a:uFillTx/>
                <a:latin typeface="Arial"/>
                <a:ea typeface="Times New Roman"/>
              </a:rPr>
              <a:t>Non-keratinized</a:t>
            </a:r>
            <a:r>
              <a:rPr b="0" lang="en-GB" sz="2000" spc="-1" strike="noStrike">
                <a:solidFill>
                  <a:srgbClr val="fbcab6"/>
                </a:solidFill>
                <a:latin typeface="Arial"/>
                <a:ea typeface="Times New Roman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without a layer of keratin on the surface.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sophagu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5" descr="Epith-3a"/>
          <p:cNvPicPr/>
          <p:nvPr/>
        </p:nvPicPr>
        <p:blipFill>
          <a:blip r:embed="rId1"/>
          <a:srcRect l="46101" t="0" r="0" b="12092"/>
          <a:stretch/>
        </p:blipFill>
        <p:spPr>
          <a:xfrm>
            <a:off x="5710320" y="1257480"/>
            <a:ext cx="3171600" cy="270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Epith-3a"/>
          <p:cNvPicPr/>
          <p:nvPr/>
        </p:nvPicPr>
        <p:blipFill>
          <a:blip r:embed="rId2"/>
          <a:srcRect l="0" t="0" r="53952" b="13582"/>
          <a:stretch/>
        </p:blipFill>
        <p:spPr>
          <a:xfrm>
            <a:off x="6237360" y="4146480"/>
            <a:ext cx="26445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228240"/>
            <a:ext cx="825336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9040" y="1272960"/>
            <a:ext cx="4816440" cy="532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6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Transitional Epithelium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Surface cell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large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uboidal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 with convex free surfac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may be binucleate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Urinary bladder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Epith-2"/>
          <p:cNvPicPr/>
          <p:nvPr/>
        </p:nvPicPr>
        <p:blipFill>
          <a:blip r:embed="rId1"/>
          <a:srcRect l="0" t="0" r="37408" b="9576"/>
          <a:stretch/>
        </p:blipFill>
        <p:spPr>
          <a:xfrm>
            <a:off x="5019840" y="1370160"/>
            <a:ext cx="3794040" cy="291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Epith-2"/>
          <p:cNvPicPr/>
          <p:nvPr/>
        </p:nvPicPr>
        <p:blipFill>
          <a:blip r:embed="rId2"/>
          <a:srcRect l="62833" t="43438" r="1437" b="8719"/>
          <a:stretch/>
        </p:blipFill>
        <p:spPr>
          <a:xfrm>
            <a:off x="5019840" y="4424400"/>
            <a:ext cx="2998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I. Stratified Epitheliu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9360" y="1336320"/>
            <a:ext cx="5357880" cy="473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4381560"/>
                <a:tab algn="l" pos="876312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Stratified Columnar Epithel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e layers of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asal cells are column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mediate cells are polyg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urface cell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ar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olumna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28548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4381560"/>
                <a:tab algn="l" pos="87631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ample of sites: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large duct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f gla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Strat-col"/>
          <p:cNvPicPr/>
          <p:nvPr/>
        </p:nvPicPr>
        <p:blipFill>
          <a:blip r:embed="rId1"/>
          <a:srcRect l="11406" t="5592" r="56362" b="11075"/>
          <a:stretch/>
        </p:blipFill>
        <p:spPr>
          <a:xfrm>
            <a:off x="5791320" y="1644480"/>
            <a:ext cx="276840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Muhammad Atteya</cp:lastModifiedBy>
  <dcterms:modified xsi:type="dcterms:W3CDTF">2013-09-08T16:38:56Z</dcterms:modified>
  <cp:revision>392</cp:revision>
  <dc:subject/>
  <dc:title>Epithelium</dc:title>
</cp:coreProperties>
</file>