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62852-17DE-4D46-97B2-D0910143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0F157-4E4A-489F-BECC-24D58618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620FE-0709-4C9E-AB16-769F0D02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60184-D2F9-4837-8CDD-1CE2BBF50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BD85-9862-41A6-82C8-FB90B5F9F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332A-F042-4215-AF7A-C2F347CD0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533C-B900-4580-96F6-3CA5181D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F6D3-F520-4B8D-9D79-A75C29DD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D783-0FBC-4357-AE4E-E9471784A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5552-DF2E-4331-83C6-EC0B7616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C9CB-0755-46BA-BD22-FFE65BF5E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226D1-3DA7-4B6E-A228-21FA88407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35B6-29BF-4666-B6A8-62552B7C0B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341360"/>
            <a:ext cx="4176720" cy="5112000"/>
            <a:chOff x="971640" y="1341360"/>
            <a:chExt cx="4176720" cy="5112000"/>
          </a:xfrm>
        </p:grpSpPr>
        <p:pic>
          <p:nvPicPr>
            <p:cNvPr id="48" name="Picture 4" descr="F14_01"/>
            <p:cNvPicPr/>
            <p:nvPr/>
          </p:nvPicPr>
          <p:blipFill>
            <a:blip r:embed="rId2"/>
            <a:stretch/>
          </p:blipFill>
          <p:spPr>
            <a:xfrm>
              <a:off x="1040400" y="1341360"/>
              <a:ext cx="3922200" cy="5112000"/>
            </a:xfrm>
            <a:prstGeom prst="rect">
              <a:avLst/>
            </a:prstGeom>
            <a:ln w="0">
              <a:noFill/>
            </a:ln>
          </p:spPr>
        </p:pic>
        <p:sp>
          <p:nvSpPr>
            <p:cNvPr id="49" name="Oval 4"/>
            <p:cNvSpPr/>
            <p:nvPr/>
          </p:nvSpPr>
          <p:spPr>
            <a:xfrm>
              <a:off x="3944880" y="2492280"/>
              <a:ext cx="120348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50240" y="5373720"/>
              <a:ext cx="120348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4880" y="4149720"/>
              <a:ext cx="1203480" cy="28872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3680" y="1773000"/>
              <a:ext cx="120492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2923920"/>
              <a:ext cx="1204920" cy="2872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6200" y="1557000"/>
              <a:ext cx="1203480" cy="288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349360"/>
              <a:ext cx="778680" cy="3585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Muhammad Atteya</cp:lastModifiedBy>
  <dcterms:modified xsi:type="dcterms:W3CDTF">2012-09-12T11:21:14Z</dcterms:modified>
  <cp:revision>164</cp:revision>
  <dc:subject/>
  <dc:title>LYMPHOID TISSUE</dc:title>
</cp:coreProperties>
</file>