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AEA0-88EA-4052-8D33-D8746D2BED27}" type="slidenum">
              <a:rPr b="0" lang="ar-K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F7A-6656-4BC5-919C-3B5A12D693A9}" type="slidenum">
              <a:rPr b="0" lang="ar-SA" sz="1200" spc="-1" strike="noStrike">
                <a:solidFill>
                  <a:srgbClr val="5f5f5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532-AE17-4FEF-9012-5C9AE0EFF7A4}" type="slidenum">
              <a:rPr b="0" lang="ar-SA" sz="1200" spc="-1" strike="noStrike">
                <a:solidFill>
                  <a:srgbClr val="5f5f5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505-FBC1-4688-B092-9A468C7EB6FA}" type="slidenum">
              <a:rPr b="0" lang="ar-SA" sz="1200" spc="-1" strike="noStrike">
                <a:solidFill>
                  <a:srgbClr val="5f5f5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8"/>
          <p:cNvSpPr/>
          <p:nvPr/>
        </p:nvSpPr>
        <p:spPr>
          <a:xfrm>
            <a:off x="3887640" y="4653000"/>
            <a:ext cx="5256360" cy="1152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2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1163520" y="1116000"/>
            <a:ext cx="7504200" cy="132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NAanimated2"/>
          <p:cNvPicPr/>
          <p:nvPr/>
        </p:nvPicPr>
        <p:blipFill>
          <a:blip r:embed="rId2"/>
          <a:stretch/>
        </p:blipFill>
        <p:spPr>
          <a:xfrm>
            <a:off x="228600" y="914400"/>
            <a:ext cx="5364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87" name="Rectangle 5"/>
          <p:cNvGrpSpPr/>
          <p:nvPr/>
        </p:nvGrpSpPr>
        <p:grpSpPr>
          <a:xfrm>
            <a:off x="1700280" y="3249720"/>
            <a:ext cx="7119720" cy="2395440"/>
            <a:chOff x="1700280" y="3249720"/>
            <a:chExt cx="7119720" cy="2395440"/>
          </a:xfrm>
        </p:grpSpPr>
        <p:pic>
          <p:nvPicPr>
            <p:cNvPr id="88" name="Rectangle 5" descr=""/>
            <p:cNvPicPr/>
            <p:nvPr/>
          </p:nvPicPr>
          <p:blipFill>
            <a:blip r:embed="rId3"/>
            <a:stretch/>
          </p:blipFill>
          <p:spPr>
            <a:xfrm>
              <a:off x="1700280" y="3249720"/>
              <a:ext cx="711972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752480" y="3276720"/>
              <a:ext cx="70106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Arial"/>
                </a:rPr>
                <a:t>LECTURE 4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2200" y="3962160"/>
            <a:ext cx="7256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ypical Patterns of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ectangle 2"/>
          <p:cNvGrpSpPr/>
          <p:nvPr/>
        </p:nvGrpSpPr>
        <p:grpSpPr>
          <a:xfrm>
            <a:off x="2382840" y="1646280"/>
            <a:ext cx="5273640" cy="1878120"/>
            <a:chOff x="2382840" y="1646280"/>
            <a:chExt cx="5273640" cy="1878120"/>
          </a:xfrm>
        </p:grpSpPr>
        <p:pic>
          <p:nvPicPr>
            <p:cNvPr id="126" name="Rectangle 2" descr=""/>
            <p:cNvPicPr/>
            <p:nvPr/>
          </p:nvPicPr>
          <p:blipFill>
            <a:blip r:embed="rId1"/>
            <a:stretch/>
          </p:blipFill>
          <p:spPr>
            <a:xfrm>
              <a:off x="2382840" y="1646280"/>
              <a:ext cx="52736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438280" y="1676520"/>
              <a:ext cx="5029200" cy="16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MITOCHONDRIAL INHERITANCE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ircular structure with genes and regulatory regions labeled"/>
          <p:cNvPicPr/>
          <p:nvPr/>
        </p:nvPicPr>
        <p:blipFill>
          <a:blip r:embed="rId1"/>
          <a:stretch/>
        </p:blipFill>
        <p:spPr>
          <a:xfrm>
            <a:off x="0" y="2205000"/>
            <a:ext cx="1582560" cy="15829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29" name="Rectangle 3"/>
          <p:cNvSpPr/>
          <p:nvPr/>
        </p:nvSpPr>
        <p:spPr>
          <a:xfrm>
            <a:off x="4320" y="6537240"/>
            <a:ext cx="3056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http://ghr.nlm.nih.gov/chromosome=M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82560" y="9144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itochondrial DNA (mtDNA)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1280" y="22953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ach cell contains thousands of copies of mitochondrial DNA with more being found in cells having high energy requirement (e.g. brain &amp; muscl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itochondria (&amp; their DNA)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herited from the moth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(through ova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tDNA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all circular double-stran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lecule contain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gen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(coding for rRNA, tRNA, and some of the proteins of the mitochondrial electron transport chain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itochondrial Disorder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defective gene is present on the mitochondrial DNA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ffect generally energy metabolis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ffect more those tissues which require constant  supply of energy e.g </a:t>
            </a:r>
            <a:r>
              <a:rPr b="1" i="1" lang="en-US" sz="2400" spc="-1" strike="noStrike">
                <a:solidFill>
                  <a:srgbClr val="30303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ow maternal inheritanc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Affec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transmits the disord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lly to all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her childre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Affec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her does not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transmit the disease to his childre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00454-007-f024"/>
          <p:cNvPicPr/>
          <p:nvPr/>
        </p:nvPicPr>
        <p:blipFill>
          <a:blip r:embed="rId1"/>
          <a:srcRect l="28646" t="0" r="29118" b="11478"/>
          <a:stretch/>
        </p:blipFill>
        <p:spPr>
          <a:xfrm>
            <a:off x="2590920" y="1905120"/>
            <a:ext cx="4190760" cy="20574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5" name="Text Box 3"/>
          <p:cNvSpPr/>
          <p:nvPr/>
        </p:nvSpPr>
        <p:spPr>
          <a:xfrm>
            <a:off x="611280" y="5877000"/>
            <a:ext cx="7848360" cy="216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27040" y="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Mitochondrial Inheritance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09480" y="4076640"/>
            <a:ext cx="76964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les cannot transmit the disease as the cytoplasm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s inherited only from the mother, and mitochondria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re present in the cytoplasm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8520" y="837720"/>
            <a:ext cx="39942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omoplasmy vs. Heteroplasmy 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9240" y="2285640"/>
            <a:ext cx="7719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moplasmy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= in most persons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tDNA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from different mitochondria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c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eteroplasmy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= the presenc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opulations of mtDNA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a cell; the normal mtDNA &amp; the mutant mtD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proportion of mutant mtDNA varies between cells &amp; tissues </a:t>
            </a:r>
            <a:r>
              <a:rPr b="0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a range of phenotypic severity in mitochondrial inheritanc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00454-007-f025"/>
          <p:cNvPicPr/>
          <p:nvPr/>
        </p:nvPicPr>
        <p:blipFill>
          <a:blip r:embed="rId1"/>
          <a:srcRect l="6793" t="0" r="6672" b="4775"/>
          <a:stretch/>
        </p:blipFill>
        <p:spPr>
          <a:xfrm>
            <a:off x="1228680" y="1600200"/>
            <a:ext cx="6059520" cy="3197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1" name="Text Box 3"/>
          <p:cNvSpPr/>
          <p:nvPr/>
        </p:nvSpPr>
        <p:spPr>
          <a:xfrm>
            <a:off x="611280" y="5877000"/>
            <a:ext cx="7848360" cy="216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8188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progressive effect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teroplasm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on the clinical severity of mitochondrial genetic disorders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4873680"/>
            <a:ext cx="7620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w proportions of mutant mitochondria are not associated with diseas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s the proportion increases, the disease will be manifest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52280" y="182880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Example of Mitochondrial Disorder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Lebers hereditary optic neuropathy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(LHON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apid Optic nerve death </a:t>
            </a:r>
            <a:r>
              <a:rPr b="0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blindness in young adult lif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6600960"/>
            <a:ext cx="9126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http://ghr.nlm.nih.gov/condition=leberhereditaryopticneuropath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2"/>
          <p:cNvGrpSpPr/>
          <p:nvPr/>
        </p:nvGrpSpPr>
        <p:grpSpPr>
          <a:xfrm>
            <a:off x="2944800" y="1725480"/>
            <a:ext cx="4351320" cy="1408320"/>
            <a:chOff x="2944800" y="1725480"/>
            <a:chExt cx="4351320" cy="1408320"/>
          </a:xfrm>
        </p:grpSpPr>
        <p:pic>
          <p:nvPicPr>
            <p:cNvPr id="147" name="Rectangle 2" descr=""/>
            <p:cNvPicPr/>
            <p:nvPr/>
          </p:nvPicPr>
          <p:blipFill>
            <a:blip r:embed="rId1"/>
            <a:stretch/>
          </p:blipFill>
          <p:spPr>
            <a:xfrm>
              <a:off x="2944800" y="1725480"/>
              <a:ext cx="43513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048120" y="1752480"/>
              <a:ext cx="41148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NTICIPATION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ticip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of inheritance in which individuals in the most recent generations of a pedigree develop a disea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n earlier ag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th greater seve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do those in earlier gener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might be the gradual expansion of trinucleotide repeat polymorphisms within or near a coding gen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seases showing anticipatio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ton disea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tonic dystroph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457200"/>
            <a:ext cx="4800600" cy="649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yotonic Dystrophy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1523880"/>
            <a:ext cx="819936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omal dominant diseas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comm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ected gene is on chromosome 19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tation is triplet repeat (CTG) expansion in the 3’ untranslated region of the myotonic dystrophy gen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manifestation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tonia (Muscular loss &amp; weaknes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cular atroph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disease: arrhythmi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enti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dnes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126040" y="4754520"/>
            <a:ext cx="3921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4952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cture Objectives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728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y the end of this lecture, students should be able to appreciate the possibility of atypical patterns of inheritance with special emphasis on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dominant trait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seudodominant inherit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he mitochondrial inherit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nticip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leiotrop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Variable expressivit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Heterogeneit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New mut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mplex trait: multifactorial/Polygenic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858520" cy="1511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Myotonic Dystrophy,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TD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000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00454-007-f018"/>
          <p:cNvPicPr/>
          <p:nvPr/>
        </p:nvPicPr>
        <p:blipFill>
          <a:blip r:embed="rId1"/>
          <a:stretch/>
        </p:blipFill>
        <p:spPr>
          <a:xfrm>
            <a:off x="3124080" y="1752480"/>
            <a:ext cx="3137040" cy="2710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520" y="4648320"/>
            <a:ext cx="8604360" cy="14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 baby with severe hypotonia requiring ventilation as a result of having inherited myotonic dystrophy from his moth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4232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Myotonic Dystrophy,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Rectangle 2"/>
          <p:cNvGrpSpPr/>
          <p:nvPr/>
        </p:nvGrpSpPr>
        <p:grpSpPr>
          <a:xfrm>
            <a:off x="878040" y="1420920"/>
            <a:ext cx="7796160" cy="1865160"/>
            <a:chOff x="878040" y="1420920"/>
            <a:chExt cx="7796160" cy="1865160"/>
          </a:xfrm>
        </p:grpSpPr>
        <p:pic>
          <p:nvPicPr>
            <p:cNvPr id="160" name="Rectangle 2" descr=""/>
            <p:cNvPicPr/>
            <p:nvPr/>
          </p:nvPicPr>
          <p:blipFill>
            <a:blip r:embed="rId1"/>
            <a:stretch/>
          </p:blipFill>
          <p:spPr>
            <a:xfrm>
              <a:off x="878040" y="1420920"/>
              <a:ext cx="77961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990720" y="1447920"/>
              <a:ext cx="7543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typical presentation for Autosomal Dominant defects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2207880"/>
            <a:ext cx="76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leiotrop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duced penetranc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b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pressivi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of a mutant allele need to be taken into account when provid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tic counseling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o individuals at risk for autosomal dominant inherited disorders.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2840" y="439560"/>
            <a:ext cx="2514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leiotropy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983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t is common for autosomal dominant disorders to manifest i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fferent system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of the bod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 a variety of way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leiotropy:-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single gene that may give rise to two or more apparently unrelated effect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ample: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uberous sclerosis: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ffected individuals can present with eith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earning difficulties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pilepsy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facial rash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, all fea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5" name="Picture 4" descr="Adenoma_sebaceum"/>
          <p:cNvPicPr/>
          <p:nvPr/>
        </p:nvPicPr>
        <p:blipFill>
          <a:blip r:embed="rId1"/>
          <a:stretch/>
        </p:blipFill>
        <p:spPr>
          <a:xfrm>
            <a:off x="7093080" y="836640"/>
            <a:ext cx="1042920" cy="85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00454-007-f005"/>
          <p:cNvPicPr/>
          <p:nvPr/>
        </p:nvPicPr>
        <p:blipFill>
          <a:blip r:embed="rId2"/>
          <a:stretch/>
        </p:blipFill>
        <p:spPr>
          <a:xfrm>
            <a:off x="5651640" y="765000"/>
            <a:ext cx="1311120" cy="10065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5329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Variable expressivity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nical features in autosomal dominant disorders can show striking variation from person to person, even in the same famil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n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autosomal dominant polycystic kidney diseas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8640" y="4937040"/>
            <a:ext cx="339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affected individuals develop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renal failure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arly adulthoo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3440" y="4937040"/>
            <a:ext cx="4361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s have just a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few renal cysts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o not significantly affect renal func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022480" y="4465800"/>
            <a:ext cx="4495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2022480" y="44658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6518160" y="44658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4079880" y="423684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91440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duced penetr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360520"/>
            <a:ext cx="76438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some individua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for gene mutations giving rise to certa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utosomal domina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disorders there may b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normal clinical feature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, representing so-called 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duced penetran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or 'skipping a generation‘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duced penetrance might be due to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odifying effects of other gene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interaction of the gene with environmental factor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38862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New mutations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tosomal dominant disorders an affected person wil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an affected par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is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alway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and i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unus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trait to appear in an individual when there is no family history of the disorder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dden unexpected appearance of a condition arising as a result of a mistake occurring in the transmission of a gene is called a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w mu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_MR_LG_Achon-Body"/>
          <p:cNvPicPr/>
          <p:nvPr/>
        </p:nvPicPr>
        <p:blipFill>
          <a:blip r:embed="rId1"/>
          <a:stretch/>
        </p:blipFill>
        <p:spPr>
          <a:xfrm>
            <a:off x="5746680" y="404640"/>
            <a:ext cx="792360" cy="792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80" name="Picture 3" descr="spc"/>
          <p:cNvPicPr/>
          <p:nvPr/>
        </p:nvPicPr>
        <p:blipFill>
          <a:blip r:embed="rId2"/>
          <a:stretch/>
        </p:blipFill>
        <p:spPr>
          <a:xfrm>
            <a:off x="3971880" y="44560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spc"/>
          <p:cNvPicPr/>
          <p:nvPr/>
        </p:nvPicPr>
        <p:blipFill>
          <a:blip r:embed="rId3"/>
          <a:stretch/>
        </p:blipFill>
        <p:spPr>
          <a:xfrm>
            <a:off x="4008600" y="34545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PR_MR_LG_Achon-Hand"/>
          <p:cNvPicPr/>
          <p:nvPr/>
        </p:nvPicPr>
        <p:blipFill>
          <a:blip r:embed="rId4"/>
          <a:stretch/>
        </p:blipFill>
        <p:spPr>
          <a:xfrm>
            <a:off x="6684840" y="401760"/>
            <a:ext cx="790560" cy="7905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83" name="Picture 6" descr="spc"/>
          <p:cNvPicPr/>
          <p:nvPr/>
        </p:nvPicPr>
        <p:blipFill>
          <a:blip r:embed="rId5"/>
          <a:stretch/>
        </p:blipFill>
        <p:spPr>
          <a:xfrm>
            <a:off x="4008600" y="34545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PR_MR_LG_Achon-head"/>
          <p:cNvPicPr/>
          <p:nvPr/>
        </p:nvPicPr>
        <p:blipFill>
          <a:blip r:embed="rId6"/>
          <a:stretch/>
        </p:blipFill>
        <p:spPr>
          <a:xfrm>
            <a:off x="7615080" y="396720"/>
            <a:ext cx="784440" cy="784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36892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chondroplasia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306080"/>
            <a:ext cx="8915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short-limbed dwarfism, in which the parent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normal statu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is/testing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 clinical and radiographic finding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 genetic tests: mutation in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GFR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 on chromosome 4p16.3 (coding for fibroblast growth factor receptor 3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ffspring of persons with achondroplasia had a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5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e of having achondroplasi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ther possible explanations for the 'sudden' appearance of this disorder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n-penetran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f the parents might be heterozygous for the mutant allele but so mildly affected that it has not previously been detected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riable expressivity 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mily relationships not being as stated, e.g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non-patern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Rectangle 2"/>
          <p:cNvGrpSpPr/>
          <p:nvPr/>
        </p:nvGrpSpPr>
        <p:grpSpPr>
          <a:xfrm>
            <a:off x="2292480" y="1725480"/>
            <a:ext cx="5572080" cy="1571760"/>
            <a:chOff x="2292480" y="1725480"/>
            <a:chExt cx="5572080" cy="1571760"/>
          </a:xfrm>
        </p:grpSpPr>
        <p:pic>
          <p:nvPicPr>
            <p:cNvPr id="188" name="Rectangle 2" descr=""/>
            <p:cNvPicPr/>
            <p:nvPr/>
          </p:nvPicPr>
          <p:blipFill>
            <a:blip r:embed="rId1"/>
            <a:stretch/>
          </p:blipFill>
          <p:spPr>
            <a:xfrm>
              <a:off x="2292480" y="1725480"/>
              <a:ext cx="5572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38280" y="1752480"/>
              <a:ext cx="525780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ULTIFACTORIAL/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LYGENIC DISORDERS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2"/>
          <p:cNvGrpSpPr/>
          <p:nvPr/>
        </p:nvGrpSpPr>
        <p:grpSpPr>
          <a:xfrm>
            <a:off x="158760" y="1573200"/>
            <a:ext cx="8955000" cy="1225440"/>
            <a:chOff x="158760" y="1573200"/>
            <a:chExt cx="8955000" cy="1225440"/>
          </a:xfrm>
        </p:grpSpPr>
        <p:pic>
          <p:nvPicPr>
            <p:cNvPr id="94" name="Rectangle 2" descr=""/>
            <p:cNvPicPr/>
            <p:nvPr/>
          </p:nvPicPr>
          <p:blipFill>
            <a:blip r:embed="rId1"/>
            <a:stretch/>
          </p:blipFill>
          <p:spPr>
            <a:xfrm>
              <a:off x="158760" y="1573200"/>
              <a:ext cx="89550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80880" y="1600200"/>
              <a:ext cx="84758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nheritance of Codominant Alleles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5337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mplex Trait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raits are conditions which are likely to be due to the interaction of more than one gen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may be additive, one may be rate-limiting over the action of another, or one may enhance or multiply the effect of another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Digenic inheritance: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disorder has been shown to be due to the additive effects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eterozygous mutations at two different gene loci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 one form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tinitis pigmento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disorder of progressive visual impairment, is caused by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ouble heterozygo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utations i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wo unlinked g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 which both encode proteins present in photoreceptors. Individuals with only one of these mutations are not affect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ultifactorial/Polygenic Disorder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896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haracteristics such as height, skin color and intelligence could be determined by the interaction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g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ach exerting a small additive effect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del o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quantitative inheritan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explain the pattern of inheritance for many relatively common conditio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nital malformations such as cleft lip and palat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-onset conditions such a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zheimer diseas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ailing view is that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enes at several loci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to generate 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scept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ffects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dverse enviro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gger factor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Genomic Imprinting</a:t>
            </a: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n example of Non-Mendelian Inheritance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ertain chromosomes retain a memory or “imprint” of parental origin that influences whether genes are expressed or not during gametogenesi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6" name="Picture 5" descr="genomic-imprinting"/>
          <p:cNvPicPr/>
          <p:nvPr/>
        </p:nvPicPr>
        <p:blipFill>
          <a:blip r:embed="rId1"/>
          <a:stretch/>
        </p:blipFill>
        <p:spPr>
          <a:xfrm>
            <a:off x="5105520" y="1247760"/>
            <a:ext cx="3724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510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ake home Message: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urate determination of the family pedigree is an important part of the workup of every patie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 to Mendelian inheritance do occur in single-gene disorde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heritance pattern of an individual pedigree may be obscured by a number of other factors that may make the mode of inheritance difficult to interpre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racteristics and many common familial disorders, do not usually follow a simple pattern of Mendelian inheritanc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2"/>
          <p:cNvGrpSpPr/>
          <p:nvPr/>
        </p:nvGrpSpPr>
        <p:grpSpPr>
          <a:xfrm>
            <a:off x="3438360" y="1725480"/>
            <a:ext cx="3133800" cy="1127160"/>
            <a:chOff x="3438360" y="1725480"/>
            <a:chExt cx="3133800" cy="1127160"/>
          </a:xfrm>
        </p:grpSpPr>
        <p:pic>
          <p:nvPicPr>
            <p:cNvPr id="200" name="Rectangle 2" descr=""/>
            <p:cNvPicPr/>
            <p:nvPr/>
          </p:nvPicPr>
          <p:blipFill>
            <a:blip r:embed="rId1"/>
            <a:stretch/>
          </p:blipFill>
          <p:spPr>
            <a:xfrm>
              <a:off x="3438360" y="1725480"/>
              <a:ext cx="31338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505320" y="1752480"/>
              <a:ext cx="2971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ank you </a:t>
              </a:r>
              <a:r>
                <a:rPr b="1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odomin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84940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Codominance: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two allelic traits that are both expressed in the heterozygous st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ample: Blood group AB: the A and B blood groups ar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ossible genotypes, phenotypes &amp; gametes formed from the four alleles: A</a:t>
            </a:r>
            <a:r>
              <a:rPr b="1" lang="en-US" sz="32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32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 B, &amp; O at the ABO locus</a:t>
            </a:r>
            <a:r>
              <a:rPr b="1" lang="ar-SA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753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800" y="16237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0" y="753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800" y="16237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-91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1800" y="7246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28680" y="1916280"/>
          <a:ext cx="5274000" cy="4359240"/>
        </p:xfrm>
        <a:graphic>
          <a:graphicData uri="http://schemas.openxmlformats.org/drawingml/2006/table">
            <a:tbl>
              <a:tblPr/>
              <a:tblGrid>
                <a:gridCol w="1284480"/>
                <a:gridCol w="1398600"/>
                <a:gridCol w="2590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enotype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henotype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amete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Rectangle 2"/>
          <p:cNvGrpSpPr/>
          <p:nvPr/>
        </p:nvGrpSpPr>
        <p:grpSpPr>
          <a:xfrm>
            <a:off x="2766960" y="1341360"/>
            <a:ext cx="4780080" cy="1535040"/>
            <a:chOff x="2766960" y="1341360"/>
            <a:chExt cx="4780080" cy="1535040"/>
          </a:xfrm>
        </p:grpSpPr>
        <p:pic>
          <p:nvPicPr>
            <p:cNvPr id="111" name="Rectangle 2" descr=""/>
            <p:cNvPicPr/>
            <p:nvPr/>
          </p:nvPicPr>
          <p:blipFill>
            <a:blip r:embed="rId1"/>
            <a:stretch/>
          </p:blipFill>
          <p:spPr>
            <a:xfrm>
              <a:off x="2766960" y="1341360"/>
              <a:ext cx="478008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819520" y="1371600"/>
              <a:ext cx="464796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SEUDODOMINANT INHERITANCE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00454-007-f009"/>
          <p:cNvPicPr/>
          <p:nvPr/>
        </p:nvPicPr>
        <p:blipFill>
          <a:blip r:embed="rId1"/>
          <a:srcRect l="30748" t="0" r="27127" b="6958"/>
          <a:stretch/>
        </p:blipFill>
        <p:spPr>
          <a:xfrm>
            <a:off x="2895480" y="1676520"/>
            <a:ext cx="3810240" cy="23875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sp>
        <p:nvSpPr>
          <p:cNvPr id="114" name="Text Box 3"/>
          <p:cNvSpPr/>
          <p:nvPr/>
        </p:nvSpPr>
        <p:spPr>
          <a:xfrm>
            <a:off x="611280" y="5877000"/>
            <a:ext cx="7848360" cy="216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5720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Pedigree: Pseudodominant inheritance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41240" y="4114800"/>
            <a:ext cx="82504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A wom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omozygous for an autosomal recessive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 disorder whose husband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eterozygou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 for the same disor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514440" indent="-51444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Their children have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 in 2 (50%)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chance of being affected (homozygous ) i.e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seudo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Rectangle 2"/>
          <p:cNvGrpSpPr/>
          <p:nvPr/>
        </p:nvGrpSpPr>
        <p:grpSpPr>
          <a:xfrm>
            <a:off x="669960" y="1298520"/>
            <a:ext cx="7993080" cy="1841400"/>
            <a:chOff x="669960" y="1298520"/>
            <a:chExt cx="7993080" cy="1841400"/>
          </a:xfrm>
        </p:grpSpPr>
        <p:pic>
          <p:nvPicPr>
            <p:cNvPr id="118" name="Rectangle 2" descr=""/>
            <p:cNvPicPr/>
            <p:nvPr/>
          </p:nvPicPr>
          <p:blipFill>
            <a:blip r:embed="rId1"/>
            <a:stretch/>
          </p:blipFill>
          <p:spPr>
            <a:xfrm>
              <a:off x="669960" y="1298520"/>
              <a:ext cx="79930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62120" y="1371600"/>
              <a:ext cx="77724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typical inheritance of single-gene disorders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3588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What are the situations in which the inheritance of single-gene disorders diverges from typical mendelian patterns?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8520" y="22093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aternal inheritance of mitochondrial muta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nticip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typical presentation for Autosomal Dominant defect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leotropy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Variable expressivity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educed penetrance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New mut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Unusual inheritance patterns due to Genomic Imprint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saicism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omatic mosaicism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Germline mosaicism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89120" y="220968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68600" y="30272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600" y="25956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8:32:37Z</dcterms:created>
  <dc:creator>user</dc:creator>
  <dc:description/>
  <dc:language>en-US</dc:language>
  <cp:lastModifiedBy>Al-Otaibi Maram</cp:lastModifiedBy>
  <dcterms:modified xsi:type="dcterms:W3CDTF">2015-10-20T07:28:14Z</dcterms:modified>
  <cp:revision>191</cp:revision>
  <dc:subject/>
  <dc:title>Molecular Pathology</dc:title>
</cp:coreProperties>
</file>