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2.jpeg" ContentType="image/jpeg"/>
  <Override PartName="/ppt/media/image6.png" ContentType="image/png"/>
  <Override PartName="/ppt/media/image11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27.png" ContentType="image/png"/>
  <Override PartName="/ppt/media/image26.jpeg" ContentType="image/jpeg"/>
  <Override PartName="/ppt/media/image25.png" ContentType="image/png"/>
  <Override PartName="/ppt/media/image19.jpeg" ContentType="image/jpeg"/>
  <Override PartName="/ppt/media/image15.png" ContentType="image/png"/>
  <Override PartName="/ppt/media/image24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K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BBD1-519C-4D6B-8790-C952B88F3A6F}" type="slidenum">
              <a:rPr b="0" lang="ar-K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00C8-25E5-4E86-BD0B-9D1FC5737C43}" type="slidenum">
              <a:rPr b="0" lang="ar-SA" sz="1200" spc="-1" strike="noStrike">
                <a:solidFill>
                  <a:srgbClr val="5f5f5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E56B-A427-442D-A4AC-1F858C42A460}" type="slidenum">
              <a:rPr b="0" lang="ar-SA" sz="1200" spc="-1" strike="noStrike">
                <a:solidFill>
                  <a:srgbClr val="5f5f5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58D0-9CE0-4E27-80C0-796C6B7013E1}" type="slidenum">
              <a:rPr b="0" lang="ar-SA" sz="1200" spc="-1" strike="noStrike">
                <a:solidFill>
                  <a:srgbClr val="5f5f5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7136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5580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8692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7136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5580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7280" y="1915920"/>
            <a:ext cx="65534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7136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5580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8692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7136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5580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1915920"/>
            <a:ext cx="65534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8"/>
          <p:cNvSpPr/>
          <p:nvPr/>
        </p:nvSpPr>
        <p:spPr>
          <a:xfrm>
            <a:off x="3887640" y="4653000"/>
            <a:ext cx="5256360" cy="11523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2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Rectangle 2" descr=""/>
          <p:cNvPicPr/>
          <p:nvPr/>
        </p:nvPicPr>
        <p:blipFill>
          <a:blip r:embed="rId1"/>
          <a:stretch/>
        </p:blipFill>
        <p:spPr>
          <a:xfrm>
            <a:off x="1163520" y="1116000"/>
            <a:ext cx="7504200" cy="1328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DNAanimated2"/>
          <p:cNvPicPr/>
          <p:nvPr/>
        </p:nvPicPr>
        <p:blipFill>
          <a:blip r:embed="rId2"/>
          <a:stretch/>
        </p:blipFill>
        <p:spPr>
          <a:xfrm>
            <a:off x="228600" y="914400"/>
            <a:ext cx="536400" cy="2362320"/>
          </a:xfrm>
          <a:prstGeom prst="rect">
            <a:avLst/>
          </a:prstGeom>
          <a:ln w="0">
            <a:noFill/>
          </a:ln>
        </p:spPr>
      </p:pic>
      <p:grpSp>
        <p:nvGrpSpPr>
          <p:cNvPr id="87" name="Rectangle 5"/>
          <p:cNvGrpSpPr/>
          <p:nvPr/>
        </p:nvGrpSpPr>
        <p:grpSpPr>
          <a:xfrm>
            <a:off x="1700280" y="3249720"/>
            <a:ext cx="7119720" cy="2395440"/>
            <a:chOff x="1700280" y="3249720"/>
            <a:chExt cx="7119720" cy="2395440"/>
          </a:xfrm>
        </p:grpSpPr>
        <p:pic>
          <p:nvPicPr>
            <p:cNvPr id="88" name="Rectangle 5" descr=""/>
            <p:cNvPicPr/>
            <p:nvPr/>
          </p:nvPicPr>
          <p:blipFill>
            <a:blip r:embed="rId3"/>
            <a:stretch/>
          </p:blipFill>
          <p:spPr>
            <a:xfrm>
              <a:off x="1700280" y="3249720"/>
              <a:ext cx="7119720" cy="23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752480" y="3276720"/>
              <a:ext cx="701064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Arial"/>
                </a:rPr>
                <a:t>LECTURE 4</a:t>
              </a:r>
              <a:endParaRPr b="0" lang="en-US" sz="4000" spc="-1" strike="noStrike">
                <a:solidFill>
                  <a:srgbClr val="5f5f5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5f5f5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82200" y="3962160"/>
            <a:ext cx="72565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typical Patterns of Inheritance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Rectangle 2"/>
          <p:cNvGrpSpPr/>
          <p:nvPr/>
        </p:nvGrpSpPr>
        <p:grpSpPr>
          <a:xfrm>
            <a:off x="2382840" y="1646280"/>
            <a:ext cx="5273640" cy="1878120"/>
            <a:chOff x="2382840" y="1646280"/>
            <a:chExt cx="5273640" cy="1878120"/>
          </a:xfrm>
        </p:grpSpPr>
        <p:pic>
          <p:nvPicPr>
            <p:cNvPr id="126" name="Rectangle 2" descr=""/>
            <p:cNvPicPr/>
            <p:nvPr/>
          </p:nvPicPr>
          <p:blipFill>
            <a:blip r:embed="rId1"/>
            <a:stretch/>
          </p:blipFill>
          <p:spPr>
            <a:xfrm>
              <a:off x="2382840" y="1646280"/>
              <a:ext cx="5273640" cy="18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438280" y="1676520"/>
              <a:ext cx="5029200" cy="16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MITOCHONDRIAL INHERITANCE</a:t>
              </a:r>
              <a:endParaRPr b="0" lang="en-US" sz="40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ircular structure with genes and regulatory regions labeled"/>
          <p:cNvPicPr/>
          <p:nvPr/>
        </p:nvPicPr>
        <p:blipFill>
          <a:blip r:embed="rId1"/>
          <a:stretch/>
        </p:blipFill>
        <p:spPr>
          <a:xfrm>
            <a:off x="0" y="2205000"/>
            <a:ext cx="1582560" cy="158292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29" name="Rectangle 3"/>
          <p:cNvSpPr/>
          <p:nvPr/>
        </p:nvSpPr>
        <p:spPr>
          <a:xfrm>
            <a:off x="4320" y="6537240"/>
            <a:ext cx="3056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  <a:ea typeface="Arial"/>
              </a:rPr>
              <a:t>http://ghr.nlm.nih.gov/chromosome=MT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82560" y="914400"/>
            <a:ext cx="65534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Mitochondrial DNA (mtDNA)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01280" y="229536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Each cell contains thousands of copies of mitochondrial DNA with more being found in cells having high energy requirement (e.g. brain &amp; muscle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Mitochondria (&amp; their DNA) a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herited from the mothe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(through ova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mtDNA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mall circular double-strande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molecule containing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7 gene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(coding for rRNA, tRNA, and some of the proteins of the mitochondrial electron transport chain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60948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Mitochondrial Disorders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The defective gene is present on the mitochondrial DNA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ffect generally energy metabolism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Affect more those tissues which require constant  supply of energy e.g </a:t>
            </a:r>
            <a:r>
              <a:rPr b="1" i="1" lang="en-US" sz="2400" spc="-1" strike="noStrike">
                <a:solidFill>
                  <a:srgbClr val="303030"/>
                </a:solidFill>
                <a:latin typeface="Arial"/>
              </a:rPr>
              <a:t>muscl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Arial"/>
              </a:rPr>
              <a:t>Show maternal inheritance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Affect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ther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 transmits the disorde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qually to all 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her childre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0303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Affect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ther does not </a:t>
            </a:r>
            <a:r>
              <a:rPr b="1" lang="en-US" sz="2400" spc="-1" strike="noStrike">
                <a:solidFill>
                  <a:srgbClr val="303030"/>
                </a:solidFill>
                <a:latin typeface="Arial"/>
              </a:rPr>
              <a:t>transmit the disease to his childre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F00454-007-f024"/>
          <p:cNvPicPr/>
          <p:nvPr/>
        </p:nvPicPr>
        <p:blipFill>
          <a:blip r:embed="rId1"/>
          <a:srcRect l="28646" t="0" r="29118" b="11478"/>
          <a:stretch/>
        </p:blipFill>
        <p:spPr>
          <a:xfrm>
            <a:off x="2590920" y="1905120"/>
            <a:ext cx="4190760" cy="205740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35" name="Text Box 3"/>
          <p:cNvSpPr/>
          <p:nvPr/>
        </p:nvSpPr>
        <p:spPr>
          <a:xfrm>
            <a:off x="611280" y="5877000"/>
            <a:ext cx="7848360" cy="216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27040" y="0"/>
            <a:ext cx="779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Mitochondrial Inheritance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609480" y="4076640"/>
            <a:ext cx="769644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Males cannot transmit the disease as the cytoplasm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s inherited only from the mother, and mitochondria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re present in the cytoplasm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58520" y="837720"/>
            <a:ext cx="39942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Homoplasmy vs. Heteroplasmy 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9240" y="2285640"/>
            <a:ext cx="7719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omoplasmy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= in most persons,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tDNA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from different mitochondria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dentical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Heteroplasmy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= the presence of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wo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populations of mtDNA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 a cell; the normal mtDNA &amp; the mutant mtDNA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e proportion of mutant mtDNA varies between cells &amp; tissues </a:t>
            </a:r>
            <a:r>
              <a:rPr b="0" lang="en-US" sz="2800" spc="-1" strike="noStrike">
                <a:solidFill>
                  <a:srgbClr val="5f5f5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a range of phenotypic severity in mitochondrial inheritanc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F00454-007-f025"/>
          <p:cNvPicPr/>
          <p:nvPr/>
        </p:nvPicPr>
        <p:blipFill>
          <a:blip r:embed="rId1"/>
          <a:srcRect l="6793" t="0" r="6672" b="4775"/>
          <a:stretch/>
        </p:blipFill>
        <p:spPr>
          <a:xfrm>
            <a:off x="1228680" y="1600200"/>
            <a:ext cx="6059520" cy="31971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41" name="Text Box 3"/>
          <p:cNvSpPr/>
          <p:nvPr/>
        </p:nvSpPr>
        <p:spPr>
          <a:xfrm>
            <a:off x="611280" y="5877000"/>
            <a:ext cx="7848360" cy="216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48188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The progressive effect of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teroplasmy 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on the clinical severity of mitochondrial genetic disorders</a:t>
            </a:r>
            <a:endParaRPr b="1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4873680"/>
            <a:ext cx="762012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Low proportions of mutant mitochondria are not associated with diseas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s the proportion increases, the disease will be manifested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152280" y="1828800"/>
            <a:ext cx="883944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Example of Mitochondrial Disorders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Lebers hereditary optic neuropathy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(LHON)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Rapid Optic nerve death </a:t>
            </a:r>
            <a:r>
              <a:rPr b="0" lang="en-US" sz="2800" spc="-1" strike="noStrike">
                <a:solidFill>
                  <a:srgbClr val="5f5f5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blindness in young adult lif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6600960"/>
            <a:ext cx="91263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  <a:ea typeface="Arial"/>
              </a:rPr>
              <a:t>http://ghr.nlm.nih.gov/condition=leberhereditaryopticneuropathy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ctangle 2"/>
          <p:cNvGrpSpPr/>
          <p:nvPr/>
        </p:nvGrpSpPr>
        <p:grpSpPr>
          <a:xfrm>
            <a:off x="2944800" y="1725480"/>
            <a:ext cx="4351320" cy="1408320"/>
            <a:chOff x="2944800" y="1725480"/>
            <a:chExt cx="4351320" cy="1408320"/>
          </a:xfrm>
        </p:grpSpPr>
        <p:pic>
          <p:nvPicPr>
            <p:cNvPr id="147" name="Rectangle 2" descr=""/>
            <p:cNvPicPr/>
            <p:nvPr/>
          </p:nvPicPr>
          <p:blipFill>
            <a:blip r:embed="rId1"/>
            <a:stretch/>
          </p:blipFill>
          <p:spPr>
            <a:xfrm>
              <a:off x="2944800" y="1725480"/>
              <a:ext cx="435132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048120" y="1752480"/>
              <a:ext cx="41148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ANTICIPATION</a:t>
              </a:r>
              <a:endParaRPr b="0" lang="en-US" sz="40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90560" y="45720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Anticipation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ttern of inheritance in which individuals in the most recent generations of a pedigree develop a diseas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 an earlier ag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ith greater seve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do those in earlier generatio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son might be the gradual expansion of trinucleotide repeat polymorphisms within or near a coding gen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diseases showing anticipation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ntington diseas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otonic dystroph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61960" y="457200"/>
            <a:ext cx="4800600" cy="64944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Myotonic Dystrophy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62120" y="1523880"/>
            <a:ext cx="819936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somal dominant diseas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comm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ffected gene is on chromosome 19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tation is triplet repeat (CTG) expansion in the 3’ untranslated region of the myotonic dystrophy gen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manifestations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03640" indent="-210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otonia (Muscular loss &amp; weakness)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03640" indent="-210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aract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03640" indent="-210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cular atrophy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03640" indent="-210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rt disease: arrhythmia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03640" indent="-210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entia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503640" indent="-2102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dnes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5126040" y="4754520"/>
            <a:ext cx="392112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0" y="838080"/>
            <a:ext cx="49528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cture Objectives</a:t>
            </a:r>
            <a:endParaRPr b="1" lang="en-US" sz="4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728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By the end of this lecture, students should be able to appreciate the possibility of atypical patterns of inheritance with special emphasis on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Codominant trait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Pseudodominant inheritance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The mitochondrial inheritance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Anticipatio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Pleiotropy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Variable expressivity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Heterogeneity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New mutation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857160" indent="-45720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Complex trait: multifactorial/Polygenic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8858520" cy="15112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Myotonic Dystrophy,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TD</a:t>
            </a: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1" lang="en-US" sz="40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792000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F00454-007-f018"/>
          <p:cNvPicPr/>
          <p:nvPr/>
        </p:nvPicPr>
        <p:blipFill>
          <a:blip r:embed="rId1"/>
          <a:stretch/>
        </p:blipFill>
        <p:spPr>
          <a:xfrm>
            <a:off x="3124080" y="1752480"/>
            <a:ext cx="3137040" cy="271008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80520" y="4648320"/>
            <a:ext cx="8604360" cy="149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born baby with severe hypotonia requiring ventilation as a result of having inherited myotonic dystrophy from his moth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42320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Myotonic Dystrophy,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Rectangle 2"/>
          <p:cNvGrpSpPr/>
          <p:nvPr/>
        </p:nvGrpSpPr>
        <p:grpSpPr>
          <a:xfrm>
            <a:off x="878040" y="1420920"/>
            <a:ext cx="7796160" cy="1865160"/>
            <a:chOff x="878040" y="1420920"/>
            <a:chExt cx="7796160" cy="1865160"/>
          </a:xfrm>
        </p:grpSpPr>
        <p:pic>
          <p:nvPicPr>
            <p:cNvPr id="160" name="Rectangle 2" descr=""/>
            <p:cNvPicPr/>
            <p:nvPr/>
          </p:nvPicPr>
          <p:blipFill>
            <a:blip r:embed="rId1"/>
            <a:stretch/>
          </p:blipFill>
          <p:spPr>
            <a:xfrm>
              <a:off x="878040" y="1420920"/>
              <a:ext cx="7796160" cy="18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990720" y="1447920"/>
              <a:ext cx="75438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Atypical presentation for Autosomal Dominant defects</a:t>
              </a:r>
              <a:endParaRPr b="0" lang="en-US" sz="40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3520" y="2207880"/>
            <a:ext cx="76435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leiotropy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reduced penetranc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and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ariabl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xpressivity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of a mutant allele need to be taken into account when providing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enetic counseling 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to individuals at risk for autosomal dominant inherited disorders.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42840" y="439560"/>
            <a:ext cx="2514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Pleiotropy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71640" y="2017800"/>
            <a:ext cx="79833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t is common for autosomal dominant disorders to manifest in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different systems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of the body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in a variety of way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Pleiotropy:-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 single gene that may give rise to two or more apparently unrelated effect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xample: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uberous sclerosis: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ffected individuals can present with eith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learning difficulties,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pilepsy,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a facial rash,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, all featur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65" name="Picture 4" descr="Adenoma_sebaceum"/>
          <p:cNvPicPr/>
          <p:nvPr/>
        </p:nvPicPr>
        <p:blipFill>
          <a:blip r:embed="rId1"/>
          <a:stretch/>
        </p:blipFill>
        <p:spPr>
          <a:xfrm>
            <a:off x="7093080" y="836640"/>
            <a:ext cx="1042920" cy="851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F00454-007-f005"/>
          <p:cNvPicPr/>
          <p:nvPr/>
        </p:nvPicPr>
        <p:blipFill>
          <a:blip r:embed="rId2"/>
          <a:stretch/>
        </p:blipFill>
        <p:spPr>
          <a:xfrm>
            <a:off x="5651640" y="765000"/>
            <a:ext cx="1311120" cy="10065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761760"/>
            <a:ext cx="5329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Variable expressivity</a:t>
            </a:r>
            <a:endParaRPr b="1" lang="en-US" sz="4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inical features in autosomal dominant disorders can show striking variation from person to person, even in the same family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In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autosomal dominant polycystic kidney disease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8640" y="4937040"/>
            <a:ext cx="339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affected individuals develop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renal failure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early adulthood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573440" y="4937040"/>
            <a:ext cx="43610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s have just a 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few renal cysts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do not significantly affect renal functi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" name="Line 6"/>
          <p:cNvSpPr/>
          <p:nvPr/>
        </p:nvSpPr>
        <p:spPr>
          <a:xfrm>
            <a:off x="2022480" y="4465800"/>
            <a:ext cx="44956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>
            <a:off x="2022480" y="4465800"/>
            <a:ext cx="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6518160" y="4465800"/>
            <a:ext cx="0" cy="3808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 flipV="1">
            <a:off x="4079880" y="4236840"/>
            <a:ext cx="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57040" y="91440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duced penetrance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2360520"/>
            <a:ext cx="76438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 some individual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terozygous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for gene mutations giving rise to certa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utosomal dominant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disorders there may b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bnormal clinical features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, representing so-called 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reduced penetranc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 or 'skipping a generation‘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Reduced penetrance might be due to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modifying effects of other gene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interaction of the gene with environmental factor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0560" y="609480"/>
            <a:ext cx="38862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New mutations</a:t>
            </a:r>
            <a:endParaRPr b="1" lang="en-US" sz="4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utosomal dominant disorders an affected person will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su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an affected parent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is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t alway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se and it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ot unus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 trait to appear in an individual when there is no family history of the disorder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dden unexpected appearance of a condition arising as a result of a mistake occurring in the transmission of a gene is called a 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ew mut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PR_MR_LG_Achon-Body"/>
          <p:cNvPicPr/>
          <p:nvPr/>
        </p:nvPicPr>
        <p:blipFill>
          <a:blip r:embed="rId1"/>
          <a:stretch/>
        </p:blipFill>
        <p:spPr>
          <a:xfrm>
            <a:off x="5746680" y="404640"/>
            <a:ext cx="792360" cy="79236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180" name="Picture 3" descr="spc"/>
          <p:cNvPicPr/>
          <p:nvPr/>
        </p:nvPicPr>
        <p:blipFill>
          <a:blip r:embed="rId2"/>
          <a:stretch/>
        </p:blipFill>
        <p:spPr>
          <a:xfrm>
            <a:off x="3971880" y="4456080"/>
            <a:ext cx="9720" cy="95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spc"/>
          <p:cNvPicPr/>
          <p:nvPr/>
        </p:nvPicPr>
        <p:blipFill>
          <a:blip r:embed="rId3"/>
          <a:stretch/>
        </p:blipFill>
        <p:spPr>
          <a:xfrm>
            <a:off x="4008600" y="3454560"/>
            <a:ext cx="9360" cy="95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PR_MR_LG_Achon-Hand"/>
          <p:cNvPicPr/>
          <p:nvPr/>
        </p:nvPicPr>
        <p:blipFill>
          <a:blip r:embed="rId4"/>
          <a:stretch/>
        </p:blipFill>
        <p:spPr>
          <a:xfrm>
            <a:off x="6684840" y="401760"/>
            <a:ext cx="790560" cy="79056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183" name="Picture 6" descr="spc"/>
          <p:cNvPicPr/>
          <p:nvPr/>
        </p:nvPicPr>
        <p:blipFill>
          <a:blip r:embed="rId5"/>
          <a:stretch/>
        </p:blipFill>
        <p:spPr>
          <a:xfrm>
            <a:off x="4008600" y="3454560"/>
            <a:ext cx="9360" cy="950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PR_MR_LG_Achon-head"/>
          <p:cNvPicPr/>
          <p:nvPr/>
        </p:nvPicPr>
        <p:blipFill>
          <a:blip r:embed="rId6"/>
          <a:stretch/>
        </p:blipFill>
        <p:spPr>
          <a:xfrm>
            <a:off x="7615080" y="396720"/>
            <a:ext cx="784440" cy="78444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36892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Achondroplasia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306080"/>
            <a:ext cx="8915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orm of short-limbed dwarfism, in which the parents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usu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ve normal statur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nosis/testing: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cteristic clinical and radiographic finding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ecular genetic tests: mutation in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GFR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ene on chromosome 4p16.3 (coding for fibroblast growth factor receptor 3)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ffspring of persons with achondroplasia had a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50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ce of having achondroplasia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other possible explanations for the 'sudden' appearance of this disorder?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non-penetranc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of the parents might be heterozygous for the mutant allele but so mildly affected that it has not previously been detected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ariable expressivity 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amily relationships not being as stated, e.g.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 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non-patern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Rectangle 2"/>
          <p:cNvGrpSpPr/>
          <p:nvPr/>
        </p:nvGrpSpPr>
        <p:grpSpPr>
          <a:xfrm>
            <a:off x="2292480" y="1725480"/>
            <a:ext cx="5572080" cy="1571760"/>
            <a:chOff x="2292480" y="1725480"/>
            <a:chExt cx="5572080" cy="1571760"/>
          </a:xfrm>
        </p:grpSpPr>
        <p:pic>
          <p:nvPicPr>
            <p:cNvPr id="188" name="Rectangle 2" descr=""/>
            <p:cNvPicPr/>
            <p:nvPr/>
          </p:nvPicPr>
          <p:blipFill>
            <a:blip r:embed="rId1"/>
            <a:stretch/>
          </p:blipFill>
          <p:spPr>
            <a:xfrm>
              <a:off x="2292480" y="1725480"/>
              <a:ext cx="5572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438280" y="1752480"/>
              <a:ext cx="5257800" cy="13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MULTIFACTORIAL/</a:t>
              </a:r>
              <a:br>
                <a:rPr sz="3200"/>
              </a:b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POLYGENIC DISORDERS</a:t>
              </a:r>
              <a:endParaRPr b="0" lang="en-US" sz="3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Rectangle 2"/>
          <p:cNvGrpSpPr/>
          <p:nvPr/>
        </p:nvGrpSpPr>
        <p:grpSpPr>
          <a:xfrm>
            <a:off x="158760" y="1573200"/>
            <a:ext cx="8955000" cy="1225440"/>
            <a:chOff x="158760" y="1573200"/>
            <a:chExt cx="8955000" cy="1225440"/>
          </a:xfrm>
        </p:grpSpPr>
        <p:pic>
          <p:nvPicPr>
            <p:cNvPr id="94" name="Rectangle 2" descr=""/>
            <p:cNvPicPr/>
            <p:nvPr/>
          </p:nvPicPr>
          <p:blipFill>
            <a:blip r:embed="rId1"/>
            <a:stretch/>
          </p:blipFill>
          <p:spPr>
            <a:xfrm>
              <a:off x="158760" y="1573200"/>
              <a:ext cx="895500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380880" y="1600200"/>
              <a:ext cx="84758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Inheritance of Codominant Alleles</a:t>
              </a:r>
              <a:endParaRPr b="0" lang="en-US" sz="40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666880" y="380880"/>
            <a:ext cx="353376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omplex Traits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 traits are conditions which are likely to be due to the interaction of more than one gene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s may be additive, one may be rate-limiting over the action of another, or one may enhance or multiply the effect of another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Digenic inheritance: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a disorder has been shown to be due to the additive effects of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eterozygous mutations at two different gene loci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an one form of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etinitis pigmento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disorder of progressive visual impairment, is caused by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double heterozygo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utations in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two unlinked ge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 which both encode proteins present in photoreceptors. Individuals with only one of these mutations are not affected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815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Multifactorial/Polygenic Disorders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1219320"/>
            <a:ext cx="8896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haracteristics such as height, skin color and intelligence could be determined by the interaction of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any ge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ach exerting a small additive effect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odel of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400" spc="-1" strike="noStrike">
                <a:solidFill>
                  <a:srgbClr val="ff0066"/>
                </a:solidFill>
                <a:latin typeface="Arial"/>
              </a:rPr>
              <a:t>quantitative inheritance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explain the pattern of inheritance for many relatively common condition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genital malformations such as cleft lip and palate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-onset conditions such as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tensi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zheimer diseas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ailing view is that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genes at several loci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 to generate a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uscepti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the effects of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dverse environ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igger factor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Genomic Imprinting</a:t>
            </a:r>
            <a:br>
              <a:rPr sz="36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An example of Non-Mendelian Inheritance</a:t>
            </a:r>
            <a:endParaRPr b="1" lang="en-US" sz="24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449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ertain chromosomes retain a memory or “imprint” of parental origin that influences whether genes are expressed or not during gametogenesi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96" name="Picture 5" descr="genomic-imprinting"/>
          <p:cNvPicPr/>
          <p:nvPr/>
        </p:nvPicPr>
        <p:blipFill>
          <a:blip r:embed="rId1"/>
          <a:stretch/>
        </p:blipFill>
        <p:spPr>
          <a:xfrm>
            <a:off x="5105520" y="1247760"/>
            <a:ext cx="37242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5105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ake home Message: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curate determination of the family pedigree is an important part of the workup of every patien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s to Mendelian inheritance do occur in single-gene disorder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heritance pattern of an individual pedigree may be obscured by a number of other factors that may make the mode of inheritance difficult to interpre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haracteristics and many common familial disorders, do not usually follow a simple pattern of Mendelian inheritanc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Rectangle 2"/>
          <p:cNvGrpSpPr/>
          <p:nvPr/>
        </p:nvGrpSpPr>
        <p:grpSpPr>
          <a:xfrm>
            <a:off x="3438360" y="1725480"/>
            <a:ext cx="3133800" cy="1127160"/>
            <a:chOff x="3438360" y="1725480"/>
            <a:chExt cx="3133800" cy="1127160"/>
          </a:xfrm>
        </p:grpSpPr>
        <p:pic>
          <p:nvPicPr>
            <p:cNvPr id="200" name="Rectangle 2" descr=""/>
            <p:cNvPicPr/>
            <p:nvPr/>
          </p:nvPicPr>
          <p:blipFill>
            <a:blip r:embed="rId1"/>
            <a:stretch/>
          </p:blipFill>
          <p:spPr>
            <a:xfrm>
              <a:off x="3438360" y="1725480"/>
              <a:ext cx="313380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505320" y="1752480"/>
              <a:ext cx="29718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Thank you </a:t>
              </a:r>
              <a:r>
                <a:rPr b="1" lang="en-US" sz="32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</a:t>
              </a:r>
              <a:endParaRPr b="0" lang="en-US" sz="3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90476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odominance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849400"/>
            <a:ext cx="777240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f5f5f"/>
                </a:solidFill>
                <a:latin typeface="Arial"/>
              </a:rPr>
              <a:t>Codominance: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two allelic traits that are both expressed in the heterozygous stat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xample: Blood group AB: the A and B blood groups are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dominant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ossible genotypes, phenotypes &amp; gametes formed from the four alleles: A</a:t>
            </a:r>
            <a:r>
              <a:rPr b="1" lang="en-US" sz="3200" spc="-1" strike="noStrike" baseline="-25000">
                <a:solidFill>
                  <a:srgbClr val="00206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, A</a:t>
            </a:r>
            <a:r>
              <a:rPr b="1" lang="en-US" sz="32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, B, &amp; O at the ABO locus</a:t>
            </a:r>
            <a:r>
              <a:rPr b="1" lang="ar-SA" sz="3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-983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0" y="753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0" y="-9837720"/>
            <a:ext cx="9144000" cy="36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1800" y="1623744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0" y="-983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0" y="753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Rectangle 21"/>
          <p:cNvSpPr/>
          <p:nvPr/>
        </p:nvSpPr>
        <p:spPr>
          <a:xfrm>
            <a:off x="0" y="-9837720"/>
            <a:ext cx="9144000" cy="360"/>
          </a:xfrm>
          <a:prstGeom prst="rect">
            <a:avLst/>
          </a:pr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Rectangle 22"/>
          <p:cNvSpPr/>
          <p:nvPr/>
        </p:nvSpPr>
        <p:spPr>
          <a:xfrm>
            <a:off x="1800" y="1623744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Rectangle 23"/>
          <p:cNvSpPr/>
          <p:nvPr/>
        </p:nvSpPr>
        <p:spPr>
          <a:xfrm>
            <a:off x="0" y="-91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1800" y="72468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128680" y="1916280"/>
          <a:ext cx="5274000" cy="4359240"/>
        </p:xfrm>
        <a:graphic>
          <a:graphicData uri="http://schemas.openxmlformats.org/drawingml/2006/table">
            <a:tbl>
              <a:tblPr/>
              <a:tblGrid>
                <a:gridCol w="1284480"/>
                <a:gridCol w="1398600"/>
                <a:gridCol w="259092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Genotype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Phenotype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Gamete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B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O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A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O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000" spc="-1" strike="noStrike" baseline="-25000">
                          <a:solidFill>
                            <a:srgbClr val="5f5f5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5f5f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Rectangle 2"/>
          <p:cNvGrpSpPr/>
          <p:nvPr/>
        </p:nvGrpSpPr>
        <p:grpSpPr>
          <a:xfrm>
            <a:off x="2766960" y="1341360"/>
            <a:ext cx="4780080" cy="1535040"/>
            <a:chOff x="2766960" y="1341360"/>
            <a:chExt cx="4780080" cy="1535040"/>
          </a:xfrm>
        </p:grpSpPr>
        <p:pic>
          <p:nvPicPr>
            <p:cNvPr id="111" name="Rectangle 2" descr=""/>
            <p:cNvPicPr/>
            <p:nvPr/>
          </p:nvPicPr>
          <p:blipFill>
            <a:blip r:embed="rId1"/>
            <a:stretch/>
          </p:blipFill>
          <p:spPr>
            <a:xfrm>
              <a:off x="2766960" y="1341360"/>
              <a:ext cx="478008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819520" y="1371600"/>
              <a:ext cx="464796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PSEUDODOMINANT INHERITANCE</a:t>
              </a:r>
              <a:endParaRPr b="0" lang="en-US" sz="3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F00454-007-f009"/>
          <p:cNvPicPr/>
          <p:nvPr/>
        </p:nvPicPr>
        <p:blipFill>
          <a:blip r:embed="rId1"/>
          <a:srcRect l="30748" t="0" r="27127" b="6958"/>
          <a:stretch/>
        </p:blipFill>
        <p:spPr>
          <a:xfrm>
            <a:off x="2895480" y="1676520"/>
            <a:ext cx="3810240" cy="238752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  <p:sp>
        <p:nvSpPr>
          <p:cNvPr id="114" name="Text Box 3"/>
          <p:cNvSpPr/>
          <p:nvPr/>
        </p:nvSpPr>
        <p:spPr>
          <a:xfrm>
            <a:off x="611280" y="5877000"/>
            <a:ext cx="7848360" cy="216000"/>
          </a:xfrm>
          <a:prstGeom prst="rect">
            <a:avLst/>
          </a:prstGeom>
          <a:solidFill>
            <a:srgbClr val="ff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45720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Pedigree: Pseudodominant inheritance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741240" y="4114800"/>
            <a:ext cx="825048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Arial"/>
              </a:rPr>
              <a:t>A woma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omozygous for an autosomal recessive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Arial"/>
              </a:rPr>
              <a:t> disorder whose husband i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heterozygous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Arial"/>
              </a:rPr>
              <a:t> for the same disorder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514440" indent="-514440"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Arial"/>
              </a:rPr>
              <a:t>Their children have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1 in 2 (50%) </a:t>
            </a:r>
            <a:r>
              <a:rPr b="1" lang="en-US" sz="2800" spc="-1" strike="noStrike">
                <a:solidFill>
                  <a:srgbClr val="5f5f5f"/>
                </a:solidFill>
                <a:latin typeface="Arial"/>
                <a:ea typeface="Arial"/>
              </a:rPr>
              <a:t>chance of being affected (homozygous ) i.e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pseudodominan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Rectangle 2"/>
          <p:cNvGrpSpPr/>
          <p:nvPr/>
        </p:nvGrpSpPr>
        <p:grpSpPr>
          <a:xfrm>
            <a:off x="669960" y="1298520"/>
            <a:ext cx="7993080" cy="1841400"/>
            <a:chOff x="669960" y="1298520"/>
            <a:chExt cx="7993080" cy="1841400"/>
          </a:xfrm>
        </p:grpSpPr>
        <p:pic>
          <p:nvPicPr>
            <p:cNvPr id="118" name="Rectangle 2" descr=""/>
            <p:cNvPicPr/>
            <p:nvPr/>
          </p:nvPicPr>
          <p:blipFill>
            <a:blip r:embed="rId1"/>
            <a:stretch/>
          </p:blipFill>
          <p:spPr>
            <a:xfrm>
              <a:off x="669960" y="1298520"/>
              <a:ext cx="799308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62120" y="1371600"/>
              <a:ext cx="77724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Atypical inheritance of single-gene disorders</a:t>
              </a:r>
              <a:endParaRPr b="0" lang="en-US" sz="40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53588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What are the situations in which the inheritance of single-gene disorders diverges from typical mendelian patterns?</a:t>
            </a:r>
            <a:endParaRPr b="1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8520" y="22093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Maternal inheritance of mitochondrial mutation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Anticipati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Atypical presentation for Autosomal Dominant defects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Pleotropy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Variable expressivity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Reduced penetrance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New mutation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Unusual inheritance patterns due to Genomic Imprinting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Mosaicism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Somatic mosaicism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Germline mosaicism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789120" y="220968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768600" y="302724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768600" y="259560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18:32:37Z</dcterms:created>
  <dc:creator>user</dc:creator>
  <dc:description/>
  <dc:language>en-US</dc:language>
  <cp:lastModifiedBy>Al-Otaibi Maram</cp:lastModifiedBy>
  <dcterms:modified xsi:type="dcterms:W3CDTF">2015-10-20T07:28:14Z</dcterms:modified>
  <cp:revision>191</cp:revision>
  <dc:subject/>
  <dc:title>Molecular Pathology</dc:title>
</cp:coreProperties>
</file>