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BD2-2B9B-4F91-8F04-7B1E761C14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4202-0237-447C-A8CB-8B426A360BE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199C-1E96-4188-8922-962B343FA42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DBCE-900E-4955-B240-4DC0588DE12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753C-BF70-4E7E-A485-C44DCEC4395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83F8-77AC-4675-A1D8-94FA980343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298B-18C1-4877-A3F9-F9B6497EAD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D252-3027-4A16-BD1D-066F0F6EDA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7F99-C93B-4097-A464-048FEE60FEB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BDDC-1E95-4FFC-8C7B-7487EBB5EA7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98C-0B5D-4C22-85CA-3BB8F1CC1BB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1DE1-D912-4884-9A21-5FEACCA5D2A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B959-D16A-4857-85EA-AFE5DDF21A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936-9569-4060-A1DA-D0258C596AD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48A2-DF96-426B-9E6E-79F6A86C620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3170-10AD-4BAE-9550-A01BF7C7841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B776-2F10-4792-A370-8313D908BD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BC5B-0DC0-4D95-A1DF-15FF4006B6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810-6411-4238-85E1-E054BD5B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F51-EA80-42D5-90E5-93AB480D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A14E-7956-4542-9DF4-377C967C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C653-FBE6-4336-8AA8-344B2381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536A-6E42-4990-AC4A-10A3CE79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C029-74A4-49D2-B9E2-F9E40868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DCD5-7AD6-4D42-ACB6-58A82CCF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A7AA-0652-4F50-9F45-CFAC98BA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9C14-0669-41C5-8AB5-6DA4BC65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712A-6EFE-48CD-B6EC-F2195060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0308-530D-4E71-A1D1-3DB25759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A31-649C-4C33-A315-89A07254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EF66-16A5-467E-94E0-700EBEFD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C9B9-2479-400D-B2A8-396BB5D8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0CC6-5C18-4CF0-905B-3B64948D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3C9F-4BAB-40C1-B991-F90B6628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DC6C-687B-4178-A54E-ECE245FC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90F50-FA33-4458-B369-7F25AFA3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30BB3-902C-479F-BE5A-1BDA83DE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B961D-7848-481B-BF68-4FB5075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15B5F-9CCE-4CF0-8DCB-FDA08B3C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D76C8-ED35-4175-9DA5-FA2E98DA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9E7-462C-4330-8B5F-4EFBC6E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4BB19-B0FA-4AEE-B9C3-086363CC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7EBAE9-5544-4704-B6B7-A2170B16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9CC3A-35BC-41BB-AE0C-62E2F84E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D4E95-E8B0-4583-A56B-3BB8D8B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E384D-9DFF-485E-BC77-CA3E676F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57202-80C3-404C-9D79-9DC42644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27812-FB2F-4420-812B-F5F651D7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E651A-5D80-4B1C-9F92-074427CC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2764C-D308-4BCF-AFA8-0264DCAE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F5261-6CC0-4950-BCF6-2493BA54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0E94-02C6-4615-95D1-541B66C1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16AA-F2C4-4EAB-B8C6-B233AF71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B79B9-2989-4EAC-92A1-EFFFE337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98DEA-B274-4929-B682-ECC11F0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4047-8C37-41D9-90D0-3BC2291F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830D-3654-421C-B4E1-9475B853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A41D2-215B-4B30-916C-E9DA7F5F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D49E-221B-4656-8E9C-53E40889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B175E-7064-4ABD-94D1-3DDA93F1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F137-960E-4E8C-8ACC-1E631794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013-AC64-471A-A122-CE6D3AAB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6E8-14FA-455D-A65E-61CFC7C3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FA3-6E1E-468E-A64D-42133E7F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6B4-C5EC-4204-AA32-B298A5D9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6478-DF58-4222-8F28-4637721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B7D3-C90C-4077-83E3-0AB21CF06157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2A7-3F9C-48CD-BC81-F384A9B577C1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987A-215F-4494-8161-7DAA29FD6D77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2D7-F468-496C-8E3E-F08B93619C94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Phagocytes%26toggle%3D1%26cop%3Dmss%26ei%3DUTF-8%26ni%3D20%26fr%3Dyfp-t-501%26b%3D121&amp;w=100&amp;h=100&amp;imgurl=www.netsoc.tcd.ie%2F%7Eelena%2Fcollegework%2Fapplet2%2Fphagocyte.jpg&amp;rurl=http%3A%2F%2Fwww.netsoc.tcd.ie%2F%7Eelena%2Fcollegework%2Fapplet2%2Flevel1.html&amp;size=2.6kB&amp;name=phagocyte.jpg&amp;p=Phagocytes&amp;type=jpeg&amp;no=129&amp;tt=183&amp;oid=38f49f2a14227ed4&amp;ei=UTF-8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ncbi.nlm.nih.gov/books/NBK27109/figure/A1506/?report=objectonly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0" y="-457200"/>
            <a:ext cx="36576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  <a:ea typeface="Times New Roman"/>
              </a:rPr>
              <a:t>Immune deficiency disorder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40384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Dr. Hend Alotaibi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ant professor &amp; Consultant </a:t>
            </a:r>
            <a:br>
              <a:rPr sz="2000"/>
            </a:b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of Medicine, King Saud University</a:t>
            </a:r>
            <a:br>
              <a:rPr sz="19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rmatology Department /KKUH</a:t>
            </a:r>
            <a:br>
              <a:rPr sz="2000"/>
            </a:b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7200" y="1447560"/>
            <a:ext cx="5105520" cy="51814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ildren  may present with tetany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treme susceptibility to viral protozoal, and  fungal  infection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i="1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Profound  depression of T-cell numbers 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bsence of T-cell responses</a:t>
            </a:r>
            <a:endParaRPr b="0" lang="en-US" sz="33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85800" y="304920"/>
            <a:ext cx="7620120" cy="761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atures of DiGeorge  syndrom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651640" y="2057400"/>
            <a:ext cx="3263760" cy="255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457200" y="2438280"/>
            <a:ext cx="822960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tal thymus tissue graft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(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4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weeks old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380880" y="914400"/>
            <a:ext cx="75438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nagement of DiGeorge   syndrome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1600200" y="2514600"/>
            <a:ext cx="541008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   </a:t>
            </a:r>
            <a:r>
              <a:rPr b="0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-cell defect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219320" y="4114800"/>
            <a:ext cx="6324480" cy="1447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ammaglobulinaemias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http://t3.gstatic.com/images?q=tbn:ANd9GcT6R0crhi6KxnXaWpjOyHLjMGSPmPgXCMQ23w28VquN1BTkHYYVFw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77320" cy="1560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tients with B-cell defects  are subject to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1981080"/>
            <a:ext cx="8076960" cy="4572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ecurrent bacterial infections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ut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splay normal immunity to most viral and fungal 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???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04560" y="609480"/>
            <a:ext cx="8381880" cy="5516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iverse spectrum  ranging from: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absence of B-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 absence of plasma cel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ow or absent immunoglobulin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lective absence of certain immunoglobuli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X-linked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males : carriers (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rmal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ales :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ifes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the diseas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2437920"/>
            <a:ext cx="8686800" cy="40388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most common type, 80 to 90 percent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Bruton Tyrosine Kinase (BTK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defect involves a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Times New Roman"/>
                <a:ea typeface="Times New Roman"/>
              </a:rPr>
              <a:t>block in maturation of  pre- B- cells to mature B-cells in bone marr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228600" y="304920"/>
            <a:ext cx="8763120" cy="16002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-linked agammaglobulinaemia (XLA) 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uton’s hypogammaglobulinae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880" y="1752480"/>
            <a:ext cx="8229600" cy="4114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Reduced B-cell counts to 0.1 percent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normally 5-15 percent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 Absence of Immunoglobulins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Affected children suffer from recurrent pyogenic bacterial infection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457200" y="304920"/>
            <a:ext cx="8229600" cy="12952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atures of XL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1026720"/>
            <a:ext cx="73152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lective immunoglobulin deficiency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disease)</a:t>
            </a:r>
            <a:r>
              <a:rPr b="0" lang="en-US" sz="36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38080" y="2590920"/>
            <a:ext cx="7467840" cy="36576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3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gA  deficiency   (1:700)</a:t>
            </a: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e3d2d"/>
                </a:solidFill>
                <a:latin typeface="Century Gothic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st  are  asymptomatic: but may have increased  incidence  of respiratory tract infections (R.T.I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ome have recurrent R.T.I and gastrointestinal tract symptom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Lecture Objectives</a:t>
            </a:r>
            <a:r>
              <a:rPr b="0" lang="en-US" sz="32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76176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dentify that Immunodeficiency is due to a defect in the immune function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scribe the classification of Immunodeficiency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xplain the presentations of different types of Immuno-deficiencies (e.g. recurrent infections)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nderstand the varieties of immune system deficiencies involving defects in :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cells, B cells, phagocytes and complement.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now the laboratory investigations for immunodeficiency disorders 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4"/>
          <p:cNvSpPr/>
          <p:nvPr/>
        </p:nvSpPr>
        <p:spPr>
          <a:xfrm>
            <a:off x="380880" y="1905120"/>
            <a:ext cx="8229600" cy="41907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zed by: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Markedly elevated Ig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Low IgG, IgA &amp; I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380880" y="304920"/>
            <a:ext cx="7239240" cy="106668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X- linked  hyper-IgM  Syndro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c67a"/>
                </a:solidFill>
                <a:latin typeface="Times New Roman"/>
                <a:ea typeface="Times New Roman"/>
              </a:rPr>
              <a:t>(Congenital disease)               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http://t1.gstatic.com/images?q=tbn:ANd9GcTbrUSFfTP1aydJ6sC_kYhfhiBwSZNTKItqGUJo0aXElfM7ap_P-Q"/>
          <p:cNvPicPr/>
          <p:nvPr/>
        </p:nvPicPr>
        <p:blipFill>
          <a:blip r:embed="rId1"/>
          <a:stretch/>
        </p:blipFill>
        <p:spPr>
          <a:xfrm>
            <a:off x="7238880" y="1905120"/>
            <a:ext cx="1371600" cy="1304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8229600" cy="208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nagement of immunoglobulin   deficiencies</a:t>
            </a: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3657240"/>
            <a:ext cx="8229600" cy="2057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25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*Periodic intravenous immunoglobulin      (IVIG)  reduces infectious complications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-25128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609480" y="304920"/>
            <a:ext cx="815364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Severe Combined Immunodeficiency (SCI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(Congenital diseas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685800" y="1828800"/>
            <a:ext cx="80773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f8be"/>
                </a:solidFill>
                <a:latin typeface="Times New Roman"/>
                <a:ea typeface="Times New Roman"/>
              </a:rPr>
              <a:t>Causes of  SCI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deficienci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DA (adenosine deaminase 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PN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ine phosphorylase) defici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xic metabolites accumulate in T and B cel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patible with life and affected infants usually die within the first 2 y unless they are rescued with BM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9144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04920" y="1828440"/>
            <a:ext cx="8610480" cy="48769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velop recurrent infections early in life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longed diarrhea due to rotavirus or bacterial infection of GIT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usually due to the protozoan, Pneumocystis carinii.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he common yeast organism Candida albicans (mouth or skin)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f they are vaccinated with live organisms, such as poliovirus or (BCG), they die of progressive infection from these ordinarily benign organism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25600" indent="-45720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152280" y="304920"/>
            <a:ext cx="8763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eatures of SCID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ncreased susceptibility to :viral, fungal, bacterial protozoal infections  (starting at 3 months of age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Picture 2" descr="http://www.pc.maricopa.edu/Biology/rcotter/BIO%20205/LessonBuilders/Chapter%2016LB/cow95289_16_18.jpg"/>
          <p:cNvPicPr/>
          <p:nvPr/>
        </p:nvPicPr>
        <p:blipFill>
          <a:blip r:embed="rId1"/>
          <a:stretch/>
        </p:blipFill>
        <p:spPr>
          <a:xfrm>
            <a:off x="380880" y="1676520"/>
            <a:ext cx="833760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9600" cy="11430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nagement of SC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2742840"/>
            <a:ext cx="7696080" cy="21337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. Infusion of purified enzymes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2. Gene therapy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4"/>
          <p:cNvSpPr/>
          <p:nvPr/>
        </p:nvSpPr>
        <p:spPr>
          <a:xfrm>
            <a:off x="1828800" y="2590920"/>
            <a:ext cx="5410080" cy="129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cyte defects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609480" y="4648320"/>
            <a:ext cx="350532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ntitativ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4572000" y="4648320"/>
            <a:ext cx="3886200" cy="685800"/>
          </a:xfrm>
          <a:prstGeom prst="rect">
            <a:avLst/>
          </a:prstGeom>
          <a:solidFill>
            <a:srgbClr val="aaea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ativ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 rot="961200">
            <a:off x="2435400" y="3929040"/>
            <a:ext cx="145800" cy="571680"/>
          </a:xfrm>
          <a:prstGeom prst="downArrow">
            <a:avLst>
              <a:gd name="adj1" fmla="val 50000"/>
              <a:gd name="adj2" fmla="val 14375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8"/>
          <p:cNvSpPr/>
          <p:nvPr/>
        </p:nvSpPr>
        <p:spPr>
          <a:xfrm rot="20596800">
            <a:off x="5949720" y="3927240"/>
            <a:ext cx="153720" cy="600120"/>
          </a:xfrm>
          <a:prstGeom prst="downArrow">
            <a:avLst>
              <a:gd name="adj1" fmla="val 50000"/>
              <a:gd name="adj2" fmla="val 15614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9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28600"/>
            <a:ext cx="3543120" cy="2133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ngenital agranulocytosis:  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efect in the gene inducing G-CSF (granulocyte colony stimulating factor)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atures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neumonia, otitis media, abscesse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685800" y="380880"/>
            <a:ext cx="5105520" cy="68580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ant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228600" y="1752480"/>
            <a:ext cx="8610480" cy="472464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.</a:t>
            </a:r>
            <a:r>
              <a:rPr b="0" lang="en-U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 in  chemotaxis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Leukocyte adhesion deficiency</a:t>
            </a:r>
            <a:r>
              <a:rPr b="0" lang="ar-SA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LAD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.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 in intracellular Killing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hronic granulomatous disease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</a:rPr>
              <a:t>Defect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 in the oxidative complex responsible  for producing superoxide radicals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e3d2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Arial"/>
                <a:ea typeface="Arial"/>
              </a:rPr>
              <a:t>      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457200" y="304920"/>
            <a:ext cx="8305920" cy="12189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Qualitative Defec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(Congenital diseas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Times New Roman"/>
              </a:rPr>
              <a:t>Defini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052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state in which  the ability of the immune system to fight infectious disease is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romised or entirely absent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 person who has an immunodeficiency is said to be </a:t>
            </a:r>
            <a:r>
              <a:rPr b="0" lang="en-US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mmuno-compromise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lnSpc>
                <a:spcPct val="100000"/>
              </a:lnSpc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Chronic granulomatous disease (CGD)</a:t>
            </a:r>
            <a:br>
              <a:rPr sz="3600"/>
            </a:br>
            <a:r>
              <a:rPr b="0" lang="en-US" sz="3600" spc="-1" strike="noStrike">
                <a:solidFill>
                  <a:srgbClr val="cc00cc"/>
                </a:solidFill>
                <a:latin typeface="Times New Roman"/>
              </a:rPr>
              <a:t>(Congenital disease)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533520" y="2895480"/>
            <a:ext cx="556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trophils lack the "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  <a:ea typeface="Times New Roman"/>
              </a:rPr>
              <a:t>respiratory bur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upon phagocytosi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aracterized by recurrent life-threatening bacterial and fungal infections and granuloma 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http://www.humpath.com/IMG/jpg/granuloma_fgsd-2.jpg"/>
          <p:cNvPicPr/>
          <p:nvPr/>
        </p:nvPicPr>
        <p:blipFill>
          <a:blip r:embed="rId1"/>
          <a:stretch/>
        </p:blipFill>
        <p:spPr>
          <a:xfrm>
            <a:off x="6095880" y="2286000"/>
            <a:ext cx="2438640" cy="1676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4"/>
          <p:cNvSpPr/>
          <p:nvPr/>
        </p:nvSpPr>
        <p:spPr>
          <a:xfrm>
            <a:off x="838080" y="2895480"/>
            <a:ext cx="7620120" cy="990720"/>
          </a:xfrm>
          <a:prstGeom prst="rect">
            <a:avLst/>
          </a:prstGeom>
          <a:solidFill>
            <a:srgbClr val="74a510"/>
          </a:solidFill>
          <a:ln w="936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Complement  Deficienc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533520" y="152280"/>
            <a:ext cx="7848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y of all complement components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been described C1-C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Figure 11.14. Defects in complement components are associated with susceptibility to certain infections and accumulation of immune complex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828800"/>
            <a:ext cx="8610840" cy="4876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229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f5201"/>
                </a:solidFill>
                <a:latin typeface="Times New Roman"/>
              </a:rPr>
              <a:t>Laboratory diagnosis of I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533520" y="20570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Complete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blood count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total &amp; differential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valuation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ntibody level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and response to antigens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 and B cells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unts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(Flowcytometry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asure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omplement protei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nd function (CH</a:t>
            </a:r>
            <a:r>
              <a:rPr b="0" lang="en-US" sz="2800" spc="-1" strike="noStrike" baseline="-25000">
                <a:solidFill>
                  <a:srgbClr val="3e3d2d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ssessment of </a:t>
            </a:r>
            <a:r>
              <a:rPr b="0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phagocytosis and respiratory bur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oxygen radicals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 algn="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</a:t>
            </a:r>
            <a:endParaRPr b="0" lang="en-US" sz="1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720" y="1027080"/>
            <a:ext cx="707688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entury Gothic"/>
              </a:rPr>
              <a:t>Take Home Messag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6840" y="2323800"/>
            <a:ext cx="807732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mmunodeficiency may be congenital or acquire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t can involve any component of the immune system such as cells, antibodies, complement etc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ost common presentation of immunodeficiency is recurrent infections that may be fatal due to delay in diagnosis and lack of appropriate therap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 rtl="1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hank you</a:t>
            </a:r>
            <a:r>
              <a:rPr b="0" lang="en-US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17" name="Picture 1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705720" cy="358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http://bio116.pbworks.com/f/bubbleboy1_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4"/>
          <p:cNvSpPr/>
          <p:nvPr/>
        </p:nvSpPr>
        <p:spPr>
          <a:xfrm>
            <a:off x="3886200" y="15228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cd3"/>
                </a:solidFill>
                <a:latin typeface="Times New Roman"/>
                <a:ea typeface="Times New Roman"/>
              </a:rPr>
              <a:t>A boy with congenital ID lived in a bubble for 12 years before he di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Diagram 4" descr=""/>
          <p:cNvPicPr/>
          <p:nvPr/>
        </p:nvPicPr>
        <p:blipFill>
          <a:blip r:embed="rId1"/>
          <a:stretch/>
        </p:blipFill>
        <p:spPr>
          <a:xfrm>
            <a:off x="-92160" y="0"/>
            <a:ext cx="94014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Diagram 1" descr=""/>
          <p:cNvPicPr/>
          <p:nvPr/>
        </p:nvPicPr>
        <p:blipFill>
          <a:blip r:embed="rId1"/>
          <a:stretch/>
        </p:blipFill>
        <p:spPr>
          <a:xfrm>
            <a:off x="-19080" y="0"/>
            <a:ext cx="918684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Diagram 1" descr=""/>
          <p:cNvPicPr/>
          <p:nvPr/>
        </p:nvPicPr>
        <p:blipFill>
          <a:blip r:embed="rId1"/>
          <a:stretch/>
        </p:blipFill>
        <p:spPr>
          <a:xfrm>
            <a:off x="-133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838080" y="304920"/>
            <a:ext cx="7086600" cy="99036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5400" spc="-1" strike="noStrike">
                <a:solidFill>
                  <a:srgbClr val="ffff00"/>
                </a:solidFill>
                <a:latin typeface="Century Gothic"/>
                <a:ea typeface="Times New Roman"/>
              </a:rPr>
              <a:t>T-cell defect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http://t3.gstatic.com/images?q=tbn:ANd9GcSVGBMI6vkB0i2_XMEeLMNaPzI6IIowIqLhyf6xFgjSa_vOtMRO"/>
          <p:cNvPicPr/>
          <p:nvPr/>
        </p:nvPicPr>
        <p:blipFill>
          <a:blip r:embed="rId1"/>
          <a:stretch/>
        </p:blipFill>
        <p:spPr>
          <a:xfrm>
            <a:off x="457200" y="152388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http://t0.gstatic.com/images?q=tbn:ANd9GcSZ0FRBvkw-acEe0IEvCG4NWB4lRYk-r_c5E0IUffiGTROVss2Y8g"/>
          <p:cNvPicPr/>
          <p:nvPr/>
        </p:nvPicPr>
        <p:blipFill>
          <a:blip r:embed="rId2"/>
          <a:stretch/>
        </p:blipFill>
        <p:spPr>
          <a:xfrm>
            <a:off x="4419720" y="1523880"/>
            <a:ext cx="4181400" cy="3962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2438280"/>
            <a:ext cx="8229600" cy="419112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txBody>
          <a:bodyPr anchor="t">
            <a:normAutofit/>
          </a:bodyPr>
          <a:p>
            <a:pPr marL="343080" indent="-27324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bsence or underdevelopment  of  the Thymus  gland (hypoplasia)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ypoparathyroidism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Cardiovascular  abnormalities   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solidFill>
            <a:srgbClr val="74a5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genital defect that is  marked by: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http://t3.gstatic.com/images?q=tbn:ANd9GcRSayqznbuAtyhQleFDFaI7hZRw85WdRq0d-1bRPCrQfs-t_243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6761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304920" y="22860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George    Syndrome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ongenital  Thymic  Aplasia )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1T16:05:20Z</dcterms:created>
  <dc:creator>Dr.Hend</dc:creator>
  <dc:description/>
  <dc:language>en-US</dc:language>
  <cp:lastModifiedBy>Dr.Hend</cp:lastModifiedBy>
  <dcterms:modified xsi:type="dcterms:W3CDTF">2015-11-03T16:57:08Z</dcterms:modified>
  <cp:revision>1115</cp:revision>
  <dc:subject/>
  <dc:title>GENERAL FETURES OF IMMUNODEFICIENCY.</dc:title>
</cp:coreProperties>
</file>