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4748-71BD-4281-9690-A8847B9AB9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007-8742-4288-85EF-6F3CE6F125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0596-3625-45DA-A45B-1F65D65FF8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E44-24CE-42E9-8AF0-E73E2D6707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CF40-3377-462A-849C-C3AD1ED1FA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DA41-E110-494D-B8B1-98C761B274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3AE-BA6A-4955-ABA4-4814976E05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E22D-40DC-4E4C-A083-1086B26BFD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51B-013E-4330-897C-793B61A14F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ABD-8B64-48D2-B154-02430382F9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C746-E6A4-4868-91C2-3117764C12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BB2-9D23-44A0-8E4A-B2C44BAC4B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ECC-0440-472C-9484-6A6246B12F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1E4E-B316-44EC-8BE0-10D2C7E135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DDB-A9BF-479B-A1D2-E67913E085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36FE-F95E-4F3A-86CA-6E69BDB50B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323C-4664-4E0D-A8D9-40E640D112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725-16AE-4F2D-9935-9418B9C6B4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343-232C-4D48-9028-0765B65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754-AB3B-4065-9FB8-A462013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1E3-3CC4-40C2-88F0-BCC1692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1FD-E2CD-4055-B1C1-645B3A64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92AE-986F-4B12-89E2-C5D01AFC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941A-01EF-468E-97BB-39ED5BA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7E9-C938-4E15-B853-9997B55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151C-DB01-4B58-932C-8AE22882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431-3E74-4F8D-A91A-6935953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9F6-40CA-499A-BA0C-1E8E75A0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82E8-881A-4179-A4AA-E2A5741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4B8-CC27-4A56-913F-05F798F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4DA-FC7C-4788-80A9-880BF79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5B1C-DD67-4F50-8DDB-967C9A6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CD3A-2376-4F68-A8AF-F26C37A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4F39-AFCB-42FE-A729-39E9E4BF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4CE-3B8D-4310-A7EB-D9A39C20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2D313-6F6C-4251-9717-F2EFADE4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5B624-65C8-474E-85D0-0D339C1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9C3CA-1A60-46D0-8C64-9B999EA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8B7FB-7D4C-4B02-B824-43AA4B9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240AA-5054-49DA-860D-195C31E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F4F-21AE-4DEB-A61B-E37EB12B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BD982-918A-4F25-B391-21943D3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F45FB-9FE4-423F-9ACE-60FD993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ABCC9-96D4-44A2-899B-7A8D083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89490-183C-4F8F-B9DA-8FA6835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416D0-8978-4014-A449-0800C217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4E34A-E5CF-4964-83C6-A2B690C9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DB7F5-417E-434F-9E5D-842432F4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C8A7-711B-4E79-9018-0EDA7872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8B17-C38D-4BEB-9A29-84E102C1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EB13-40AC-437E-B933-FD7D49F4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98C-72C9-4E49-ACD9-CB75F063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FE13-1386-4629-BB48-E34322F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F748-23E9-43E4-BDB8-7A24852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AAD2-0289-4952-8ED4-8056114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CA23-FD01-403A-BB33-85BDD83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0901-F6CA-4942-9685-D399A16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A406-9C9B-447A-BFFD-8FF99F8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3A0F-583E-425E-B15F-7B50522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5490-DED7-4C3E-B1FE-A03D0D09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8B08B-4494-438B-AC5F-0D357679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ED0-1051-4ED4-8B07-430E34C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ED9-5FE0-443C-ABF6-A825688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E9D-CE4D-412C-A495-64AE56D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D09-9FC8-43C1-978A-7D9C24FB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4E7-ED94-4D14-A2F9-BDF6BA8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C3E3-5D4A-4EA1-A686-F7FFC7A3FBFD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9E7-92F9-42D9-8518-F3AE34E9ECB7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B915-2F9F-4555-88B4-F9E77E64AECF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288B-A7EB-443F-924B-DE88188FE656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Phagocytes%26toggle%3D1%26cop%3Dmss%26ei%3DUTF-8%26ni%3D20%26fr%3Dyfp-t-501%26b%3D121&amp;w=100&amp;h=100&amp;imgurl=www.netsoc.tcd.ie%2F%7Eelena%2Fcollegework%2Fapplet2%2Fphagocyte.jpg&amp;rurl=http%3A%2F%2Fwww.netsoc.tcd.ie%2F%7Eelena%2Fcollegework%2Fapplet2%2Flevel1.html&amp;size=2.6kB&amp;name=phagocyte.jpg&amp;p=Phagocytes&amp;type=jpeg&amp;no=129&amp;tt=183&amp;oid=38f49f2a14227ed4&amp;ei=UTF-8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NBK27109/figure/A1506/?report=objectonly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0" y="-4572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Times New Roman"/>
              </a:rPr>
              <a:t>Immune deficiency disorder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40384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r. Hend Alotaib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t professor &amp; Consultant </a:t>
            </a:r>
            <a:br>
              <a:rPr sz="20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Medicine, King Saud University</a:t>
            </a:r>
            <a:br>
              <a:rPr sz="19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matology Department /KKUH</a:t>
            </a:r>
            <a:br>
              <a:rPr sz="2000"/>
            </a:b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447560"/>
            <a:ext cx="5105520" cy="51814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ildren  may present with tetany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treme susceptibility to viral protozoal, and  fungal  infection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Profound  depression of T-cell numbers 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bsence of T-cell response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5651640" y="2057400"/>
            <a:ext cx="3263760" cy="25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tal thymus tissue graft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(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4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weeks old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560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tients with B-cell defects  are subject to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981080"/>
            <a:ext cx="8076960" cy="4572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ut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y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??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X-linked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ales :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the diseas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2437920"/>
            <a:ext cx="8686800" cy="40388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Bruton Tyrosine Kinase (BTK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block in maturation of  pre- B- cells to mature B-cells in bone marro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28600" y="304920"/>
            <a:ext cx="8763120" cy="16002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ffected children suffer from recurrent pyogenic bacterial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026720"/>
            <a:ext cx="73152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ve immunoglobulin deficienc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590920"/>
            <a:ext cx="746784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3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gA  deficiency   (1:700)</a:t>
            </a: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e3d2d"/>
                </a:solidFill>
                <a:latin typeface="Century Gothic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ost  are  asymptomatic: but may have increased  incidence  of respiratory tract infections (R.T.I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ome have recurrent R.T.I and gastrointestinal tract symptom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Lecture Objectives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80880" y="1905120"/>
            <a:ext cx="8229600" cy="4190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380880" y="304920"/>
            <a:ext cx="7239240" cy="106668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(Congenital disease)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7238880" y="1905120"/>
            <a:ext cx="137160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agement of immunoglobulin   deficiencies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*Periodic intravenous immunoglobulin      (IVIG)  reduces infectious complications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85800" y="1828800"/>
            <a:ext cx="8077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Causes of  SCI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deficienc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A (adenosine deaminase 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PN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metabolites accumulate in T and B cel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atible with life and affected infants usually die within the first 2 y unless they are rescued with BM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4920" y="1828440"/>
            <a:ext cx="8610480" cy="4876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velop recurrent infections early in lif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olonged diarrhea due to rotavirus or bacterial infection of GIT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usually due to the protozoan, Pneumocystis carinii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common yeast organism Candida albicans (mouth or skin)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f they are vaccinated with live organisms, such as poliovirus or (BCG), they die of progressive infection from these ordinarily benign organism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2280" y="3049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ncreased susceptibility to :viral, fungal, bacterial protozoal infections  (starting at 3 months of age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380880" y="1676520"/>
            <a:ext cx="833760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nagement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the gene inducing G-CSF (granulocyte colony stimulating factor)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ature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otitis media, abscess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28600" y="1752480"/>
            <a:ext cx="8610480" cy="4724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.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LAD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ronic granulomatous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 in the oxidative complex responsible  for producing superoxide radica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57200" y="304920"/>
            <a:ext cx="830592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Defini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romised or entirely absent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mmuno-compromise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Chronic granulomatous disease (CGD)</a:t>
            </a:r>
            <a:br>
              <a:rPr sz="3600"/>
            </a:b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(Congenital disease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33520" y="28954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ophils lack the "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upon phagocyt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aracterized by recurrent life-threatening bacterial and fungal infections and granulom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095880" y="2286000"/>
            <a:ext cx="243864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520" y="152280"/>
            <a:ext cx="7848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Figure 11.14. Defects in complement components are associated with susceptibility to certain infections and accumulation of immune complex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828800"/>
            <a:ext cx="861084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229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5201"/>
                </a:solidFill>
                <a:latin typeface="Times New Roman"/>
              </a:rPr>
              <a:t>Laboratory diagnosis of 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352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unt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(Flowcytometry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lement protei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nd function (CH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agocytosis and respiratory bur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oxygen radicals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1027080"/>
            <a:ext cx="707688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entury Gothic"/>
              </a:rPr>
              <a:t>Take Home Messag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2323800"/>
            <a:ext cx="80773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mmunodeficiency may be congenital or acquire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can involve any component of the immune system such as cells, antibodies, complement etc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st common presentation of immunodeficiency is recurrent infections that may be fatal due to delay in diagnosis and lack of appropriate therap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nk you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705720" cy="358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cd3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Diagram 4" descr=""/>
          <p:cNvPicPr/>
          <p:nvPr/>
        </p:nvPicPr>
        <p:blipFill>
          <a:blip r:embed="rId1"/>
          <a:stretch/>
        </p:blipFill>
        <p:spPr>
          <a:xfrm>
            <a:off x="-92160" y="0"/>
            <a:ext cx="94014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Diagram 1" descr=""/>
          <p:cNvPicPr/>
          <p:nvPr/>
        </p:nvPicPr>
        <p:blipFill>
          <a:blip r:embed="rId1"/>
          <a:stretch/>
        </p:blipFill>
        <p:spPr>
          <a:xfrm>
            <a:off x="-1908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Diagram 1" descr=""/>
          <p:cNvPicPr/>
          <p:nvPr/>
        </p:nvPicPr>
        <p:blipFill>
          <a:blip r:embed="rId1"/>
          <a:stretch/>
        </p:blipFill>
        <p:spPr>
          <a:xfrm>
            <a:off x="-133200" y="0"/>
            <a:ext cx="94294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Dr.Hend</dc:creator>
  <dc:description/>
  <dc:language>en-US</dc:language>
  <cp:lastModifiedBy>Dr.Hend</cp:lastModifiedBy>
  <dcterms:modified xsi:type="dcterms:W3CDTF">2015-11-03T16:57:08Z</dcterms:modified>
  <cp:revision>1115</cp:revision>
  <dc:subject/>
  <dc:title>GENERAL FETURES OF IMMUNODEFICIENCY.</dc:title>
</cp:coreProperties>
</file>