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2AFC-BAD8-4F19-9357-EE9CE0E72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cs typeface="Arial"/>
              </a:rPr>
              <a:t>للأمانة العلمية: جهزت هذه الشرائح من قبل أعضاء هيئة التدريس من الكلية و خارجهاو ليس عمل شخص واحد. هذه سلسلة من المحاضرات على مدار السنة بمعدل محاضرة واحدة أسبوعيا للفائدة. تعرض هذه المحاضرات باللغة الإنجليزية و لكن سيوضح عضو هيئة التدريس أي نقطة يستفسر الطالب عنها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skill; learning how to learn. Other names are given as “Meta-cognition” , Academic skills &amp; Learning skills. If we have these skills we can learn faster, we will not have difficulty in learning &amp; learning becomes enjoyable &amp; f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0F93-EA76-4309-A9AA-31B7D21E3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5ED3-1A78-4565-94E8-052E26AEA9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0A1F-26EF-4F11-A3C1-6EDBEC3672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3CAB-E9CA-44AF-90C4-0444D9A0C6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CCE1-1388-4E75-B287-54AD21DE0C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70A1-A79C-45C7-B83E-F5F4215B18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961A-B43F-4FEB-AE56-B922497C23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A1AE-6367-459D-85D2-BF39006A98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759E-51B2-4093-A46F-5D33B49E95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8F9E-37E8-4D42-A18F-5B9E9A5118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AD34-3E29-458B-839E-D73919C21E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76CE-9E01-475E-99FA-0351D9917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st objective is kept here that we are ready to apply it in our daily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2E72-83A3-4779-A70F-88D706D55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ED29-5AE1-4925-9BC0-54FF406AF5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CD18-A20F-4E90-9E92-D3B710A4E3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3D4B-83E4-471D-9802-2271CCA4C0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E1CD-C2CA-49AC-91A2-B822E51C7E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3001-71A5-495F-A497-6588A55196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56E5-1A0F-4BDA-AB94-C43F443CC1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B5D5-6B59-4219-AAEC-66CCF5D2D5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2218-8A4B-4BD3-820B-B59FA0A1F5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or male students is “Car driving” &amp; for female students is “Cooking a special dish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D5A3-9477-413B-B9F7-A785D75EB2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194C-7E0A-4F1B-B712-73BEEBEB4E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C4CC-C9CD-40F7-9640-1021AB04B7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6BC-0696-4897-B4C8-D2DE38DE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F873-52DA-46EF-8B7A-88E85E0F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AC6-50DC-419C-8FF6-8D9D7FBE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5779-1D3E-4254-A6CB-D4DFBAE3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EB4B-B924-4BD0-9A38-B62E01C8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897E-3724-4D6D-9EEE-F825465D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C1D6-4E08-4955-80A8-4C4D6E7A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645A-D860-4B43-B1CB-B5EC2092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DF0F-834E-4DC3-A08D-828CD62F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9295-9143-4644-8BBB-82F2223E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561D-856A-4468-BBF9-20B72291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BB9-8B53-4164-A083-32AC6F90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ACFF-11BB-449E-AA54-91631E8D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9B6F-7380-4AD8-9766-55E2E64A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88F7-0644-498A-83C9-12F94042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0570-E09C-4733-A5A2-27FAFFE4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3B46-C5B8-4D01-83E4-E82C14D8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BD320-8861-416F-95F5-C505647E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9B1974-BF61-4DA2-9C49-3098F362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656AF-95F0-4E62-A5E5-251BF14D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6FA72-CC66-406B-B7D8-2F1909CF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26EE7-5276-4DCE-B618-12A1051F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5F30-DCE4-4748-910C-DCE43E8D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0641D-A106-4F10-81EB-751896EB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CC292F-B1E4-4BE0-873E-BED153E5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3938E-B1AD-44EA-B2E8-E3F1B0F2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F2D91A-BC80-4D1C-916A-2D9BFD31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77E4C-793F-449E-A601-4338B488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8630B-92C1-4D4C-9F9D-3955BE5A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71A345-978C-4927-BCF4-E5C93FCE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B650E-4910-4C3E-A73A-16457990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97BA1-9055-41A1-A97B-54749740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0A5A1-77DE-4A7A-AFD7-0667344B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028-4698-4F96-A795-0E9FC559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24F41-0965-4BC6-9169-B4B8C670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9DAE6-6019-4F32-ADC6-E902BD60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8BFA2-8AA1-482A-8A9D-666CB773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64198-3C55-41DF-B9B0-CB7D24E4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D4C34-74DC-4FE4-9EF1-E1003355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2B4A5-5718-42AE-9F18-47B70328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E63EB-1393-477F-8166-318C7924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65146-6471-4FC2-A3A2-FB8A3895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780C0-FCF5-443D-9815-E9B6271B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6183-CA71-46A0-AFE5-8C5138E4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B8D-A519-408E-A3EF-D72AFF3F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F31-AD61-4E75-81B9-8C7825CF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72E-D0C2-444D-B08F-26E37B52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98B6-CD08-49F5-A43A-5C9B56F0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2481-B32D-41C8-AA48-E9D70AAE4DC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2D0F-BCAB-4C41-A5D8-E851DC9CF53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6FA7-FB1E-437E-A46D-70D588AF7791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8A63-8CC4-44F2-ACBC-A43D2873D5F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28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rebuchet MS"/>
              </a:rPr>
              <a:t>Study Skills: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Trebuchet MS"/>
              </a:rPr>
              <a:t>Learning How to Learn 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123720" y="4419360"/>
            <a:ext cx="5334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Study Skill Cour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Dept of Medical Educ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College of Medici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428760" y="2142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are these differences in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1285920" y="8571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e consider you as adult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357120" y="142884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need to kn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adult learners need to know why they need to learn something before undertaking to learn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arner self-concep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need to be responsible for their own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le of learners' experi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have a variety of experiences of life - the richest resource fo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diness to lear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are ready to learn those things they need to know in order to cope effectively with life sit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ientation to lear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are motivated to learn to the extent that they perceive that it will help them perform tasks they confront in their life situ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714240" y="42876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f adult learning is to be achieved…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428760" y="121428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has to b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earning as opposed to superficial and pass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571680" y="2857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Why is deep/active learning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285840" y="357192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ficial learning is easily and very quickly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forgo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285840" y="45720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superficial learning you will not be able to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pp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use it in practica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357120" y="564372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ep learning accommodates varying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"/>
          <p:cNvSpPr/>
          <p:nvPr/>
        </p:nvSpPr>
        <p:spPr>
          <a:xfrm>
            <a:off x="571680" y="257184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be a passive receiver of information. Tr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a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information and tr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t and tr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do different thing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at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785880" y="8571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How can deep /active learning be achie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1857240" y="6429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What do we reme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1571760" y="164304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% of what we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1571760" y="228600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% of what we 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571760" y="29289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% of what we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1571760" y="35719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 of what we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1571760" y="421488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% of what we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1571760" y="492912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424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90% of what we read, hear, see,            say and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1500120" y="6429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earn actively and de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1000080" y="164304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on’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just read and close th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928800" y="22860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y to do different things with what you have read immediately afte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1643040" y="33577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 flow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1643040" y="39290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 diagrams using co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1643040" y="45007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a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1643040" y="507204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mpt answering pass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642960" y="571500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hort, interact with what you have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1357200" y="64296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How to shift information from short term to long tern mem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"/>
          <p:cNvSpPr/>
          <p:nvPr/>
        </p:nvSpPr>
        <p:spPr>
          <a:xfrm>
            <a:off x="1643040" y="185724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Learn actively &amp; dee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1643040" y="242892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Revisit, repeat &amp; rev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357120" y="571500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55680" indent="-355680"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Do not wait until you finish studying to rev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285840" y="342900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mportant points about revisiting &amp;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285840" y="407196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There is no special place or time to rev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285840" y="4714920"/>
            <a:ext cx="857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Try to revisit and repeat at every given opport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http://www.adm.uwaterloo.ca/infocs/Images/curve.gif"/>
          <p:cNvPicPr/>
          <p:nvPr/>
        </p:nvPicPr>
        <p:blipFill>
          <a:blip r:embed="rId1"/>
          <a:stretch/>
        </p:blipFill>
        <p:spPr>
          <a:xfrm>
            <a:off x="428760" y="1571760"/>
            <a:ext cx="8215200" cy="464328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1857240" y="6429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Forgett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360360" y="-615960"/>
            <a:ext cx="8551800" cy="52070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100" spc="-1" strike="noStrike">
              <a:solidFill>
                <a:srgbClr val="424456"/>
              </a:solidFill>
              <a:latin typeface="Georgia"/>
              <a:ea typeface="Arial"/>
            </a:endParaRPr>
          </a:p>
        </p:txBody>
      </p:sp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2"/>
          <p:cNvSpPr/>
          <p:nvPr/>
        </p:nvSpPr>
        <p:spPr>
          <a:xfrm>
            <a:off x="2000160" y="1428840"/>
            <a:ext cx="478656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1928880" y="378612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/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928880" y="257184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ory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1928880" y="500076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inaesthetic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"/>
          <p:cNvSpPr/>
          <p:nvPr/>
        </p:nvSpPr>
        <p:spPr>
          <a:xfrm>
            <a:off x="1643040" y="35712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earning style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2"/>
          <p:cNvSpPr/>
          <p:nvPr/>
        </p:nvSpPr>
        <p:spPr>
          <a:xfrm>
            <a:off x="1643040" y="2428920"/>
            <a:ext cx="236232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l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5148360" y="42577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gmat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5148360" y="24289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o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1490760" y="42577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7"/>
          <p:cNvSpPr/>
          <p:nvPr/>
        </p:nvSpPr>
        <p:spPr>
          <a:xfrm>
            <a:off x="880920" y="3648240"/>
            <a:ext cx="73915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ight Arrow 8"/>
          <p:cNvSpPr/>
          <p:nvPr/>
        </p:nvSpPr>
        <p:spPr>
          <a:xfrm rot="16200000">
            <a:off x="-26640" y="1964880"/>
            <a:ext cx="2197080" cy="6858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9"/>
          <p:cNvSpPr/>
          <p:nvPr/>
        </p:nvSpPr>
        <p:spPr>
          <a:xfrm rot="16200000">
            <a:off x="493560" y="2358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ight Arrow 10"/>
          <p:cNvSpPr/>
          <p:nvPr/>
        </p:nvSpPr>
        <p:spPr>
          <a:xfrm rot="5400000">
            <a:off x="-27360" y="4556160"/>
            <a:ext cx="2197080" cy="6858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1"/>
          <p:cNvSpPr/>
          <p:nvPr/>
        </p:nvSpPr>
        <p:spPr>
          <a:xfrm rot="16200000">
            <a:off x="198360" y="455904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-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13"/>
          <p:cNvCxnSpPr/>
          <p:nvPr/>
        </p:nvCxnSpPr>
        <p:spPr>
          <a:xfrm>
            <a:off x="4005000" y="3114360"/>
            <a:ext cx="1143720" cy="1067400"/>
          </a:xfrm>
          <a:prstGeom prst="straightConnector1">
            <a:avLst/>
          </a:prstGeom>
          <a:ln w="31680">
            <a:solidFill>
              <a:srgbClr val="43808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98" name="Straight Arrow Connector 15"/>
          <p:cNvCxnSpPr/>
          <p:nvPr/>
        </p:nvCxnSpPr>
        <p:spPr>
          <a:xfrm flipV="1">
            <a:off x="4081320" y="3114000"/>
            <a:ext cx="991440" cy="1067400"/>
          </a:xfrm>
          <a:prstGeom prst="straightConnector1">
            <a:avLst/>
          </a:prstGeom>
          <a:ln w="31680">
            <a:solidFill>
              <a:srgbClr val="438086"/>
            </a:solidFill>
            <a:miter/>
            <a:headEnd len="med" type="arrow" w="med"/>
            <a:tailEnd len="med" type="arrow" w="med"/>
          </a:ln>
        </p:spPr>
      </p:cxnSp>
      <p:sp>
        <p:nvSpPr>
          <p:cNvPr id="299" name="TextBox 1"/>
          <p:cNvSpPr/>
          <p:nvPr/>
        </p:nvSpPr>
        <p:spPr>
          <a:xfrm>
            <a:off x="1643040" y="35712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earning style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2071800" y="571680"/>
            <a:ext cx="521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Bernard MT Condensed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571680" y="17859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is undergraduate learning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642960" y="278604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to learn deeply and act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685800" y="3733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What is your learning sty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642960" y="471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to promote reflective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r learning style  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ow you 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perceive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ow you 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process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c00000"/>
                </a:solidFill>
                <a:latin typeface="Arial Unicode MS"/>
              </a:rPr>
              <a:t>WHAT IS LEARING STYLES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way in which each individual learner begins to concentrate on, process, absorb, and retain new and difficult informa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rning styles are the most important tool for us when we construct knowledg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right way of studying does not exis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erybody learns in his individual way, but without knowing this way, you can’t learn efficiently – sometimes you can’t learn at all.           </a:t>
            </a:r>
            <a:r>
              <a:rPr b="0" lang="en-US" sz="4000" spc="-1" strike="noStrike">
                <a:solidFill>
                  <a:srgbClr val="ff0000"/>
                </a:solidFill>
                <a:latin typeface="Arial Unicode MS"/>
              </a:rPr>
              <a:t>SO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rning styles are strategies or regular mental behaviors that are habitually applied by an individual to learning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Classical classification of Learning styl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 (prefer to learn by see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uditory (prefer to learn by soun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Kinesthetic (prefer to learn by do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erbal (linguistic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gical (mathematical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cial (interpersonal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Visual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fer to see the informa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like reading tex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morizes by writing repeated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n inactive, doodles, looks around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ization-imagi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 promp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cept ma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visual representation of information-posters et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Auditory sty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ke to listen to teach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alks fluently and logical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morizes by repeating words alou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activity leads to talking to self or oth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tive liste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hyme and rhythm-mnemon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agine you can hear 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85800" y="914400"/>
            <a:ext cx="62485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Kinesth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94be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and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lks about actions, speaks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activity leads to fidg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stracted by physical disturb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* </a:t>
            </a:r>
            <a:r>
              <a:rPr b="0" lang="en-US" sz="2800" spc="-1" strike="noStrike">
                <a:solidFill>
                  <a:srgbClr val="a6a6a6"/>
                </a:solidFill>
                <a:latin typeface="Trebuchet MS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se objects that can be manip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ting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ody language and physical m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verbal (linguistic)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Involves both the written and spoken wor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Express both in writing and verbally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 love reading and writin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 Know the meaning of many wo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The temporal and frontal lobes drive this styl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088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logical (mathematical)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ing brain for logical and mathematical reasoning. classify and group information to learn or understand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 well with numbers and perform complex calculatio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 through problems and issues in a systematic w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The parietal lobes, especially the left side, drive our logical thinkin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088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social (interpersonal)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Communication well with people, both verbally and non-verbally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listen well and understand other’s view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Prefer learning in grou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prefer to stay around and talk with othe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-  The frontal and temporal lobes handle much of our social activit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4"/>
          <p:cNvSpPr/>
          <p:nvPr/>
        </p:nvSpPr>
        <p:spPr>
          <a:xfrm>
            <a:off x="406440" y="2590920"/>
            <a:ext cx="1576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LISTEN</a:t>
            </a: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da-DK" sz="1800" spc="-1" strike="noStrike">
                <a:solidFill>
                  <a:srgbClr val="373737"/>
                </a:solidFill>
                <a:latin typeface="Arial"/>
              </a:rPr>
              <a:t>to a lecture, a presentation, or an </a:t>
            </a:r>
            <a:br>
              <a:rPr sz="1800"/>
            </a:br>
            <a:r>
              <a:rPr b="0" lang="da-DK" sz="1800" spc="-1" strike="noStrike">
                <a:solidFill>
                  <a:srgbClr val="373737"/>
                </a:solidFill>
                <a:latin typeface="Arial"/>
              </a:rPr>
              <a:t>audiotape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35"/>
          <p:cNvSpPr/>
          <p:nvPr/>
        </p:nvSpPr>
        <p:spPr>
          <a:xfrm>
            <a:off x="396720" y="1447920"/>
            <a:ext cx="1595520" cy="4647960"/>
          </a:xfrm>
          <a:prstGeom prst="rect">
            <a:avLst/>
          </a:prstGeom>
          <a:noFill/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036"/>
          <p:cNvGrpSpPr/>
          <p:nvPr/>
        </p:nvGrpSpPr>
        <p:grpSpPr>
          <a:xfrm>
            <a:off x="554040" y="1523880"/>
            <a:ext cx="1163160" cy="733320"/>
            <a:chOff x="554040" y="1523880"/>
            <a:chExt cx="1163160" cy="733320"/>
          </a:xfrm>
        </p:grpSpPr>
        <p:sp>
          <p:nvSpPr>
            <p:cNvPr id="313" name="Line 1037"/>
            <p:cNvSpPr/>
            <p:nvPr/>
          </p:nvSpPr>
          <p:spPr>
            <a:xfrm>
              <a:off x="1135440" y="152388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038"/>
            <p:cNvSpPr/>
            <p:nvPr/>
          </p:nvSpPr>
          <p:spPr>
            <a:xfrm>
              <a:off x="554040" y="1523880"/>
              <a:ext cx="1163160" cy="7333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039"/>
            <p:cNvSpPr/>
            <p:nvPr/>
          </p:nvSpPr>
          <p:spPr>
            <a:xfrm>
              <a:off x="699120" y="1627560"/>
              <a:ext cx="872280" cy="275040"/>
            </a:xfrm>
            <a:prstGeom prst="rect">
              <a:avLst/>
            </a:prstGeom>
            <a:solidFill>
              <a:srgbClr val="ef7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Rectangle 1040"/>
          <p:cNvSpPr/>
          <p:nvPr/>
        </p:nvSpPr>
        <p:spPr>
          <a:xfrm>
            <a:off x="609480" y="1631880"/>
            <a:ext cx="1067040" cy="52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41"/>
          <p:cNvSpPr/>
          <p:nvPr/>
        </p:nvSpPr>
        <p:spPr>
          <a:xfrm>
            <a:off x="7151760" y="2590920"/>
            <a:ext cx="1576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DISCU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with others the new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and complex information they are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042"/>
          <p:cNvSpPr/>
          <p:nvPr/>
        </p:nvSpPr>
        <p:spPr>
          <a:xfrm>
            <a:off x="7151760" y="1447920"/>
            <a:ext cx="1595520" cy="46479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043"/>
          <p:cNvGrpSpPr/>
          <p:nvPr/>
        </p:nvGrpSpPr>
        <p:grpSpPr>
          <a:xfrm>
            <a:off x="7423200" y="1523880"/>
            <a:ext cx="1164960" cy="733320"/>
            <a:chOff x="7423200" y="1523880"/>
            <a:chExt cx="1164960" cy="733320"/>
          </a:xfrm>
        </p:grpSpPr>
        <p:sp>
          <p:nvSpPr>
            <p:cNvPr id="320" name="Line 1044"/>
            <p:cNvSpPr/>
            <p:nvPr/>
          </p:nvSpPr>
          <p:spPr>
            <a:xfrm>
              <a:off x="8005680" y="152388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1045"/>
            <p:cNvSpPr/>
            <p:nvPr/>
          </p:nvSpPr>
          <p:spPr>
            <a:xfrm>
              <a:off x="7423200" y="1523880"/>
              <a:ext cx="1164960" cy="7333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046"/>
            <p:cNvSpPr/>
            <p:nvPr/>
          </p:nvSpPr>
          <p:spPr>
            <a:xfrm>
              <a:off x="7568280" y="1627560"/>
              <a:ext cx="873720" cy="275040"/>
            </a:xfrm>
            <a:prstGeom prst="rect">
              <a:avLst/>
            </a:prstGeom>
            <a:solidFill>
              <a:srgbClr val="ef7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1047"/>
          <p:cNvSpPr/>
          <p:nvPr/>
        </p:nvSpPr>
        <p:spPr>
          <a:xfrm>
            <a:off x="7467480" y="1631880"/>
            <a:ext cx="1081080" cy="52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b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084"/>
          <p:cNvGrpSpPr/>
          <p:nvPr/>
        </p:nvGrpSpPr>
        <p:grpSpPr>
          <a:xfrm>
            <a:off x="3776760" y="1447920"/>
            <a:ext cx="1595520" cy="4647960"/>
            <a:chOff x="3776760" y="1447920"/>
            <a:chExt cx="1595520" cy="4647960"/>
          </a:xfrm>
        </p:grpSpPr>
        <p:sp>
          <p:nvSpPr>
            <p:cNvPr id="325" name="Rectangle 1048"/>
            <p:cNvSpPr/>
            <p:nvPr/>
          </p:nvSpPr>
          <p:spPr>
            <a:xfrm>
              <a:off x="3776760" y="2590920"/>
              <a:ext cx="1576800" cy="35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lnSpc>
                  <a:spcPct val="115000"/>
                </a:lnSpc>
                <a:spcBef>
                  <a:spcPts val="1687"/>
                </a:spcBef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member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est when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ey 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READ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73737"/>
                  </a:solidFill>
                  <a:latin typeface="Arial"/>
                </a:rPr>
                <a:t>the written word (textbooks, memos, </a:t>
              </a:r>
              <a:br>
                <a:rPr sz="1800"/>
              </a:br>
              <a:r>
                <a:rPr b="0" lang="en-US" sz="1800" spc="-1" strike="noStrike">
                  <a:solidFill>
                    <a:srgbClr val="373737"/>
                  </a:solidFill>
                  <a:latin typeface="Arial"/>
                </a:rPr>
                <a:t> and e-mail message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49"/>
            <p:cNvSpPr/>
            <p:nvPr/>
          </p:nvSpPr>
          <p:spPr>
            <a:xfrm>
              <a:off x="3776760" y="1447920"/>
              <a:ext cx="1595520" cy="464796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1074"/>
            <p:cNvGrpSpPr/>
            <p:nvPr/>
          </p:nvGrpSpPr>
          <p:grpSpPr>
            <a:xfrm>
              <a:off x="3898440" y="1523880"/>
              <a:ext cx="1351440" cy="735120"/>
              <a:chOff x="3898440" y="1523880"/>
              <a:chExt cx="1351440" cy="735120"/>
            </a:xfrm>
          </p:grpSpPr>
          <p:grpSp>
            <p:nvGrpSpPr>
              <p:cNvPr id="328" name="Group 1050"/>
              <p:cNvGrpSpPr/>
              <p:nvPr/>
            </p:nvGrpSpPr>
            <p:grpSpPr>
              <a:xfrm>
                <a:off x="3935880" y="1523880"/>
                <a:ext cx="1275840" cy="733320"/>
                <a:chOff x="3935880" y="1523880"/>
                <a:chExt cx="1275840" cy="733320"/>
              </a:xfrm>
            </p:grpSpPr>
            <p:sp>
              <p:nvSpPr>
                <p:cNvPr id="329" name="Line 1051"/>
                <p:cNvSpPr/>
                <p:nvPr/>
              </p:nvSpPr>
              <p:spPr>
                <a:xfrm>
                  <a:off x="4573800" y="1523880"/>
                  <a:ext cx="0" cy="733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AutoShape 1052"/>
                <p:cNvSpPr/>
                <p:nvPr/>
              </p:nvSpPr>
              <p:spPr>
                <a:xfrm>
                  <a:off x="3935880" y="1523880"/>
                  <a:ext cx="1275840" cy="733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Rectangle 1053"/>
                <p:cNvSpPr/>
                <p:nvPr/>
              </p:nvSpPr>
              <p:spPr>
                <a:xfrm>
                  <a:off x="4095000" y="1627560"/>
                  <a:ext cx="956880" cy="2750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Rectangle 1054"/>
              <p:cNvSpPr/>
              <p:nvPr/>
            </p:nvSpPr>
            <p:spPr>
              <a:xfrm>
                <a:off x="3898440" y="1525680"/>
                <a:ext cx="13514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Visual 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earn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Rectangle 1055"/>
          <p:cNvSpPr/>
          <p:nvPr/>
        </p:nvSpPr>
        <p:spPr>
          <a:xfrm>
            <a:off x="5462640" y="2590920"/>
            <a:ext cx="15778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b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DO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rather than sitting and listening, reading,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r thinking about the inform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56"/>
          <p:cNvSpPr/>
          <p:nvPr/>
        </p:nvSpPr>
        <p:spPr>
          <a:xfrm>
            <a:off x="5462640" y="1447920"/>
            <a:ext cx="1596960" cy="46479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058"/>
          <p:cNvSpPr/>
          <p:nvPr/>
        </p:nvSpPr>
        <p:spPr>
          <a:xfrm>
            <a:off x="6238800" y="152244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059"/>
          <p:cNvSpPr/>
          <p:nvPr/>
        </p:nvSpPr>
        <p:spPr>
          <a:xfrm>
            <a:off x="5600880" y="1522440"/>
            <a:ext cx="1276200" cy="7333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Tactile and/or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Kinesthe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62"/>
          <p:cNvSpPr/>
          <p:nvPr/>
        </p:nvSpPr>
        <p:spPr>
          <a:xfrm>
            <a:off x="2082960" y="2590920"/>
            <a:ext cx="15778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SE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(create) mental images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f what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they hear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r 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63"/>
          <p:cNvSpPr/>
          <p:nvPr/>
        </p:nvSpPr>
        <p:spPr>
          <a:xfrm>
            <a:off x="2087640" y="1447920"/>
            <a:ext cx="1596960" cy="4647960"/>
          </a:xfrm>
          <a:prstGeom prst="rect">
            <a:avLst/>
          </a:prstGeom>
          <a:noFill/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065"/>
          <p:cNvSpPr/>
          <p:nvPr/>
        </p:nvSpPr>
        <p:spPr>
          <a:xfrm>
            <a:off x="2881440" y="1523880"/>
            <a:ext cx="0" cy="73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066"/>
          <p:cNvSpPr/>
          <p:nvPr/>
        </p:nvSpPr>
        <p:spPr>
          <a:xfrm>
            <a:off x="2243160" y="1523880"/>
            <a:ext cx="1276200" cy="7336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Visual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087"/>
          <p:cNvSpPr/>
          <p:nvPr/>
        </p:nvSpPr>
        <p:spPr>
          <a:xfrm>
            <a:off x="1130400" y="457200"/>
            <a:ext cx="68832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ceptual Elements of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089"/>
          <p:cNvSpPr/>
          <p:nvPr/>
        </p:nvSpPr>
        <p:spPr>
          <a:xfrm>
            <a:off x="304920" y="1066680"/>
            <a:ext cx="8534160" cy="0"/>
          </a:xfrm>
          <a:prstGeom prst="line">
            <a:avLst/>
          </a:prstGeom>
          <a:ln w="63360">
            <a:solidFill>
              <a:srgbClr val="ff66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24456"/>
                </a:solidFill>
                <a:latin typeface="Bernard MT Condensed"/>
              </a:rPr>
              <a:t>OBJECTIVES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define “Learning” &amp; learning principl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recognize that undergraduate learning different from secondary schoo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identify different types of lear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apply these learning principles to our daily learning activiti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pull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1"/>
          <p:cNvSpPr/>
          <p:nvPr/>
        </p:nvSpPr>
        <p:spPr>
          <a:xfrm>
            <a:off x="214200" y="285840"/>
            <a:ext cx="87868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Georgia"/>
              </a:rPr>
              <a:t>How can you learn from learning experiences (both academic &amp; non-academic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380880" y="220968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active ref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785880" y="3143160"/>
            <a:ext cx="80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lection is purposeful and systematic revisiting of a learning experience with a view to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785880" y="528624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incident that you either participate in or see/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357120" y="264312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f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7"/>
          <p:cNvSpPr/>
          <p:nvPr/>
        </p:nvSpPr>
        <p:spPr>
          <a:xfrm>
            <a:off x="357120" y="471492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arning experie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4"/>
          <p:cNvSpPr/>
          <p:nvPr/>
        </p:nvSpPr>
        <p:spPr>
          <a:xfrm>
            <a:off x="1357200" y="15717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8086"/>
                </a:solidFill>
                <a:latin typeface="Calibri"/>
              </a:rPr>
              <a:t>Kolb’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9"/>
          <p:cNvGrpSpPr/>
          <p:nvPr/>
        </p:nvGrpSpPr>
        <p:grpSpPr>
          <a:xfrm>
            <a:off x="1285920" y="2286000"/>
            <a:ext cx="6705360" cy="4102200"/>
            <a:chOff x="1285920" y="2286000"/>
            <a:chExt cx="6705360" cy="4102200"/>
          </a:xfrm>
        </p:grpSpPr>
        <p:grpSp>
          <p:nvGrpSpPr>
            <p:cNvPr id="351" name="Group 18"/>
            <p:cNvGrpSpPr/>
            <p:nvPr/>
          </p:nvGrpSpPr>
          <p:grpSpPr>
            <a:xfrm>
              <a:off x="2124000" y="2590920"/>
              <a:ext cx="4876920" cy="3429000"/>
              <a:chOff x="2124000" y="2590920"/>
              <a:chExt cx="4876920" cy="3429000"/>
            </a:xfrm>
          </p:grpSpPr>
          <p:sp>
            <p:nvSpPr>
              <p:cNvPr id="352" name="Oval 5"/>
              <p:cNvSpPr/>
              <p:nvPr/>
            </p:nvSpPr>
            <p:spPr>
              <a:xfrm>
                <a:off x="2124000" y="2590920"/>
                <a:ext cx="4876920" cy="3429000"/>
              </a:xfrm>
              <a:prstGeom prst="ellipse">
                <a:avLst/>
              </a:prstGeom>
              <a:solidFill>
                <a:srgbClr val="53548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13"/>
              <p:cNvSpPr/>
              <p:nvPr/>
            </p:nvSpPr>
            <p:spPr>
              <a:xfrm>
                <a:off x="6238800" y="3048120"/>
                <a:ext cx="15228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14"/>
              <p:cNvSpPr/>
              <p:nvPr/>
            </p:nvSpPr>
            <p:spPr>
              <a:xfrm flipH="1">
                <a:off x="6543360" y="5029200"/>
                <a:ext cx="228600" cy="304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15"/>
              <p:cNvSpPr/>
              <p:nvPr/>
            </p:nvSpPr>
            <p:spPr>
              <a:xfrm flipH="1" flipV="1">
                <a:off x="2428560" y="5105160"/>
                <a:ext cx="15228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16"/>
              <p:cNvSpPr/>
              <p:nvPr/>
            </p:nvSpPr>
            <p:spPr>
              <a:xfrm flipV="1">
                <a:off x="2428920" y="3276360"/>
                <a:ext cx="15228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6"/>
            <p:cNvSpPr/>
            <p:nvPr/>
          </p:nvSpPr>
          <p:spPr>
            <a:xfrm>
              <a:off x="3267000" y="2362320"/>
              <a:ext cx="2514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7"/>
            <p:cNvSpPr/>
            <p:nvPr/>
          </p:nvSpPr>
          <p:spPr>
            <a:xfrm>
              <a:off x="3571920" y="228600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Concrete experi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8"/>
            <p:cNvSpPr/>
            <p:nvPr/>
          </p:nvSpPr>
          <p:spPr>
            <a:xfrm>
              <a:off x="6010200" y="380988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Reflective 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9"/>
            <p:cNvSpPr/>
            <p:nvPr/>
          </p:nvSpPr>
          <p:spPr>
            <a:xfrm>
              <a:off x="3429000" y="5562720"/>
              <a:ext cx="242892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Abstract conceptualis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0"/>
            <p:cNvSpPr/>
            <p:nvPr/>
          </p:nvSpPr>
          <p:spPr>
            <a:xfrm>
              <a:off x="1285920" y="403848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Future plan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20"/>
          <p:cNvSpPr/>
          <p:nvPr/>
        </p:nvSpPr>
        <p:spPr>
          <a:xfrm>
            <a:off x="685800" y="380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flection - cyclic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1"/>
          <p:cNvSpPr/>
          <p:nvPr/>
        </p:nvSpPr>
        <p:spPr>
          <a:xfrm>
            <a:off x="2214720" y="8571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y way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4"/>
          <p:cNvSpPr/>
          <p:nvPr/>
        </p:nvSpPr>
        <p:spPr>
          <a:xfrm>
            <a:off x="609480" y="7621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Reflective cycle: a simplified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523880" y="1752480"/>
            <a:ext cx="67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What is the learning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523880" y="2514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What did I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1523880" y="3276720"/>
            <a:ext cx="66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What more do I have to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1523880" y="41148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How can I learn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1523880" y="4876920"/>
            <a:ext cx="690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Evidence for further learning / change of prac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4"/>
          <p:cNvGrpSpPr/>
          <p:nvPr/>
        </p:nvGrpSpPr>
        <p:grpSpPr>
          <a:xfrm>
            <a:off x="1447920" y="1828800"/>
            <a:ext cx="6705360" cy="3919320"/>
            <a:chOff x="1447920" y="1828800"/>
            <a:chExt cx="6705360" cy="3919320"/>
          </a:xfrm>
        </p:grpSpPr>
        <p:sp>
          <p:nvSpPr>
            <p:cNvPr id="371" name="Oval 5"/>
            <p:cNvSpPr/>
            <p:nvPr/>
          </p:nvSpPr>
          <p:spPr>
            <a:xfrm>
              <a:off x="2286000" y="2133720"/>
              <a:ext cx="4876920" cy="3429000"/>
            </a:xfrm>
            <a:prstGeom prst="ellipse">
              <a:avLst/>
            </a:prstGeom>
            <a:solidFill>
              <a:srgbClr val="53548a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733920" y="1828800"/>
              <a:ext cx="198108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oncrete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7"/>
            <p:cNvSpPr/>
            <p:nvPr/>
          </p:nvSpPr>
          <p:spPr>
            <a:xfrm>
              <a:off x="6172200" y="3352680"/>
              <a:ext cx="198108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eflective observ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8"/>
            <p:cNvSpPr/>
            <p:nvPr/>
          </p:nvSpPr>
          <p:spPr>
            <a:xfrm>
              <a:off x="3809880" y="5105520"/>
              <a:ext cx="221004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bstract conceptualis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9"/>
            <p:cNvSpPr/>
            <p:nvPr/>
          </p:nvSpPr>
          <p:spPr>
            <a:xfrm>
              <a:off x="1447920" y="3581280"/>
              <a:ext cx="1981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uture 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"/>
            <p:cNvSpPr/>
            <p:nvPr/>
          </p:nvSpPr>
          <p:spPr>
            <a:xfrm>
              <a:off x="6400800" y="2590920"/>
              <a:ext cx="15228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1"/>
            <p:cNvSpPr/>
            <p:nvPr/>
          </p:nvSpPr>
          <p:spPr>
            <a:xfrm flipH="1">
              <a:off x="6705360" y="4572000"/>
              <a:ext cx="22860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2"/>
            <p:cNvSpPr/>
            <p:nvPr/>
          </p:nvSpPr>
          <p:spPr>
            <a:xfrm flipH="1" flipV="1">
              <a:off x="2590560" y="4647960"/>
              <a:ext cx="1522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3"/>
            <p:cNvSpPr/>
            <p:nvPr/>
          </p:nvSpPr>
          <p:spPr>
            <a:xfrm flipV="1">
              <a:off x="2590920" y="2819160"/>
              <a:ext cx="1522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2"/>
          <p:cNvSpPr/>
          <p:nvPr/>
        </p:nvSpPr>
        <p:spPr>
          <a:xfrm>
            <a:off x="2514600" y="304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429000" y="19051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3657600" y="251460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the ev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60958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6172200" y="419112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did I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1371600" y="4038480"/>
            <a:ext cx="2057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can I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3352680" y="1066680"/>
            <a:ext cx="2667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idence for learning / change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6172200" y="495288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more do I have to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1"/>
          <p:cNvSpPr/>
          <p:nvPr/>
        </p:nvSpPr>
        <p:spPr>
          <a:xfrm>
            <a:off x="285840" y="3571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Why should you participate in other non-academic activ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357120" y="178596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provide a rich source of learning experiences for you to develop a lot of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1000080" y="2786040"/>
            <a:ext cx="764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/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work and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al and management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"/>
          <p:cNvSpPr/>
          <p:nvPr/>
        </p:nvSpPr>
        <p:spPr>
          <a:xfrm>
            <a:off x="357120" y="564372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listic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1"/>
          <p:cNvSpPr/>
          <p:nvPr/>
        </p:nvSpPr>
        <p:spPr>
          <a:xfrm>
            <a:off x="2500200" y="35712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"/>
          <p:cNvSpPr/>
          <p:nvPr/>
        </p:nvSpPr>
        <p:spPr>
          <a:xfrm>
            <a:off x="357120" y="11430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in university is fundamentally different from learning in secondary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3"/>
          <p:cNvSpPr/>
          <p:nvPr/>
        </p:nvSpPr>
        <p:spPr>
          <a:xfrm>
            <a:off x="428760" y="228600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and deep learning is the key to success in the university (and in later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428760" y="507204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y to learn from all experiences (both academic and non-academic) in th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428760" y="350028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the learning style that suits you best to achieve deep learning and use it to the maxim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1"/>
          <p:cNvSpPr/>
          <p:nvPr/>
        </p:nvSpPr>
        <p:spPr>
          <a:xfrm>
            <a:off x="1143000" y="1571760"/>
            <a:ext cx="657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arlow Solid Italic"/>
              </a:rPr>
              <a:t>I wish you a very successful and enjoyable time in your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"/>
          <p:cNvSpPr/>
          <p:nvPr/>
        </p:nvSpPr>
        <p:spPr>
          <a:xfrm>
            <a:off x="1785960" y="3857760"/>
            <a:ext cx="500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Harlow Solid Italic"/>
              </a:rPr>
              <a:t>All the be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2071800" y="571680"/>
            <a:ext cx="521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Bernard MT Condensed"/>
              </a:rPr>
              <a:t>Some Opening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642960" y="25718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uccessful people have made a decision to be successfu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642960" y="3500280"/>
            <a:ext cx="8001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714240" y="4429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uccess is a journey not a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714240" y="5286240"/>
            <a:ext cx="8001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62080" y="1974960"/>
            <a:ext cx="8369280" cy="14014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100" spc="-1" strike="noStrike">
              <a:solidFill>
                <a:srgbClr val="424456"/>
              </a:solidFill>
              <a:latin typeface="Georgia"/>
              <a:ea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2571840" y="642960"/>
            <a:ext cx="42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Bernard MT Condensed"/>
              </a:rPr>
              <a:t>Learn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642960" y="178596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nard MT Condensed"/>
              </a:rPr>
              <a:t>The process of acquisition of new </a:t>
            </a: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knowledge, skills, attitudes, values, behaviours,  preferences, &amp; understanding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685800" y="4343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You should be able to demonstrate such new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533520" y="3429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It is </a:t>
            </a:r>
            <a:r>
              <a:rPr b="1" lang="en-US" sz="2800" spc="-1" strike="noStrike">
                <a:solidFill>
                  <a:srgbClr val="c00000"/>
                </a:solidFill>
                <a:latin typeface="Bernard MT Condensed"/>
              </a:rPr>
              <a:t>not</a:t>
            </a: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 only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3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“ </a:t>
            </a: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Reading with a purpose i.e to obtain specific answers to specific questions”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84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                                                                     </a:t>
            </a:r>
            <a:r>
              <a:rPr b="0" i="1" lang="en-US" sz="3200" spc="-1" strike="noStrike">
                <a:solidFill>
                  <a:srgbClr val="424456"/>
                </a:solidFill>
                <a:latin typeface="Georgia"/>
              </a:rPr>
              <a:t>Ailan Mora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1071720" y="1357200"/>
            <a:ext cx="714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&amp; studying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undergradu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different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&amp; studying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econdary school stud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214200" y="42876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University vs. secondary schoo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85840" y="1214280"/>
          <a:ext cx="8501040" cy="5954760"/>
        </p:xfrm>
        <a:graphic>
          <a:graphicData uri="http://schemas.openxmlformats.org/drawingml/2006/table">
            <a:tbl>
              <a:tblPr/>
              <a:tblGrid>
                <a:gridCol w="1309680"/>
                <a:gridCol w="2833560"/>
                <a:gridCol w="4357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econdary 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Undergraduate 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inly from teachers &amp; 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from teachers. Books, internet, peers are also very impor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ri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ore knowledge orie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knowledge. In a professional course there are skills and behavi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o pass an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to pass an exam, but mainly to train for a profession (especially in a professional  cour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ype of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assive and superficial mostly (unfortunatel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ctive and deep learning. Learning needs to be with you for a life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inly  books &amp; teacher’s n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ectures, small group discussions, computer assisted learning, library, internet, clinical skills sessions, labora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ritten ex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ritten exams, practicals (OSPE), vivas (oral exams), clinical exams (e.g. &amp; OS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0:05:42Z</dcterms:created>
  <dc:creator>NURULHUDA</dc:creator>
  <dc:description/>
  <dc:language>en-US</dc:language>
  <cp:lastModifiedBy>DR.ALHAIDER</cp:lastModifiedBy>
  <dcterms:modified xsi:type="dcterms:W3CDTF">2009-10-03T15:32:33Z</dcterms:modified>
  <cp:revision>101</cp:revision>
  <dc:subject/>
  <dc:title>PROFESSIONALISM        IN MEDICAL EDUCATION </dc:title>
</cp:coreProperties>
</file>