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AC66-BDAD-4099-9D9E-FA48029A0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cs typeface="Arial"/>
              </a:rPr>
              <a:t>للأمانة العلمية: جهزت هذه الشرائح من قبل أعضاء هيئة التدريس من الكلية و خارجهاو ليس عمل شخص واحد. هذه سلسلة من المحاضرات على مدار السنة بمعدل محاضرة واحدة أسبوعيا للفائدة. تعرض هذه المحاضرات باللغة الإنجليزية و لكن سيوضح عضو هيئة التدريس أي نقطة يستفسر الطالب عنها</a:t>
            </a: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skill; learning how to learn. Other names are given as “Meta-cognition” , Academic skills &amp; Learning skills. If we have these skills we can learn faster, we will not have difficulty in learning &amp; learning becomes enjoyable &amp; f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404C-3643-42CC-A9DC-EF13E975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187F-1ADB-461A-82A6-48E8827DE2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FCD7-A036-42C2-9025-89BAF7800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0BD0-83ED-498A-A3A6-C0D4FF6FA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B7F0-018C-4C5C-B3AE-C94ED7E82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1AF5-7649-4FF6-BE3F-78BB5EC587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AA8B-3719-483F-8F26-E8328FD06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7686-34E1-48AC-8A09-D872AB26D6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E91F-BB4B-4E15-96BF-B398097D1C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92B9-7DE8-49C2-9013-CD61F47F90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F44F-CA7B-435E-841F-2D699428EF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C7BA-E123-4C58-ADDC-46D6D46DC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st objective is kept here that we are ready to apply it in our daily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BFC9-C6DE-4F13-A3ED-4CE1B0648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1FD9-9B65-4855-A940-506ED91A90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D790-103B-4127-92F3-B7A78E71F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0F7D-C361-4011-8FA8-6A290F6FF1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922D-AE15-4CC0-902C-5FB23D9BA0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0591-C817-4306-A842-353DEA1200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026-59C9-4056-A379-BEEE2FA3E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2EF4-54D7-4AC9-AE23-A398F5A8552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35A5-E305-4405-B6F0-C539CDEA0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for male students is “Car driving” &amp; for female students is “Cooking a special dish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47BF-6A0E-459F-8302-FC27B03732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9C9A-898F-4C86-B95A-064755E82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7AB8-0895-4A19-85EC-C1491B3CC8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0EB-6E19-4676-81F5-BD1E706DE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C627-A422-452E-B56A-4CEC181C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6E4E-4558-4449-B11B-D6485AE8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FAD-DB70-44DF-B73F-78FC5F7B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92DA-6C5E-484B-95A3-E806F876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BFA1-55E1-40F7-B016-78DA90B4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4A28-51F9-4D01-B98D-AFE61877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702C-DBB4-40FC-BF82-B34669E7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2687-A7E9-46B4-A0E3-4357E6FC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AAAD-AD3C-4B87-99CA-649E3661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D419-3C71-4D11-BFF4-33AADA07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346-015D-48E7-BC33-880019DE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454D-8E20-4EB8-A15D-25480AFB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8660-AEF2-4E7A-B6D4-1873957A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B880-7119-495C-B63A-F41C7F8F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5085-9D64-4C5A-A2B0-86CD7402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1A57-1265-43A2-86DA-F4F9CDF1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22322-F8A6-4B78-929D-DB004B42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1E63F-F754-4730-A3DA-BE140C10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6AA9AA-F0C1-4876-B552-F9D36228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EC1640-4C1D-4D8B-8331-461636DE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6108B-98E9-4AE7-8943-2F88430B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DB7B-9068-4EF1-A53F-AA35013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A052C-1492-4B22-BDDA-59312FBF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72073-FEA9-47F3-849C-7E0D4240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F3A31-4E5F-403E-9397-CDD53CDB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ED96B7-7834-406B-A913-62B90DE4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CEEC5-A95E-41AA-B0B8-F0347616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A6A72-E70C-4495-AAFA-9BB0185C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88F42-2516-4818-84B5-F94ED6C5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7297-F8B4-4F75-A363-C6048670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6F96-31C3-4199-8C56-C8E4C463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BAC0-8A3B-4C64-BB2A-C74AB207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035-C169-4019-8D55-9D84F597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D347A-7BC3-443D-BBF4-3FCB5E0D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D913B-FD5F-4AEC-A025-CB96C35B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235AB-5705-4ADA-BDB7-D2C8808C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12AB3-8673-4470-8A2A-7121004E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7FA66-FEA5-4CCC-9EBF-809D0CE2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7127C-904D-4CC8-BE14-ADFB69D7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F1933-D642-4C1C-B1B2-BFF08C54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615F9-B1FB-4AD1-993A-31256BB9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5692E-E1AC-4060-ADF3-B7BBB3C3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CF8-BBAC-4EE4-AB56-8BB05F1D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554-D036-4E6F-AEB6-F598B19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672-C26E-430D-B4A8-A9D4CD2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D3D3-535C-486C-9EB0-E848CAF2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F86-A8B9-4CF5-B32A-7D66CF39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17B8-1506-4DAE-ACA9-3A1E35A89063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2C22-4FAB-4582-9110-FD52FD1E270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F4E3-2B3C-4AF4-8DB8-475673755CA1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75C2-55A1-41F4-AECE-B9443FCF7A90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8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Study Skills: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Trebuchet MS"/>
              </a:rPr>
              <a:t>Learning How to Learn 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123720" y="4419360"/>
            <a:ext cx="5334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Study Skill Cour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Dept of Medical Edu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eorgia"/>
              </a:rPr>
              <a:t>College of Medicin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428760" y="21420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these differences in lea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"/>
          <p:cNvSpPr/>
          <p:nvPr/>
        </p:nvSpPr>
        <p:spPr>
          <a:xfrm>
            <a:off x="1285920" y="8571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consider you as adult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357120" y="1428840"/>
            <a:ext cx="850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eed to kn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dult learners need to know why they need to learn something before undertaking to learn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arner self-concep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need to be responsible for their ow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ole of learners' experien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have a variety of experiences of life - the richest resource fo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diness to lear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ready to learn those things they need to know in order to cope effectively with life situ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ientation to lear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— are motivated to learn to the extent that they perceive that it will help them perform tasks they confront in their life situ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714240" y="428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f adult learning is to be achieved…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"/>
          <p:cNvSpPr/>
          <p:nvPr/>
        </p:nvSpPr>
        <p:spPr>
          <a:xfrm>
            <a:off x="428760" y="121428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has to b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ee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earning as opposed to superficial and passive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571680" y="2857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is deep/active learning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285840" y="35719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ficial learning is easily and very quickl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forgo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285840" y="4572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superficial learning you will not be able to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use it in practical sit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57120" y="564372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ep learning accommodates varying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learning sty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571680" y="257184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be a passive receiver of information.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tera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th information and tr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pp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and try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o do different thing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at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857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can deep /active learning be achie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at do we rememb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1571760" y="164304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% of what we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1571760" y="228600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% of what we 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4"/>
          <p:cNvSpPr/>
          <p:nvPr/>
        </p:nvSpPr>
        <p:spPr>
          <a:xfrm>
            <a:off x="1571760" y="29289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0% of what we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5"/>
          <p:cNvSpPr/>
          <p:nvPr/>
        </p:nvSpPr>
        <p:spPr>
          <a:xfrm>
            <a:off x="1571760" y="35719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 of what we s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1571760" y="421488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0% of what we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1571760" y="4929120"/>
            <a:ext cx="671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4244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90% of what we read, hear, see,            say an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1"/>
          <p:cNvSpPr/>
          <p:nvPr/>
        </p:nvSpPr>
        <p:spPr>
          <a:xfrm>
            <a:off x="1500120" y="64296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 actively and de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1000080" y="1643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on’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just read and close the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928800" y="22860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Arial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do different things with what you have read immediately afte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643040" y="3357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flow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1643040" y="392904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w diagrams using 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6"/>
          <p:cNvSpPr/>
          <p:nvPr/>
        </p:nvSpPr>
        <p:spPr>
          <a:xfrm>
            <a:off x="1643040" y="450072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1643040" y="5072040"/>
            <a:ext cx="62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 answering pass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642960" y="571500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hort, interact with what you hav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1"/>
          <p:cNvSpPr/>
          <p:nvPr/>
        </p:nvSpPr>
        <p:spPr>
          <a:xfrm>
            <a:off x="1357200" y="642960"/>
            <a:ext cx="671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How to shift information from short term to long tern memo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"/>
          <p:cNvSpPr/>
          <p:nvPr/>
        </p:nvSpPr>
        <p:spPr>
          <a:xfrm>
            <a:off x="1643040" y="185724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Learn actively &amp; dee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428920"/>
            <a:ext cx="51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Revisit, repeat &amp; rev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357120" y="5715000"/>
            <a:ext cx="85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355680" indent="-35568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Do not wait until you finish studying to rev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285840" y="3429000"/>
            <a:ext cx="871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mportant points about revisiting &amp;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285840" y="40719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here is no special place or time to revi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85840" y="471492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4244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456"/>
                </a:solidFill>
                <a:latin typeface="Arial"/>
              </a:rPr>
              <a:t>Try to revisit and repeat at every given opportu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ttp://www.adm.uwaterloo.ca/infocs/Images/curve.gif"/>
          <p:cNvPicPr/>
          <p:nvPr/>
        </p:nvPicPr>
        <p:blipFill>
          <a:blip r:embed="rId1"/>
          <a:stretch/>
        </p:blipFill>
        <p:spPr>
          <a:xfrm>
            <a:off x="428760" y="1571760"/>
            <a:ext cx="8215200" cy="464328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"/>
          <p:cNvSpPr/>
          <p:nvPr/>
        </p:nvSpPr>
        <p:spPr>
          <a:xfrm>
            <a:off x="1857240" y="642960"/>
            <a:ext cx="50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orgett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360360" y="-615960"/>
            <a:ext cx="8551800" cy="52070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100" spc="-1" strike="noStrike">
              <a:solidFill>
                <a:srgbClr val="424456"/>
              </a:solidFill>
              <a:latin typeface="Georgia"/>
              <a:ea typeface="Arial"/>
            </a:endParaRPr>
          </a:p>
        </p:txBody>
      </p:sp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2"/>
          <p:cNvSpPr/>
          <p:nvPr/>
        </p:nvSpPr>
        <p:spPr>
          <a:xfrm>
            <a:off x="2000160" y="1428840"/>
            <a:ext cx="478656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isual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1928880" y="378612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ding/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1928880" y="257184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dito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1928880" y="5000760"/>
            <a:ext cx="485784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inaesthetic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2"/>
          <p:cNvSpPr/>
          <p:nvPr/>
        </p:nvSpPr>
        <p:spPr>
          <a:xfrm>
            <a:off x="1643040" y="2428920"/>
            <a:ext cx="236232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f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51483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agma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5148360" y="24289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o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"/>
          <p:cNvSpPr/>
          <p:nvPr/>
        </p:nvSpPr>
        <p:spPr>
          <a:xfrm>
            <a:off x="1490760" y="4257720"/>
            <a:ext cx="2666880" cy="6426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7"/>
          <p:cNvSpPr/>
          <p:nvPr/>
        </p:nvSpPr>
        <p:spPr>
          <a:xfrm>
            <a:off x="880920" y="3648240"/>
            <a:ext cx="739152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ight Arrow 8"/>
          <p:cNvSpPr/>
          <p:nvPr/>
        </p:nvSpPr>
        <p:spPr>
          <a:xfrm rot="16200000">
            <a:off x="-26640" y="196488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9"/>
          <p:cNvSpPr/>
          <p:nvPr/>
        </p:nvSpPr>
        <p:spPr>
          <a:xfrm rot="16200000">
            <a:off x="493560" y="2358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0"/>
          <p:cNvSpPr/>
          <p:nvPr/>
        </p:nvSpPr>
        <p:spPr>
          <a:xfrm rot="5400000">
            <a:off x="-27360" y="4556160"/>
            <a:ext cx="2197080" cy="68580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1"/>
          <p:cNvSpPr/>
          <p:nvPr/>
        </p:nvSpPr>
        <p:spPr>
          <a:xfrm rot="16200000">
            <a:off x="198360" y="4559040"/>
            <a:ext cx="17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Straight Arrow Connector 13"/>
          <p:cNvCxnSpPr/>
          <p:nvPr/>
        </p:nvCxnSpPr>
        <p:spPr>
          <a:xfrm>
            <a:off x="4005000" y="3114360"/>
            <a:ext cx="114372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98" name="Straight Arrow Connector 15"/>
          <p:cNvCxnSpPr/>
          <p:nvPr/>
        </p:nvCxnSpPr>
        <p:spPr>
          <a:xfrm flipV="1">
            <a:off x="4081320" y="3114000"/>
            <a:ext cx="991440" cy="1067400"/>
          </a:xfrm>
          <a:prstGeom prst="straightConnector1">
            <a:avLst/>
          </a:prstGeom>
          <a:ln w="31680">
            <a:solidFill>
              <a:srgbClr val="438086"/>
            </a:solidFill>
            <a:miter/>
            <a:headEnd len="med" type="arrow" w="med"/>
            <a:tailEnd len="med" type="arrow" w="med"/>
          </a:ln>
        </p:spPr>
      </p:cxnSp>
      <p:sp>
        <p:nvSpPr>
          <p:cNvPr id="299" name="TextBox 1"/>
          <p:cNvSpPr/>
          <p:nvPr/>
        </p:nvSpPr>
        <p:spPr>
          <a:xfrm>
            <a:off x="1643040" y="35712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Learning style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071800" y="57168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571680" y="178596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is undergraduate learning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642960" y="278604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learn deeply and activ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685800" y="3733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What is your learning sty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642960" y="471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How to promote reflective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r learning style   =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erceive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How you </a:t>
            </a: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process</a:t>
            </a:r>
            <a:r>
              <a:rPr b="0" lang="en-US" sz="2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eorgia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c00000"/>
                </a:solidFill>
                <a:latin typeface="Arial Unicode MS"/>
              </a:rPr>
              <a:t>WHAT IS LEARING STYLE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way in which each individual learner begins to concentrate on, process, absorb, and retain new and difficult informa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the most important tool for us when we construct knowledge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right way of studying does not exist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erybody learns in his individual way, but without knowing this way, you can’t learn efficiently – sometimes you can’t learn at all.           </a:t>
            </a:r>
            <a:r>
              <a:rPr b="0" lang="en-US" sz="4000" spc="-1" strike="noStrike">
                <a:solidFill>
                  <a:srgbClr val="ff0000"/>
                </a:solidFill>
                <a:latin typeface="Arial Unicode MS"/>
              </a:rPr>
              <a:t>SO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ing styles are strategies or regular mental behaviors that are habitually applied by an individual to learning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Classical classification of Learning style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(prefer to learn by see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ditory (prefer to learn by sou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inesthetic (prefer to learn by doing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erbal (linguistic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gical (mathematic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cial (interpersonal) learning sty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335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Visual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fer to see the information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like reading tex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writing repeated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en inactive, doodles, looks arou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ization-imagin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isual promp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ept ma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visual representation of information-posters et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uditory sty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ke to listen to teac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lks fluently and logical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orizes by repeating words alou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activity leads to talking to self o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*  </a:t>
            </a:r>
            <a:r>
              <a:rPr b="0" lang="en-US" sz="2800" spc="-1" strike="noStrike">
                <a:solidFill>
                  <a:srgbClr val="a6a6a6"/>
                </a:solidFill>
                <a:latin typeface="Georgia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tive liste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hyme and rhythm-mnemonic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agine you can hear 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300"/>
              </a:spcBef>
              <a:buClr>
                <a:srgbClr val="a04da3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685800" y="914400"/>
            <a:ext cx="624852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Kinesth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394be"/>
                </a:solidFill>
                <a:latin typeface="Arial"/>
              </a:rPr>
              <a:t>* </a:t>
            </a:r>
            <a:r>
              <a:rPr b="0" lang="en-US" sz="2400" spc="-1" strike="noStrike">
                <a:solidFill>
                  <a:srgbClr val="a6a6a6"/>
                </a:solidFill>
                <a:latin typeface="Arial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lks about actions, speaks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activity leads to fid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tracted by physical disturb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* </a:t>
            </a:r>
            <a:r>
              <a:rPr b="0" lang="en-US" sz="2800" spc="-1" strike="noStrike">
                <a:solidFill>
                  <a:srgbClr val="a6a6a6"/>
                </a:solidFill>
                <a:latin typeface="Trebuchet MS"/>
              </a:rPr>
              <a:t>Enh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se objects that can be manip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cting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dy language and physical m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verbal (linguistic)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Involves both the written and spoken wor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Express both in writing and 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love reading and writing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 Know the meaning of many wor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temporal and frontal lobes drive this styl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088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logical (mathematic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ing brain for logical and mathematical reasoning. classify and group information to learn or understand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well with numbers and perform complex calculation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 through problems and issues in a systematic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The parietal lobes, especially the left side, drive our logical thinking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088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he social (interpersonal) styl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Communication well with people, both verbally and non-verball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listen well and understand other’s views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learning in grou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prefer to stay around and talk with other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-  The frontal and temporal lobes handle much of our social activit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1034"/>
          <p:cNvSpPr/>
          <p:nvPr/>
        </p:nvSpPr>
        <p:spPr>
          <a:xfrm>
            <a:off x="40644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LISTEN</a:t>
            </a:r>
            <a:r>
              <a:rPr b="0" lang="da-DK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to a lecture, a presentation, or an </a:t>
            </a:r>
            <a:br>
              <a:rPr sz="1800"/>
            </a:br>
            <a:r>
              <a:rPr b="0" lang="da-DK" sz="1800" spc="-1" strike="noStrike">
                <a:solidFill>
                  <a:srgbClr val="373737"/>
                </a:solidFill>
                <a:latin typeface="Arial"/>
              </a:rPr>
              <a:t>audiotape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35"/>
          <p:cNvSpPr/>
          <p:nvPr/>
        </p:nvSpPr>
        <p:spPr>
          <a:xfrm>
            <a:off x="396720" y="1447920"/>
            <a:ext cx="1595520" cy="4647960"/>
          </a:xfrm>
          <a:prstGeom prst="rect">
            <a:avLst/>
          </a:prstGeom>
          <a:noFill/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036"/>
          <p:cNvGrpSpPr/>
          <p:nvPr/>
        </p:nvGrpSpPr>
        <p:grpSpPr>
          <a:xfrm>
            <a:off x="554040" y="1523880"/>
            <a:ext cx="1163160" cy="733320"/>
            <a:chOff x="554040" y="1523880"/>
            <a:chExt cx="1163160" cy="733320"/>
          </a:xfrm>
        </p:grpSpPr>
        <p:sp>
          <p:nvSpPr>
            <p:cNvPr id="313" name="Line 1037"/>
            <p:cNvSpPr/>
            <p:nvPr/>
          </p:nvSpPr>
          <p:spPr>
            <a:xfrm>
              <a:off x="113544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038"/>
            <p:cNvSpPr/>
            <p:nvPr/>
          </p:nvSpPr>
          <p:spPr>
            <a:xfrm>
              <a:off x="554040" y="1523880"/>
              <a:ext cx="11631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039"/>
            <p:cNvSpPr/>
            <p:nvPr/>
          </p:nvSpPr>
          <p:spPr>
            <a:xfrm>
              <a:off x="699120" y="1627560"/>
              <a:ext cx="87228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Rectangle 1040"/>
          <p:cNvSpPr/>
          <p:nvPr/>
        </p:nvSpPr>
        <p:spPr>
          <a:xfrm>
            <a:off x="609480" y="1631880"/>
            <a:ext cx="106704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041"/>
          <p:cNvSpPr/>
          <p:nvPr/>
        </p:nvSpPr>
        <p:spPr>
          <a:xfrm>
            <a:off x="7151760" y="2590920"/>
            <a:ext cx="1576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ISCU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with others the new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and complex information they ar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42"/>
          <p:cNvSpPr/>
          <p:nvPr/>
        </p:nvSpPr>
        <p:spPr>
          <a:xfrm>
            <a:off x="7151760" y="1447920"/>
            <a:ext cx="159552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1043"/>
          <p:cNvGrpSpPr/>
          <p:nvPr/>
        </p:nvGrpSpPr>
        <p:grpSpPr>
          <a:xfrm>
            <a:off x="7423200" y="1523880"/>
            <a:ext cx="1164960" cy="733320"/>
            <a:chOff x="7423200" y="1523880"/>
            <a:chExt cx="1164960" cy="733320"/>
          </a:xfrm>
        </p:grpSpPr>
        <p:sp>
          <p:nvSpPr>
            <p:cNvPr id="320" name="Line 1044"/>
            <p:cNvSpPr/>
            <p:nvPr/>
          </p:nvSpPr>
          <p:spPr>
            <a:xfrm>
              <a:off x="8005680" y="1523880"/>
              <a:ext cx="0" cy="7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045"/>
            <p:cNvSpPr/>
            <p:nvPr/>
          </p:nvSpPr>
          <p:spPr>
            <a:xfrm>
              <a:off x="7423200" y="1523880"/>
              <a:ext cx="1164960" cy="7333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46"/>
            <p:cNvSpPr/>
            <p:nvPr/>
          </p:nvSpPr>
          <p:spPr>
            <a:xfrm>
              <a:off x="7568280" y="1627560"/>
              <a:ext cx="873720" cy="275040"/>
            </a:xfrm>
            <a:prstGeom prst="rect">
              <a:avLst/>
            </a:prstGeom>
            <a:solidFill>
              <a:srgbClr val="ef73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047"/>
          <p:cNvSpPr/>
          <p:nvPr/>
        </p:nvSpPr>
        <p:spPr>
          <a:xfrm>
            <a:off x="7467480" y="1631880"/>
            <a:ext cx="1081080" cy="52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084"/>
          <p:cNvGrpSpPr/>
          <p:nvPr/>
        </p:nvGrpSpPr>
        <p:grpSpPr>
          <a:xfrm>
            <a:off x="3776760" y="1447920"/>
            <a:ext cx="1595520" cy="4647960"/>
            <a:chOff x="3776760" y="1447920"/>
            <a:chExt cx="1595520" cy="4647960"/>
          </a:xfrm>
        </p:grpSpPr>
        <p:sp>
          <p:nvSpPr>
            <p:cNvPr id="325" name="Rectangle 1048"/>
            <p:cNvSpPr/>
            <p:nvPr/>
          </p:nvSpPr>
          <p:spPr>
            <a:xfrm>
              <a:off x="3776760" y="2590920"/>
              <a:ext cx="1576800" cy="35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ctr">
                <a:lnSpc>
                  <a:spcPct val="115000"/>
                </a:lnSpc>
                <a:spcBef>
                  <a:spcPts val="1687"/>
                </a:spcBef>
                <a:spcAft>
                  <a:spcPts val="56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member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est when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ey 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REA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the written word (textbooks, memos, </a:t>
              </a:r>
              <a:br>
                <a:rPr sz="1800"/>
              </a:br>
              <a:r>
                <a:rPr b="0" lang="en-US" sz="1800" spc="-1" strike="noStrike">
                  <a:solidFill>
                    <a:srgbClr val="373737"/>
                  </a:solidFill>
                  <a:latin typeface="Arial"/>
                </a:rPr>
                <a:t> and e-mail message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49"/>
            <p:cNvSpPr/>
            <p:nvPr/>
          </p:nvSpPr>
          <p:spPr>
            <a:xfrm>
              <a:off x="3776760" y="1447920"/>
              <a:ext cx="1595520" cy="4647960"/>
            </a:xfrm>
            <a:prstGeom prst="rect">
              <a:avLst/>
            </a:prstGeom>
            <a:noFill/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Group 1074"/>
            <p:cNvGrpSpPr/>
            <p:nvPr/>
          </p:nvGrpSpPr>
          <p:grpSpPr>
            <a:xfrm>
              <a:off x="3898440" y="1523880"/>
              <a:ext cx="1351440" cy="735120"/>
              <a:chOff x="3898440" y="1523880"/>
              <a:chExt cx="1351440" cy="735120"/>
            </a:xfrm>
          </p:grpSpPr>
          <p:grpSp>
            <p:nvGrpSpPr>
              <p:cNvPr id="328" name="Group 1050"/>
              <p:cNvGrpSpPr/>
              <p:nvPr/>
            </p:nvGrpSpPr>
            <p:grpSpPr>
              <a:xfrm>
                <a:off x="3935880" y="1523880"/>
                <a:ext cx="1275840" cy="733320"/>
                <a:chOff x="3935880" y="1523880"/>
                <a:chExt cx="1275840" cy="733320"/>
              </a:xfrm>
            </p:grpSpPr>
            <p:sp>
              <p:nvSpPr>
                <p:cNvPr id="329" name="Line 1051"/>
                <p:cNvSpPr/>
                <p:nvPr/>
              </p:nvSpPr>
              <p:spPr>
                <a:xfrm>
                  <a:off x="4573800" y="1523880"/>
                  <a:ext cx="0" cy="733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1052"/>
                <p:cNvSpPr/>
                <p:nvPr/>
              </p:nvSpPr>
              <p:spPr>
                <a:xfrm>
                  <a:off x="3935880" y="1523880"/>
                  <a:ext cx="1275840" cy="733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Rectangle 1053"/>
                <p:cNvSpPr/>
                <p:nvPr/>
              </p:nvSpPr>
              <p:spPr>
                <a:xfrm>
                  <a:off x="4095000" y="1627560"/>
                  <a:ext cx="956880" cy="2750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Rectangle 1054"/>
              <p:cNvSpPr/>
              <p:nvPr/>
            </p:nvSpPr>
            <p:spPr>
              <a:xfrm>
                <a:off x="3898440" y="1525680"/>
                <a:ext cx="13514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Visual </a:t>
                </a:r>
                <a:br>
                  <a:rPr sz="1400"/>
                </a:b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Learn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3" name="Rectangle 1055"/>
          <p:cNvSpPr/>
          <p:nvPr/>
        </p:nvSpPr>
        <p:spPr>
          <a:xfrm>
            <a:off x="546264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b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DO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rather than sitting and listening, reading,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thinking about the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56"/>
          <p:cNvSpPr/>
          <p:nvPr/>
        </p:nvSpPr>
        <p:spPr>
          <a:xfrm>
            <a:off x="5462640" y="1447920"/>
            <a:ext cx="1596960" cy="46479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058"/>
          <p:cNvSpPr/>
          <p:nvPr/>
        </p:nvSpPr>
        <p:spPr>
          <a:xfrm>
            <a:off x="6238800" y="152244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59"/>
          <p:cNvSpPr/>
          <p:nvPr/>
        </p:nvSpPr>
        <p:spPr>
          <a:xfrm>
            <a:off x="5600880" y="1522440"/>
            <a:ext cx="1276200" cy="7333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actile and/o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Kinesth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62"/>
          <p:cNvSpPr/>
          <p:nvPr/>
        </p:nvSpPr>
        <p:spPr>
          <a:xfrm>
            <a:off x="2082960" y="2590920"/>
            <a:ext cx="15778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5000"/>
              </a:lnSpc>
              <a:spcBef>
                <a:spcPts val="1687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ember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st when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SE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(create) mental images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f what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they hear </a:t>
            </a:r>
            <a:br>
              <a:rPr sz="1800"/>
            </a:br>
            <a:r>
              <a:rPr b="0" lang="en-US" sz="1800" spc="-1" strike="noStrike">
                <a:solidFill>
                  <a:srgbClr val="373737"/>
                </a:solidFill>
                <a:latin typeface="Arial"/>
              </a:rPr>
              <a:t>or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63"/>
          <p:cNvSpPr/>
          <p:nvPr/>
        </p:nvSpPr>
        <p:spPr>
          <a:xfrm>
            <a:off x="2087640" y="1447920"/>
            <a:ext cx="1596960" cy="4647960"/>
          </a:xfrm>
          <a:prstGeom prst="rect">
            <a:avLst/>
          </a:prstGeom>
          <a:noFill/>
          <a:ln w="3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65"/>
          <p:cNvSpPr/>
          <p:nvPr/>
        </p:nvSpPr>
        <p:spPr>
          <a:xfrm>
            <a:off x="2881440" y="1523880"/>
            <a:ext cx="0" cy="73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66"/>
          <p:cNvSpPr/>
          <p:nvPr/>
        </p:nvSpPr>
        <p:spPr>
          <a:xfrm>
            <a:off x="2243160" y="1523880"/>
            <a:ext cx="1276200" cy="7336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Visu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ear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087"/>
          <p:cNvSpPr/>
          <p:nvPr/>
        </p:nvSpPr>
        <p:spPr>
          <a:xfrm>
            <a:off x="1130400" y="457200"/>
            <a:ext cx="68832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ceptual Elements of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089"/>
          <p:cNvSpPr/>
          <p:nvPr/>
        </p:nvSpPr>
        <p:spPr>
          <a:xfrm>
            <a:off x="304920" y="1066680"/>
            <a:ext cx="8534160" cy="0"/>
          </a:xfrm>
          <a:prstGeom prst="line">
            <a:avLst/>
          </a:prstGeom>
          <a:ln w="63360">
            <a:solidFill>
              <a:srgbClr val="ff66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24456"/>
                </a:solidFill>
                <a:latin typeface="Bernard MT Condensed"/>
              </a:rPr>
              <a:t>OBJECTIVES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define “Learning” &amp; learning principl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recognize that undergraduate learning different from secondary schoo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identify different types of lear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To apply these learning principles to our daily learning activiti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ll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1"/>
          <p:cNvSpPr/>
          <p:nvPr/>
        </p:nvSpPr>
        <p:spPr>
          <a:xfrm>
            <a:off x="214200" y="285840"/>
            <a:ext cx="878688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eorgia"/>
              </a:rPr>
              <a:t>How can you learn from learning experiences (both academic &amp; non-academic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80880" y="220968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active ref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785880" y="3143160"/>
            <a:ext cx="807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lection is purposeful and systematic revisiting of a learning experience with a view to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"/>
          <p:cNvSpPr/>
          <p:nvPr/>
        </p:nvSpPr>
        <p:spPr>
          <a:xfrm>
            <a:off x="785880" y="5286240"/>
            <a:ext cx="700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incident that you either participate in or see/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6"/>
          <p:cNvSpPr/>
          <p:nvPr/>
        </p:nvSpPr>
        <p:spPr>
          <a:xfrm>
            <a:off x="357120" y="26431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7"/>
          <p:cNvSpPr/>
          <p:nvPr/>
        </p:nvSpPr>
        <p:spPr>
          <a:xfrm>
            <a:off x="357120" y="471492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earning experien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1357200" y="1571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8086"/>
                </a:solidFill>
                <a:latin typeface="Calibri"/>
              </a:rPr>
              <a:t>Kolb’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9"/>
          <p:cNvGrpSpPr/>
          <p:nvPr/>
        </p:nvGrpSpPr>
        <p:grpSpPr>
          <a:xfrm>
            <a:off x="1285920" y="2286000"/>
            <a:ext cx="6705360" cy="4102200"/>
            <a:chOff x="1285920" y="2286000"/>
            <a:chExt cx="6705360" cy="4102200"/>
          </a:xfrm>
        </p:grpSpPr>
        <p:grpSp>
          <p:nvGrpSpPr>
            <p:cNvPr id="351" name="Group 18"/>
            <p:cNvGrpSpPr/>
            <p:nvPr/>
          </p:nvGrpSpPr>
          <p:grpSpPr>
            <a:xfrm>
              <a:off x="2124000" y="2590920"/>
              <a:ext cx="4876920" cy="3429000"/>
              <a:chOff x="2124000" y="2590920"/>
              <a:chExt cx="4876920" cy="3429000"/>
            </a:xfrm>
          </p:grpSpPr>
          <p:sp>
            <p:nvSpPr>
              <p:cNvPr id="352" name="Oval 5"/>
              <p:cNvSpPr/>
              <p:nvPr/>
            </p:nvSpPr>
            <p:spPr>
              <a:xfrm>
                <a:off x="2124000" y="2590920"/>
                <a:ext cx="4876920" cy="3429000"/>
              </a:xfrm>
              <a:prstGeom prst="ellipse">
                <a:avLst/>
              </a:prstGeom>
              <a:solidFill>
                <a:srgbClr val="53548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13"/>
              <p:cNvSpPr/>
              <p:nvPr/>
            </p:nvSpPr>
            <p:spPr>
              <a:xfrm>
                <a:off x="6238800" y="3048120"/>
                <a:ext cx="15228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14"/>
              <p:cNvSpPr/>
              <p:nvPr/>
            </p:nvSpPr>
            <p:spPr>
              <a:xfrm flipH="1">
                <a:off x="6543360" y="5029200"/>
                <a:ext cx="228600" cy="304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15"/>
              <p:cNvSpPr/>
              <p:nvPr/>
            </p:nvSpPr>
            <p:spPr>
              <a:xfrm flipH="1" flipV="1">
                <a:off x="2428560" y="51051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16"/>
              <p:cNvSpPr/>
              <p:nvPr/>
            </p:nvSpPr>
            <p:spPr>
              <a:xfrm flipV="1">
                <a:off x="2428920" y="3276360"/>
                <a:ext cx="152280" cy="228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6"/>
            <p:cNvSpPr/>
            <p:nvPr/>
          </p:nvSpPr>
          <p:spPr>
            <a:xfrm>
              <a:off x="3267000" y="2362320"/>
              <a:ext cx="2514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"/>
            <p:cNvSpPr/>
            <p:nvPr/>
          </p:nvSpPr>
          <p:spPr>
            <a:xfrm>
              <a:off x="3571920" y="228600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8"/>
            <p:cNvSpPr/>
            <p:nvPr/>
          </p:nvSpPr>
          <p:spPr>
            <a:xfrm>
              <a:off x="6010200" y="38098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9"/>
            <p:cNvSpPr/>
            <p:nvPr/>
          </p:nvSpPr>
          <p:spPr>
            <a:xfrm>
              <a:off x="3429000" y="5562720"/>
              <a:ext cx="242892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1285920" y="4038480"/>
              <a:ext cx="1981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Text Box 20"/>
          <p:cNvSpPr/>
          <p:nvPr/>
        </p:nvSpPr>
        <p:spPr>
          <a:xfrm>
            <a:off x="685800" y="3808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lection - cycl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1"/>
          <p:cNvSpPr/>
          <p:nvPr/>
        </p:nvSpPr>
        <p:spPr>
          <a:xfrm>
            <a:off x="2214720" y="857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y 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4"/>
          <p:cNvSpPr/>
          <p:nvPr/>
        </p:nvSpPr>
        <p:spPr>
          <a:xfrm>
            <a:off x="609480" y="762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ve cycle: a simplified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1523880" y="1752480"/>
            <a:ext cx="67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What is the learning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523880" y="2514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What did I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1523880" y="3276720"/>
            <a:ext cx="66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hat more do I have to lea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523880" y="41148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How can I learn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9"/>
          <p:cNvSpPr/>
          <p:nvPr/>
        </p:nvSpPr>
        <p:spPr>
          <a:xfrm>
            <a:off x="1523880" y="4876920"/>
            <a:ext cx="690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Evidence for further learning / change of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4"/>
          <p:cNvGrpSpPr/>
          <p:nvPr/>
        </p:nvGrpSpPr>
        <p:grpSpPr>
          <a:xfrm>
            <a:off x="1447920" y="1828800"/>
            <a:ext cx="6705360" cy="3919320"/>
            <a:chOff x="1447920" y="1828800"/>
            <a:chExt cx="6705360" cy="3919320"/>
          </a:xfrm>
        </p:grpSpPr>
        <p:sp>
          <p:nvSpPr>
            <p:cNvPr id="371" name="Oval 5"/>
            <p:cNvSpPr/>
            <p:nvPr/>
          </p:nvSpPr>
          <p:spPr>
            <a:xfrm>
              <a:off x="2286000" y="2133720"/>
              <a:ext cx="4876920" cy="3429000"/>
            </a:xfrm>
            <a:prstGeom prst="ellipse">
              <a:avLst/>
            </a:prstGeom>
            <a:solidFill>
              <a:srgbClr val="53548a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733920" y="182880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ncrete experi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6172200" y="3352680"/>
              <a:ext cx="198108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eflective observ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3809880" y="5105520"/>
              <a:ext cx="2210040" cy="642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bstract conceptualis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9"/>
            <p:cNvSpPr/>
            <p:nvPr/>
          </p:nvSpPr>
          <p:spPr>
            <a:xfrm>
              <a:off x="1447920" y="3581280"/>
              <a:ext cx="198108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uture plan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"/>
            <p:cNvSpPr/>
            <p:nvPr/>
          </p:nvSpPr>
          <p:spPr>
            <a:xfrm>
              <a:off x="6400800" y="2590920"/>
              <a:ext cx="152280" cy="152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1"/>
            <p:cNvSpPr/>
            <p:nvPr/>
          </p:nvSpPr>
          <p:spPr>
            <a:xfrm flipH="1">
              <a:off x="6705360" y="4572000"/>
              <a:ext cx="22860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2"/>
            <p:cNvSpPr/>
            <p:nvPr/>
          </p:nvSpPr>
          <p:spPr>
            <a:xfrm flipH="1" flipV="1">
              <a:off x="2590560" y="46479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3"/>
            <p:cNvSpPr/>
            <p:nvPr/>
          </p:nvSpPr>
          <p:spPr>
            <a:xfrm flipV="1">
              <a:off x="2590920" y="2819160"/>
              <a:ext cx="1522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Text Box 2"/>
          <p:cNvSpPr/>
          <p:nvPr/>
        </p:nvSpPr>
        <p:spPr>
          <a:xfrm>
            <a:off x="2514600" y="3049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429000" y="19051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3657600" y="25146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is the ev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60958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6"/>
          <p:cNvSpPr/>
          <p:nvPr/>
        </p:nvSpPr>
        <p:spPr>
          <a:xfrm>
            <a:off x="6172200" y="419112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did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8"/>
          <p:cNvSpPr/>
          <p:nvPr/>
        </p:nvSpPr>
        <p:spPr>
          <a:xfrm>
            <a:off x="1371600" y="4038480"/>
            <a:ext cx="2057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can I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9"/>
          <p:cNvSpPr/>
          <p:nvPr/>
        </p:nvSpPr>
        <p:spPr>
          <a:xfrm>
            <a:off x="3352680" y="1066680"/>
            <a:ext cx="26672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idence for learning / change of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6172200" y="49528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more do I have to lea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Why should you participate in other non-academic activ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357120" y="178596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provide a rich source of learning experiences for you to develop a lot of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"/>
          <p:cNvSpPr/>
          <p:nvPr/>
        </p:nvSpPr>
        <p:spPr>
          <a:xfrm>
            <a:off x="1000080" y="2786040"/>
            <a:ext cx="764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/interpersona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m work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al and management 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"/>
          <p:cNvSpPr/>
          <p:nvPr/>
        </p:nvSpPr>
        <p:spPr>
          <a:xfrm>
            <a:off x="357120" y="564372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t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listic edu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1"/>
          <p:cNvSpPr/>
          <p:nvPr/>
        </p:nvSpPr>
        <p:spPr>
          <a:xfrm>
            <a:off x="2500200" y="35712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357120" y="1143000"/>
            <a:ext cx="828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in university is fundamentally different from learning in secondary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428760" y="22860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and deep learning is the key to success in the university (and in later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4"/>
          <p:cNvSpPr/>
          <p:nvPr/>
        </p:nvSpPr>
        <p:spPr>
          <a:xfrm>
            <a:off x="428760" y="507204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y to learn from all experiences (both academic and non-academic) in th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"/>
          <p:cNvSpPr/>
          <p:nvPr/>
        </p:nvSpPr>
        <p:spPr>
          <a:xfrm>
            <a:off x="428760" y="3500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the learning style that suits you best to achieve deep learning and use it to the maxim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"/>
          <p:cNvSpPr/>
          <p:nvPr/>
        </p:nvSpPr>
        <p:spPr>
          <a:xfrm>
            <a:off x="1143000" y="1571760"/>
            <a:ext cx="657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Harlow Solid Italic"/>
              </a:rPr>
              <a:t>I wish you a very successful and enjoyable time in your cou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"/>
          <p:cNvSpPr/>
          <p:nvPr/>
        </p:nvSpPr>
        <p:spPr>
          <a:xfrm>
            <a:off x="1785960" y="385776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Harlow Solid Italic"/>
              </a:rPr>
              <a:t>All the bes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1"/>
          <p:cNvSpPr/>
          <p:nvPr/>
        </p:nvSpPr>
        <p:spPr>
          <a:xfrm>
            <a:off x="2071800" y="571680"/>
            <a:ext cx="521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Some Opening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642960" y="257184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ful people have made a decision to be success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642960" y="350028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714240" y="4429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nard MT Condensed"/>
              </a:rPr>
              <a:t>Success is a journey not a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714240" y="5286240"/>
            <a:ext cx="800100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62080" y="1974960"/>
            <a:ext cx="8369280" cy="14014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100" spc="-1" strike="noStrike">
              <a:solidFill>
                <a:srgbClr val="424456"/>
              </a:solidFill>
              <a:latin typeface="Georgia"/>
              <a:ea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2571840" y="642960"/>
            <a:ext cx="428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rnard MT Condensed"/>
              </a:rPr>
              <a:t>Learn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642960" y="178596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nard MT Condensed"/>
              </a:rPr>
              <a:t>The process of acquisition of new 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knowledge, skills, attitudes, values, behaviours,  preferences, &amp; understanding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685800" y="4343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You should be able to demonstrate such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533520" y="3429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It is </a:t>
            </a:r>
            <a:r>
              <a:rPr b="1" lang="en-US" sz="2800" spc="-1" strike="noStrike">
                <a:solidFill>
                  <a:srgbClr val="c00000"/>
                </a:solidFill>
                <a:latin typeface="Bernard MT Condensed"/>
              </a:rPr>
              <a:t>not</a:t>
            </a:r>
            <a:r>
              <a:rPr b="1" lang="en-US" sz="2800" spc="-1" strike="noStrike">
                <a:solidFill>
                  <a:srgbClr val="002060"/>
                </a:solidFill>
                <a:latin typeface="Bernard MT Condensed"/>
              </a:rPr>
              <a:t> onl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38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“ </a:t>
            </a: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Reading with a purpose i.e to obtain specific answers to specific questions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384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Georgia"/>
              </a:rPr>
              <a:t>                                                                     </a:t>
            </a:r>
            <a:r>
              <a:rPr b="0" i="1" lang="en-US" sz="3200" spc="-1" strike="noStrike">
                <a:solidFill>
                  <a:srgbClr val="424456"/>
                </a:solidFill>
                <a:latin typeface="Georgia"/>
              </a:rPr>
              <a:t>Ailan Mora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1071720" y="1357200"/>
            <a:ext cx="714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gradu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different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arning &amp; studying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econdary school stud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14200" y="42876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University vs. secondary school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85840" y="1214280"/>
          <a:ext cx="8501040" cy="5954760"/>
        </p:xfrm>
        <a:graphic>
          <a:graphicData uri="http://schemas.openxmlformats.org/drawingml/2006/table">
            <a:tbl>
              <a:tblPr/>
              <a:tblGrid>
                <a:gridCol w="1309680"/>
                <a:gridCol w="2833560"/>
                <a:gridCol w="4357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Secondary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Undergraduate 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from teachers &amp; boo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from teachers. Books, internet, peers are also very impor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ri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ore knowledge orien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knowledge. In a professional course there are skills and behaviou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o pass an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ot only to pass an exam, but mainly to train for a profession (especially in a professional  cour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ype of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ssive and superficial mostly (unfortunatel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ctive and deep learning. Learning needs to be with you for a life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inly  books &amp; teacher’s no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ectures, small group discussions, computer assisted learning, library, internet, clinical skills sessions, labora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exams, practicals (OSPE), vivas (oral exams), clinical exams (e.g. &amp; OS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</a:tbl>
          </a:graphicData>
        </a:graphic>
      </p:graphicFrame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0:05:42Z</dcterms:created>
  <dc:creator>NURULHUDA</dc:creator>
  <dc:description/>
  <dc:language>en-US</dc:language>
  <cp:lastModifiedBy>DR.ALHAIDER</cp:lastModifiedBy>
  <dcterms:modified xsi:type="dcterms:W3CDTF">2009-10-03T15:32:33Z</dcterms:modified>
  <cp:revision>101</cp:revision>
  <dc:subject/>
  <dc:title>PROFESSIONALISM        IN MEDICAL EDUCATION </dc:title>
</cp:coreProperties>
</file>