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83A-230A-4FC6-8633-1966B421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DB69-EFD0-4A90-8C9A-73FA2705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892A-8239-4F32-8443-BD67E23F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5D15-5E34-421D-8965-C1C24F40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DEB0-E30B-42B5-84C7-F48E1483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9B3E-485B-41B0-9416-09AA01B6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D851-D89E-4778-9C4F-91BC048B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3D4-3958-468F-ABCE-3943FB70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FBA-291C-440D-9F8A-92F03F0C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14D-8318-41B1-A49A-76743B33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21DD-9D6E-43BF-8796-234E8D37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7C4-6D18-44E9-8680-0D90D697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98381-F623-400C-89A9-A5AF33813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953735"/>
                </a:solidFill>
                <a:latin typeface="Calibri"/>
              </a:rPr>
              <a:t>PROF. HANAN HABIB &amp; PROF . A.M.KAMBAL</a:t>
            </a:r>
            <a:br>
              <a:rPr sz="2400"/>
            </a:br>
            <a:r>
              <a:rPr b="1" i="1" lang="en-US" sz="2400" spc="-1" strike="noStrike">
                <a:solidFill>
                  <a:srgbClr val="953735"/>
                </a:solidFill>
                <a:latin typeface="Calibri"/>
              </a:rPr>
              <a:t>DEPARTMENT OF PATHOLOGY</a:t>
            </a:r>
            <a:br>
              <a:rPr sz="2400"/>
            </a:br>
            <a:r>
              <a:rPr b="1" i="1" lang="en-US" sz="2400" spc="-1" strike="noStrike">
                <a:solidFill>
                  <a:srgbClr val="953735"/>
                </a:solidFill>
                <a:latin typeface="Calibri"/>
              </a:rPr>
              <a:t>COLLEGE OF MEDICINE, K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17375e"/>
                </a:solidFill>
                <a:latin typeface="Calibri"/>
              </a:rPr>
              <a:t>Normal Flor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DRHANNAN\Desktop\ksu-logo[1].png"/>
          <p:cNvPicPr/>
          <p:nvPr/>
        </p:nvPicPr>
        <p:blipFill>
          <a:blip r:embed="rId1"/>
          <a:stretch/>
        </p:blipFill>
        <p:spPr>
          <a:xfrm>
            <a:off x="6035760" y="838080"/>
            <a:ext cx="245880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istribution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Normal flora found on external body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Internal organs 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(</a:t>
            </a: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except alimentary tract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) </a:t>
            </a: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are sterile at health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7030a0"/>
                </a:solidFill>
                <a:uFillTx/>
                <a:latin typeface="Footlight MT Light"/>
              </a:rPr>
              <a:t>Sterility of internal organs maintained by </a:t>
            </a:r>
            <a:r>
              <a:rPr b="0" lang="en-US" sz="3200" spc="-1" strike="noStrike">
                <a:solidFill>
                  <a:srgbClr val="7030a0"/>
                </a:solidFill>
                <a:latin typeface="Footlight MT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Footlight MT Light"/>
              </a:rPr>
              <a:t>- </a:t>
            </a:r>
            <a:r>
              <a:rPr b="0" lang="en-US" sz="2400" spc="-1" strike="noStrike">
                <a:solidFill>
                  <a:srgbClr val="7030a0"/>
                </a:solidFill>
                <a:latin typeface="Footlight MT Light"/>
              </a:rPr>
              <a:t>Local defense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Footlight MT Light"/>
              </a:rPr>
              <a:t>- Chemical substances in serum &amp; tissues eg. Complement , antibod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Footlight MT Light"/>
              </a:rPr>
              <a:t>-Phagocytic activity of Polymorphnuclear Monocy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dy Sites With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All external body sites contain normal flora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GIT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:  mouth &amp; large col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Urogenital tract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: vagina &amp; distal 1/3 of the ureth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Skin 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( including external ear &amp; conjunctiv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629400" cy="6381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S17"/>
          <p:cNvPicPr/>
          <p:nvPr/>
        </p:nvPicPr>
        <p:blipFill>
          <a:blip r:embed="rId1"/>
          <a:stretch/>
        </p:blipFill>
        <p:spPr>
          <a:xfrm>
            <a:off x="685800" y="457200"/>
            <a:ext cx="7201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rmal Flora Of The Respiratory 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Upper respiratory tract colonized by normal flora as in mouth &amp; nasopharyn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Lower respiratory tract is ster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Nose Flora :    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- </a:t>
            </a: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Staph. epidermid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                          </a:t>
            </a: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- Staph. aur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                          </a:t>
            </a: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-Coryne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rmal Flora Of The Oropharynx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Footlight MT Light"/>
              </a:rPr>
              <a:t>Viridance streptococ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Footlight MT Light"/>
              </a:rPr>
              <a:t>Commensal neisseri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Footlight MT Light"/>
              </a:rPr>
              <a:t>Coryne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Footlight MT Light"/>
              </a:rPr>
              <a:t>Bactero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Footlight MT Light"/>
              </a:rPr>
              <a:t>Fusobacteria , Veillonella, Actinomyces, Spirochae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Footlight MT Light"/>
              </a:rPr>
              <a:t>Heamophilus inflenzea &amp; Pneumcoccus </a:t>
            </a:r>
            <a:r>
              <a:rPr b="1" lang="en-US" sz="2800" spc="-1" strike="noStrike">
                <a:solidFill>
                  <a:srgbClr val="c00000"/>
                </a:solidFill>
                <a:latin typeface="Footlight MT Light"/>
              </a:rPr>
              <a:t>are potential pathogens</a:t>
            </a:r>
            <a:r>
              <a:rPr b="1" lang="en-US" sz="2800" spc="-1" strike="noStrike">
                <a:solidFill>
                  <a:srgbClr val="002060"/>
                </a:solidFill>
                <a:latin typeface="Footlight MT Ligh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Footlight MT Light"/>
              </a:rPr>
              <a:t>Less common potential pathogens : </a:t>
            </a:r>
            <a:r>
              <a:rPr b="1" i="1" lang="en-US" sz="2800" spc="-1" strike="noStrike">
                <a:solidFill>
                  <a:srgbClr val="c00000"/>
                </a:solidFill>
                <a:latin typeface="Footlight MT Light"/>
              </a:rPr>
              <a:t>S.pyogenes , N.meningitid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rmal Flora Of The G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Saliva contains 10</a:t>
            </a:r>
            <a:r>
              <a:rPr b="0" lang="en-US" sz="3200" spc="-1" strike="noStrike" baseline="30000">
                <a:solidFill>
                  <a:srgbClr val="002060"/>
                </a:solidFill>
                <a:latin typeface="Footlight MT Light"/>
              </a:rPr>
              <a:t>8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 bacteria/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Gingival margin debris &amp; dental Plaque continually colonized by bacter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Oesophagus has normal flora similar to pharyngeal flo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Empty stomach sterile due to gastric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Footlight MT Light"/>
              </a:rPr>
              <a:t>Duodenum, jejunum&amp; upper ielium have scanty fl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Large intestine heavily colonized by bacteri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eces (Stoo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1/3 of feces weight is bacteria , mainly dea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Living bacteria about 10</a:t>
            </a:r>
            <a:r>
              <a:rPr b="0" lang="en-US" sz="3200" spc="-1" strike="noStrike" baseline="30000">
                <a:solidFill>
                  <a:srgbClr val="002060"/>
                </a:solidFill>
                <a:latin typeface="Footlight MT Light"/>
              </a:rPr>
              <a:t>10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/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99% anaerob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Anaerobic environment maintained by aerobic bacteria utilizing free O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Footlight MT Light"/>
              </a:rPr>
              <a:t>Bacteroides fragilis  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group is the dominant anaerobes, bifidobacteria , Lactobacilli…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Less common aerobics: </a:t>
            </a: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E.coli </a:t>
            </a: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,Proteus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,….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rmal Flora Of The Genital 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Female genital tract heavily colonized , why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10</a:t>
            </a:r>
            <a:r>
              <a:rPr b="0" lang="en-US" sz="3200" spc="-1" strike="noStrike" baseline="30000">
                <a:solidFill>
                  <a:srgbClr val="002060"/>
                </a:solidFill>
                <a:latin typeface="Footlight MT Light"/>
              </a:rPr>
              <a:t>8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/ml flora in normal vaginal secre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In both sexes </a:t>
            </a: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Mycobacterium smegmatis 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in secretions which contaminate urine and leads to confusion /misdiagno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Male &amp; Female distal urethra: - </a:t>
            </a: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S.epidermidis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                                                   </a:t>
            </a: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- Coryne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                                            </a:t>
            </a: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-Mycoplasm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a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rmal Flora Of The Female Genital Tr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Vulva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 : </a:t>
            </a:r>
            <a:r>
              <a:rPr b="0" i="1" lang="en-US" sz="3200" spc="-1" strike="noStrike">
                <a:solidFill>
                  <a:srgbClr val="002060"/>
                </a:solidFill>
                <a:latin typeface="Footlight MT Light"/>
              </a:rPr>
              <a:t>S</a:t>
            </a: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. epidermidis , Corynebacteria, E.coli 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and other coliforms  &amp; </a:t>
            </a: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E. faecalis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Vagina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-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Lactobacillus (Doderlein’s bacill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- </a:t>
            </a: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Bacteroides melaninogeni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-E.faecal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- Coryne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-</a:t>
            </a: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Mycoplas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- Yea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Define the terms: </a:t>
            </a:r>
            <a:r>
              <a:rPr b="0" i="1" lang="en-US" sz="2400" spc="-1" strike="noStrike">
                <a:solidFill>
                  <a:srgbClr val="002060"/>
                </a:solidFill>
                <a:latin typeface="Footlight MT Light"/>
              </a:rPr>
              <a:t>Normal Flora, Resident flora, Transient flora</a:t>
            </a: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 and carrier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Know the origin of normal flo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Know the importance of normal flora with examples, including importance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Source of opportunistic infe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Immunostimul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Nutrition: Vitamins prod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Production of Carcinoge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lpha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Protection against external inva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rmal Flora Of The Sk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Skin has rich resident bacterial flora(10</a:t>
            </a:r>
            <a:r>
              <a:rPr b="1" lang="en-US" sz="3200" spc="-1" strike="noStrike" baseline="30000">
                <a:solidFill>
                  <a:srgbClr val="002060"/>
                </a:solidFill>
                <a:latin typeface="Footlight MT Light"/>
              </a:rPr>
              <a:t>4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/cm</a:t>
            </a:r>
            <a:r>
              <a:rPr b="1" lang="en-US" sz="3200" spc="-1" strike="noStrike" baseline="30000">
                <a:solidFill>
                  <a:srgbClr val="002060"/>
                </a:solidFill>
                <a:latin typeface="Footlight MT Light"/>
              </a:rPr>
              <a:t>2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Exist as microcolon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Anaerobic organisms predominate in areas with sebaceous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Moist skin often colonized by colifor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in Skin Flor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Propionibacterium ac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Anaerobic coc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Staphylococcus epidermi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Coryne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Staphylococcus aureus  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potential pathogen</a:t>
            </a: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Colifo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Calibri"/>
              </a:rPr>
              <a:t>Normal Flora Of The External Auditory Me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Footlight MT Light"/>
              </a:rPr>
              <a:t>External ear has the following normal flor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Footlight MT Light"/>
              </a:rPr>
              <a:t>S. epidermi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Corynebac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Acid fast bacilli (AFB)( occasionally in wax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Footlight MT Light"/>
              </a:rPr>
              <a:t>Middle and inner ear are steril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rmal Flora Of The Conjunctival S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70c0"/>
                </a:solidFill>
                <a:uFillTx/>
                <a:latin typeface="Footlight MT Light"/>
              </a:rPr>
              <a:t>Conjunctiva has normal flora e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Footlight MT Light"/>
              </a:rPr>
              <a:t>Corynebacterium xe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70c0"/>
                </a:solidFill>
                <a:latin typeface="Footlight MT Light"/>
              </a:rPr>
              <a:t>Staphylococcus epidrmi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Footlight MT Light"/>
              </a:rPr>
              <a:t>Internal eye is sterile</a:t>
            </a:r>
            <a:r>
              <a:rPr b="0" lang="en-US" sz="4000" spc="-1" strike="noStrike">
                <a:solidFill>
                  <a:srgbClr val="c00000"/>
                </a:solidFill>
                <a:latin typeface="Footlight MT Light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ference Book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c00000"/>
                </a:solidFill>
                <a:latin typeface="Footlight MT Light"/>
              </a:rPr>
              <a:t>SHERRIS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 MEDICAL MICROBIOLOGY, AN INTRODUCTION TO INFECTIOUS DISEASES. KENNETH RYAN /GEORGE RAY. LATEST EDITION. PUBLISHER MC GRW HIL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CHAPTER 9, PAGE 141-14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ctives,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nt,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Know areas of the body with normal flora (GIT, urogenital tract, and skin) and most common types of organism and relation to pathogen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Footlight MT Light"/>
              <a:buAutoNum type="arabicPeriod" startAt="4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Footlight MT Light"/>
              </a:rPr>
              <a:t>Know sites of the body with no normal flora e.g. sterile body sites and the importance of this fact in relation to interpretation of culture resu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Footlight MT Light"/>
              </a:rPr>
              <a:t>Normal flora  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are microorganisms that are frequently found in a particular site in normal healthy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Some are found in association with humans and animals. The Majority are bacteria</a:t>
            </a: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Has symbolic relationship with the h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Subject to constant chang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Footlight MT Light"/>
              </a:rPr>
              <a:t>Altered by antimicrobial ag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Normal Flo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Commensals: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   have natural relationship with the h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Residents</a:t>
            </a:r>
            <a:r>
              <a:rPr b="0" i="1" lang="en-US" sz="3200" spc="-1" strike="noStrike">
                <a:solidFill>
                  <a:srgbClr val="0070c0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:  present for invariable period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Transients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 : establish itself briefly , excluded by host defense or competition from resid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Carrier state 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: </a:t>
            </a:r>
            <a:r>
              <a:rPr b="1" lang="en-US" sz="3200" spc="-1" strike="noStrike">
                <a:solidFill>
                  <a:srgbClr val="0070c0"/>
                </a:solidFill>
                <a:latin typeface="Footlight MT Light"/>
              </a:rPr>
              <a:t>potentially pathogenic 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, eg. </a:t>
            </a:r>
            <a:r>
              <a:rPr b="0" i="1" lang="en-US" sz="3200" spc="-1" strike="noStrike">
                <a:solidFill>
                  <a:srgbClr val="0070c0"/>
                </a:solidFill>
                <a:latin typeface="Footlight MT Light"/>
              </a:rPr>
              <a:t>Streptococcus pneumoniae,  Neisseria  meningetidis 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in throat of healthy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rigin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Footlight MT Light"/>
              </a:rPr>
              <a:t>Newborn is sterile in uter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Footlight MT Light"/>
              </a:rPr>
              <a:t>After birth , newborn is exposed to flora of mother’s genital tract, skin, respiratory tract flora of those handling him , and the organisms in the environ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neficial Effects of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3735"/>
                </a:solidFill>
                <a:latin typeface="Footlight MT Light"/>
              </a:rPr>
              <a:t>1- I</a:t>
            </a:r>
            <a:r>
              <a:rPr b="1" lang="en-US" sz="3200" spc="-1" strike="noStrike">
                <a:solidFill>
                  <a:srgbClr val="953735"/>
                </a:solidFill>
                <a:latin typeface="Footlight MT Light"/>
              </a:rPr>
              <a:t>mmuno-stimulation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 (antibody produ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3735"/>
                </a:solidFill>
                <a:latin typeface="Footlight MT Light"/>
              </a:rPr>
              <a:t>2-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 </a:t>
            </a:r>
            <a:r>
              <a:rPr b="1" lang="en-US" sz="3200" spc="-1" strike="noStrike">
                <a:solidFill>
                  <a:srgbClr val="953735"/>
                </a:solidFill>
                <a:latin typeface="Footlight MT Light"/>
              </a:rPr>
              <a:t>Exclusionary effect 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(vacuum effect ) and protection from external invaders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3735"/>
                </a:solidFill>
                <a:latin typeface="Footlight MT Light"/>
              </a:rPr>
              <a:t>3-</a:t>
            </a:r>
            <a:r>
              <a:rPr b="1" lang="en-US" sz="3200" spc="-1" strike="noStrike">
                <a:solidFill>
                  <a:srgbClr val="953735"/>
                </a:solidFill>
                <a:latin typeface="Footlight MT Light"/>
              </a:rPr>
              <a:t>Production of essential nutrients 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(Vit. K &amp; B) by some normal intestinal flora eg. </a:t>
            </a:r>
            <a:r>
              <a:rPr b="0" i="1" lang="en-US" sz="3200" spc="-1" strike="noStrike">
                <a:solidFill>
                  <a:srgbClr val="0070c0"/>
                </a:solidFill>
                <a:latin typeface="Footlight MT Light"/>
              </a:rPr>
              <a:t>E.coli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cts About Normal Flo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May be a </a:t>
            </a:r>
            <a:r>
              <a:rPr b="1" lang="en-US" sz="3200" spc="-1" strike="noStrike">
                <a:solidFill>
                  <a:srgbClr val="0070c0"/>
                </a:solidFill>
                <a:latin typeface="Footlight MT Light"/>
              </a:rPr>
              <a:t>source of opportunistic infections 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in patients with impaired defense mechanisms. Eg. </a:t>
            </a:r>
            <a:r>
              <a:rPr b="0" i="1" lang="en-US" sz="3200" spc="-1" strike="noStrike">
                <a:solidFill>
                  <a:srgbClr val="0070c0"/>
                </a:solidFill>
                <a:latin typeface="Footlight MT Light"/>
              </a:rPr>
              <a:t>Staphylococcus epidermidis &amp; E.coli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ootlight MT Light"/>
              </a:rPr>
              <a:t>Some may </a:t>
            </a:r>
            <a:r>
              <a:rPr b="1" lang="en-US" sz="3200" spc="-1" strike="noStrike">
                <a:solidFill>
                  <a:srgbClr val="7030a0"/>
                </a:solidFill>
                <a:latin typeface="Footlight MT Light"/>
              </a:rPr>
              <a:t>cross react with normal tissue </a:t>
            </a:r>
            <a:r>
              <a:rPr b="0" lang="en-US" sz="3200" spc="-1" strike="noStrike">
                <a:solidFill>
                  <a:srgbClr val="7030a0"/>
                </a:solidFill>
                <a:latin typeface="Footlight MT Light"/>
              </a:rPr>
              <a:t>components ,eg. antibodies to various ABO group arise because of cross reaction between intestinal flora and the antigens of A &amp; B blood substa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acts About Normal Flora-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Footlight MT Light"/>
              </a:rPr>
              <a:t>Production of carcinoge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Footlight MT Light"/>
              </a:rPr>
              <a:t>  </a:t>
            </a:r>
            <a:r>
              <a:rPr b="1" lang="en-US" sz="3200" spc="-1" strike="noStrike">
                <a:solidFill>
                  <a:srgbClr val="0070c0"/>
                </a:solidFill>
                <a:latin typeface="Footlight MT Light"/>
              </a:rPr>
              <a:t>Some normal flora may modify through their enzymes chemicals in our diets into carcinogens. eg. artificial sweeteners may be enzymatically modified into bladder carcinogens</a:t>
            </a:r>
            <a:r>
              <a:rPr b="0" lang="en-US" sz="3200" spc="-1" strike="noStrike">
                <a:solidFill>
                  <a:srgbClr val="0070c0"/>
                </a:solidFill>
                <a:latin typeface="Footlight MT Ligh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7:07:28Z</dcterms:created>
  <dc:creator/>
  <dc:description/>
  <dc:language>en-US</dc:language>
  <cp:lastModifiedBy>DRHANNAN</cp:lastModifiedBy>
  <dcterms:modified xsi:type="dcterms:W3CDTF">2015-09-09T05:35:06Z</dcterms:modified>
  <cp:revision>41</cp:revision>
  <dc:subject/>
  <dc:title>Slide 1</dc:title>
</cp:coreProperties>
</file>