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9DCC-D8E3-40A6-86C5-02C5BB01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E2F2-6012-459E-8484-C2AECE90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77B6-72C6-400E-952D-877DAA981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1D9A-8C3B-4441-BE65-4D4432FA4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92C6-9364-4423-ADB4-8EDADE2F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F94B-97FC-48B7-AF63-9ECD6C52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FF71-3947-4B1D-9D1A-EE1F0CBE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A1B1-75C0-4CE5-B831-6A4D5565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C013-1A48-48BF-8EC2-CE7B3B46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D188-A427-4A52-A595-76B61197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3963-9C51-4252-9E55-78977A38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7FF4-CDDD-42D7-8D11-92C0A5D6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F321D7-FC82-4F4D-8C7F-FD3D93E623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953735"/>
                </a:solidFill>
                <a:latin typeface="Calibri"/>
              </a:rPr>
              <a:t>PROF. HANAN HABIB &amp; PROF . A.M.KAMBAL</a:t>
            </a:r>
            <a:br>
              <a:rPr sz="2400"/>
            </a:br>
            <a:r>
              <a:rPr b="1" i="1" lang="en-US" sz="2400" spc="-1" strike="noStrike">
                <a:solidFill>
                  <a:srgbClr val="953735"/>
                </a:solidFill>
                <a:latin typeface="Calibri"/>
              </a:rPr>
              <a:t>DEPARTMENT OF PATHOLOGY</a:t>
            </a:r>
            <a:br>
              <a:rPr sz="2400"/>
            </a:br>
            <a:r>
              <a:rPr b="1" i="1" lang="en-US" sz="2400" spc="-1" strike="noStrike">
                <a:solidFill>
                  <a:srgbClr val="953735"/>
                </a:solidFill>
                <a:latin typeface="Calibri"/>
              </a:rPr>
              <a:t>COLLEGE OF MEDICINE, KS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17375e"/>
                </a:solidFill>
                <a:latin typeface="Calibri"/>
              </a:rPr>
              <a:t>Normal Flor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Documents and Settings\DRHANNAN\Desktop\ksu-logo[1].png"/>
          <p:cNvPicPr/>
          <p:nvPr/>
        </p:nvPicPr>
        <p:blipFill>
          <a:blip r:embed="rId1"/>
          <a:stretch/>
        </p:blipFill>
        <p:spPr>
          <a:xfrm>
            <a:off x="6035760" y="838080"/>
            <a:ext cx="245880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istribution of Normal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Normal flora found on external body s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Footlight MT Light"/>
              </a:rPr>
              <a:t>Internal organs </a:t>
            </a: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(</a:t>
            </a:r>
            <a:r>
              <a:rPr b="1" i="1" lang="en-US" sz="3200" spc="-1" strike="noStrike">
                <a:solidFill>
                  <a:srgbClr val="002060"/>
                </a:solidFill>
                <a:latin typeface="Footlight MT Light"/>
              </a:rPr>
              <a:t>except alimentary tract</a:t>
            </a: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) </a:t>
            </a:r>
            <a:r>
              <a:rPr b="1" lang="en-US" sz="3200" spc="-1" strike="noStrike">
                <a:solidFill>
                  <a:srgbClr val="c00000"/>
                </a:solidFill>
                <a:latin typeface="Footlight MT Light"/>
              </a:rPr>
              <a:t>are sterile at health</a:t>
            </a: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Footlight MT Light"/>
              </a:rPr>
              <a:t>Sterility of internal organs maintained by </a:t>
            </a:r>
            <a:r>
              <a:rPr b="0" lang="en-US" sz="3200" spc="-1" strike="noStrike">
                <a:solidFill>
                  <a:srgbClr val="7030a0"/>
                </a:solidFill>
                <a:latin typeface="Footlight MT Ligh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ootlight MT Light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Footlight MT Light"/>
              </a:rPr>
              <a:t>- </a:t>
            </a:r>
            <a:r>
              <a:rPr b="0" lang="en-US" sz="2400" spc="-1" strike="noStrike">
                <a:solidFill>
                  <a:srgbClr val="7030a0"/>
                </a:solidFill>
                <a:latin typeface="Footlight MT Light"/>
              </a:rPr>
              <a:t>Local defense mechanis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Footlight MT Light"/>
              </a:rPr>
              <a:t>- Chemical substances in serum &amp; tissues eg. Complement , antibod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Footlight MT Light"/>
              </a:rPr>
              <a:t>-Phagocytic activity of Polymorphnuclear Monocy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ody Sites With Normal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All external body sites contain normal flora</a:t>
            </a: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Footlight MT Light"/>
              </a:rPr>
              <a:t>GIT</a:t>
            </a: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:  mouth &amp; large col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Footlight MT Light"/>
              </a:rPr>
              <a:t>Urogenital tract</a:t>
            </a: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: vagina &amp; distal 1/3 of the ureth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Footlight MT Light"/>
              </a:rPr>
              <a:t>Skin </a:t>
            </a: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( including external ear &amp; conjunctiv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629400" cy="638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S17"/>
          <p:cNvPicPr/>
          <p:nvPr/>
        </p:nvPicPr>
        <p:blipFill>
          <a:blip r:embed="rId1"/>
          <a:stretch/>
        </p:blipFill>
        <p:spPr>
          <a:xfrm>
            <a:off x="685800" y="457200"/>
            <a:ext cx="720108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ormal Flora Of The Respiratory Tr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Upper respiratory tract colonized by normal flora as in mouth &amp; nasopharyn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Footlight MT Light"/>
              </a:rPr>
              <a:t>Lower respiratory tract is ster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Nose Flora :    </a:t>
            </a: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- </a:t>
            </a:r>
            <a:r>
              <a:rPr b="0" i="1" lang="en-US" sz="3200" spc="-1" strike="noStrike">
                <a:solidFill>
                  <a:srgbClr val="002060"/>
                </a:solidFill>
                <a:latin typeface="Footlight MT Light"/>
              </a:rPr>
              <a:t>Staph. epidermid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2060"/>
                </a:solidFill>
                <a:latin typeface="Footlight MT Light"/>
              </a:rPr>
              <a:t>                          </a:t>
            </a:r>
            <a:r>
              <a:rPr b="0" i="1" lang="en-US" sz="3200" spc="-1" strike="noStrike">
                <a:solidFill>
                  <a:srgbClr val="002060"/>
                </a:solidFill>
                <a:latin typeface="Footlight MT Light"/>
              </a:rPr>
              <a:t>- Staph. aure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2060"/>
                </a:solidFill>
                <a:latin typeface="Footlight MT Light"/>
              </a:rPr>
              <a:t>                          </a:t>
            </a:r>
            <a:r>
              <a:rPr b="0" i="1" lang="en-US" sz="3200" spc="-1" strike="noStrike">
                <a:solidFill>
                  <a:srgbClr val="002060"/>
                </a:solidFill>
                <a:latin typeface="Footlight MT Light"/>
              </a:rPr>
              <a:t>-Coryne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ormal Flora Of The Oropharynx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Footlight MT Light"/>
              </a:rPr>
              <a:t>Viridance streptococ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Footlight MT Light"/>
              </a:rPr>
              <a:t>Commensal neisseria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Footlight MT Light"/>
              </a:rPr>
              <a:t>Corynebacte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Footlight MT Light"/>
              </a:rPr>
              <a:t>Bacteroi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Footlight MT Light"/>
              </a:rPr>
              <a:t>Fusobacteria , Veillonella, Actinomyces, Spirochae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Footlight MT Light"/>
              </a:rPr>
              <a:t>Heamophilus inflenzea &amp; Pneumcoccus </a:t>
            </a:r>
            <a:r>
              <a:rPr b="1" lang="en-US" sz="2800" spc="-1" strike="noStrike">
                <a:solidFill>
                  <a:srgbClr val="c00000"/>
                </a:solidFill>
                <a:latin typeface="Footlight MT Light"/>
              </a:rPr>
              <a:t>are potential pathogens</a:t>
            </a:r>
            <a:r>
              <a:rPr b="1" lang="en-US" sz="2800" spc="-1" strike="noStrike">
                <a:solidFill>
                  <a:srgbClr val="002060"/>
                </a:solidFill>
                <a:latin typeface="Footlight MT Ligh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Footlight MT Light"/>
              </a:rPr>
              <a:t>Less common potential pathogens : </a:t>
            </a:r>
            <a:r>
              <a:rPr b="1" i="1" lang="en-US" sz="2800" spc="-1" strike="noStrike">
                <a:solidFill>
                  <a:srgbClr val="c00000"/>
                </a:solidFill>
                <a:latin typeface="Footlight MT Light"/>
              </a:rPr>
              <a:t>S.pyogenes , N.meningitid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ormal Flora Of The G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Saliva contains 10</a:t>
            </a:r>
            <a:r>
              <a:rPr b="0" lang="en-US" sz="3200" spc="-1" strike="noStrike" baseline="30000">
                <a:solidFill>
                  <a:srgbClr val="002060"/>
                </a:solidFill>
                <a:latin typeface="Footlight MT Light"/>
              </a:rPr>
              <a:t>8</a:t>
            </a: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 bacteria/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Gingival margin debris &amp; dental Plaque continually colonized by bacter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Oesophagus has normal flora similar to pharyngeal flo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Footlight MT Light"/>
              </a:rPr>
              <a:t>Empty stomach sterile due to gastric ac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Footlight MT Light"/>
              </a:rPr>
              <a:t>Duodenum, jejunum&amp; upper ielium have scanty fl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Large intestine heavily colonized by bacteri</a:t>
            </a: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eces (Stool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1/3 of feces weight is bacteria , mainly dea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Living bacteria about 10</a:t>
            </a:r>
            <a:r>
              <a:rPr b="0" lang="en-US" sz="3200" spc="-1" strike="noStrike" baseline="30000">
                <a:solidFill>
                  <a:srgbClr val="002060"/>
                </a:solidFill>
                <a:latin typeface="Footlight MT Light"/>
              </a:rPr>
              <a:t>10</a:t>
            </a: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/g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99% anaerob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Anaerobic environment maintained by aerobic bacteria utilizing free O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Footlight MT Light"/>
              </a:rPr>
              <a:t>Bacteroides fragilis  </a:t>
            </a: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group is the dominant anaerobes, bifidobacteria , Lactobacilli…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Less common aerobics: </a:t>
            </a:r>
            <a:r>
              <a:rPr b="1" i="1" lang="en-US" sz="3200" spc="-1" strike="noStrike">
                <a:solidFill>
                  <a:srgbClr val="002060"/>
                </a:solidFill>
                <a:latin typeface="Footlight MT Light"/>
              </a:rPr>
              <a:t>E.coli </a:t>
            </a:r>
            <a:r>
              <a:rPr b="0" i="1" lang="en-US" sz="3200" spc="-1" strike="noStrike">
                <a:solidFill>
                  <a:srgbClr val="002060"/>
                </a:solidFill>
                <a:latin typeface="Footlight MT Light"/>
              </a:rPr>
              <a:t>,Proteus</a:t>
            </a: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,….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ormal Flora Of The Genital Tr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Female genital tract heavily colonized , why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10</a:t>
            </a:r>
            <a:r>
              <a:rPr b="0" lang="en-US" sz="3200" spc="-1" strike="noStrike" baseline="30000">
                <a:solidFill>
                  <a:srgbClr val="002060"/>
                </a:solidFill>
                <a:latin typeface="Footlight MT Light"/>
              </a:rPr>
              <a:t>8</a:t>
            </a: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/ml flora in normal vaginal secre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In both sexes </a:t>
            </a:r>
            <a:r>
              <a:rPr b="1" i="1" lang="en-US" sz="3200" spc="-1" strike="noStrike">
                <a:solidFill>
                  <a:srgbClr val="002060"/>
                </a:solidFill>
                <a:latin typeface="Footlight MT Light"/>
              </a:rPr>
              <a:t>Mycobacterium smegmatis </a:t>
            </a: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in secretions which contaminate urine and leads to confusion /misdiagno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Male &amp; Female distal urethra: - </a:t>
            </a:r>
            <a:r>
              <a:rPr b="0" i="1" lang="en-US" sz="3200" spc="-1" strike="noStrike">
                <a:solidFill>
                  <a:srgbClr val="002060"/>
                </a:solidFill>
                <a:latin typeface="Footlight MT Light"/>
              </a:rPr>
              <a:t>S.epidermidis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2060"/>
                </a:solidFill>
                <a:latin typeface="Footlight MT Light"/>
              </a:rPr>
              <a:t>                                                   </a:t>
            </a:r>
            <a:r>
              <a:rPr b="0" i="1" lang="en-US" sz="3200" spc="-1" strike="noStrike">
                <a:solidFill>
                  <a:srgbClr val="002060"/>
                </a:solidFill>
                <a:latin typeface="Footlight MT Light"/>
              </a:rPr>
              <a:t>- Coryne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2060"/>
                </a:solidFill>
                <a:latin typeface="Footlight MT Light"/>
              </a:rPr>
              <a:t>                                            </a:t>
            </a:r>
            <a:r>
              <a:rPr b="0" i="1" lang="en-US" sz="3200" spc="-1" strike="noStrike">
                <a:solidFill>
                  <a:srgbClr val="002060"/>
                </a:solidFill>
                <a:latin typeface="Footlight MT Light"/>
              </a:rPr>
              <a:t>-Mycoplasm</a:t>
            </a: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a spe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ormal Flora Of The Female Genital Tr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Footlight MT Light"/>
              </a:rPr>
              <a:t>Vulva</a:t>
            </a: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 : </a:t>
            </a:r>
            <a:r>
              <a:rPr b="0" i="1" lang="en-US" sz="3200" spc="-1" strike="noStrike">
                <a:solidFill>
                  <a:srgbClr val="002060"/>
                </a:solidFill>
                <a:latin typeface="Footlight MT Light"/>
              </a:rPr>
              <a:t>S</a:t>
            </a:r>
            <a:r>
              <a:rPr b="1" i="1" lang="en-US" sz="3200" spc="-1" strike="noStrike">
                <a:solidFill>
                  <a:srgbClr val="002060"/>
                </a:solidFill>
                <a:latin typeface="Footlight MT Light"/>
              </a:rPr>
              <a:t>. epidermidis , Corynebacteria, E.coli </a:t>
            </a: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and other coliforms  &amp; </a:t>
            </a:r>
            <a:r>
              <a:rPr b="1" i="1" lang="en-US" sz="3200" spc="-1" strike="noStrike">
                <a:solidFill>
                  <a:srgbClr val="002060"/>
                </a:solidFill>
                <a:latin typeface="Footlight MT Light"/>
              </a:rPr>
              <a:t>E. faecalis</a:t>
            </a: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Footlight MT Light"/>
              </a:rPr>
              <a:t>Vagina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-</a:t>
            </a: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Lactobacillus (Doderlein’s bacill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- </a:t>
            </a:r>
            <a:r>
              <a:rPr b="1" i="1" lang="en-US" sz="3200" spc="-1" strike="noStrike">
                <a:solidFill>
                  <a:srgbClr val="002060"/>
                </a:solidFill>
                <a:latin typeface="Footlight MT Light"/>
              </a:rPr>
              <a:t>Bacteroides melaninogeni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Footlight MT Light"/>
              </a:rPr>
              <a:t>-E.faecal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- Coryne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-</a:t>
            </a:r>
            <a:r>
              <a:rPr b="1" i="1" lang="en-US" sz="3200" spc="-1" strike="noStrike">
                <a:solidFill>
                  <a:srgbClr val="002060"/>
                </a:solidFill>
                <a:latin typeface="Footlight MT Light"/>
              </a:rPr>
              <a:t>Mycoplas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- Yea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Footlight MT Light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Footlight MT Light"/>
              </a:rPr>
              <a:t>Define the terms: </a:t>
            </a:r>
            <a:r>
              <a:rPr b="0" i="1" lang="en-US" sz="2400" spc="-1" strike="noStrike">
                <a:solidFill>
                  <a:srgbClr val="002060"/>
                </a:solidFill>
                <a:latin typeface="Footlight MT Light"/>
              </a:rPr>
              <a:t>Normal Flora, Resident flora, Transient flora</a:t>
            </a:r>
            <a:r>
              <a:rPr b="0" lang="en-US" sz="2400" spc="-1" strike="noStrike">
                <a:solidFill>
                  <a:srgbClr val="002060"/>
                </a:solidFill>
                <a:latin typeface="Footlight MT Light"/>
              </a:rPr>
              <a:t> and carrier st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Footlight MT Light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Footlight MT Light"/>
              </a:rPr>
              <a:t>Know the origin of normal flo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Footlight MT Light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Footlight MT Light"/>
              </a:rPr>
              <a:t>Know the importance of normal flora with examples, including importance 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Footlight MT Light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Footlight MT Light"/>
              </a:rPr>
              <a:t>Source of opportunistic infe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Footlight MT Light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Footlight MT Light"/>
              </a:rPr>
              <a:t>Immunostimul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Footlight MT Light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Footlight MT Light"/>
              </a:rPr>
              <a:t>Nutrition: Vitamins produ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Footlight MT Light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Footlight MT Light"/>
              </a:rPr>
              <a:t>Production of Carcinoge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Footlight MT Light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Footlight MT Light"/>
              </a:rPr>
              <a:t>Protection against external invad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ormal Flora Of The Sk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Skin has rich resident bacterial flora(10</a:t>
            </a:r>
            <a:r>
              <a:rPr b="1" lang="en-US" sz="3200" spc="-1" strike="noStrike" baseline="30000">
                <a:solidFill>
                  <a:srgbClr val="002060"/>
                </a:solidFill>
                <a:latin typeface="Footlight MT Light"/>
              </a:rPr>
              <a:t>4</a:t>
            </a: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/cm</a:t>
            </a:r>
            <a:r>
              <a:rPr b="1" lang="en-US" sz="3200" spc="-1" strike="noStrike" baseline="30000">
                <a:solidFill>
                  <a:srgbClr val="002060"/>
                </a:solidFill>
                <a:latin typeface="Footlight MT Light"/>
              </a:rPr>
              <a:t>2</a:t>
            </a: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Exist as microcolon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Anaerobic organisms predominate in areas with sebaceous gla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Moist skin often colonized by colifor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in Skin Flora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Footlight MT Light"/>
              </a:rPr>
              <a:t>Propionibacterium ac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Anaerobic coc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Footlight MT Light"/>
              </a:rPr>
              <a:t>Staphylococcus epidermid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Coryne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Footlight MT Light"/>
              </a:rPr>
              <a:t>Staphylococcus aureus  </a:t>
            </a: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(</a:t>
            </a:r>
            <a:r>
              <a:rPr b="1" lang="en-US" sz="3200" spc="-1" strike="noStrike">
                <a:solidFill>
                  <a:srgbClr val="c00000"/>
                </a:solidFill>
                <a:latin typeface="Footlight MT Light"/>
              </a:rPr>
              <a:t>potential pathogen</a:t>
            </a: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Coli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Normal Flora Of The External Auditory Me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2060"/>
                </a:solidFill>
                <a:uFillTx/>
                <a:latin typeface="Footlight MT Light"/>
              </a:rPr>
              <a:t>External ear has the following normal flor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Footlight MT Light"/>
              </a:rPr>
              <a:t>S. epidermid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Coryne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Acid fast bacilli (AFB)( occasionally in wax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Footlight MT Light"/>
              </a:rPr>
              <a:t>Middle and inner ear are steri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ormal Flora Of The Conjunctival S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70c0"/>
                </a:solidFill>
                <a:uFillTx/>
                <a:latin typeface="Footlight MT Light"/>
              </a:rPr>
              <a:t>Conjunctiva has normal flora e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Footlight MT Light"/>
              </a:rPr>
              <a:t>Corynebacterium xer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Footlight MT Light"/>
              </a:rPr>
              <a:t>Staphylococcus epidrmid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Footlight MT Light"/>
              </a:rPr>
              <a:t>Internal eye is sterile</a:t>
            </a:r>
            <a:r>
              <a:rPr b="0" lang="en-US" sz="4000" spc="-1" strike="noStrike">
                <a:solidFill>
                  <a:srgbClr val="c00000"/>
                </a:solidFill>
                <a:latin typeface="Footlight MT Light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ference Book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c00000"/>
                </a:solidFill>
                <a:latin typeface="Footlight MT Light"/>
              </a:rPr>
              <a:t>SHERRIS</a:t>
            </a: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 MEDICAL MICROBIOLOGY, AN INTRODUCTION TO INFECTIOUS DISEASES. KENNETH RYAN /GEORGE RAY. LATEST EDITION. PUBLISHER MC GRW HI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CHAPTER 9, PAGE 141-1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ctives,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ont,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Footlight MT Light"/>
              <a:buAutoNum type="arabicPeriod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Footlight MT Light"/>
              </a:rPr>
              <a:t>Know areas of the body with normal flora (GIT, urogenital tract, and skin) and most common types of organism and relation to pathogenic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Footlight MT Light"/>
              <a:buAutoNum type="arabicPeriod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Footlight MT Light"/>
              </a:rPr>
              <a:t>Know sites of the body with no normal flora e.g. sterile body sites and the importance of this fact in relation to interpretation of culture resul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Normal flora  </a:t>
            </a: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are microorganisms that are frequently found in a particular site in normal healthy individu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ootlight MT Light"/>
              </a:rPr>
              <a:t>Some are found in association with humans and animals. The Majority are bacteria</a:t>
            </a: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Has symbolic relationship with the ho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Subject to constant chang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Altered by antimicrobial ag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ypes of Normal Flor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Footlight MT Light"/>
              </a:rPr>
              <a:t>Commensals:</a:t>
            </a:r>
            <a:r>
              <a:rPr b="0" lang="en-US" sz="3200" spc="-1" strike="noStrike">
                <a:solidFill>
                  <a:srgbClr val="0070c0"/>
                </a:solidFill>
                <a:latin typeface="Footlight MT Light"/>
              </a:rPr>
              <a:t>   have natural relationship with the ho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Footlight MT Light"/>
              </a:rPr>
              <a:t>Residents</a:t>
            </a:r>
            <a:r>
              <a:rPr b="0" i="1" lang="en-US" sz="3200" spc="-1" strike="noStrike">
                <a:solidFill>
                  <a:srgbClr val="0070c0"/>
                </a:solidFill>
                <a:latin typeface="Footlight MT Light"/>
              </a:rPr>
              <a:t> </a:t>
            </a:r>
            <a:r>
              <a:rPr b="0" lang="en-US" sz="3200" spc="-1" strike="noStrike">
                <a:solidFill>
                  <a:srgbClr val="0070c0"/>
                </a:solidFill>
                <a:latin typeface="Footlight MT Light"/>
              </a:rPr>
              <a:t>:  present for invariable period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Footlight MT Light"/>
              </a:rPr>
              <a:t>Transients</a:t>
            </a:r>
            <a:r>
              <a:rPr b="0" lang="en-US" sz="3200" spc="-1" strike="noStrike">
                <a:solidFill>
                  <a:srgbClr val="0070c0"/>
                </a:solidFill>
                <a:latin typeface="Footlight MT Light"/>
              </a:rPr>
              <a:t> : establish itself briefly , excluded by host defense or competition from resid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Footlight MT Light"/>
              </a:rPr>
              <a:t>Carrier state </a:t>
            </a:r>
            <a:r>
              <a:rPr b="0" lang="en-US" sz="3200" spc="-1" strike="noStrike">
                <a:solidFill>
                  <a:srgbClr val="0070c0"/>
                </a:solidFill>
                <a:latin typeface="Footlight MT Light"/>
              </a:rPr>
              <a:t>: </a:t>
            </a:r>
            <a:r>
              <a:rPr b="1" lang="en-US" sz="3200" spc="-1" strike="noStrike">
                <a:solidFill>
                  <a:srgbClr val="0070c0"/>
                </a:solidFill>
                <a:latin typeface="Footlight MT Light"/>
              </a:rPr>
              <a:t>potentially pathogenic </a:t>
            </a:r>
            <a:r>
              <a:rPr b="0" lang="en-US" sz="3200" spc="-1" strike="noStrike">
                <a:solidFill>
                  <a:srgbClr val="0070c0"/>
                </a:solidFill>
                <a:latin typeface="Footlight MT Light"/>
              </a:rPr>
              <a:t>, eg. </a:t>
            </a:r>
            <a:r>
              <a:rPr b="0" i="1" lang="en-US" sz="3200" spc="-1" strike="noStrike">
                <a:solidFill>
                  <a:srgbClr val="0070c0"/>
                </a:solidFill>
                <a:latin typeface="Footlight MT Light"/>
              </a:rPr>
              <a:t>Streptococcus pneumoniae,  Neisseria  meningetidis </a:t>
            </a:r>
            <a:r>
              <a:rPr b="0" lang="en-US" sz="3200" spc="-1" strike="noStrike">
                <a:solidFill>
                  <a:srgbClr val="0070c0"/>
                </a:solidFill>
                <a:latin typeface="Footlight MT Light"/>
              </a:rPr>
              <a:t>in throat of healthy individu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rigin of Normal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Footlight MT Light"/>
              </a:rPr>
              <a:t>Newborn is sterile in uter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Footlight MT Light"/>
              </a:rPr>
              <a:t>After birth , newborn is exposed to flora of mother’s genital tract, skin, respiratory tract flora of those handling him , and the organisms in the environme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eneficial Effects of Normal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53735"/>
                </a:solidFill>
                <a:latin typeface="Footlight MT Light"/>
              </a:rPr>
              <a:t>1- I</a:t>
            </a:r>
            <a:r>
              <a:rPr b="1" lang="en-US" sz="3200" spc="-1" strike="noStrike">
                <a:solidFill>
                  <a:srgbClr val="953735"/>
                </a:solidFill>
                <a:latin typeface="Footlight MT Light"/>
              </a:rPr>
              <a:t>mmuno-stimulation</a:t>
            </a:r>
            <a:r>
              <a:rPr b="0" lang="en-US" sz="3200" spc="-1" strike="noStrike">
                <a:solidFill>
                  <a:srgbClr val="0070c0"/>
                </a:solidFill>
                <a:latin typeface="Footlight MT Light"/>
              </a:rPr>
              <a:t> (antibody produc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53735"/>
                </a:solidFill>
                <a:latin typeface="Footlight MT Light"/>
              </a:rPr>
              <a:t>2-</a:t>
            </a:r>
            <a:r>
              <a:rPr b="0" lang="en-US" sz="3200" spc="-1" strike="noStrike">
                <a:solidFill>
                  <a:srgbClr val="0070c0"/>
                </a:solidFill>
                <a:latin typeface="Footlight MT Light"/>
              </a:rPr>
              <a:t> </a:t>
            </a:r>
            <a:r>
              <a:rPr b="1" lang="en-US" sz="3200" spc="-1" strike="noStrike">
                <a:solidFill>
                  <a:srgbClr val="953735"/>
                </a:solidFill>
                <a:latin typeface="Footlight MT Light"/>
              </a:rPr>
              <a:t>Exclusionary effect </a:t>
            </a:r>
            <a:r>
              <a:rPr b="0" lang="en-US" sz="3200" spc="-1" strike="noStrike">
                <a:solidFill>
                  <a:srgbClr val="0070c0"/>
                </a:solidFill>
                <a:latin typeface="Footlight MT Light"/>
              </a:rPr>
              <a:t>(vacuum effect ) and protection from external invaders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53735"/>
                </a:solidFill>
                <a:latin typeface="Footlight MT Light"/>
              </a:rPr>
              <a:t>3-</a:t>
            </a:r>
            <a:r>
              <a:rPr b="1" lang="en-US" sz="3200" spc="-1" strike="noStrike">
                <a:solidFill>
                  <a:srgbClr val="953735"/>
                </a:solidFill>
                <a:latin typeface="Footlight MT Light"/>
              </a:rPr>
              <a:t>Production of essential nutrients </a:t>
            </a:r>
            <a:r>
              <a:rPr b="0" lang="en-US" sz="3200" spc="-1" strike="noStrike">
                <a:solidFill>
                  <a:srgbClr val="0070c0"/>
                </a:solidFill>
                <a:latin typeface="Footlight MT Light"/>
              </a:rPr>
              <a:t>(Vit. K &amp; B) by some normal intestinal flora eg. </a:t>
            </a:r>
            <a:r>
              <a:rPr b="0" i="1" lang="en-US" sz="3200" spc="-1" strike="noStrike">
                <a:solidFill>
                  <a:srgbClr val="0070c0"/>
                </a:solidFill>
                <a:latin typeface="Footlight MT Light"/>
              </a:rPr>
              <a:t>E.coli</a:t>
            </a:r>
            <a:r>
              <a:rPr b="0" lang="en-US" sz="3200" spc="-1" strike="noStrike">
                <a:solidFill>
                  <a:srgbClr val="0070c0"/>
                </a:solidFill>
                <a:latin typeface="Footlight MT Ligh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acts About Normal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ootlight MT Light"/>
              </a:rPr>
              <a:t>May be a </a:t>
            </a:r>
            <a:r>
              <a:rPr b="1" lang="en-US" sz="3200" spc="-1" strike="noStrike">
                <a:solidFill>
                  <a:srgbClr val="0070c0"/>
                </a:solidFill>
                <a:latin typeface="Footlight MT Light"/>
              </a:rPr>
              <a:t>source of opportunistic infections </a:t>
            </a:r>
            <a:r>
              <a:rPr b="0" lang="en-US" sz="3200" spc="-1" strike="noStrike">
                <a:solidFill>
                  <a:srgbClr val="0070c0"/>
                </a:solidFill>
                <a:latin typeface="Footlight MT Light"/>
              </a:rPr>
              <a:t>in patients with impaired defense mechanisms. Eg. </a:t>
            </a:r>
            <a:r>
              <a:rPr b="0" i="1" lang="en-US" sz="3200" spc="-1" strike="noStrike">
                <a:solidFill>
                  <a:srgbClr val="0070c0"/>
                </a:solidFill>
                <a:latin typeface="Footlight MT Light"/>
              </a:rPr>
              <a:t>Staphylococcus epidermidis &amp; E.coli</a:t>
            </a:r>
            <a:r>
              <a:rPr b="0" lang="en-US" sz="3200" spc="-1" strike="noStrike">
                <a:solidFill>
                  <a:srgbClr val="0070c0"/>
                </a:solidFill>
                <a:latin typeface="Footlight MT Ligh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ootlight MT Light"/>
              </a:rPr>
              <a:t>Some may </a:t>
            </a:r>
            <a:r>
              <a:rPr b="1" lang="en-US" sz="3200" spc="-1" strike="noStrike">
                <a:solidFill>
                  <a:srgbClr val="7030a0"/>
                </a:solidFill>
                <a:latin typeface="Footlight MT Light"/>
              </a:rPr>
              <a:t>cross react with normal tissue </a:t>
            </a:r>
            <a:r>
              <a:rPr b="0" lang="en-US" sz="3200" spc="-1" strike="noStrike">
                <a:solidFill>
                  <a:srgbClr val="7030a0"/>
                </a:solidFill>
                <a:latin typeface="Footlight MT Light"/>
              </a:rPr>
              <a:t>components ,eg. antibodies to various ABO group arise because of cross reaction between intestinal flora and the antigens of A &amp; B blood substan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acts About Normal Flora-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Footlight MT Light"/>
              </a:rPr>
              <a:t>Production of carcinoge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Footlight MT Light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Footlight MT Light"/>
              </a:rPr>
              <a:t>Some normal flora may modify through their enzymes chemicals in our diets into carcinogens. eg. artificial sweeteners may be enzymatically modified into bladder carcinogens</a:t>
            </a:r>
            <a:r>
              <a:rPr b="0" lang="en-US" sz="3200" spc="-1" strike="noStrike">
                <a:solidFill>
                  <a:srgbClr val="0070c0"/>
                </a:solidFill>
                <a:latin typeface="Footlight MT Ligh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4T17:07:28Z</dcterms:created>
  <dc:creator/>
  <dc:description/>
  <dc:language>en-US</dc:language>
  <cp:lastModifiedBy>DRHANNAN</cp:lastModifiedBy>
  <dcterms:modified xsi:type="dcterms:W3CDTF">2015-09-09T05:35:06Z</dcterms:modified>
  <cp:revision>41</cp:revision>
  <dc:subject/>
  <dc:title>Slide 1</dc:title>
</cp:coreProperties>
</file>