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Custom Show 2" id="0">
      <p:sldLst>
        <p:sld r:id="rId4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0CB-7DD5-4992-B4C2-9C5067CD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177-5635-4B45-8C86-47A1B6DF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76B-0E24-4C9D-908A-80B42D91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DB8-330E-4D5F-AF45-CA2B11A3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BCD0-156D-46A6-B8E1-F59B0B0C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7E3D-0BAB-4BAE-8DED-46B25706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FD89-EFC9-41ED-8CEF-6FE37052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14E9-D91B-4F34-A753-C9ADF51F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0448-5879-45EA-B22B-01B01BFE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9B10-A3B1-4A1D-A381-FD2DCA6D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2C43-E5C3-4C95-9519-5A8CBAA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70E-8A48-4D61-B865-6B0AB33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7685-8E6D-417E-BAED-D9324C3C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DA03-90C2-4101-8CAF-2F00A44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C223-D3B4-42BD-A727-10D35AB3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4EBA-A813-49EB-AE6C-EC0D96D1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E287-273D-4E4F-B746-9BD127CC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594-4B53-4F6F-85F8-0C72929E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190-8368-4F77-B00B-EC1EBEC1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F5C-F1F5-4DCB-B26A-A9EC1BAF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623-8FD6-4416-9EB9-162E70E4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6A6-9F28-4784-9899-DAA48311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9D1-9F52-44F6-A73F-A3304FE7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F81-EB80-4E8F-8386-8BF552D3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7B7B-3BD8-455B-A90B-AC79E9AE1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4CB0-779E-4E65-BB48-DA0A9D234AC7}" type="slidenum">
              <a:rPr b="0" lang="ar-SA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AC24-78AF-4238-983E-98088B4DCA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 POSITIVE &amp;  GRAM  NEGA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 </a:t>
            </a:r>
            <a:r>
              <a:rPr b="0" i="1" lang="en-US" sz="3200" spc="-1" strike="noStrike">
                <a:solidFill>
                  <a:srgbClr val="22228b"/>
                </a:solidFill>
                <a:latin typeface="Footlight MT Light"/>
              </a:rPr>
              <a:t>Dr. Fawzia Alotaib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352680" y="33526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5D4D-B5ED-4620-9803-2603AE5621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648320" y="990720"/>
            <a:ext cx="39243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990720"/>
            <a:ext cx="398772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48320" y="4114800"/>
            <a:ext cx="392436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04920" y="4191120"/>
            <a:ext cx="398772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629320" y="2514600"/>
            <a:ext cx="1612800" cy="2286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307840" y="1295280"/>
            <a:ext cx="279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5334120" y="175248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5562720" y="214632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181480" y="4343400"/>
            <a:ext cx="291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6858000" y="4800600"/>
            <a:ext cx="927000" cy="3301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6934320" y="5410080"/>
            <a:ext cx="927000" cy="3304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5705640" y="5014800"/>
            <a:ext cx="92700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638680" y="5637240"/>
            <a:ext cx="92736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2438280" y="1828800"/>
            <a:ext cx="47016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2286000" y="2133720"/>
            <a:ext cx="46980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1003320" y="1371600"/>
            <a:ext cx="29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22"/>
          <p:cNvSpPr/>
          <p:nvPr/>
        </p:nvSpPr>
        <p:spPr>
          <a:xfrm>
            <a:off x="3200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23"/>
          <p:cNvSpPr/>
          <p:nvPr/>
        </p:nvSpPr>
        <p:spPr>
          <a:xfrm>
            <a:off x="1752480" y="1752480"/>
            <a:ext cx="47016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24"/>
          <p:cNvSpPr/>
          <p:nvPr/>
        </p:nvSpPr>
        <p:spPr>
          <a:xfrm>
            <a:off x="914400" y="1905120"/>
            <a:ext cx="469800" cy="431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25"/>
          <p:cNvSpPr/>
          <p:nvPr/>
        </p:nvSpPr>
        <p:spPr>
          <a:xfrm>
            <a:off x="2057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26"/>
          <p:cNvSpPr/>
          <p:nvPr/>
        </p:nvSpPr>
        <p:spPr>
          <a:xfrm>
            <a:off x="1371600" y="24382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851760" y="4419720"/>
            <a:ext cx="299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2209680" y="50547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30"/>
          <p:cNvSpPr/>
          <p:nvPr/>
        </p:nvSpPr>
        <p:spPr>
          <a:xfrm>
            <a:off x="2438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1295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1600200" y="4978440"/>
            <a:ext cx="46980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Gram  posi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occi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acil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 /facltative          Anaerobe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erobe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to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oco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/facultative anaerobe                                  Anaerobic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ny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steria                                                                Clostridium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car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tobacillus ,Bacillu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BB17-850A-4415-A954-C1C2449C8B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Straight Connector 7"/>
          <p:cNvSpPr/>
          <p:nvPr/>
        </p:nvSpPr>
        <p:spPr>
          <a:xfrm>
            <a:off x="1295280" y="1065240"/>
            <a:ext cx="50292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6" name="Straight Arrow Connector 13"/>
          <p:cNvCxnSpPr/>
          <p:nvPr/>
        </p:nvCxnSpPr>
        <p:spPr>
          <a:xfrm flipH="1">
            <a:off x="1293120" y="1066320"/>
            <a:ext cx="3960" cy="2293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7" name="Straight Arrow Connector 15"/>
          <p:cNvCxnSpPr/>
          <p:nvPr/>
        </p:nvCxnSpPr>
        <p:spPr>
          <a:xfrm flipH="1">
            <a:off x="6323760" y="1068480"/>
            <a:ext cx="2520" cy="303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8" name="Straight Arrow Connector 18"/>
          <p:cNvCxnSpPr/>
          <p:nvPr/>
        </p:nvCxnSpPr>
        <p:spPr>
          <a:xfrm flipH="1">
            <a:off x="1294560" y="175248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9" name="Straight Connector 22"/>
          <p:cNvSpPr/>
          <p:nvPr/>
        </p:nvSpPr>
        <p:spPr>
          <a:xfrm>
            <a:off x="1295280" y="1751040"/>
            <a:ext cx="2286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0" name="Straight Arrow Connector 24"/>
          <p:cNvCxnSpPr/>
          <p:nvPr/>
        </p:nvCxnSpPr>
        <p:spPr>
          <a:xfrm flipH="1">
            <a:off x="3579120" y="1752120"/>
            <a:ext cx="3960" cy="305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1" name="Straight Arrow Connector 26"/>
          <p:cNvCxnSpPr/>
          <p:nvPr/>
        </p:nvCxnSpPr>
        <p:spPr>
          <a:xfrm flipH="1">
            <a:off x="1064520" y="2819520"/>
            <a:ext cx="396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52" name="Straight Connector 32"/>
          <p:cNvSpPr/>
          <p:nvPr/>
        </p:nvSpPr>
        <p:spPr>
          <a:xfrm flipH="1">
            <a:off x="6322680" y="1752480"/>
            <a:ext cx="3240" cy="236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Straight Connector 34"/>
          <p:cNvSpPr/>
          <p:nvPr/>
        </p:nvSpPr>
        <p:spPr>
          <a:xfrm>
            <a:off x="3352680" y="4113360"/>
            <a:ext cx="449604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4" name="Straight Arrow Connector 36"/>
          <p:cNvCxnSpPr/>
          <p:nvPr/>
        </p:nvCxnSpPr>
        <p:spPr>
          <a:xfrm flipH="1">
            <a:off x="3351960" y="411480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5" name="Straight Arrow Connector 38"/>
          <p:cNvCxnSpPr/>
          <p:nvPr/>
        </p:nvCxnSpPr>
        <p:spPr>
          <a:xfrm flipH="1">
            <a:off x="7846200" y="4114800"/>
            <a:ext cx="2520" cy="381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6" name="Straight Arrow Connector 40"/>
          <p:cNvCxnSpPr/>
          <p:nvPr/>
        </p:nvCxnSpPr>
        <p:spPr>
          <a:xfrm flipH="1">
            <a:off x="3579120" y="2211120"/>
            <a:ext cx="3960" cy="76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77FD-69B9-4CD7-996D-F4D89A5860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2120" y="838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posi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ylococcus aure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agulase-positive most importa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athoge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. epidermidi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d other coagulase negative staphylococci egS saprophiti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2971800" cy="2021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685800" y="3581280"/>
            <a:ext cx="6781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rept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nega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ins or pai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yoge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neumoni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Viridans-type strep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Enterococcus faec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cocc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viridans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flora -infective end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pyogenes dividedby type of haemolysi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C370-B314-4188-A0F5-FF6092D290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85800" y="22096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 A, beta hemolytic stre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yngitis, cellul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heumatic fev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grating polyarthriti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rdit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unologic cross reactiv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ute glomerulonephr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ema, hypertension, hematur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-antibody complex deposi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. pneumoni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663C-DA0F-4A5C-8026-EC44152F94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8" name="Picture 3" descr="pneumococcus"/>
          <p:cNvPicPr/>
          <p:nvPr/>
        </p:nvPicPr>
        <p:blipFill>
          <a:blip r:embed="rId1"/>
          <a:stretch/>
        </p:blipFill>
        <p:spPr>
          <a:xfrm>
            <a:off x="2360520" y="1324080"/>
            <a:ext cx="4346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-Spore forming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-Non spore form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re forming are divided into:-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erobic spore forming most important is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acillus anthracis,that causes anthrac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586C-0F6A-4BD2-B5D9-45EFE8672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erobic 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etani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C. perfringe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 gangarene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botulinum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ulis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weakness--&gt;paraly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plopia,  dysphagia--&gt;respiratory fail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diphtheria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ver, pharyngitis, cervical L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ck, gray, adherent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lae--&gt;airway obstruction, myocardit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B9AE-D286-4E5F-B510-CD41A3EBE8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5" name="Picture 3" descr="c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"/>
          <p:cNvPicPr/>
          <p:nvPr/>
        </p:nvPicPr>
        <p:blipFill>
          <a:blip r:embed="rId2"/>
          <a:stretch/>
        </p:blipFill>
        <p:spPr>
          <a:xfrm>
            <a:off x="5486400" y="1981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6E66-4022-4947-9A4B-9362FECE94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ram-Negative Co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gonorrho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Gon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Mening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oth Gram-negative intracellular dip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oraxella catarrh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156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teric Bacteria  they ferment sugars most important are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almon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hig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Yersinia and Klebsiella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Prote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8191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astidious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ordetella pertus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Campylobacter jej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Legionella pneumophi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aerobic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acteroides fragi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Fuso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0477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s: </a:t>
            </a:r>
            <a:r>
              <a:rPr b="1" lang="ar-SA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able to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general basic characteristics of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iate between gram positive and gram negative bacteria characteristic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posi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characteristic of these grou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30A0-71AA-4A4F-BB9A-415B164F30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non fermentative i.e. they do not ferment sugars e.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eudomonas that causes infection 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munocompromised patients                                                             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ise negative non fermentative e.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inobacter spe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3F1B-4209-4E4E-8CC7-03B343A59A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comma shaped and also fermentative most importan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Vibrio cholera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causes cholera which is a disease characterized by severe diarrhea and dehyd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98EB-E538-43BA-BF09-4E6B25408E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Gram-stainable bac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nusual gram-posi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pirocha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Obligate intra-cellular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usual Gram-posi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ycoplasm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mallest free-living organis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No cell wal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M. pneumonia, M. genital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nfections and diseases caused by these organisms and the antibiotics used for their treatment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nega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methods for These organi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est infectious and diseases caused by these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bacter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the        antibiotics used for their treatment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AA0D-9343-416A-B50E-B01E67A510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2217-34B3-4EFC-8707-B392190C06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3384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77120" cy="3913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Bacterial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  S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2F9-EC1B-4871-942A-1E705D26BC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990720"/>
            <a:ext cx="377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in 1884 by the Danish physician Hans Christian Gra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mportant tool in bacterial taxonomy, distinguishing so-called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remain coloured after the staining procedure, from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do not retain dye and need to be counter-stain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be applied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re cultur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bacteria or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inical specimen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49620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962520" y="48006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p: Pure culture of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. coli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Gram-negative rod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ottom: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Neisseria gonorrhoea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 a smear of urethral pu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ram-negative cocci, with pus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2666-1933-470B-A192-39B079652C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posi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hick, homogenous sheath of peptidoglycan 20-80 n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c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ghtly bound acidic polysaccharides, includin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ichoic acid and lipoteichoic aci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n crystal violet and stain pur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nega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uter membrane containing lipopolysaccharide (LP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ll of peptidoglyc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iplasmic spa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ner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ose crystal violet and stain pink from safranin counterst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06D7-10F1-48FA-9350-CF5D3A9D8C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cell wall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11480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Negati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373D-0BA1-446A-A232-60C9CC8102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336760" y="1943280"/>
            <a:ext cx="507960" cy="86328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280"/>
              <a:gd name="textAreaBottom" fmla="*/ 813240 h 863280"/>
            </a:gdLst>
            <a:ahLst/>
            <a:rect l="textAreaLeft" t="textAreaTop" r="textAreaRight" b="textAreaBottom"/>
            <a:pathLst>
              <a:path w="21600" h="36699">
                <a:moveTo>
                  <a:pt x="7290" y="0"/>
                </a:moveTo>
                <a:arcTo wR="7290" hR="7290" stAng="16200000" swAng="-5400000"/>
                <a:lnTo>
                  <a:pt x="0" y="29409"/>
                </a:lnTo>
                <a:arcTo wR="7290" hR="7290" stAng="10800000" swAng="-5400000"/>
                <a:lnTo>
                  <a:pt x="14310" y="36699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2438280" y="1701720"/>
            <a:ext cx="825480" cy="216000"/>
            <a:chOff x="2438280" y="1701720"/>
            <a:chExt cx="825480" cy="216000"/>
          </a:xfrm>
        </p:grpSpPr>
        <p:sp>
          <p:nvSpPr>
            <p:cNvPr id="115" name="Freeform 7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32"/>
                  </a:lnTo>
                  <a:lnTo>
                    <a:pt x="56" y="0"/>
                  </a:lnTo>
                  <a:lnTo>
                    <a:pt x="440" y="0"/>
                  </a:lnTo>
                  <a:lnTo>
                    <a:pt x="440" y="32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32"/>
                  </a:lnTo>
                  <a:lnTo>
                    <a:pt x="104" y="32"/>
                  </a:lnTo>
                  <a:lnTo>
                    <a:pt x="56" y="32"/>
                  </a:lnTo>
                  <a:lnTo>
                    <a:pt x="56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Oval 14"/>
          <p:cNvSpPr/>
          <p:nvPr/>
        </p:nvSpPr>
        <p:spPr>
          <a:xfrm>
            <a:off x="3263760" y="196848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3263760" y="205740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3263760" y="214632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3263760" y="223524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263760" y="232416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3098880" y="2705040"/>
            <a:ext cx="863640" cy="1015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3289320" y="3822840"/>
            <a:ext cx="507960" cy="86364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6714">
                <a:moveTo>
                  <a:pt x="7290" y="0"/>
                </a:moveTo>
                <a:arcTo wR="7290" hR="7290" stAng="16200000" swAng="-5400000"/>
                <a:lnTo>
                  <a:pt x="0" y="29424"/>
                </a:lnTo>
                <a:arcTo wR="7290" hR="7290" stAng="10800000" swAng="-5400000"/>
                <a:lnTo>
                  <a:pt x="14310" y="36714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" name="Group 29"/>
          <p:cNvGrpSpPr/>
          <p:nvPr/>
        </p:nvGrpSpPr>
        <p:grpSpPr>
          <a:xfrm>
            <a:off x="3390840" y="3581280"/>
            <a:ext cx="825480" cy="216000"/>
            <a:chOff x="3390840" y="3581280"/>
            <a:chExt cx="825480" cy="216000"/>
          </a:xfrm>
        </p:grpSpPr>
        <p:sp>
          <p:nvSpPr>
            <p:cNvPr id="130" name="Freeform 24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104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24"/>
                  </a:lnTo>
                  <a:lnTo>
                    <a:pt x="432" y="48"/>
                  </a:lnTo>
                  <a:lnTo>
                    <a:pt x="384" y="48"/>
                  </a:lnTo>
                  <a:lnTo>
                    <a:pt x="384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04"/>
                  </a:lnTo>
                  <a:lnTo>
                    <a:pt x="0" y="10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5" name="Oval 31"/>
          <p:cNvSpPr/>
          <p:nvPr/>
        </p:nvSpPr>
        <p:spPr>
          <a:xfrm>
            <a:off x="4216320" y="383544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Oval 32"/>
          <p:cNvSpPr/>
          <p:nvPr/>
        </p:nvSpPr>
        <p:spPr>
          <a:xfrm>
            <a:off x="4216320" y="392436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Oval 33"/>
          <p:cNvSpPr/>
          <p:nvPr/>
        </p:nvSpPr>
        <p:spPr>
          <a:xfrm>
            <a:off x="4216320" y="401328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4216320" y="410220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35"/>
          <p:cNvSpPr/>
          <p:nvPr/>
        </p:nvSpPr>
        <p:spPr>
          <a:xfrm>
            <a:off x="4216320" y="419112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38"/>
          <p:cNvSpPr/>
          <p:nvPr/>
        </p:nvSpPr>
        <p:spPr>
          <a:xfrm>
            <a:off x="4051440" y="4584600"/>
            <a:ext cx="863640" cy="1018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5765760" y="238752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5867280" y="2146320"/>
            <a:ext cx="825480" cy="215640"/>
            <a:chOff x="5867280" y="2146320"/>
            <a:chExt cx="825480" cy="215640"/>
          </a:xfrm>
        </p:grpSpPr>
        <p:sp>
          <p:nvSpPr>
            <p:cNvPr id="145" name="Freeform 40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112"/>
                  </a:moveTo>
                  <a:lnTo>
                    <a:pt x="0" y="32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32"/>
                  </a:lnTo>
                  <a:lnTo>
                    <a:pt x="432" y="56"/>
                  </a:lnTo>
                  <a:lnTo>
                    <a:pt x="384" y="56"/>
                  </a:lnTo>
                  <a:lnTo>
                    <a:pt x="384" y="32"/>
                  </a:lnTo>
                  <a:lnTo>
                    <a:pt x="96" y="32"/>
                  </a:lnTo>
                  <a:lnTo>
                    <a:pt x="48" y="32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Freeform 42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Freeform 43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0" name="Oval 47"/>
          <p:cNvSpPr/>
          <p:nvPr/>
        </p:nvSpPr>
        <p:spPr>
          <a:xfrm>
            <a:off x="6692760" y="2413080"/>
            <a:ext cx="76320" cy="633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Oval 48"/>
          <p:cNvSpPr/>
          <p:nvPr/>
        </p:nvSpPr>
        <p:spPr>
          <a:xfrm>
            <a:off x="6692760" y="250200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49"/>
          <p:cNvSpPr/>
          <p:nvPr/>
        </p:nvSpPr>
        <p:spPr>
          <a:xfrm>
            <a:off x="6692760" y="259092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6692760" y="267984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Oval 51"/>
          <p:cNvSpPr/>
          <p:nvPr/>
        </p:nvSpPr>
        <p:spPr>
          <a:xfrm>
            <a:off x="6692760" y="276876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Freeform 52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6527880" y="3149640"/>
            <a:ext cx="876240" cy="101520"/>
          </a:xfrm>
          <a:prstGeom prst="roundRect">
            <a:avLst>
              <a:gd name="adj" fmla="val 50000"/>
            </a:avLst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1473120" y="542304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9" name="Group 61"/>
          <p:cNvGrpSpPr/>
          <p:nvPr/>
        </p:nvGrpSpPr>
        <p:grpSpPr>
          <a:xfrm>
            <a:off x="1574640" y="5181480"/>
            <a:ext cx="838440" cy="216000"/>
            <a:chOff x="1574640" y="5181480"/>
            <a:chExt cx="838440" cy="216000"/>
          </a:xfrm>
        </p:grpSpPr>
        <p:sp>
          <p:nvSpPr>
            <p:cNvPr id="160" name="Freeform 56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Freeform 57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40" y="0"/>
                  </a:lnTo>
                  <a:lnTo>
                    <a:pt x="440" y="24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Freeform 58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Freeform 59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Freeform 60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5" name="Oval 63"/>
          <p:cNvSpPr/>
          <p:nvPr/>
        </p:nvSpPr>
        <p:spPr>
          <a:xfrm>
            <a:off x="2400480" y="544824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Oval 64"/>
          <p:cNvSpPr/>
          <p:nvPr/>
        </p:nvSpPr>
        <p:spPr>
          <a:xfrm>
            <a:off x="2400480" y="553716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65"/>
          <p:cNvSpPr/>
          <p:nvPr/>
        </p:nvSpPr>
        <p:spPr>
          <a:xfrm>
            <a:off x="2400480" y="5626080"/>
            <a:ext cx="88560" cy="507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66"/>
          <p:cNvSpPr/>
          <p:nvPr/>
        </p:nvSpPr>
        <p:spPr>
          <a:xfrm>
            <a:off x="2400480" y="571500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67"/>
          <p:cNvSpPr/>
          <p:nvPr/>
        </p:nvSpPr>
        <p:spPr>
          <a:xfrm>
            <a:off x="2400480" y="580392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Freeform 68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Freeform 69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AutoShape 70"/>
          <p:cNvSpPr/>
          <p:nvPr/>
        </p:nvSpPr>
        <p:spPr>
          <a:xfrm>
            <a:off x="2235240" y="6184800"/>
            <a:ext cx="876240" cy="1018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74"/>
          <p:cNvSpPr/>
          <p:nvPr/>
        </p:nvSpPr>
        <p:spPr>
          <a:xfrm>
            <a:off x="1448280" y="167652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ystal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75"/>
          <p:cNvSpPr/>
          <p:nvPr/>
        </p:nvSpPr>
        <p:spPr>
          <a:xfrm>
            <a:off x="1447560" y="18543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76"/>
          <p:cNvSpPr/>
          <p:nvPr/>
        </p:nvSpPr>
        <p:spPr>
          <a:xfrm>
            <a:off x="6629040" y="1523880"/>
            <a:ext cx="84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'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Rectangle 77"/>
          <p:cNvSpPr/>
          <p:nvPr/>
        </p:nvSpPr>
        <p:spPr>
          <a:xfrm>
            <a:off x="6628320" y="17017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5866200" y="411480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olorise with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79"/>
          <p:cNvSpPr/>
          <p:nvPr/>
        </p:nvSpPr>
        <p:spPr>
          <a:xfrm>
            <a:off x="5867280" y="429264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eto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80"/>
          <p:cNvSpPr/>
          <p:nvPr/>
        </p:nvSpPr>
        <p:spPr>
          <a:xfrm>
            <a:off x="4151520" y="5880240"/>
            <a:ext cx="19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unterstain wi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81"/>
          <p:cNvSpPr/>
          <p:nvPr/>
        </p:nvSpPr>
        <p:spPr>
          <a:xfrm>
            <a:off x="4152240" y="605808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methyl r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AutoShape 95"/>
          <p:cNvSpPr/>
          <p:nvPr/>
        </p:nvSpPr>
        <p:spPr>
          <a:xfrm>
            <a:off x="7835760" y="419112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Freeform 98"/>
          <p:cNvSpPr/>
          <p:nvPr/>
        </p:nvSpPr>
        <p:spPr>
          <a:xfrm>
            <a:off x="8229600" y="419112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Freeform 99"/>
          <p:cNvSpPr/>
          <p:nvPr/>
        </p:nvSpPr>
        <p:spPr>
          <a:xfrm>
            <a:off x="8305920" y="388620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Freeform 102"/>
          <p:cNvSpPr/>
          <p:nvPr/>
        </p:nvSpPr>
        <p:spPr>
          <a:xfrm>
            <a:off x="8001000" y="373392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Freeform 103"/>
          <p:cNvSpPr/>
          <p:nvPr/>
        </p:nvSpPr>
        <p:spPr>
          <a:xfrm>
            <a:off x="8001000" y="4495680"/>
            <a:ext cx="584280" cy="19080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Freeform 106"/>
          <p:cNvSpPr/>
          <p:nvPr/>
        </p:nvSpPr>
        <p:spPr>
          <a:xfrm>
            <a:off x="8610480" y="4038480"/>
            <a:ext cx="241560" cy="15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7" name="Group 121"/>
          <p:cNvGrpSpPr/>
          <p:nvPr/>
        </p:nvGrpSpPr>
        <p:grpSpPr>
          <a:xfrm>
            <a:off x="4051440" y="2260440"/>
            <a:ext cx="1333440" cy="203400"/>
            <a:chOff x="4051440" y="2260440"/>
            <a:chExt cx="1333440" cy="203400"/>
          </a:xfrm>
        </p:grpSpPr>
        <p:sp>
          <p:nvSpPr>
            <p:cNvPr id="188" name="Freeform 119"/>
            <p:cNvSpPr/>
            <p:nvPr/>
          </p:nvSpPr>
          <p:spPr>
            <a:xfrm>
              <a:off x="5207040" y="2374920"/>
              <a:ext cx="177840" cy="889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56">
                  <a:moveTo>
                    <a:pt x="112" y="40"/>
                  </a:moveTo>
                  <a:lnTo>
                    <a:pt x="0" y="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Line 120"/>
            <p:cNvSpPr/>
            <p:nvPr/>
          </p:nvSpPr>
          <p:spPr>
            <a:xfrm>
              <a:off x="4051440" y="2260440"/>
              <a:ext cx="115560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0" name="Group 124"/>
          <p:cNvGrpSpPr/>
          <p:nvPr/>
        </p:nvGrpSpPr>
        <p:grpSpPr>
          <a:xfrm>
            <a:off x="5092560" y="3606840"/>
            <a:ext cx="1244520" cy="711000"/>
            <a:chOff x="5092560" y="3606840"/>
            <a:chExt cx="1244520" cy="711000"/>
          </a:xfrm>
        </p:grpSpPr>
        <p:sp>
          <p:nvSpPr>
            <p:cNvPr id="191" name="Freeform 122"/>
            <p:cNvSpPr/>
            <p:nvPr/>
          </p:nvSpPr>
          <p:spPr>
            <a:xfrm>
              <a:off x="5092560" y="419076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80"/>
                  </a:moveTo>
                  <a:lnTo>
                    <a:pt x="88" y="0"/>
                  </a:lnTo>
                  <a:lnTo>
                    <a:pt x="104" y="24"/>
                  </a:lnTo>
                  <a:lnTo>
                    <a:pt x="112" y="4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Line 123"/>
            <p:cNvSpPr/>
            <p:nvPr/>
          </p:nvSpPr>
          <p:spPr>
            <a:xfrm flipH="1">
              <a:off x="5257440" y="3606840"/>
              <a:ext cx="1079640" cy="62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3" name="Group 127"/>
          <p:cNvGrpSpPr/>
          <p:nvPr/>
        </p:nvGrpSpPr>
        <p:grpSpPr>
          <a:xfrm>
            <a:off x="3098880" y="4940280"/>
            <a:ext cx="850680" cy="888840"/>
            <a:chOff x="3098880" y="4940280"/>
            <a:chExt cx="850680" cy="888840"/>
          </a:xfrm>
        </p:grpSpPr>
        <p:sp>
          <p:nvSpPr>
            <p:cNvPr id="194" name="Freeform 125"/>
            <p:cNvSpPr/>
            <p:nvPr/>
          </p:nvSpPr>
          <p:spPr>
            <a:xfrm>
              <a:off x="3098880" y="5676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56" y="0"/>
                  </a:lnTo>
                  <a:lnTo>
                    <a:pt x="80" y="16"/>
                  </a:lnTo>
                  <a:lnTo>
                    <a:pt x="96" y="3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Line 126"/>
            <p:cNvSpPr/>
            <p:nvPr/>
          </p:nvSpPr>
          <p:spPr>
            <a:xfrm flipH="1">
              <a:off x="3225960" y="4940280"/>
              <a:ext cx="723600" cy="761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6" name="Rectangle 131"/>
          <p:cNvSpPr/>
          <p:nvPr/>
        </p:nvSpPr>
        <p:spPr>
          <a:xfrm>
            <a:off x="7238880" y="525780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Rectangle 132"/>
          <p:cNvSpPr/>
          <p:nvPr/>
        </p:nvSpPr>
        <p:spPr>
          <a:xfrm>
            <a:off x="7314840" y="5486400"/>
            <a:ext cx="151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urp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Rectangle 133"/>
          <p:cNvSpPr/>
          <p:nvPr/>
        </p:nvSpPr>
        <p:spPr>
          <a:xfrm>
            <a:off x="7086960" y="6172200"/>
            <a:ext cx="178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Rectangle 134"/>
          <p:cNvSpPr/>
          <p:nvPr/>
        </p:nvSpPr>
        <p:spPr>
          <a:xfrm>
            <a:off x="7238520" y="6400800"/>
            <a:ext cx="128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in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135"/>
          <p:cNvSpPr/>
          <p:nvPr/>
        </p:nvSpPr>
        <p:spPr>
          <a:xfrm>
            <a:off x="4483080" y="152388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136"/>
          <p:cNvSpPr/>
          <p:nvPr/>
        </p:nvSpPr>
        <p:spPr>
          <a:xfrm>
            <a:off x="4876920" y="1523880"/>
            <a:ext cx="571320" cy="2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137"/>
          <p:cNvSpPr/>
          <p:nvPr/>
        </p:nvSpPr>
        <p:spPr>
          <a:xfrm>
            <a:off x="4952880" y="1219320"/>
            <a:ext cx="228600" cy="164880"/>
          </a:xfrm>
          <a:custGeom>
            <a:avLst/>
            <a:gdLst>
              <a:gd name="textAreaLeft" fmla="*/ 0 w 228600"/>
              <a:gd name="textAreaRight" fmla="*/ 228960 w 228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138"/>
          <p:cNvSpPr/>
          <p:nvPr/>
        </p:nvSpPr>
        <p:spPr>
          <a:xfrm>
            <a:off x="4648320" y="106668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139"/>
          <p:cNvSpPr/>
          <p:nvPr/>
        </p:nvSpPr>
        <p:spPr>
          <a:xfrm>
            <a:off x="4648320" y="1828800"/>
            <a:ext cx="583920" cy="190440"/>
          </a:xfrm>
          <a:custGeom>
            <a:avLst/>
            <a:gdLst>
              <a:gd name="textAreaLeft" fmla="*/ 0 w 583920"/>
              <a:gd name="textAreaRight" fmla="*/ 584280 w 583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140"/>
          <p:cNvSpPr/>
          <p:nvPr/>
        </p:nvSpPr>
        <p:spPr>
          <a:xfrm>
            <a:off x="5257800" y="137160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AutoShape 147"/>
          <p:cNvSpPr/>
          <p:nvPr/>
        </p:nvSpPr>
        <p:spPr>
          <a:xfrm>
            <a:off x="6159600" y="5943600"/>
            <a:ext cx="342720" cy="88920"/>
          </a:xfrm>
          <a:prstGeom prst="roundRect">
            <a:avLst>
              <a:gd name="adj" fmla="val 50000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Freeform 148"/>
          <p:cNvSpPr/>
          <p:nvPr/>
        </p:nvSpPr>
        <p:spPr>
          <a:xfrm>
            <a:off x="6553080" y="594360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Freeform 149"/>
          <p:cNvSpPr/>
          <p:nvPr/>
        </p:nvSpPr>
        <p:spPr>
          <a:xfrm>
            <a:off x="6629400" y="563868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Freeform 150"/>
          <p:cNvSpPr/>
          <p:nvPr/>
        </p:nvSpPr>
        <p:spPr>
          <a:xfrm>
            <a:off x="6324480" y="548640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Freeform 151"/>
          <p:cNvSpPr/>
          <p:nvPr/>
        </p:nvSpPr>
        <p:spPr>
          <a:xfrm>
            <a:off x="6324480" y="6248520"/>
            <a:ext cx="584280" cy="19044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Freeform 152"/>
          <p:cNvSpPr/>
          <p:nvPr/>
        </p:nvSpPr>
        <p:spPr>
          <a:xfrm>
            <a:off x="6934320" y="579132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Text Box 153"/>
          <p:cNvSpPr/>
          <p:nvPr/>
        </p:nvSpPr>
        <p:spPr>
          <a:xfrm>
            <a:off x="1905120" y="43344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Gram Sta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91DB-BD69-41FF-B2DB-3C2C481F30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Picture 2" descr="D:\CONTENT\ch04\0058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16:42Z</dcterms:created>
  <dc:creator>Robin Smith</dc:creator>
  <dc:description/>
  <dc:language>en-US</dc:language>
  <cp:lastModifiedBy>GCUSER</cp:lastModifiedBy>
  <cp:lastPrinted>2002-01-26T13:51:29Z</cp:lastPrinted>
  <dcterms:modified xsi:type="dcterms:W3CDTF">2015-10-05T07:58:29Z</dcterms:modified>
  <cp:revision>293</cp:revision>
  <dc:subject/>
  <dc:title>Streptococci</dc:title>
</cp:coreProperties>
</file>