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E24A-6D74-49BD-908E-C13EF905B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EB84-0576-4493-8BCE-ACB507E3CE1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F529-6CA0-49F0-A57F-C66CF2BD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F684-3059-48E2-8C8B-9A8E27BE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1B69-CE12-4A8B-B53D-FF922538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F3F-F193-4ECD-8C3A-DDC0FCDC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F7D2-80DD-4323-AC21-41223C11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780A-0F22-4CEE-BDFF-3AEE5810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F0011-37DA-4B92-8BCE-880F5116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8465-2281-4468-96FC-CFB52173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30FC-7D76-42CD-88B7-CFBED71D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4E38-6599-4341-80B9-3A365E9E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EC25-1747-4572-9B34-65A54D1F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121-566A-45FF-8ADA-3BC8272D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1FBE-273C-4C7A-8470-38890F19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F9D2-36F3-4E13-8E93-69F1182B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2649-88F9-468E-BA94-76BB2D7B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9D62-8CB5-43DD-8AE4-3CB833F8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41FA-BB21-4F63-B36B-5B72F7F8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205-B560-40E3-BAE7-3BEB722C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2A08-5E41-4C3C-A1C1-EF42E9AF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F9DA-A69B-42FC-9885-81413908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7B2-03B8-47DB-BFE1-BC049B93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215-7A7D-4BA0-90B4-E3C38C8D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3F1-AC45-425E-852E-C0997029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569-54FF-42E7-B0DB-06DAE77B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27D1-E650-4B52-BC03-ABC8F12DF203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6027-F947-498D-857A-A47B217E5EFE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supplierlist.com/photo_images/70930/12L_Simple_Autoclave.jpg&amp;imgrefurl=http://www.supplierlist.com/made_in_china/products/p0/Autoclave/30857_manufacturers.htm&amp;usg=__YqlPiu14UAuPwYA_m16-WaOHIVo=&amp;h=336&amp;w=336&amp;sz=24&amp;hl=en&amp;start=3&amp;zoom=1&amp;tbnid=_7dcwyvnfhz3jM:&amp;tbnh=119&amp;tbnw=119&amp;prev=/images%3Fq%3DAUTOCLAVES%26hl%3Den%26safe%3Dactive%26sa%3DG%26gbv%3D2%26tbs%3Disch:1&amp;itbs=1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com/imgres?imgurl=http://img.directindustry.com/images_di/photo-g/laboratory-autoclave-with-hydraulic-door-305058.jpg&amp;imgrefurl=http://www.directindustry.com/prod/priorclave/laboratory-autoclave-with-hydraulic-door-23066-305058.html&amp;usg=__Uwvdy60hxYHVPFf4gSCwRaE2wTE=&amp;h=651&amp;w=831&amp;sz=211&amp;hl=en&amp;start=2&amp;zoom=1&amp;tbnid=y8mNYJ04N1XtxM:&amp;tbnh=113&amp;tbnw=144&amp;prev=/images%3Fq%3DAUTOCLAVES%26hl%3Den%26safe%3Dactive%26sa%3DG%26gbv%3D2%26tbs%3Disch:1&amp;itbs=1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com/imgres?imgurl=http://www.lifelinemedical.net/_images/manautoclave-01b.jpg&amp;imgrefurl=http://www.lifelinemedical.net/manual_autoclaves.html&amp;usg=__8-pYakhkqCkQjbaX5N5Fs5AgwsM=&amp;h=308&amp;w=424&amp;sz=95&amp;hl=en&amp;start=4&amp;zoom=1&amp;tbnid=dNI8EWwQs12WjM:&amp;tbnh=92&amp;tbnw=126&amp;prev=/images%3Fq%3DAUTOCLAVES%26hl%3Den%26safe%3Dactive%26sa%3DG%26gbv%3D2%26tbs%3Disch:1&amp;itbs=1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rds.yahoo.com/_ylt=A0WTb_o.XLlMVCwA0yWJzbkF;_ylu=X3oDMTBqY2pzbGhoBHBvcwMxMQRzZWMDc3IEdnRpZAM-/SIG=1k7ejdo7v/EXP=1287302590/**http%3A//images.search.yahoo.com/images/view%3Fback=http%253A%252F%252Fimages.search.yahoo.com%252Fsearch%252Fimages%253Fp%253Dschematic%252Bdiagram%252Bof%252Bautoclaves%2526ei%253Dutf-8%2526y%253DSearch%2526fr%253Dyfp-t-701%26w=293%26h=238%26imgurl=www.swingstargroup.com%252Fimages%252Fbattery_rectifier.jpg%26rurl=http%253A%252F%252Fwww.swingstargroup.com%252Flha_construction.htm%26size=25KB%26name=Sterilizers%252C%2BAut...%26p=schematic%2Bdiagram%2Bof%2Bautoclaves%26oid=8d9ca6ae4b539bb97990611433d12e95%26fr2=%26spell_query=schematic%2B%2Bof%2Bautoclaves%26no=11%26tt=15%26sigr=11i55tua3%26sigi=11jftar63%26sigb=13dlv8kor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tradevv.com/2009/07/24/newera1_432969_450/autoclave-tape.jpg&amp;imgrefurl=http://www.tradevv.com/chinasuppliers/newera1_p_69b49/china-Autoclave-Tape.html&amp;usg=__xaBaz_SzR_6eF8p_RD4qJ-2ZIB4=&amp;h=450&amp;w=450&amp;sz=27&amp;hl=en&amp;start=2&amp;zoom=1&amp;tbnid=-fl8eKyMIEsIRM:&amp;tbnh=127&amp;tbnw=127&amp;prev=/images%3Fq%3DAUTOCLAVE%2B%2BTAPE%26hl%3Den%26safe%3Dactive%26sa%3DG%26gbv%3D2%26tbs%3Disch:1&amp;itbs=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google.com/imgres?imgurl=http://www.appletonwoods.co.uk/acatalog/GC471.jpg&amp;imgrefurl=http://www.appletonwoods.co.uk/acatalog/Autoclave_Indicator_Tubes.html&amp;usg=__88qBwPivzadrsB_XUNeHuOtGhK4=&amp;h=220&amp;w=260&amp;sz=14&amp;hl=en&amp;start=14&amp;zoom=1&amp;tbnid=ULCXGhvYA4_e_M:&amp;tbnh=95&amp;tbnw=112&amp;prev=/images%3Fq%3DBROWNE%2527S%2BTUBES%26hl%3Den%26safe%3Dactive%26sa%3DG%26gbv%3D2%26tbs%3Disch:1&amp;itbs=1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duckol.com/uploadFiles/upimg26/Microfiltration-Membrane-Filters.jpg&amp;imgrefurl=http://www.duckol.com/Wholesale_m/Membrane-Switch-56036.htm&amp;usg=__P9oH-z4D-qmRCGcHk5qq7IUjNPo=&amp;h=360&amp;w=360&amp;sz=25&amp;hl=en&amp;start=4&amp;zoom=1&amp;tbnid=Fo27iUeAdcieTM:&amp;tbnh=121&amp;tbnw=121&amp;prev=/images%3Fq%3DMEMBRANE%2BFILTERS%26hl%3Den%26safe%3Dactive%26gbv%3D2%26tbs%3Disch:1&amp;itbs=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google.com/imgres?imgurl=http://images2.opticsplanet.com/640-640/opplanet-whatman-filter-holders-for-nuclepore-membrane-filters-whatman-420200.jpg&amp;imgrefurl=http://www.opticsplanet.net/printable-whatman-filter-holders-for-nuclepore-membrane-filters-whatman-420200.html&amp;usg=__-6h4s7ngtXvhow07wJ4VzDwj0eI=&amp;h=246&amp;w=246&amp;sz=24&amp;hl=en&amp;start=12&amp;zoom=1&amp;tbnid=35FVmUfK3cURBM:&amp;tbnh=110&amp;tbnw=110&amp;prev=/images%3Fq%3DMEMBRANE%2BFILTERS%26hl%3Den%26safe%3Dactive%26gbv%3D2%26tbs%3Disch:1&amp;itbs=1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www.google.com/imgres?imgurl=http://www.trinityfiltration.in/images/membrane-filters.jpg&amp;imgrefurl=http://www.trinityfiltration.in/membrane-filters-for-critical-pharmaceutical-application.html&amp;usg=__ju5fCM1xbUqgnl_IIEG9Ms-2xRU=&amp;h=231&amp;w=230&amp;sz=10&amp;hl=en&amp;start=9&amp;zoom=0&amp;tbnid=4ZGd9vK2iMgHGM:&amp;tbnh=108&amp;tbnw=108&amp;prev=/images%3Fq%3DMEMBRANE%2BFILTERS%26hl%3Den%26safe%3Dactive%26gbv%3D2%26tbs%3Disch:1&amp;itbs=1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www.google.com/imgres?imgurl=http://imghost1.indiamart.com/data2/YY/NJ/MY-1857873/membrane_pic-500x500-250x250.jpg&amp;imgrefurl=http://www.indiamart.com/nishotechsystems/seperation-technologies.html&amp;usg=__wLfYWbndq_7fMhxtAoepepofDXs=&amp;h=250&amp;w=250&amp;sz=9&amp;hl=en&amp;start=15&amp;zoom=1&amp;tbnid=wionk_8EKOMzXM:&amp;tbnh=111&amp;tbnw=111&amp;prev=/images%3Fq%3DMEMBRANE%2BFILTERS%26hl%3Den%26safe%3Dactive%26gbv%3D2%26tbs%3Disch:1&amp;itbs=1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prlog.org/10383255-chemical-disinfectants.jpg&amp;imgrefurl=http://www.prlog.org/10383255-use-of-chemical-disinfectants.html&amp;usg=__LFbaZGdUee78g07KL8kRLuVFDds=&amp;h=250&amp;w=163&amp;sz=11&amp;hl=en&amp;start=3&amp;zoom=1&amp;tbnid=HzalTD8j-GR8PM:&amp;tbnh=111&amp;tbnw=72&amp;prev=/images%3Fq%3DCHEMICAL%2BDISINFECTANTS%26hl%3Den%26safe%3Dactive%26sa%3DG%26gbv%3D2%26tbs%3Disch:1&amp;itbs=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google.com/imgres?imgurl=http://www.chemistryland.com/CHM130W/06-Nomenclature/NomenclatureHealth/Chlorates.jpg&amp;imgrefurl=http://www.chemistryland.com/CHM130W/06-Nomenclature/NomenclatureHealth/NomenHealth.htm&amp;usg=__4P8nVvpOT2a6-qgAjtsBuJ2r6ts=&amp;h=560&amp;w=512&amp;sz=66&amp;hl=en&amp;start=8&amp;zoom=1&amp;tbnid=Ef73UlvzVqfq-M:&amp;tbnh=133&amp;tbnw=122&amp;prev=/images%3Fq%3DSYMBOL%2BSTERILIZATION%2BAND%2BDISINFECTION%26hl%3Den%26safe%3Dactive%26gbv%3D2%26tbs%3Disch:1&amp;itbs=1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image.shutterstock.com/display_pic_with_logo/388663/388663,1245079056,31/stock-vector-hand-washing-32072236.jpg&amp;imgrefurl=http://www.shutterstock.com/pic-32072236/stock-vector-hand-washing.html&amp;usg=__3gjTJdu9k_PX_XEjtg7zBOPU-r4=&amp;h=470&amp;w=447&amp;sz=74&amp;hl=en&amp;start=17&amp;zoom=1&amp;tbnid=fd2MPtPi-CXbJM:&amp;tbnh=129&amp;tbnw=123&amp;prev=/images%3Fq%3Dsymbol%2Bhand%2Bwashing%26hl%3Den%26safe%3Dactive%26sa%3DG%26gbv%3D2%26tbs%3Disch:1&amp;itbs=1" TargetMode="External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home.netvigator.com/~pdsuter/pic/machine003.jpg&amp;imgrefurl=http://home.netvigator.com/~pdsuter/bread_machine.html&amp;usg=__v9wMu_0Z2pmqH75VnAHeYV4MUP4=&amp;h=388&amp;w=350&amp;sz=34&amp;hl=en&amp;start=10&amp;zoom=1&amp;tbnid=Ebw2yJKQ-mhOjM:&amp;tbnh=123&amp;tbnw=111&amp;prev=/images%3Fq%3DHOT%2BAIR%2BOVEN%26hl%3Den%26safe%3Dactive%26sa%3DG%26gbv%3D2%26tbs%3Disch:1&amp;itbs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Sterilization &amp; Disinfe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rof. Hanan Habib &amp; Dr. AbdulAziz Al-khataf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llege Of Medicine-KS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http://t0.gstatic.com/images?q=tbn:_7dcwyvnfhz3jM:http://www.supplierlist.com/photo_images/70930/12L_Simple_Autoclav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933720"/>
            <a:ext cx="2160720" cy="201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http://t1.gstatic.com/images?q=tbn:y8mNYJ04N1XtxM:http://img.directindustry.com/images_di/photo-g/laboratory-autoclave-with-hydraulic-door-305058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42920" y="549360"/>
            <a:ext cx="3748320" cy="4680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http://t0.gstatic.com/images?q=tbn:dNI8EWwQs12WjM:http://www.lifelinemedical.net/_images/manautoclave-01b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93080" y="393372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Go to fullsize ima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51640" y="620640"/>
            <a:ext cx="30970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ai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in the chamber is evacuated and filled with saturated steam. The chamber is closed tightly the steam keeps on filling into it and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pressure gradually increas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 The items to be sterilized get completely surrounded by saturated steam (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  <a:ea typeface="SimSun"/>
              </a:rPr>
              <a:t>moist hea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) which on contact with the surface of material to be sterilized condenses to release it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latent hea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of condensation which adds to already raised temperature of steam so that eventually all the microorganisms in what ever form are kill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The usual temperature achieved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121 °C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 , exposure time of only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15 mins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Advantages of Autoclav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emp. &gt; 100 C therefo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spores kill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Condensation of steam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genera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extra he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he condensation also allows the steam to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  <a:ea typeface="SimSun"/>
              </a:rPr>
              <a:t>penetrate</a:t>
            </a:r>
            <a:r>
              <a:rPr b="0" lang="en-US" sz="2800" spc="-1" strike="noStrike">
                <a:solidFill>
                  <a:srgbClr val="c2ebff"/>
                </a:solidFill>
                <a:latin typeface="Tahoma"/>
                <a:ea typeface="SimSu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rapidly into porous materia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Note: for all invasive procedures at operating room or clinics, autoclavable equipments should be us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Monitoring of Autoclave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Physical method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 of thermocouple to measure accurately the temperatu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Chemical method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it consists of heat sensitive chemical that changes color at the right temperature and exposure tim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e.g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.    a)-  Autoclave ta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	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b)- Browne</a:t>
            </a:r>
            <a:r>
              <a:rPr b="0" lang="en-US" sz="2400" spc="-1" strike="noStrike">
                <a:solidFill>
                  <a:srgbClr val="92d050"/>
                </a:solidFill>
                <a:latin typeface="Arial"/>
                <a:ea typeface="SimSun"/>
              </a:rPr>
              <a:t>’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s tub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Biolog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meth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:  where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spo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-bearing organism is added during the sterilization process and then cultured later to ensure that it has been killed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http://t0.gstatic.com/images?q=tbn:-fl8eKyMIEsIRM:http://image.tradevv.com/2009/07/24/newera1_432969_450/autoclave-tap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333360"/>
            <a:ext cx="3382920" cy="3313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http://t3.gstatic.com/images?q=tbn:ULCXGhvYA4_e_M:http://www.appletonwoods.co.uk/acatalog/GC47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4076640"/>
            <a:ext cx="3095640" cy="23320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http://t1.gstatic.com/images?q=tbn:ANd9GcRYNqbj5I97mYRGojmkfPMHnK5f-yc_EJaj5Gn1BD7vL9fshDg5tg"/>
          <p:cNvPicPr/>
          <p:nvPr/>
        </p:nvPicPr>
        <p:blipFill>
          <a:blip r:embed="rId5"/>
          <a:stretch/>
        </p:blipFill>
        <p:spPr>
          <a:xfrm>
            <a:off x="1116000" y="3716280"/>
            <a:ext cx="4103640" cy="1825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http://t3.gstatic.com/images?q=tbn:ANd9GcSLKIW2EebW_NisJ5BnG5uC6dgr2XSY7vL1e2fZycNJQd-EWWi4"/>
          <p:cNvPicPr/>
          <p:nvPr/>
        </p:nvPicPr>
        <p:blipFill>
          <a:blip r:embed="rId6"/>
          <a:stretch/>
        </p:blipFill>
        <p:spPr>
          <a:xfrm>
            <a:off x="1187280" y="620640"/>
            <a:ext cx="3384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pore test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( biological indicator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Picture 2" descr="http://t3.gstatic.com/images?q=tbn:ANd9GcSdboxK-R_6CWjC3sgi7dGMAGcDSgah81KIauTKkKMHBTiQiVaN"/>
          <p:cNvPicPr/>
          <p:nvPr/>
        </p:nvPicPr>
        <p:blipFill>
          <a:blip r:embed="rId1"/>
          <a:stretch/>
        </p:blipFill>
        <p:spPr>
          <a:xfrm>
            <a:off x="2340000" y="2060640"/>
            <a:ext cx="4032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SimSun"/>
              </a:rPr>
              <a:t>Moist heat: Other Applic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Pasteuriz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d heat at temperatures sufficient to inactivate harmful  organism in </a:t>
            </a:r>
            <a:r>
              <a:rPr b="0" lang="en-US" sz="2400" spc="-1" strike="noStrike">
                <a:solidFill>
                  <a:srgbClr val="c2ebff"/>
                </a:solidFill>
                <a:latin typeface="Tahoma"/>
                <a:ea typeface="SimSun"/>
              </a:rPr>
              <a:t>mil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   The temperatures  of sterilization is not  achieved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Temperature may be 74°C,  for 3-5 seconds. (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Flash  metho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 or 62°C for 30 minutes. (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Conventional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Boil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quite common  especially in domestic circumstan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steurization of milk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revent diseases like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hoid f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Brucell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uberculo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Q f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Other physical methods :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Radi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SimSun"/>
              </a:rPr>
              <a:t>U.V. ligh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Has limited sterilizing power because of poor penetration into most materials. Generally used in irradiation of air in certain areas such as operating rooms an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tuberculos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lab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SimSun"/>
              </a:rPr>
              <a:t>Ionizing radiation-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e.g.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SimSun"/>
              </a:rPr>
              <a:t>Gamma radi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: has greater energy than U.V. light, therefore more effective. Used mainly in industrial facilities e.g.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sterilization of disposable plastic syringes, gloves, specimens containers and Petri dish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Other physical methods :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Filtr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May be done under either negative or positive pressure. Example ; </a:t>
            </a:r>
            <a:r>
              <a:rPr b="1" i="1" lang="en-US" sz="2800" spc="-1" strike="noStrike">
                <a:solidFill>
                  <a:srgbClr val="00b0f0"/>
                </a:solidFill>
                <a:latin typeface="Tahoma"/>
                <a:ea typeface="SimSun"/>
              </a:rPr>
              <a:t>membrane filte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made of cellulose acetate. Generally removes most bacteria but viruses and some small bacteria e.g. </a:t>
            </a:r>
            <a:r>
              <a:rPr b="0" i="1" lang="en-US" sz="2800" spc="-1" strike="noStrike">
                <a:solidFill>
                  <a:srgbClr val="ffc000"/>
                </a:solidFill>
                <a:latin typeface="Tahoma"/>
                <a:ea typeface="SimSun"/>
              </a:rPr>
              <a:t>Chlamydi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&amp; </a:t>
            </a:r>
            <a:r>
              <a:rPr b="0" i="1" lang="en-US" sz="2800" spc="-1" strike="noStrike">
                <a:solidFill>
                  <a:srgbClr val="ffc000"/>
                </a:solidFill>
                <a:latin typeface="Tahoma"/>
                <a:ea typeface="SimSun"/>
              </a:rPr>
              <a:t>Mycoplasm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may pass through. Thus filtration does not technically sterilize items but is adequate for circumstances under which is u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Main use</a:t>
            </a:r>
            <a:r>
              <a:rPr b="0" lang="en-US" sz="2800" spc="-1" strike="noStrike">
                <a:solidFill>
                  <a:srgbClr val="c2ebff"/>
                </a:solidFill>
                <a:latin typeface="Tahoma"/>
                <a:ea typeface="SimSun"/>
              </a:rPr>
              <a:t>: for heat labile substances e.g. sera, antibiotic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jecti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1- Define the terms sterilization, disinfectant and antisepti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2- Classify the different methods of sterilization (physical and chemical method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3- Know and realizes that heat is the most important method of sterilization and its application in medical pract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t3.gstatic.com/images?q=tbn:Fo27iUeAdcieTM:http://www.duckol.com/uploadFiles/upimg26/Microfiltration-Membrane-Filter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620640"/>
            <a:ext cx="2735280" cy="3168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http://t1.gstatic.com/images?q=tbn:35FVmUfK3cURBM:http://images2.opticsplanet.com/640-640/opplanet-whatman-filter-holders-for-nuclepore-membrane-filters-whatman-42020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2000" y="620640"/>
            <a:ext cx="2447640" cy="3024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http://t1.gstatic.com/images?q=tbn:4ZGd9vK2iMgHGM:http://www.trinityfiltration.in/images/membrane-filter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4149720"/>
            <a:ext cx="2737080" cy="2232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ttp://t3.gstatic.com/images?q=tbn:wionk_8EKOMzXM:http://imghost1.indiamart.com/data2/YY/NJ/MY-1857873/membrane_pic-500x500-250x250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4221000"/>
            <a:ext cx="2664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Sterilization by Chemic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Useful for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SimSun"/>
              </a:rPr>
              <a:t>heat sensitive materials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.g. plastics and lensed endoscopes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1. </a:t>
            </a:r>
            <a:r>
              <a:rPr b="1" lang="en-US" sz="1800" spc="-1" strike="noStrike">
                <a:solidFill>
                  <a:srgbClr val="ffc000"/>
                </a:solidFill>
                <a:latin typeface="Tahoma"/>
                <a:ea typeface="SimSun"/>
              </a:rPr>
              <a:t>Ethylene Oxide Chamber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thylene oxide alkylates DNA molecules and thereby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inactivates microorganism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Ethylenes oxide may cause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SimSun"/>
              </a:rPr>
              <a:t>explos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if used pure so it is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mixed with an inert gas .Requires high humidity (50-60% ) .Temperature : </a:t>
            </a:r>
            <a:r>
              <a:rPr b="0" lang="en-US" sz="1800" spc="-1" strike="noStrike">
                <a:solidFill>
                  <a:srgbClr val="00b0f0"/>
                </a:solidFill>
                <a:latin typeface="Tahoma"/>
                <a:ea typeface="SimSun"/>
              </a:rPr>
              <a:t>55-60°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and exposure period </a:t>
            </a:r>
            <a:r>
              <a:rPr b="0" lang="en-US" sz="1800" spc="-1" strike="noStrike">
                <a:solidFill>
                  <a:srgbClr val="92d050"/>
                </a:solidFill>
                <a:latin typeface="Tahoma"/>
                <a:ea typeface="SimSun"/>
              </a:rPr>
              <a:t>4-6 hour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2.   </a:t>
            </a:r>
            <a:r>
              <a:rPr b="1" lang="en-US" sz="1800" spc="-1" strike="noStrike">
                <a:solidFill>
                  <a:srgbClr val="ffc000"/>
                </a:solidFill>
                <a:latin typeface="Tahoma"/>
                <a:ea typeface="SimSun"/>
              </a:rPr>
              <a:t>Activated alkaline Gluteraldehyde 2%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Immerse item in solution for about 20 mins.  If 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Mycobacterium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r>
              <a:rPr b="0" i="1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tuberculosis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or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  <a:ea typeface="SimSun"/>
              </a:rPr>
              <a:t>spore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present then immersion period 2-3 hou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Chemic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Some strong chemical substances may be used to achieve sterilization ( kill spores) e.g.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Gluteraldehyd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thylene oxide.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Used for heat sensitive equip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Disinfectants /Antisep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eg. phenolics, chlorhexidine, alcohol, etc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sinfectants /Antisepti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1600200"/>
          <a:ext cx="7859880" cy="4619520"/>
        </p:xfrm>
        <a:graphic>
          <a:graphicData uri="http://schemas.openxmlformats.org/drawingml/2006/table">
            <a:tbl>
              <a:tblPr/>
              <a:tblGrid>
                <a:gridCol w="1549440"/>
                <a:gridCol w="790560"/>
                <a:gridCol w="1020600"/>
                <a:gridCol w="801720"/>
                <a:gridCol w="603360"/>
                <a:gridCol w="831960"/>
                <a:gridCol w="701640"/>
                <a:gridCol w="1560600"/>
              </a:tblGrid>
              <a:tr h="27432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Disinfecta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GP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ctivity agains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T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I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nactivated b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orros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GN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por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rote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oa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henolic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ud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Iz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Solub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Phenolic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e.g. clears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to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 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hlori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compoun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or</a:t>
                      </a: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 +</a:t>
                      </a:r>
                      <a:r>
                        <a:rPr b="1" lang="ar-SA" sz="12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</a:t>
                      </a: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buffered Solution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Lodoph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(Slow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Chlorhexidi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(Hibitane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70°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alcoho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ctr" pos="19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Times New Roman"/>
                          <a:ea typeface="SimSun"/>
                        </a:rPr>
                        <a:t>Formaldehy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(slow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ctr" pos="190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Glutaraldehy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00"/>
                          </a:solidFill>
                          <a:uFillTx/>
                          <a:latin typeface="Times New Roman"/>
                          <a:ea typeface="SimSun"/>
                        </a:rPr>
                        <a:t>(Cidex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SimSun"/>
                        </a:rPr>
                        <a:t>_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+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Factors influencing activity of disinfecta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1. Activity directly proportional t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temper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2. Directly proportional to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up to a poin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optimum concentration.  After this level no advantage in further increases in concentr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Picture 5" descr="http://t1.gstatic.com/images?q=tbn:HzalTD8j-GR8PM:http://www.prlog.org/10383255-chemical-disinfectan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5229360"/>
            <a:ext cx="1152360" cy="1295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http://t3.gstatic.com/images?q=tbn:Ef73UlvzVqfq-M:http://www.chemistryland.com/CHM130W/06-Nomenclature/NomenclatureHealth/Chlorate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5157720"/>
            <a:ext cx="13683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Factors influencing activity of disinfecta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3. Disinfectants may be inactivated by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Di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Organic matter : Proteins, Pus, Blood, Mucus and Fec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SimSun"/>
              </a:rPr>
              <a:t>Non organic: Cork, Hard  water and Some plastic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4.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Tim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: Disinfectants need time to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5.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Range of 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: Disinfectants not equally effective against the whole spectrum of microbes.  e.g.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Chlorhexid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less active against Gram negative bacteria than Gram positive cocc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Hypochlorit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Gluteraldehy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re more active against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hepatitis virus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an most other disinfectant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Hospital disinfection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Articl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isinfect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loors, walls                 Phenolics fluids 1-2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rfaces tables            Hypochlorite, Alcoho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ki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rge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nds            Chlorhexidine, Iod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coh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tient skin                  70% Alcohol, Iod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Tahoma"/>
              </a:rPr>
              <a:t>Endoscop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Gluteraldehyde 2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Cidex), subatmospheric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e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Tahoma"/>
              </a:rPr>
              <a:t>Thermometer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   70% Alcohol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ortant poi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instrument or item used for sterile body site should be steri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 instrument or item used for non-sterile body site  can be disinf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d washing is the most important to prevent hospital acquired infe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http://t0.gstatic.com/images?q=tbn:fd2MPtPi-CXbJM:http://image.shutterstock.com/display_pic_with_logo/388663/388663,1245079056,31/stock-vector-hand-washing-3207223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3573360"/>
            <a:ext cx="5256360" cy="2735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t0.gstatic.com/images?q=tbn:8O4k7tUPUvJS_M:http://www.justbathroomsigns.com/img/lg/S/Hand-Wash-Hygiene-Sign-S-4871.gif"/>
          <p:cNvPicPr/>
          <p:nvPr/>
        </p:nvPicPr>
        <p:blipFill>
          <a:blip r:embed="rId3"/>
          <a:stretch/>
        </p:blipFill>
        <p:spPr>
          <a:xfrm>
            <a:off x="5940360" y="620640"/>
            <a:ext cx="2376720" cy="259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http://t2.gstatic.com/images?q=tbn:Mw9mdRi1ZDUo-M:http://www.defendingfoodsafety.com/uploads/image/Hand%2520Washing.jpg"/>
          <p:cNvPicPr/>
          <p:nvPr/>
        </p:nvPicPr>
        <p:blipFill>
          <a:blip r:embed="rId4"/>
          <a:stretch/>
        </p:blipFill>
        <p:spPr>
          <a:xfrm>
            <a:off x="1908000" y="692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jectives-cont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5- Know dry heat as applied in hot air oven and moist heat as applied in autoclav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7- Know the principles of autoclave function and monitoring methods of sterilization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7ddff"/>
                </a:solidFill>
                <a:latin typeface="Footlight MT Light"/>
              </a:rPr>
              <a:t>8- Know the importance of non heat sterilization methods and their use for sterilization of heat sensitive obje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Objectives-cont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ddff"/>
                </a:solidFill>
                <a:latin typeface="Footlight MT Light"/>
              </a:rPr>
              <a:t>9-Know the difference between antiseptics and disinfecta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ddff"/>
                </a:solidFill>
                <a:latin typeface="Footlight MT Light"/>
              </a:rPr>
              <a:t>10- Classify the disinfectants and antiseptics and know factors affecting their func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7ddff"/>
                </a:solidFill>
                <a:latin typeface="Footlight MT Light"/>
              </a:rPr>
              <a:t>11- Know different applications for different disinfections and antiseptic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fini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Sterilization: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complete killing of all forms of microorganisms, including bacterial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SimSun"/>
              </a:rPr>
              <a:t>sp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Disinfection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 killing or removing of harmful vegetative microorganis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Disinfectant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chemical substance used to achieve disinfe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SimSun"/>
              </a:rPr>
              <a:t>Antiseptic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disinfectant that can be safely used on living tissu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  <a:ea typeface="SimSun"/>
              </a:rPr>
              <a:t>Methods of Steriliz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  <a:ea typeface="SimSun"/>
              </a:rPr>
              <a:t>Physical method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Heat ( dry heat &amp; moist hea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U.V. L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Ionizing Radi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Filtra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2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  <a:ea typeface="SimSun"/>
              </a:rPr>
              <a:t>Chemical metho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 (used for heat sensitive equipment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Ethylene Oxid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Gluteraldehyd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  <a:ea typeface="SimSun"/>
              </a:rPr>
              <a:t>PHYSICAL METHOD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HEAT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: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Most important should be used whenever possib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 ,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  <a:ea typeface="SimSun"/>
              </a:rPr>
              <a:t> typ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-Dry heat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t temperature of 160˚C for one h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B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- Moist hea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eg.  Autocla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1685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at 121 or 134 C for 10 or 15 minu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Sterilization by Hea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SimSun"/>
              </a:rPr>
              <a:t> Common methods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ahoma"/>
                <a:ea typeface="SimSu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Dry Hea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Dry Heat- kills microorganisms by destroying their oxidative process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Tahoma"/>
                <a:ea typeface="SimSun"/>
              </a:rPr>
              <a:t>Simplest method is exposing item to be sterilized to the naked flame e.g. Bunsen burner- for sterilizing bacteriological loops, knives, blad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Hot air oven </a:t>
            </a:r>
            <a:r>
              <a:rPr b="1" lang="en-US" sz="2000" spc="-1" strike="noStrike">
                <a:solidFill>
                  <a:srgbClr val="ffc000"/>
                </a:solidFill>
                <a:latin typeface="Tahoma"/>
                <a:ea typeface="SimSun"/>
              </a:rPr>
              <a:t>expose items to 160 °C for 1 hou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Has electric element in chamber as source of heat plus a fan to circulate air for even distribution of heat in chamber. Oven without fan is dangerous. Used for items that are lacking water such a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Meta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Glassw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    </a:t>
            </a:r>
            <a:r>
              <a:rPr b="0" lang="en-US" sz="2400" spc="-1" strike="noStrike">
                <a:solidFill>
                  <a:srgbClr val="92d050"/>
                </a:solidFill>
                <a:latin typeface="Tahoma"/>
                <a:ea typeface="SimSun"/>
              </a:rPr>
              <a:t>-Ointment / Oils/ Waxes /Pow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2" descr="http://t2.gstatic.com/images?q=tbn:Ebw2yJKQ-mhOjM:http://home.netvigator.com/~pdsuter/pic/machine0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4653000"/>
            <a:ext cx="194328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SimSun"/>
              </a:rPr>
              <a:t>Moist He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Uses hot water. Moist heat kills microorganisms by </a:t>
            </a:r>
            <a:r>
              <a:rPr b="0" lang="en-US" sz="2400" spc="-1" strike="noStrike">
                <a:solidFill>
                  <a:srgbClr val="00b0f0"/>
                </a:solidFill>
                <a:latin typeface="Tahoma"/>
                <a:ea typeface="SimSun"/>
              </a:rPr>
              <a:t>denaturating protei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Autoclav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standard sterilization method in hospita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equipment is calle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Autoclav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 and it works under the same principle as the pressure cooker wher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water boil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at increased atmosphere pressure i.e. because of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increase pressur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boiling point of water is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SimSun"/>
              </a:rPr>
              <a:t>&gt;100 °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The autoclave is a tough double walled chamber in which air is replaced by pure saturated steam under pressur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SimSu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07:27:43Z</dcterms:created>
  <dc:creator>Prof.Kambal</dc:creator>
  <dc:description/>
  <dc:language>en-US</dc:language>
  <cp:lastModifiedBy>DR.HANAN</cp:lastModifiedBy>
  <dcterms:modified xsi:type="dcterms:W3CDTF">2015-10-05T08:32:38Z</dcterms:modified>
  <cp:revision>59</cp:revision>
  <dc:subject/>
  <dc:title>Sterilization &amp; Disinfection</dc:title>
</cp:coreProperties>
</file>