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85D-61E1-42E8-8BAD-9B336F3F1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7FE-FC2E-4058-9158-BEF213AEA0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D6A-3431-4902-B157-14B4D01B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71B-9F28-434F-B81A-51511AE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8D2-391A-4108-A96D-05770566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F04-2AF2-49B2-9B25-600AFA86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7C17-B192-4EC4-BDCD-EC343A9C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CB3D-E376-4660-BC96-2D5DE57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42A3-53D1-4361-93B0-18703740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928E-7628-4B94-84BC-DA0B06A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6B95-D641-4CE0-BB84-D4AA9E52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C203-2FD5-4AE1-97C6-C4CFAFF1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8C8C-0C84-4D19-928E-79AC554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788-1544-4A31-862F-6CB06A3E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548-9D62-4616-BBF1-94CB281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F469-948B-4DF3-9BFB-20B1AB81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A956-924A-40E1-B727-A1005197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D912-23BA-491E-9889-5C126DF3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2D38-F0E7-4A64-9819-80267371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272-8992-4ABA-AF67-5DD7EA65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352-5147-45F7-997F-2E936A11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603-BF51-4D45-863A-76BDCD46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013-3253-44F5-BDA7-965BB06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0DB-A747-4090-AD3D-4B1D97E4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AA5-F5E5-485C-8A25-FA448FB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90C-9C5C-4744-A80C-369921D7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31E-CB64-4F5A-A57D-992ED0D1528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A639-0FEE-45B5-8F53-CB9C873D83E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f. Hanan Habib &amp; Dr. AbdulAziz Al-kha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ege Of Medicine-K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,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gene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SimSun"/>
              </a:rPr>
              <a:t>penetrat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for all invasive procedures at operating room or clinics, autoclavable equipments should be u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 metho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eth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076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http://t1.gstatic.com/images?q=tbn:ANd9GcRYNqbj5I97mYRGojmkfPMHnK5f-yc_EJaj5Gn1BD7vL9fshDg5tg"/>
          <p:cNvPicPr/>
          <p:nvPr/>
        </p:nvPicPr>
        <p:blipFill>
          <a:blip r:embed="rId5"/>
          <a:stretch/>
        </p:blipFill>
        <p:spPr>
          <a:xfrm>
            <a:off x="1116000" y="3716280"/>
            <a:ext cx="4103640" cy="182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t3.gstatic.com/images?q=tbn:ANd9GcSLKIW2EebW_NisJ5BnG5uC6dgr2XSY7vL1e2fZycNJQd-EWWi4"/>
          <p:cNvPicPr/>
          <p:nvPr/>
        </p:nvPicPr>
        <p:blipFill>
          <a:blip r:embed="rId6"/>
          <a:stretch/>
        </p:blipFill>
        <p:spPr>
          <a:xfrm>
            <a:off x="1187280" y="620640"/>
            <a:ext cx="33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ore test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( biological indicato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2" descr="http://t3.gstatic.com/images?q=tbn:ANd9GcSdboxK-R_6CWjC3sgi7dGMAGcDSgah81KIauTKkKMHBTiQiVaN"/>
          <p:cNvPicPr/>
          <p:nvPr/>
        </p:nvPicPr>
        <p:blipFill>
          <a:blip r:embed="rId1"/>
          <a:stretch/>
        </p:blipFill>
        <p:spPr>
          <a:xfrm>
            <a:off x="2340000" y="2060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0" lang="en-US" sz="2400" spc="-1" strike="noStrike">
                <a:solidFill>
                  <a:srgbClr val="c2ebff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of sterilization is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ond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ute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such as operating rooms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has greater energy than U.V. light, therefore more effective. Used mainly in industrial facilities e.g.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Example ; </a:t>
            </a:r>
            <a:r>
              <a:rPr b="1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of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Main us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: for heat labile substances e.g. sera,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1- Define the terms sterilization, disinfectant and antisep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2- Classify the different methods of sterilization (physical and chemical method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3- Know and realizes that heat is the most important method of sterilization and its application in medical pract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d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 .Requires high humidity (50-60% ) .Te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um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tuberculosis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o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spo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present then immersion period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( kill spores) e.g.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thylene oxide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Used for heat sensitive equip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Disinfectants /Antisep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phenolics, chlorhexidine, alcohol, etc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infectants /Antisept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Chl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Disinfectants may be inactivated by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 Hard  water 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), subatmospher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rtant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sterile body site should be ster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non-sterile body site  can be disinf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 washing is the most important to prevent hospital acquired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5- Know dry heat as applied in hot air oven and moist heat as applied in autoc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7- Know the principles of autoclave function and monitoring methods of sterilization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8- Know the importance of non heat sterilization methods and their use for sterilization of heat sensitive obj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9-Know the difference between antiseptics and disinfe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0- Classify the disinfectants and antiseptics and know factors affecting their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1- Know different applications for different disinfections and antisept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Physical method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Heat ( dry heat &amp; moist he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U.V. L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Filtr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Chemical meth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(used for heat sensitive equipme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Ethylene 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Gluteraldehyd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,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or 134 C for 10 or 15 min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Common method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by destroying their oxidative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e.g. Bunsen burner-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Oven without fan is dangerous. Used for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653000"/>
            <a:ext cx="19432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s hot water. Moist heat kills microorganisms by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DR.HANAN</cp:lastModifiedBy>
  <dcterms:modified xsi:type="dcterms:W3CDTF">2015-10-05T08:32:38Z</dcterms:modified>
  <cp:revision>59</cp:revision>
  <dc:subject/>
  <dc:title>Sterilization &amp; Disinfection</dc:title>
</cp:coreProperties>
</file>