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32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36.jpeg" ContentType="image/jpeg"/>
  <Override PartName="/ppt/media/image11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30.jpeg" ContentType="image/jpeg"/>
  <Override PartName="/ppt/media/image43.png" ContentType="image/png"/>
  <Override PartName="/ppt/media/image46.jpeg" ContentType="image/jpeg"/>
  <Override PartName="/ppt/media/image12.png" ContentType="image/png"/>
  <Override PartName="/ppt/media/image20.jpeg" ContentType="image/jpeg"/>
  <Override PartName="/ppt/media/image13.png" ContentType="image/png"/>
  <Override PartName="/ppt/media/image38.png" ContentType="image/png"/>
  <Override PartName="/ppt/media/image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5DAE-9305-4902-974D-197DF61ED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E818-B8D1-43D1-B9AB-FEC68BA77B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 FAWZIA AL OTAI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DDB-6FA8-4F08-9D33-D8B037F70A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 : FAWZ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E3C-EED8-4FE1-9165-6735DDBF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75E-D0FC-4E58-8A70-AD46F06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DCA2-64DF-4843-ACA7-66D8F950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B28-0384-42DD-B56A-C18580CD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408-5B7F-4E36-A05F-88982FFC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3EE8-9418-4172-B5D0-55936948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DABA-47BA-491C-ABE1-6E249766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C42-065C-459C-BC86-DAD9BA14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722A-895B-4267-AD45-4B65CFE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E625-7E03-43CE-9140-83F64BA5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DC6D-BADF-43AA-AA3B-76A4677A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B7F8-81FE-4407-88E7-43EBCD9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4F00-FF44-46AB-B2DE-174F8FB5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1F69-7C7B-4E99-8958-06CD17D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9A8D-37BD-4655-9A31-B5D3623D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581B-D840-4BA7-8BF4-40901973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0CC9-B40E-4C94-99E6-0391959C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C86-EFE6-4312-83F5-886E63BF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5A9A-584C-4D5E-954E-5598B813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816-EC1B-4A5E-9280-3A7F649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4F0-D543-4791-AE52-7901E673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7733-C231-4944-A850-B91A14F7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C5D2-2171-42AA-AB77-401418DA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7FF-45C0-48DA-85C0-6E57C28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CD5-0018-4F01-B037-B9C73E0A48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18C1-8EE4-4834-8099-36F2AD1E33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s://www.google.com.sa/imgres?imgurl=http%3A%2F%2Fwww.livinginwellbeing.org%2Fwp-content%2Fuploads%2F2013%2F05%2Fliving-in-wellbeing-actinomycosisi.jpeg&amp;imgrefurl=http%3A%2F%2Fwww.livinginwellbeing.org%2F2013%2F05%2Factinomycosis%2F&amp;docid=hkYt6ciGThEsOM&amp;tbnid=4uYV2x1CudVSqM%3A&amp;w=505&amp;h=351&amp;ei=BuFUUvydIYmd0AWsuICQBg&amp;ved=0CAIQxiAwAA&amp;iact=c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google.com.sa/url?sa=i&amp;rct=j&amp;q=&amp;esrc=s&amp;frm=1&amp;source=images&amp;cd=&amp;cad=rja&amp;docid=1xfVbXWzkHLmuM&amp;tbnid=lQOfaVlg0SKDKM:&amp;ved=0CAUQjRw&amp;url=http%3A%2F%2Fwww.pathologyoutlines.com%2Ftopic%2Fkidneyactinomycosis.html&amp;ei=V-FUUou7KoW-0QXTooDoDQ&amp;psig=AFQjCNEGM2BGkY1yq0XukoNEA11IuQbkFg&amp;ust=1381380687406047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anaerobes.fm/" TargetMode="External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gas+gangrene/v=2/SID=w/l=II/R=7/SS=r/OID=51d7d97d38ef5dc6/SIG=1ifa6fgbq/EXP=1129113777/*http%3A//images.search.yahoo.com/search/images/view?back=http%3A%2F%2Fimages.search.yahoo.com%2Fsearch%2Fimages%3F_adv_prop%3Dimages%26imgsz%3Dall%26imgc%3D%26vf%3Dall%26va%3Dgas%2Bgangrene%26fr%3DFP-tab-web-t%26ei%3DUTF-8&amp;h=249&amp;w=348&amp;imgcurl=life.nthu.edu.tw%2F%7Eg874261%2FGasGangrene%2F329.gif&amp;imgurl=life.nthu.edu.tw%2F%7Eg874261%2FGasGangrene%2F329.gif&amp;size=36.1kB&amp;name=329.gif&amp;rcurl=http%3A%2F%2Flife.nthu.edu.tw%2F%7Eg874261%2FGasGangrene%2FA11.HTML&amp;rurl=http%3A%2F%2Flife.nthu.edu.tw%2F%7Eg874261%2FGasGangrene%2FA11.HTML&amp;p=gas+gangrene&amp;type=gif&amp;no=7&amp;tt=122&amp;ei=UTF-8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0920" y="1981080"/>
            <a:ext cx="7770600" cy="144792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askerville Old Face"/>
              </a:rPr>
              <a:t>ANAEROBIC   BACTE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5"/>
          <p:cNvSpPr/>
          <p:nvPr/>
        </p:nvSpPr>
        <p:spPr>
          <a:xfrm>
            <a:off x="152280" y="6172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Book Antiqua"/>
                <a:ea typeface="Andalus"/>
              </a:rPr>
              <a:t>Dr- Fawzia Al-otaib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SPORE  FORMING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perfrin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Sept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novy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Histolytic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Diffic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Tet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CL .Botulin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IMPOR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ominate the indigenous flora (colonization resista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ommonly found in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Easy to overl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cial preca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low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ixe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fficult treat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5" descr="http://textbookofbacteriology.net/themicrobialworld/Clostridium.pus.jpg"/>
          <p:cNvPicPr/>
          <p:nvPr/>
        </p:nvPicPr>
        <p:blipFill>
          <a:blip r:embed="rId5"/>
          <a:stretch/>
        </p:blipFill>
        <p:spPr>
          <a:xfrm>
            <a:off x="4267080" y="3048120"/>
            <a:ext cx="4419720" cy="3429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PRESENCE   AS   NORMAL   FLO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924680" cy="403848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uth, thr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om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Large intestine   &gt;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Book Antiqua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/ gram colonic 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Va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ndocerv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reth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MODEFIED   BY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athophysiologic 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ntimicrobial agents ,H-Blockers ,antaci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Hormon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358128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lmost all infections are indigenous excep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ta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fant ,wound botu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as gangrene { some case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 .difficile {nosocomial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바탕"/>
                <a:ea typeface="바탕"/>
              </a:rPr>
              <a:t>HABITAT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 :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hese organism are normal flora in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Baskerville Old Face"/>
                <a:ea typeface="바탕"/>
              </a:rPr>
              <a:t>Oropharynx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     </a:t>
            </a:r>
            <a:r>
              <a:rPr b="0" i="1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Provetella melaninogenicus</a:t>
            </a: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. Fusobacteria, Veillonella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0000"/>
                </a:solidFill>
                <a:uFillTx/>
                <a:latin typeface="Baskerville Old Face"/>
                <a:ea typeface="바탕"/>
              </a:rPr>
              <a:t>Gastrointestinal trac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Found mainly in the </a:t>
            </a:r>
            <a:r>
              <a:rPr b="0" lang="en-US" sz="2400" spc="-1" strike="noStrike" u="sng">
                <a:solidFill>
                  <a:srgbClr val="ffc000"/>
                </a:solidFill>
                <a:uFillTx/>
                <a:latin typeface="Baskerville Old Face"/>
                <a:ea typeface="바탕"/>
              </a:rPr>
              <a:t>large colon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 large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otal number of anaerobes = </a:t>
            </a:r>
            <a:r>
              <a:rPr b="0" lang="en-US" sz="24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10 </a:t>
            </a:r>
            <a:r>
              <a:rPr b="0" lang="en-US" sz="2400" spc="-1" strike="noStrike" baseline="30000">
                <a:solidFill>
                  <a:srgbClr val="ffc000"/>
                </a:solidFill>
                <a:latin typeface="Baskerville Old Face"/>
                <a:ea typeface="바탕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While all aerobes (including E.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oli) = </a:t>
            </a: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askerville Old Face"/>
                <a:ea typeface="바탕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examples are </a:t>
            </a: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(1) </a:t>
            </a:r>
            <a:r>
              <a:rPr b="0" i="1" lang="en-US" sz="24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Bacteroides fragil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Bifidobacterium spe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Female genital tract (mainly in the vagina)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Baskerville Old Face"/>
              </a:rPr>
              <a:t>CHARACTER OF  ANAEROBIC INF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uppu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bscess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Tissue destruction{gangrene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eptic thrombophleb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Some have unique patholo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ctinomyc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sedomembranous co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as gangr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5715000" y="4114800"/>
            <a:ext cx="976320" cy="333360"/>
          </a:xfrm>
          <a:prstGeom prst="rightArrow">
            <a:avLst>
              <a:gd name="adj1" fmla="val 50000"/>
              <a:gd name="adj2" fmla="val 5024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PREDISPOSING 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086600" cy="3200400"/>
          </a:xfrm>
          <a:prstGeom prst="rect">
            <a:avLst/>
          </a:prstGeom>
          <a:solidFill>
            <a:srgbClr val="00006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Low O tension {Eh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rauma, dead tissue , deep w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mpaired blood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Presence of other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reign 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fig20_2"/>
          <p:cNvPicPr/>
          <p:nvPr/>
        </p:nvPicPr>
        <p:blipFill>
          <a:blip r:embed="rId1"/>
          <a:stretch/>
        </p:blipFill>
        <p:spPr>
          <a:xfrm>
            <a:off x="838080" y="304920"/>
            <a:ext cx="7391520" cy="6553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Dr.Fauzia\My Documents\My Pictures\anarob.gif"/>
          <p:cNvPicPr/>
          <p:nvPr/>
        </p:nvPicPr>
        <p:blipFill>
          <a:blip r:embed="rId1"/>
          <a:stretch/>
        </p:blipFill>
        <p:spPr>
          <a:xfrm>
            <a:off x="1219320" y="304920"/>
            <a:ext cx="6553080" cy="624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DEFEN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MICRBE THAT CAN ONLY GROW UNDER ANAROBIC CONDI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NSETIVE 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ronidazole (MTZ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AIL TO GROW IN  AIR 10 %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 Antiqu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C:\Documents and Settings\Dr.Fauzia\My Documents\My Pictures\flagyl.jpg"/>
          <p:cNvPicPr/>
          <p:nvPr/>
        </p:nvPicPr>
        <p:blipFill>
          <a:blip r:embed="rId4"/>
          <a:stretch/>
        </p:blipFill>
        <p:spPr>
          <a:xfrm>
            <a:off x="5257800" y="2133720"/>
            <a:ext cx="3581280" cy="314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0" y="160020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A 43-year-old man with surgically proved pyogenic brain abscess in the right basal ganglion secondary to </a:t>
            </a:r>
            <a:r>
              <a:rPr b="0" i="1" lang="en-US" sz="2000" spc="-1" strike="noStrike">
                <a:solidFill>
                  <a:srgbClr val="ffffff"/>
                </a:solidFill>
                <a:latin typeface="Bodoni MT"/>
              </a:rPr>
              <a:t>Eubacterium lentum</a:t>
            </a: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 (obligate anaerobe) inf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doni MT"/>
              </a:rPr>
              <a:t>Axial contrast-enhanced T1-weighted MR image shows a ring-shaped cystic lesion and surrounding ede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2" descr="C:\Documents and Settings\Dr.Fauzia\My Documents\My Pictures\zj40020502490001.gif"/>
          <p:cNvPicPr/>
          <p:nvPr/>
        </p:nvPicPr>
        <p:blipFill>
          <a:blip r:embed="rId4"/>
          <a:stretch/>
        </p:blipFill>
        <p:spPr>
          <a:xfrm>
            <a:off x="3200400" y="1295280"/>
            <a:ext cx="5715000" cy="480060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odoni MT"/>
              </a:rPr>
              <a:t>Predisposing facto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335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tibiotic therap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Neoplasm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Trau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holecystitis  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Obstruction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Ulce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iabetes mellitus 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Pylephleb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Diverticula form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FECTIONS  BEGIN 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DISRUPTION OF BARRIER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RAUM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OPERA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ANCEROUS  INVASION  OF  TISSU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000"/>
                </a:solidFill>
                <a:latin typeface="Baskerville Old Face"/>
                <a:ea typeface="바탕"/>
              </a:rPr>
              <a:t>DISRUPTION OF BLOOD SUPP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ROPS  OXYGEN  CONTENT  OF  TISSU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ECREASE IN  Eh  POTENTI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Baskerville Old Fac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ISSUE  NECROSI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140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LABORATORY DIAGNOSIS: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Baskerville Old Face"/>
                <a:ea typeface="바탕"/>
              </a:rPr>
              <a:t>When anaerobic infection is suspecte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a)  Specimens have to be collected from the site containing necrotic tiss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b)  Pus is better than swab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c)  Specimens has to be send to the laboratory within 1/2 hour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)  Fluid media like cooked meat broth are the best culture med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e)  Specimens have to incubated anaerobically for 48 hou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bbl_blue"/>
          <p:cNvPicPr/>
          <p:nvPr/>
        </p:nvPicPr>
        <p:blipFill>
          <a:blip r:embed="rId1"/>
          <a:stretch/>
        </p:blipFill>
        <p:spPr>
          <a:xfrm>
            <a:off x="5105520" y="533520"/>
            <a:ext cx="3241440" cy="5638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anaerobe"/>
          <p:cNvPicPr/>
          <p:nvPr/>
        </p:nvPicPr>
        <p:blipFill>
          <a:blip r:embed="rId2"/>
          <a:stretch/>
        </p:blipFill>
        <p:spPr>
          <a:xfrm>
            <a:off x="1143000" y="533520"/>
            <a:ext cx="3276720" cy="563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Dr.Fauzia\My Documents\My Pictures\GasPak1.jpg"/>
          <p:cNvPicPr/>
          <p:nvPr/>
        </p:nvPicPr>
        <p:blipFill>
          <a:blip r:embed="rId1"/>
          <a:stretch/>
        </p:blipFill>
        <p:spPr>
          <a:xfrm>
            <a:off x="476280" y="914400"/>
            <a:ext cx="819144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바탕"/>
                <a:ea typeface="바탕"/>
              </a:rPr>
              <a:t>ACTINOMYC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Actinomyces are branching  anaerobic or microaerophilic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Baskerville Old Face"/>
                <a:ea typeface="바탕"/>
              </a:rPr>
              <a:t>Gram positive bacilli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Source of the infection is normal flora and the host usually normal ho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Primary site of the infection is mouth, lung, appendix, uterus with IUD (chronic infection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Infection can spread to the brain, liver, bone and bloo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Diagnosis by Gram stain with sulfur granules and growth of molar tooth coloni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SzPct val="1097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Baskerville Old Face"/>
                <a:ea typeface="바탕"/>
              </a:rPr>
              <a:t>Treatment penicillin, clindamycin or tetracycline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3168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18432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8" descr="https://encrypted-tbn1.gstatic.com/images?q=tbn:ANd9GcTXYV8-pCltxciI_HMlhSFdC2nbabyDyMGsmSNG_qL5DRx1x8LB5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838080"/>
            <a:ext cx="3527640" cy="2452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pathologyoutlines.com/caseofweek/case244imag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38520" y="3429000"/>
            <a:ext cx="4105080" cy="3033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s://encrypted-tbn1.gstatic.com/images?q=tbn:ANd9GcQmpR1rGgraPhWU0zPMoIlNooKX9cEYxZS7xUqQMcA8-OKWkNE"/>
          <p:cNvPicPr/>
          <p:nvPr/>
        </p:nvPicPr>
        <p:blipFill>
          <a:blip r:embed="rId5"/>
          <a:stretch/>
        </p:blipFill>
        <p:spPr>
          <a:xfrm>
            <a:off x="520560" y="762120"/>
            <a:ext cx="2394000" cy="236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바탕"/>
                <a:ea typeface="바탕"/>
              </a:rPr>
              <a:t>TREATMENT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Bacteroides fragilis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바탕"/>
                <a:ea typeface="바탕"/>
              </a:rPr>
              <a:t>is always resistant to penicillin.</a:t>
            </a: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But penicillin can he used for other anaerobes</a:t>
            </a:r>
            <a:r>
              <a:rPr b="0" lang="en-US" sz="3200" spc="-1" strike="noStrike" u="sng">
                <a:solidFill>
                  <a:srgbClr val="86d1ec"/>
                </a:solidFill>
                <a:uFillTx/>
                <a:latin typeface="바탕"/>
                <a:ea typeface="바탕"/>
                <a:hlinkClick r:id="rId3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Flagyl (metronidazole) is the drug of choi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바탕"/>
                <a:ea typeface="바탕"/>
              </a:rPr>
              <a:t>Clindamycin can also be us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42840" y="914400"/>
            <a:ext cx="35053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TETAN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2209680" y="3428640"/>
            <a:ext cx="4724640" cy="1981080"/>
          </a:xfrm>
          <a:prstGeom prst="rect">
            <a:avLst/>
          </a:prstGeom>
          <a:solidFill>
            <a:srgbClr val="000e6b"/>
          </a:solidFill>
          <a:ln w="9360">
            <a:solidFill>
              <a:srgbClr val="00008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TRIM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LOCKJAW  188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Strict toxigenic dis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Image Preview"/>
          <p:cNvPicPr/>
          <p:nvPr/>
        </p:nvPicPr>
        <p:blipFill>
          <a:blip r:embed="rId1"/>
          <a:stretch/>
        </p:blipFill>
        <p:spPr>
          <a:xfrm>
            <a:off x="838080" y="914400"/>
            <a:ext cx="7543800" cy="53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Image Preview"/>
          <p:cNvPicPr/>
          <p:nvPr/>
        </p:nvPicPr>
        <p:blipFill>
          <a:blip r:embed="rId1"/>
          <a:stretch/>
        </p:blipFill>
        <p:spPr>
          <a:xfrm>
            <a:off x="1371600" y="762120"/>
            <a:ext cx="6781680" cy="5638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7" descr="tetanus image.jpg (29376 bytes)"/>
          <p:cNvPicPr/>
          <p:nvPr/>
        </p:nvPicPr>
        <p:blipFill>
          <a:blip r:embed="rId1"/>
          <a:stretch/>
        </p:blipFill>
        <p:spPr>
          <a:xfrm>
            <a:off x="762120" y="457200"/>
            <a:ext cx="7619760" cy="594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 Million/year   &gt; 60 yr .injection of drugs {young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½ due to neonatal tetan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ryptogenic t. {23%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Disease of non-immunized animals and humans {toxoid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SOURC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imals feaces {horses} ,so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ntaminated wound {minor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pound fra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rcotic add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sterile inj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rns , bites ,avul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mbilical stu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Face , neck , upper extremities wounds are more danger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TETAN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886200" cy="342900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PATHOGE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EXTOXIN {TETANOSPASMI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resynaptic terminals of LMN Inhibitory impulses to M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Persistent tonic spa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3962160" cy="3429000"/>
          </a:xfrm>
          <a:prstGeom prst="rect">
            <a:avLst/>
          </a:prstGeom>
          <a:solidFill>
            <a:srgbClr val="000e6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Clinical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Gener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Local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Cepha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Neonatal{ &gt;90%}mort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askerville Old Face"/>
              </a:rPr>
              <a:t>IP 3-21 d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Image Preview"/>
          <p:cNvPicPr/>
          <p:nvPr/>
        </p:nvPicPr>
        <p:blipFill>
          <a:blip r:embed="rId1"/>
          <a:stretch/>
        </p:blipFill>
        <p:spPr>
          <a:xfrm>
            <a:off x="457200" y="914400"/>
            <a:ext cx="73915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Image Preview"/>
          <p:cNvPicPr/>
          <p:nvPr/>
        </p:nvPicPr>
        <p:blipFill>
          <a:blip r:embed="rId1"/>
          <a:stretch/>
        </p:blipFill>
        <p:spPr>
          <a:xfrm>
            <a:off x="1523880" y="144792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Image Preview"/>
          <p:cNvPicPr/>
          <p:nvPr/>
        </p:nvPicPr>
        <p:blipFill>
          <a:blip r:embed="rId1"/>
          <a:stretch/>
        </p:blipFill>
        <p:spPr>
          <a:xfrm>
            <a:off x="1905120" y="16765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Image Preview"/>
          <p:cNvPicPr/>
          <p:nvPr/>
        </p:nvPicPr>
        <p:blipFill>
          <a:blip r:embed="rId1"/>
          <a:stretch/>
        </p:blipFill>
        <p:spPr>
          <a:xfrm>
            <a:off x="1219320" y="1143000"/>
            <a:ext cx="6705360" cy="4952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7"/>
          <p:cNvSpPr/>
          <p:nvPr/>
        </p:nvSpPr>
        <p:spPr>
          <a:xfrm>
            <a:off x="4131720" y="457200"/>
            <a:ext cx="3969360" cy="3020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R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le relax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biotics :MTZ , 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 {500 UNITS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858960" y="3886200"/>
            <a:ext cx="6159240" cy="2288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E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active childhood immun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priate wound manage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of w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unization 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990720"/>
            <a:ext cx="3581280" cy="19227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DIAG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minor ro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15508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doni MT"/>
              </a:rPr>
              <a:t>Why can’t anaerobic bacteria survive in oxyg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2057400"/>
            <a:ext cx="8229600" cy="4038480"/>
          </a:xfrm>
          <a:prstGeom prst="rect">
            <a:avLst/>
          </a:prstGeom>
          <a:solidFill>
            <a:srgbClr val="000073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The presence of oxygen leads to the production in cells of the </a:t>
            </a:r>
            <a:r>
              <a:rPr b="0" lang="en-US" sz="2800" spc="-1" strike="noStrike">
                <a:solidFill>
                  <a:srgbClr val="ffff00"/>
                </a:solidFill>
                <a:latin typeface="Bodoni MT"/>
              </a:rPr>
              <a:t>superoxide radical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(a negatively charged O2 molecule). Normally, the superoxide anion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doni MT"/>
              </a:rPr>
              <a:t>lethal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enough to kill almost any organism. Aerobic organisms and facultative anaerobes have the enzymes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Bodoni MT"/>
              </a:rPr>
              <a:t>superoxide dismutase and catalase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. These enzymes work together to convert superoxide to oxygen and hydrogen peroxid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00200" y="1676520"/>
            <a:ext cx="5105520" cy="1828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 Perfringe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{C.Welchii}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3962160" cy="17524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stotoxic clostri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s gangr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od Poi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Gram film of Clostridium perfringens"/>
          <p:cNvPicPr/>
          <p:nvPr/>
        </p:nvPicPr>
        <p:blipFill>
          <a:blip r:embed="rId1"/>
          <a:stretch/>
        </p:blipFill>
        <p:spPr>
          <a:xfrm>
            <a:off x="4495680" y="1600200"/>
            <a:ext cx="4648320" cy="4343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sld3"/>
          <p:cNvPicPr/>
          <p:nvPr/>
        </p:nvPicPr>
        <p:blipFill>
          <a:blip r:embed="rId2"/>
          <a:stretch/>
        </p:blipFill>
        <p:spPr>
          <a:xfrm>
            <a:off x="0" y="1600200"/>
            <a:ext cx="4495680" cy="4352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83351"/>
          <p:cNvPicPr/>
          <p:nvPr/>
        </p:nvPicPr>
        <p:blipFill>
          <a:blip r:embed="rId1"/>
          <a:stretch/>
        </p:blipFill>
        <p:spPr>
          <a:xfrm>
            <a:off x="1371600" y="990720"/>
            <a:ext cx="6477120" cy="5181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TURAL HABIT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 and intestinal tracts of animals and humans {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spread occur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gina of 1-9 % healthy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SIGNIFIC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es most commonly isolated from clinical specim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clinical settings ranging from :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ntamination of wounds – traumatic or non traumatic myonecro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Cellul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-abdominal sep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grenous cholecyst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-abortion infections – septic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ter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SzPct val="11108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ain absces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as gangre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mediated breakdown of muscle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id progression { Uterus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quefactive necrosis of muscle , gas formation , tox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minant septicem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vascular hemo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globinu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 cultures positive in 15 % of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12952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sld2"/>
          <p:cNvPicPr/>
          <p:nvPr/>
        </p:nvPicPr>
        <p:blipFill>
          <a:blip r:embed="rId1"/>
          <a:stretch/>
        </p:blipFill>
        <p:spPr>
          <a:xfrm>
            <a:off x="0" y="457200"/>
            <a:ext cx="8305920" cy="586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5" descr="case2g.jpg (68694 bytes)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ase2h.jpg (84652 bytes)"/>
          <p:cNvPicPr/>
          <p:nvPr/>
        </p:nvPicPr>
        <p:blipFill>
          <a:blip r:embed="rId2"/>
          <a:stretch/>
        </p:blipFill>
        <p:spPr>
          <a:xfrm>
            <a:off x="4876920" y="1752480"/>
            <a:ext cx="3962160" cy="3810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sld1"/>
          <p:cNvPicPr/>
          <p:nvPr/>
        </p:nvPicPr>
        <p:blipFill>
          <a:blip r:embed="rId1"/>
          <a:stretch/>
        </p:blipFill>
        <p:spPr>
          <a:xfrm>
            <a:off x="914400" y="762120"/>
            <a:ext cx="7238880" cy="497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askerville Old Face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3096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A -NON SPORE FORMINGN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{MOR  COMMN}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 - SPORE F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– Toxins  [ A – E 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spholipase C  { alpha toxin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s on membranes of muscle cells , leukocytes and platelets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y  major role in the pathogenesis of C. myonecr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necrotizing activit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toxins :- collagenase , proteinase , DN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ute progressive pain , edema , skin discolo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ic – fever , tachycardia , hypotension , renal failure , crepitus , pulmonary edema ,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perfringens { 80% 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Novy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Septic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Histolyticu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G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m stain :- G PB , absent leukocy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  { aerobic and anaerobic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udate , aspi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gler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OD  POISO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of most common bacterial causes of food –borne ill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adic cases and outbrea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most all due to type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perly cooked meat or meat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gestion of vegetative cells [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8 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ebrile Crampy abdominal pain - diarrhea within 7-15 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otoxin  [ SPORULATION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d illness , recovery after 2-3 da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rly and complete surgical excision of necrotic infected tissue { most important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dose of 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nicillin G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onidaz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ndamyc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shock , hemolysis , anem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422360" y="4978440"/>
            <a:ext cx="169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 . Diffici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membranous 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 associated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 acquired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doni MT"/>
              </a:rPr>
              <a:t>Epidemiolog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520" y="1905120"/>
            <a:ext cx="8077320" cy="4114800"/>
          </a:xfrm>
          <a:prstGeom prst="rect">
            <a:avLst/>
          </a:prstGeom>
          <a:solidFill>
            <a:srgbClr val="000073"/>
          </a:solidFill>
          <a:ln w="9360">
            <a:solidFill>
              <a:srgbClr val="00007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doni MT"/>
              </a:rPr>
              <a:t>Clostridium difficile</a:t>
            </a:r>
            <a:r>
              <a:rPr b="1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causes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antibiotic associated diarrhea (AD)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d more serious intestinal conditions such as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colitis</a:t>
            </a:r>
            <a:r>
              <a:rPr b="1" lang="en-US" sz="2800" spc="-1" strike="noStrike">
                <a:solidFill>
                  <a:srgbClr val="ffffff"/>
                </a:solidFill>
                <a:latin typeface="Bodoni M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and </a:t>
            </a:r>
            <a:r>
              <a:rPr b="1" lang="en-US" sz="2800" spc="-1" strike="noStrike">
                <a:solidFill>
                  <a:srgbClr val="ff0000"/>
                </a:solidFill>
                <a:latin typeface="Bodoni MT"/>
              </a:rPr>
              <a:t>pseudo membranous colitis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.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Overgrowth of </a:t>
            </a:r>
            <a:r>
              <a:rPr b="0" i="1" lang="en-US" sz="2800" spc="-1" strike="noStrike">
                <a:solidFill>
                  <a:srgbClr val="ffffff"/>
                </a:solidFill>
                <a:latin typeface="Bodoni MT"/>
              </a:rPr>
              <a:t>Clostridium difficile</a:t>
            </a:r>
            <a:r>
              <a:rPr b="0" lang="en-US" sz="2800" spc="-1" strike="noStrike">
                <a:solidFill>
                  <a:srgbClr val="ffffff"/>
                </a:solidFill>
                <a:latin typeface="Bodoni MT"/>
              </a:rPr>
              <a:t> in the colon, usually after the normal flora has been disturbed by anti microbial chemothera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and animal fe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spital environment {Reservoirs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 acquired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cal – oral { colonized persons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stinal colonization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y  neonates , young infant [ 50 %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&gt; 2yrs , adults {3 %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PI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ld diarrhea , asymptomatic  carriage – Toxic megacolon ,bowel perforation and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eudomembranous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ody diarrhea , abdominal cramp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ver , systemic 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nic mucosa – yellowish pla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 disease – neutropenic , inflammatory bowel disease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6324480" cy="101268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Baskerville Old Face"/>
              </a:rPr>
              <a:t>A - NON  SPOR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914400" y="2209320"/>
            <a:ext cx="6477120" cy="3581640"/>
          </a:xfrm>
          <a:prstGeom prst="rect">
            <a:avLst/>
          </a:prstGeom>
          <a:noFill/>
          <a:ln w="9360">
            <a:solidFill>
              <a:srgbClr val="92d050">
                <a:alpha val="82000"/>
              </a:srgbClr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askerville Old Face"/>
              </a:rPr>
              <a:t>A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 NEGATIVE 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Book Antiqua"/>
                <a:ea typeface="Arial"/>
              </a:rPr>
              <a:t>bacteroides  fragilis </a:t>
            </a:r>
            <a:r>
              <a:rPr b="0" i="1" lang="en-US" sz="2800" spc="-1" strike="noStrike">
                <a:solidFill>
                  <a:srgbClr val="ffcc00"/>
                </a:solidFill>
                <a:latin typeface="Book Antiqua"/>
                <a:ea typeface="Arial"/>
              </a:rPr>
              <a:t>( resistant to penicilli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Prevotella spp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Leptotricha buccalis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fusobacterium  spp  f.nuclea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Viellonella sp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GRAM NEGATIVE COCC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rol  Meas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 hand washing {contact precautions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ing use of antimicrobia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 of patients with diarrhe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infection of pt. 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Image Preview"/>
          <p:cNvPicPr/>
          <p:nvPr/>
        </p:nvPicPr>
        <p:blipFill>
          <a:blip r:embed="rId1"/>
          <a:stretch/>
        </p:blipFill>
        <p:spPr>
          <a:xfrm>
            <a:off x="1295280" y="12193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5" descr="Image Preview"/>
          <p:cNvPicPr/>
          <p:nvPr/>
        </p:nvPicPr>
        <p:blipFill>
          <a:blip r:embed="rId1"/>
          <a:stretch/>
        </p:blipFill>
        <p:spPr>
          <a:xfrm>
            <a:off x="4800600" y="3581280"/>
            <a:ext cx="4343400" cy="2971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micro2"/>
          <p:cNvPicPr/>
          <p:nvPr/>
        </p:nvPicPr>
        <p:blipFill>
          <a:blip r:embed="rId2"/>
          <a:stretch/>
        </p:blipFill>
        <p:spPr>
          <a:xfrm>
            <a:off x="304920" y="3581280"/>
            <a:ext cx="4267080" cy="2971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9" descr="micro3"/>
          <p:cNvPicPr/>
          <p:nvPr/>
        </p:nvPicPr>
        <p:blipFill>
          <a:blip r:embed="rId3"/>
          <a:stretch/>
        </p:blipFill>
        <p:spPr>
          <a:xfrm>
            <a:off x="4724280" y="457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micro5"/>
          <p:cNvPicPr/>
          <p:nvPr/>
        </p:nvPicPr>
        <p:blipFill>
          <a:blip r:embed="rId4"/>
          <a:stretch/>
        </p:blipFill>
        <p:spPr>
          <a:xfrm>
            <a:off x="304920" y="457200"/>
            <a:ext cx="4190760" cy="2971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tinue antimicrobial therapy { clinical significant diarrhea  or col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 therapy : severe toxicity , persistent diarrh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onidazole for 7-10 days , oral , IV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l vancomycin : {emergence of VRE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20 % relapse 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otility drugs : contraindic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isk  F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ure to 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urbed normal gut flora {proliferate – toxi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ed ene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longed NG tu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 surg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wel 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microbials : penicillins , clindamycin , Cephalospori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A [  Enterotoxin  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XIN B [  Cytotoxin   ]  , more pot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trains produce both or no tox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scopy : pseudomembranes  and Hyperemic rect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ol : toxins { EIA } , Cell culture           Confirm toxigenic str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lation of  C. Difficile { not diagnostic 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6858000" y="2895480"/>
            <a:ext cx="976320" cy="333360"/>
          </a:xfrm>
          <a:prstGeom prst="rightArrow">
            <a:avLst>
              <a:gd name="adj1" fmla="val 50000"/>
              <a:gd name="adj2" fmla="val 5024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.BOTULIN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UL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GETABLES , MEATS ,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NED 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FORMED  TOX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THOGENESIS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OXIN  (PHAGE)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ST  TOXIC  SUBS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T                BLOOD                    PERIPHERAL  NERVE  SYNAP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LOKS  RELEASE  OF ACETYLCH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CCID   PARALY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676520" y="25909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4495680" y="2590920"/>
            <a:ext cx="1447920" cy="485640"/>
          </a:xfrm>
          <a:prstGeom prst="rightArrow">
            <a:avLst>
              <a:gd name="adj1" fmla="val 50000"/>
              <a:gd name="adj2" fmla="val 7453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7162920" y="31240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838080" y="5410080"/>
            <a:ext cx="1295640" cy="486000"/>
          </a:xfrm>
          <a:prstGeom prst="rightArrow">
            <a:avLst>
              <a:gd name="adj1" fmla="val 50000"/>
              <a:gd name="adj2" fmla="val 6664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929360" cy="556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B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COC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eptostrepto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GRAME POSITIVE BACIL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Propionobacterium  propionicum ,p.ac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Bifidobacte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Euobacte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LACTOBACILL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Actinomyces israel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MICROAEROPHILIC  STREP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ENDING  PAR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LOP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SPHA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 MUSCLE 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UND , INFANT  BOTULISM ( honey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Go to fullsize image"/>
          <p:cNvPicPr/>
          <p:nvPr/>
        </p:nvPicPr>
        <p:blipFill>
          <a:blip r:embed="rId1"/>
          <a:stretch/>
        </p:blipFill>
        <p:spPr>
          <a:xfrm>
            <a:off x="1523880" y="838080"/>
            <a:ext cx="6248520" cy="5334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agnosis</a:t>
            </a:r>
            <a:r>
              <a:rPr b="0" lang="en-GB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clinical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OXIN ,FOOD  SERUM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24280" y="3047760"/>
            <a:ext cx="373392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RILIZATION  OF CANNED  F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0520" y="2666520"/>
            <a:ext cx="3886200" cy="3124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TOX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, B ,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PIRATORY  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ACTEROIDES</a:t>
            </a:r>
            <a:br>
              <a:rPr sz="32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GROUP =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Arabic Typesetting"/>
                <a:ea typeface="Arabic Typesetting"/>
              </a:rPr>
              <a:t>B. FRAGILIS,   </a:t>
            </a:r>
            <a:r>
              <a:rPr b="0" i="1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. VULGARIS, B.THETAIOTAMICRON, B. UNIFOR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ACCOUNT FOR 1/3 OF ALL ISO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RESISTANT TO 20% 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abic Typesetting"/>
                <a:ea typeface="Arabic Typesetting"/>
              </a:rPr>
              <a:t>RESISTANT TO MANY ANTIBIO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PENICILLIN, KANAMYCIN, VANCOMYCIN,  COLISTIN – AND M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NO PIGMENTATION </a:t>
            </a:r>
            <a:r>
              <a:rPr b="0" lang="en-US" sz="28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OF COLONIES OR FLUORESC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abic Typesetting"/>
                <a:ea typeface="Arabic Typesetting"/>
              </a:rPr>
              <a:t>BACTEROIDES  OTHER  SP</a:t>
            </a:r>
            <a:br>
              <a:rPr sz="32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ACTEROIDES SPECIES OTHER THAN  B. FRAGILIS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BILE SEN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RESISTANT TO KANAMYCIN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abic Typesetti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abic Typesetting"/>
                <a:ea typeface="Arabic Typesetting"/>
              </a:rPr>
              <a:t>SOME PIGM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05:41:31Z</dcterms:created>
  <dc:creator>KKUH</dc:creator>
  <dc:description/>
  <dc:language>en-US</dc:language>
  <cp:lastModifiedBy>saw</cp:lastModifiedBy>
  <dcterms:modified xsi:type="dcterms:W3CDTF">2015-10-13T04:17:16Z</dcterms:modified>
  <cp:revision>24</cp:revision>
  <dc:subject/>
  <dc:title>ANAEROBIC   BACTERIA</dc:title>
</cp:coreProperties>
</file>