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5.gif" ContentType="image/gif"/>
  <Override PartName="/ppt/media/image5.jpeg" ContentType="image/jpeg"/>
  <Override PartName="/ppt/media/image26.jpeg" ContentType="image/jpeg"/>
  <Override PartName="/ppt/media/image27.wmf" ContentType="image/x-wmf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F7AF-1585-44F4-B631-7134038CF81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1A47-BE6E-4A32-9E78-BC1D64359D1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D662-BF7C-4BDF-8348-E2CD64A6759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8D74-76BE-4BBD-A557-0CBC3C28A96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0945-BD0D-45CC-B4CF-5DBACD81340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0DF9-F3F8-418C-BC86-BE1D15CBCA9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30E0-C5B6-4A76-911B-EFF1F4A1D42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C7B4-EF13-4143-A308-F64A7F39038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B0E8-0B9E-4662-8FC6-79378BA7DA5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B4E4-74B4-4403-AA1A-103480A75B5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3C94-E7B2-4ECC-99ED-2EB3A75053C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C3B4-76BA-4898-85F5-027C82505F6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B566-F369-4838-8AB6-961EE253D42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2501-2209-4B96-AC65-86E22F38F16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4C6B-BD2C-4488-862B-2DF7DEAA3EC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6901-859E-4F97-8FD4-B978775B683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3E9A-D38D-49D3-AE1B-CC4AF034984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7E83-65F7-4689-802F-0420A439020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5C02-0A24-4C52-B1B8-7E5A1208FBC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BCD9-0CF9-4A2A-9226-9F173745641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E566-AA36-4E4B-B14E-28138EE87B7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72A9-332E-44DF-B257-4104DD9EA0A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401D-1B95-459D-8810-73E5DE1BC33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2ED2-9713-4223-8F0D-7F4E6660566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A3D7-51DE-4A66-8E5A-41AB13C3124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F576-E039-431B-917C-1C632B626B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DDA6-36AF-44AC-BA29-9D317CF4E67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76C0-9574-4155-A1E9-ED60021E01D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753B-6D83-4A80-9B6D-BD0B0592DFC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DA2D-AE33-46A7-9FC0-9294AF57B06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34D6-1BEC-4918-A077-D000E16B8B5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412F-6971-4E46-84A4-2BE69C41BAF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8C78-7490-4D6C-BF6F-9BE26BA3BAA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0BE4-64DF-4019-8310-E4D20FBA230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850A-F0F3-40A5-AB7C-E6CF14E4C73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33C5-3328-406E-92F0-EEFEB1CAE48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D81-BA24-459B-981A-BB7C5BE66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FCF-52EA-4D3E-BE1A-E7581805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D1B-3D59-462B-BA75-B1B1BA00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AFF-BEEB-4697-ABD4-4E81B464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513C-5541-4B0A-9A96-067B813A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6243-024D-48E0-B885-1B9C51B0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4DD9-8A83-4BD1-B335-39ADADDF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A33F-3E10-4B4C-AB67-5A54B594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807F-362E-4564-B806-836672B2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DFF9-A10F-465D-B8B5-688F19F4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273F-FAF5-482A-98A6-48DD7733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646-03E6-450F-A5D9-DCC90675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5412-4033-4BB4-98AF-441409D5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270A-9C1D-471A-B4AE-0C223922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B924-B586-4D4B-9BD0-29E4EEEF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B18B-A861-4D2A-9B2D-712284CF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95FA-5FC3-4370-9B2B-3CA98385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7217-91E8-422C-9461-CE74CB4C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D6A4E-4D32-4807-B6D9-984CB7C8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FF017-BFB3-453F-8713-F9AF560C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B2648-FB0D-4B42-AE15-4EE8C66E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7098E-EDB0-4059-B2BA-8A2FAF0B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6901-05DB-41C2-86B6-1952EFEC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153F4-A05F-4A14-8DF1-487FD8CE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44D84-04FC-4F0C-B261-628506E1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E5BC4-408F-43EB-ADA1-0925114C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77342-16A2-4BB1-AD07-08B2700F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489AB-EA53-49BB-A725-22227B74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3A876-3B34-4684-BF5A-C515ADED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6E595-7ECD-451A-B545-A7FABCD5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E2C-0343-4A65-AAE7-4E09D9BE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EA6-DA06-4D36-BE32-19B25A8F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85D9-EB86-4F82-8444-93F205B0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422-75DE-4516-A69E-52767903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3C89-B75A-4527-A326-326D3A57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C39-EB90-465B-9948-88506D3A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F362-63A3-4AE6-A1E0-DE8C85834726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96D1-61D6-4C1D-8584-5E2A2A36A80D}" type="slidenum"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2B87-4C73-4016-A94D-379BEFC8D13E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piperreport.com/archives/images/Capsules.jpg&amp;imgrefurl=http://www.al-yemen.org/vb/showthread.php%3Ft%3D248219&amp;usg=__HChCqwrKTkWCkTOpjbA5fxO5hao=&amp;h=600&amp;w=800&amp;sz=314&amp;hl=ar&amp;start=3&amp;tbnid=49tTu9l0FVt9TM:&amp;tbnh=107&amp;tbnw=143&amp;prev=/images%3Fq%3Dcapsules%26gbv%3D2%26hl%3Dar%26safe%3Dactiv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.sa/imgres?imgurl=http://img.alibaba.com/photo/248484385/Paracetamoll_tablets_500mg_pharmaceutical_drugs.jpg&amp;imgrefurl=http://xierkangtai.en.alibaba.com/product/248484385-200681436/Paracetamoll_tablets_500mg_pharmaceutical_drugs.html&amp;usg=__Hwfk8LuB1mXjM4QkLpOITX__63k=&amp;h=980&amp;w=1306&amp;sz=174&amp;hl=ar&amp;start=1&amp;tbnid=CBPvQjm3WXWGkM:&amp;tbnh=113&amp;tbnw=150&amp;prev=/images%3Fq%3Ddrugs%2Btablet%26gbv%3D2%26hl%3Dar%26safe%3Dactive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.sa/imgres?imgurl=http://www.healthsquare.com/common/images/s/SB_35120_121115_5.JPG&amp;imgrefurl=http://www.healthsquare.com/drugs/121123.htm&amp;usg=__6X3Oc00KEiLFpVWnH1djZGthbEs=&amp;h=216&amp;w=288&amp;sz=34&amp;hl=ar&amp;start=8&amp;tbnid=NteYVoV5W05xtM:&amp;tbnh=86&amp;tbnw=115&amp;prev=/images%3Fq%3Dspansule%26gbv%3D2%26hl%3Dar%26safe%3Dactive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.sa/imgres?imgurl=http://imghost.indiamart.com/data/Q/G/MY-1386710/soft-gelatin-capsules_10757794_250x250.jpg&amp;imgrefurl=http://dir.indiamart.com/impcat/soft-gelatin-capsules.html&amp;usg=__ctbHQfPmJMQj0m0qYPO4PLbmaNE=&amp;h=250&amp;w=250&amp;sz=10&amp;hl=ar&amp;start=7&amp;tbnid=2J5d3wfgmKUbBM:&amp;tbnh=111&amp;tbnw=111&amp;prev=/images%3Fq%3Dsoft%2Bgelatin%2Bcapsule%26gbv%3D2%26hl%3Dar%26safe%3Dactive%26sa%3D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www.google.com.sa/imgres?imgurl=http://kenoath.files.wordpress.com/2008/06/pd_cough_syrup_070816_ms.jpg&amp;imgrefurl=http://mortada8.maktoobblog.com/category/pharmaceutical-dosage-forms/&amp;usg=__tPLbdr3mzNnA2ZnO_bcynoQT7mQ=&amp;h=310&amp;w=413&amp;sz=22&amp;hl=ar&amp;start=8&amp;zoom=1&amp;itbs=1&amp;tbnid=087-zEfXAWRqsM:&amp;tbnh=94&amp;tbnw=125&amp;prev=/images%3Fq%3Ddrug%2Bas%2Bsuspensions%26hl%3Dar%26safe%3Dactive%26sa%3DG%26gbv%3D2%26tbs%3Disch:1" TargetMode="External"/><Relationship Id="rId10" Type="http://schemas.openxmlformats.org/officeDocument/2006/relationships/hyperlink" Target="http://www.google.com.sa/imgres?imgurl=http://kenoath.files.wordpress.com/2008/06/pd_cough_syrup_070816_ms.jpg&amp;imgrefurl=http://mortada8.maktoobblog.com/category/pharmaceutical-dosage-forms/&amp;usg=__tPLbdr3mzNnA2ZnO_bcynoQT7mQ=&amp;h=310&amp;w=413&amp;sz=22&amp;hl=ar&amp;start=8&amp;zoom=1&amp;itbs=1&amp;tbnid=087-zEfXAWRqsM:&amp;tbnh=94&amp;tbnw=125&amp;prev=/images%3Fq%3Ddrug%2Bas%2Bsuspensions%26hl%3Dar%26safe%3Dactive%26sa%3DG%26gbv%3D2%26tbs%3Disch:1" TargetMode="External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skinstep.com/product_images/acne-controle-fluid-ampoule-03494187001.jpg&amp;imgrefurl=http://www.skinstep.com/elene/&amp;usg=__1MZFGMaJK3hwVCZ5N8wtLZCXpXk=&amp;h=350&amp;w=350&amp;sz=61&amp;hl=ar&amp;start=7&amp;tbnid=nxrySF-bPv4NNM:&amp;tbnh=120&amp;tbnw=120&amp;prev=/images%3Fq%3Dampoule%26gbv%3D2%26hl%3Dar%26safe%3Dactive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053"/>
          <p:cNvSpPr/>
          <p:nvPr/>
        </p:nvSpPr>
        <p:spPr>
          <a:xfrm>
            <a:off x="324000" y="836640"/>
            <a:ext cx="842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kinetics I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administration and 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f. Hanan Hag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harmacology Depar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50920" y="765000"/>
          <a:ext cx="8785080" cy="5950080"/>
        </p:xfrm>
        <a:graphic>
          <a:graphicData uri="http://schemas.openxmlformats.org/drawingml/2006/table">
            <a:tbl>
              <a:tblPr/>
              <a:tblGrid>
                <a:gridCol w="3089160"/>
                <a:gridCol w="5695920"/>
              </a:tblGrid>
              <a:tr h="63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9720">
                <a:tc>
                  <a:txBody>
                    <a:bodyPr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Ea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f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ven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che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No need for steril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low effec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IT irri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truction by pH &amp; enzy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ood - drug inte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g-drug inte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rst pass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complete absor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w bioavail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t suitabl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f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omiting &amp; unconscious pat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mergency &amp; bad taste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" name="WordArt 14"/>
          <p:cNvSpPr txBox="1"/>
          <p:nvPr/>
        </p:nvSpPr>
        <p:spPr>
          <a:xfrm>
            <a:off x="1332000" y="189000"/>
            <a:ext cx="61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764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irst pass ef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ugs given orally are first taken to the liver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via portal circulation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they are metabolized before reaching to the blood to be distributed to all other body compart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Picture 004"/>
          <p:cNvPicPr/>
          <p:nvPr/>
        </p:nvPicPr>
        <p:blipFill>
          <a:blip r:embed="rId1"/>
          <a:srcRect l="0" t="0" r="8522" b="5357"/>
          <a:stretch/>
        </p:blipFill>
        <p:spPr>
          <a:xfrm>
            <a:off x="4716360" y="189000"/>
            <a:ext cx="4105440" cy="648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ere does it occu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wal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lum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rst pass metabolism result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ioavailabilit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w conc. of drug in bloo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t 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with high first pass effect should not be given orally but parenter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AutoShape 2" descr=""/>
          <p:cNvPicPr/>
          <p:nvPr/>
        </p:nvPicPr>
        <p:blipFill>
          <a:blip r:embed="rId1"/>
          <a:stretch/>
        </p:blipFill>
        <p:spPr>
          <a:xfrm>
            <a:off x="615960" y="-311040"/>
            <a:ext cx="8180280" cy="167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50560" y="285480"/>
            <a:ext cx="84358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ral Dosage Forms (oral formul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ated tabl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gar-coated to mask bad tas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eric coated tabl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ssolve only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rd gelatin capsul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ain pow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ft gelatin capsul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ain liqu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rup (e.g. Cough syru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 (mixture of solid in liquids e.g. antibiotic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apsul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221000"/>
            <a:ext cx="2376720" cy="1873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Paracetamoll_tablets_500mg_pharmaceutical_drug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907920"/>
            <a:ext cx="2376720" cy="2017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SB_35120_121115_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08720" y="90792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soft-gelatin-capsules_10757794_250x25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8360" y="4292640"/>
            <a:ext cx="2736720" cy="180036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6"/>
          <p:cNvSpPr/>
          <p:nvPr/>
        </p:nvSpPr>
        <p:spPr>
          <a:xfrm>
            <a:off x="395280" y="260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50920" y="306864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- gelatin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364000" y="260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n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788000" y="2997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- gelatin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4">
            <a:hlinkClick r:id="rId9"/>
          </p:cNvPr>
          <p:cNvSpPr/>
          <p:nvPr/>
        </p:nvSpPr>
        <p:spPr>
          <a:xfrm>
            <a:off x="3976560" y="2981160"/>
            <a:ext cx="11908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6">
            <a:hlinkClick r:id="rId10"/>
          </p:cNvPr>
          <p:cNvSpPr/>
          <p:nvPr/>
        </p:nvSpPr>
        <p:spPr>
          <a:xfrm>
            <a:off x="3976560" y="2981160"/>
            <a:ext cx="11908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0920" y="907920"/>
          <a:ext cx="8642160" cy="5473800"/>
        </p:xfrm>
        <a:graphic>
          <a:graphicData uri="http://schemas.openxmlformats.org/drawingml/2006/table">
            <a:tbl>
              <a:tblPr/>
              <a:tblGrid>
                <a:gridCol w="5545080"/>
                <a:gridCol w="30970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id effec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be used in emergen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bioavailab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first pass effect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GIT irri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food drug – intera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sage form: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riable table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t suitable for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rritant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equent 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WordArt 14"/>
          <p:cNvSpPr txBox="1"/>
          <p:nvPr/>
        </p:nvSpPr>
        <p:spPr>
          <a:xfrm>
            <a:off x="1332000" y="189000"/>
            <a:ext cx="6121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blingu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14200" y="1000080"/>
          <a:ext cx="8713800" cy="5440320"/>
        </p:xfrm>
        <a:graphic>
          <a:graphicData uri="http://schemas.openxmlformats.org/drawingml/2006/table">
            <a:tbl>
              <a:tblPr/>
              <a:tblGrid>
                <a:gridCol w="5280120"/>
                <a:gridCol w="34336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07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ren, vomiting,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conscious patie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&amp; bad taste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s first pass metabolism  (50%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sage form: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ppository or ene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ritation of rectal muco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regular absorption &amp; bioavailab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9" name="WordArt 14"/>
          <p:cNvSpPr txBox="1"/>
          <p:nvPr/>
        </p:nvSpPr>
        <p:spPr>
          <a:xfrm>
            <a:off x="1357200" y="353880"/>
            <a:ext cx="612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ct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473800"/>
          </a:xfrm>
          <a:prstGeom prst="rect">
            <a:avLst/>
          </a:prstGeom>
          <a:noFill/>
          <a:ln w="9360">
            <a:solidFill>
              <a:srgbClr val="ec1edd"/>
            </a:solidFill>
            <a:miter/>
          </a:ln>
        </p:spPr>
        <p:txBody>
          <a:bodyPr anchor="t">
            <a:normAutofit/>
          </a:bodyPr>
          <a:p>
            <a:pPr indent="0" algn="just">
              <a:spcBef>
                <a:spcPts val="850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ntraderm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D.)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(into skin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ubcutaneou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S.C.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under sk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muscular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M.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into musc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venou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V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into vei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-arteri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A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into arter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thec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T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cerebrospinal fluids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peritone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P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peritoneal cav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 - articular (Synovial flui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1403280" y="260280"/>
            <a:ext cx="554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ente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-360"/>
            <a:ext cx="8569080" cy="6381720"/>
          </a:xfrm>
          <a:prstGeom prst="rect">
            <a:avLst/>
          </a:prstGeom>
          <a:noFill/>
          <a:ln w="9360">
            <a:solidFill>
              <a:srgbClr val="ec1edd"/>
            </a:solidFill>
            <a:miter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of in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gastric irri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ood-drug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rug-drug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irst pas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availability than 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, tissue necrosis or abscess (I.M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hylactic reaction (I.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3"/>
          <p:cNvSpPr txBox="1"/>
          <p:nvPr/>
        </p:nvSpPr>
        <p:spPr>
          <a:xfrm>
            <a:off x="1619280" y="0"/>
            <a:ext cx="554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ente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213840"/>
            <a:ext cx="8569080" cy="6239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the student should be able t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meaning of pharmacology and its bra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different routes of drug admin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advantages and disadvantages of various routes of drug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various mechanisms of drug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different factors affecting drug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bioavailability and factors affect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79280" y="214200"/>
          <a:ext cx="8785440" cy="3070440"/>
        </p:xfrm>
        <a:graphic>
          <a:graphicData uri="http://schemas.openxmlformats.org/drawingml/2006/table">
            <a:tbl>
              <a:tblPr/>
              <a:tblGrid>
                <a:gridCol w="5699160"/>
                <a:gridCol w="3086280"/>
              </a:tblGrid>
              <a:tr h="5796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Intradermal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0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ute volume of drug (0.1 ml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vaccination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itivity tes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for large volum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179280" y="3032280"/>
          <a:ext cx="8785440" cy="3597120"/>
        </p:xfrm>
        <a:graphic>
          <a:graphicData uri="http://schemas.openxmlformats.org/drawingml/2006/table">
            <a:tbl>
              <a:tblPr/>
              <a:tblGrid>
                <a:gridCol w="5608800"/>
                <a:gridCol w="3176640"/>
              </a:tblGrid>
              <a:tr h="579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Subcutaneous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2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r volume (0.1 ml – 1 ml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for sustained release effec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</a:t>
                      </a:r>
                      <a:r>
                        <a:rPr b="1" lang="en-US" sz="3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orly soluble suspensions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.g. insulin zinc prepara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for large volum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214200"/>
          <a:ext cx="8964720" cy="6000840"/>
        </p:xfrm>
        <a:graphic>
          <a:graphicData uri="http://schemas.openxmlformats.org/drawingml/2006/table">
            <a:tbl>
              <a:tblPr/>
              <a:tblGrid>
                <a:gridCol w="5267520"/>
                <a:gridCol w="3697200"/>
              </a:tblGrid>
              <a:tr h="650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Intramuscular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ate volumes (3-5 m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longed duration of ac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ily preparations or poorly  soluble substances can be u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 f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n, abscess, tissue necrosis may happ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9280" y="765000"/>
          <a:ext cx="8785440" cy="5753160"/>
        </p:xfrm>
        <a:graphic>
          <a:graphicData uri="http://schemas.openxmlformats.org/drawingml/2006/table">
            <a:tbl>
              <a:tblPr/>
              <a:tblGrid>
                <a:gridCol w="5329440"/>
                <a:gridCol w="3456000"/>
              </a:tblGrid>
              <a:tr h="587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 volume (500ml can be given by infus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pid action </a:t>
                      </a: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emergenc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bioavailabil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food-drug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first pass metabol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gastric irrit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b812f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miting &amp;unconsci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b812f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&amp; bad taste drug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used only for water soluble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phylax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ril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oily solutions or poorly soluble substa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4"/>
          <p:cNvSpPr/>
          <p:nvPr/>
        </p:nvSpPr>
        <p:spPr>
          <a:xfrm>
            <a:off x="1357200" y="71280"/>
            <a:ext cx="5577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ntravenous administr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poule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3" descr="acne-controle-fluid-ampoule-03494187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1720"/>
            <a:ext cx="3024360" cy="25909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204" name="Picture 4" descr="Internal_Standard_Ampoule"/>
          <p:cNvPicPr/>
          <p:nvPr/>
        </p:nvPicPr>
        <p:blipFill>
          <a:blip r:embed="rId3"/>
          <a:stretch/>
        </p:blipFill>
        <p:spPr>
          <a:xfrm>
            <a:off x="1042920" y="1700280"/>
            <a:ext cx="3024360" cy="25938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205" name="Text Box 5"/>
          <p:cNvSpPr/>
          <p:nvPr/>
        </p:nvSpPr>
        <p:spPr>
          <a:xfrm>
            <a:off x="1042920" y="981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Singl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003640" y="105264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Repeate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08000" y="115920"/>
          <a:ext cx="8785080" cy="6570720"/>
        </p:xfrm>
        <a:graphic>
          <a:graphicData uri="http://schemas.openxmlformats.org/drawingml/2006/table">
            <a:tbl>
              <a:tblPr/>
              <a:tblGrid>
                <a:gridCol w="1800000"/>
                <a:gridCol w="3456000"/>
                <a:gridCol w="3529080"/>
              </a:tblGrid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je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ute volume (0.1 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vaccin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 sensitivity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large vol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 (0.1 ml – 1 ml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poorly soluble suspensions and for instillation of slow-release implants e.g. insulin zinc prep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large volu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moderate volumes 3-5 ml, for oily solutions or poorly soluble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irritant 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cess- necrosis may hap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4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V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large volumes and for irritating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00 ml can be given by infusion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oily solutions or poorly soluble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t inject solutions slowly as a rul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rugs are mainly applied topically to produce local effects. They are applied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kin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percutaneous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.g. allergy test, topical antibacterial and steroids and  local anesthe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ucous membrane of respiratory trac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Inhalation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.g. asth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ye drops e.g. conjunctiv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r drops e.g. otitis exter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nasal e.g. decongestant nasal sp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3"/>
          <p:cNvSpPr txBox="1"/>
          <p:nvPr/>
        </p:nvSpPr>
        <p:spPr>
          <a:xfrm>
            <a:off x="2411280" y="404640"/>
            <a:ext cx="4800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pical applic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79280" y="836640"/>
          <a:ext cx="8713800" cy="5807160"/>
        </p:xfrm>
        <a:graphic>
          <a:graphicData uri="http://schemas.openxmlformats.org/drawingml/2006/table">
            <a:tbl>
              <a:tblPr/>
              <a:tblGrid>
                <a:gridCol w="5616720"/>
                <a:gridCol w="3097080"/>
              </a:tblGrid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40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apid absorp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due to large surface are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itable for emerg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vide local action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imited systemic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ss side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first pass ef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Dosage form: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olatile gases  e.g. anesthe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iquids given by aerosol, nebulizer for asthma trea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suitable for irritant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few drugs can be 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3" name="WordArt 14"/>
          <p:cNvSpPr txBox="1"/>
          <p:nvPr/>
        </p:nvSpPr>
        <p:spPr>
          <a:xfrm>
            <a:off x="1928880" y="189000"/>
            <a:ext cx="5572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hal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85480" y="907560"/>
            <a:ext cx="864396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medicated adhesive patch applied to skin to provide systemic effect  (prolonged drug actio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the nicotine patche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quit smok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Scopolamin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vestibular depressant, antiemetic for motion sicknes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patch"/>
          <p:cNvPicPr/>
          <p:nvPr/>
        </p:nvPicPr>
        <p:blipFill>
          <a:blip r:embed="rId1"/>
          <a:stretch/>
        </p:blipFill>
        <p:spPr>
          <a:xfrm>
            <a:off x="6215040" y="4143240"/>
            <a:ext cx="2664000" cy="2305080"/>
          </a:xfrm>
          <a:prstGeom prst="rect">
            <a:avLst/>
          </a:prstGeom>
          <a:ln w="0">
            <a:noFill/>
          </a:ln>
        </p:spPr>
      </p:pic>
      <p:sp>
        <p:nvSpPr>
          <p:cNvPr id="216" name="WordArt 4"/>
          <p:cNvSpPr txBox="1"/>
          <p:nvPr/>
        </p:nvSpPr>
        <p:spPr>
          <a:xfrm>
            <a:off x="1428840" y="214200"/>
            <a:ext cx="57830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nsdermal patch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nebulizer"/>
          <p:cNvPicPr/>
          <p:nvPr/>
        </p:nvPicPr>
        <p:blipFill>
          <a:blip r:embed="rId1"/>
          <a:stretch/>
        </p:blipFill>
        <p:spPr>
          <a:xfrm>
            <a:off x="1042920" y="1052640"/>
            <a:ext cx="2521080" cy="2305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flixotide-fluticasone-propionate"/>
          <p:cNvPicPr/>
          <p:nvPr/>
        </p:nvPicPr>
        <p:blipFill>
          <a:blip r:embed="rId2"/>
          <a:stretch/>
        </p:blipFill>
        <p:spPr>
          <a:xfrm>
            <a:off x="5076720" y="1052640"/>
            <a:ext cx="2592360" cy="23050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219" name="Text Box 4"/>
          <p:cNvSpPr/>
          <p:nvPr/>
        </p:nvSpPr>
        <p:spPr>
          <a:xfrm>
            <a:off x="539640" y="333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800" spc="-1" strike="noStrike">
                <a:solidFill>
                  <a:srgbClr val="000000"/>
                </a:solidFill>
                <a:latin typeface="Arial"/>
              </a:rPr>
              <a:t>Nebulizer                               Atom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nebulizer"/>
          <p:cNvPicPr/>
          <p:nvPr/>
        </p:nvPicPr>
        <p:blipFill>
          <a:blip r:embed="rId3"/>
          <a:stretch/>
        </p:blipFill>
        <p:spPr>
          <a:xfrm>
            <a:off x="428760" y="3571920"/>
            <a:ext cx="4176720" cy="28814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assage of drug from its site of administration to site of action across cell membra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3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539640" y="3645000"/>
            <a:ext cx="309564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211640" y="3213000"/>
            <a:ext cx="216000" cy="2592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861080" y="3645000"/>
            <a:ext cx="30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3708360" y="407664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"/>
          <p:cNvSpPr/>
          <p:nvPr/>
        </p:nvSpPr>
        <p:spPr>
          <a:xfrm>
            <a:off x="3708360" y="465300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3059280" y="2637000"/>
            <a:ext cx="259236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membr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7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commended book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pincott’s illustrated reviews (Pharmacology)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Howland and Myce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nd Clinical Pharmacology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Katz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85480" y="1213920"/>
            <a:ext cx="8638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for intravenous administration, all routes of drug administration require that the drug be absorbed from the site of administration into the systemic circulation (bloo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.V. administration requires no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7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3" name="Rectangle 4"/>
          <p:cNvSpPr/>
          <p:nvPr/>
        </p:nvSpPr>
        <p:spPr>
          <a:xfrm>
            <a:off x="179280" y="189000"/>
            <a:ext cx="1871640" cy="71892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2698920" y="117360"/>
            <a:ext cx="3960720" cy="719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rption &amp;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7093080" y="117360"/>
            <a:ext cx="1871640" cy="71928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14200" y="1341360"/>
            <a:ext cx="8715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port of drugs across cell membrane occurs through one or more of the following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diffusion = passive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tran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litated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nocytosis (Endocyto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3"/>
          <p:cNvSpPr txBox="1"/>
          <p:nvPr/>
        </p:nvSpPr>
        <p:spPr>
          <a:xfrm>
            <a:off x="1071720" y="333360"/>
            <a:ext cx="692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CellMembrane"/>
          <p:cNvPicPr/>
          <p:nvPr/>
        </p:nvPicPr>
        <p:blipFill>
          <a:blip r:embed="rId1"/>
          <a:stretch/>
        </p:blipFill>
        <p:spPr>
          <a:xfrm>
            <a:off x="324000" y="907920"/>
            <a:ext cx="8569080" cy="576108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sp>
        <p:nvSpPr>
          <p:cNvPr id="239" name="WordArt 4"/>
          <p:cNvSpPr txBox="1"/>
          <p:nvPr/>
        </p:nvSpPr>
        <p:spPr>
          <a:xfrm>
            <a:off x="2195640" y="189000"/>
            <a:ext cx="4019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ll membra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7" descr="Cell membrane in detail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11344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876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Aqueous diffusion: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low molecular weight and water soluble drugs can diffuse through aqueous channels or pores in cell membrane 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filtration)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876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Lipid diffusion: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low molecular weight and lipid soluble drugs are absorbed via diffusion through lipid cell membrane itself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WordArt 3"/>
          <p:cNvSpPr txBox="1"/>
          <p:nvPr/>
        </p:nvSpPr>
        <p:spPr>
          <a:xfrm>
            <a:off x="1357200" y="285840"/>
            <a:ext cx="61437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ypes of passiv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24720" cy="5904000"/>
          </a:xfrm>
          <a:prstGeom prst="rect">
            <a:avLst/>
          </a:prstGeom>
          <a:ln w="31680">
            <a:solidFill>
              <a:srgbClr val="5f5f5f"/>
            </a:solidFill>
            <a:round/>
          </a:ln>
        </p:spPr>
      </p:pic>
      <p:sp>
        <p:nvSpPr>
          <p:cNvPr id="244" name="WordArt 3"/>
          <p:cNvSpPr txBox="1"/>
          <p:nvPr/>
        </p:nvSpPr>
        <p:spPr>
          <a:xfrm>
            <a:off x="1187280" y="189000"/>
            <a:ext cx="684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273800" cy="6408720"/>
          </a:xfrm>
          <a:prstGeom prst="rect">
            <a:avLst/>
          </a:prstGeom>
          <a:ln w="31680">
            <a:solidFill>
              <a:srgbClr val="5f5f5f"/>
            </a:solidFill>
            <a:miter/>
          </a:ln>
        </p:spPr>
      </p:pic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285840" y="785880"/>
            <a:ext cx="885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ith or along concentration gradi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e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s on lipid solu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s on pka of drug - pH of the environment (it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can be fluid of the cell body, blood, urin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971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357120" y="260280"/>
            <a:ext cx="500076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diffusion2"/>
          <p:cNvPicPr/>
          <p:nvPr/>
        </p:nvPicPr>
        <p:blipFill>
          <a:blip r:embed="rId1">
            <a:lum contrast="-2000"/>
          </a:blip>
          <a:srcRect l="0" t="0" r="0" b="29921"/>
          <a:stretch/>
        </p:blipFill>
        <p:spPr>
          <a:xfrm>
            <a:off x="468360" y="170172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250" name="WordArt 6"/>
          <p:cNvSpPr txBox="1"/>
          <p:nvPr/>
        </p:nvSpPr>
        <p:spPr>
          <a:xfrm>
            <a:off x="2627280" y="117360"/>
            <a:ext cx="40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1" name="WordArt 7"/>
          <p:cNvSpPr txBox="1"/>
          <p:nvPr/>
        </p:nvSpPr>
        <p:spPr>
          <a:xfrm>
            <a:off x="826920" y="1125360"/>
            <a:ext cx="32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WordArt 8"/>
          <p:cNvSpPr txBox="1"/>
          <p:nvPr/>
        </p:nvSpPr>
        <p:spPr>
          <a:xfrm>
            <a:off x="5076720" y="1052640"/>
            <a:ext cx="32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w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560" y="213840"/>
            <a:ext cx="8435880" cy="6239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182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arma : d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gos: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armacolog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s the science that deals with the drugs regarding names, pharmacokinetics, pharmacodynamics, side effects and u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42560" y="856800"/>
            <a:ext cx="8929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st drugs are weak acids or weak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ugs can exist in two forms ionized (water soluble) &amp; unionized forms (lipid soluble) in equilibrium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unionized for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absorb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onization of drugs reduce passage of drugs across cell membra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egree of ionization of drugs is determined by their pKa and pH of the surrou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1028"/>
          <p:cNvSpPr txBox="1"/>
          <p:nvPr/>
        </p:nvSpPr>
        <p:spPr>
          <a:xfrm>
            <a:off x="357120" y="214200"/>
            <a:ext cx="428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 Eff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79280" y="285480"/>
            <a:ext cx="864072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Water soluble drug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ionized = polar = charged are difficult to permeate cell membra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Lipid soluble drugs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ionized = non polar = uncharged are easy to permeate cell membr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WordArt 3"/>
          <p:cNvSpPr txBox="1"/>
          <p:nvPr/>
        </p:nvSpPr>
        <p:spPr>
          <a:xfrm>
            <a:off x="357120" y="214200"/>
            <a:ext cx="502308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member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Rectangle 2" descr=""/>
          <p:cNvPicPr/>
          <p:nvPr/>
        </p:nvPicPr>
        <p:blipFill>
          <a:blip r:embed="rId1"/>
          <a:stretch/>
        </p:blipFill>
        <p:spPr>
          <a:xfrm>
            <a:off x="-324000" y="176040"/>
            <a:ext cx="9218880" cy="641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42920" y="285840"/>
            <a:ext cx="878688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Ka of the d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Dissociation or ionization constant): pH at which half of the substance is ionized &amp; half is unioniz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ower the pKa value (pKa &lt; 6) of the acidic drug, the stronger the acid e.g aspirin         (Pka= 3.0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igher the pKa value (pKa &gt;8) of a basic drug, the stronger the base e.g propranolol          ( pKa= 9.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hich one of the following drugs will be best absorbed in stomach (pH=1-2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pirin              pka=3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ranolol     pka= 9.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07640" y="980640"/>
            <a:ext cx="87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uncomm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</a:t>
            </a:r>
            <a:r>
              <a:rPr b="0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agains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ntration gradi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carri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energy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ic or sel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u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51"/>
              </a:spcBef>
              <a:buNone/>
              <a:tabLst>
                <a:tab algn="l" pos="0"/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orption of sugar, amino ac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take of levodopa by br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odopa is used in treatment of parkinso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1028"/>
          <p:cNvSpPr txBox="1"/>
          <p:nvPr/>
        </p:nvSpPr>
        <p:spPr>
          <a:xfrm>
            <a:off x="399960" y="333360"/>
            <a:ext cx="417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ctive Transpo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passive_active_transport"/>
          <p:cNvPicPr/>
          <p:nvPr/>
        </p:nvPicPr>
        <p:blipFill>
          <a:blip r:embed="rId1"/>
          <a:srcRect l="51826" t="9213" r="3887" b="0"/>
          <a:stretch/>
        </p:blipFill>
        <p:spPr>
          <a:xfrm>
            <a:off x="4716360" y="260280"/>
            <a:ext cx="41767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pic>
        <p:nvPicPr>
          <p:cNvPr id="263" name="Picture 6" descr="passive_active_transport"/>
          <p:cNvPicPr/>
          <p:nvPr/>
        </p:nvPicPr>
        <p:blipFill>
          <a:blip r:embed="rId2"/>
          <a:srcRect l="0" t="9213" r="55713" b="0"/>
          <a:stretch/>
        </p:blipFill>
        <p:spPr>
          <a:xfrm>
            <a:off x="250920" y="260280"/>
            <a:ext cx="43639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287280" y="1341360"/>
            <a:ext cx="8569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al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nergy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sele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entry of glucose into muscle (GLUT  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WordArt 5"/>
          <p:cNvSpPr txBox="1"/>
          <p:nvPr/>
        </p:nvSpPr>
        <p:spPr>
          <a:xfrm>
            <a:off x="1835280" y="26028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rrier-mediated Facilitated Diffus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facilitatedDiffusion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31680">
            <a:solidFill>
              <a:srgbClr val="3366ff"/>
            </a:solidFill>
            <a:miter/>
          </a:ln>
        </p:spPr>
      </p:pic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ocytosis:</a:t>
            </a: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uptake of membrane-bound partic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ocytosis:</a:t>
            </a: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expulsion of membrane-bound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ytosis occ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 high molecular weight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molecules such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p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gh polar substa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 vitamin B12 &amp; 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B12 combines with intrinsic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n combines with transferr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1042920" y="26028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agocytosis (Endocytosis &amp; Ex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487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kinetic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e studies of the absorption, distributio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abolism &amp; excretion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what the body does to a drug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dynam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e studie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Mechanisms of drug a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Pharmacological effects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what the drug does to the body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4" descr="endocytosisAnimated"/>
          <p:cNvPicPr/>
          <p:nvPr/>
        </p:nvPicPr>
        <p:blipFill>
          <a:blip r:embed="rId1"/>
          <a:stretch/>
        </p:blipFill>
        <p:spPr>
          <a:xfrm>
            <a:off x="539640" y="1716120"/>
            <a:ext cx="3881520" cy="3441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exocytosisAnimated"/>
          <p:cNvPicPr/>
          <p:nvPr/>
        </p:nvPicPr>
        <p:blipFill>
          <a:blip r:embed="rId2"/>
          <a:stretch/>
        </p:blipFill>
        <p:spPr>
          <a:xfrm>
            <a:off x="4572000" y="1700280"/>
            <a:ext cx="3816360" cy="34574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684360" y="333360"/>
            <a:ext cx="158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WordArt 8"/>
          <p:cNvSpPr txBox="1"/>
          <p:nvPr/>
        </p:nvSpPr>
        <p:spPr>
          <a:xfrm>
            <a:off x="1042920" y="83664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End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3" name="WordArt 10"/>
          <p:cNvSpPr txBox="1"/>
          <p:nvPr/>
        </p:nvSpPr>
        <p:spPr>
          <a:xfrm>
            <a:off x="5148360" y="765000"/>
            <a:ext cx="273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Ex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732720" y="393372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7956720" y="37101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5724360" y="3710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755640" y="386064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7"/>
          <p:cNvSpPr/>
          <p:nvPr/>
        </p:nvSpPr>
        <p:spPr>
          <a:xfrm>
            <a:off x="10800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169236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Transport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183280"/>
          </a:xfrm>
          <a:prstGeom prst="rect">
            <a:avLst/>
          </a:prstGeom>
          <a:ln w="0">
            <a:noFill/>
          </a:ln>
        </p:spPr>
      </p:pic>
      <p:sp>
        <p:nvSpPr>
          <p:cNvPr id="281" name="WordArt 5"/>
          <p:cNvSpPr txBox="1"/>
          <p:nvPr/>
        </p:nvSpPr>
        <p:spPr>
          <a:xfrm>
            <a:off x="1332000" y="404640"/>
            <a:ext cx="669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absorp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of adminis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for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pending on particle size and disintegration, ease of dissolu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(solution &gt; suspension &gt; capsule &gt; tab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 of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solubility (aqueous preparation better than oily, suspension prepar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instability in gastric 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(Penicillin &amp; insuli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42920" y="260280"/>
            <a:ext cx="87868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absorp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area available for absor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intestine has large surface area than stomach due to intestinal microvil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to absorptive s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eat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increases bio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e has greater blood flow than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motility (transit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ea reduce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"/>
          <p:cNvSpPr/>
          <p:nvPr/>
        </p:nvSpPr>
        <p:spPr>
          <a:xfrm>
            <a:off x="4572000" y="3933720"/>
            <a:ext cx="93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191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c empt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9640" indent="-3088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increase gastric emptying enhances absorption (metoclopramid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lo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c empt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slow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, aspirin, penicillin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atty me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absorp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soluble antifungal drug  (e.g. griseofulvi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47600" y="189000"/>
          <a:ext cx="8745480" cy="6480000"/>
        </p:xfrm>
        <a:graphic>
          <a:graphicData uri="http://schemas.openxmlformats.org/drawingml/2006/table">
            <a:tbl>
              <a:tblPr/>
              <a:tblGrid>
                <a:gridCol w="4222800"/>
                <a:gridCol w="4522680"/>
              </a:tblGrid>
              <a:tr h="1025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Pass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high to low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low to high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nerg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50920" y="209520"/>
          <a:ext cx="8713800" cy="5862600"/>
        </p:xfrm>
        <a:graphic>
          <a:graphicData uri="http://schemas.openxmlformats.org/drawingml/2006/table">
            <a:tbl>
              <a:tblPr/>
              <a:tblGrid>
                <a:gridCol w="4152960"/>
                <a:gridCol w="4560840"/>
              </a:tblGrid>
              <a:tr h="118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Carrier-mediated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facilitated diffus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low to high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high to low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energy is requir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routes of administration a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eral administration is the suitable route to provide rapid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.V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in emergency and provide high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administration is best avoided during emergency or when severe first pass metabolism ma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may cross any cell membrane by simple diffusion, active transport, facilitated diffusion, and pinocyt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3" descr="QUESTION"/>
          <p:cNvPicPr/>
          <p:nvPr/>
        </p:nvPicPr>
        <p:blipFill>
          <a:blip r:embed="rId1"/>
          <a:stretch/>
        </p:blipFill>
        <p:spPr>
          <a:xfrm>
            <a:off x="5940360" y="981000"/>
            <a:ext cx="2376720" cy="410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j0078711"/>
          <p:cNvPicPr/>
          <p:nvPr/>
        </p:nvPicPr>
        <p:blipFill>
          <a:blip r:embed="rId2"/>
          <a:stretch/>
        </p:blipFill>
        <p:spPr>
          <a:xfrm>
            <a:off x="1476360" y="1916280"/>
            <a:ext cx="2057400" cy="39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20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1825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kinetics of drug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e studies of drugs regarding 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ADM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sorp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strib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tabolism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3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armacokinetics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9280" y="2060640"/>
            <a:ext cx="251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780000" y="2060640"/>
            <a:ext cx="1944360" cy="230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2771640" y="4149720"/>
            <a:ext cx="1008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250920" y="3716280"/>
            <a:ext cx="27352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2340000" y="5516640"/>
            <a:ext cx="2592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6516720" y="1987560"/>
            <a:ext cx="24462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6659640" y="476280"/>
            <a:ext cx="230328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x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826920" y="2997360"/>
            <a:ext cx="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8"/>
          <p:cNvSpPr/>
          <p:nvPr/>
        </p:nvSpPr>
        <p:spPr>
          <a:xfrm flipV="1">
            <a:off x="7451640" y="2997360"/>
            <a:ext cx="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5076720" y="616572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2"/>
          <p:cNvSpPr/>
          <p:nvPr/>
        </p:nvSpPr>
        <p:spPr>
          <a:xfrm flipV="1">
            <a:off x="7380360" y="4725720"/>
            <a:ext cx="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6154560" y="5445000"/>
            <a:ext cx="2881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organs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684360" y="907920"/>
            <a:ext cx="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539640" y="33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6227640" y="3645000"/>
            <a:ext cx="24465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7"/>
          <p:cNvSpPr/>
          <p:nvPr/>
        </p:nvSpPr>
        <p:spPr>
          <a:xfrm>
            <a:off x="4427640" y="4506840"/>
            <a:ext cx="0" cy="1009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 flipV="1">
            <a:off x="7524720" y="126792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9"/>
          <p:cNvSpPr/>
          <p:nvPr/>
        </p:nvSpPr>
        <p:spPr>
          <a:xfrm>
            <a:off x="5435640" y="4437000"/>
            <a:ext cx="720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4978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eral via gastrointestinal tract (GIT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r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ubling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ect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enteral administration = inj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pical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3"/>
          <p:cNvSpPr txBox="1"/>
          <p:nvPr/>
        </p:nvSpPr>
        <p:spPr>
          <a:xfrm>
            <a:off x="1187280" y="260280"/>
            <a:ext cx="6553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utes of drug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14"/>
          <p:cNvSpPr txBox="1"/>
          <p:nvPr/>
        </p:nvSpPr>
        <p:spPr>
          <a:xfrm>
            <a:off x="1332000" y="115920"/>
            <a:ext cx="61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79280" y="692280"/>
            <a:ext cx="8964720" cy="55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Advantag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mmon, easy, self use, convenient, cheap, no need for ster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low eff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IT irr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struction by pH &amp; enzymes e.g. insul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ood -drug  or drug-drug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First pass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No complete 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Low bio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Not suitab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omiting &amp; unconscious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7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mergency &amp; bad tast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GCUSER</cp:lastModifiedBy>
  <dcterms:modified xsi:type="dcterms:W3CDTF">2015-09-07T06:03:05Z</dcterms:modified>
  <cp:revision>284</cp:revision>
  <dc:subject/>
  <dc:title>GENERAL PHARMACOLOGY</dc:title>
</cp:coreProperties>
</file>