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6C99-B7E5-43ED-BBD8-8179524532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0769-014B-416F-91D6-914A30B1F32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11A9-6FCA-41FF-9135-03AB10A4AA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3EC-ECFA-4657-9DD0-AF342743B7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F058-81BE-4203-818E-0DCC42E3D6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738-5655-43B4-BA50-A8BCE41741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CA7-6C9F-4C2A-9307-1533B204ED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C38-CE8B-4BB4-BE41-E0CCA6EE73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4E89-BE78-40D2-9BF3-2C2FFAFDF1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CF7-72CD-4CF2-B78F-8D0DC34FA60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819-752F-498F-BE06-C4114B00E5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3BD8-EA2B-4ACA-889A-52C944F93B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735-79A1-407C-85BF-2ECF5DE44FC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35E1-D950-458D-B8B8-1EDA0633AB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3954-1ECF-4412-A09B-6DA68494AD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89C-3433-48FA-92B1-08DFBFC417B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50F6-8626-4CCB-942A-B7DF29AC9D2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3A99-81FE-4AE5-967D-B64D973CDA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360B-BA06-448B-B423-BDDBAAD800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9D7F-BF36-4DF7-B590-9BE1D3F69BE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9E57-D665-41EA-9351-901126DBA5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94C2-8FF2-413E-9477-4814F75837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511C-7562-4100-A8AF-88FCB8D66C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338-4C9A-410C-AD6A-BA3FF5DC25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BAE-8435-4281-91B9-A237086BD9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A21-CA2F-4A1F-99B4-3BE780B02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EDE3-9AAB-4628-B3A7-E52E5CD433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764-663A-472D-944E-FB37F95A66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E84D-5FEE-4813-ABCA-9D467AD394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7D6A-4A05-4F84-B3E5-9E3DB4B726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EE2-144B-4DCF-8F2F-1B24D5B08B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16C7-D453-4BC8-BBA2-879FF326C2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A3FF-3530-4ABF-AD6F-7E07F5F007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6C0C-5CFD-4FB2-AF20-767347DE543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516-0CF1-49BA-B6B7-92FE86051F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3944-D2F5-471D-8108-0506C5745C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45A-E2CD-4C05-946F-421365DD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0C2-F9F7-452C-BA46-56942963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552-F2FE-4908-9702-EACC862B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24B-E4B1-459F-AB9C-482E7198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0B47-F37D-41B9-BB94-EA185D1A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665-1CFF-4B37-A16B-41DFD2CF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E17-D635-45B0-A61E-0E00457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9A4-E99A-4094-B4B4-F973CC90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1EE-8A52-4EBC-AE76-6A6C467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ABF-FD1A-446B-BF3E-CDECABF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27DE-2A55-408C-B190-15463EE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0E2-13C4-4A36-826A-1277A51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3EF6-514A-47BB-832F-ADF1E2E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C8EC-017A-4211-9E92-7143E27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B60-2EEF-41F2-B829-1F5F4FB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358-90D9-4630-B9BB-BEEFBD94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C671-6B02-4260-9CD4-BC5BC306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66C9-1918-4E93-BCA1-1C3D4ED0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6ACF-D811-4E66-B9D0-E52E774D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2302-7E60-404B-9C29-6C8954F5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FC76-5388-4A93-A558-31D004E8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9383-81E5-4C19-B388-E431154E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168-EEE4-4BD6-806F-24E5D115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E479-F61D-41BA-82B5-9ECB53CF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B765-E8E9-48FE-90B3-2412BD9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4BEB-8A51-4EF9-AE74-B251EEB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2521-8020-4DDB-946B-45854C3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CF99-0AA8-42B7-A629-FD006E76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D074-8376-4AD8-B631-0A995D52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D132-C353-47D4-B5C7-4DCB3F9B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127-E7F0-4E29-99FF-93127F33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3B8-DCB4-4143-843E-C7E2D419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57E-AF8A-4752-8180-FE14430D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2A3-23F6-426A-AAF4-1082366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F9D-3E0F-4A36-8E7F-43B8374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71C-49A4-4C3C-93F3-D8EDBD3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F9D-4D6D-4991-AD3C-C40C48165D6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600B-C4DD-4D1E-A4DE-51B6006995C7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4FC-AE1C-49C5-85BF-FA79DA3A632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.sa/imgres?imgurl=http://imghost.indiamart.com/data/Q/G/MY-1386710/soft-gelatin-capsules_10757794_250x250.jpg&amp;imgrefurl=http://dir.indiamart.com/impcat/soft-gelatin-capsules.html&amp;usg=__ctbHQfPmJMQj0m0qYPO4PLbmaNE=&amp;h=250&amp;w=250&amp;sz=10&amp;hl=ar&amp;start=7&amp;tbnid=2J5d3wfgmKUbBM:&amp;tbnh=111&amp;tbnw=111&amp;prev=/images%3Fq%3Dsoft%2Bgelatin%2Bcapsule%26gbv%3D2%26hl%3Dar%26safe%3Dactive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0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skinstep.com/product_images/acne-controle-fluid-ampoule-03494187001.jpg&amp;imgrefurl=http://www.skinstep.com/elene/&amp;usg=__1MZFGMaJK3hwVCZ5N8wtLZCXpXk=&amp;h=350&amp;w=350&amp;sz=61&amp;hl=ar&amp;start=7&amp;tbnid=nxrySF-bPv4NNM:&amp;tbnh=120&amp;tbnw=120&amp;prev=/images%3Fq%3Dampoule%26gbv%3D2%26hl%3Dar%26safe%3Dactiv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53"/>
          <p:cNvSpPr/>
          <p:nvPr/>
        </p:nvSpPr>
        <p:spPr>
          <a:xfrm>
            <a:off x="324000" y="83664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 I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dministration and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765000"/>
          <a:ext cx="8785080" cy="5950080"/>
        </p:xfrm>
        <a:graphic>
          <a:graphicData uri="http://schemas.openxmlformats.org/drawingml/2006/table">
            <a:tbl>
              <a:tblPr/>
              <a:tblGrid>
                <a:gridCol w="3089160"/>
                <a:gridCol w="5695920"/>
              </a:tblGrid>
              <a:tr h="63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9720">
                <a:tc>
                  <a:txBody>
                    <a:bodyPr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truction by pH &amp;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irst pass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gs given orally are first taken to the liver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via portal circulation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y are metabolized before reaching to the blood to be distributed to all other body com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Picture 004"/>
          <p:cNvPicPr/>
          <p:nvPr/>
        </p:nvPicPr>
        <p:blipFill>
          <a:blip r:embed="rId1"/>
          <a:srcRect l="0" t="0" r="8522" b="5357"/>
          <a:stretch/>
        </p:blipFill>
        <p:spPr>
          <a:xfrm>
            <a:off x="471636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ere does it occ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w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u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pass metabolism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oavai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conc. of drug in 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high first pass effect should not be given orally but parente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utoShape 2" descr=""/>
          <p:cNvPicPr/>
          <p:nvPr/>
        </p:nvPicPr>
        <p:blipFill>
          <a:blip r:embed="rId1"/>
          <a:stretch/>
        </p:blipFill>
        <p:spPr>
          <a:xfrm>
            <a:off x="615960" y="-311040"/>
            <a:ext cx="8180280" cy="167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8435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gar-coated to mask bad t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ic 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solve only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pow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liq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 (e.g. Cough syr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(mixture of solid in liquids e.g. antibioti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907920"/>
            <a:ext cx="2376720" cy="201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90792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oft-gelatin-capsules_10757794_250x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9528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50920" y="3068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64000" y="26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78800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>
            <a:hlinkClick r:id="rId9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>
            <a:hlinkClick r:id="rId10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5545080"/>
                <a:gridCol w="30970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 effec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used in emerg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irst pass effec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GIT irri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ood drug – inter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able tabl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 fo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t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4200" y="1000080"/>
          <a:ext cx="8713800" cy="5440320"/>
        </p:xfrm>
        <a:graphic>
          <a:graphicData uri="http://schemas.openxmlformats.org/drawingml/2006/table">
            <a:tbl>
              <a:tblPr/>
              <a:tblGrid>
                <a:gridCol w="5280120"/>
                <a:gridCol w="3433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7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, vomiting,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pati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 (50%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itation of rectal muco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egular absorption &amp;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WordArt 14"/>
          <p:cNvSpPr txBox="1"/>
          <p:nvPr/>
        </p:nvSpPr>
        <p:spPr>
          <a:xfrm>
            <a:off x="1357200" y="35388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38172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stric irr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od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rug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rst pas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availability than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issue necrosis or abscess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reaction (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1619280" y="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13840"/>
            <a:ext cx="85690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the student should be able 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pharmacology and its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fferent routes of drug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advantages and disadvantages of various routes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various mechanisms of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different factors affecting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bioavailability and factors aff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9280" y="214200"/>
          <a:ext cx="8785440" cy="3070440"/>
        </p:xfrm>
        <a:graphic>
          <a:graphicData uri="http://schemas.openxmlformats.org/drawingml/2006/table">
            <a:tbl>
              <a:tblPr/>
              <a:tblGrid>
                <a:gridCol w="5699160"/>
                <a:gridCol w="308628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dermal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of drug (0.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tivity tes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9280" y="3032280"/>
          <a:ext cx="8785440" cy="3597120"/>
        </p:xfrm>
        <a:graphic>
          <a:graphicData uri="http://schemas.openxmlformats.org/drawingml/2006/table">
            <a:tbl>
              <a:tblPr/>
              <a:tblGrid>
                <a:gridCol w="5608800"/>
                <a:gridCol w="3176640"/>
              </a:tblGrid>
              <a:tr h="579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Subcutaneous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(0.1 ml – 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for sustained release effec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orly soluble suspension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.g. insulin zinc prepar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214200"/>
          <a:ext cx="8964720" cy="6000840"/>
        </p:xfrm>
        <a:graphic>
          <a:graphicData uri="http://schemas.openxmlformats.org/drawingml/2006/table">
            <a:tbl>
              <a:tblPr/>
              <a:tblGrid>
                <a:gridCol w="5267520"/>
                <a:gridCol w="3697200"/>
              </a:tblGrid>
              <a:tr h="650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muscular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ate volumes (3-5 m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longed duration of ac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y preparations or poorly  soluble substances can be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, abscess, tissue necrosis may happ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765000"/>
          <a:ext cx="8785440" cy="5753160"/>
        </p:xfrm>
        <a:graphic>
          <a:graphicData uri="http://schemas.openxmlformats.org/drawingml/2006/table">
            <a:tbl>
              <a:tblPr/>
              <a:tblGrid>
                <a:gridCol w="5329440"/>
                <a:gridCol w="345600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volume (500ml can be given by infu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used only for water solubl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oily solutions or poorly soluble subst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4"/>
          <p:cNvSpPr/>
          <p:nvPr/>
        </p:nvSpPr>
        <p:spPr>
          <a:xfrm>
            <a:off x="1357200" y="71280"/>
            <a:ext cx="55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venous admini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poule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acne-controle-fluid-ampoule-03494187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1720"/>
            <a:ext cx="3024360" cy="259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204" name="Picture 4" descr="Internal_Standard_Ampoule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5938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04292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Sing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0364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Repe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0.1 ml – 1 ml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moderate volumes 3-5 ml,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- necrosis may hap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ml can be given by infusio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percutaneous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llergy test, topical antibacterial and steroids and  local anesthe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Inhalation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836640"/>
          <a:ext cx="8713800" cy="5807160"/>
        </p:xfrm>
        <a:graphic>
          <a:graphicData uri="http://schemas.openxmlformats.org/drawingml/2006/table">
            <a:tbl>
              <a:tblPr/>
              <a:tblGrid>
                <a:gridCol w="5616720"/>
                <a:gridCol w="30970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4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due to large surface are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itable for emerg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mited systemic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latile gases  e.g. anesth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quids given by aerosol, nebulizer for asthma 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uitable for irritant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WordArt 14"/>
          <p:cNvSpPr txBox="1"/>
          <p:nvPr/>
        </p:nvSpPr>
        <p:spPr>
          <a:xfrm>
            <a:off x="1928880" y="189000"/>
            <a:ext cx="5572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548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edicated adhesive patch applied to skin to provide systemic effect  (prolonged drug ac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e nicotine patch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quit smo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Scopolam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vestibular depressant, antiemetic for motion sicknes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patch"/>
          <p:cNvPicPr/>
          <p:nvPr/>
        </p:nvPicPr>
        <p:blipFill>
          <a:blip r:embed="rId1"/>
          <a:stretch/>
        </p:blipFill>
        <p:spPr>
          <a:xfrm>
            <a:off x="6215040" y="414324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"/>
          <p:cNvSpPr txBox="1"/>
          <p:nvPr/>
        </p:nvSpPr>
        <p:spPr>
          <a:xfrm>
            <a:off x="1428840" y="214200"/>
            <a:ext cx="57830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07672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19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nebulizer"/>
          <p:cNvPicPr/>
          <p:nvPr/>
        </p:nvPicPr>
        <p:blipFill>
          <a:blip r:embed="rId3"/>
          <a:stretch/>
        </p:blipFill>
        <p:spPr>
          <a:xfrm>
            <a:off x="428760" y="3571920"/>
            <a:ext cx="4176720" cy="2881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site of action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mmended book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85480" y="1213920"/>
            <a:ext cx="8638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absorbed from the site of administration into the systemic circulation (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.V. administration requires no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3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14200" y="1341360"/>
            <a:ext cx="8715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cell membrane occurs through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3"/>
          <p:cNvSpPr txBox="1"/>
          <p:nvPr/>
        </p:nvSpPr>
        <p:spPr>
          <a:xfrm>
            <a:off x="1071720" y="333360"/>
            <a:ext cx="69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ellMembrane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239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Aqueous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water soluble drugs can diffuse through aqueous channels or pores in cell membrane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filtration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lipid soluble drugs are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"/>
          <p:cNvSpPr txBox="1"/>
          <p:nvPr/>
        </p:nvSpPr>
        <p:spPr>
          <a:xfrm>
            <a:off x="1357200" y="285840"/>
            <a:ext cx="6143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s of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5904000"/>
          </a:xfrm>
          <a:prstGeom prst="rect">
            <a:avLst/>
          </a:prstGeom>
          <a:ln w="31680">
            <a:solidFill>
              <a:srgbClr val="5f5f5f"/>
            </a:solidFill>
            <a:round/>
          </a:ln>
        </p:spPr>
      </p:pic>
      <p:sp>
        <p:nvSpPr>
          <p:cNvPr id="244" name="WordArt 3"/>
          <p:cNvSpPr txBox="1"/>
          <p:nvPr/>
        </p:nvSpPr>
        <p:spPr>
          <a:xfrm>
            <a:off x="1187280" y="189000"/>
            <a:ext cx="684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ith or along concentration grad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pka of drug - pH of the environment (i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an be fluid of the cell body, blood, ur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357120" y="260280"/>
            <a:ext cx="500076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170172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50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4358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rma :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os: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rmac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the science that deals with the drugs regarding names, pharmacokinetics, pharmacodynamics, side effects and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42560" y="8568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drugs are weak acids or weak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can exist in two forms ionized (water soluble) &amp; unionized forms (lipid soluble) in equilibrium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unionized fo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nization of drugs reduce passage of drugs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gree of ionization of drugs is determined by their pKa and pH of the surro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028"/>
          <p:cNvSpPr txBox="1"/>
          <p:nvPr/>
        </p:nvSpPr>
        <p:spPr>
          <a:xfrm>
            <a:off x="357120" y="214200"/>
            <a:ext cx="428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285480"/>
            <a:ext cx="864072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Water soluble drug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ionized = polar = charged are difficult to permeate cell membra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Lipid soluble drugs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onized = non polar = uncharged are easy to permeate cell membr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357120" y="214200"/>
            <a:ext cx="502308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membe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-324000" y="176040"/>
            <a:ext cx="9218880" cy="641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8786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a value (pKa &lt; 6) of the acidic drug, the stronger the acid e.g aspirin         (Pka= 3.0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a value (pKa &gt;8) of a basic drug, the stronger the base e.g propranolol         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1-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07640" y="98064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uncomm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again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energy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or sel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 of sugar, amino ac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odopa is used in treatment of parkinso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263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el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ntry of glucose into muscle (GLUT  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uptake of membrane-bound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expulsion of membrane-bound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ytosis occ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high molecular weight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molecule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polar sub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vitamin B12 &amp;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12 combines with intrinsic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combines with transferr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48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the absorption, distribu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bolism &amp; excre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body does to a drug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Mechanisms of drug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Pharmacological effects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drug does to the bod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pending on particle size and disintegration, ease of dissolu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solution &gt; suspension &gt; capsule &gt; tab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 of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(aqueous preparation better than oily, suspension prep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stability in gastric 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Penicillin &amp; insul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87868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rea available for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 has large surface area than stomach due to intestinal microvi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absorptive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increases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 has greater blood flow than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motility (transit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reduce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4572000" y="393372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19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increase gastric emptying enhances absorption (metoclopramid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slow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aspirin, penicill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tty me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bsor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antifungal drug  (e.g. griseofulvi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7600" y="189000"/>
          <a:ext cx="8745480" cy="6480000"/>
        </p:xfrm>
        <a:graphic>
          <a:graphicData uri="http://schemas.openxmlformats.org/drawingml/2006/table">
            <a:tbl>
              <a:tblPr/>
              <a:tblGrid>
                <a:gridCol w="4222800"/>
                <a:gridCol w="4522680"/>
              </a:tblGrid>
              <a:tr h="1025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50920" y="209520"/>
          <a:ext cx="8713800" cy="586260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routes of administration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administration is the suitable route to provide rapi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.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n emergency and provide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 is best avoided during emergency or when severe first pass metabolism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may cross any cell membrane by simple diffusion, active transport, facilitated diffusion, and pin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of dru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studies of drugs regarding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DM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sor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tabolis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rmacokinet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780000" y="2060640"/>
            <a:ext cx="19443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771640" y="414972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0920" y="3716280"/>
            <a:ext cx="2735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340000" y="5516640"/>
            <a:ext cx="2592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516720" y="1987560"/>
            <a:ext cx="2446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659640" y="476280"/>
            <a:ext cx="2303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7451640" y="2997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5076720" y="6165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7380360" y="472572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6154560" y="5445000"/>
            <a:ext cx="288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organ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84360" y="90792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9640" y="33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227640" y="3645000"/>
            <a:ext cx="2446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4427640" y="4506840"/>
            <a:ext cx="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V="1">
            <a:off x="7524720" y="126792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5435640" y="4437000"/>
            <a:ext cx="720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al via gastrointestinal tract (GI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enteral administration = inj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al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18728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utes of drug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1332000" y="11592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79280" y="692280"/>
            <a:ext cx="89647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Advantag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on, easy, self use, convenient, cheap, no need for 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low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IT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by pH &amp; enzymes e.g. insu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od -drug  or drug-drug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pas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complete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w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t sui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omiting &amp; unconscious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mergency &amp; bad tast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GCUSER</cp:lastModifiedBy>
  <dcterms:modified xsi:type="dcterms:W3CDTF">2015-09-07T06:03:05Z</dcterms:modified>
  <cp:revision>284</cp:revision>
  <dc:subject/>
  <dc:title>GENERAL PHARMACOLOGY</dc:title>
</cp:coreProperties>
</file>