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  <p:sldId id="285" r:id="rId80"/>
    <p:sldId id="286" r:id="rId81"/>
    <p:sldId id="287" r:id="rId82"/>
    <p:sldId id="288" r:id="rId83"/>
    <p:sldId id="289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slide" Target="slides/slide30.xml"/><Relationship Id="rId81" Type="http://schemas.openxmlformats.org/officeDocument/2006/relationships/slide" Target="slides/slide31.xml"/><Relationship Id="rId82" Type="http://schemas.openxmlformats.org/officeDocument/2006/relationships/slide" Target="slides/slide32.xml"/><Relationship Id="rId83" Type="http://schemas.openxmlformats.org/officeDocument/2006/relationships/slide" Target="slides/slide33.xml"/><Relationship Id="rId84" Type="http://schemas.openxmlformats.org/officeDocument/2006/relationships/slide" Target="slides/slide34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 type="dt" idx="14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 type="ftr" idx="14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6"/>
          <p:cNvSpPr>
            <a:spLocks noGrp="1"/>
          </p:cNvSpPr>
          <p:nvPr>
            <p:ph type="sldNum" idx="14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68DE-8F7A-4992-AF04-FA9B63A79E0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4ED3-0191-42E5-8D93-417BFC804E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8A88-AE38-49D0-8AB1-7C98D3AC027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C667-D785-4A73-A6D0-DEFE970FD93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5707-39E2-4D9D-AD9B-1C02A5017BA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ED82-635E-4716-9B51-504134A7A5F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7132-D65A-4662-98C9-4BF5320AEF5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8C27-992D-43A5-97C2-26D17B8149D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304F-5A10-4C28-A27C-9FFCAB01C3D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9142-E983-437C-A732-A10FC6A27B8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088F-4534-468B-B3E3-8D45E35DBBE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D9F4-8633-4734-A125-9F202F99152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78CF-B4A4-46B0-BF39-A55EE5A703A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198F-F53E-483A-BF65-923C02AEF66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1A7A-C5F3-4724-ACF9-90DEDB1518C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EEBA-95AF-4947-BAA3-630C1EB8F52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570C-63E6-471D-9211-84BB5FB67C1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EB8B-6ECA-434E-934E-25144948E4D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999-7AEE-4EF1-A9CB-4AE7BB10B51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088-1196-4CB6-A843-2B198B990E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0E8E-754B-4801-9BC7-509DED40EE1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8C85-19FF-4AFC-BFFD-E9C48641F34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263F-BAF4-46FF-AEC3-E6292DF9F03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E267-C257-4067-A964-163EE889789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C555-6FA1-4B62-B270-2B7413FBF4B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B5BD-467D-49F5-8795-A1EC9BFCB99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40AC-0F9B-4F43-8283-98B9FF9E486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687-760C-4AC3-9424-B3971EF9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066-A366-4029-9446-5A2496D6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35D81-6388-4535-A70F-CA591120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EC345-ABAA-4086-85A9-3817781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14807-B865-48AC-BEC8-7DA62183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FB913-F668-457A-B5A7-5824FC7F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95B6C-8CFA-486A-85F0-AF142EF3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7F494-A8EA-4657-839D-5A2074D3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2E4EB-A80D-4CAD-9873-B00410DC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A70A8-3D46-4842-93B3-BF69292A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583C4-DBB1-495E-BE34-018FF8E0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F287E-9572-4996-AE9F-E004E87E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3E1-D534-4F9C-A799-01FC0E1B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F742F-8587-42C7-A402-C0DCAA5E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018F2-8AFD-4ADE-8C54-27B57529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A9FC6-B69E-440A-B356-88280C67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39BEB-D72D-461F-B3B6-F63B630F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A15C3-6E37-4B7F-B971-3C574C8A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9CB66-F153-46DB-8975-4A8B41E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72DF7-5954-4C94-A93D-6CBCB547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C3A2C-A93B-414F-8DE7-1BF11B12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CD7AC-0986-453D-99A8-DBA5A3B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0E45E-514D-403E-8B25-143AFCC1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E99-8D67-4BC7-BA61-FDC75BE6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4E69B-D04F-4B30-A53D-2CEFB171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89632-ADCD-4C0D-AE8B-6AD8FA7C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24A69-7408-4F57-BF2E-7AACAE6D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00874-4590-4B9F-916E-81581BDE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7F4E2-EA61-4769-A84A-FFC18575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7FCFA-FC79-4E29-BC04-B19DF970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63EA8-6AC3-4D9B-A74D-674D1FE6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73A36-7F54-4951-8508-C1B8938B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8F4B6-E1B6-4462-9A6F-BDB9CFFF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534BD-5C52-4E29-A917-BA7DFB40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DD2D-B5BF-4729-BFD7-EB34CAED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81E59-C829-4791-B445-BBD702AF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FD05C-D4F7-47C2-BC54-0DCA3D81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0269D-9167-4624-B5B9-2618FA23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77D57-B510-45E9-8480-F9E1E5B5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2A236-C6B7-4DD0-A244-404C9FDF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A38E9-00B3-4C05-9A3A-A1222A23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6D25E-E25B-43F7-9486-C9CA2019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8E3A6-EFBE-42E1-8BD5-16F77B3B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79C6D-0B1A-4C52-BB55-82F74B9B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E353D-CC32-48AB-92FB-58BBBFFD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1926-DCB1-4214-81EE-129FF8B8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CCB80-D449-4A09-89B8-BC4EC719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F7CDE-4BD3-47CA-A4A2-ED3F7F8F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31C00-4FBA-482F-9F2D-B72EAF36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696EC-C59F-415D-8346-1A84AA46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4B3BE-5AED-4A7B-AF84-5AE31658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42609-2F51-414F-B0F3-005E9BC8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75263-2A25-46BF-AF72-114EE088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B5323-55AB-4DC0-B1E8-6DBDB64B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7AB65-FAC6-47AF-B047-6706916E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168D9-4C42-4F80-A397-0BFC7932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E28C-C6AA-43C4-898C-CD404F16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B984E-6D86-41E2-972B-EEEF71AE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552E0-05E1-4250-B791-168D037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F338A-4A9D-4F1F-8CC9-583D7619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776AB-DC13-437B-8FB6-7BC1AF44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038AC-C01D-45F1-A044-83DE12F2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52CC2-F636-422E-85E2-FCC3A30A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CEF28-776E-4B94-B49D-5C019A72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4B791-91E0-4B98-9A45-B01E40AF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28E25-DF98-4DC9-94EC-B2D27FA3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36984-97F9-40F0-ADC1-DB3CAA5B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E028-A3C0-48C2-B702-B324FD4A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E1162-83BD-48B0-A4AB-1B3A23B6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0395D-2EA6-4006-9090-D32E28DE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22B6B-C3C0-42FA-9687-F4B1E792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04299-810F-4056-9D4A-0C8410DC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47C48-31EA-496D-98F1-652C2C6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35FC0-A40A-48C8-B0F6-BCB55EEC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EEA6F-21B9-45A3-AD78-0E24D7FB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C49B8-7423-4151-B721-3FE4DD7B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B0904-D711-48CA-983C-07271AEF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4500C9-27C5-4AAB-AAE6-E2E0D295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50EB-8E6C-4582-B7EF-3972BDC6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87E44-C7D7-4661-8119-2679E799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C1D04-FD01-4907-972A-F9609738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7F53A-A08C-4AD2-98DA-2059982B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777E7-E371-410F-90EF-159DD94F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1D127-FDA5-48CD-96A1-D0557DAF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66216-C8D4-4A94-A449-FAFD54EA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BB013-8439-4F72-B5DB-4AB4551B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394F3-BC0A-483D-934A-0C0AB543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7A337-106E-4C6E-ABE9-E3A83CB1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44C08-E36E-4BFB-98B9-1F0884FE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F56E-A75D-4B35-B854-60426569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E4745-5D98-46D8-901F-2943D7AB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D9152F-5430-47BE-A5E2-24ED4DC6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D5D48-DFB5-42B0-B9D4-5602E1F8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60628-9D29-48D9-84C2-65046A03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CC5478-4862-4BE1-9257-67E15B9F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0AD5E-337E-43B2-92C5-B1C5FFE1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CE23C-3AD8-4B75-B1A9-5F3A38D9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E6324-23EC-486B-BD1E-4625E744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15FD99-777E-4F52-BB19-2DC0913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E630F-EBE7-4851-8863-750D40FA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4C1A-B5AD-4E46-A426-08745444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EAE8D-3E6A-41CF-AFC5-74CD0C1D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88E44-1198-43F7-AFDD-C58C902B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5B6614-77BA-44F0-AF97-ECBFBA05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C2B19-2B1A-43A3-AF8E-5E43B01C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3B761A-C353-4FC1-BA10-138CA3EB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FFAEEF-4341-42E8-88EE-D8B55C11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E556E-13ED-4729-8CB5-E7F1CA3A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521F0-4773-4C32-82A6-33809385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A8155-C4FD-4563-9CE3-39B4DC81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D10FE-6920-48B6-89CA-62FC06B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AB3-0856-40E3-9270-A04958CB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A142-1A6E-4524-84A9-2319E73E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2C898-98B2-4813-BB7A-C850579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E6349-A008-4C6F-BCF4-4F0E0413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FC85B-CADE-41E9-AC49-F1A890C4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6D636-DA98-4AF2-B490-7DBC45B6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11883-F9F9-42C9-82D8-32E396F5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D71D44-F916-439A-91BD-63A6BE5D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D2511-8B33-4F77-A351-878FBF3F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88E42-F1CC-4B05-B614-67008265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57C7C-30EB-4FB6-9D4A-F05F2B9E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04BFF-D0A9-4116-976A-612684D0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6F45-48E5-429B-805B-90F73C3F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D6D39-3036-4B36-A758-28A5A9D7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19E005-7B64-4275-993B-2DB2F119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A6FF8A-4432-4229-B13F-16104DC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2CB7E0-6DBA-448E-996D-56D129B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1A407-686E-4B47-B659-6ACDD1D5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B8EDB2-466F-4C36-9FE5-25A775C0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0C5B7-7109-4878-8A0F-B9D1FF46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6D405B-72DC-4A78-A3CB-BD790086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F279E-96E6-468B-990E-2A8D69DD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EAFCCE-0EF1-49B3-8302-4E84FD81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B9BF-3DBF-455B-A02D-BCFD7522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07EC8E-E5A3-4A06-855D-E3961A47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560C1-7883-4B38-986C-9A8CBF10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5AA826-2E2F-4319-A8D1-FFDE9630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E0B4EB-7B11-4352-B836-752E1655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F2BF08-716E-408D-84FE-C8A0AF6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37C34-6A95-4D26-B458-4A0810B1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B2F98-B0E4-45B2-A1DA-0B9AAAE7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50A01-E33F-4674-871E-35B31BE6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8B7282-A5A4-47AD-8126-C45D9A77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BC4A99-682A-4615-B115-7AA336AD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FCEB-44BF-48BF-9174-93E10180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C4C13-EE09-431D-A889-F40343D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C41D1-6314-44B7-97C4-9D1E4F20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34657-4B0F-4C60-AE2B-D3E39667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42F245-3883-481D-A4A2-1CF2725A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E8BFE5-23DF-457C-B427-2A605921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44BE40-6E84-452C-BCF2-4D4F4DAD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2D4EA-F3ED-4C81-828C-E646962A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40FDF8-17FB-4193-B62B-8E546016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1D58BF-DAB5-469F-9BAC-879A5F9A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9B9E99-E06B-464F-AFF2-9C3891C6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7C98-6452-4DFB-8D6A-D2F37A12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04FCD2-A614-4659-A34F-DA79C503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06A1A-0EDB-4C33-98B3-6DD6A94D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106DA-8D09-4835-AC71-16622635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36EA2D-4BF7-4CB4-90C8-172217B5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D18C7-E3ED-4559-BE17-4C7DAAE3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B942EE-417E-4180-94DD-B075F91B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1EFE85-763A-4F5F-ADF1-FB3BD923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25D69-ABDF-428C-AEB2-14922D6A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795B23-0D64-415D-A6AC-99E9020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744C45-7405-455F-A336-1E6B07D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DF6A-5ECB-40E7-9D26-33D36485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E22CC0-D7CA-4C3D-A2FC-B139D7A2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78FA77-045A-4A05-8F20-F118A654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021053-4C67-458D-9B10-06161F1E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17CCA4-3E6A-4FA6-88FF-358F1105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A80897-BD52-4DA5-971D-F6453F2F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42E16-F357-406F-B6D7-0A201B5C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AD39D7-5385-4BBA-ABB9-C25E90C0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A24246-9B8D-45A6-AA71-D487CCDB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693AE2-9F2C-40C7-96A6-201A8202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094CE0-AAEA-4EBB-A608-09D2FA44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77E0-2C34-4058-BF74-A8D18368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30F524-22B4-42D3-90BA-ECCE2E82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06EC46-5B2D-4800-BC5A-43432A9B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609E2F-51F1-434A-B28B-604E5811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CCEB3-A940-4A92-8B3A-D9A05F6B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EA0525-4B67-4D42-B67D-0296E063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F1CEF4-80EE-43FE-9C98-0BFF48FB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DD5540-9251-46BC-BE50-ACF480A4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D0781B-1B8D-4E41-B9BC-02757323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B7878C-D89C-4F72-ACB4-201AC121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8B6EEC-A9B4-4A1B-A5A3-36C8C72D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79E3-8D04-42D3-BD9E-43F37436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3E5B53-0C2C-471A-B960-7450C6A8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68F750-4041-473E-9E60-E815FE7B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F7F068-F1AC-4F39-9B2B-208FA2C0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626DD3-853A-4648-9D1F-15B2D69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81D56C-BD6D-4629-9191-314D7070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58B300-9D23-4B3F-A247-FD3BD2B8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8553F2-9E59-4E36-9E6A-860D3FE0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19540F-273E-494A-BC7D-EE0A0466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64D628-EA43-4EA4-B7C6-EF28C66B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4A8BC0-254B-448C-AA03-1E34C7CF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9BD6-5AA7-45DC-8250-567A97A0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BAA3AE-A02C-4402-B754-C08F56CE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7EB6F4-7B24-45DB-99BB-5AE6BB09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BEE7CF-A9FE-4FE9-85D7-7AB03A1E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CA9EB8-4933-45C8-BEF5-B77478AF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C683FA-4106-42F4-A848-88AC89EA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23F064-D8A2-4187-8FF8-B3D4D73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7F4C08-7CD9-4791-A7FD-DF418DC1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330094-EABF-4164-B5A5-B772514E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6A419A-5442-4058-ADA5-4F18C8E6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2D8260-DD50-4D24-BC2E-1973B522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8054-191B-45B3-91AD-39C50D80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456BE8-41A4-4CE7-BAF2-E92E55D3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CEE0F9-84C5-442F-97A7-E31281F5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50166C-2635-4BEA-95FD-33A3AED4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8E79CD-48D5-47BB-88F6-D7D5A87F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F299FD-1EB4-42EA-8A59-FF79B13A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414489-ECE2-44E8-87CB-750B9D30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04D39F-F71F-41CE-9C9D-15F826D1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1AF780-DA23-4B22-A2EE-B4660768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E2047E-DB30-40CE-ABD2-F548614C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3630C6-60BB-4529-A406-1C741C00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714-39B2-47B8-B180-D8DDC5BD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907D-CD62-4D89-A504-F84E3198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55C29F-490D-42F3-9AE5-668ECA2E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DD21B6-02A5-4FEF-9C20-EDC809C6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5A4BEC-0DEF-42F3-A26E-B9F8FF64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EF5C7F-90DC-49A8-9CE0-4ABD90B0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1A0C51-C26E-446F-BA68-6312573A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4A19FC-7145-4A94-BC80-4B68C6A6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03AB41-2A01-4035-9451-3AB64481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CE90AB-4175-4AFD-B15A-4292FAC5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16ABEB-085A-49AF-A330-9D7FCF0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C0899F-73A2-4DBC-93C1-9FB3C88B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1EAE-4B01-4A12-99AA-84F3069D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DBCBF9-C645-44F5-B065-8CA696FB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768297-3710-419A-A2A7-E8C3922F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7F25CE-DEF2-4E74-A415-F7886C3F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5F419C-8041-4B88-B371-258D959C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7C201D-8E5B-41BE-BDD2-D6114E3A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B0723C-4A8D-4769-81E8-AA22FA9D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CCB5F5-F8CE-45AA-806A-D294396F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316651-7AC4-413B-8491-2AE6B4EC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7A82CE-ACA3-4659-94F4-32DBBFC2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FC3AC1-4272-4ABC-A36C-63EF6A30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8A456-3B2B-42B0-8104-5CBDEC5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6D224B-D3C4-456D-86DD-67028615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C5A0D1-7045-432B-BCCF-B85B191F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5A0A23-A321-4678-A082-AA5C5ACD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DF20FF-0C0C-4374-9C99-E2E2F6B5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00A4A1-93C6-494D-BC35-5F24D77B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46E97C-65CB-47C8-A442-73D02313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60F31B-DE53-4928-AEF0-1E512A15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4B32C2-4CA7-4E02-90B4-FDD2130C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FC954E-4090-43F7-9FD2-F3B96566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BC2B35-BF6D-4F7E-A55D-B826D383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F7C0-3E0F-40CA-AA2E-6574AE9E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7A520D-46C0-44D0-A585-C730116D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68F0E0-C832-4386-AB26-78941B0D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FDBB9C-E6D8-4F76-9CED-E4501A7A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8BC478-279D-48C8-8CED-E0C5630D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09A1DF-6890-4AC4-881C-84B1D936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097D5A-8F26-4184-B4B0-7F8479EB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852C78-1576-405D-A6A6-BEB35887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48986C-EE03-4577-B33B-BAFFE7D7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46799D-BDDB-46F0-99EE-5D06A593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78237A-A057-491C-83BD-3540CFF9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9A93-584B-4C1E-9C6F-7A080364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A96EFC-4BD0-4675-A9FC-42515CA8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330B81-E551-4967-90BD-BC50E86E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5C8603-E455-4D0B-A9DD-B339E23B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8288A1-7D06-4387-ABA2-3E087421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6D7557-CD1F-46C2-BF8F-A83F7D53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CE5316-6DDF-4C52-A755-AB51D6FC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A6445F-EFAC-4F4F-AADF-7199367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0BDA14-F8D6-48C0-9676-339E5716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D69E46-C274-4CAA-ACE5-5818605C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7DAF70-8C3D-443C-8EBF-4130CC97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F90FB-41BB-43C3-8BF5-D3E75EDC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307194-CEC3-413B-8EA0-DAF5A839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CFA346-2994-41CB-96FA-41998050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7F3EF3-3F42-422C-BE6A-16AC19BC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618E05-A4BD-47B6-BB21-3B3DE4FA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9799A9-21DC-4ABE-837D-A59C4279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A2B1B8-F6DB-4FCB-9692-538D4BE2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879523-B3A6-4359-8D61-B607269A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D0F19C-FB17-45C9-B8C9-54551426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93B9BD-9BC8-40B4-97BC-636EC9AF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90C316-036D-4D80-AA72-36F24C70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A8C7-7B2A-4300-A334-D9259218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0480EE-E97D-4F70-834E-45C1DE37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1E4CB4-A6ED-4D44-8E41-1ABB07D8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DF7E5E-96E7-4999-90CB-D97F52EE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804803-0AFB-4944-BC0E-E536EEB4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A86D32-BC2C-4DCC-A35E-D457EEE8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1C0CF1-D069-417C-A986-A4F5E23A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3FF185-36C6-4E85-8385-158FD4D8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0B189E-8FA1-4B45-ADE0-8B56B56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D783C2-3973-4211-80AE-B83819A9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4E472A-AA3B-42E1-9A66-E87F93F0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81BD-4A65-458A-86B1-606C3505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B94B1B-D5A1-435C-A4BF-9AA67499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EACCB5-10E1-4F9B-98F7-F4CC2C9C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F3512A-6E42-4DBA-B5DA-C02A3F04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A6A9A5-C477-4160-9F45-3F855366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450674-489E-422F-A884-7A6E2787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8C54A7-1757-4216-A6A6-FD2970EA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7E5C43-F49E-4459-92D6-6184E3C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E0E799-CE2F-40AE-BECA-7AF0A976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5B5939-BE1D-4AC3-AEF3-A8CD2A87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7A8230-B2ED-46E2-A424-AC69383D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3D734-9FAF-40B4-876A-F1CEEFAD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C1CCB3-4F09-4DD5-B0BF-E005529E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413040-5EB9-4C80-BF9F-5D84321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8323E8-809A-4685-A14D-16F1F277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FEC0C7-7FCD-47CD-A709-2500F38B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63F500-3CE5-4EA5-A22C-B5888490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6E37C3-7D1C-43D0-8AEF-FDA036BE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CE592B-086D-4896-AE77-8A6B2D6D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92063F-7DF1-4258-9E0B-8AD77183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93D91E-B100-41CF-9034-4F103172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22F09A-74D5-42EF-BFF9-F20DC172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58F0F-8A15-4D6F-86D1-CDC131DD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928485-F4DA-434C-9C4B-655F88BC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6F05BB-7101-4082-A8F8-0C792E88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D33FAB-C75B-4FD6-A708-8CEBD6C0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CF155B-C4C6-4F8D-AE38-AA6325BB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2545D0-59A4-4064-80E5-3D800D98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C587DA-5BF2-4355-A7F1-0035B98F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98670A-E411-4CAA-A4CA-FD978AC8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3242BB-D1A8-465F-87D6-85612ADA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05EF4E-BBCE-4FA6-BA09-619643B4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B33867-7599-47B8-A9ED-5B7CD98B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715-DE97-4B5D-8F9D-54E3E0C5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3D2F8-116D-48BD-813A-FF2207AE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B3F281-BB03-49DD-BECA-19757E84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7BBD3E-0A81-4487-B76D-CC1A56E8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44A2F5-7AEF-4620-B554-3B4FC634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1042BB-FFED-40F6-A66E-2DFA0F62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405C00-268C-43EC-AB0B-CA78C188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7DA1F7-B54E-4643-950E-8FA564F2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AB434D-2CB1-4C76-AFA8-5AD8CE30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81C2AA-6CDE-473F-B5CE-030FA15B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595428-25A7-4999-84A3-D493D120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F43033-64FE-421D-9FB3-C4B273DE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DBF12-007E-49F8-AA2D-4116C3F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20DB00-8A07-4627-8E22-B4767C91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8E2DB8-A1F6-45BE-A83C-83FBEF01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D3C7CC-B93B-42A2-A616-9D928B70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17B360-CC4E-44A8-9A16-F8DD40A1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D31FD1-7A9C-4FFA-A532-2B15464B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886004-71F4-48B0-8A8C-18C3D9D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CD30A9-C780-49DA-A67C-5FB7690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B16E0D-ABCA-46F7-BD95-4BAB8F4E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45C475-C597-4221-A663-C0096F90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B5021F-B6AC-4549-8093-F576D04E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A273E-99A0-44B3-87F8-BE8A2497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0D73A6-9F83-47A0-9437-E3BCEA8D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76BFF9-AD8C-4166-8F17-4E09E881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6A7C6B-3C00-49F4-9975-A35CCC40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E71815-2AFA-4FB2-9985-00A3BF97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62744E-6529-4701-A6B4-CB6A3F4E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3B865E-F46B-4605-9819-9EE48C70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1E2A26-7330-4362-B529-DF96431D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1E1F70-7B47-4E1C-8C2B-4DD3E94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AA1896-FE92-452C-9F2E-AA166EB9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CC83C9-1813-4294-9985-5FD50BB8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3F1C-8379-459A-973A-6C6E975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11879A-F3B8-452D-A878-7A99AC8A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830456-7087-4AB0-A574-43C540CC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F4803E-6DF9-44EF-B12C-E683E875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B1DCD5-A66C-4008-BBD2-A1834A18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4E6DD8-6A9A-4C35-AA28-B4602B8C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6FF9F0-580D-429A-B4EE-607D059D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F4B0A6-130C-4A45-A198-ACBCA6AB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72DD63-85DB-46B0-A1B3-BD750F6F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344426-0D1F-4026-A42B-0D016DF0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4C86ED-083A-4EA5-81D5-B5B34EF7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F157-144C-4FCD-B1D2-EFBC7C7B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33A0B5-4802-4A7F-B2E9-125AE8FF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0A32CD-B7A9-4952-BCBE-6F3517E8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FC9AEE-69E6-4DCD-B84C-7F34B785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66C9C1-36CB-4EE8-BE54-519D1BF3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EEC067-E7DC-495F-9264-4FE7B15C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0AC266-E935-461B-A023-717959EE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BFE81E-B40C-4893-BF48-5DCA4EB4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7E2B3A-54D2-4CC8-B063-15696BE6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659ACD-69E9-4E20-B0D5-A25DEC13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2439A5-87BE-4AC1-948B-EE7F9C25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0C9B-996B-4136-9297-A93E4CC2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672410-976F-45B3-BC69-3A296396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E561E4-6920-493E-BA6F-801AF467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C318423-DBB9-4BAE-AC7D-ED3ECB2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95657F-5DBA-48D2-9FCF-C07CA2E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38BBF9-C428-4868-BA15-AAE349BB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39212A-6ABD-4166-945F-EE5B3DC8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B3FEA5-A718-468B-8285-0AC2E48B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8C4C598-0E19-4223-B008-EB76F417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C65BD9-45B4-4297-8625-A493022D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706F9F2-9D6A-4E2C-86DA-A69FEAB8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ACF12-4D57-4959-B297-34E0AE60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70C35D3-82A2-41B4-AB81-E7993274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4A2120-5DED-417A-8A9F-42B8BAA0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D4B0B91-9F89-4C7D-9BE2-2363F856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744542-18B7-4C99-BDC5-D982855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9FCE45-1C0D-4158-8FC4-96BDDD31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5B3C63-887B-402E-A6D9-88E1D054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D75B22-F55E-4713-88AB-2546D3A8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32157D8-CB7E-4508-8989-145F05E7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632C41C-9E3F-41D2-9450-9E226294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E7403E-D226-43A8-BE1C-CBE5E2D4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B8CE-B364-406E-BA6D-125D651B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E1F3C8-0583-4010-93BA-1F23F7D6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96F23B-FCE6-49CA-AA8E-A0AA7494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7503A8-97F7-4794-B621-3DABD966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FCC097-7681-4C9A-8F72-786AA8ED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BB2BD63-6BFB-4C81-BD4F-25A77011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19A35C0-FAB2-42C5-A783-1AAFB5EF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143674D-99A1-4544-B752-9B11FCE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45529C-FBAE-43D2-8C36-8F9AA1E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EB069E6-F623-4ADB-8042-2D7B7B57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CA05C5-78A3-40A9-AA2B-EC2087C7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F0245-D502-4AC6-AC85-9E6FA1BF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C4F429-43D7-4BFB-B487-C2ED480C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99F86B-7745-4E51-B76E-CBD62A81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AAA43F-4266-481F-9BF3-36E6D3F7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ED73F7A-8902-4AFB-BB15-7D169D6B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732C50-52EC-4979-AFA1-41B49053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11F6CA-7F69-4780-8361-3308FA15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7C0AAC3-52EE-4BC3-AC05-F8CB3A9A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582DD5-6A4F-4E4E-9838-54707890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A5E5C91-E8E3-4F8B-BBDE-B612BBB8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5B9C2C-8871-4CF0-8789-767D4B96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68CA9-6F02-46B0-858E-12B9DEFC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D2F11C-3769-4350-813B-56395937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19EFDC-A184-472A-BFFD-97077820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1B867D9-A377-4F6F-9388-A60CBECE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1573B7-9CA3-43C2-B860-6145319D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F7D662-B507-4765-A229-5F2EC76E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0003230-B417-47C4-B7E5-351A212F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FFD7F1B-5AA7-4095-BDC8-2BE38E09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53DDF5-E1FC-4C53-AE15-C355D9FD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A2E7EF-6718-4F31-95C2-BE2BE32A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4FCBF8C-A5A8-4C16-A1BC-3DBEAEF5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8E9-CBA1-4E6E-A640-66835224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D6904-A0D4-4FBF-A70F-16955A20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B9D6A9-EAA9-4036-916A-F97BDADF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8D6CBC-DFED-4796-906B-F91EC9A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61E358-B2C8-4B90-8841-6A186139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5D76A6D-B0C4-4419-89B1-EC18A81F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D670A5-3E15-43D2-A44F-E62AA9D7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63F7C3F-3B26-4319-867A-47D99EE9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D4FA6D-BBAC-40E7-A14F-E313D4D9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651D3D-C984-44AB-AC6F-A7A1BFE1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EDA9AE-9145-4A6E-B60A-CC5C4D00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7ADC681-BD26-4EC9-A613-75391F8B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95C2A-D821-427B-80DF-BE2D3D2A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DCBF545-C235-4DE3-A1E2-7A6B3CEF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CFA5147-5D28-42E6-B07C-F48A4DB1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7C2850-A7D4-4D0A-B130-DF660173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5BBFBC-2C4F-4B34-AA23-4820943A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8E5BC8-5E99-40F9-B662-E59E341D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3840E69-9CA8-4C5C-A600-E0039EBA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A22A250-9EDB-4FDF-AAEA-57FCF049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4788F0B-13F0-4578-80D0-92F00300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21401BF-1777-4D47-B6BB-C5164E36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55C476-92C1-4AE7-8F36-6E1AB09E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A15E8-AC89-408A-B650-107BC885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92F2ACE-A20F-4F03-9D3C-ABE237A2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BDC2185-0C1F-42EC-A058-2578A175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B83E2D7-E6BD-4AD2-AE53-817743E0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DFD0FF-3985-4869-B06D-CB96A926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40D2D48-4E68-4ECD-B157-43C860CD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44C8314-07CE-4223-8DB7-AAE6327F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0F7C03-D19F-4510-8455-FE19A382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149ECB-A912-4036-A346-E7F22793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01ADDCE-7E37-4417-B2DE-30AB4DE1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2961EB1-5012-445D-B459-79DB26D5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52E08-89D2-4C72-8911-6462595F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7CE05B-3C3E-4F34-B133-F17E3269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09FE21-C4E1-4A20-B385-AA7BA76B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BFBBAB-FBE0-42B9-B9DC-78F442F4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85509FE-77AD-4EA0-8D29-0974E3B8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6A28CE-4D06-46C7-98FC-4DFAF6F7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62DDCA6-F7D9-47A1-82E0-8FBB3C77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9C3E9FB-0EF7-4ADF-999E-7702B305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581D744-B31D-4EF9-B6F7-6267016E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89BCE6-7B37-4C63-992B-EADF458A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E13C92-1F45-45FD-B4C4-BD00F790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72152-1147-427F-8872-7D17EC68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D49518-40DA-491F-A8E4-DDC00962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E22A0B-5D81-4E84-A6E5-49DD3A61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59BCEF-1DC3-4DE0-8455-ADFB53AC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E8A9BDA-41E4-47D9-800E-5862DF12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42E738-B525-4689-9634-CA28524A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09A7E1-6210-4FEC-8CE9-449B9684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4DE8DEB-6512-405F-A4BE-17ECD8D2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AB804B4-C3F7-4DC8-80D0-730A51C0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78F0FA5-49C0-479E-9C71-7F3DA0E8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B5789B-9E4C-4404-8FA8-F8E890E2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71AAA-8D50-42AF-90E1-BCCD12B1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BE230CC-E5C1-4224-B0C9-1DA291BE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C6276F1-5EEF-4853-BBBC-E909945C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390A39-843E-4D4C-8ED6-2B061E17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A3ED3F-A467-4D41-853E-102320F6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6B2738-BF65-4C1F-BA07-666D2A14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05EE067-B44A-44BD-90E5-B85C9F99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FDFEC4-8836-4EA1-A219-1D5B5380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5F8D644-2191-4461-A196-C05D0292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D8FD8E-2EE3-4D14-B33E-A5B33998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CEF060-C81F-43CB-A824-D769720B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47C11-FD48-463E-8FB7-72058388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50B03B-158C-4E03-BBE1-76A7E73A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073C3DC-837F-4833-8673-6AF71DC8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18DCBF2-5987-4675-B51A-F02111BC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894542-735A-4B76-9E58-B9906DDB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8FF310F-EB0A-4873-B9DB-704343E4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0B13479-CE86-4D19-941D-CF4E2BF2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5F4275D-E740-4F7E-B933-E8128E64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6CA0281-B2B8-4416-81E9-05A6ED0C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AEBBDF-919E-4331-B1B1-DFC33E87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6A91BC-EAA2-47FD-ABEA-898202A7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462C9-7C38-43BE-88D7-2FB3526C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D73012-8CFA-4615-A161-87BB1328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B2FF502-171E-4B63-939B-F964A02E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2A882A8-0561-4440-B2C1-E127F340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4FFBF16-F039-472A-8DFB-E319FBCA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1A0B4D-EB01-4B15-9550-2FE4E140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2C4E11A-2F18-4300-A962-A4BEE5B3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1D8BDC7-57CA-40D9-B5B7-45A97D0B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5B09C-92F1-4EB2-84A9-9BEF09EB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F6A4F-65D0-467F-8FBA-63FC3D4F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569-6AB8-4B6C-8BDD-D3E90808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7F71E-DA00-451B-999B-1F637584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31614-7D7A-42CF-B62B-ADA18C37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B99B9-F21D-447B-AEFE-2EE209A3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127C4-E5D1-41A5-9335-0E2C4536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E13E-35AD-485C-AC47-AA767323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EA8CF-619E-46E6-B140-247AE064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2DBA6-EFA5-4ACD-A0ED-D620F566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40860-4D3C-45EF-8633-2C803222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C5D9C-CD7E-4894-9B4A-96601729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43056-8AC7-48A4-8424-1DB6ABA4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1FE-9315-47D9-9D13-5CDEA021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C7F5A-F74E-4CBD-8084-019F3264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A61B-EF72-4855-8040-BC393149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1790C-24D1-4AEE-BBE4-33D047DD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64CEE-2508-45B7-A6DA-FA7F3C94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96F13-4063-4F88-B8CF-D48D08EB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B8383-9ACB-4D28-BAAA-09627591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8635B-703C-4192-B147-8F5EA0F5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CA181-BA97-452D-98F1-C34745D5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20966-4786-453C-8002-9FAD08A0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AF475-B588-4374-8EEF-5A5D453E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580-1338-4207-8D58-79CE111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743C3-5D4D-4D8A-AD90-B1CE6385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E048D-2DC0-445A-A4C7-7CA07726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D162A-A224-4CB8-A9AC-A1B23D1C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1241C-5C0F-41DE-A2D6-086F0D55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23BFC-C5C9-4264-A1C8-060EE25F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04752-9798-4BF5-BDBB-5B507829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A7066-C60C-469C-8A14-64E846C8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7AB4F-C247-4103-8B9E-A7ECC763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3B3DE-C949-41D6-8B34-9170F980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B1519-EE3C-46C1-9B79-12CD1401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A62-5908-4B41-AFB0-EBBA387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F5374-B6A0-4B96-84D8-9B3363E6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32293-021C-49AE-A78B-FF60D438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9CCB8-9FDF-4B7C-9953-E8D4C52D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2A80F-1461-466C-88A2-4BF588C7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13720-D757-4F31-B82D-BF6983E8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ECF9F-A3B6-47FA-ADDB-E9E3FC6B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936FE-B3CB-4371-8EDC-AD78B49F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E7FF8-C43D-4E1E-A3FA-04143E2B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B51D9-C490-4951-B969-DB09ECE0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E0418-F2F2-4660-818D-5F8E7291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1506-50E9-4863-B133-7321C89459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2C13-AA21-49A0-9DB4-09A824C603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7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AD1B-C3BF-4DB8-8E11-E8F06D2E22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9B46-44C5-4583-B4DF-F5335B50A8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59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62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C281-76F7-4D86-99E2-51BB1134D4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607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61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2688-4F05-4CEF-A21D-673C27B51A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5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6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AD62-FD0C-4743-905B-CE3338084E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21B1-62BF-4463-A757-E6FE31A667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3AB5-412F-4338-B5F8-14825B5378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B0F1-6820-4D7F-88C8-00985214B8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5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6B78-DA57-4525-B9A3-453357F9D5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A162-DCCC-4FB6-8A44-9C6C1DF4D4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2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4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5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5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5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7E75-FDDD-4C66-9F01-0E6F5122AB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30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933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4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35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BA2F-D650-4269-829E-3011A52BFC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8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983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6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6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6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905C-7D48-448F-8A60-ED7F0C35CA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D91C-B9B7-41B7-9F88-18F765B03D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99CC-92B3-481A-A5CA-9250987D05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7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7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7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5FBD-E49C-4F47-9F78-4242759EAE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dt" idx="7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ftr" idx="7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sldNum" idx="7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D25F-C59E-45B3-BD0B-0C68258E7F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05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7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08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 type="dt" idx="7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 type="ftr" idx="8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 type="sldNum" idx="8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1B59-8130-44CB-B030-3E14F98C4F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253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256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7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13AB-29DA-467D-B938-5AEF450440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0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06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7D79-EC0F-4927-B5BE-9150CE5826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2BBC-83CC-4A76-95B6-4866ADA1BA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5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863D-C96E-4E93-ACD9-BDCCC11440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91E4-C3FE-4A5D-8FDD-7D5363031D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4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6948-998F-40BF-BDB5-03CA7E49F9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12CC-F453-4B2B-B537-F6D21D7136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8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0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D04E-8FB0-4ED4-8243-3C9940FD8B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576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8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579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0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1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0DD9-BC84-41D3-8AF0-FD0D84E43B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2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2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F9A3-188C-4FF6-BEE7-6D515828EB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27B1-855A-4779-9352-00CDF90F1B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E97A-9B6F-434D-AE26-479C400CCE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9002-8D44-44A4-9721-57C6B455E9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CE86-AAFD-487D-B7FD-21FED63BB8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B342-8E41-4B74-AEC9-996B734C4A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51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3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854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EEB5-E239-4714-9DC2-A7D2B5836C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89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90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0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0CEB-7846-41CE-9E93-A5139B66F8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4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95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 type="dt" idx="12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 type="ftr" idx="12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 type="sldNum" idx="12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1FCA-03AA-478C-A2C1-38DD88229B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9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13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13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13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AF76-1031-4F56-AA71-B5A81EC568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dt" idx="13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ftr" idx="13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 type="sldNum" idx="13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F1BE-D177-48A7-B89C-B8D2ACE43D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8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 type="dt" idx="13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 type="ftr" idx="13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 type="sldNum" idx="13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78B5-B281-4E71-BA0A-65872E4C12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 type="dt" idx="13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 type="ftr" idx="14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 type="sldNum" idx="14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9283-0A62-44AC-ACC0-EB8A9B9D90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17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17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 type="dt" idx="14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 type="ftr" idx="14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 type="sldNum" idx="14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8536-162F-4951-9F74-EFF7129070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6C98-AB10-4DE3-BAE3-1B3AA0FB2F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DE73-2317-4B3E-814B-8B6ACD4924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284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287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9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2BCF-27DF-4DC8-A929-90C7CFAEF1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37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C075-06AB-4652-B3F5-0B4A56E372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823D-496B-4C03-BEC1-891114047F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package" Target="../embeddings/oleObject1.docx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28" name="WordArt 30"/>
          <p:cNvSpPr txBox="1"/>
          <p:nvPr/>
        </p:nvSpPr>
        <p:spPr>
          <a:xfrm>
            <a:off x="1571760" y="171468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9" name="Rectangle 4"/>
          <p:cNvSpPr/>
          <p:nvPr/>
        </p:nvSpPr>
        <p:spPr>
          <a:xfrm>
            <a:off x="857160" y="307188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71280" y="260280"/>
            <a:ext cx="9144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-acetyl transfer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acetyl group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en-US" sz="3200" spc="-1" strike="noStrike" baseline="62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onoamine oxidase enzyme (MAO)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of catecholamines as adrena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.g. Alcohol dehydrogenase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lcoh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dehyd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ldehyde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ic aci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2O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"/>
          <p:cNvSpPr txBox="1"/>
          <p:nvPr/>
        </p:nvSpPr>
        <p:spPr>
          <a:xfrm>
            <a:off x="142560" y="142920"/>
            <a:ext cx="9001080" cy="61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enzyme system = Cytochrome P-450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ore than 20 families CYP1, CYP2,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families are identified as A, B, and C etc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uma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3 isoenzyme families are important CYP1, CYP2 and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8" name="Rectangle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5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9" name="Object 2"/>
          <p:cNvGraphicFramePr/>
          <p:nvPr/>
        </p:nvGraphicFramePr>
        <p:xfrm>
          <a:off x="4429080" y="3286080"/>
          <a:ext cx="4330800" cy="32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0" name="Object 2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3286080"/>
                    <a:ext cx="433080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1" name="Rectangle 4"/>
          <p:cNvSpPr/>
          <p:nvPr/>
        </p:nvSpPr>
        <p:spPr>
          <a:xfrm>
            <a:off x="142920" y="10717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P 3A4/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 out biotransformation of 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number (30–50%) of dru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ed in liver and intestine (responsibl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ass metabolism at this site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142920" y="214200"/>
            <a:ext cx="878688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ses of hepatic metabolic reaction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 reactions includ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si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reactions includ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3" name="Picture 4" descr=""/>
          <p:cNvPicPr/>
          <p:nvPr/>
        </p:nvPicPr>
        <p:blipFill>
          <a:blip r:embed="rId1"/>
          <a:stretch/>
        </p:blipFill>
        <p:spPr>
          <a:xfrm>
            <a:off x="4643280" y="1071720"/>
            <a:ext cx="4286520" cy="5643360"/>
          </a:xfrm>
          <a:prstGeom prst="rect">
            <a:avLst/>
          </a:prstGeom>
          <a:ln w="0">
            <a:noFill/>
          </a:ln>
        </p:spPr>
      </p:pic>
      <p:sp>
        <p:nvSpPr>
          <p:cNvPr id="2254" name="Rectangle 2"/>
          <p:cNvSpPr/>
          <p:nvPr/>
        </p:nvSpPr>
        <p:spPr>
          <a:xfrm>
            <a:off x="302040" y="214200"/>
            <a:ext cx="72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Text Box 5"/>
          <p:cNvSpPr/>
          <p:nvPr/>
        </p:nvSpPr>
        <p:spPr>
          <a:xfrm>
            <a:off x="380880" y="1341360"/>
            <a:ext cx="4046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two) Phases of Biotrans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ase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abolite may be active or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ase 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abolites are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dition of oxygen or removal of hydroge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ost important drug metabolizing rea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57" name="AutoShape 2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358040" cy="71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58840" indent="-18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micr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ytochrome P450 enzymes, NADPH and oxyge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n 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cytosol  or mitochondr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xidases and dehydrogenas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–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ine – Monoamine 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– Xanthine 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59" name="AutoShape 2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358040" cy="71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hydrogen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dehydrogenase &amp; aldehyde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xid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noamine oxidase (MAO):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catecholamines as adrenaline and seroton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clobemi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MAO inhibitor and used as antidepressant since it increases serotonin in brai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61" name="AutoShape 2" descr=""/>
          <p:cNvPicPr/>
          <p:nvPr/>
        </p:nvPicPr>
        <p:blipFill>
          <a:blip r:embed="rId1"/>
          <a:stretch/>
        </p:blipFill>
        <p:spPr>
          <a:xfrm>
            <a:off x="1620720" y="42840"/>
            <a:ext cx="5767560" cy="65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anthine oxid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xanth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ic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 accumul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U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puri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hibitor of xanthine oxidase and used in treatment of gout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63" name="AutoShape 2" descr=""/>
          <p:cNvPicPr/>
          <p:nvPr/>
        </p:nvPicPr>
        <p:blipFill>
          <a:blip r:embed="rId1"/>
          <a:stretch/>
        </p:blipFill>
        <p:spPr>
          <a:xfrm>
            <a:off x="1620720" y="42840"/>
            <a:ext cx="5767560" cy="65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4" name="Title 2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29600" cy="592200"/>
          </a:xfrm>
          <a:prstGeom prst="rect">
            <a:avLst/>
          </a:prstGeom>
          <a:ln w="0">
            <a:noFill/>
          </a:ln>
        </p:spPr>
      </p:pic>
      <p:pic>
        <p:nvPicPr>
          <p:cNvPr id="2265" name="Content Placeholder 3" descr=""/>
          <p:cNvPicPr/>
          <p:nvPr/>
        </p:nvPicPr>
        <p:blipFill>
          <a:blip r:embed="rId2"/>
          <a:srcRect l="2803" t="0" r="0" b="0"/>
          <a:stretch/>
        </p:blipFill>
        <p:spPr>
          <a:xfrm>
            <a:off x="182520" y="928800"/>
            <a:ext cx="8890200" cy="5857920"/>
          </a:xfrm>
          <a:prstGeom prst="rect">
            <a:avLst/>
          </a:prstGeom>
          <a:ln w="0">
            <a:noFill/>
          </a:ln>
        </p:spPr>
      </p:pic>
      <p:sp>
        <p:nvSpPr>
          <p:cNvPr id="2266" name="Frame 11"/>
          <p:cNvSpPr/>
          <p:nvPr/>
        </p:nvSpPr>
        <p:spPr>
          <a:xfrm>
            <a:off x="6588000" y="1052640"/>
            <a:ext cx="1266840" cy="785520"/>
          </a:xfrm>
          <a:custGeom>
            <a:avLst/>
            <a:gdLst/>
            <a:ahLst/>
            <a:rect l="l" t="t" r="r" b="b"/>
            <a:pathLst>
              <a:path w="1266825" h="785812">
                <a:moveTo>
                  <a:pt x="0" y="0"/>
                </a:moveTo>
                <a:lnTo>
                  <a:pt x="1266825" y="0"/>
                </a:lnTo>
                <a:lnTo>
                  <a:pt x="1266825" y="785812"/>
                </a:lnTo>
                <a:lnTo>
                  <a:pt x="0" y="785812"/>
                </a:lnTo>
                <a:lnTo>
                  <a:pt x="0" y="0"/>
                </a:lnTo>
                <a:close/>
                <a:moveTo>
                  <a:pt x="98227" y="98227"/>
                </a:moveTo>
                <a:lnTo>
                  <a:pt x="98227" y="687586"/>
                </a:lnTo>
                <a:lnTo>
                  <a:pt x="1168599" y="687586"/>
                </a:lnTo>
                <a:lnTo>
                  <a:pt x="1168599" y="98227"/>
                </a:lnTo>
                <a:lnTo>
                  <a:pt x="98227" y="9822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Frame 5"/>
          <p:cNvSpPr/>
          <p:nvPr/>
        </p:nvSpPr>
        <p:spPr>
          <a:xfrm>
            <a:off x="2268360" y="981000"/>
            <a:ext cx="1656000" cy="863640"/>
          </a:xfrm>
          <a:custGeom>
            <a:avLst/>
            <a:gdLst/>
            <a:ahLst/>
            <a:rect l="l" t="t" r="r" b="b"/>
            <a:pathLst>
              <a:path w="1655762" h="863600">
                <a:moveTo>
                  <a:pt x="0" y="0"/>
                </a:moveTo>
                <a:lnTo>
                  <a:pt x="1655762" y="0"/>
                </a:lnTo>
                <a:lnTo>
                  <a:pt x="1655762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2" y="755650"/>
                </a:lnTo>
                <a:lnTo>
                  <a:pt x="1547812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Frame 6"/>
          <p:cNvSpPr/>
          <p:nvPr/>
        </p:nvSpPr>
        <p:spPr>
          <a:xfrm>
            <a:off x="6286680" y="4143240"/>
            <a:ext cx="1655640" cy="863640"/>
          </a:xfrm>
          <a:custGeom>
            <a:avLst/>
            <a:gdLst/>
            <a:ahLst/>
            <a:rect l="l" t="t" r="r" b="b"/>
            <a:pathLst>
              <a:path w="1655763" h="863600">
                <a:moveTo>
                  <a:pt x="0" y="0"/>
                </a:moveTo>
                <a:lnTo>
                  <a:pt x="1655763" y="0"/>
                </a:lnTo>
                <a:lnTo>
                  <a:pt x="1655763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3" y="755650"/>
                </a:lnTo>
                <a:lnTo>
                  <a:pt x="1547813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"/>
          <p:cNvSpPr txBox="1"/>
          <p:nvPr/>
        </p:nvSpPr>
        <p:spPr>
          <a:xfrm>
            <a:off x="214200" y="1341360"/>
            <a:ext cx="8715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, students shoul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importance of biotrans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sites for drug metabo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major phase I and phase II metabolic rea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odulation of liver microsomal enzymes by inducers and inhib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wo drugs that are known as enzyme inducers and inhibitor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impact of first pass metabolism on drug bioavailabil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1" name="WordArt 3"/>
          <p:cNvSpPr txBox="1"/>
          <p:nvPr/>
        </p:nvSpPr>
        <p:spPr>
          <a:xfrm>
            <a:off x="2357280" y="404640"/>
            <a:ext cx="441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uction reaction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oxygen or addition of hydroge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microsomal or non microsomal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od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0" name="Text Box 4"/>
          <p:cNvSpPr/>
          <p:nvPr/>
        </p:nvSpPr>
        <p:spPr>
          <a:xfrm>
            <a:off x="642960" y="46432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 Narrow"/>
              </a:rPr>
              <a:t>Levodopa (DOPA)                                             Dop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1" name="Picture 12" descr=""/>
          <p:cNvPicPr/>
          <p:nvPr/>
        </p:nvPicPr>
        <p:blipFill>
          <a:blip r:embed="rId1"/>
          <a:stretch/>
        </p:blipFill>
        <p:spPr>
          <a:xfrm>
            <a:off x="642960" y="3143160"/>
            <a:ext cx="3000240" cy="976320"/>
          </a:xfrm>
          <a:prstGeom prst="rect">
            <a:avLst/>
          </a:prstGeom>
          <a:ln w="0">
            <a:noFill/>
          </a:ln>
        </p:spPr>
      </p:pic>
      <p:sp>
        <p:nvSpPr>
          <p:cNvPr id="2272" name="Line 6"/>
          <p:cNvSpPr/>
          <p:nvPr/>
        </p:nvSpPr>
        <p:spPr>
          <a:xfrm>
            <a:off x="3429000" y="4714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Picture 14" descr=""/>
          <p:cNvPicPr/>
          <p:nvPr/>
        </p:nvPicPr>
        <p:blipFill>
          <a:blip r:embed="rId2"/>
          <a:stretch/>
        </p:blipFill>
        <p:spPr>
          <a:xfrm>
            <a:off x="6154560" y="3213000"/>
            <a:ext cx="2989440" cy="976320"/>
          </a:xfrm>
          <a:prstGeom prst="rect">
            <a:avLst/>
          </a:prstGeom>
          <a:ln w="0">
            <a:noFill/>
          </a:ln>
        </p:spPr>
      </p:pic>
      <p:sp>
        <p:nvSpPr>
          <p:cNvPr id="2274" name="Text Box 5"/>
          <p:cNvSpPr/>
          <p:nvPr/>
        </p:nvSpPr>
        <p:spPr>
          <a:xfrm>
            <a:off x="3429000" y="41432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Narrow"/>
              </a:rPr>
              <a:t>DOPA- decarb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</a:t>
            </a: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on microsoma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by addition of water molecules in presence of enzymes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sterases &amp; amidase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st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mid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ylchol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eurotransmitte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er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te + chol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e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doca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d as local anesthetic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7" name="Text Box 5"/>
          <p:cNvSpPr/>
          <p:nvPr/>
        </p:nvSpPr>
        <p:spPr>
          <a:xfrm>
            <a:off x="500040" y="1609560"/>
            <a:ext cx="800100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ter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Acid +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Text Box 5"/>
          <p:cNvSpPr/>
          <p:nvPr/>
        </p:nvSpPr>
        <p:spPr>
          <a:xfrm>
            <a:off x="714240" y="4786200"/>
            <a:ext cx="698688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id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 Acid + 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 txBox="1"/>
          <p:nvPr/>
        </p:nvSpPr>
        <p:spPr>
          <a:xfrm>
            <a:off x="70920" y="92880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pro-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levodopa to dopam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ation of drug (termination of actio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metaboli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ntoxic drug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oxic metabolit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cetamo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patotoxic metabolite (hepatic necr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might undergo phase I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80" name="AutoShape 2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218440" cy="57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"/>
          <p:cNvSpPr txBox="1"/>
          <p:nvPr/>
        </p:nvSpPr>
        <p:spPr>
          <a:xfrm>
            <a:off x="71280" y="1483920"/>
            <a:ext cx="90727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of metabolite coming from (phase I) with endogenous substance as methyl group, acetyl group, sulphate, amino acid or glucouronic acid to produce conjugate that i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ter solu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asily excreted in urine or 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2" name="Text Box 4"/>
          <p:cNvSpPr/>
          <p:nvPr/>
        </p:nvSpPr>
        <p:spPr>
          <a:xfrm>
            <a:off x="75564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Conjugat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Rectangle 5"/>
          <p:cNvSpPr/>
          <p:nvPr/>
        </p:nvSpPr>
        <p:spPr>
          <a:xfrm>
            <a:off x="285840" y="7128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conjugation reac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4" name=""/>
          <p:cNvGraphicFramePr/>
          <p:nvPr/>
        </p:nvGraphicFramePr>
        <p:xfrm>
          <a:off x="142920" y="857160"/>
          <a:ext cx="8929800" cy="5715000"/>
        </p:xfrm>
        <a:graphic>
          <a:graphicData uri="http://schemas.openxmlformats.org/drawingml/2006/table">
            <a:tbl>
              <a:tblPr/>
              <a:tblGrid>
                <a:gridCol w="4857840"/>
                <a:gridCol w="407196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njugation 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ouronide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Glucouron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ylation (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 </a:t>
                      </a:r>
                      <a:r>
                        <a:rPr b="1" lang="en-US" sz="3200" spc="-1" strike="noStrike" baseline="6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N-acet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tion  (SO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 baseline="64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 _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Sulfo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ation ( 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meth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 acids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lycine conju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 txBox="1"/>
          <p:nvPr/>
        </p:nvSpPr>
        <p:spPr>
          <a:xfrm>
            <a:off x="71280" y="1143000"/>
            <a:ext cx="9001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non microsom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cep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e conjugation is a microsomal process (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most comm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ucouronyl transfer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 neonates may result into toxicity with chloramphenicol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Gray baby syndrom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86" name="AutoShap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5797440" cy="62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pharmacologically inactiv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ater solub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excreted in urine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88" name="AutoShape 2" descr=""/>
          <p:cNvPicPr/>
          <p:nvPr/>
        </p:nvPicPr>
        <p:blipFill>
          <a:blip r:embed="rId1"/>
          <a:stretch/>
        </p:blipFill>
        <p:spPr>
          <a:xfrm>
            <a:off x="682560" y="262080"/>
            <a:ext cx="7454880" cy="87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neonates &amp; elder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s: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liver diseases</a:t>
            </a:r>
            <a:r>
              <a:rPr b="1" lang="en-U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ree of Protein Binding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 use of drugs: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Induction &amp; inhibi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enetic polymorph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90" name="Title 2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93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th-TH" sz="2800" spc="-1" strike="noStrike">
                <a:solidFill>
                  <a:srgbClr val="000000"/>
                </a:solidFill>
                <a:latin typeface="Lucida Sans Unicode"/>
                <a:ea typeface="Cordia New"/>
              </a:rPr>
              <a:t>enetic polymorph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soniazid (Anti-TB), etc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Slow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peripheral neuropath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Rapid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hepatiti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92" name="Title 2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93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"/>
          <p:cNvSpPr txBox="1"/>
          <p:nvPr/>
        </p:nvSpPr>
        <p:spPr>
          <a:xfrm>
            <a:off x="250920" y="1125360"/>
            <a:ext cx="8447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emical reactions which occur in the body to change drugs from </a:t>
            </a:r>
            <a:r>
              <a:rPr b="1" lang="en-US" sz="2700" spc="-1" strike="noStrike" u="sng">
                <a:solidFill>
                  <a:srgbClr val="0000cc"/>
                </a:solidFill>
                <a:uFillTx/>
                <a:latin typeface="Lucida Sans Unicode"/>
              </a:rPr>
              <a:t>nonpolar lipid soluble form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to </a:t>
            </a:r>
            <a:r>
              <a:rPr b="1" lang="en-US" sz="2700" spc="-1" strike="noStrike" u="sng">
                <a:solidFill>
                  <a:srgbClr val="0000cc"/>
                </a:solidFill>
                <a:uFillTx/>
                <a:latin typeface="Lucida Sans Unicode"/>
              </a:rPr>
              <a:t>polar water soluble form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 are easily excreted by the kidne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33" name="AutoShape 2" descr=""/>
          <p:cNvPicPr/>
          <p:nvPr/>
        </p:nvPicPr>
        <p:blipFill>
          <a:blip r:embed="rId1"/>
          <a:stretch/>
        </p:blipFill>
        <p:spPr>
          <a:xfrm>
            <a:off x="901800" y="262080"/>
            <a:ext cx="7924680" cy="645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 txBox="1"/>
          <p:nvPr/>
        </p:nvSpPr>
        <p:spPr>
          <a:xfrm>
            <a:off x="14256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Enzyme Induction &amp; inhibi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ducer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increase activities of liver microsomal enzymes &amp; increase the metabolism of drug itself and other drugs taken with the inducer at the same tim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hibito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decrease activities of liver microsomal enzymes &amp; decrease the metabolism of the drug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Rectangle 3"/>
          <p:cNvSpPr/>
          <p:nvPr/>
        </p:nvSpPr>
        <p:spPr>
          <a:xfrm>
            <a:off x="71280" y="214200"/>
            <a:ext cx="43578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du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garette 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barbit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pn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yto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epilep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ampi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 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Rectangle 3"/>
          <p:cNvSpPr/>
          <p:nvPr/>
        </p:nvSpPr>
        <p:spPr>
          <a:xfrm>
            <a:off x="4429080" y="214200"/>
            <a:ext cx="46530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hib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e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met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bio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oconazol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fun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abolism  and excretion of  the inducer drug itself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ion of the inducer drug itself &amp;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may 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crease in the pharmacological action of the drug by repeated administration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7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may occ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action of one drug by administration of another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oral contraceptives &amp; phenyto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ducer).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of oral contraceptive may lead to pregnancy if combined with phenyto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9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"/>
          <p:cNvSpPr txBox="1"/>
          <p:nvPr/>
        </p:nvSpPr>
        <p:spPr>
          <a:xfrm>
            <a:off x="214200" y="21420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hibition may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the metabolism  and excretion of  the inhibitor drug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 the action of the inhibitor  drug &amp;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warfarin &amp; erythromyc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hibito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warfarin metabolism may lead to increase 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coagulant effect (bleeding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250920" y="1282680"/>
            <a:ext cx="86868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activation or termination of drug actio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most drug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toxificatio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otransformation is required for protection of body from toxic metabol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ctivation of prodrug </a:t>
            </a:r>
            <a:r>
              <a:rPr b="1" lang="en-US" sz="2700" spc="-1" strike="noStrike">
                <a:solidFill>
                  <a:srgbClr val="0000cc"/>
                </a:solidFill>
                <a:latin typeface="Lucida Sans Unicode"/>
              </a:rPr>
              <a:t>(convert inactive form of drug to active form) e.g.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evodopa - carbidopa, prednisone – prednisolon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35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7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 txBox="1"/>
          <p:nvPr/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gan sites of drug metabolis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iver </a:t>
            </a: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(the major sit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u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Mucos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o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ne 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idase (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A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lumen (bacterial flor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lucouronidas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Plasm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54160" indent="-22860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239" name=""/>
          <p:cNvGraphicFramePr/>
          <p:nvPr/>
        </p:nvGraphicFramePr>
        <p:xfrm>
          <a:off x="71280" y="1071720"/>
          <a:ext cx="9001440" cy="5179680"/>
        </p:xfrm>
        <a:graphic>
          <a:graphicData uri="http://schemas.openxmlformats.org/drawingml/2006/table">
            <a:tbl>
              <a:tblPr/>
              <a:tblGrid>
                <a:gridCol w="5869080"/>
                <a:gridCol w="3132360"/>
              </a:tblGrid>
              <a:tr h="8982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ubst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73240"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C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techo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o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-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m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ethy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ransferase  </a:t>
                      </a: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Lucida Sans Unicode"/>
                          <a:ea typeface="Arial"/>
                        </a:rPr>
                        <a:t>(COM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techolamines (adrenal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e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TextBox 3"/>
          <p:cNvSpPr/>
          <p:nvPr/>
        </p:nvSpPr>
        <p:spPr>
          <a:xfrm>
            <a:off x="611280" y="1979640"/>
            <a:ext cx="1008000" cy="36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1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242" name="Picture 1027" descr=""/>
          <p:cNvPicPr/>
          <p:nvPr/>
        </p:nvPicPr>
        <p:blipFill>
          <a:blip r:embed="rId2"/>
          <a:srcRect l="7920" t="3701" r="2972" b="3637"/>
          <a:stretch/>
        </p:blipFill>
        <p:spPr>
          <a:xfrm>
            <a:off x="222120" y="1844640"/>
            <a:ext cx="8742600" cy="2941560"/>
          </a:xfrm>
          <a:prstGeom prst="rect">
            <a:avLst/>
          </a:prstGeom>
          <a:ln w="0">
            <a:noFill/>
          </a:ln>
        </p:spPr>
      </p:pic>
      <p:sp>
        <p:nvSpPr>
          <p:cNvPr id="2243" name="Flowchart: Process 5"/>
          <p:cNvSpPr/>
          <p:nvPr/>
        </p:nvSpPr>
        <p:spPr>
          <a:xfrm>
            <a:off x="324000" y="1844640"/>
            <a:ext cx="143964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Flowchart: Process 6"/>
          <p:cNvSpPr/>
          <p:nvPr/>
        </p:nvSpPr>
        <p:spPr>
          <a:xfrm>
            <a:off x="5435640" y="1844640"/>
            <a:ext cx="144000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"/>
          <p:cNvSpPr txBox="1"/>
          <p:nvPr/>
        </p:nvSpPr>
        <p:spPr>
          <a:xfrm>
            <a:off x="70920" y="259920"/>
            <a:ext cx="89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llular sites of drug metaboli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5-10-06T06:44:57Z</dcterms:modified>
  <cp:revision>269</cp:revision>
  <dc:subject/>
  <dc:title>GENERAL PHARMACOLOGY</dc:title>
</cp:coreProperties>
</file>