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 type="dt" idx="14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 type="ftr" idx="14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PlaceHolder 6"/>
          <p:cNvSpPr>
            <a:spLocks noGrp="1"/>
          </p:cNvSpPr>
          <p:nvPr>
            <p:ph type="sldNum" idx="14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AC6-158F-4BE7-80B5-670D81B7245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DAB-F639-476A-91E1-C9A6A02B41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4945-DD0C-42B6-AA96-3BB7D359FF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84EA-BF16-469B-B9FD-DFD8AAA538B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5A89-E213-40EB-B33B-52DA6310999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C4C0-15E6-42D9-9CFE-E8952EA3367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B2E1-60CD-493F-B53F-1B852F241F8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C0AB-E344-40D1-AFC7-8FF6E2A41C3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48BC-FEF2-4FCD-B689-6225E51DEB7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7BD6-E1FC-4B93-AA31-477E9718DEB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0067-8EBF-47DA-AA84-777783D85F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4A90-389D-4FB5-88D3-061003036C9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AD10-D4F7-48E4-9761-10CF07C9B0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E885-5253-447A-821C-EF6848C2BD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32DF-62A8-4DCC-AB08-F4783B71FBB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1E2-C2F8-46D5-9DC7-7E25DF0D3F8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189-B547-4DCC-BE02-6A4BEDEC0E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E50C-97A2-484A-B174-673DCDDECC7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3A0E-8200-41BC-9FB3-5D15AC5BEA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710-0FFC-4977-B56B-31B9A6D89E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A955-30AA-4C33-AD13-6B84FBE0969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7537-BC33-4410-86B5-0DC5C671407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5F6B-DCE4-43DE-AD2A-8F06BFFE3E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2D2D-6A6A-423F-8682-2987E877208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0649-36D8-4401-854A-A498C51A8AE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618-0BFF-4F4F-BDE9-51C380F705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746A-3072-4B78-8FF5-10BD48FFD48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E24C-D926-49F1-8818-08FCA3B2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E79-F6C5-4BF8-A30A-3CC4C2D4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D298-6995-4A1D-98C4-283544F3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35885-3F0B-4E63-8A61-D3BE75D6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22765-D391-4734-86B7-218F62AD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D86BB-6008-4284-A556-21D83438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9747-D190-4A6E-A31C-15202C9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98159-3F95-4CC2-8656-F212A1C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05033-AAD4-479D-BBAE-6D9747F2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19308-60C5-4D47-B2C3-74BE2340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A38FC-3136-4DB1-8A5B-BA2EA3B4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E79C5-612D-4644-8C9F-6B604557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446-83D5-44C0-9299-4BA9D1D3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1B6F3-5761-4644-9079-A8B0864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3F59B-4B7B-497C-9D2D-11193DBB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FFE9F-347D-4AFD-B35B-D6E65F53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7587B-B468-4F15-9B1B-0473A6F6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FAAFF-DD8C-4E67-8C05-1EA88D32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1AC09-479E-44F4-B1D1-56BBAC0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0B184-069C-49AD-BA71-F6012C5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5DCC4-72FE-4594-A27B-9547340B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D936A-2CD5-4D3F-BA17-19D4CBEB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88D9-46BC-4BA3-9E72-EBFDAAF5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DBE-5435-4B2E-8C69-624AF80A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2A783-D265-4602-8557-2A43EFDE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441E9-BBDC-4CE2-9506-C0652BE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2F556-BFCA-44A5-86D1-1B9810C5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A0D5B-3CF3-44D6-BE30-C936DC1C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F8D7-6462-4586-8E68-DC596996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71DF3-7C7E-49DB-A22E-6F2306D0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CAB0C-F078-4CB5-9EC5-CF65868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025C-0A78-43DB-89A8-D1D6FF1F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DE383-A79D-4F33-BDC1-D9F75031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104BE-B4D8-4305-9F10-EE2427C2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9959-82BB-4BA5-8AD4-B68AE750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3C630-6579-4C51-9489-67683923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64A14-597C-44F1-BC7C-2FD551CE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06A1B-6881-4983-9647-91F00C3C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ED726-987C-4852-AF11-11DB543F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31522-C678-4022-AB85-2AA2069E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C8F1D-6F30-482D-8DE9-5E2E4D3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95C79-FE0E-4806-BE95-2077485B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AD7D5-99A4-41AC-8DEC-FE2101FD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BAAC-346D-42D2-881B-3653BDF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AE6A6-5ACE-4F89-AEA1-304B336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2DDF-CC2A-462F-99FC-364621AC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FDFA2-9067-43D5-8B0F-D895C8E1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C7219-7F8C-44A4-B8BD-18B182B6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A2CC7-3EE3-4A7A-B894-30A84C9D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02233-6D48-4D15-985D-628B72C2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16005-7FC6-4800-9F09-D93665B8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D1EF2-ECDB-4DB2-A1B6-DB76E71A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54407B-6140-4DF9-BC72-BF3A480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6D173-5440-4546-9529-F685134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8B8D9-BE6E-482D-8251-8270EF08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309F1-ED65-40EF-94D8-E4010DB5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F9C2-2F17-4EFE-94BC-96DB3893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7D3FC-760C-4785-AE42-7C1F9E11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8C7E5-83C2-4B4A-8F22-C13B49D1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1F715-FA7B-438A-A29D-2B849AA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64EFF-D48D-4EB9-87D8-194CC121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C126A3-C21E-4557-894F-BCEB9D98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31FA0-5FE3-4D94-89CE-A287319A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AF54F4-A2C6-4586-A65B-581529F8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1D085-0B10-49D6-B4E2-244DA08D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5B6AD-C277-4267-B43A-ED47846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82786-5DAD-488D-8D7C-05640574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76F2-59A9-493A-970D-30BD2CC3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12300-245C-4587-BF51-362F44FF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FCD12-37AA-402D-BD26-D0AAD3E6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C1561-3A70-45A5-A765-24188A31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EA641-4739-4237-82C3-7F0705A9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8A943-1D2E-4B0D-BF27-022011B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F8F8D-D829-4D7F-9085-9CDF5FDC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3448A-2FD6-41E4-AAA0-C43EC4E1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806AA-1F82-45AD-9F75-4D92E925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DDAAEB-F5EA-494D-ABD7-42AF93F9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8AD83-BDBB-40C4-BF05-5B0A83AD4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3C20-4C42-4F82-9B9A-1E5F2D17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DADA94-876C-48B8-AED1-46699C3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884BA-147C-4B50-97CF-F0DBE756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BBF024-856F-4ACF-9D04-43C83B69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23939B-BE0C-42B4-82F7-27A5F99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10259-994B-4442-A7B3-09D39F67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7B7C4-2250-4A22-9F08-C0B1340E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7967D-C9C0-454B-BF06-5DEEE970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F38D8-F0B0-469E-9387-9CC7ACA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8135C-030E-4145-9590-6D0EBE34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2AAE5-F7BF-4A38-8B50-4C5BA977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A68A-1EB8-4184-9D96-91B9C8C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0BF663-69AE-4CAE-AA0E-486424EC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3140D-1FC6-4833-A11F-D1C4A0D9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344843-35CC-419D-9DB8-B1CCFFBA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57D195-528E-485F-8EF0-F18DADD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14564B-CE60-4E97-B13C-26D179FE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4A56D-AC74-4926-B605-8BE476D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C90D5-C9C1-49AA-85F6-E4D36AEF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5F2A13-5863-4421-950E-0AB6588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B9883-BD7B-4020-A648-FF458066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77798-D256-44CF-95BF-A62D8139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4CAE-4B15-41A6-AE3C-332E94A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B9C6E-213B-46CC-B44E-3BD76A34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AE5984-C4A8-4557-BB8C-82A7383A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72395-CBBA-488D-BC56-9179E23E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D07554-5024-4DF0-9945-A4662FD1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6814C-8D87-418B-97AC-95FECB40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9903C0-2CC6-443A-90AE-CC812DB6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D2507-0BAF-44F7-AAED-FA3F4FD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25D3E-F0FA-49C7-AED7-BE8B3468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C2132-9DAA-43B3-A76B-766530BD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CD9BF-438C-4884-AB8F-058039A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E71-F969-4C69-A0EF-722A6644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9143-FA99-499B-9C30-F24E134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8C00D-ECA9-4D64-890A-46ACDE1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17B01-96EB-4CE4-BA93-110F4727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BC591-4BEB-4E9E-B64E-231E6FB9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B5BE83-E1D7-4107-857E-E11BD40C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27810-184C-49C3-A4F6-4C6BCE79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FC5A80-7206-466A-AB55-22A1A834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0D065-9E4D-49A8-B803-4C641887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B7B63-09A9-4F52-947D-252EAA12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62CEA-3BAA-478D-BC31-669DCD45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0B403E-2720-4CA7-8151-17397413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3C6-75D0-46F8-A9FE-43243068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244807-0329-458C-8D93-F0CB5572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86279-B304-4464-8D35-B5A4E45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C65E84-7573-4E3D-851A-F7F771A5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5FB82-4C1C-4B13-BDB0-C3BE657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AEC3F-2424-41E3-9502-4E977907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ED090B-2475-4BF6-9503-515A844C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D49B4-D086-412D-8448-437C0C17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AE22D-A4AF-4630-A78D-4E992B2C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4FDE1-B602-4303-BDA1-AC8DFAA8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DE517-3FF2-4338-9951-CAEFFC4E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44A-B75B-4359-A6F7-3C31FE20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60E51-3D70-4741-B4DA-5332EC4C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ADC69-3561-49C4-B770-0AF5B43E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84BE31-5C63-46CE-8A45-C539ECE9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67FE6-27E6-4755-9647-8630892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FEF01A-5383-48A2-8D1E-A080CED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BA9E32-4549-4098-9C6A-B52738B1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81B3FB-2170-42E7-AF0A-C896FC5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45C3D3-3CA7-4CA1-A647-6751AB2A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D9A21A-6AE0-4B6F-B441-12620E54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7CC7E2-3F56-4D43-8A48-FB896682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E184-838D-4DF6-BA33-26AEE6F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956769-7B9A-4DA6-A87E-8D330BD7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49F27-8F34-42D4-96BE-36B19923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3B7ECF-0C25-42D0-A508-CEA7A85F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C7531-57FE-48F6-8459-372D371C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C89BAE-DF95-4F3F-810C-3170DB8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624EF-2934-4DE8-A56B-C854985E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3E07C-0A36-4A29-90E2-21140515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58C85-88E2-438A-9204-9F3CE04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C6FF3A-A9C6-49F1-92DB-AF672467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D9CCB-5591-4220-AF1A-7E240A45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5846-3614-456E-8AA7-787B4A82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48AC9-2BE1-49DC-B8CF-F9C85C10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46027-CFC8-49DB-B281-A2273EDB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AB35A1-E2B8-424F-A2F9-CC11ABF7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523C2-92D9-4917-93DE-28EE44CF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F2D35-3DCA-4DD5-9CF3-D47DAC1E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300C88-93AF-4289-BDBF-289DBC7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31D2E3-F4BE-46C0-8C2D-48249470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08B0C-E70E-4011-AA98-5EA4EF4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0F2E6-1062-42F7-850A-976EC70C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13437-E38A-4B5F-A497-F9AAA5AC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9983-BC16-4822-A4C6-7E14C003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5EBC7F-91FB-4FE7-927C-4E53B1A6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EC570-F1F7-48C8-B7C3-CC6662D7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95C9B-E337-4FAF-A703-109F266F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9AF401-CB52-451E-81FE-D6734ADB5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19485D-A448-4A16-BA12-55BD8E4F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AE2199-90CC-4505-B6C1-28966B56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FD343-9F10-4C0F-8416-79542B91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87211-6A3C-4A81-A67E-8C555A44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A5087F-76BC-4F8C-81C4-0A423A4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9F0D3A-AE07-4E8B-88FF-3005EAD0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8066-76A4-480D-A230-30F883D7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99102D-4E46-4385-BF94-713EEA0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4BEE54-9014-4D12-A071-7CEEF726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6277E-665B-46A7-A0B2-647A8364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B2CE21-48EE-430B-A985-ECC18B69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F61CBB-C2D3-4DCD-A1E7-EB484CB1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D69EB9-0441-4A3D-A721-526BA545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D1158D-E3A1-4DAC-A302-656F0B67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F6ECC2-27EE-4D54-B25E-84C544E0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BE8B8-E77F-4F58-BA0A-D2DF5752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C830D5-516C-46D8-A40C-11AC84A0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0085-CCAC-4A42-A3C9-208586F4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BBEA18-2A25-4A7F-B6C7-35DA4536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331AD1-8465-479A-A4D2-F93D688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12318E-531C-4E3B-B18A-5BC637A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9319E-8E42-4BE0-8D65-625D85D8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429084-D2A1-49AF-8570-FBB26D33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612968-BE89-4885-86A8-C9240B0E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5C5FC3-3199-48BA-B170-9283DFE7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73D847-C01B-4251-B82A-100C4F57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1B3437-0DDE-4005-99ED-7933DFCA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5B147F-2359-4D74-ABDB-090A67C9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BEDD-769D-485A-B5A1-0741EA6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9A1E73-F076-466C-B263-F3368E02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CD83A2-4293-45C3-AB80-13C3EF20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AF2B36-B06D-40C1-8DC9-868197D6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60B091-37A0-48DE-9E2A-434531CD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6B7E24-B70B-453B-AF36-E9E5A63A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73B023-DBAE-4C0A-83D7-00DDEE47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857A97-77D3-4904-90E6-9D37E5AE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4C4CE7-B64F-4A12-9EF6-6A1C1D2A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EC1703-3E0D-4569-B3AC-F17FA6AA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1CF90C-CF91-4035-8EA8-B3975DA9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665B-7484-4068-A441-307BC435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14DD4E-D942-4FA1-A5B8-A5E41C8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9FDE8F-C4CF-4C79-BE08-7DD781EE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D9F331-06B6-432C-AC15-829983CE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1A179-5CC8-4477-A653-5806EF41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53D5CE8-1D14-4648-B674-0EDCE75F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544B6D-AF80-4E92-A472-6F19B7E9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5B7CB9-3042-4019-B38C-5906957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902495-5492-4E79-A3A4-4132A19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853704-3545-4D35-A921-54BC0724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E4CE0E-B821-4B9E-A5B4-CBA1DA3A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FB5-8573-4DA2-8936-47979CAA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199F3-AFBF-4278-A833-3629AB6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8A98C2-2C8D-4989-A0DC-97CEAA1A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545D5E-67CF-46FA-BE1D-CC48D896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33513E-77A0-4513-BBE7-91E28BE7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1B4CFA-6DEE-49F0-B6B4-0DFFAEA4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9C4269-CE0A-4EDD-A5F4-5FC77441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B1E218-6280-4B5A-B398-C975FCCE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D900D7-1002-4EE3-8B7E-F8E014E1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7B3DA9-6A18-4875-AC01-C18296A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404035-FAB5-450D-94E8-A81F608C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591486-B3FD-4451-83C4-81F7CE0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5C49-74CE-43A8-9FC4-F60C763B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BCA232-BA0F-49AF-9591-7F858872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EAF35E-F815-4A5D-86A6-9F546681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CD53D0-24F6-493F-98DF-57D1E68D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449AD8-1CF1-4342-BE63-2C2F7257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CF505F-D272-46BF-8D1B-C4E87130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74D6DF-860F-4576-A13B-5769E159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98FF1B-2720-4814-896A-1B720843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ADD265-D825-46BD-9187-B95AABB8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04EA87-A9B3-49F1-B420-34CDFB62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DD65AD-68D7-4248-B378-2D1350DC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72ED-C902-40F0-B396-EAC72E9C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3564D3-297A-44CB-9569-B8AF820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4F523E-7CE6-4E4E-8507-D966D0C6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DF3AA9-7C28-46C9-B721-0DBD2FC2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546641-898C-43E1-88EC-F1AB2B47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64C968-A8B6-4783-AC52-E53BE45A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B19920-2C7E-482E-BDE6-056F8112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C918F9-9026-47ED-A7F8-66732D0E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C82815-B69B-413C-B895-46F48136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8BC4E4-819B-410A-B067-E14B72D9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461FDF-4604-4157-B433-6BBFC8B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B059-A60A-43DD-A904-7C86408E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618BD4-F339-4BF1-A9F2-B8697540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5847E4-6E48-4B84-8646-B9A35D78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4829CF-3427-45CF-8637-82BD878B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257C9F-2D63-4447-B140-118FD39E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AEA29F-3B86-425F-A5AF-1FA9F30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84A43B-FBF8-4902-B088-E52E0A94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752A79E-03C6-4F50-882A-368B6DFD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9C3745-2208-46B5-B1D4-1EA40F2CD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B4AC1B-CD14-4164-9943-F966E66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00BBAE2-8F75-4C60-B8E3-30625F7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3611F-7B2B-4745-BDD5-3BF806C3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AF2F6A-C6AC-42C2-9BB9-86AC8012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BDF105-ABAE-407D-8FA5-953FD665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A111B2-A529-4112-9A2A-ED0BDF58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536D13-5BC8-4BD1-8547-E8EB0B3A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5F5B2B-8AC1-4892-AA14-2301A0ED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EA2F4B-F6B5-48A3-87FB-F01B41CA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EEB5A8-FE3D-4BA7-902B-F34440A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F440B4-592E-4678-A254-1E2246EC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FB0EB9-C6BD-44C4-ADCB-E337DC23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7DE42B-7BC0-4EEB-9C8D-E917CCBE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CC93-1CFC-490A-B59C-AB87E8DE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52931A-080C-464A-B2CD-07F2C1D3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07CB35-D744-4BAB-86C5-8AD4BAC8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CFB9AE-9A05-42DD-910D-25C360D3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77C155-D8BD-4150-957A-3C0D10E62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391E34-C511-49AF-ACEB-D97D2D71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CFC133-2537-4EB2-835F-7818684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B85FA4-92F6-401B-B2B8-AD75B6B7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5D2339-006B-4590-9F76-9B0612A4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49959C-124E-4A36-9E78-5539E1AA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1418F7-0149-4175-AD37-85A89E9A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36E6-59C6-4BE3-A164-4A350D7C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ADD233-8482-46F7-AD0D-27A0D3BD3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DF87736-4733-4857-B1F7-5E031680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00076A-D7F6-4A57-A3E2-94EF00EC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71AADD-3906-4A35-8D62-73033990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C74E5F-0009-40D7-AA70-C6D5647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2B531C-2E17-4F31-8ED9-540AB42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F255F2-20F5-4F7E-9234-8F305CB8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87F297-1FCA-486C-B457-212B175B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009F13-939C-4A59-8101-EA93F9CC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82BD79-DBBD-4673-A51A-DED9AAF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D0742-C020-4911-8284-EF123DE9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CDD1AB-45F8-4AD0-AE57-943ADDF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219D54-879B-4372-A9C5-6FD8C8351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868359-CA7C-4C08-A039-90603936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4CA0546-6B72-46A5-9679-7B691923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6C57D9-0940-440A-A5C8-3705E7A8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002E5B-1442-4256-AAEA-DC294725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743908-AF4A-4320-847A-1B3FC881D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A6056F-536A-4071-9540-1D9B986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57768-8EE9-445C-A510-9F3A57A6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5FAB7C-F4CA-4101-A6D0-D5916C53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2FA4E-9FC5-491D-BEDD-AA554D7A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9EF62D-DFCA-4699-AC31-F7C37BAB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28007D-579F-4F97-9246-8EC090E3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2C5231-AE76-43B3-BF4A-68B9A981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02E199-B3D8-45A2-91FB-22BDCAE9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99B0D3-02B5-4237-8B44-FE02026DE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ABD3BE-6302-4903-B791-4BB23AB2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05451C4-78AF-43A3-90F0-FDB20CB8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A871FE-1BF8-44A6-A285-D3828EB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747C73-E1BE-47E2-B27E-410C13D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908B4E-1F55-472D-9857-21BF6C4D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23602-D2D4-4C11-AF88-62C60847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19B543-4254-4AC7-A999-5F5B333C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E3AE79-F947-4B70-B2CD-23D635F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5B254E-ED7B-49AA-83F0-D6CC28D7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BEBE0E-9590-45EC-B247-F44ABE0B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A7EBC9-1E43-4540-A298-28AD089B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0EBF05-ADA4-4EEC-8A78-D1FCA8F1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AA4018-F40B-4DBE-89EE-D1589DA4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4683ED-EF63-45EF-909F-A257B2AF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E3ECD7-6FE8-4F71-B716-43439338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3CAB89-DBF1-473E-8DC2-150B749A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B45-AC53-431C-A589-C1B154F4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39C3-AA05-4F82-BAB0-B664EE29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C1FB41-00B2-4858-81E3-510FDD21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EAF6A3-7454-4637-9776-51DD679F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E569EF-B9D9-41A1-8A63-79E41F7D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ECF86D-B646-4799-80BD-FB35AEB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1C4BB9-4816-4798-BF90-3E8BE9AF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612876-5AAA-44FA-9E01-ECFCD863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D465FF-25AA-4A2D-803E-C0C4083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B2ACF1-8444-40BE-B866-A58F2FE4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32B8A13-1D17-41A1-BBF9-3E79CE04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1DB134-83D7-4346-814A-6E37EC3A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4C3B-C9CD-46C9-83EA-1C1CEAF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A77450-9D05-4E3A-9BA3-387D7A4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44950F-CBF2-4198-96C4-CF648655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FA45C1-81E8-4C64-BFEA-1E7B522E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3300432-AD3C-46AD-AF39-B69F506C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0E7C1D-9B35-4EE5-8EC1-50949918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F31CB01-A000-4223-BE82-DD64B56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BB76A8-A06C-4039-A880-8DA73E20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BE28E3B-9DEB-49F8-9A8C-1EB1784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67D570E-17A8-4324-88E2-0023D485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B02331-7F54-439E-B53B-97AC6CAE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E79A-A435-43C2-B56C-C0360AD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CBC4F0-E015-4BB8-8A3D-5CCF78DE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F27DE7-ECEB-49CA-9642-F0239E25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D268C7-72C4-43A4-8980-B273C44A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D340D7-5434-45AE-A069-10CCC7D5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2CB0CC-113C-4AA1-91C7-1BE15FA8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440E1E-EB7F-40E8-AB18-95D90E52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97E414-7341-4E9C-BC21-9D29D89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FF6CA91-C93F-44EA-8A75-4F9F0148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73F09F-D976-4912-BDA7-E6570DD8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9B6A92-2518-4378-987C-4DCDD181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D77AE-3579-4C0B-A947-8FAA6443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880174-FCB0-4D3D-B053-DFF647A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121624-4FE1-40C4-94EE-B22CD175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2F7196-0C5B-4C2A-A074-F77062BE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73630E-B13B-46AB-83CF-287A9ADA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BA1CF9-9F7C-4B88-BF77-053E7A1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90BF37A-B95E-4BBE-A42E-71224619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4F1CC0-4F44-4599-8126-DD6BBA5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715FCEB-F431-4E46-9C4E-CFB8FD4A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8D9530-DC88-4A8D-BAAD-F64574B1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2D0CC5-ED84-4D71-874D-DCF9EB91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8F5F-1D85-4173-968B-2D385074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0FF1CA-42D5-4C11-8615-3963A92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C1EBD3-9BA0-4E42-955A-C6DE5566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425DF1-4A77-46FB-A504-1ECB6F1C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FA665B-654E-4718-BAFA-AC34E31D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ACD4EC6-D3A3-467E-829C-9BED19E8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1E8260-DC32-49F3-A93D-AC5CF642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B1E5E9-6C0B-43E1-A929-FF84E127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857F77-A1EA-4052-997B-F5FF748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35598B3-68AC-4FCF-95C5-B181663A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19132F-0B31-42C8-9856-78E77B1B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6319-7763-4835-9B4E-C363CADE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776901-2724-4504-BA92-76AE05E0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1D9221-06D4-4FA1-B4D4-1C87033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F3FA97-70CD-41FF-B4FC-4011D191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18D858D-07D0-46C9-A880-18D4BD74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27436A2-5691-42EE-9DF4-F8AA9212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AD752B-7701-47C2-A5DC-2B24AFA4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952146-F692-4007-B77E-04C13D33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D902E4-F5E3-4892-B00B-96B29559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3890674-B9FB-4F09-9BBD-B91ABF5D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AEC3FD-4E0F-4C56-A81B-CCD2A46A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4E5E-733F-40E7-B5D3-C4B8F4E4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D44032-8A8B-453B-BF77-14C81E1F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1F8F10-E1C8-4CC7-8F77-DBB5C326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BEF487-0549-43FE-B4FE-2ED3704F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0EC851F-FB05-410C-B9A0-EA274B3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9274678-357A-4DEA-A7D9-480B7725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A1A298-5A9A-4A07-9CDE-D3CE4F27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691FAF-F421-4341-B012-447080D4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A067D4-AEEC-46C5-8F89-10313E53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C24A11-6258-4CD8-85DE-194C987E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F5854C-C074-4FD7-98FE-4A63A670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57919-19B9-4A59-9C7A-A696B8D7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B3BCBF0-53E0-4399-83D1-006B3DE5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86E259-6302-4763-B668-88EC815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FC90AE-B1A6-4278-B20D-080E4D3F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E24FFE-1099-43B1-A3D8-3EFA384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801F58C-F43D-49AF-A73F-FF5C0E8F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7E6A55-AEE9-41EE-AA96-3247C965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34AA6A-0497-4BDC-A5FB-C6116608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F964F26-A8D0-43FE-AD96-BD28246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E9429E-34B2-4820-88D9-9C59B4B8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3C2FDFE-461C-4A2B-93B5-D0A21F6D0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8B1F-30AD-47BE-8099-9FC4185A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51EEF48-8834-4A6D-B9EB-68AF3D2B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10CD86-9B04-46A4-B94E-CFF51AE7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A5A2F0-0E6B-4E44-9302-3D292BDC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1E840C-0F27-4E51-AC7B-4D767B0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4983DB-385F-410D-B644-88B3A59B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278639-B853-4FE5-8308-3C2F2F8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80E6573-3844-4021-B941-6837062E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B3C969-8049-4658-95AB-1A41338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AEF32BE-1C9F-47E2-A8FF-018751B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C31D0F9-D6A4-4F8D-AF1D-506C89A1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49FD-216B-4D64-87B7-A06DB319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CCACC9F-F593-409C-9516-06D3D735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FA1E22-5BD0-48BF-A7F8-F1CA17FA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5E2843D-E9BC-406A-B78A-130B9A4F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703E8A-63CA-41F1-AA8F-FECAC547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6CFE385-4C47-4060-A928-4087CDFA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241AB0-EC5C-4832-A437-013907C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B5B9C2B-5CE0-49FC-9B92-E5C96DA6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243ECD-49E8-4F8C-BE75-0C7883B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8BB7824-3016-4C72-B1A1-FB1A225E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C93B4E-B1C5-4ECF-9B30-353EBF40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EB6-81AF-4E11-B17B-3AB2C17E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39FE-5B19-42F3-8D39-049B9BC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643CF1A-51F9-44DD-A638-765131A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77E64C-A783-47A6-8AFB-5FF1F768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ABBFA77-8A31-413E-9B25-047E50A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EFD8352-E87A-4CDA-95B8-CD2837F8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11954C5-C869-47F1-AB2D-A6B7A775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BB202A-CC87-4D14-B419-9C2CBA53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E849383-A435-4B9D-A8B8-F97D47CE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2657B82-9E8C-4906-B696-D69469E9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886FDE-6935-434C-A1A1-EF620D0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ABE0D0E-AD5E-4784-8B40-026F697E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A6DD3-7B21-4254-9749-64CD8CE0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76707C4-FDA9-4637-86E4-EB06AF099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C9F9B56-1E38-427C-8154-AEF8889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CC2A87B-88EA-4B4D-B1D6-D1F8AB77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07A8DD8-D43A-4EAC-81AE-43A381B4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E51E7A-573D-441B-9B98-76C7307C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2B126F4-35C2-4192-919F-C9B17E1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011091B-7849-4D27-A5B1-7F481607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2A7FB0-4857-468A-8FC3-7071DFAD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D3F210-53B6-4527-B0E7-4E565892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EB3CB2-E695-4575-8A62-E39EBE11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3702-19B7-4BEE-9E63-EBF4B9BA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1DD6D3-FC16-4A47-8EC7-40AF59B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9B6BB95-1A8C-4492-ACD7-D4E76F2E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D40ED4-B120-4CFB-B40C-9970E7F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66275EF-4787-41AC-BC30-E045B0D9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3916F31-2CC3-47F1-A41B-919F3066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9A724E-9BF6-4BC5-82C1-BC6DB87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A5C3AE-E567-4369-B635-21D41011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F142FE9-E94C-440A-B0DC-7A2127F0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B0ED49A-75F8-4584-B2FA-6B536C99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F89BE0-7329-4695-87DC-BFAE3E3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5316-4B72-4776-B290-FB08709B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062C5E9-F892-4AEA-A1AB-CC2161FC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B798E0-00CA-4FC8-AAA5-21CE1D2E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2C3E08B-0243-4992-9691-E5447492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D7B7084-5941-4B06-9F9D-1FF237A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DA1DE8-A828-4E2C-A197-E16BFD4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8BA901-F62F-422C-AB59-F281BF04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39918A4-1039-4B03-9A7D-73A91AA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796B993-D632-4A14-8957-7EC2A95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DCFD9D-F3A5-4581-B23F-C68230BA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70F382-F1D2-41E1-9511-CC11F3F4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04EF-4B50-43ED-B86F-A8DCC4B4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3090B3-5499-4706-B04A-33BE0D8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AB663F2-60BF-4DBA-8533-2C0957D9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F1588FB-0662-4D09-B766-AFA4426B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DD7953-2B63-4C1B-8BF0-D2405397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514A26-C076-4316-9BE0-F3E63F02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CA61160-F8D2-484D-9EFF-5836464A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0E682A-3C30-42B7-AF07-8FD5A67C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D8E6A0-11B3-4977-BC69-C72DF823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17171B5-D126-48FC-95D3-9FB8CFA1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F38B69-C492-49D7-BDA5-FB19CB5B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49AB1-F735-4AF0-BA1A-24C3870F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B73416C-C346-436A-A776-6ED3E8DD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7493A94-8F2B-4F86-9267-553442B7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E584518-58E9-4EB2-9B1B-B73DA7CC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D4EE9D1-B82B-4E27-8A83-DDB62585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DD230B-AB34-4572-AB88-CF104DFC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E490C3-4BAB-43EF-A009-583AE6ED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EC7889F-EF1D-4A15-8FCD-63707F30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DD5D11E-959A-4BE1-A0F6-5FECA9E9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1A6943F-3FCE-4534-8931-74B44C34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DF21023-8E8A-48A9-AC5B-63FF2646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7E43D-BD4E-4F63-8EF3-144C0C2A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0ED707-5A41-4B88-ADF4-0CCBB6C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333480C-51D0-45D9-8236-BA76B90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5E33B56-C78B-498B-8725-964CE06F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F597AF0-6BF6-4021-8A10-50E69F5F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A91E41-D7ED-4523-A536-18CBA274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B2C8FC3-8474-4C37-BB89-A69E7A9E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A4DE1C6-F60A-4BDD-8916-B258499C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FEA9C81-150B-470B-AD54-68D2C9BC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D9D51C-0495-4929-8E2B-BC22B48F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BB3C324-AFDA-4133-8913-2BFFDB5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53F0-F969-462B-B938-5AD12D26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AB1C30-A0FB-4E0A-AF1C-B38E21D3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AD1A13E-137B-4B6C-BC9A-AE1EE75E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4DD49B2-8112-470C-A94D-057191A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AB2687-A0DB-42D2-A7CA-B79A0D2E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A06BC20-103A-474D-B2CC-761B8263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6E762A6-DD12-4D19-90D6-B6063A1A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BD217BC-64C5-4F5D-B595-4F8557928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CD202-6D7F-442E-8155-67F7740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3B48-7BE3-4647-8FCA-9939F73C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8D6-1822-4741-ABA7-870FEE44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24CF-6780-43F2-8DB6-197ECB29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6AEC-2358-49CF-BDA6-6534C7FA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ED405-50EF-4B76-8E20-3E0CD9AC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0E407-6FEA-4B45-80AC-A3A39876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BBDD-0583-42F9-B910-EBD45DD7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1653C-C4A1-4E3A-A2B2-99D59F8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B5821-4711-470A-ACCD-F4C67E28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8D52A-CBEC-432B-B833-A83B19C1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BD3AC-BDB5-4157-80A2-1117247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335C8-75CE-4C04-A6B1-E9C82D03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1EA-07B5-4DAF-8BBC-60FB451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E145-783F-4784-AC28-8EDA885A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90656-78C0-4D3D-A0A3-4A0B51FB8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5DB3-7550-49E6-A308-FAF64B9B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0BDB-7EAC-46D8-AB5F-D5147758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CD8FF-3729-46A7-A736-2088C93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712DF-BB23-48EB-833B-498D3094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1CAB2-FC27-4387-A7A6-4C74C8C8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D2D1F-ACDB-466E-A63B-2EDCA3C2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1A9EF-E9A7-403E-9557-B07A7EA5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45423-6329-414F-A888-EA3EA66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100-39D7-4902-8CDD-399FA23E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48744-7A4E-444C-8114-CE4745C4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CC3A-1684-4E14-9679-695E478E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4A0DF-B25F-4B54-8A26-5114C78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231EE-47A8-48FE-BAC6-92D7C8FF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EF60-B30A-4B31-BF15-FF70436C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95F42-543A-457A-87D3-A67853E4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DE278-7C75-4F7D-9094-1CB8D2B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9D002-E682-49E4-9916-DB1108E4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8490-8ECE-433B-BB98-FA386BA3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B22F8-AE41-489C-A635-4EE7DEF0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D1C-4B19-4E83-92C7-C4C34821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4564C-F438-4843-9567-36E123C2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1A90F-D3B5-4778-B7D5-D38D544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95255-8457-43C2-AAAB-DDA90F3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6B012-3E24-49F9-8ED4-FD8EBA36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12908-1933-430C-97FA-EEFEDB02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3E73D-180E-4F8E-A685-3A16F1EB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B3987-2019-4F4E-BF01-F9BEED6E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7D13C-60CF-43BE-8123-F8CB0F25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DBADC-698F-4956-A853-F0FF9DFD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5EA0F4-674D-45CB-A4C9-F9F59D18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81.xml"/><Relationship Id="rId6" Type="http://schemas.openxmlformats.org/officeDocument/2006/relationships/slideLayout" Target="../slideLayouts/slideLayout482.xml"/><Relationship Id="rId7" Type="http://schemas.openxmlformats.org/officeDocument/2006/relationships/slideLayout" Target="../slideLayouts/slideLayout483.xml"/><Relationship Id="rId8" Type="http://schemas.openxmlformats.org/officeDocument/2006/relationships/slideLayout" Target="../slideLayouts/slideLayout484.xml"/><Relationship Id="rId9" Type="http://schemas.openxmlformats.org/officeDocument/2006/relationships/slideLayout" Target="../slideLayouts/slideLayout485.xml"/><Relationship Id="rId10" Type="http://schemas.openxmlformats.org/officeDocument/2006/relationships/slideLayout" Target="../slideLayouts/slideLayout486.xml"/><Relationship Id="rId11" Type="http://schemas.openxmlformats.org/officeDocument/2006/relationships/slideLayout" Target="../slideLayouts/slideLayout487.xml"/><Relationship Id="rId12" Type="http://schemas.openxmlformats.org/officeDocument/2006/relationships/slideLayout" Target="../slideLayouts/slideLayout488.xml"/><Relationship Id="rId13" Type="http://schemas.openxmlformats.org/officeDocument/2006/relationships/slideLayout" Target="../slideLayouts/slideLayout489.xml"/><Relationship Id="rId14" Type="http://schemas.openxmlformats.org/officeDocument/2006/relationships/slideLayout" Target="../slideLayouts/slideLayout490.xml"/><Relationship Id="rId15" Type="http://schemas.openxmlformats.org/officeDocument/2006/relationships/slideLayout" Target="../slideLayouts/slideLayout491.xml"/><Relationship Id="rId16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05.xml"/><Relationship Id="rId6" Type="http://schemas.openxmlformats.org/officeDocument/2006/relationships/slideLayout" Target="../slideLayouts/slideLayout506.xml"/><Relationship Id="rId7" Type="http://schemas.openxmlformats.org/officeDocument/2006/relationships/slideLayout" Target="../slideLayouts/slideLayout507.xml"/><Relationship Id="rId8" Type="http://schemas.openxmlformats.org/officeDocument/2006/relationships/slideLayout" Target="../slideLayouts/slideLayout508.xml"/><Relationship Id="rId9" Type="http://schemas.openxmlformats.org/officeDocument/2006/relationships/slideLayout" Target="../slideLayouts/slideLayout509.xml"/><Relationship Id="rId10" Type="http://schemas.openxmlformats.org/officeDocument/2006/relationships/slideLayout" Target="../slideLayouts/slideLayout510.xml"/><Relationship Id="rId11" Type="http://schemas.openxmlformats.org/officeDocument/2006/relationships/slideLayout" Target="../slideLayouts/slideLayout511.xml"/><Relationship Id="rId12" Type="http://schemas.openxmlformats.org/officeDocument/2006/relationships/slideLayout" Target="../slideLayouts/slideLayout512.xml"/><Relationship Id="rId13" Type="http://schemas.openxmlformats.org/officeDocument/2006/relationships/slideLayout" Target="../slideLayouts/slideLayout513.xml"/><Relationship Id="rId14" Type="http://schemas.openxmlformats.org/officeDocument/2006/relationships/slideLayout" Target="../slideLayouts/slideLayout514.xml"/><Relationship Id="rId15" Type="http://schemas.openxmlformats.org/officeDocument/2006/relationships/slideLayout" Target="../slideLayouts/slideLayout515.xml"/><Relationship Id="rId16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17.xml"/><Relationship Id="rId6" Type="http://schemas.openxmlformats.org/officeDocument/2006/relationships/slideLayout" Target="../slideLayouts/slideLayout518.xml"/><Relationship Id="rId7" Type="http://schemas.openxmlformats.org/officeDocument/2006/relationships/slideLayout" Target="../slideLayouts/slideLayout519.xml"/><Relationship Id="rId8" Type="http://schemas.openxmlformats.org/officeDocument/2006/relationships/slideLayout" Target="../slideLayouts/slideLayout520.xml"/><Relationship Id="rId9" Type="http://schemas.openxmlformats.org/officeDocument/2006/relationships/slideLayout" Target="../slideLayouts/slideLayout521.xml"/><Relationship Id="rId10" Type="http://schemas.openxmlformats.org/officeDocument/2006/relationships/slideLayout" Target="../slideLayouts/slideLayout522.xml"/><Relationship Id="rId11" Type="http://schemas.openxmlformats.org/officeDocument/2006/relationships/slideLayout" Target="../slideLayouts/slideLayout523.xml"/><Relationship Id="rId12" Type="http://schemas.openxmlformats.org/officeDocument/2006/relationships/slideLayout" Target="../slideLayouts/slideLayout524.xml"/><Relationship Id="rId13" Type="http://schemas.openxmlformats.org/officeDocument/2006/relationships/slideLayout" Target="../slideLayouts/slideLayout525.xml"/><Relationship Id="rId14" Type="http://schemas.openxmlformats.org/officeDocument/2006/relationships/slideLayout" Target="../slideLayouts/slideLayout526.xml"/><Relationship Id="rId15" Type="http://schemas.openxmlformats.org/officeDocument/2006/relationships/slideLayout" Target="../slideLayouts/slideLayout527.xml"/><Relationship Id="rId16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41.xml"/><Relationship Id="rId6" Type="http://schemas.openxmlformats.org/officeDocument/2006/relationships/slideLayout" Target="../slideLayouts/slideLayout542.xml"/><Relationship Id="rId7" Type="http://schemas.openxmlformats.org/officeDocument/2006/relationships/slideLayout" Target="../slideLayouts/slideLayout543.xml"/><Relationship Id="rId8" Type="http://schemas.openxmlformats.org/officeDocument/2006/relationships/slideLayout" Target="../slideLayouts/slideLayout544.xml"/><Relationship Id="rId9" Type="http://schemas.openxmlformats.org/officeDocument/2006/relationships/slideLayout" Target="../slideLayouts/slideLayout545.xml"/><Relationship Id="rId10" Type="http://schemas.openxmlformats.org/officeDocument/2006/relationships/slideLayout" Target="../slideLayouts/slideLayout546.xml"/><Relationship Id="rId11" Type="http://schemas.openxmlformats.org/officeDocument/2006/relationships/slideLayout" Target="../slideLayouts/slideLayout547.xml"/><Relationship Id="rId12" Type="http://schemas.openxmlformats.org/officeDocument/2006/relationships/slideLayout" Target="../slideLayouts/slideLayout548.xml"/><Relationship Id="rId13" Type="http://schemas.openxmlformats.org/officeDocument/2006/relationships/slideLayout" Target="../slideLayouts/slideLayout549.xml"/><Relationship Id="rId14" Type="http://schemas.openxmlformats.org/officeDocument/2006/relationships/slideLayout" Target="../slideLayouts/slideLayout550.xml"/><Relationship Id="rId15" Type="http://schemas.openxmlformats.org/officeDocument/2006/relationships/slideLayout" Target="../slideLayouts/slideLayout551.xml"/><Relationship Id="rId16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65.xml"/><Relationship Id="rId6" Type="http://schemas.openxmlformats.org/officeDocument/2006/relationships/slideLayout" Target="../slideLayouts/slideLayout566.xml"/><Relationship Id="rId7" Type="http://schemas.openxmlformats.org/officeDocument/2006/relationships/slideLayout" Target="../slideLayouts/slideLayout567.xml"/><Relationship Id="rId8" Type="http://schemas.openxmlformats.org/officeDocument/2006/relationships/slideLayout" Target="../slideLayouts/slideLayout568.xml"/><Relationship Id="rId9" Type="http://schemas.openxmlformats.org/officeDocument/2006/relationships/slideLayout" Target="../slideLayouts/slideLayout569.xml"/><Relationship Id="rId10" Type="http://schemas.openxmlformats.org/officeDocument/2006/relationships/slideLayout" Target="../slideLayouts/slideLayout570.xml"/><Relationship Id="rId11" Type="http://schemas.openxmlformats.org/officeDocument/2006/relationships/slideLayout" Target="../slideLayouts/slideLayout571.xml"/><Relationship Id="rId12" Type="http://schemas.openxmlformats.org/officeDocument/2006/relationships/slideLayout" Target="../slideLayouts/slideLayout572.xml"/><Relationship Id="rId13" Type="http://schemas.openxmlformats.org/officeDocument/2006/relationships/slideLayout" Target="../slideLayouts/slideLayout573.xml"/><Relationship Id="rId14" Type="http://schemas.openxmlformats.org/officeDocument/2006/relationships/slideLayout" Target="../slideLayouts/slideLayout574.xml"/><Relationship Id="rId15" Type="http://schemas.openxmlformats.org/officeDocument/2006/relationships/slideLayout" Target="../slideLayouts/slideLayout575.xml"/><Relationship Id="rId16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2725-7008-49A1-83B4-D51390E3FE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F332-EEED-4834-BB94-97CA2FC63B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71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3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582C-2570-4F42-9441-0A3A9B2E13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0ED-DF54-4D22-9398-E3E137FB73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59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62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6892-3140-4691-AEE2-68FDAC04D8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607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61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E487-15C4-4DBF-8E08-58256036B0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A72A-732E-49DC-87AE-EC0372D160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3309-802D-417B-B4E2-3A328B33E2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8598-5D51-4CFD-8EA4-3397204C4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3E72-C24D-4E45-BC79-E4AAE43F0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395-0FF4-4204-8E77-23525EBF7D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EB9-9162-4474-8618-2A86475447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2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4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5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E22E-CA1A-4667-A620-5CA258FE52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9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30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933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5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E2DF-7F38-4594-94FE-93A021A12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98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1EF9-A4D9-40D0-92EC-5DC1FFBDDE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2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E95D-298C-43C5-A7D9-6501D16360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4F6A-36E7-41A3-B43B-692E69BF2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1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62FC-7F71-4A9D-AF2D-0237574F5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2F6D-CDFC-4812-9D32-76FA37F33E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05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7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08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5147-DFF8-44A9-BB04-405D4E6FF0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253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5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25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8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D1B9-8160-44D3-8BB2-C9626F3A63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0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0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B6F9-56D8-42BB-9820-9CF00FF935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060B-BD32-4709-829B-861537399C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5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10B7-3115-4ACB-8E41-135724699C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E1C1-7BAF-4171-8EAB-2B9DCE966D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6912-8BBB-46EE-8AD6-3B2AAE8D7A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D6D8-AB64-40B9-B46C-A424BAC309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8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0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4B54-C8C4-4965-9563-7726FBCC7D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76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8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57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5DA3-3758-40F3-92C4-E8AFE5C18B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2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2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6CED-ABBD-4D04-B66B-FD705CA798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2FCF-2201-4019-9290-688CFADB61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CE6C-D84F-4083-9A85-2265D26850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6FFA-4B93-469E-B346-DFE6B7252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6D16-4656-48CE-9319-4CB2936D09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A1DB-EA37-43B7-8D51-FCB3D37DCF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5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85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7561-61F9-4C29-8DCD-D71549EFF8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5"/>
    <p:sldLayoutId id="2147484170" r:id="rId6"/>
    <p:sldLayoutId id="2147484171" r:id="rId7"/>
    <p:sldLayoutId id="2147484172" r:id="rId8"/>
    <p:sldLayoutId id="2147484173" r:id="rId9"/>
    <p:sldLayoutId id="2147484174" r:id="rId10"/>
    <p:sldLayoutId id="2147484175" r:id="rId11"/>
    <p:sldLayoutId id="2147484176" r:id="rId12"/>
    <p:sldLayoutId id="2147484177" r:id="rId13"/>
    <p:sldLayoutId id="2147484178" r:id="rId14"/>
    <p:sldLayoutId id="2147484179" r:id="rId15"/>
    <p:sldLayoutId id="2147484180" r:id="rId16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899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90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0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A49B-919B-4B1C-A265-A01EE8E7CF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4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5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 type="dt" idx="12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 type="ftr" idx="12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 type="sldNum" idx="12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3B25-8B7E-4C97-AF87-13FB4A137E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5"/>
    <p:sldLayoutId id="2147484196" r:id="rId6"/>
    <p:sldLayoutId id="2147484197" r:id="rId7"/>
    <p:sldLayoutId id="2147484198" r:id="rId8"/>
    <p:sldLayoutId id="2147484199" r:id="rId9"/>
    <p:sldLayoutId id="2147484200" r:id="rId10"/>
    <p:sldLayoutId id="2147484201" r:id="rId11"/>
    <p:sldLayoutId id="2147484202" r:id="rId12"/>
    <p:sldLayoutId id="2147484203" r:id="rId13"/>
    <p:sldLayoutId id="2147484204" r:id="rId14"/>
    <p:sldLayoutId id="2147484205" r:id="rId15"/>
    <p:sldLayoutId id="2147484206" r:id="rId16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9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 type="dt" idx="13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 type="ftr" idx="13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 type="sldNum" idx="13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2A2B-5283-483C-8091-997B4387BA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5"/>
    <p:sldLayoutId id="2147484209" r:id="rId6"/>
    <p:sldLayoutId id="2147484210" r:id="rId7"/>
    <p:sldLayoutId id="2147484211" r:id="rId8"/>
    <p:sldLayoutId id="2147484212" r:id="rId9"/>
    <p:sldLayoutId id="2147484213" r:id="rId10"/>
    <p:sldLayoutId id="2147484214" r:id="rId11"/>
    <p:sldLayoutId id="2147484215" r:id="rId12"/>
    <p:sldLayoutId id="2147484216" r:id="rId13"/>
    <p:sldLayoutId id="2147484217" r:id="rId14"/>
    <p:sldLayoutId id="2147484218" r:id="rId15"/>
    <p:sldLayoutId id="2147484219" r:id="rId16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dt" idx="13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ftr" idx="13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 type="sldNum" idx="13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604E-99BE-4E50-B726-7A0D749134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3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3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3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F2AB-4B43-40DD-95AE-B07B1169C5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5"/>
    <p:sldLayoutId id="2147484235" r:id="rId6"/>
    <p:sldLayoutId id="2147484236" r:id="rId7"/>
    <p:sldLayoutId id="2147484237" r:id="rId8"/>
    <p:sldLayoutId id="2147484238" r:id="rId9"/>
    <p:sldLayoutId id="2147484239" r:id="rId10"/>
    <p:sldLayoutId id="2147484240" r:id="rId11"/>
    <p:sldLayoutId id="2147484241" r:id="rId12"/>
    <p:sldLayoutId id="2147484242" r:id="rId13"/>
    <p:sldLayoutId id="2147484243" r:id="rId14"/>
    <p:sldLayoutId id="2147484244" r:id="rId15"/>
    <p:sldLayoutId id="2147484245" r:id="rId16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3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4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4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F05C-D373-40A1-8983-AB362B38FC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17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17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 type="dt" idx="14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 type="ftr" idx="14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 type="sldNum" idx="14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3E23-E488-445D-90F9-DB3086AD9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5"/>
    <p:sldLayoutId id="2147484261" r:id="rId6"/>
    <p:sldLayoutId id="2147484262" r:id="rId7"/>
    <p:sldLayoutId id="2147484263" r:id="rId8"/>
    <p:sldLayoutId id="2147484264" r:id="rId9"/>
    <p:sldLayoutId id="2147484265" r:id="rId10"/>
    <p:sldLayoutId id="2147484266" r:id="rId11"/>
    <p:sldLayoutId id="2147484267" r:id="rId12"/>
    <p:sldLayoutId id="2147484268" r:id="rId13"/>
    <p:sldLayoutId id="2147484269" r:id="rId14"/>
    <p:sldLayoutId id="2147484270" r:id="rId15"/>
    <p:sldLayoutId id="2147484271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8D75-C14A-4A1B-8ECF-75C9AA12BB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7304-1395-4AF5-8767-997CB7818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84" name="Freef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Freef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287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01D2-006C-4B43-8C87-CC516613F2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37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B9D0-D941-4BB2-87F3-46D84B8E7C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66BA-A3BB-405F-8CCB-3A0283DF5E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package" Target="../embeddings/oleObject1.docx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2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9" name="Rectangle 4"/>
          <p:cNvSpPr/>
          <p:nvPr/>
        </p:nvSpPr>
        <p:spPr>
          <a:xfrm>
            <a:off x="857160" y="307188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-acetyl transfer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acetyl group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lang="en-US" sz="3200" spc="-1" strike="noStrike" baseline="62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8" name="Rectangle 6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5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9" name="Object 2"/>
          <p:cNvGraphicFramePr/>
          <p:nvPr/>
        </p:nvGraphicFramePr>
        <p:xfrm>
          <a:off x="4429080" y="3286080"/>
          <a:ext cx="4330800" cy="3214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50" name="Object 2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9080" y="3286080"/>
                    <a:ext cx="4330800" cy="32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1" name="Rectangle 4"/>
          <p:cNvSpPr/>
          <p:nvPr/>
        </p:nvSpPr>
        <p:spPr>
          <a:xfrm>
            <a:off x="142920" y="107172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YP 3A4/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y out biotransformation of 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number (30–50%) of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ed in liver and intestine (responsib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metabolism at this site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3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2254" name="Rectangle 2"/>
          <p:cNvSpPr/>
          <p:nvPr/>
        </p:nvSpPr>
        <p:spPr>
          <a:xfrm>
            <a:off x="302040" y="214200"/>
            <a:ext cx="72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Text Box 5"/>
          <p:cNvSpPr/>
          <p:nvPr/>
        </p:nvSpPr>
        <p:spPr>
          <a:xfrm>
            <a:off x="380880" y="1341360"/>
            <a:ext cx="4046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two) Phases of Bio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se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abolite may be active or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hase 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tabolites are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57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58840" indent="-18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–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ine – Monoam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609840" indent="-1620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– Xanthine 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258840" indent="-181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59" name="AutoShape 2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7358040" cy="712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clobemi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61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treatment of gou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63" name="AutoShape 2" descr=""/>
          <p:cNvPicPr/>
          <p:nvPr/>
        </p:nvPicPr>
        <p:blipFill>
          <a:blip r:embed="rId1"/>
          <a:stretch/>
        </p:blipFill>
        <p:spPr>
          <a:xfrm>
            <a:off x="1620720" y="42840"/>
            <a:ext cx="5767560" cy="652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4" name="Title 2" descr=""/>
          <p:cNvPicPr/>
          <p:nvPr/>
        </p:nvPicPr>
        <p:blipFill>
          <a:blip r:embed="rId1"/>
          <a:stretch/>
        </p:blipFill>
        <p:spPr>
          <a:xfrm>
            <a:off x="426960" y="212760"/>
            <a:ext cx="8229600" cy="592200"/>
          </a:xfrm>
          <a:prstGeom prst="rect">
            <a:avLst/>
          </a:prstGeom>
          <a:ln w="0">
            <a:noFill/>
          </a:ln>
        </p:spPr>
      </p:pic>
      <p:pic>
        <p:nvPicPr>
          <p:cNvPr id="2265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2266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0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1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2272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2274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&amp;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as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ze drugs that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7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0" name="AutoShape 2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218440" cy="57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2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4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6" name="AutoShape 2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5797440" cy="62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88" name="AutoShape 2" descr=""/>
          <p:cNvPicPr/>
          <p:nvPr/>
        </p:nvPicPr>
        <p:blipFill>
          <a:blip r:embed="rId1"/>
          <a:stretch/>
        </p:blipFill>
        <p:spPr>
          <a:xfrm>
            <a:off x="682560" y="262080"/>
            <a:ext cx="7454880" cy="87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90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92" name="Title 2" descr=""/>
          <p:cNvPicPr/>
          <p:nvPr/>
        </p:nvPicPr>
        <p:blipFill>
          <a:blip r:embed="rId1"/>
          <a:stretch/>
        </p:blipFill>
        <p:spPr>
          <a:xfrm>
            <a:off x="542880" y="274680"/>
            <a:ext cx="8143920" cy="93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nonpolar 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polar 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3" name="AutoShape 2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924680" cy="64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increase activities of liver microsomal enzymes &amp; increase the metabolism of drug itself and other drugs taken with the inducer at the same tim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decrease activities of liver microsomal enzymes &amp; decrease the metabolism of the drug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7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9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"/>
          <p:cNvSpPr txBox="1"/>
          <p:nvPr/>
        </p:nvSpPr>
        <p:spPr>
          <a:xfrm>
            <a:off x="250920" y="1282680"/>
            <a:ext cx="86868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ost drug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transformation is required for protection of body from toxic metabo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 e.g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vodopa - carbidopa, prednisone – prednisol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235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223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1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24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224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10-06T06:44:57Z</dcterms:modified>
  <cp:revision>269</cp:revision>
  <dc:subject/>
  <dc:title>GENERAL PHARMACOLOGY</dc:title>
</cp:coreProperties>
</file>