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668-5706-4572-99A7-F380459B4D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1862-EB95-4930-BDA7-13EEF9A154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CB5E-BCF4-4958-A52C-DEC226669E0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8C94-1511-4261-8354-ED3E37A1094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3D8B-6AA0-4A01-BDC6-34193C5234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F615-1813-4C14-A598-B7B9F75BF40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DB72-FC9D-493D-826B-F208FCECFE2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0128-DCCD-4BB2-8253-BC26760E495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2466-ABC3-411C-B16C-04A6BB1B9F9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6D4-4A2E-449A-805A-47954504CEA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19AC-E13A-447B-BE84-AA73990C6B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C05E-B24E-4540-8428-B460AE1C104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72E3-9FCA-4E78-B515-157D4068D6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974-9771-4A98-8D1C-9D24FF7451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60B1-1F07-41A4-8EF1-7B73655F5C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E31F-CA26-4365-A13B-9CC639BE0B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DE71-FAF7-474B-A6C0-1A4C5B25A2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4536-A031-4BC7-B2CC-7766545D5B5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DDAB-9661-4ADC-88A5-DD4D47039E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890-939B-4AE2-AB1B-95EBDD7C0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EAE-81AB-415F-97A8-BAAD1B61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9F2-0892-41EA-A5BA-0AEEB1E1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4DF-62C0-4C10-9C59-FE99F582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F173-6B39-4052-9C14-647FCA4E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A86E-8C0F-4CE8-8B38-301EB322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A20-BC6A-4463-8BBB-61FBD1E5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31B-4678-4660-BE91-3680B7A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B2C2-1847-418D-94CE-09CB8945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1FD0-D2F7-472B-95B2-3AB50E1C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20B5-78D2-4F2C-BE8C-F33A1EA6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7DA-B260-4B3A-B3A0-4B89A1C2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EBCA-9EB8-460C-9A48-1019C082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EE4-95BE-4403-98DF-EFCF8110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0E99-EE58-43CC-8AD4-13E9B68F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C4AB-7F92-4675-AD93-BB158CE6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DDD-5C81-4F0D-8211-4F8B7B79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16600-1462-48DE-AEB6-4CBE25C7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7FFAB-4DB0-40A3-99B9-5E0E446A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70BE-CFD7-44F8-8B56-7E1042ECF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A45D-4493-4DA3-94B0-079C94B4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CCEA3-3E4E-44A5-9572-0A755A86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113D-91C5-4E15-A158-916F58E9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B1CF-6606-4752-B19F-DDD1CE4C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312B4-4240-4813-B43E-97739445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57E7-BC8D-43FC-93B3-1A11AB8B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7872-52CF-4E03-B228-353A0EA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842E-738D-4223-83D1-91F7A102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3831-E67E-471B-BA70-4F6DDDB96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07578-BBF8-4FC3-9A61-ADE1626F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6E0F3-77E9-4542-8388-F176EB5E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9147-DE7E-4E5D-9A33-3BD148EF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B7363-A7CC-4BB7-B619-08D277EC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CF83-4753-46AA-ADCA-C38C5490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DEF96-8B42-4A05-98C7-DB242C1C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F76E8-A33E-4975-AAA9-C9B43FF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94506-4609-4B6F-87FE-466DA8C8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F6D0-93FE-4DE4-8371-13BAD130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28D3F-D771-462D-8861-64796EC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A8AFD-E475-46E0-8003-3F307ECF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4208D-D61A-464D-AF73-FF01EDFC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4BD30-A20A-4139-9186-8063D1E9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56184-3E91-466B-812A-B442B3A6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A15-E94F-476A-80AD-62D7C79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F40-4E14-4FA9-B0D1-2C1BBD88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329-BEA6-4848-B01F-9BCDD8FC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21B-197E-4821-B8AA-1352722E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0E2-E21B-48D7-960A-99DEE5C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D229-9FBB-4728-98CC-02DB989CD29C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275-F85F-4C77-A46B-EAEE153F3D20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057C-1F79-4288-978C-4ADAB657E313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9253-0435-4E8A-BE76-48F2359E0812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ophilic drugs can b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absorbed back into blood circ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drug reabsorption from renal tubules back into blood circu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the drugs are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nterohepatic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(mg/ml)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258040" cy="50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Hanan Hagar</cp:lastModifiedBy>
  <dcterms:modified xsi:type="dcterms:W3CDTF">2015-10-07T07:48:39Z</dcterms:modified>
  <cp:revision>214</cp:revision>
  <dc:subject/>
  <dc:title>GENERAL PHARMACOLOGY</dc:title>
</cp:coreProperties>
</file>