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56CD-0A20-4656-9FBD-4673727568C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93C8-7718-4D45-ABB3-919E11C5E4A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75D7-7BC7-45EB-B526-ACEAE6E6956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A7E4-317B-4B8D-BF57-F11EBE04DF6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8B38-4C9F-438C-8297-F81362EAA47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425E-6E0D-499D-99D3-918D6974737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7F19-A485-42AB-9A74-FCD2FBACEA0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DDBF-0A38-4E5E-8AFC-F8AAD5B34E8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1EAE-9D4D-4279-9C34-DEBEDA5E289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EBF7-03E3-41DE-AC96-CF41636146C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C4AA-96E7-4F9A-9BED-ABFB0577BFF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A699-38F2-4E0A-87D8-C891C3C5430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C039-B7B3-4E05-9F85-5B9C97CA51D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5F54-46E3-4646-AB55-9F5ECE64A33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19E7-3E40-4189-937C-EC3C0D31AA9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DDF4-A320-4D23-BCEB-188B3C22C48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7CB8-4673-4786-8838-DA66DDEED64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2D26-3C45-4985-9EE4-4F5DBC90244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0F7F-9F5E-41E1-85F0-620F453FB37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B36-E625-4BC6-BA73-2C6C1362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B82-1472-4CD7-B4B0-7FE8CC55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10D-FEB7-4A59-93F0-ABE5CCF7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31A-78CF-4CBA-A1F1-23A8CC96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16A0-DFEA-43CB-A594-06D637E7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8883-5D10-4545-A4DC-38131F89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2708-569A-47D7-A6CA-2C83D2E9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BD9E-A7D3-4716-9A2D-6DE39AE0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7010-6412-493B-80CA-0CBFAD95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C251-3BE1-4DC6-ABA3-1C2024AD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912D-0F2A-4352-A7F5-ED6DC611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251-FE0E-472F-8288-72466E77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D38C-F707-477C-B855-0B75A9A2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32C0-309D-4BD6-9861-5CD7FCE7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AFAE-F896-433F-90CF-973ADCB6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C1BD-E531-4040-A627-8CFAC1FA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F7FF-4A1E-48FF-99F4-C5A6B71A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6E73F-CA09-425C-AE28-9CD9AF4B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24798-560C-416F-AED0-190692AC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E9304-F5BF-4D37-8A83-0A0EB2D6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1786B-0315-42C4-9CAE-4E604EC9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1392F-19B3-4B4E-8414-5278B08A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31A-DF06-4A74-AB76-33E867DC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B876-0149-4757-9CE1-E7326BFA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B38F6-87FC-43EA-A637-274A0872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A8F6-94DF-4C23-92CB-260E8A25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1437D-25E9-4285-A654-4735EF37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2DB5B-37C3-4C27-90DC-B00C718D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6B3D7-84D3-4191-8CA0-9AEF2933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72E3-36B3-495E-B7A5-7718C911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3B1AF-4698-4626-A5A0-4EFC87D7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A4833-5759-45B2-B3AB-9C0A3271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1E88-6682-4ED6-8E25-D36E86DD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6B7-385C-4882-823D-36B4E67B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BFE58-E35D-4105-A0D4-53A303C6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20686-61B1-4B57-8E91-BB717CA3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4415F-12FE-42B2-969C-EFA4BD41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9CC59-81A9-481F-A7A3-0D73E69F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5068B-6ED0-4FCE-81B1-3068DB55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4C772-B04F-4255-BE5E-2F5A76A3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A2AE-96BB-4B74-B937-34509978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0A58B-6685-4B37-8D27-4A2AAB29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1BBE2-E208-490C-820C-608661D3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5B5-5AE1-4CE7-8F2C-1280DFB6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814-45F9-45B5-98F0-75E5C398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267-EAEE-4029-AE12-EF2436C5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02E-B129-4DA7-9541-8C552AEA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3E6-25A3-41C7-9420-3E1D6515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6D29-1935-4B1E-80CF-A99565E981B9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5CDC-0B6C-4091-8709-C91A9FE717DF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A640-35C6-4D11-86F3-6BC35A9BFC93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A6CF-5EA8-40ED-95D0-94359F6D2641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187280" y="2060640"/>
            <a:ext cx="67694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755640" y="422100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Pharmac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logo"/>
          <p:cNvPicPr/>
          <p:nvPr/>
        </p:nvPicPr>
        <p:blipFill>
          <a:blip r:embed="rId1"/>
          <a:stretch/>
        </p:blipFill>
        <p:spPr>
          <a:xfrm>
            <a:off x="7812000" y="404640"/>
            <a:ext cx="9082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13840" y="214200"/>
            <a:ext cx="86439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sive tubular re-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tal convoluted tubules &amp; collecting 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diffusion of unionized, lipophil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ophilic drugs can be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reabsorbed back into blood circul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excretion in urine will b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ized drugs are poorly reabsorbed &amp; so urinary excretion will b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69440" cy="640872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3744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  <p:sp>
        <p:nvSpPr>
          <p:cNvPr id="201" name="Oval 5"/>
          <p:cNvSpPr/>
          <p:nvPr/>
        </p:nvSpPr>
        <p:spPr>
          <a:xfrm>
            <a:off x="457200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395280" y="83664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421164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4788000" y="2565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5292720" y="2349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5003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3708360" y="2492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485928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457200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71636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5"/>
          <p:cNvSpPr/>
          <p:nvPr/>
        </p:nvSpPr>
        <p:spPr>
          <a:xfrm>
            <a:off x="457200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471636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4572000" y="907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478800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4500720" y="2421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4716360" y="119700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1"/>
          <p:cNvSpPr/>
          <p:nvPr/>
        </p:nvSpPr>
        <p:spPr>
          <a:xfrm>
            <a:off x="500364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4427640" y="549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3"/>
          <p:cNvSpPr/>
          <p:nvPr/>
        </p:nvSpPr>
        <p:spPr>
          <a:xfrm>
            <a:off x="478800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859280" y="33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5"/>
          <p:cNvSpPr/>
          <p:nvPr/>
        </p:nvSpPr>
        <p:spPr>
          <a:xfrm>
            <a:off x="39528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61128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drug= water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611280" y="692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polar drug = lipid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5003640" y="134136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9"/>
          <p:cNvSpPr/>
          <p:nvPr/>
        </p:nvSpPr>
        <p:spPr>
          <a:xfrm>
            <a:off x="5003640" y="1557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3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2 -0.07052 C 0.01042 0.03168 0.01302 0.12578 0.00816 0.22543 C 0.0059 0.37919 0.0283 0.33364 -0.09826 0.3311 C -0.10139 0.32971 -0.10469 0.32832 -0.10781 0.32694 C -0.11337 0.32462 -0.12517 0.32902 -0.12517 0.32902 L -0.12517 0.3163 E">
                                      <p:cBhvr>
                                        <p:cTn id="7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2.65896E-006 C 0.01633 0.08671 -0.00954 0.18012 0.00799 0.26636 C 0.00747 0.30428 0.0073 0.34243 0.00626 0.38035 C 0.00521 0.42335 0.00539 0.39145 0.00313 0.3889 C 0.00105 0.38659 -0.00225 0.38752 -0.00485 0.38682 C -0.0085 0.38567 -0.01562 0.38289 -0.01909 0.38266 C -0.07673 0.37873 -0.07465 0.40509 -0.07465 0.37179 E">
                                      <p:cBhvr>
                                        <p:cTn id="75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01573 C 0.00903 0.02197 0.01007 0.02844 0.01007 0.03469 C 0.01007 0.4837 0.10678 0.43191 -0.11215 0.42775 C -0.12829 0.42521 -0.1434 0.42359 -0.15972 0.42359 E">
                                      <p:cBhvr>
                                        <p:cTn id="8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3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3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3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3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3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pH of urine by chemicals can inhibit or enhance the drug reabsorption from renal tubules back into blood circula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 trapping is used to enhance renal clearance of drugs during toxic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is normally slightly acidic and favors excretion of 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basic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idifica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urine using ammonium chloride (NH4Cl) increases excretion o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asic drugs as amphetamine.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lkalinization of  urin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sodium bicarbonate NaHC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s excretion o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idic drugs as aspir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7640" y="259920"/>
            <a:ext cx="8785080" cy="6264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creted mainly by the kidney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glycosides antibiotics (as gentamyc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se drugs should be prescribed carefull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renal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Biliary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256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to few drugs that are excreted into f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drugs are secreted from the liver into bile by active transporters, then into duoden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undergo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nterohepatic circula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 into systemic blood circulation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Enterohepatic circul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750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creted in th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i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form of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glucouronides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 hydrolyzed in  intestine by bacterial flora liberating  free drugs that can be reabsorbed back into blood if the drugs are lipid solu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longs the duration of action of drugs e.g.  digoxin, morphine, thyrox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enterohepatic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84009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Plasma half-life (t ½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893440" cy="559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time required for the plasma concentration of a drug to fall to half of its initial concen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easure of duration of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dosing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rugs of short plasma half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, tubocur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rugs of long plasma half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oxin, thyrox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8000" y="286920"/>
            <a:ext cx="67690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students should be able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main and minor routes of Excretion including renal elimination and biliary ex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enterohepatic circulation and its consequences on dura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some pharmacokinetics terms including clearance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half-life (t ½), multiple dosing, steady state levels, maintenance dose and Loading dose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50752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Factors that may increase half-life (t ½ 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14200" y="928440"/>
            <a:ext cx="8715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d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 inhibi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d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gh binding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bi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erohepatic recy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1280" y="190440"/>
            <a:ext cx="9001440" cy="65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ady state leve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at which the therapeutic plasma concentration of the drug (mg/ml) remains constant with the therapeutic window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the range between effective and toxic levels of drug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teady 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of drug administration = elimination ra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61b"/>
                </a:solidFill>
                <a:latin typeface="Garamond"/>
              </a:rPr>
              <a:t>Therapeutic wind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611280" y="1214280"/>
            <a:ext cx="8032680" cy="509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Steady state of a drug</a:t>
            </a:r>
            <a:r>
              <a:rPr b="0" lang="ar-SA" sz="3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229600" cy="532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13840" y="188640"/>
            <a:ext cx="864396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How many half-lives would be necessary to reach steady stat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teady state concentration is attained after 3-5 half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.g. Morp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Steady state leve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57200" y="1071720"/>
            <a:ext cx="8258040" cy="509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42920" y="117360"/>
            <a:ext cx="8786880" cy="666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ading d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large initial dose that is given to achiev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rapid therapeutic plasma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dministration of the drug,  the plasma concentration decreases due to distribution of drug to other t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oses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balances the drug distrib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important for drugs with long halv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8930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linical applications of Loading dose 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ading dose may be desirable if the time required to attain steady state of drug (4 elimination t1/2 values) is long and rapid relief is required in  the condition being tre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t1/2 of lidocaine (antiarrhythmic drug)  is usually 1-2 hour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rrhythmias after myocardial infarction are life-threatening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ne cannot wait 4-8 hours to achieve a therapeutic concent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 loading dose of lidocaine in the coronary care unit is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42920" y="117360"/>
            <a:ext cx="8786880" cy="666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tenance d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doses required to  maintain the therapeutic level of the drug constant or the steady state of the dru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oses balance the amount of drug lost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during metabolism and clea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ient needs to take regular doses of a drug such 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oxicillin ( 500 mg) / 8 hours to maintain the therapeutic leve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drugs are readily excreted and poorly re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are reabsorbed back and excretion will b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drugs are best excreted in alkaline urin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dium bicarbon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drugs are best excreted in acidic urin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monium chlori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hepatic circulation prolongs half life of the dru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Routes of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2560" y="1314000"/>
            <a:ext cx="867708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ain Routes of Excre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ary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or Routes of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ry excretion via mil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/ Dermal excretion via sw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QUESTION"/>
          <p:cNvPicPr/>
          <p:nvPr/>
        </p:nvPicPr>
        <p:blipFill>
          <a:blip r:embed="rId1"/>
          <a:stretch/>
        </p:blipFill>
        <p:spPr>
          <a:xfrm>
            <a:off x="5940360" y="981000"/>
            <a:ext cx="2376720" cy="410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j0078711"/>
          <p:cNvPicPr/>
          <p:nvPr/>
        </p:nvPicPr>
        <p:blipFill>
          <a:blip r:embed="rId2"/>
          <a:stretch/>
        </p:blipFill>
        <p:spPr>
          <a:xfrm>
            <a:off x="1476360" y="1916280"/>
            <a:ext cx="2057400" cy="39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unit of kidney is 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nsists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 of Hen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ng 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23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69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2050920" y="26028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611280" y="5373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nal Excretion inclu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principle processes that determine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ary excretion of drug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tubular reabsorp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tubular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751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516720" y="3357720"/>
            <a:ext cx="180036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lomerular filtration (GF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s upon renal blood flow (600 ml/mi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 20% of renal blood flow = 125 ml/m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merular filtration occur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w molecular weight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500" spc="-1" strike="noStrike">
                <a:solidFill>
                  <a:srgbClr val="0000cc"/>
                </a:solidFill>
                <a:latin typeface="Arial"/>
              </a:rPr>
              <a:t>free drugs (unbound to plasma protein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re filter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605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 tubular secre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urs mainly in proximal tubules; increases drug concentration in 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anioni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cationic tranporte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te active secretion of anionic and cationic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ransport drug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gain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c. grad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 is an example of actively secreted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156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stem for Acidic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cy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phona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ransport of acidic drugs is blocked by probene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stem for Basic drug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op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n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stigm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Hanan Hagar</cp:lastModifiedBy>
  <dcterms:modified xsi:type="dcterms:W3CDTF">2015-10-07T07:48:39Z</dcterms:modified>
  <cp:revision>214</cp:revision>
  <dc:subject/>
  <dc:title>GENERAL PHARMACOLOGY</dc:title>
</cp:coreProperties>
</file>