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23.jpeg" ContentType="image/jpeg"/>
  <Override PartName="/ppt/media/image2.jpeg" ContentType="image/jpeg"/>
  <Override PartName="/ppt/media/image25.jpeg" ContentType="image/jpe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93DDD-31E3-4E8B-BEC8-27D5E98120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E0567-EBF2-4D69-9D70-8B84BE72188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68C37-CE1E-4FE5-B714-A30CF55101B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0D24-6931-48BB-8616-C10F5ABBF19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502A0-BA3B-416B-A23E-F3330F69DA7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ED92B-743E-4AE9-BE36-7CEBF5E416F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38A9B-45F9-49A2-8FC9-FAC18B34733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97CC5-0C91-46FD-B8C0-5E83DBBD621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90944-8547-4A50-B9E9-E32AD432CE1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3F126-2EE1-4283-AF55-0B710957DC1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0354C-590F-4F53-ABA6-1D147434904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435A5-1162-4E89-8126-B79EC7F0725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35E5A-A876-46CD-80F0-B8D2153E18A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ACEF3-81C5-4027-8497-6DC73AF9122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5A783-CA77-4F93-8DD3-CC8DABAA369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57D28-08A4-4420-8207-E3F432A4076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8EF0E-727A-47E2-AB0D-627B6319F41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3A845-C4FF-4D67-B7FC-42D4F22740E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053EA-7622-458F-B59B-D5A33CB8997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C38F3-5946-40D9-B95E-04E6715FBD9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32EF9-0472-4496-9A0A-8BCC5E7EDCBF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DE925-A8FC-485F-9B5C-558C0CC035BA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39B0-D8C4-4F5D-BB1D-27E8BDEB7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0D81-2816-47CA-81C0-6B6E5B4DB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B8287A-F813-4240-A67B-E11A49C1F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4F3AAE-8076-4462-9580-FD40D95EB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C22566-0AD5-44C6-97D4-8F5637EFA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E75188-4121-4B84-BFA8-28B59B9B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EF6843-6820-4184-856A-F165730B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26401F-9665-4CED-AE8C-8418CDC5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D9F9F3-8E2E-4E1D-A7C0-FBBFF4D6A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7F8616-AAB3-42DF-A5A1-A4DC978B4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CC7D4A-E2CB-4452-869F-AB368B39C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4400-6102-4D60-A14D-E7977DF46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BBC8-80CB-48FF-80B9-C83C92F31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75901-A112-4CCF-9E0D-800484B95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3FA9A-F04B-498D-A4CD-350EB3141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A58A6-A8B4-4D4C-BB09-E2F63694C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EBCA2-B7DB-4861-BC5C-325F4F30E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A81D4-D23A-4A97-A563-2D08C2CA0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7B85F-B149-4E55-B6D4-1C782DB51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00517-0E22-4E98-85DC-CFCC7BEF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062A-ECB5-4C6F-9D7C-7DD1A297B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504FB-C4CB-4AC9-8121-308DDE62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6C80E-84BD-43E6-8F64-C2A0176B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A3A51-F9E4-4D9B-A06C-BB129A024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02491-CA29-4A5E-BB95-1AD1C7AAD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02872-BC14-4AE9-8F90-C9DDB8796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C206B-8BFA-4284-B346-4CEF3AC43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13964-5C62-4085-9699-E5A39BC02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D430B-2BCF-4792-B0D4-91A6F4706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13AFB-46C5-433F-A2F8-B45865328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A3463-A706-4C50-935B-FCAA70C50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AD13-29BD-46E3-84E1-CDAFF1B7E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28436-8138-4724-91A0-893CAC62B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6719A-833B-4562-A210-C8E8F830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45AF4-981D-4B54-8B5F-8FB19827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86A4F-4023-4B06-800B-E6464153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2988D-684C-4702-B667-EAFEA9554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63741-F3DB-4BBD-BC79-1A11C4634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BC3FA-F4C0-4D39-A1FD-DD9028A3B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2B454-0232-4907-ADB2-D2CB93774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0008C-90C7-4717-9E5F-155690760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0ACCA-A841-48A3-9C09-7831FFFDD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BC81-F615-4322-853A-A91F3D8C4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158A9-3D40-42CD-9725-954DE3269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9238C-7E76-45AD-A130-A23DE0435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BDC32-0C1E-4587-9262-24D97930A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BA8D3-7218-4561-93E5-CE205E32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B8433-6641-4A78-8F11-5B093609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D43B2-29EC-4456-B1A6-F8C86A56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AB83D-BAC2-4E8E-9EBA-DFE73BE33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45B3E-1877-4291-AFCD-C6E0DE81E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E02B0-19C9-4C71-99BB-8B53AFF3F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6E0A9-7423-4840-954D-964A81F49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9B9A-3028-4BB7-9F03-98624FCFD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DA7F4-9721-444A-B4D2-4674E3F5E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96BB8-C21B-4CFD-B890-97340AF8B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1C38F-52C2-4F92-9663-6D27BE7E3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6DE41-B2C6-4FD5-9B7A-902554647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861D4-9381-4B58-B2BF-175D39721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7D4D8-C85B-4957-BD1A-3618EBE5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91B4D-C161-4322-A1EA-B865FAA9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FB46B-08D0-4042-90FF-C4D647A5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0A89E-0FF7-4846-92DD-95C94FA68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40A7E-BC91-4AAA-B431-09911ECFF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6FD6-E59B-4057-AE76-C4B182600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6E1C6-F9E3-4BF9-BA60-5CFD000DF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7E73C-BED8-4BFD-ABD8-5A55C81A9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D1343-C675-47D1-B378-FBBA9B442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BF5B0-2AEB-421B-ACEC-5838FF6DB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1BE49-7BB4-4EC6-AD78-2E470A10A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5BD8B-6745-469C-8491-94C73C567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94B6E-9CBF-466E-BBFC-513457693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A74A8-7B18-4160-9ADC-FE9453E3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937AE-FFF2-4E7E-A3F2-7C623AA0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671DC-7298-4B63-AE11-B66FFB5E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C31F-AE69-43C6-82EE-6A072481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52682-EDCB-4FDE-81EE-CB7633F58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1A3740-E2F4-46F1-9F8E-713AD0E63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FEAC3B-1488-4426-97FB-F26C99C03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53E8B-9BF9-4C02-84CC-62A1BD916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FCEECD-2587-4DB9-958E-6B6C47B24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99AC5-0906-42E4-BD99-89149B1ED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80EEF3-B93E-46DB-AF20-8651E5D2F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83C29C-7B5E-4014-9E4F-177948E55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D22060-C2EA-4AB5-B6D8-609A8B7F3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5C0AC-5EFA-4B79-8FB5-85B87496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45B8-5FAB-4936-9CC5-81DAF559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1F767-B3E0-4E14-BA48-E5A0E199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16494-0723-4C3B-A2E4-ABE2861B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955F5F-842A-49D3-BF3F-16DED381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00DE17-44FA-4F10-B9FC-686178C39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1889F4-3A06-49C8-904B-52C08FF6B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462C80-4C18-48F7-B5FC-C9240CD74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8B02D6-0DEC-4EF1-9D1C-FC29826D3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1281D5-E5B0-4DE7-B14C-78C6AB045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EB02C-A960-4412-890D-3E505053C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03DD4B-45D6-4C9A-8A49-9BD79421D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C619-6672-4983-93DB-AAA7D38E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4E34E5-A9DB-4C24-943B-5BEA5244D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739356-8C02-4DAE-AB75-B936FAEC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F458F0-0827-4FEC-8421-0C51B979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E5EE95-E33A-4123-83E5-755DA484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EAB5E-C2F1-4F94-86F3-B546B183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349379-5E71-4EE5-B4E2-8CFB26373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8E4ABA-632F-4FB8-BF7A-33619F251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8BA7ED-71D9-4C71-ACF1-B285E6C78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0CFE28-7DD1-44C2-B4B2-57AA37939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B7DB9B-2EB4-4DB3-8460-F4DCA2CB2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83BDE-6E8D-478C-8A45-44EA890EA531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95993-20F4-467D-A8D5-A005CEDB8E3B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95134-F006-4523-9285-78D033AAC66A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6EBAF-EAC2-4E94-9CFE-BACDB907841D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F93C4-D15D-4007-A296-1A53E574DAEE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BCE55-F0C0-4E76-AF32-AD681BDC8203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F9654-7627-4B19-8B2E-99C359531CCE}" type="slidenum">
              <a:rPr b="0" lang="ar-SA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2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2C963-1A1E-4752-AF74-844380CF5039}" type="datetime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3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Dr Sitelbana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4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AAFA6-02B2-4D04-B59A-5360D96A7B1F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5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53B5-1FFA-4AFD-855A-B61C02F54E58}" type="datetime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6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Dr Sitelbana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7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CA2DD-7D89-49C4-A129-1843D9420B1E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Rectangle 2" descr=""/>
          <p:cNvPicPr/>
          <p:nvPr/>
        </p:nvPicPr>
        <p:blipFill>
          <a:blip r:embed="rId1"/>
          <a:stretch/>
        </p:blipFill>
        <p:spPr>
          <a:xfrm>
            <a:off x="536400" y="628560"/>
            <a:ext cx="8114040" cy="163836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914400" y="198108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marL="812880" indent="-8128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Dr Nervana Bayoum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 Black"/>
              </a:rPr>
              <a:t>TEXTBOOK OF MEDICAL  PHYSI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GUYTON &amp; HALL 12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 Black"/>
              </a:rPr>
              <a:t>TH</a:t>
            </a: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 EDI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Rectangle 1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AF001-7F2E-4CB7-9C05-06522DE99272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LOOD COMPOSITION</a:t>
            </a: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380520" y="167652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1013040" indent="-578880">
              <a:lnSpc>
                <a:spcPct val="7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00"/>
                </a:solidFill>
                <a:uFillTx/>
                <a:latin typeface="Arial"/>
              </a:rPr>
              <a:t>Cellular compon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1013040" indent="-578880">
              <a:lnSpc>
                <a:spcPct val="7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447560" indent="-578880">
              <a:lnSpc>
                <a:spcPct val="70000"/>
              </a:lnSpc>
              <a:spcBef>
                <a:spcPts val="64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Red Blood Cells (Erythrocyte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447560" indent="-578880">
              <a:lnSpc>
                <a:spcPct val="70000"/>
              </a:lnSpc>
              <a:spcBef>
                <a:spcPts val="64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ite Blood Cells (Leucocyte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447560" indent="-578880">
              <a:lnSpc>
                <a:spcPct val="70000"/>
              </a:lnSpc>
              <a:spcBef>
                <a:spcPts val="64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8d8d8"/>
                </a:solidFill>
                <a:latin typeface="Arial"/>
              </a:rPr>
              <a:t>Platelets (Thrombocyte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447560" indent="-578880">
              <a:lnSpc>
                <a:spcPct val="70000"/>
              </a:lnSpc>
              <a:spcBef>
                <a:spcPts val="64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1013040" indent="-578880">
              <a:lnSpc>
                <a:spcPct val="7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00"/>
                </a:solidFill>
                <a:uFillTx/>
                <a:latin typeface="Arial"/>
              </a:rPr>
              <a:t>Plasma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1013040" indent="-578880">
              <a:lnSpc>
                <a:spcPct val="7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447560" indent="-578880">
              <a:lnSpc>
                <a:spcPct val="70000"/>
              </a:lnSpc>
              <a:spcBef>
                <a:spcPts val="64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98% water + ions + plasma proteins e.g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447560" indent="-5788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(Albumin, globulin, Fibrinogen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447560" indent="-578880">
              <a:lnSpc>
                <a:spcPct val="70000"/>
              </a:lnSpc>
              <a:spcBef>
                <a:spcPts val="64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447560" indent="-578880">
              <a:lnSpc>
                <a:spcPct val="70000"/>
              </a:lnSpc>
              <a:spcBef>
                <a:spcPts val="649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ame ionic composition as interstitial  fluid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Rectangle 1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2CE3B-D562-49E4-8451-085F690723B3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Box 5"/>
          <p:cNvSpPr/>
          <p:nvPr/>
        </p:nvSpPr>
        <p:spPr>
          <a:xfrm>
            <a:off x="2895480" y="3733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EC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 Black"/>
              </a:rPr>
              <a:t>FUNCTIONS OF BLOOD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68436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066680" indent="-609480">
              <a:spcBef>
                <a:spcPts val="649"/>
              </a:spcBef>
              <a:buClr>
                <a:srgbClr val="6ea0b0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Trans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981080" indent="-609480">
              <a:spcBef>
                <a:spcPts val="700"/>
              </a:spcBef>
              <a:buClr>
                <a:srgbClr val="8d89a4"/>
              </a:buClr>
              <a:buSzPct val="90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2, CO2, nutrient, hormones, waste pro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-609480">
              <a:spcBef>
                <a:spcPts val="649"/>
              </a:spcBef>
              <a:buClr>
                <a:srgbClr val="6ea0b0"/>
              </a:buClr>
              <a:buSzPct val="90000"/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Homoeostasi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523880" indent="-609480">
              <a:spcBef>
                <a:spcPts val="70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gulation of body temperature, ECF 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-609480">
              <a:spcBef>
                <a:spcPts val="649"/>
              </a:spcBef>
              <a:buClr>
                <a:srgbClr val="6ea0b0"/>
              </a:buClr>
              <a:buSzPct val="90000"/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Protecting against infec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523880" indent="-609480">
              <a:spcBef>
                <a:spcPts val="70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ite Blood Cells, Antibo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-609480">
              <a:spcBef>
                <a:spcPts val="649"/>
              </a:spcBef>
              <a:buClr>
                <a:srgbClr val="6ea0b0"/>
              </a:buClr>
              <a:buSzPct val="90000"/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Blood clotting prevent blood lo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Rectangle 1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AD00E-C2E5-4F8D-B083-616261A81202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Blood Volume</a:t>
            </a:r>
            <a:endParaRPr b="0" lang="en-US" sz="4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6ea0b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5 liter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adul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5%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s packed cells volume (PCV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55%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s plasma volu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4" name="Picture 1031" descr="1"/>
          <p:cNvPicPr/>
          <p:nvPr/>
        </p:nvPicPr>
        <p:blipFill>
          <a:blip r:embed="rId1"/>
          <a:stretch/>
        </p:blipFill>
        <p:spPr>
          <a:xfrm>
            <a:off x="5041800" y="2057400"/>
            <a:ext cx="4033800" cy="3505320"/>
          </a:xfrm>
          <a:prstGeom prst="rect">
            <a:avLst/>
          </a:prstGeom>
          <a:ln w="0">
            <a:noFill/>
          </a:ln>
        </p:spPr>
      </p:pic>
      <p:sp>
        <p:nvSpPr>
          <p:cNvPr id="425" name="Rectangle 1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4E3C9-D7CD-4148-A938-5CF07F0FAF05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 Black"/>
              </a:rPr>
              <a:t>Blood Cells Formation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04560" y="1523520"/>
            <a:ext cx="84582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Erythropoiesis: Formation of RBC (erythrocyte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Leucopoiesis: Formation of WBC (leucocytes)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d8d8d8"/>
                </a:solidFill>
                <a:latin typeface="Arial"/>
              </a:rPr>
              <a:t>Thrombopoiesis: Formation of platelets (thrombocyte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1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700EB-6EF9-47D5-B6A8-864ABFCAD14D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0000"/>
                </a:solidFill>
                <a:latin typeface="Arial Black"/>
              </a:rPr>
              <a:t>Red Blood Cells </a:t>
            </a:r>
            <a:br>
              <a:rPr sz="4100"/>
            </a:br>
            <a:r>
              <a:rPr b="1" lang="en-US" sz="4100" spc="-1" strike="noStrike">
                <a:solidFill>
                  <a:srgbClr val="ff0000"/>
                </a:solidFill>
                <a:latin typeface="Arial Black"/>
              </a:rPr>
              <a:t>(RBC):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80520" y="2514600"/>
            <a:ext cx="4876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ffff"/>
                </a:solidFill>
                <a:uFillTx/>
                <a:latin typeface="Comic Sans MS"/>
              </a:rPr>
              <a:t>Function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trans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trans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Buffer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angle 1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46ABE-BE4A-41F7-B8AD-052DF4CA7A2C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2" name="Picture 8" descr="http://www.healtone.com/product_images/uploaded_images/Blood-.jpg"/>
          <p:cNvPicPr/>
          <p:nvPr/>
        </p:nvPicPr>
        <p:blipFill>
          <a:blip r:embed="rId1"/>
          <a:stretch/>
        </p:blipFill>
        <p:spPr>
          <a:xfrm>
            <a:off x="4572000" y="17524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Arial Black"/>
              </a:rPr>
              <a:t>Red Blood Cell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5334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79400" indent="-743040">
              <a:lnSpc>
                <a:spcPct val="90000"/>
              </a:lnSpc>
              <a:spcBef>
                <a:spcPts val="90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Shape &amp; siz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79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Biconcave Dis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nuclea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ameter 7-8 µmx2.5µmx1 µ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verage volume 90-95 µm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mber = 4.7 - 5 x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 = 14-16 g/dl in the blo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Rectangle 1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0FE8A-DF7B-4CD5-9CCA-EA5C21B4C761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6" name="Group 7"/>
          <p:cNvGrpSpPr/>
          <p:nvPr/>
        </p:nvGrpSpPr>
        <p:grpSpPr>
          <a:xfrm>
            <a:off x="5791320" y="1828800"/>
            <a:ext cx="2341080" cy="3671280"/>
            <a:chOff x="5791320" y="1828800"/>
            <a:chExt cx="2341080" cy="3671280"/>
          </a:xfrm>
        </p:grpSpPr>
        <p:pic>
          <p:nvPicPr>
            <p:cNvPr id="437" name="Picture 8" descr="177524"/>
            <p:cNvPicPr/>
            <p:nvPr/>
          </p:nvPicPr>
          <p:blipFill>
            <a:blip r:embed="rId1"/>
            <a:srcRect l="0" t="11018" r="83003" b="18460"/>
            <a:stretch/>
          </p:blipFill>
          <p:spPr>
            <a:xfrm>
              <a:off x="5791320" y="1940040"/>
              <a:ext cx="2341080" cy="356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Rectangle 9"/>
            <p:cNvSpPr/>
            <p:nvPr/>
          </p:nvSpPr>
          <p:spPr>
            <a:xfrm>
              <a:off x="7856640" y="1828800"/>
              <a:ext cx="275760" cy="444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Arial"/>
              </a:rPr>
              <a:t>Production of RBC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609120" y="9903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7800" indent="-36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-uter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rly few weeks of embryo nucleated RBCs are formed in </a:t>
            </a:r>
            <a:r>
              <a:rPr b="0" i="1" lang="en-US" sz="2400" spc="-1" strike="noStrike">
                <a:solidFill>
                  <a:srgbClr val="ffc000"/>
                </a:solidFill>
                <a:latin typeface="Arial"/>
              </a:rPr>
              <a:t>yolk sac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ddle trimester mainly i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liver &amp; spleen &amp; lymph no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t months RBCs are formed i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one marrow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all b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--------------------------------------------------------------------------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fter Birth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Bone marrow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f flat bone continue to produce RBC into adult li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haft of long bone stop to produce RBC at puberty while epiphysis continu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1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EF26-3190-4BB6-8F7F-45677EC4997C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2" descr="http://radioguraphics.net/tt/attach/1/3002320641.jpg"/>
          <p:cNvPicPr/>
          <p:nvPr/>
        </p:nvPicPr>
        <p:blipFill>
          <a:blip r:embed="rId1"/>
          <a:stretch/>
        </p:blipFill>
        <p:spPr>
          <a:xfrm>
            <a:off x="1981080" y="304920"/>
            <a:ext cx="5143680" cy="58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Bone marrow"/>
          <p:cNvPicPr/>
          <p:nvPr/>
        </p:nvPicPr>
        <p:blipFill>
          <a:blip r:embed="rId1"/>
          <a:stretch/>
        </p:blipFill>
        <p:spPr>
          <a:xfrm>
            <a:off x="1981080" y="536400"/>
            <a:ext cx="4524480" cy="601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2" descr="http://images.radiopaedia.org/images/2898475/2f6e0f47b8b308f0becb034aed62e8.png"/>
          <p:cNvPicPr/>
          <p:nvPr/>
        </p:nvPicPr>
        <p:blipFill>
          <a:blip r:embed="rId1"/>
          <a:srcRect l="0" t="0" r="0" b="18015"/>
          <a:stretch/>
        </p:blipFill>
        <p:spPr>
          <a:xfrm>
            <a:off x="990720" y="533520"/>
            <a:ext cx="7650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4" descr="https://encrypted-tbn1.gstatic.com/images?q=tbn:ANd9GcSuSQqMKliznJNhrndmV8DApnkoQaTAQicvP8hu6Dix-z_z1feROA"/>
          <p:cNvPicPr/>
          <p:nvPr/>
        </p:nvPicPr>
        <p:blipFill>
          <a:blip r:embed="rId1"/>
          <a:stretch/>
        </p:blipFill>
        <p:spPr>
          <a:xfrm>
            <a:off x="990720" y="838080"/>
            <a:ext cx="707868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Production of RBC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446" name="Picture 6" descr="1"/>
          <p:cNvPicPr/>
          <p:nvPr/>
        </p:nvPicPr>
        <p:blipFill>
          <a:blip r:embed="rId1"/>
          <a:stretch/>
        </p:blipFill>
        <p:spPr>
          <a:xfrm>
            <a:off x="395280" y="1219320"/>
            <a:ext cx="8273880" cy="4952880"/>
          </a:xfrm>
          <a:prstGeom prst="rect">
            <a:avLst/>
          </a:prstGeom>
          <a:ln w="0">
            <a:noFill/>
          </a:ln>
        </p:spPr>
      </p:pic>
      <p:sp>
        <p:nvSpPr>
          <p:cNvPr id="447" name="Rectangle 1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A42FB-5BB8-4D62-BAAD-685292A7FF46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2" descr="MP stem cell.png"/>
          <p:cNvPicPr/>
          <p:nvPr/>
        </p:nvPicPr>
        <p:blipFill>
          <a:blip r:embed="rId1"/>
          <a:srcRect l="0" t="0" r="0" b="3951"/>
          <a:stretch/>
        </p:blipFill>
        <p:spPr>
          <a:xfrm>
            <a:off x="390600" y="228600"/>
            <a:ext cx="8601120" cy="5981760"/>
          </a:xfrm>
          <a:prstGeom prst="rect">
            <a:avLst/>
          </a:prstGeom>
          <a:ln w="0">
            <a:noFill/>
          </a:ln>
        </p:spPr>
      </p:pic>
      <p:sp>
        <p:nvSpPr>
          <p:cNvPr id="449" name="TextBox 3"/>
          <p:cNvSpPr/>
          <p:nvPr/>
        </p:nvSpPr>
        <p:spPr>
          <a:xfrm>
            <a:off x="685800" y="6248520"/>
            <a:ext cx="8077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luripotent Stem Cells in Bone Marrow and Cord Blo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By Ambreen Shaikh and Deepa Bhartiy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http://www.ebioscience.com/media/images/pathways/hematopoiesis-from-pluripotent-stem-cell.jpg"/>
          <p:cNvPicPr/>
          <p:nvPr/>
        </p:nvPicPr>
        <p:blipFill>
          <a:blip r:embed="rId1"/>
          <a:stretch/>
        </p:blipFill>
        <p:spPr>
          <a:xfrm>
            <a:off x="2057400" y="272880"/>
            <a:ext cx="4506840" cy="635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4" descr="Puk presentation 015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Black"/>
              </a:rPr>
              <a:t>Genesis (Production) of RBC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All blood cell are formed from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luripotential hematopoietic stem cells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committed cell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ommitted stem cells for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RB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ommitted stem cells for WB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Growth of different stems cells are controlled by different growth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Rectangle 1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973C5-C3B3-4DD2-AB85-A27C284D3FBB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0000"/>
                </a:solidFill>
                <a:latin typeface="Arial"/>
              </a:rPr>
              <a:t>Genesis (production) of RBC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456" name="Picture 6" descr="2 001"/>
          <p:cNvPicPr/>
          <p:nvPr/>
        </p:nvPicPr>
        <p:blipFill>
          <a:blip r:embed="rId1"/>
          <a:stretch/>
        </p:blipFill>
        <p:spPr>
          <a:xfrm>
            <a:off x="609480" y="1143000"/>
            <a:ext cx="7817040" cy="5300640"/>
          </a:xfrm>
          <a:prstGeom prst="rect">
            <a:avLst/>
          </a:prstGeom>
          <a:ln w="0">
            <a:noFill/>
          </a:ln>
        </p:spPr>
      </p:pic>
      <p:sp>
        <p:nvSpPr>
          <p:cNvPr id="457" name="Rectangle 1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6A2E0-3748-43B9-BECE-0F66BE60FEE0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Stages of differentiation of RBC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60962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22160" indent="-272880">
              <a:lnSpc>
                <a:spcPct val="90000"/>
              </a:lnSpc>
              <a:spcBef>
                <a:spcPts val="55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Comic Sans MS"/>
              </a:rPr>
              <a:t>Stages of RBC development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90000"/>
              </a:lnSpc>
              <a:spcBef>
                <a:spcPts val="55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Committed stem cel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lnSpc>
                <a:spcPct val="90000"/>
              </a:lnSpc>
              <a:spcBef>
                <a:spcPts val="550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Proerthrobla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lnSpc>
                <a:spcPct val="90000"/>
              </a:lnSpc>
              <a:spcBef>
                <a:spcPts val="550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f0"/>
                </a:solidFill>
                <a:latin typeface="Comic Sans MS"/>
              </a:rPr>
              <a:t>basophil</a:t>
            </a: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 erythrobla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lnSpc>
                <a:spcPct val="90000"/>
              </a:lnSpc>
              <a:spcBef>
                <a:spcPts val="550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polychromatophil erythrobla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lnSpc>
                <a:spcPct val="90000"/>
              </a:lnSpc>
              <a:spcBef>
                <a:spcPts val="550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orthochromatic erythrobla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lnSpc>
                <a:spcPct val="90000"/>
              </a:lnSpc>
              <a:spcBef>
                <a:spcPts val="550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Reticulocyt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lnSpc>
                <a:spcPct val="90000"/>
              </a:lnSpc>
              <a:spcBef>
                <a:spcPts val="550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Mature erythrocyt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lnSpc>
                <a:spcPct val="90000"/>
              </a:lnSpc>
              <a:spcBef>
                <a:spcPts val="550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Comic Sans MS"/>
              </a:rPr>
              <a:t>In cases of rapid </a:t>
            </a:r>
            <a:r>
              <a:rPr b="1" lang="en-US" sz="2200" spc="-1" strike="noStrike">
                <a:solidFill>
                  <a:srgbClr val="ff0000"/>
                </a:solidFill>
                <a:latin typeface="Comic Sans MS"/>
              </a:rPr>
              <a:t>RBC</a:t>
            </a:r>
            <a:r>
              <a:rPr b="1" lang="en-US" sz="2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production 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1" lang="en-US" sz="2200" spc="-1" strike="noStrike">
                <a:solidFill>
                  <a:srgbClr val="ffff00"/>
                </a:solidFill>
                <a:latin typeface="Comic Sans MS"/>
              </a:rPr>
              <a:t> reticlocytes</a:t>
            </a: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 in the circulatio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0" name="Object 5"/>
          <p:cNvGraphicFramePr/>
          <p:nvPr/>
        </p:nvGraphicFramePr>
        <p:xfrm>
          <a:off x="6688080" y="1989000"/>
          <a:ext cx="1816200" cy="36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8080" y="1989000"/>
                    <a:ext cx="181620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2" name="Rectangle 1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D9075-CD37-402B-B6C7-8880F85E44AC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Erythropoiesi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1828440"/>
            <a:ext cx="65530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55680" indent="-273240">
              <a:lnSpc>
                <a:spcPct val="9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omic Sans MS"/>
              </a:rPr>
              <a:t>RBC development is characterize by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081080" indent="-452520">
              <a:lnSpc>
                <a:spcPct val="90000"/>
              </a:lnSpc>
              <a:spcBef>
                <a:spcPts val="550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decrease in cell siz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081080" indent="-452520">
              <a:lnSpc>
                <a:spcPct val="90000"/>
              </a:lnSpc>
              <a:spcBef>
                <a:spcPts val="550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081080" indent="-452520">
              <a:lnSpc>
                <a:spcPct val="90000"/>
              </a:lnSpc>
              <a:spcBef>
                <a:spcPts val="550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disappearance of nucleu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081080" indent="-452520">
              <a:lnSpc>
                <a:spcPct val="90000"/>
              </a:lnSpc>
              <a:spcBef>
                <a:spcPts val="550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081080" indent="-452520">
              <a:lnSpc>
                <a:spcPct val="90000"/>
              </a:lnSpc>
              <a:spcBef>
                <a:spcPts val="550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appearance of hemoglobin (Hb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081080" indent="-4525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Rectangle 1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9986A-D024-4C9C-B017-6BAD598CBB47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6" name="Picture 8" descr="http://3.bp.blogspot.com/-PfuJW2agJco/TdUWYxT4weI/AAAAAAAAAFg/J_aoejLjbUk/s1600/genesis+rbc.jpg"/>
          <p:cNvPicPr/>
          <p:nvPr/>
        </p:nvPicPr>
        <p:blipFill>
          <a:blip r:embed="rId1"/>
          <a:stretch/>
        </p:blipFill>
        <p:spPr>
          <a:xfrm>
            <a:off x="6400800" y="609480"/>
            <a:ext cx="249552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Black"/>
              </a:rPr>
              <a:t>Regulation of RBC production 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684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Erythropoiesis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is stimulated by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Comic Sans MS"/>
              </a:rPr>
              <a:t>erythropoietin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hormone produced by the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kidney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in response to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ypoxia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(low oxygen in the bloo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Comic Sans MS"/>
              </a:rPr>
              <a:t>Hypoxia ( oxygen) caused by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Low RBC count (Anaemi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Hemorrh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High altitu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rolong heart fail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Lung diseas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Rectangle 1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ADBDE-E0B1-4D11-9497-BF3CA7FD4425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Down Arrow 5"/>
          <p:cNvSpPr/>
          <p:nvPr/>
        </p:nvSpPr>
        <p:spPr>
          <a:xfrm>
            <a:off x="2590920" y="3429000"/>
            <a:ext cx="152280" cy="457200"/>
          </a:xfrm>
          <a:prstGeom prst="downArrow">
            <a:avLst>
              <a:gd name="adj1" fmla="val 50000"/>
              <a:gd name="adj2" fmla="val 50039"/>
            </a:avLst>
          </a:prstGeom>
          <a:solidFill>
            <a:srgbClr val="ffff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Tissue oxygenation and RBC formation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472" name="Picture 5" descr="4"/>
          <p:cNvPicPr/>
          <p:nvPr/>
        </p:nvPicPr>
        <p:blipFill>
          <a:blip r:embed="rId1"/>
          <a:stretch/>
        </p:blipFill>
        <p:spPr>
          <a:xfrm>
            <a:off x="1676520" y="1219320"/>
            <a:ext cx="5351400" cy="5414760"/>
          </a:xfrm>
          <a:prstGeom prst="rect">
            <a:avLst/>
          </a:prstGeom>
          <a:ln w="0">
            <a:noFill/>
          </a:ln>
        </p:spPr>
      </p:pic>
      <p:sp>
        <p:nvSpPr>
          <p:cNvPr id="473" name="Rectangle 1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BD059-35D9-4BC2-886A-96825D1A856B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19_03"/>
          <p:cNvPicPr/>
          <p:nvPr/>
        </p:nvPicPr>
        <p:blipFill>
          <a:blip r:embed="rId1"/>
          <a:srcRect l="0" t="2285" r="38750" b="11427"/>
          <a:stretch/>
        </p:blipFill>
        <p:spPr>
          <a:xfrm>
            <a:off x="2666880" y="457200"/>
            <a:ext cx="5181840" cy="5754600"/>
          </a:xfrm>
          <a:prstGeom prst="rect">
            <a:avLst/>
          </a:prstGeom>
          <a:ln w="0">
            <a:noFill/>
          </a:ln>
        </p:spPr>
      </p:pic>
      <p:sp>
        <p:nvSpPr>
          <p:cNvPr id="391" name="TextBox 5"/>
          <p:cNvSpPr/>
          <p:nvPr/>
        </p:nvSpPr>
        <p:spPr>
          <a:xfrm>
            <a:off x="457200" y="1523880"/>
            <a:ext cx="3733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Blood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Arial Black"/>
              </a:rPr>
              <a:t>Erythropoietin:</a:t>
            </a:r>
            <a:endParaRPr b="0" lang="en-US" sz="4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30456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lycoprote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90%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from renal cortex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0%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liv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mulate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e growth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f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arly stem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es not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ffect matur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c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n be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easur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lasm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&amp;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ri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nditions lik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lnSpc>
                <a:spcPct val="90000"/>
              </a:lnSpc>
              <a:spcBef>
                <a:spcPts val="60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em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lnSpc>
                <a:spcPct val="90000"/>
              </a:lnSpc>
              <a:spcBef>
                <a:spcPts val="60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 altitu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lnSpc>
                <a:spcPct val="90000"/>
              </a:lnSpc>
              <a:spcBef>
                <a:spcPts val="60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art fail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lnSpc>
                <a:spcPct val="90000"/>
              </a:lnSpc>
              <a:spcBef>
                <a:spcPts val="60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ung Dis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lnSpc>
                <a:spcPct val="90000"/>
              </a:lnSpc>
              <a:spcBef>
                <a:spcPts val="60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 in High erythropoietin levels and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polycythem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Rectangle 1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E8BD2-00C9-44EB-A588-C4CCF984E46C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ole of the kidneys in RBC formation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478" name="Picture 3" descr="5"/>
          <p:cNvPicPr/>
          <p:nvPr/>
        </p:nvPicPr>
        <p:blipFill>
          <a:blip r:embed="rId1"/>
          <a:stretch/>
        </p:blipFill>
        <p:spPr>
          <a:xfrm>
            <a:off x="1368360" y="1676520"/>
            <a:ext cx="6099120" cy="4725720"/>
          </a:xfrm>
          <a:prstGeom prst="rect">
            <a:avLst/>
          </a:prstGeom>
          <a:ln w="0">
            <a:noFill/>
          </a:ln>
        </p:spPr>
      </p:pic>
      <p:sp>
        <p:nvSpPr>
          <p:cNvPr id="479" name="Rectangle 1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4FBF9-FFB4-4BF5-AE96-E1E986255BFC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600" spc="-1" strike="noStrike">
              <a:solidFill>
                <a:srgbClr val="ffffff"/>
              </a:solidFill>
              <a:latin typeface="Franklin Gothic Book"/>
              <a:ea typeface="Tahoma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7" descr="blood5"/>
          <p:cNvPicPr/>
          <p:nvPr/>
        </p:nvPicPr>
        <p:blipFill>
          <a:blip r:embed="rId1"/>
          <a:stretch/>
        </p:blipFill>
        <p:spPr>
          <a:xfrm>
            <a:off x="304920" y="3733920"/>
            <a:ext cx="3681360" cy="31240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" descr="blood7"/>
          <p:cNvPicPr/>
          <p:nvPr/>
        </p:nvPicPr>
        <p:blipFill>
          <a:blip r:embed="rId2"/>
          <a:stretch/>
        </p:blipFill>
        <p:spPr>
          <a:xfrm>
            <a:off x="304920" y="380880"/>
            <a:ext cx="3673440" cy="294012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9" descr="blood1"/>
          <p:cNvPicPr/>
          <p:nvPr/>
        </p:nvPicPr>
        <p:blipFill>
          <a:blip r:embed="rId3"/>
          <a:stretch/>
        </p:blipFill>
        <p:spPr>
          <a:xfrm>
            <a:off x="4495680" y="533520"/>
            <a:ext cx="3886200" cy="259236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8"/>
          <p:cNvSpPr/>
          <p:nvPr/>
        </p:nvSpPr>
        <p:spPr>
          <a:xfrm>
            <a:off x="3995640" y="1413000"/>
            <a:ext cx="792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8" name="Picture 12" descr="http://thumbs.dreamstime.com/z/blood-extraction-25215632.jpg"/>
          <p:cNvPicPr/>
          <p:nvPr/>
        </p:nvPicPr>
        <p:blipFill>
          <a:blip r:embed="rId4"/>
          <a:stretch/>
        </p:blipFill>
        <p:spPr>
          <a:xfrm>
            <a:off x="4572000" y="3886200"/>
            <a:ext cx="37670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00"/>
                </a:solidFill>
                <a:latin typeface="Arial Black"/>
                <a:ea typeface="Tahoma"/>
              </a:rPr>
              <a:t>Objective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09120" y="114300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  <a:ea typeface="Tahoma"/>
              </a:rPr>
              <a:t>At the end of this lecture you should be able to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ahoma"/>
              </a:rPr>
              <a:t>Describe Cellular and non-cellular components of blo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ahoma"/>
              </a:rPr>
              <a:t>Recognize functions of blo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ahoma"/>
              </a:rPr>
              <a:t>Define Erythropoiesis; leucopoiesis, thrombopoies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ahoma"/>
              </a:rPr>
              <a:t>Recognize sites of RBC formation at different developmental 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D1901-46A7-433F-8AAC-E7C0FC962E25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ahoma"/>
              </a:rPr>
              <a:t>Describe different stages of RBC differe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ahoma"/>
              </a:rPr>
              <a:t>Describe features of RBC matur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ahoma"/>
              </a:rPr>
              <a:t>Describe regulation of RBC production and erythropoietin hormone secretion in response to hypox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ahoma"/>
              </a:rPr>
              <a:t>Recognize clinical conditions associated with high level of erythropoitein in the blo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6ea0b0"/>
              </a:buClr>
              <a:buSzPct val="8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9CEE1-DDBA-43D3-B7C9-CA42460A116B}" type="slidenum">
              <a:rPr b="0" lang="en-US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itle 1"/>
          <p:cNvSpPr/>
          <p:nvPr/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 Black"/>
              </a:rPr>
              <a:t>Objectives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t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4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lood Composition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406" name="Picture 7" descr="1"/>
          <p:cNvPicPr/>
          <p:nvPr/>
        </p:nvPicPr>
        <p:blipFill>
          <a:blip r:embed="rId1"/>
          <a:stretch/>
        </p:blipFill>
        <p:spPr>
          <a:xfrm>
            <a:off x="950760" y="1219320"/>
            <a:ext cx="7359840" cy="53337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7" descr="https://encrypted-tbn3.gstatic.com/images?q=tbn:ANd9GcRmTwfnb40DTPiRlyQoMtsgm7UYin2QDdHBxtAK6IlmmnruPR6T_A"/>
          <p:cNvPicPr/>
          <p:nvPr/>
        </p:nvPicPr>
        <p:blipFill>
          <a:blip r:embed="rId2"/>
          <a:stretch/>
        </p:blipFill>
        <p:spPr>
          <a:xfrm>
            <a:off x="7315200" y="685800"/>
            <a:ext cx="114300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2" descr="_x000c_19-01c_1.jpg                                                   0001C664_x000e_  Macintosh HD                 BA03BFAA:"/>
          <p:cNvPicPr/>
          <p:nvPr/>
        </p:nvPicPr>
        <p:blipFill>
          <a:blip r:embed="rId1"/>
          <a:stretch/>
        </p:blipFill>
        <p:spPr>
          <a:xfrm>
            <a:off x="1440" y="138240"/>
            <a:ext cx="9141120" cy="6581520"/>
          </a:xfrm>
          <a:prstGeom prst="rect">
            <a:avLst/>
          </a:prstGeom>
          <a:ln w="0">
            <a:noFill/>
          </a:ln>
        </p:spPr>
      </p:pic>
      <p:sp>
        <p:nvSpPr>
          <p:cNvPr id="409" name="Rounded Rectangle 2"/>
          <p:cNvSpPr/>
          <p:nvPr/>
        </p:nvSpPr>
        <p:spPr>
          <a:xfrm>
            <a:off x="685800" y="4572000"/>
            <a:ext cx="1219320" cy="380880"/>
          </a:xfrm>
          <a:prstGeom prst="roundRect">
            <a:avLst>
              <a:gd name="adj" fmla="val 16667"/>
            </a:avLst>
          </a:prstGeom>
          <a:solidFill>
            <a:srgbClr val="f9e98e"/>
          </a:solidFill>
          <a:ln w="19080">
            <a:solidFill>
              <a:srgbClr val="fcf4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Rounded Rectangle 3"/>
          <p:cNvSpPr/>
          <p:nvPr/>
        </p:nvSpPr>
        <p:spPr>
          <a:xfrm>
            <a:off x="914400" y="5943600"/>
            <a:ext cx="762120" cy="228600"/>
          </a:xfrm>
          <a:prstGeom prst="roundRect">
            <a:avLst>
              <a:gd name="adj" fmla="val 16667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lood Film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412" name="Picture 3" descr="Blood"/>
          <p:cNvPicPr/>
          <p:nvPr/>
        </p:nvPicPr>
        <p:blipFill>
          <a:blip r:embed="rId1"/>
          <a:stretch/>
        </p:blipFill>
        <p:spPr>
          <a:xfrm>
            <a:off x="380880" y="1371600"/>
            <a:ext cx="5616720" cy="48243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" descr="https://encrypted-tbn1.gstatic.com/images?q=tbn:ANd9GcSR8uW7jt0WxficbcW4Ii4DlGVy7Z7-IYbL2UQ_pQrIOAhKLZ46cg"/>
          <p:cNvPicPr/>
          <p:nvPr/>
        </p:nvPicPr>
        <p:blipFill>
          <a:blip r:embed="rId2"/>
          <a:stretch/>
        </p:blipFill>
        <p:spPr>
          <a:xfrm>
            <a:off x="6629400" y="304920"/>
            <a:ext cx="1905120" cy="14763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7" descr="https://encrypted-tbn1.gstatic.com/images?q=tbn:ANd9GcQNhva0ckzxwhGWFcvA65AdODQdqjh1LThQp-o-3Aj7rflgDemZGw"/>
          <p:cNvPicPr/>
          <p:nvPr/>
        </p:nvPicPr>
        <p:blipFill>
          <a:blip r:embed="rId3"/>
          <a:stretch/>
        </p:blipFill>
        <p:spPr>
          <a:xfrm>
            <a:off x="6629400" y="1981080"/>
            <a:ext cx="1935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8T10:42:57Z</dcterms:created>
  <dc:creator>Dr.Sitelbanat</dc:creator>
  <dc:description/>
  <dc:language>en-US</dc:language>
  <cp:lastModifiedBy>Home</cp:lastModifiedBy>
  <dcterms:modified xsi:type="dcterms:W3CDTF">2014-09-07T16:58:56Z</dcterms:modified>
  <cp:revision>46</cp:revision>
  <dc:subject/>
  <dc:title>BLOOD PHYSIOLOGY</dc:title>
</cp:coreProperties>
</file>