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24A9-88A0-4E02-8807-270E3E085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EE00-4916-41FF-838A-4E7649B4C1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140C-5F85-45E8-B384-8E0D559836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C4CD-C289-4094-9380-F3BD016C5F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1CE8-DD94-45CA-9E9A-BF9F1F42B8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F1EA-B49B-41FC-ACD1-12DE83552B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5242-6B1D-49C9-87FB-5FE3E4D1C1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95BF-0F44-4AEE-ACDF-427DBC1830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CFB8-4D17-4425-853A-CF09DEA7EB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057C-94DF-41DA-AA80-BCF91180C0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54A9-67A1-49EE-A7EE-FA2F87BD58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B53D-AE1F-4ACF-B970-853E0EFACB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9738-E268-45AA-857D-1E84BD5A93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623A-AD4A-4ED8-B48E-524C97B27D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6F6D-D7EA-4216-A9CD-1B95833679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4B99-C5E4-41C3-A78C-9B10B17533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1CF0-F71E-4339-B2B3-E760E0524F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AEE9-A40E-4875-B843-31DBC60ADB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138B-3555-4779-84C6-A9271CA384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C837-5DCB-4948-9C7E-6025FC60A98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06FF-4A24-4C9A-81CC-5B597279055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5FCA-FCD8-44CD-A401-5A1043B76B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BCA-9D1E-4CD0-A6F4-B7410029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0EF-60FA-42BD-B2BE-99B8EE58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C8E0D-5BA8-4D18-A00E-8ACCD18B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86EA3-5927-4772-8FBD-214EA2BB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81712-CF08-4B80-A5AB-68D85ADB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FE835-7E24-4681-97FA-F0777FE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373D1-EF5A-4F05-9099-73BF4A00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DBEBA-ABC7-4F2B-8B50-C2C5AE99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48B7A-1356-4385-8879-658A3FB8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9A45E-5F76-4F30-AEB6-49DC767E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FB80B-CA23-4F36-85DF-1E72E2E8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325-A14A-4790-B46E-60ECE687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4B2-DFEA-4495-BF53-1439336B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543E-039B-4EA7-ADDE-1809436F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C500-6B07-4865-A304-7CDBAF18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D342-F483-4E16-A8E3-7D8C2292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B19A-69E0-43A9-B3DD-84531A8D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5B0E-1480-4153-A92D-DBEBD64D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DF0E-0AA9-4F10-B943-566D09CB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D289-77D7-4022-8DDB-D7FF70D3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CA3-BA46-46ED-8E5B-EE41AC6F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ED4C-3304-4098-9BC1-BEBA89DA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7D26-BF6E-4ABE-BBA0-B957F513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FDC8-A943-4391-AEEA-AFE2B1CC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3743-F96F-417B-9816-E9A7EE77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B836-B329-415E-98BB-B4317BEB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19FF-84A1-4D3F-9DAB-C84A92B4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1E53-3A2B-44F4-AD15-6322AB2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194C-26CB-443E-B127-720ECD2A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C67A-9BAE-4188-BB5A-65F999B0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5156-7CB2-42B5-8FF3-AC8E7616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3B2-8208-41FC-9F63-C9D0A864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D19B-C1BE-4B7C-AC87-AFE6724A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2532-72B8-48F8-97F2-25A7903E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77B1-6016-4981-8D47-CE839C3E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80C1-22C7-48CF-AE18-14C6C31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EFCE-DFB2-4483-B8C5-A4F0285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FC3B-29E8-441E-A7F7-FA9DC1F0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61A0-45DA-4DA4-878D-746708A3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3029A-B46E-4BAE-8287-99CD5491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B49E6-E85D-4CA6-86C0-E7D3E1C0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E2B5-382E-4038-B0B8-3C16EA66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472-6F30-4457-97C1-804EB11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32996-2CCD-4C6C-9CCD-AF2E706D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76CAD-D440-4C1B-ADEE-1A8F3118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2F08-19A0-455B-8C88-F76E2966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9255F-1867-4607-A5F2-33C4A87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7206-5BB5-482E-9D1A-2E508F27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D114-6E29-41F4-977B-79CBFE3C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FC132-9C6E-4976-9845-BC183F8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6D52-15A1-424B-9CEC-2D39207F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2EB26-EDC2-4F51-ADB8-EF1218E0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942BB-4830-48CB-AA84-2B3D78C9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8A2-4362-4FD3-AFE1-00ADF17C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5BA69-88CF-4DBA-8C5B-8CD25630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488F-D302-4B00-B148-18A893FA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4E504-8449-46E2-8DF9-1DD4863C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FF0CE-1249-4199-8809-994FF55A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16942-D4A6-46B8-AFC1-08754AF0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7DB1F-8725-45FF-A03E-2C990DD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BF39-B911-4A1E-AE53-4CFDD3C2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95E9-25D1-4716-BECA-4295B5BB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E1C5E-2CA1-44B7-A71D-1076F896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A5B7-6E92-4099-ABF7-646BAC56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2C4-CD20-42EB-BAEC-7572E001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8051-481E-4EAD-840D-590BC6A8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5F639-0C31-482D-87C5-7125F0A1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E1348-BF46-4822-952D-635519B6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2F944-65F4-455F-B42D-A3027655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4312A-8DAF-43C2-A4AE-B261C89E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A3B5B-63CF-4EB2-8D5B-4D0F3CED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F9F6-F18F-4B73-8EA2-142A3D09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046FB-5A2B-4848-B921-1886D11D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B9EA0-AFC8-468E-B07B-18A76406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6F30A-AA07-4032-B266-7AD5C456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B84-009E-4709-91B3-374C286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D501-BBA3-4F62-8844-92434C17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DCB77-1D6E-4160-B191-9931C091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F307-78F9-4AA6-BF54-E2BFA912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DA7E-C7F4-44BC-A3E9-D9172CA7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277CB-29BB-41F4-9167-8787DC26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93C26-E0DA-49A0-8571-615BE328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E6B13-017E-45C2-A550-922350DD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D3051-51DD-48A5-B34D-20253BF7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BCC06-BC4D-4603-B37E-AB4C976E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17461-3D84-426C-8F5F-A9AC88A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C64-A99E-4C62-9BA9-2C124CCD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EECE5-2A77-4953-9E0A-FF4E0AE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98697-5EA0-4A92-B058-E50B7FB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1F5E1-9BE8-48F0-9F64-0685B45A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EA589-2902-404D-8F7B-C120E2D7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2992-2EFD-4947-8C34-C015C0A3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C8895-7E44-49BE-97E1-D39345C8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193A6-4243-416E-B25C-A3D1C2B6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87031-C834-4C4A-A0DA-7F1CBE9C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7A470-6800-4F79-AB6E-B1B4B9FB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8E5AD-2887-47E9-92D4-F4CE5173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634-2FCA-4B54-AD31-D200259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A5D1E-93E8-4AA7-AF6C-21A7A5B0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F9825-E68C-4B81-8610-A9844A7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3C49-993F-454A-A9D8-A578A8FF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C3726-8242-417D-91F1-9758AF8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D1A7C-A9D7-42CA-9AAF-A8DFBE12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2BD02-CAFD-45FB-ACB3-69D09B28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8E402-78D6-4D1A-BD35-EE48B219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A52CA-B9A5-451A-B7A0-F17E0D97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43327-196C-4476-928C-E6256BB7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CB221-8FC9-4950-B9BF-DEF79407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3C78-BC76-46D6-9221-0688BF2F35F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0C7-8625-4E7A-BA81-19A8194E025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EF4C-45F3-4068-A401-E3A055022F5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7D0A-5FB1-4222-8492-2A622DEFCC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4E8A-B100-4FDD-9A61-8AD365DF6AC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1550-2C3A-4CC3-B974-9F7415CFC3C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44DC-94B2-4699-B04C-B3DA99682A54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DB95-9E5A-4771-BC5E-7A3A3375E0DA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Dr Sitelban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1D2E-2DB1-435C-B0AD-CF0F79BA723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1AFE-56F1-442D-81AE-410873E68ABC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Dr Sitelban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0DBF-E38B-4DE2-B132-9B01558BC09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536400" y="628560"/>
            <a:ext cx="8114040" cy="1638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marL="812880" indent="-8128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Dr Nervana Bayou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TEXTBOOK OF MEDICAL  PHYS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GUYTON &amp; HALL 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D4D3-709B-48DB-899F-A7AEFC91DFC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COMPOSITION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05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013040" indent="-57888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Cellular compon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3040" indent="-57888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Blood Cells (Erythr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te Blood Cells (Leuc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8d8d8"/>
                </a:solidFill>
                <a:latin typeface="Arial"/>
              </a:rPr>
              <a:t>Platelets (Thromb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3040" indent="-57888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Plasm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3040" indent="-57888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8% water + ions + plasma proteins e.g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Albumin, globulin, Fibrinoge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me ionic composition as interstitial  flui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5302-F9CA-40C0-975F-EEFF623D91E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28954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FUNCTIONS OF BLOOD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8436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981080" indent="-609480">
              <a:spcBef>
                <a:spcPts val="700"/>
              </a:spcBef>
              <a:buClr>
                <a:srgbClr val="8d89a4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2, CO2, nutrient, hormones, wast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omoeosta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tion of body temperature, ECF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tecting against infe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 Blood Cells,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Blood clotting prevent blood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B070-C524-405B-8E00-C1169B03191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lood Volum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 lit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dul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5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acked cells volume (PCV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5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lasma 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1031" descr="1"/>
          <p:cNvPicPr/>
          <p:nvPr/>
        </p:nvPicPr>
        <p:blipFill>
          <a:blip r:embed="rId1"/>
          <a:stretch/>
        </p:blipFill>
        <p:spPr>
          <a:xfrm>
            <a:off x="5041800" y="2057400"/>
            <a:ext cx="4033800" cy="350532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0209-E2E9-4E8B-9DA8-97E311F79C5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Blood Cells Forma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560" y="15235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rythropoiesis: Formation of RBC (erythrocyt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ucopoiesis: Formation of WBC (leucocytes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8d8d8"/>
                </a:solidFill>
                <a:latin typeface="Arial"/>
              </a:rPr>
              <a:t>Thrombopoiesis: Formation of platelets (thrombocyt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71EB-053C-4D7C-8577-62CB13146EE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Red Blood Cells </a:t>
            </a:r>
            <a:br>
              <a:rPr sz="4100"/>
            </a:b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(RBC)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4876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mic Sans MS"/>
              </a:rPr>
              <a:t>Func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uff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D151-B075-4841-A8B3-FB5ED66FF13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8" descr="http://www.healtone.com/product_images/uploaded_images/Blood-.jpg"/>
          <p:cNvPicPr/>
          <p:nvPr/>
        </p:nvPicPr>
        <p:blipFill>
          <a:blip r:embed="rId1"/>
          <a:stretch/>
        </p:blipFill>
        <p:spPr>
          <a:xfrm>
            <a:off x="457200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 Black"/>
              </a:rPr>
              <a:t>Red Blood Cel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9400" indent="-74304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hape &amp; si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79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Biconcave Di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nucle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meter 7-8 µmx2.5µmx1 µ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volume 90-95 µ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= 4.7 - 5 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 = 14-16 g/dl in the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E7A1-FB21-4056-8DA6-A93AD8531C9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7"/>
          <p:cNvGrpSpPr/>
          <p:nvPr/>
        </p:nvGrpSpPr>
        <p:grpSpPr>
          <a:xfrm>
            <a:off x="5791320" y="1828800"/>
            <a:ext cx="2341080" cy="3671280"/>
            <a:chOff x="5791320" y="1828800"/>
            <a:chExt cx="2341080" cy="3671280"/>
          </a:xfrm>
        </p:grpSpPr>
        <p:pic>
          <p:nvPicPr>
            <p:cNvPr id="437" name="Picture 8" descr="177524"/>
            <p:cNvPicPr/>
            <p:nvPr/>
          </p:nvPicPr>
          <p:blipFill>
            <a:blip r:embed="rId1"/>
            <a:srcRect l="0" t="11018" r="83003" b="18460"/>
            <a:stretch/>
          </p:blipFill>
          <p:spPr>
            <a:xfrm>
              <a:off x="5791320" y="1940040"/>
              <a:ext cx="2341080" cy="35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9"/>
            <p:cNvSpPr/>
            <p:nvPr/>
          </p:nvSpPr>
          <p:spPr>
            <a:xfrm>
              <a:off x="7856640" y="1828800"/>
              <a:ext cx="275760" cy="44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Production of RB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120" y="9903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-ut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few weeks of embryo nucleated RBCs are formed in </a:t>
            </a:r>
            <a:r>
              <a:rPr b="0" i="1" lang="en-US" sz="2400" spc="-1" strike="noStrike">
                <a:solidFill>
                  <a:srgbClr val="ffc000"/>
                </a:solidFill>
                <a:latin typeface="Arial"/>
              </a:rPr>
              <a:t>yolk sa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trimester mainly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ver &amp; spleen &amp;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months RBCs are formed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e marr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fter Birth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one marrow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 flat bone continue to produce RBC into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ft of long bone stop to produce RBC at puberty while epiphysis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22D6-8740-4F55-9826-727627A40D6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http://radioguraphics.net/tt/attach/1/3002320641.jpg"/>
          <p:cNvPicPr/>
          <p:nvPr/>
        </p:nvPicPr>
        <p:blipFill>
          <a:blip r:embed="rId1"/>
          <a:stretch/>
        </p:blipFill>
        <p:spPr>
          <a:xfrm>
            <a:off x="1981080" y="304920"/>
            <a:ext cx="514368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Bone marrow"/>
          <p:cNvPicPr/>
          <p:nvPr/>
        </p:nvPicPr>
        <p:blipFill>
          <a:blip r:embed="rId1"/>
          <a:stretch/>
        </p:blipFill>
        <p:spPr>
          <a:xfrm>
            <a:off x="1981080" y="536400"/>
            <a:ext cx="4524480" cy="60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http://images.radiopaedia.org/images/2898475/2f6e0f47b8b308f0becb034aed62e8.png"/>
          <p:cNvPicPr/>
          <p:nvPr/>
        </p:nvPicPr>
        <p:blipFill>
          <a:blip r:embed="rId1"/>
          <a:srcRect l="0" t="0" r="0" b="18015"/>
          <a:stretch/>
        </p:blipFill>
        <p:spPr>
          <a:xfrm>
            <a:off x="990720" y="533520"/>
            <a:ext cx="765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https://encrypted-tbn1.gstatic.com/images?q=tbn:ANd9GcSuSQqMKliznJNhrndmV8DApnkoQaTAQicvP8hu6Dix-z_z1feROA"/>
          <p:cNvPicPr/>
          <p:nvPr/>
        </p:nvPicPr>
        <p:blipFill>
          <a:blip r:embed="rId1"/>
          <a:stretch/>
        </p:blipFill>
        <p:spPr>
          <a:xfrm>
            <a:off x="990720" y="838080"/>
            <a:ext cx="70786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Production of RBC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6" name="Picture 6" descr="1"/>
          <p:cNvPicPr/>
          <p:nvPr/>
        </p:nvPicPr>
        <p:blipFill>
          <a:blip r:embed="rId1"/>
          <a:stretch/>
        </p:blipFill>
        <p:spPr>
          <a:xfrm>
            <a:off x="395280" y="1219320"/>
            <a:ext cx="8273880" cy="49528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C55D-564E-4295-8E8B-A7926658C03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MP stem cell.png"/>
          <p:cNvPicPr/>
          <p:nvPr/>
        </p:nvPicPr>
        <p:blipFill>
          <a:blip r:embed="rId1"/>
          <a:srcRect l="0" t="0" r="0" b="3951"/>
          <a:stretch/>
        </p:blipFill>
        <p:spPr>
          <a:xfrm>
            <a:off x="390600" y="228600"/>
            <a:ext cx="8601120" cy="59817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3"/>
          <p:cNvSpPr/>
          <p:nvPr/>
        </p:nvSpPr>
        <p:spPr>
          <a:xfrm>
            <a:off x="685800" y="624852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uripotent Stem Cells in Bone Marrow and Cord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y Ambreen Shaikh and Deepa Bhartiy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http://www.ebioscience.com/media/images/pathways/hematopoiesis-from-pluripotent-stem-cell.jpg"/>
          <p:cNvPicPr/>
          <p:nvPr/>
        </p:nvPicPr>
        <p:blipFill>
          <a:blip r:embed="rId1"/>
          <a:stretch/>
        </p:blipFill>
        <p:spPr>
          <a:xfrm>
            <a:off x="2057400" y="272880"/>
            <a:ext cx="450684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Puk presentation 015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Genesis (Production) of RBC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blood cell are formed from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uripotential hematopoietic stem cell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ommitted ce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itted stem cells f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itted stem cells for W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rowth of different stems cells are controlled by different growth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7C07-3350-44CF-A36A-C594FCC8BC3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Genesis (production) of RBC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56" name="Picture 6" descr="2 001"/>
          <p:cNvPicPr/>
          <p:nvPr/>
        </p:nvPicPr>
        <p:blipFill>
          <a:blip r:embed="rId1"/>
          <a:stretch/>
        </p:blipFill>
        <p:spPr>
          <a:xfrm>
            <a:off x="609480" y="1143000"/>
            <a:ext cx="7817040" cy="530064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0FDF-F10B-43BA-BCBD-BA6ACCEE69A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Stages of differentiation of RBC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Stages of RBC develop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Committed stem ce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roer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Comic Sans MS"/>
              </a:rPr>
              <a:t>basophil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olychromatophil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orthochromatic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Reticuloc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Mature erythroc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In cases of rapi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BC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roduction 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reticlocytes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in the circul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6688080" y="1989000"/>
          <a:ext cx="18162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8080" y="1989000"/>
                    <a:ext cx="1816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E717-2CB6-4953-859C-1E1AAEE94EF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rythropoiesi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182844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5680" indent="-2732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RBC development is characterize b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ecrease in cell siz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isappearance of nucle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ppearance of hemoglobin (Hb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8775-97CF-4085-BF3B-39B589C93F8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8" descr="http://3.bp.blogspot.com/-PfuJW2agJco/TdUWYxT4weI/AAAAAAAAAFg/J_aoejLjbUk/s1600/genesis+rbc.jpg"/>
          <p:cNvPicPr/>
          <p:nvPr/>
        </p:nvPicPr>
        <p:blipFill>
          <a:blip r:embed="rId1"/>
          <a:stretch/>
        </p:blipFill>
        <p:spPr>
          <a:xfrm>
            <a:off x="6400800" y="609480"/>
            <a:ext cx="2495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Regulation of RBC production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ythropoie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stimulated b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rythropoiet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ormone produced by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idne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response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ypoxi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low oxygen in the bl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Hypoxia ( oxygen) caused b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w RBC count (Anaem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igh 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long heart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ung dise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C267-9B10-4D65-9395-13099C6FD99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Down Arrow 5"/>
          <p:cNvSpPr/>
          <p:nvPr/>
        </p:nvSpPr>
        <p:spPr>
          <a:xfrm>
            <a:off x="2590920" y="34290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issue oxygenation and RBC formatio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72" name="Picture 5" descr="4"/>
          <p:cNvPicPr/>
          <p:nvPr/>
        </p:nvPicPr>
        <p:blipFill>
          <a:blip r:embed="rId1"/>
          <a:stretch/>
        </p:blipFill>
        <p:spPr>
          <a:xfrm>
            <a:off x="1676520" y="1219320"/>
            <a:ext cx="5351400" cy="54147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ECAE-D141-4BF4-83A8-532BA08CF67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19_03"/>
          <p:cNvPicPr/>
          <p:nvPr/>
        </p:nvPicPr>
        <p:blipFill>
          <a:blip r:embed="rId1"/>
          <a:srcRect l="0" t="2285" r="38750" b="11427"/>
          <a:stretch/>
        </p:blipFill>
        <p:spPr>
          <a:xfrm>
            <a:off x="2666880" y="457200"/>
            <a:ext cx="5181840" cy="57546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457200" y="15238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loo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Erythropoietin: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ycoprot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0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renal cortex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mulat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growt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rly ste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no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ect matur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las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tions lik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a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g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in High erythropoietin levels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olycyt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7F56-D0AB-4C5C-89B4-987B71B307E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le of the kidneys in RBC formatio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78" name="Picture 3" descr="5"/>
          <p:cNvPicPr/>
          <p:nvPr/>
        </p:nvPicPr>
        <p:blipFill>
          <a:blip r:embed="rId1"/>
          <a:stretch/>
        </p:blipFill>
        <p:spPr>
          <a:xfrm>
            <a:off x="1368360" y="1676520"/>
            <a:ext cx="6099120" cy="47257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0595-E92C-41A7-8C3D-E9894EEAF85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7" descr="blood5"/>
          <p:cNvPicPr/>
          <p:nvPr/>
        </p:nvPicPr>
        <p:blipFill>
          <a:blip r:embed="rId1"/>
          <a:stretch/>
        </p:blipFill>
        <p:spPr>
          <a:xfrm>
            <a:off x="304920" y="3733920"/>
            <a:ext cx="3681360" cy="3124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blood7"/>
          <p:cNvPicPr/>
          <p:nvPr/>
        </p:nvPicPr>
        <p:blipFill>
          <a:blip r:embed="rId2"/>
          <a:stretch/>
        </p:blipFill>
        <p:spPr>
          <a:xfrm>
            <a:off x="304920" y="380880"/>
            <a:ext cx="3673440" cy="2940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blood1"/>
          <p:cNvPicPr/>
          <p:nvPr/>
        </p:nvPicPr>
        <p:blipFill>
          <a:blip r:embed="rId3"/>
          <a:stretch/>
        </p:blipFill>
        <p:spPr>
          <a:xfrm>
            <a:off x="4495680" y="533520"/>
            <a:ext cx="3886200" cy="25923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3995640" y="1413000"/>
            <a:ext cx="79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12" descr="http://thumbs.dreamstime.com/z/blood-extraction-25215632.jpg"/>
          <p:cNvPicPr/>
          <p:nvPr/>
        </p:nvPicPr>
        <p:blipFill>
          <a:blip r:embed="rId4"/>
          <a:stretch/>
        </p:blipFill>
        <p:spPr>
          <a:xfrm>
            <a:off x="4572000" y="3886200"/>
            <a:ext cx="3767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Black"/>
                <a:ea typeface="Tahoma"/>
              </a:rPr>
              <a:t>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91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Tahoma"/>
              </a:rPr>
              <a:t>At the end of this lecture you should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Describe Cellular and non-cellular components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Recognize functions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Define Erythropoiesis; leucopoiesis, thrombopoie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Recognize sites of RBC formation at different developmental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F1A8-5B4C-4168-8C8F-3E6B3CDD694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Describe different stages of RBC differe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Describe features of RBC matu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Describe regulation of RBC production and erythropoietin hormone secretion in response to hypox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Recognize clinical conditions associated with high level of erythropoitein in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5936-0A7B-4489-8A01-76D6547F2A3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itle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Objectiv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ood Composi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06" name="Picture 7" descr="1"/>
          <p:cNvPicPr/>
          <p:nvPr/>
        </p:nvPicPr>
        <p:blipFill>
          <a:blip r:embed="rId1"/>
          <a:stretch/>
        </p:blipFill>
        <p:spPr>
          <a:xfrm>
            <a:off x="950760" y="1219320"/>
            <a:ext cx="7359840" cy="5333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ttps://encrypted-tbn3.gstatic.com/images?q=tbn:ANd9GcRmTwfnb40DTPiRlyQoMtsgm7UYin2QDdHBxtAK6IlmmnruPR6T_A"/>
          <p:cNvPicPr/>
          <p:nvPr/>
        </p:nvPicPr>
        <p:blipFill>
          <a:blip r:embed="rId2"/>
          <a:stretch/>
        </p:blipFill>
        <p:spPr>
          <a:xfrm>
            <a:off x="7315200" y="685800"/>
            <a:ext cx="1143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_x000c_19-01c_1.jpg                                                   0001C664_x000e_  Macintosh HD                 BA03BFAA:"/>
          <p:cNvPicPr/>
          <p:nvPr/>
        </p:nvPicPr>
        <p:blipFill>
          <a:blip r:embed="rId1"/>
          <a:stretch/>
        </p:blipFill>
        <p:spPr>
          <a:xfrm>
            <a:off x="1440" y="138240"/>
            <a:ext cx="9141120" cy="658152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2"/>
          <p:cNvSpPr/>
          <p:nvPr/>
        </p:nvSpPr>
        <p:spPr>
          <a:xfrm>
            <a:off x="685800" y="457200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f9e98e"/>
          </a:solidFill>
          <a:ln w="19080">
            <a:solidFill>
              <a:srgbClr val="fcf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ounded Rectangle 3"/>
          <p:cNvSpPr/>
          <p:nvPr/>
        </p:nvSpPr>
        <p:spPr>
          <a:xfrm>
            <a:off x="914400" y="594360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Film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12" name="Picture 3" descr="Blood"/>
          <p:cNvPicPr/>
          <p:nvPr/>
        </p:nvPicPr>
        <p:blipFill>
          <a:blip r:embed="rId1"/>
          <a:stretch/>
        </p:blipFill>
        <p:spPr>
          <a:xfrm>
            <a:off x="380880" y="1371600"/>
            <a:ext cx="5616720" cy="482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https://encrypted-tbn1.gstatic.com/images?q=tbn:ANd9GcSR8uW7jt0WxficbcW4Ii4DlGVy7Z7-IYbL2UQ_pQrIOAhKLZ46cg"/>
          <p:cNvPicPr/>
          <p:nvPr/>
        </p:nvPicPr>
        <p:blipFill>
          <a:blip r:embed="rId2"/>
          <a:stretch/>
        </p:blipFill>
        <p:spPr>
          <a:xfrm>
            <a:off x="6629400" y="30492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s://encrypted-tbn1.gstatic.com/images?q=tbn:ANd9GcQNhva0ckzxwhGWFcvA65AdODQdqjh1LThQp-o-3Aj7rflgDemZGw"/>
          <p:cNvPicPr/>
          <p:nvPr/>
        </p:nvPicPr>
        <p:blipFill>
          <a:blip r:embed="rId3"/>
          <a:stretch/>
        </p:blipFill>
        <p:spPr>
          <a:xfrm>
            <a:off x="6629400" y="1981080"/>
            <a:ext cx="1935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0:42:57Z</dcterms:created>
  <dc:creator>Dr.Sitelbanat</dc:creator>
  <dc:description/>
  <dc:language>en-US</dc:language>
  <cp:lastModifiedBy>Home</cp:lastModifiedBy>
  <dcterms:modified xsi:type="dcterms:W3CDTF">2014-09-07T16:58:56Z</dcterms:modified>
  <cp:revision>46</cp:revision>
  <dc:subject/>
  <dc:title>BLOOD PHYSIOLOGY</dc:title>
</cp:coreProperties>
</file>