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5FDD-0311-4BCF-8740-56D84678F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6499-ABD5-46EB-9760-BEBD372650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B8DE-F79B-434D-8431-22957E0EB5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6C64-74DC-4FBE-A0E9-5BA48D17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E29-2EE1-4B8B-B904-0EE115D2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1FB3-38D7-4576-8D83-446C581D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1E33-3BDD-4740-82EA-ADD16E44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2702-A0D1-484B-AB43-EABD33DB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B3AF-46E2-413E-8397-5B3A0F0E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20F-D391-406C-A67E-8444B7AD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6C9E-53BB-41A1-A1CE-0A15BF28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B9B-4409-46F4-99EF-7CECEF53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E4F-4115-4009-9B2A-F9F53E3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1E8A-1BD0-46AC-9FF5-7CE2C899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735E-E898-444F-9461-FFB4F3EF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4F1F-861B-4D15-9A22-95CDC82BA70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09480" y="1066680"/>
            <a:ext cx="77900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بسم الله الرحمن الرحيم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10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Impact"/>
              </a:rPr>
              <a:t>Glucose Transpor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04920" y="1149480"/>
            <a:ext cx="853416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Tissue-specific expression patter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BCs and b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er, kidney &amp; panc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ur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GLUT-4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dipose tissue &amp; skeletal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mus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mall intestine &amp; tes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er (ER-membra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Functio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1, 3 &amp;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cose uptake from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lood &amp; cells (either dir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UT-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uctose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4419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28600" y="1908000"/>
            <a:ext cx="8686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Major oxidative pathway of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main reactions of glycolytic path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The rate-limiting enzymes/Reg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ATP production (aerobic/anaerobi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d2db9"/>
                </a:solidFill>
                <a:latin typeface="Times New Roman"/>
              </a:rPr>
              <a:t>Pyruvate kinase deficiency hemolytic  an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50292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Glycolysis: An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76320" y="1523880"/>
            <a:ext cx="8915400" cy="50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Glycolysis, the major pathway for glucose oxidation, occurs in the cytosol of all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is unique, in that it can function either aerobically or anaerobically, depending on the availability of oxygen and intact mitochond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t allows tissues to survive in presence or absence of oxygen, e.g., skeletal mus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spcAft>
                <a:spcPts val="1800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RBCs, which lack mitochondria, are completely reliant on glucose as their metabolic fuel, and metabolizes it by anaerobic glyco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My Documents\My Pictures\08_001.jpg"/>
          <p:cNvPicPr/>
          <p:nvPr/>
        </p:nvPicPr>
        <p:blipFill>
          <a:blip r:embed="rId1"/>
          <a:srcRect l="15833" t="3703" r="15001" b="16048"/>
          <a:stretch/>
        </p:blipFill>
        <p:spPr>
          <a:xfrm>
            <a:off x="1523880" y="1676520"/>
            <a:ext cx="63248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09680" y="228600"/>
            <a:ext cx="50292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C:\My Documents\My Pictures\08_009.jpg"/>
          <p:cNvPicPr/>
          <p:nvPr/>
        </p:nvPicPr>
        <p:blipFill>
          <a:blip r:embed="rId1"/>
          <a:srcRect l="3332" t="2970" r="2497" b="44303"/>
          <a:stretch/>
        </p:blipFill>
        <p:spPr>
          <a:xfrm>
            <a:off x="304920" y="1905120"/>
            <a:ext cx="861048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Vs Anaerobic Glycolys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C:\My Documents\My Pictures\08_015.jpg"/>
          <p:cNvPicPr/>
          <p:nvPr/>
        </p:nvPicPr>
        <p:blipFill>
          <a:blip r:embed="rId1"/>
          <a:srcRect l="10981" t="2412" r="10272" b="13255"/>
          <a:stretch/>
        </p:blipFill>
        <p:spPr>
          <a:xfrm>
            <a:off x="3048120" y="1371600"/>
            <a:ext cx="3504960" cy="5334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C:\My Documents\My Pictures\08_016.jpg"/>
          <p:cNvPicPr/>
          <p:nvPr/>
        </p:nvPicPr>
        <p:blipFill>
          <a:blip r:embed="rId1"/>
          <a:srcRect l="15476" t="2507" r="13096" b="15352"/>
          <a:stretch/>
        </p:blipFill>
        <p:spPr>
          <a:xfrm>
            <a:off x="25146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: 3-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C:\My Documents\My Pictures\08_018.jpg"/>
          <p:cNvPicPr/>
          <p:nvPr/>
        </p:nvPicPr>
        <p:blipFill>
          <a:blip r:embed="rId1"/>
          <a:srcRect l="35002" t="2040" r="35835" b="15309"/>
          <a:stretch/>
        </p:blipFill>
        <p:spPr>
          <a:xfrm>
            <a:off x="5715000" y="104760"/>
            <a:ext cx="2819520" cy="6524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114800" cy="175284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6 -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650200" y="503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639040" y="1905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653080" y="3287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664240" y="4324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664240" y="5238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685120" y="624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26" descr="C:\My Documents\My Pictures\08_012.jpg"/>
          <p:cNvPicPr/>
          <p:nvPr/>
        </p:nvPicPr>
        <p:blipFill>
          <a:blip r:embed="rId1"/>
          <a:srcRect l="10087" t="3660" r="11043" b="13417"/>
          <a:stretch/>
        </p:blipFill>
        <p:spPr>
          <a:xfrm>
            <a:off x="2895480" y="1523880"/>
            <a:ext cx="3810240" cy="5181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erobic Glycolysis-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32"/>
          <p:cNvSpPr/>
          <p:nvPr/>
        </p:nvSpPr>
        <p:spPr>
          <a:xfrm>
            <a:off x="2895840" y="3657600"/>
            <a:ext cx="17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694440" y="2971800"/>
            <a:ext cx="189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Hex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ost 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luco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Hepatoc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219320"/>
          </a:xfrm>
          <a:prstGeom prst="rect">
            <a:avLst/>
          </a:prstGeom>
          <a:solidFill>
            <a:srgbClr val="ffff00"/>
          </a:solidFill>
          <a:ln w="284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Impact"/>
              </a:rPr>
              <a:t>Major Metabolic Pathways of Gluc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125240" y="2952720"/>
            <a:ext cx="834480" cy="764280"/>
          </a:xfrm>
          <a:prstGeom prst="rect">
            <a:avLst/>
          </a:prstGeom>
          <a:solidFill>
            <a:srgbClr val="ffff00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458360" y="4230720"/>
            <a:ext cx="6267600" cy="642600"/>
          </a:xfrm>
          <a:prstGeom prst="rect">
            <a:avLst/>
          </a:prstGeom>
          <a:solidFill>
            <a:srgbClr val="ffff00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Impact"/>
              </a:rPr>
              <a:t>Amr S. Moustafa, MD, Ph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6760" y="495288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linical Chemistry Unit, Pathology D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eorgia"/>
              </a:rPr>
              <a:t>College of Medicine, K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My Documents\My Pictures\08_016.jpg"/>
          <p:cNvPicPr/>
          <p:nvPr/>
        </p:nvPicPr>
        <p:blipFill>
          <a:blip r:embed="rId1"/>
          <a:srcRect l="15476" t="2507" r="13096" b="42734"/>
          <a:stretch/>
        </p:blipFill>
        <p:spPr>
          <a:xfrm>
            <a:off x="4191120" y="2133720"/>
            <a:ext cx="4572000" cy="3504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655344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PFK-1 : Regu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3"/>
          <p:cNvSpPr/>
          <p:nvPr/>
        </p:nvSpPr>
        <p:spPr>
          <a:xfrm>
            <a:off x="-74160" y="2614680"/>
            <a:ext cx="44236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2626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Allosteric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hibited: ATP &amp; cit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Stimulated: AMP &amp; F2,6 bis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2626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99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3767040" y="341460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My Documents\My Pictures\08_016.jpg"/>
          <p:cNvPicPr/>
          <p:nvPr/>
        </p:nvPicPr>
        <p:blipFill>
          <a:blip r:embed="rId1"/>
          <a:srcRect l="15476" t="25004" r="13096" b="15476"/>
          <a:stretch/>
        </p:blipFill>
        <p:spPr>
          <a:xfrm>
            <a:off x="2057400" y="1905120"/>
            <a:ext cx="5029200" cy="4190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Aldolase and Triose Isomera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Glyceraldehyde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3-Phosphate Dehydroge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3"/>
          <p:cNvSpPr/>
          <p:nvPr/>
        </p:nvSpPr>
        <p:spPr>
          <a:xfrm>
            <a:off x="245880" y="2666880"/>
            <a:ext cx="5199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wo NADH are produc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For each NADH, 3 ATP w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be produced by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Times New Roman"/>
              </a:rPr>
              <a:t>in the mitochond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i.e., 6 ATP are produced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this reaction of aerobic glyc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C:\My Documents\My Pictures\08_018.jpg"/>
          <p:cNvPicPr/>
          <p:nvPr/>
        </p:nvPicPr>
        <p:blipFill>
          <a:blip r:embed="rId1"/>
          <a:srcRect l="35002" t="2040" r="41963" b="71298"/>
          <a:stretch/>
        </p:blipFill>
        <p:spPr>
          <a:xfrm>
            <a:off x="5411880" y="2514600"/>
            <a:ext cx="3274920" cy="3095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5375520" y="3164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64360" y="518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7042320" y="371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147080" y="414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hosphoglycer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C:\My Documents\My Pictures\08_018.jpg"/>
          <p:cNvPicPr/>
          <p:nvPr/>
        </p:nvPicPr>
        <p:blipFill>
          <a:blip r:embed="rId1"/>
          <a:srcRect l="35002" t="20018" r="46291" b="53668"/>
          <a:stretch/>
        </p:blipFill>
        <p:spPr>
          <a:xfrm>
            <a:off x="3192480" y="2305080"/>
            <a:ext cx="3276720" cy="3762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1"/>
          <p:cNvSpPr/>
          <p:nvPr/>
        </p:nvSpPr>
        <p:spPr>
          <a:xfrm>
            <a:off x="3143520" y="314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157560" y="5667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6037200" y="3595680"/>
            <a:ext cx="2590920" cy="192276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27080" y="3753000"/>
            <a:ext cx="36493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hosphoglycerate kin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reaction of 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303880" y="36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303880" y="4367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C:\My Documents\My Pictures\08_018.jpg"/>
          <p:cNvPicPr/>
          <p:nvPr/>
        </p:nvPicPr>
        <p:blipFill>
          <a:blip r:embed="rId1"/>
          <a:srcRect l="34170" t="63267" r="35835" b="15309"/>
          <a:stretch/>
        </p:blipFill>
        <p:spPr>
          <a:xfrm>
            <a:off x="2548080" y="2819520"/>
            <a:ext cx="4309920" cy="2514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920" y="533160"/>
            <a:ext cx="411480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309420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304992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380880" y="2362320"/>
            <a:ext cx="266724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ubstrat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hosphory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5"/>
          <p:cNvSpPr/>
          <p:nvPr/>
        </p:nvSpPr>
        <p:spPr>
          <a:xfrm flipH="1">
            <a:off x="2057400" y="3559320"/>
            <a:ext cx="990720" cy="609480"/>
          </a:xfrm>
          <a:custGeom>
            <a:avLst/>
            <a:gdLst>
              <a:gd name="textAreaLeft" fmla="*/ 132480 w 990720"/>
              <a:gd name="textAreaRight" fmla="*/ 858240 w 99072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319640" y="35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4449960" y="405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3"/>
          <p:cNvSpPr/>
          <p:nvPr/>
        </p:nvSpPr>
        <p:spPr>
          <a:xfrm>
            <a:off x="5026320" y="4896000"/>
            <a:ext cx="3807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Two ATP are produced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pyruvate kinase reac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</a:rPr>
              <a:t>Substrate-level phosphorylation Vs. Oxidative phosphoryl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hosphoryl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is the metabolic reaction of introducing a phosphate group into an organic molec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xidative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transfer of electrons from reduced coenzymes to molecular oxygen via the electron transport chain (ETC); it occurs in the mitochond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ubstrate-level phosphorylation: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The formation of high-energy phosphate bonds by phosphorylation of ADP to ATP (or GDP to GTP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coupled to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d2db9"/>
                </a:solidFill>
                <a:latin typeface="Times New Roman"/>
              </a:rPr>
              <a:t>cleavage of a high-energy metabolic intermediate (substrate). It may occur in cytosol or 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C:\My Documents\My Pictures\08_019.jpg"/>
          <p:cNvPicPr/>
          <p:nvPr/>
        </p:nvPicPr>
        <p:blipFill>
          <a:blip r:embed="rId1"/>
          <a:srcRect l="10845" t="2064" r="15667" b="16324"/>
          <a:stretch/>
        </p:blipFill>
        <p:spPr>
          <a:xfrm>
            <a:off x="5181480" y="1981080"/>
            <a:ext cx="3718080" cy="3962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6858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Regulation: Pyruvate Kin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327960" y="1973160"/>
            <a:ext cx="464292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llosteric Regu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Feed-forward by F1,6 bis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valent Modific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Active pyruvate kin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Dephospho-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duction/Re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duced by 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664d"/>
                </a:solidFill>
                <a:latin typeface="Times New Roman"/>
              </a:rPr>
              <a:t>Repressed by gluca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4"/>
          <p:cNvSpPr/>
          <p:nvPr/>
        </p:nvSpPr>
        <p:spPr>
          <a:xfrm>
            <a:off x="4648320" y="2492280"/>
            <a:ext cx="228600" cy="228600"/>
          </a:xfrm>
          <a:prstGeom prst="ellipse">
            <a:avLst/>
          </a:prstGeom>
          <a:noFill/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C:\My Documents\My Pictures\08_020.jpg"/>
          <p:cNvPicPr/>
          <p:nvPr/>
        </p:nvPicPr>
        <p:blipFill>
          <a:blip r:embed="rId1"/>
          <a:srcRect l="23960" t="2545" r="22918" b="14718"/>
          <a:stretch/>
        </p:blipFill>
        <p:spPr>
          <a:xfrm>
            <a:off x="2666880" y="1752480"/>
            <a:ext cx="3886200" cy="4953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93396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Pyruvate Kinase Deficiency</a:t>
            </a:r>
            <a:br>
              <a:rPr sz="4000"/>
            </a:br>
            <a:r>
              <a:rPr b="1" lang="en-US" sz="4000" spc="-1" strike="noStrike">
                <a:solidFill>
                  <a:srgbClr val="a50021"/>
                </a:solidFill>
                <a:latin typeface="Impact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Summary: Regulation of 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378720" y="1467000"/>
            <a:ext cx="8449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Enzymes (Irreversible reaction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kinase/hexo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FK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yruvate kin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ovalen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pply the above mechanisms for each enzyme where appl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Aerobic Glycolysis: ATP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-56520" y="1770120"/>
            <a:ext cx="9224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 Consum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 Produc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ubstrat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2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4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Oxidative-leve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2 X 3 =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6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Ne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8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Impact"/>
              </a:rPr>
              <a:t>Metabolic Pathwa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375840" y="1676520"/>
            <a:ext cx="8610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i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Cellular (tissue) and Subcell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ate-limiting enzyme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gulatory mechanism(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Rapid, short-te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Allosteric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Covalent mod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Slow, long-te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Induction/r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51640" y="2313000"/>
            <a:ext cx="8565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the major oxidative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employed by all t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a tightly-regulated pat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K-1 is the rate-limiting regulatory enzy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Impact"/>
              </a:rPr>
              <a:t>Take Home Mess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105840" y="2468520"/>
            <a:ext cx="860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ycolysis is mainly a catabolic pathway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production,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u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some anabolic features (amphibol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yruvate kinase deficiency in RBCs result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Metabolic Pathways of Glucose: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Impact"/>
              </a:rPr>
              <a:t>Production and Ut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3663360" y="3652920"/>
            <a:ext cx="1180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837720" y="530388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lyc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065040" y="251460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ucone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5725080" y="220968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Hexose inter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608760" y="22096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lycogen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3504600" y="46483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Glyco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3432960" y="56386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Krebs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6534720" y="47242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MP/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5801400" y="525780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Hexose inter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Straight Arrow Connector 19"/>
          <p:cNvCxnSpPr/>
          <p:nvPr/>
        </p:nvCxnSpPr>
        <p:spPr>
          <a:xfrm flipH="1">
            <a:off x="4263840" y="4192560"/>
            <a:ext cx="2160" cy="5342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6" name="Straight Arrow Connector 20"/>
          <p:cNvCxnSpPr/>
          <p:nvPr/>
        </p:nvCxnSpPr>
        <p:spPr>
          <a:xfrm flipH="1">
            <a:off x="4265280" y="2971800"/>
            <a:ext cx="2160" cy="5342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67" name="Straight Arrow Connector 21"/>
          <p:cNvCxnSpPr/>
          <p:nvPr/>
        </p:nvCxnSpPr>
        <p:spPr>
          <a:xfrm flipH="1">
            <a:off x="4265280" y="5167080"/>
            <a:ext cx="2160" cy="5338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>
            <a:off x="4495320" y="4190760"/>
            <a:ext cx="2057760" cy="6102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9" name="Straight Arrow Connector 24"/>
          <p:cNvCxnSpPr/>
          <p:nvPr/>
        </p:nvCxnSpPr>
        <p:spPr>
          <a:xfrm flipH="1">
            <a:off x="2285280" y="4190040"/>
            <a:ext cx="1600920" cy="99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0" name="Straight Arrow Connector 27"/>
          <p:cNvCxnSpPr/>
          <p:nvPr/>
        </p:nvCxnSpPr>
        <p:spPr>
          <a:xfrm>
            <a:off x="4481640" y="4190760"/>
            <a:ext cx="1296000" cy="11437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1" name="Straight Arrow Connector 30"/>
          <p:cNvCxnSpPr/>
          <p:nvPr/>
        </p:nvCxnSpPr>
        <p:spPr>
          <a:xfrm flipH="1">
            <a:off x="4571280" y="2742120"/>
            <a:ext cx="1600920" cy="762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>
            <a:off x="2133720" y="2742840"/>
            <a:ext cx="1753200" cy="76284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73" name="Straight Connector 44"/>
          <p:cNvSpPr/>
          <p:nvPr/>
        </p:nvSpPr>
        <p:spPr>
          <a:xfrm>
            <a:off x="4849920" y="3884760"/>
            <a:ext cx="3989160" cy="1440"/>
          </a:xfrm>
          <a:prstGeom prst="line">
            <a:avLst/>
          </a:prstGeom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46"/>
          <p:cNvSpPr/>
          <p:nvPr/>
        </p:nvSpPr>
        <p:spPr>
          <a:xfrm flipH="1" flipV="1">
            <a:off x="228240" y="3809880"/>
            <a:ext cx="3429000" cy="74880"/>
          </a:xfrm>
          <a:prstGeom prst="line">
            <a:avLst/>
          </a:prstGeom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7"/>
          <p:cNvSpPr/>
          <p:nvPr/>
        </p:nvSpPr>
        <p:spPr>
          <a:xfrm>
            <a:off x="7244640" y="3352680"/>
            <a:ext cx="163764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4"/>
          <p:cNvSpPr/>
          <p:nvPr/>
        </p:nvSpPr>
        <p:spPr>
          <a:xfrm>
            <a:off x="235080" y="3957480"/>
            <a:ext cx="155520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imes New Roman"/>
              </a:rPr>
              <a:t>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Metabolic Pathways of Glucose: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Catabolic and Anabol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456480" y="2743200"/>
            <a:ext cx="414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Catabol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Glycolysi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Mai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Krebs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(Mainl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Glycogeno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H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4675680" y="2743200"/>
            <a:ext cx="360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Anabolic cy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uconeo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lycoge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49568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29528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Impact"/>
              </a:rPr>
              <a:t>Glycogenesis and Glycogen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99320" y="2286000"/>
            <a:ext cx="8256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esi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Synthesis of glycogen from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Mainly liver and muscle, Cyto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geno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Degradation of glycogen into gluc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Mainly liver and muscle, Cyto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Hexose Monophosphate Pathway (HMP) or</a:t>
            </a:r>
            <a:br>
              <a:rPr sz="3600"/>
            </a:br>
            <a:r>
              <a:rPr b="1" lang="en-US" sz="3600" spc="-1" strike="noStrike">
                <a:solidFill>
                  <a:srgbClr val="c00000"/>
                </a:solidFill>
                <a:latin typeface="Impact"/>
              </a:rPr>
              <a:t>Pentose Phosphate Pathway (PP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870480" y="2743200"/>
            <a:ext cx="7515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mportant source for NADP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Reductive synthe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ource for metabolically active rib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Production of nucleotid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For nucleic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For co-enzy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54100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Impact"/>
              </a:rPr>
              <a:t>Glucose Tran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19040" y="1444680"/>
            <a:ext cx="826776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Monosaccharide Cotransporter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gainst concentration grad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nerg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arrier-medi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oupled to Na</a:t>
            </a:r>
            <a:r>
              <a:rPr b="1" lang="en-US" sz="2800" spc="-1" strike="noStrike" baseline="30000">
                <a:solidFill>
                  <a:srgbClr val="a50021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mall intestine, renal tubules &amp; choroid plex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a</a:t>
            </a:r>
            <a:r>
              <a:rPr b="1" lang="en-US" sz="32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-Independent Facilitated Diffus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ith concentration gradient </a:t>
            </a:r>
            <a:r>
              <a:rPr b="1" lang="en-US" sz="3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nergy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lucose Transporters (GLUT 1-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556236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Impact"/>
              </a:rPr>
              <a:t>Glucose Transport: Facilitated Diff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26" descr="C:\My Documents\My Pictures\08_010.jpg"/>
          <p:cNvPicPr/>
          <p:nvPr/>
        </p:nvPicPr>
        <p:blipFill>
          <a:blip r:embed="rId1"/>
          <a:srcRect l="5642" t="2702" r="5241" b="14866"/>
          <a:stretch/>
        </p:blipFill>
        <p:spPr>
          <a:xfrm>
            <a:off x="1600200" y="1905120"/>
            <a:ext cx="6084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halid</dc:creator>
  <dc:description/>
  <dc:language>en-US</dc:language>
  <cp:lastModifiedBy>k-aburas@hotmail.com</cp:lastModifiedBy>
  <dcterms:modified xsi:type="dcterms:W3CDTF">2015-10-13T13:08:42Z</dcterms:modified>
  <cp:revision>66</cp:revision>
  <dc:subject/>
  <dc:title>PowerPoint Presentation</dc:title>
</cp:coreProperties>
</file>