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46FC-A173-4CFD-893D-E57326032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AC31-D58D-4815-931A-1F2692757B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DA63-8160-4FCD-9903-E1ECB1AE07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E70-D574-4C6C-A776-93A5F40B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498-5AA2-45C8-A674-BCF80B5A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938-D130-4D4E-A306-540EA0C9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6D9-7B13-4228-8231-B1CF2BA8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73C-84B3-486E-8F46-C2B2D865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245-5A00-4C75-8ADF-286D6881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560-A314-4CC5-9FA3-318198D0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091-4546-415A-9051-C86C09C3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B2F-5E6A-4C7E-AE11-B0009A8E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B31-6F6C-4C34-8BAB-D8216257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19C-9F40-4C2D-9218-00369CF8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441-ABF4-4B8D-B18C-DE8438A6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8299-1A4E-4CD3-877B-EBDEB730F48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Impact"/>
              </a:rPr>
              <a:t>Glucose Transpor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04920" y="1149480"/>
            <a:ext cx="853416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Tissue-specific expression pattern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BCs and b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er, kidney &amp; panc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GLUT-4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dipose tissue &amp; skelet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ll intestine &amp;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er (ER-membra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Functio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1, 3 &amp;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cose uptake from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 &amp; cells (either dir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uctose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419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28600" y="190800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Major oxidative pathway of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main reactions of glycolytic path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rate-limiting enzymes/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ATP production (aerobic/anaerob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Pyruvate kinase deficiency hemolytic 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50292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A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76320" y="1523880"/>
            <a:ext cx="89154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Glycolysis, the major pathway for glucose oxidation, occurs in the cytosol of all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is unique, in that it can function either aerobically or anaerobically, depending on the availability of oxygen and intact mitochond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allows tissues to survive in presence or absence of oxygen, e.g., skeletal mus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RBCs, which lack mitochondria, are completely reliant on glucose as their metabolic fuel, and metabolizes it by anaerobic glyco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My Documents\My Pictures\08_001.jpg"/>
          <p:cNvPicPr/>
          <p:nvPr/>
        </p:nvPicPr>
        <p:blipFill>
          <a:blip r:embed="rId1"/>
          <a:srcRect l="15833" t="3703" r="15001" b="16048"/>
          <a:stretch/>
        </p:blipFill>
        <p:spPr>
          <a:xfrm>
            <a:off x="1523880" y="1676520"/>
            <a:ext cx="632484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5029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C:\My Documents\My Pictures\08_015.jpg"/>
          <p:cNvPicPr/>
          <p:nvPr/>
        </p:nvPicPr>
        <p:blipFill>
          <a:blip r:embed="rId1"/>
          <a:srcRect l="10981" t="2412" r="10272" b="13255"/>
          <a:stretch/>
        </p:blipFill>
        <p:spPr>
          <a:xfrm>
            <a:off x="3048120" y="1371600"/>
            <a:ext cx="3504960" cy="5334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C:\My Documents\My Pictures\08_016.jpg"/>
          <p:cNvPicPr/>
          <p:nvPr/>
        </p:nvPicPr>
        <p:blipFill>
          <a:blip r:embed="rId1"/>
          <a:srcRect l="15476" t="2507" r="13096" b="15352"/>
          <a:stretch/>
        </p:blipFill>
        <p:spPr>
          <a:xfrm>
            <a:off x="25146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: 3-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114800" cy="17528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6 -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2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694440" y="2971800"/>
            <a:ext cx="189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st t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Hepat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Major Metabolic Pathways of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125240" y="2952720"/>
            <a:ext cx="834480" cy="76428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58360" y="4230720"/>
            <a:ext cx="6267600" cy="64260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Impact"/>
              </a:rPr>
              <a:t>Amr S. Moustafa, MD, Ph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6760" y="49528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linical Chemistry Unit, Pathology D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ollege of Medicine, K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My Documents\My Pictures\08_016.jpg"/>
          <p:cNvPicPr/>
          <p:nvPr/>
        </p:nvPicPr>
        <p:blipFill>
          <a:blip r:embed="rId1"/>
          <a:srcRect l="15476" t="2507" r="13096" b="42734"/>
          <a:stretch/>
        </p:blipFill>
        <p:spPr>
          <a:xfrm>
            <a:off x="4191120" y="213372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PFK-1 : Reg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-74160" y="2614680"/>
            <a:ext cx="4423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262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Allosteric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hibited: ATP &amp; ci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Stimulated: AMP &amp; F2,6 bi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2626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3767040" y="341460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My Documents\My Pictures\08_016.jpg"/>
          <p:cNvPicPr/>
          <p:nvPr/>
        </p:nvPicPr>
        <p:blipFill>
          <a:blip r:embed="rId1"/>
          <a:srcRect l="15476" t="25004" r="13096" b="15476"/>
          <a:stretch/>
        </p:blipFill>
        <p:spPr>
          <a:xfrm>
            <a:off x="2057400" y="1905120"/>
            <a:ext cx="5029200" cy="4190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ldolase and Triose Isomer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Glyceraldehyde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3-Phosphate Dehydroge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245880" y="2666880"/>
            <a:ext cx="519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wo NADH are produc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For each NADH, 3 ATP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be produced by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.e., 6 ATP are produc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his reaction of aerobic glyc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C:\My Documents\My Pictures\08_018.jpg"/>
          <p:cNvPicPr/>
          <p:nvPr/>
        </p:nvPicPr>
        <p:blipFill>
          <a:blip r:embed="rId1"/>
          <a:srcRect l="35002" t="2040" r="41963" b="71298"/>
          <a:stretch/>
        </p:blipFill>
        <p:spPr>
          <a:xfrm>
            <a:off x="5411880" y="2514600"/>
            <a:ext cx="3274920" cy="309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5375520" y="316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643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42320" y="37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14708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hosphoglycer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C:\My Documents\My Pictures\08_018.jpg"/>
          <p:cNvPicPr/>
          <p:nvPr/>
        </p:nvPicPr>
        <p:blipFill>
          <a:blip r:embed="rId1"/>
          <a:srcRect l="35002" t="20018" r="46291" b="53668"/>
          <a:stretch/>
        </p:blipFill>
        <p:spPr>
          <a:xfrm>
            <a:off x="3192480" y="2305080"/>
            <a:ext cx="3276720" cy="3762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3143520" y="314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15756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037200" y="3595680"/>
            <a:ext cx="259092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127080" y="3753000"/>
            <a:ext cx="36493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hosphoglycerate 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reaction of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303880" y="36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03880" y="436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My Documents\My Pictures\08_018.jpg"/>
          <p:cNvPicPr/>
          <p:nvPr/>
        </p:nvPicPr>
        <p:blipFill>
          <a:blip r:embed="rId1"/>
          <a:srcRect l="34170" t="63267" r="35835" b="15309"/>
          <a:stretch/>
        </p:blipFill>
        <p:spPr>
          <a:xfrm>
            <a:off x="2548080" y="2819520"/>
            <a:ext cx="4309920" cy="2514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41148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094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30499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880" y="2362320"/>
            <a:ext cx="266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 flipH="1">
            <a:off x="2057400" y="3559320"/>
            <a:ext cx="990720" cy="609480"/>
          </a:xfrm>
          <a:custGeom>
            <a:avLst/>
            <a:gdLst>
              <a:gd name="textAreaLeft" fmla="*/ 132480 w 990720"/>
              <a:gd name="textAreaRight" fmla="*/ 858240 w 9907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319640" y="35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449960" y="405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5026320" y="4896000"/>
            <a:ext cx="3807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yruvate kinase rea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bstrate-level phosphorylation Vs. Oxidative phosphory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s the metabolic reaction of introducing a phosphate group into an organic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xidative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transfer of electrons from reduced coenzymes to molecular oxygen via the electron transport chain (ETC); it occurs in the mitochond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bstrate-level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(or GDP to GTP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cleavage of a high-energy metabolic intermediate (substrate). It may occur in cytosol or 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My Documents\My Pictures\08_019.jpg"/>
          <p:cNvPicPr/>
          <p:nvPr/>
        </p:nvPicPr>
        <p:blipFill>
          <a:blip r:embed="rId1"/>
          <a:srcRect l="10845" t="2064" r="15667" b="16324"/>
          <a:stretch/>
        </p:blipFill>
        <p:spPr>
          <a:xfrm>
            <a:off x="5181480" y="1981080"/>
            <a:ext cx="371808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8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Regulation: 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327960" y="1973160"/>
            <a:ext cx="46429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losteric Regu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eed-forward by F1,6 bi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valent Mod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ctive pyruvate 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ephospho-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duction/Re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4648320" y="249228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My Documents\My Pictures\08_020.jpg"/>
          <p:cNvPicPr/>
          <p:nvPr/>
        </p:nvPicPr>
        <p:blipFill>
          <a:blip r:embed="rId1"/>
          <a:srcRect l="23960" t="2545" r="22918" b="14718"/>
          <a:stretch/>
        </p:blipFill>
        <p:spPr>
          <a:xfrm>
            <a:off x="2666880" y="1752480"/>
            <a:ext cx="3886200" cy="49532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 Deficienc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mmary: Regulation of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78720" y="1467000"/>
            <a:ext cx="844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Enzymes (Irreversible reac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kinase/hexo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F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yruvate 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ovalen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Apply the above mechanisms for each enzyme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-56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Metabolic Pathw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75840" y="1676520"/>
            <a:ext cx="8610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ellular (tissue) and Subcell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te-limiting enzym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Covalent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51640" y="2313000"/>
            <a:ext cx="8565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the major oxidative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employed by al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a tightly-regulated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K-1 is the rate-limiting regulatory enz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05840" y="2468520"/>
            <a:ext cx="860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mainly a catabolic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production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u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some anabolic features (amphibol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uvate kinase deficiency in RBCs result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molytic 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Metabolic Pathways of Glucose: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Production and Ut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663360" y="3652920"/>
            <a:ext cx="1180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837720" y="53038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Glyc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065040" y="25146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ucone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725080" y="22096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xose inter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08760" y="22096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ycogen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504600" y="46483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3432960" y="56386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Kreb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6534720" y="47242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HMP/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5801400" y="525780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Hexose inter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Straight Arrow Connector 19"/>
          <p:cNvCxnSpPr/>
          <p:nvPr/>
        </p:nvCxnSpPr>
        <p:spPr>
          <a:xfrm flipH="1">
            <a:off x="4263840" y="4192560"/>
            <a:ext cx="2160" cy="534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6" name="Straight Arrow Connector 20"/>
          <p:cNvCxnSpPr/>
          <p:nvPr/>
        </p:nvCxnSpPr>
        <p:spPr>
          <a:xfrm flipH="1">
            <a:off x="4265280" y="2971800"/>
            <a:ext cx="2160" cy="5342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67" name="Straight Arrow Connector 21"/>
          <p:cNvCxnSpPr/>
          <p:nvPr/>
        </p:nvCxnSpPr>
        <p:spPr>
          <a:xfrm flipH="1">
            <a:off x="4265280" y="5167080"/>
            <a:ext cx="2160" cy="5338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8" name="Straight Arrow Connector 23"/>
          <p:cNvCxnSpPr/>
          <p:nvPr/>
        </p:nvCxnSpPr>
        <p:spPr>
          <a:xfrm>
            <a:off x="4495320" y="4190760"/>
            <a:ext cx="2057760" cy="610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9" name="Straight Arrow Connector 24"/>
          <p:cNvCxnSpPr/>
          <p:nvPr/>
        </p:nvCxnSpPr>
        <p:spPr>
          <a:xfrm flipH="1">
            <a:off x="2285280" y="4190040"/>
            <a:ext cx="1600920" cy="99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0" name="Straight Arrow Connector 27"/>
          <p:cNvCxnSpPr/>
          <p:nvPr/>
        </p:nvCxnSpPr>
        <p:spPr>
          <a:xfrm>
            <a:off x="4481640" y="4190760"/>
            <a:ext cx="129600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1" name="Straight Arrow Connector 30"/>
          <p:cNvCxnSpPr/>
          <p:nvPr/>
        </p:nvCxnSpPr>
        <p:spPr>
          <a:xfrm flipH="1">
            <a:off x="4571280" y="2742120"/>
            <a:ext cx="1600920" cy="762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>
            <a:off x="2133720" y="2742840"/>
            <a:ext cx="1753200" cy="762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73" name="Straight Connector 44"/>
          <p:cNvSpPr/>
          <p:nvPr/>
        </p:nvSpPr>
        <p:spPr>
          <a:xfrm>
            <a:off x="4849920" y="3884760"/>
            <a:ext cx="3989160" cy="1440"/>
          </a:xfrm>
          <a:prstGeom prst="line">
            <a:avLst/>
          </a:prstGeom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46"/>
          <p:cNvSpPr/>
          <p:nvPr/>
        </p:nvSpPr>
        <p:spPr>
          <a:xfrm flipH="1" flipV="1">
            <a:off x="228240" y="3809880"/>
            <a:ext cx="3429000" cy="74880"/>
          </a:xfrm>
          <a:prstGeom prst="line">
            <a:avLst/>
          </a:prstGeom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47"/>
          <p:cNvSpPr/>
          <p:nvPr/>
        </p:nvSpPr>
        <p:spPr>
          <a:xfrm>
            <a:off x="7244640" y="3352680"/>
            <a:ext cx="1637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4"/>
          <p:cNvSpPr/>
          <p:nvPr/>
        </p:nvSpPr>
        <p:spPr>
          <a:xfrm>
            <a:off x="235080" y="3957480"/>
            <a:ext cx="155520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Metabolic Pathways of Glucose: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Catabolic and Anabo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456480" y="2743200"/>
            <a:ext cx="41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atabolic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Glycolys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Main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Kreb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Main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Glycogen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H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4675680" y="2743200"/>
            <a:ext cx="360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nabolic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uconeo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yco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49568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Glycogenesis and Glycogen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99320" y="2286000"/>
            <a:ext cx="825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gene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Synthesis of glycogen from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Mainly liver and muscle, Cyto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geno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gradation of glycogen into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Mainly liver and muscle, Cyto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Hexose Monophosphate Pathway (HMP) or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Pentose Phosphate Pathway (PP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70480" y="2743200"/>
            <a:ext cx="7515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mportant source for NAD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Reductive synthe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urce for metabolically active rib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Production of nucleotid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For nucleic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For co-enzy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410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Impact"/>
              </a:rPr>
              <a:t>Glucose Tran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19040" y="1444680"/>
            <a:ext cx="826776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Monosaccharide Cotransporter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gainst concentration grad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nerg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arrier-med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oupled to Na</a:t>
            </a:r>
            <a:r>
              <a:rPr b="1" lang="en-US" sz="2800" spc="-1" strike="noStrike" baseline="30000">
                <a:solidFill>
                  <a:srgbClr val="a50021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mall intestine, renal tubules &amp; choroid plex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Independent Facilitated Diffu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ith concentration gradient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nergy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se Transporters (GLUT 1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56236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Impact"/>
              </a:rPr>
              <a:t>Glucose Transport: Facilitated Dif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26" descr="C:\My Documents\My Pictures\08_010.jpg"/>
          <p:cNvPicPr/>
          <p:nvPr/>
        </p:nvPicPr>
        <p:blipFill>
          <a:blip r:embed="rId1"/>
          <a:srcRect l="5642" t="2702" r="5241" b="14866"/>
          <a:stretch/>
        </p:blipFill>
        <p:spPr>
          <a:xfrm>
            <a:off x="1600200" y="1905120"/>
            <a:ext cx="6084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halid</dc:creator>
  <dc:description/>
  <dc:language>en-US</dc:language>
  <cp:lastModifiedBy>k-aburas@hotmail.com</cp:lastModifiedBy>
  <dcterms:modified xsi:type="dcterms:W3CDTF">2015-10-13T13:08:42Z</dcterms:modified>
  <cp:revision>66</cp:revision>
  <dc:subject/>
  <dc:title>PowerPoint Presentation</dc:title>
</cp:coreProperties>
</file>