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0F6E-B11C-46C1-AD58-0850720A9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FEA1-B14A-4680-96EC-5C460817B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792-9C38-45EC-BF20-CF816613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8D4-0036-426B-85C1-B6DA85EF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1C1-5351-486A-929E-46A9B947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C78-C9EF-4AF7-8433-64759748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D09-8B30-4093-9B66-01702B05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A23-9F77-4555-9900-DBCE6037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6B0-246F-41A1-8020-BFE2D264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656-9456-4C92-92E5-221E1DAD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B1A7-6144-4CFF-8543-9EA9F3E85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675-C170-420A-AFFF-8ECF4477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755-3136-475C-A89F-9C61C953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880-2611-4359-B35E-AB43F2D1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664D-9664-4D00-B1C6-7183DDF34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4191120" cy="14479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erobic Glycolysis</a:t>
            </a:r>
            <a:br>
              <a:rPr sz="4000"/>
            </a:br>
            <a:r>
              <a:rPr b="1" lang="en-US" sz="3200" spc="-1" strike="noStrike">
                <a:solidFill>
                  <a:srgbClr val="3333cc"/>
                </a:solidFill>
                <a:latin typeface="Impact"/>
              </a:rPr>
              <a:t>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8" descr="C:\My Documents\My Pictures\08_018.jpg"/>
          <p:cNvPicPr/>
          <p:nvPr/>
        </p:nvPicPr>
        <p:blipFill>
          <a:blip r:embed="rId1"/>
          <a:srcRect l="35002" t="2040" r="35835" b="15309"/>
          <a:stretch/>
        </p:blipFill>
        <p:spPr>
          <a:xfrm>
            <a:off x="5715000" y="104760"/>
            <a:ext cx="2819520" cy="6524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5650200" y="503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63904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653080" y="328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664240" y="432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5664240" y="5238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5685120" y="62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Glyceraldehyde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3-Phosphate Dehydroge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245880" y="2666880"/>
            <a:ext cx="5199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Two NADH are produc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For each NADH, 3 ATP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be produced by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n the 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.e., 6 ATP are produc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this reaction of aerobic glyco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C:\My Documents\My Pictures\08_018.jpg"/>
          <p:cNvPicPr/>
          <p:nvPr/>
        </p:nvPicPr>
        <p:blipFill>
          <a:blip r:embed="rId1"/>
          <a:srcRect l="35002" t="2040" r="41963" b="71298"/>
          <a:stretch/>
        </p:blipFill>
        <p:spPr>
          <a:xfrm>
            <a:off x="5411880" y="2514600"/>
            <a:ext cx="3274920" cy="30956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9"/>
          <p:cNvSpPr/>
          <p:nvPr/>
        </p:nvSpPr>
        <p:spPr>
          <a:xfrm>
            <a:off x="5375520" y="316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53643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7042320" y="37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714708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hosphoglycer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8" descr="C:\My Documents\My Pictures\08_018.jpg"/>
          <p:cNvPicPr/>
          <p:nvPr/>
        </p:nvPicPr>
        <p:blipFill>
          <a:blip r:embed="rId1"/>
          <a:srcRect l="35002" t="20018" r="46291" b="53668"/>
          <a:stretch/>
        </p:blipFill>
        <p:spPr>
          <a:xfrm>
            <a:off x="3192480" y="2305080"/>
            <a:ext cx="3276720" cy="3762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1"/>
          <p:cNvSpPr/>
          <p:nvPr/>
        </p:nvSpPr>
        <p:spPr>
          <a:xfrm>
            <a:off x="3143520" y="314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157560" y="566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037200" y="3595680"/>
            <a:ext cx="2590920" cy="192276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127080" y="3753000"/>
            <a:ext cx="36493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wo ATP are produced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hosphoglycerate 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reaction of 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303880" y="36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5303880" y="436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My Documents\My Pictures\08_018.jpg"/>
          <p:cNvPicPr/>
          <p:nvPr/>
        </p:nvPicPr>
        <p:blipFill>
          <a:blip r:embed="rId1"/>
          <a:srcRect l="34170" t="63267" r="35835" b="15309"/>
          <a:stretch/>
        </p:blipFill>
        <p:spPr>
          <a:xfrm>
            <a:off x="2548080" y="2819520"/>
            <a:ext cx="4309920" cy="2514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0920" y="533160"/>
            <a:ext cx="41148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094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30499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380880" y="2362320"/>
            <a:ext cx="26672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15"/>
          <p:cNvSpPr/>
          <p:nvPr/>
        </p:nvSpPr>
        <p:spPr>
          <a:xfrm flipH="1">
            <a:off x="2057400" y="3559320"/>
            <a:ext cx="990720" cy="609480"/>
          </a:xfrm>
          <a:custGeom>
            <a:avLst/>
            <a:gdLst>
              <a:gd name="textAreaLeft" fmla="*/ 132480 w 990720"/>
              <a:gd name="textAreaRight" fmla="*/ 858240 w 99072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4319640" y="35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4449960" y="405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5026320" y="4896000"/>
            <a:ext cx="38077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wo ATP are produced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yruvate kinase reac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ubstrate-level phosphorylation Vs. Oxidative phosphory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is the metabolic reaction of introducing a phosphate group into an organic molec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xidative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transfer of electrons from reduced coenzymes to molecular oxygen via the electron transport chain (ETC); it occurs in the mitochond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ubstrate-level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(or GDP to GTP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cleavage of a high-energy metabolic intermediate (substrate). It may occur in cytosol or 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My Documents\My Pictures\08_019.jpg"/>
          <p:cNvPicPr/>
          <p:nvPr/>
        </p:nvPicPr>
        <p:blipFill>
          <a:blip r:embed="rId1"/>
          <a:srcRect l="10845" t="2064" r="15667" b="16324"/>
          <a:stretch/>
        </p:blipFill>
        <p:spPr>
          <a:xfrm>
            <a:off x="5181480" y="1981080"/>
            <a:ext cx="3718080" cy="3962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858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Regulation: Pyruv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327960" y="1973160"/>
            <a:ext cx="46429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losteric Regu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Feed-forward by F1,6 bi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valent Mod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ctive pyruvate 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ephospho-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duction/Repre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duced by 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4d"/>
                </a:solidFill>
                <a:latin typeface="Times New Roman"/>
              </a:rPr>
              <a:t>Repressed by gluc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4648320" y="2492280"/>
            <a:ext cx="228600" cy="22860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08_023.jpg"/>
          <p:cNvPicPr/>
          <p:nvPr/>
        </p:nvPicPr>
        <p:blipFill>
          <a:blip r:embed="rId1"/>
          <a:srcRect l="21253" t="2221" r="23750" b="14446"/>
          <a:stretch/>
        </p:blipFill>
        <p:spPr>
          <a:xfrm>
            <a:off x="5410080" y="609480"/>
            <a:ext cx="3353040" cy="5715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480060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Long-Term Regulation of Glyc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418320" y="3048120"/>
            <a:ext cx="352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sulin: In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Glucagon: 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Summary: Regulation of 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78720" y="1467000"/>
            <a:ext cx="844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Enzymes (Irreversible reaction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Glucokinase/hexo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FK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yruvate 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Mechanis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apid, short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llost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Covalent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low, long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Apply the above mechanisms for each enzyme where appl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My Documents\My Pictures\08_020.jpg"/>
          <p:cNvPicPr/>
          <p:nvPr/>
        </p:nvPicPr>
        <p:blipFill>
          <a:blip r:embed="rId1"/>
          <a:srcRect l="25002" t="2545" r="22918" b="15991"/>
          <a:stretch/>
        </p:blipFill>
        <p:spPr>
          <a:xfrm>
            <a:off x="4952880" y="1828800"/>
            <a:ext cx="3810240" cy="4876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93396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 Deficiency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Hemolytic A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91400" y="3078000"/>
            <a:ext cx="418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K Mutation may lea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Altered Enz. kine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Decreased Enz. stability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2d2db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Altered response to acti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erobic Glycolysi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-56520" y="1770120"/>
            <a:ext cx="922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8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Glucose Metabolism: 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201560" y="2743200"/>
            <a:ext cx="834480" cy="764280"/>
          </a:xfrm>
          <a:prstGeom prst="rect">
            <a:avLst/>
          </a:prstGeom>
          <a:solidFill>
            <a:srgbClr val="ffff00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376640" y="3886200"/>
            <a:ext cx="6709680" cy="76428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Impact"/>
              </a:rPr>
              <a:t>Amr S. Moustafa, </a:t>
            </a:r>
            <a:r>
              <a:rPr b="1" i="1" lang="en-US" sz="3200" spc="-1" strike="noStrike">
                <a:solidFill>
                  <a:srgbClr val="990000"/>
                </a:solidFill>
                <a:latin typeface="Impact"/>
              </a:rPr>
              <a:t>MD; Ph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66760" y="495144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Assistant Prof. &amp; Consultant, Medical Biochemistry De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Impact"/>
              </a:rPr>
              <a:t>College of Medicine, K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Impact"/>
              </a:rPr>
              <a:t>amrsm@ksu.edu.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C:\My Documents\My Pictures\08_011.jpg"/>
          <p:cNvPicPr/>
          <p:nvPr/>
        </p:nvPicPr>
        <p:blipFill>
          <a:blip r:embed="rId1"/>
          <a:srcRect l="14150" t="3436" r="14150" b="14132"/>
          <a:stretch/>
        </p:blipFill>
        <p:spPr>
          <a:xfrm>
            <a:off x="1752480" y="1981080"/>
            <a:ext cx="5791320" cy="4648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erobic Glycolysis: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Total Vs Net ATP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:\My Documents\My Pictures\08_009.jpg"/>
          <p:cNvPicPr/>
          <p:nvPr/>
        </p:nvPicPr>
        <p:blipFill>
          <a:blip r:embed="rId1"/>
          <a:srcRect l="3332" t="2970" r="2497" b="44303"/>
          <a:stretch/>
        </p:blipFill>
        <p:spPr>
          <a:xfrm>
            <a:off x="304920" y="1905120"/>
            <a:ext cx="8610480" cy="4419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Vs Anaerobic 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My Documents\My Pictures\08_022.jpg"/>
          <p:cNvPicPr/>
          <p:nvPr/>
        </p:nvPicPr>
        <p:blipFill>
          <a:blip r:embed="rId1"/>
          <a:srcRect l="34170" t="1906" r="35835" b="19999"/>
          <a:stretch/>
        </p:blipFill>
        <p:spPr>
          <a:xfrm>
            <a:off x="5867280" y="152280"/>
            <a:ext cx="2895840" cy="65962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18148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57400" y="2514600"/>
            <a:ext cx="54950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ADH produced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cannot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be used by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r ATP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(No O</a:t>
            </a:r>
            <a:r>
              <a:rPr b="1" lang="en-US" sz="2400" spc="-1" strike="noStrike" baseline="-25000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and/or No mitochond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ss ATP production, as compared to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erobic 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actate is an obligatory end produ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My Documents\My Pictures\08_021.jpg"/>
          <p:cNvPicPr/>
          <p:nvPr/>
        </p:nvPicPr>
        <p:blipFill>
          <a:blip r:embed="rId1"/>
          <a:srcRect l="7830" t="5171" r="6036" b="33292"/>
          <a:stretch/>
        </p:blipFill>
        <p:spPr>
          <a:xfrm>
            <a:off x="2057400" y="1828800"/>
            <a:ext cx="5029200" cy="4648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55308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Lactate Dehydrogen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naerobic Glycolysi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-29520" y="1770120"/>
            <a:ext cx="922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4"/>
          <p:cNvSpPr/>
          <p:nvPr/>
        </p:nvSpPr>
        <p:spPr>
          <a:xfrm flipH="1">
            <a:off x="782280" y="4516560"/>
            <a:ext cx="8001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41911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 in RB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8" descr="C:\My Documents\My Pictures\08_018.jpg"/>
          <p:cNvPicPr/>
          <p:nvPr/>
        </p:nvPicPr>
        <p:blipFill>
          <a:blip r:embed="rId1"/>
          <a:srcRect l="35002" t="2040" r="35835" b="15309"/>
          <a:stretch/>
        </p:blipFill>
        <p:spPr>
          <a:xfrm>
            <a:off x="5715000" y="104760"/>
            <a:ext cx="2819520" cy="6524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5650200" y="503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563904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5653080" y="328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5664240" y="432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664240" y="5238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5685120" y="62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7650360" y="63468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c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Straight Arrow Connector 15"/>
          <p:cNvCxnSpPr/>
          <p:nvPr/>
        </p:nvCxnSpPr>
        <p:spPr>
          <a:xfrm>
            <a:off x="7016760" y="6519600"/>
            <a:ext cx="534240" cy="1080"/>
          </a:xfrm>
          <a:prstGeom prst="straightConnector1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41" name="Text Box 16"/>
          <p:cNvSpPr/>
          <p:nvPr/>
        </p:nvSpPr>
        <p:spPr>
          <a:xfrm>
            <a:off x="7466040" y="624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My Documents\My Pictures\08_018.jpg"/>
          <p:cNvPicPr/>
          <p:nvPr/>
        </p:nvPicPr>
        <p:blipFill>
          <a:blip r:embed="rId1"/>
          <a:srcRect l="34589" t="19389" r="36254" b="53572"/>
          <a:stretch/>
        </p:blipFill>
        <p:spPr>
          <a:xfrm>
            <a:off x="2374920" y="2590920"/>
            <a:ext cx="483084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Anaerobic Glycolysis in RBCs: 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2,3-BPG Sh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397240" y="347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5053320" y="460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2408400" y="585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Glycolysis in RBC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5920" y="1770120"/>
            <a:ext cx="9224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 X 2 =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– 2 =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4"/>
          <p:cNvSpPr/>
          <p:nvPr/>
        </p:nvSpPr>
        <p:spPr>
          <a:xfrm flipH="1">
            <a:off x="837720" y="5029200"/>
            <a:ext cx="8001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4344120" y="3951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4344120" y="58975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68580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Glycolysis in RBCs: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4720" y="1295280"/>
            <a:ext cx="8832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d produc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Lac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No net production or consumption of NAD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ergy yie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No 2,3-BPG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,3-BPG shunt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0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KD hemolytic anemia depend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Degree of PK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ompensation by 2,3-B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51640" y="2313000"/>
            <a:ext cx="8565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the major oxidative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employed by al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a tightly-regulated pat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K-1 is the rate-limiting regulatory enzy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44197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28600" y="1908000"/>
            <a:ext cx="8686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Major oxidative pathway of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main reactions of glycolytic path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rate-limiting enzymes/Reg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ATP production (aerobic/anaerob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Pyruvate kinase deficiency hemolytic 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05840" y="1828800"/>
            <a:ext cx="860544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mainly a catabolic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production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u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some anabolic features (amphibolic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1.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Synthesis of triacylglycerol from dihydroxyacetone phosph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2.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Synthesis of 2,3 BP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yruvate kinase deficiency in RBCs result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molytic 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07360" y="2468520"/>
            <a:ext cx="861624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robic glycoly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aerobic glycoly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n RB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out 2,3 BPG synthe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2,3 BPG synthesi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50292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An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76320" y="1523880"/>
            <a:ext cx="8915400" cy="50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Glycolysis, the major pathway for glucose oxidation, occurs in the cytosol of all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t is unique, in that it can function either aerobically or anaerobically, depending on the availability of oxygen and intact mitochond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t allows tissues to survive in presence or absence of oxygen, e.g., skeletal mus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RBCs, which lack mitochondria, are completely reliant on glucose as their metabolic fuel, and metabolizes it by anaerobic glyco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My Documents\My Pictures\08_001.jpg"/>
          <p:cNvPicPr/>
          <p:nvPr/>
        </p:nvPicPr>
        <p:blipFill>
          <a:blip r:embed="rId1"/>
          <a:srcRect l="15833" t="3703" r="15001" b="16048"/>
          <a:stretch/>
        </p:blipFill>
        <p:spPr>
          <a:xfrm>
            <a:off x="1523880" y="1676520"/>
            <a:ext cx="6324840" cy="4952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50292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C:\My Documents\My Pictures\08_009.jpg"/>
          <p:cNvPicPr/>
          <p:nvPr/>
        </p:nvPicPr>
        <p:blipFill>
          <a:blip r:embed="rId1"/>
          <a:srcRect l="3332" t="2970" r="2497" b="44303"/>
          <a:stretch/>
        </p:blipFill>
        <p:spPr>
          <a:xfrm>
            <a:off x="304920" y="1905120"/>
            <a:ext cx="8610480" cy="4419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Vs Anaerobic 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026" descr="C:\My Documents\My Pictures\08_012.jpg"/>
          <p:cNvPicPr/>
          <p:nvPr/>
        </p:nvPicPr>
        <p:blipFill>
          <a:blip r:embed="rId1"/>
          <a:srcRect l="10087" t="3660" r="11043" b="13417"/>
          <a:stretch/>
        </p:blipFill>
        <p:spPr>
          <a:xfrm>
            <a:off x="2895480" y="1523880"/>
            <a:ext cx="3810240" cy="51818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32"/>
          <p:cNvSpPr/>
          <p:nvPr/>
        </p:nvSpPr>
        <p:spPr>
          <a:xfrm>
            <a:off x="2895840" y="365760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694440" y="2971800"/>
            <a:ext cx="189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st t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Hepatoc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My Documents\My Pictures\08_016.jpg"/>
          <p:cNvPicPr/>
          <p:nvPr/>
        </p:nvPicPr>
        <p:blipFill>
          <a:blip r:embed="rId1"/>
          <a:srcRect l="15476" t="2507" r="13096" b="42734"/>
          <a:stretch/>
        </p:blipFill>
        <p:spPr>
          <a:xfrm>
            <a:off x="4191120" y="2133720"/>
            <a:ext cx="4572000" cy="350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PFK-1  &amp; its Regu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-74160" y="2614680"/>
            <a:ext cx="44236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262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Allosteric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Inhibited: ATP &amp; ci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d"/>
                </a:solidFill>
                <a:latin typeface="Times New Roman"/>
              </a:rPr>
              <a:t>Stimulated: AMP &amp; F2,6 bi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262699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Induced by insu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d"/>
                </a:solidFill>
                <a:latin typeface="Times New Roman"/>
              </a:rPr>
              <a:t>Repressed by gluc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4"/>
          <p:cNvSpPr/>
          <p:nvPr/>
        </p:nvSpPr>
        <p:spPr>
          <a:xfrm>
            <a:off x="3767040" y="3414600"/>
            <a:ext cx="228600" cy="22860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My Documents\My Pictures\08_016.jpg"/>
          <p:cNvPicPr/>
          <p:nvPr/>
        </p:nvPicPr>
        <p:blipFill>
          <a:blip r:embed="rId1"/>
          <a:srcRect l="15476" t="25004" r="13096" b="15476"/>
          <a:stretch/>
        </p:blipFill>
        <p:spPr>
          <a:xfrm>
            <a:off x="2057400" y="1905120"/>
            <a:ext cx="5029200" cy="41907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ldolase and Triose Isomer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mr</cp:lastModifiedBy>
  <dcterms:modified xsi:type="dcterms:W3CDTF">2015-10-15T13:54:33Z</dcterms:modified>
  <cp:revision>57</cp:revision>
  <dc:subject/>
  <dc:title>PowerPoint Presentation</dc:title>
</cp:coreProperties>
</file>