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67F08-1782-434D-8BA6-EE5308A1EA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57D17-8F91-402A-8069-B1CB0350DF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5451-8E87-4EB5-9C53-2CC2B1E54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DF4C-85AC-4637-9D11-1A6AD0A95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E55C-D1BC-4EAA-830A-C16DDCB2D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2996-3B38-4BC2-84B1-A16F9BF8E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C58C-786D-4F74-9A0E-BE844E676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C5E6-AFCB-4F35-ABDC-0ADAA84EB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8D7A-432A-4A53-BAA3-46DF357F4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FABC-C33A-4BDE-B1B8-E9164232F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6D90-ED8C-4A02-8FC7-7E9A28050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7FD8-7BAE-4F5D-B61B-83B1C602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3899-6CE5-4969-9D26-551D03F7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9FD9-9AFB-4032-AFCD-CB2FBB55A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07B31-1F66-4710-B076-13429EEB34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609480" y="1066680"/>
            <a:ext cx="779004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بسم الله الرحمن الرحيم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4191120" cy="144792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Aerobic Glycolysis</a:t>
            </a:r>
            <a:br>
              <a:rPr sz="4000"/>
            </a:br>
            <a:r>
              <a:rPr b="1" lang="en-US" sz="3200" spc="-1" strike="noStrike">
                <a:solidFill>
                  <a:srgbClr val="3333cc"/>
                </a:solidFill>
                <a:latin typeface="Impact"/>
              </a:rPr>
              <a:t>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8" descr="C:\My Documents\My Pictures\08_018.jpg"/>
          <p:cNvPicPr/>
          <p:nvPr/>
        </p:nvPicPr>
        <p:blipFill>
          <a:blip r:embed="rId1"/>
          <a:srcRect l="35002" t="2040" r="35835" b="15309"/>
          <a:stretch/>
        </p:blipFill>
        <p:spPr>
          <a:xfrm>
            <a:off x="5715000" y="104760"/>
            <a:ext cx="2819520" cy="6524640"/>
          </a:xfrm>
          <a:prstGeom prst="rect">
            <a:avLst/>
          </a:prstGeom>
          <a:ln w="0">
            <a:noFill/>
          </a:ln>
        </p:spPr>
      </p:pic>
      <p:sp>
        <p:nvSpPr>
          <p:cNvPr id="73" name="Text Box 9"/>
          <p:cNvSpPr/>
          <p:nvPr/>
        </p:nvSpPr>
        <p:spPr>
          <a:xfrm>
            <a:off x="5650200" y="503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5639040" y="1905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5653080" y="3287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3"/>
          <p:cNvSpPr/>
          <p:nvPr/>
        </p:nvSpPr>
        <p:spPr>
          <a:xfrm>
            <a:off x="5664240" y="4324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4"/>
          <p:cNvSpPr/>
          <p:nvPr/>
        </p:nvSpPr>
        <p:spPr>
          <a:xfrm>
            <a:off x="5664240" y="5238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5685120" y="6242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925040" cy="160020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Glyceraldehyde</a:t>
            </a:r>
            <a:br>
              <a:rPr sz="4000"/>
            </a:b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3-Phosphate Dehydrogen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Box 13"/>
          <p:cNvSpPr/>
          <p:nvPr/>
        </p:nvSpPr>
        <p:spPr>
          <a:xfrm>
            <a:off x="245880" y="2666880"/>
            <a:ext cx="5199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Two NADH are produc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Times New Roman"/>
              </a:rPr>
              <a:t>For each NADH, 3 ATP w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Times New Roman"/>
              </a:rPr>
              <a:t>be produced by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Times New Roman"/>
              </a:rPr>
              <a:t>in the mitochond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i.e., 6 ATP are produced b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this reaction of aerobic glyco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8" descr="C:\My Documents\My Pictures\08_018.jpg"/>
          <p:cNvPicPr/>
          <p:nvPr/>
        </p:nvPicPr>
        <p:blipFill>
          <a:blip r:embed="rId1"/>
          <a:srcRect l="35002" t="2040" r="41963" b="71298"/>
          <a:stretch/>
        </p:blipFill>
        <p:spPr>
          <a:xfrm>
            <a:off x="5411880" y="2514600"/>
            <a:ext cx="3274920" cy="3095640"/>
          </a:xfrm>
          <a:prstGeom prst="rect">
            <a:avLst/>
          </a:prstGeom>
          <a:ln w="0">
            <a:noFill/>
          </a:ln>
        </p:spPr>
      </p:pic>
      <p:sp>
        <p:nvSpPr>
          <p:cNvPr id="82" name="Text Box 9"/>
          <p:cNvSpPr/>
          <p:nvPr/>
        </p:nvSpPr>
        <p:spPr>
          <a:xfrm>
            <a:off x="5375520" y="3164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536436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7042320" y="371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7147080" y="414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46748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Phosphoglycerate Kin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8" descr="C:\My Documents\My Pictures\08_018.jpg"/>
          <p:cNvPicPr/>
          <p:nvPr/>
        </p:nvPicPr>
        <p:blipFill>
          <a:blip r:embed="rId1"/>
          <a:srcRect l="35002" t="20018" r="46291" b="53668"/>
          <a:stretch/>
        </p:blipFill>
        <p:spPr>
          <a:xfrm>
            <a:off x="3192480" y="2305080"/>
            <a:ext cx="3276720" cy="37623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11"/>
          <p:cNvSpPr/>
          <p:nvPr/>
        </p:nvSpPr>
        <p:spPr>
          <a:xfrm>
            <a:off x="3143520" y="3146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3157560" y="5667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4"/>
          <p:cNvSpPr/>
          <p:nvPr/>
        </p:nvSpPr>
        <p:spPr>
          <a:xfrm>
            <a:off x="6037200" y="3595680"/>
            <a:ext cx="2590920" cy="1922760"/>
          </a:xfrm>
          <a:prstGeom prst="rect">
            <a:avLst/>
          </a:prstGeom>
          <a:solidFill>
            <a:srgbClr val="ffff00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ubstrate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hosphory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Box 10"/>
          <p:cNvSpPr/>
          <p:nvPr/>
        </p:nvSpPr>
        <p:spPr>
          <a:xfrm>
            <a:off x="127080" y="3753000"/>
            <a:ext cx="3649320" cy="1191240"/>
          </a:xfrm>
          <a:prstGeom prst="rect">
            <a:avLst/>
          </a:prstGeom>
          <a:solidFill>
            <a:srgbClr val="ffff00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Two ATP are produced </a:t>
            </a: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phosphoglycerate kin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reaction of glyco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1"/>
          <p:cNvSpPr/>
          <p:nvPr/>
        </p:nvSpPr>
        <p:spPr>
          <a:xfrm>
            <a:off x="5303880" y="36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5303880" y="4367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C:\My Documents\My Pictures\08_018.jpg"/>
          <p:cNvPicPr/>
          <p:nvPr/>
        </p:nvPicPr>
        <p:blipFill>
          <a:blip r:embed="rId1"/>
          <a:srcRect l="34170" t="63267" r="35835" b="15309"/>
          <a:stretch/>
        </p:blipFill>
        <p:spPr>
          <a:xfrm>
            <a:off x="2548080" y="2819520"/>
            <a:ext cx="4309920" cy="25146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90920" y="533160"/>
            <a:ext cx="4114800" cy="106668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Pyruvate Kin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309420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304992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380880" y="2362320"/>
            <a:ext cx="2667240" cy="1191240"/>
          </a:xfrm>
          <a:prstGeom prst="rect">
            <a:avLst/>
          </a:prstGeom>
          <a:solidFill>
            <a:srgbClr val="ffff00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ubstrate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hosphory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15"/>
          <p:cNvSpPr/>
          <p:nvPr/>
        </p:nvSpPr>
        <p:spPr>
          <a:xfrm flipH="1">
            <a:off x="2057400" y="3559320"/>
            <a:ext cx="990720" cy="609480"/>
          </a:xfrm>
          <a:custGeom>
            <a:avLst/>
            <a:gdLst>
              <a:gd name="textAreaLeft" fmla="*/ 132480 w 990720"/>
              <a:gd name="textAreaRight" fmla="*/ 858240 w 99072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a50021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2"/>
          <p:cNvSpPr/>
          <p:nvPr/>
        </p:nvSpPr>
        <p:spPr>
          <a:xfrm>
            <a:off x="4319640" y="3595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4449960" y="405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13"/>
          <p:cNvSpPr/>
          <p:nvPr/>
        </p:nvSpPr>
        <p:spPr>
          <a:xfrm>
            <a:off x="5026320" y="4896000"/>
            <a:ext cx="3807720" cy="1191240"/>
          </a:xfrm>
          <a:prstGeom prst="rect">
            <a:avLst/>
          </a:prstGeom>
          <a:solidFill>
            <a:srgbClr val="ffff00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Two ATP are produced </a:t>
            </a: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pyruvate kinase reaction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glyco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Substrate-level phosphorylation Vs. Oxidative phosphoryl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Phosphoryl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is the metabolic reaction of introducing a phosphate group into an organic molecu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Oxidative phosphorylation:</a:t>
            </a: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The formation of high-energy phosphate bonds by phosphorylation of ADP to ATP 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Times New Roman"/>
              </a:rPr>
              <a:t>coupled to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the transfer of electrons from reduced coenzymes to molecular oxygen via the electron transport chain (ETC); it occurs in the mitochond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Substrate-level phosphorylation:</a:t>
            </a: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The formation of high-energy phosphate bonds by phosphorylation of ADP to ATP (or GDP to GTP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Times New Roman"/>
              </a:rPr>
              <a:t>coupled to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cleavage of a high-energy metabolic intermediate (substrate). It may occur in cytosol or mitochond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C:\My Documents\My Pictures\08_019.jpg"/>
          <p:cNvPicPr/>
          <p:nvPr/>
        </p:nvPicPr>
        <p:blipFill>
          <a:blip r:embed="rId1"/>
          <a:srcRect l="10845" t="2064" r="15667" b="16324"/>
          <a:stretch/>
        </p:blipFill>
        <p:spPr>
          <a:xfrm>
            <a:off x="5181480" y="1981080"/>
            <a:ext cx="3718080" cy="39625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6858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Regulation: Pyruvate Kin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Box 3"/>
          <p:cNvSpPr/>
          <p:nvPr/>
        </p:nvSpPr>
        <p:spPr>
          <a:xfrm>
            <a:off x="327960" y="1973160"/>
            <a:ext cx="4642920" cy="39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llosteric Regul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Feed-forward by F1,6 bis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ovalent Modific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Active pyruvate kin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Dephospho-fo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nduction/Repress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Induced by insu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4d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4d"/>
                </a:solidFill>
                <a:latin typeface="Times New Roman"/>
              </a:rPr>
              <a:t>Repressed by glucag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Oval 4"/>
          <p:cNvSpPr/>
          <p:nvPr/>
        </p:nvSpPr>
        <p:spPr>
          <a:xfrm>
            <a:off x="4648320" y="2492280"/>
            <a:ext cx="228600" cy="228600"/>
          </a:xfrm>
          <a:prstGeom prst="ellipse">
            <a:avLst/>
          </a:prstGeom>
          <a:noFill/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3" descr="08_023.jpg"/>
          <p:cNvPicPr/>
          <p:nvPr/>
        </p:nvPicPr>
        <p:blipFill>
          <a:blip r:embed="rId1"/>
          <a:srcRect l="21253" t="2221" r="23750" b="14446"/>
          <a:stretch/>
        </p:blipFill>
        <p:spPr>
          <a:xfrm>
            <a:off x="5410080" y="609480"/>
            <a:ext cx="3353040" cy="5715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4800600" cy="160020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Long-Term Regulation of Glycoly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418320" y="3048120"/>
            <a:ext cx="352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Insulin: In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Glucagon: Re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Impact"/>
              </a:rPr>
              <a:t>Summary: Regulation of Glyco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378720" y="1467000"/>
            <a:ext cx="84499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gulatory Enzymes (Irreversible reaction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Glucokinase/hexokin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PFK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Pyruvate kin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gulatory Mechanism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Rapid, short-ter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Alloster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Covalent modif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Slow, long-ter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Induction/re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Apply the above mechanisms for each enzyme where applic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C:\My Documents\My Pictures\08_020.jpg"/>
          <p:cNvPicPr/>
          <p:nvPr/>
        </p:nvPicPr>
        <p:blipFill>
          <a:blip r:embed="rId1"/>
          <a:srcRect l="25002" t="2545" r="22918" b="15991"/>
          <a:stretch/>
        </p:blipFill>
        <p:spPr>
          <a:xfrm>
            <a:off x="4952880" y="1828800"/>
            <a:ext cx="3810240" cy="4876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6933960" cy="129528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Pyruvate Kinase Deficiency</a:t>
            </a:r>
            <a:br>
              <a:rPr sz="4000"/>
            </a:b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Hemolytic Anem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Box 7"/>
          <p:cNvSpPr/>
          <p:nvPr/>
        </p:nvSpPr>
        <p:spPr>
          <a:xfrm>
            <a:off x="491400" y="3078000"/>
            <a:ext cx="4181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PK Mutation may lea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2d2db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Altered Enz. kine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2d2db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Decreased Enz. stability</a:t>
            </a: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2d2db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Altered response to acti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82240" cy="99036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Impact"/>
              </a:rPr>
              <a:t>Aerobic Glycolysis: ATP P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-56520" y="1770120"/>
            <a:ext cx="9224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TP Consum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ATP Produc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Substrate-level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2 X 2 =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4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Oxidative-level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2 X 3 =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6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Total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10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Net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1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8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Impact"/>
              </a:rPr>
              <a:t>Glucose Metabolism: Glyco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4201560" y="2743200"/>
            <a:ext cx="834480" cy="764280"/>
          </a:xfrm>
          <a:prstGeom prst="rect">
            <a:avLst/>
          </a:prstGeom>
          <a:solidFill>
            <a:srgbClr val="ffff00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B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1376640" y="3886200"/>
            <a:ext cx="6709680" cy="764280"/>
          </a:xfrm>
          <a:prstGeom prst="rect">
            <a:avLst/>
          </a:prstGeom>
          <a:solidFill>
            <a:srgbClr val="ffff00"/>
          </a:solidFill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Impact"/>
              </a:rPr>
              <a:t>Amr S. Moustafa, </a:t>
            </a:r>
            <a:r>
              <a:rPr b="1" i="1" lang="en-US" sz="3200" spc="-1" strike="noStrike">
                <a:solidFill>
                  <a:srgbClr val="990000"/>
                </a:solidFill>
                <a:latin typeface="Impact"/>
              </a:rPr>
              <a:t>MD; Ph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266760" y="4951440"/>
            <a:ext cx="8610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Impact"/>
              </a:rPr>
              <a:t>Assistant Prof. &amp; Consultant, Medical Biochemistry Dep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Impact"/>
              </a:rPr>
              <a:t>College of Medicine, KS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Impact"/>
              </a:rPr>
              <a:t>amrsm@ksu.edu.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8" descr="C:\My Documents\My Pictures\08_011.jpg"/>
          <p:cNvPicPr/>
          <p:nvPr/>
        </p:nvPicPr>
        <p:blipFill>
          <a:blip r:embed="rId1"/>
          <a:srcRect l="14150" t="3436" r="14150" b="14132"/>
          <a:stretch/>
        </p:blipFill>
        <p:spPr>
          <a:xfrm>
            <a:off x="1752480" y="1981080"/>
            <a:ext cx="5791320" cy="46483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44756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Aerobic Glycolysis: </a:t>
            </a:r>
            <a:br>
              <a:rPr sz="4000"/>
            </a:b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Total Vs Net ATP Produ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8" descr="C:\My Documents\My Pictures\08_009.jpg"/>
          <p:cNvPicPr/>
          <p:nvPr/>
        </p:nvPicPr>
        <p:blipFill>
          <a:blip r:embed="rId1"/>
          <a:srcRect l="3332" t="2970" r="2497" b="44303"/>
          <a:stretch/>
        </p:blipFill>
        <p:spPr>
          <a:xfrm>
            <a:off x="304920" y="1905120"/>
            <a:ext cx="8610480" cy="44193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Impact"/>
              </a:rPr>
              <a:t>Aerobic Vs Anaerobic Glycolys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C:\My Documents\My Pictures\08_022.jpg"/>
          <p:cNvPicPr/>
          <p:nvPr/>
        </p:nvPicPr>
        <p:blipFill>
          <a:blip r:embed="rId1"/>
          <a:srcRect l="34170" t="1906" r="35835" b="19999"/>
          <a:stretch/>
        </p:blipFill>
        <p:spPr>
          <a:xfrm>
            <a:off x="5867280" y="152280"/>
            <a:ext cx="2895840" cy="65962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5181480" cy="121932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Anaerobic Glycoly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Box 7"/>
          <p:cNvSpPr/>
          <p:nvPr/>
        </p:nvSpPr>
        <p:spPr>
          <a:xfrm>
            <a:off x="257400" y="2514600"/>
            <a:ext cx="5495040" cy="34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NADH produced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canno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be used by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or ATP 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(No O</a:t>
            </a:r>
            <a:r>
              <a:rPr b="1" lang="en-US" sz="2400" spc="-1" strike="noStrike" baseline="-25000">
                <a:solidFill>
                  <a:srgbClr val="c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 and/or No mitochondr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ess ATP production, as compared to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erobic glyco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actate is an obligatory end produc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C:\My Documents\My Pictures\08_021.jpg"/>
          <p:cNvPicPr/>
          <p:nvPr/>
        </p:nvPicPr>
        <p:blipFill>
          <a:blip r:embed="rId1"/>
          <a:srcRect l="7830" t="5171" r="6036" b="33292"/>
          <a:stretch/>
        </p:blipFill>
        <p:spPr>
          <a:xfrm>
            <a:off x="2057400" y="1828800"/>
            <a:ext cx="5029200" cy="4648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6553080" cy="121896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Impact"/>
              </a:rPr>
              <a:t>Lactate Dehydrogen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Impact"/>
              </a:rPr>
              <a:t>Anaerobic Glycolysis: ATP P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-29520" y="1770120"/>
            <a:ext cx="9224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TP Consum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ATP Produc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Substrate-level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2 X 2 =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4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Oxidative-level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2 X 3 =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6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Total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4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Net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4"/>
          <p:cNvSpPr/>
          <p:nvPr/>
        </p:nvSpPr>
        <p:spPr>
          <a:xfrm flipH="1">
            <a:off x="782280" y="4516560"/>
            <a:ext cx="8001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41911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Anaerobic Glycolysis in RBC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8" descr="C:\My Documents\My Pictures\08_018.jpg"/>
          <p:cNvPicPr/>
          <p:nvPr/>
        </p:nvPicPr>
        <p:blipFill>
          <a:blip r:embed="rId1"/>
          <a:srcRect l="35002" t="2040" r="35835" b="15309"/>
          <a:stretch/>
        </p:blipFill>
        <p:spPr>
          <a:xfrm>
            <a:off x="5715000" y="104760"/>
            <a:ext cx="2819520" cy="652464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9"/>
          <p:cNvSpPr/>
          <p:nvPr/>
        </p:nvSpPr>
        <p:spPr>
          <a:xfrm>
            <a:off x="5650200" y="503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1"/>
          <p:cNvSpPr/>
          <p:nvPr/>
        </p:nvSpPr>
        <p:spPr>
          <a:xfrm>
            <a:off x="5639040" y="1905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5653080" y="3287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5664240" y="4324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664240" y="5238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6"/>
          <p:cNvSpPr/>
          <p:nvPr/>
        </p:nvSpPr>
        <p:spPr>
          <a:xfrm>
            <a:off x="5685120" y="6242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9"/>
          <p:cNvSpPr/>
          <p:nvPr/>
        </p:nvSpPr>
        <p:spPr>
          <a:xfrm>
            <a:off x="7650360" y="6346800"/>
            <a:ext cx="7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act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Straight Arrow Connector 15"/>
          <p:cNvCxnSpPr/>
          <p:nvPr/>
        </p:nvCxnSpPr>
        <p:spPr>
          <a:xfrm>
            <a:off x="7016760" y="6519600"/>
            <a:ext cx="534240" cy="1080"/>
          </a:xfrm>
          <a:prstGeom prst="straightConnector1">
            <a:avLst/>
          </a:prstGeom>
          <a:ln w="2232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41" name="Text Box 16"/>
          <p:cNvSpPr/>
          <p:nvPr/>
        </p:nvSpPr>
        <p:spPr>
          <a:xfrm>
            <a:off x="7466040" y="6248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C:\My Documents\My Pictures\08_018.jpg"/>
          <p:cNvPicPr/>
          <p:nvPr/>
        </p:nvPicPr>
        <p:blipFill>
          <a:blip r:embed="rId1"/>
          <a:srcRect l="34589" t="19389" r="36254" b="53572"/>
          <a:stretch/>
        </p:blipFill>
        <p:spPr>
          <a:xfrm>
            <a:off x="2374920" y="2590920"/>
            <a:ext cx="4830840" cy="36576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60020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Anaerobic Glycolysis in RBCs: </a:t>
            </a:r>
            <a:br>
              <a:rPr sz="4000"/>
            </a:b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2,3-BPG Shu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2397240" y="347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5053320" y="460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2"/>
          <p:cNvSpPr/>
          <p:nvPr/>
        </p:nvSpPr>
        <p:spPr>
          <a:xfrm>
            <a:off x="2408400" y="5853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059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Impact"/>
              </a:rPr>
              <a:t>Glycolysis in RBCs: ATP P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25920" y="1770120"/>
            <a:ext cx="92242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TP Consum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ATP Produc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Substrate-level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2 X 2 =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4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1 X 2 =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Oxidative-level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2 X 3 =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6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Total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4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Net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– 2 =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4"/>
          <p:cNvSpPr/>
          <p:nvPr/>
        </p:nvSpPr>
        <p:spPr>
          <a:xfrm flipH="1">
            <a:off x="837720" y="5029200"/>
            <a:ext cx="8001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4344120" y="395136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4344120" y="589752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19320" y="380880"/>
            <a:ext cx="68580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Impact"/>
              </a:rPr>
              <a:t>Glycolysis in RBCs: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144720" y="1295280"/>
            <a:ext cx="88326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nd produc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Lac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No net production or consumption of NAD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nergy yiel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No 2,3-BPG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2 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2,3-BPG shunt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0 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KD hemolytic anemia depends 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Degree of PK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Compensation by 2,3-BP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82240" cy="99036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Impact"/>
              </a:rPr>
              <a:t>Take Home Mess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251640" y="2313000"/>
            <a:ext cx="856548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lycolysis is the major oxidative pathway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luc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2401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lycolysis is employed by all t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2401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lycolysis is a tightly-regulated path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2401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FK-1 is the rate-limiting regulatory enzy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441972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Impact"/>
              </a:rPr>
              <a:t>Glycolysis: Objec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228600" y="1908000"/>
            <a:ext cx="868680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d2db9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2d2db9"/>
                </a:solidFill>
                <a:latin typeface="Times New Roman"/>
              </a:rPr>
              <a:t>Major oxidative pathway of gluco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800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d2db9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2d2db9"/>
                </a:solidFill>
                <a:latin typeface="Times New Roman"/>
              </a:rPr>
              <a:t>The main reactions of glycolytic pathw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800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d2db9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2d2db9"/>
                </a:solidFill>
                <a:latin typeface="Times New Roman"/>
              </a:rPr>
              <a:t>The rate-limiting enzymes/Regu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800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d2db9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2d2db9"/>
                </a:solidFill>
                <a:latin typeface="Times New Roman"/>
              </a:rPr>
              <a:t>ATP production (aerobic/anaerobic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800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d2db9"/>
                </a:solidFill>
                <a:latin typeface="Times New Roman"/>
              </a:rPr>
              <a:t>Pyruvate kinase deficiency hemolytic  anem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82240" cy="99036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Impact"/>
              </a:rPr>
              <a:t>Take Home Mess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105840" y="1828800"/>
            <a:ext cx="8605440" cy="45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lycolysis is mainly a catabolic pathway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P production,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But 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2401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 has some anabolic features (amphibolic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</a:rPr>
              <a:t>1.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Synthesis of triacylglycerol from dihydroxyacetone phosph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</a:rPr>
              <a:t>2.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Synthesis of 2,3 BP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yruvate kinase deficiency in RBCs results 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molytic anem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82240" cy="99036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Impact"/>
              </a:rPr>
              <a:t>Take Home Mess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207360" y="2468520"/>
            <a:ext cx="8616240" cy="36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erobic glycolysi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 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aerobic glycolysi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 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lycolysis in RBC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thout 2,3 BPG synthesi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 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th 2,3 BPG synthesi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 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50292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Impact"/>
              </a:rPr>
              <a:t>Glycolysis: An Ov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76320" y="1523880"/>
            <a:ext cx="8915400" cy="50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6720" indent="-396720">
              <a:spcAft>
                <a:spcPts val="1800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2d2db9"/>
                </a:solidFill>
                <a:latin typeface="Times New Roman"/>
              </a:rPr>
              <a:t>Glycolysis, the major pathway for glucose oxidation, occurs in the cytosol of all cel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-396720">
              <a:spcAft>
                <a:spcPts val="1800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2d2db9"/>
                </a:solidFill>
                <a:latin typeface="Times New Roman"/>
              </a:rPr>
              <a:t>It is unique, in that it can function either aerobically or anaerobically, depending on the availability of oxygen and intact mitochond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-396720">
              <a:spcAft>
                <a:spcPts val="1800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Times New Roman"/>
              </a:rPr>
              <a:t>It allows tissues to survive in presence or absence of oxygen, e.g., skeletal musc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-396720">
              <a:spcAft>
                <a:spcPts val="1800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Times New Roman"/>
              </a:rPr>
              <a:t>RBCs, which lack mitochondria, are completely reliant on glucose as their metabolic fuel, and metabolizes it by anaerobic glycolys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My Documents\My Pictures\08_001.jpg"/>
          <p:cNvPicPr/>
          <p:nvPr/>
        </p:nvPicPr>
        <p:blipFill>
          <a:blip r:embed="rId1"/>
          <a:srcRect l="15833" t="3703" r="15001" b="16048"/>
          <a:stretch/>
        </p:blipFill>
        <p:spPr>
          <a:xfrm>
            <a:off x="1523880" y="1676520"/>
            <a:ext cx="6324840" cy="49528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09680" y="228600"/>
            <a:ext cx="5029200" cy="129528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Impact"/>
              </a:rPr>
              <a:t>Glycolys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8" descr="C:\My Documents\My Pictures\08_009.jpg"/>
          <p:cNvPicPr/>
          <p:nvPr/>
        </p:nvPicPr>
        <p:blipFill>
          <a:blip r:embed="rId1"/>
          <a:srcRect l="3332" t="2970" r="2497" b="44303"/>
          <a:stretch/>
        </p:blipFill>
        <p:spPr>
          <a:xfrm>
            <a:off x="304920" y="1905120"/>
            <a:ext cx="8610480" cy="44193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Impact"/>
              </a:rPr>
              <a:t>Aerobic Vs Anaerobic Glycolys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026" descr="C:\My Documents\My Pictures\08_012.jpg"/>
          <p:cNvPicPr/>
          <p:nvPr/>
        </p:nvPicPr>
        <p:blipFill>
          <a:blip r:embed="rId1"/>
          <a:srcRect l="10087" t="3660" r="11043" b="13417"/>
          <a:stretch/>
        </p:blipFill>
        <p:spPr>
          <a:xfrm>
            <a:off x="2895480" y="1523880"/>
            <a:ext cx="3810240" cy="51818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380880"/>
            <a:ext cx="655344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Impact"/>
              </a:rPr>
              <a:t>Aerobic Glycolys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032"/>
          <p:cNvSpPr/>
          <p:nvPr/>
        </p:nvSpPr>
        <p:spPr>
          <a:xfrm>
            <a:off x="2895840" y="3657600"/>
            <a:ext cx="17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Hexokin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Glucokin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Box 8"/>
          <p:cNvSpPr/>
          <p:nvPr/>
        </p:nvSpPr>
        <p:spPr>
          <a:xfrm>
            <a:off x="694440" y="2971800"/>
            <a:ext cx="1893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Hexokin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ost t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Glucokin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Hepatoc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My Documents\My Pictures\08_016.jpg"/>
          <p:cNvPicPr/>
          <p:nvPr/>
        </p:nvPicPr>
        <p:blipFill>
          <a:blip r:embed="rId1"/>
          <a:srcRect l="15476" t="2507" r="13096" b="42734"/>
          <a:stretch/>
        </p:blipFill>
        <p:spPr>
          <a:xfrm>
            <a:off x="4191120" y="2133720"/>
            <a:ext cx="4572000" cy="350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880" y="380880"/>
            <a:ext cx="655344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Impact"/>
              </a:rPr>
              <a:t>PFK-1  &amp; its Regul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Box 3"/>
          <p:cNvSpPr/>
          <p:nvPr/>
        </p:nvSpPr>
        <p:spPr>
          <a:xfrm>
            <a:off x="-74160" y="2614680"/>
            <a:ext cx="442368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2626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99"/>
                </a:solidFill>
                <a:latin typeface="Times New Roman"/>
              </a:rPr>
              <a:t>Allosteric Reg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Inhibited: ATP &amp; cit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4d"/>
                </a:solidFill>
                <a:latin typeface="Times New Roman"/>
              </a:rPr>
              <a:t>Stimulated: AMP &amp; F2,6 bis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262699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99"/>
                </a:solidFill>
                <a:latin typeface="Times New Roman"/>
              </a:rPr>
              <a:t>Induction/Re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Induced by insul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4d"/>
                </a:solidFill>
                <a:latin typeface="Times New Roman"/>
              </a:rPr>
              <a:t>Repressed by glucag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4"/>
          <p:cNvSpPr/>
          <p:nvPr/>
        </p:nvSpPr>
        <p:spPr>
          <a:xfrm>
            <a:off x="3767040" y="3414600"/>
            <a:ext cx="228600" cy="228600"/>
          </a:xfrm>
          <a:prstGeom prst="ellipse">
            <a:avLst/>
          </a:prstGeom>
          <a:noFill/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C:\My Documents\My Pictures\08_016.jpg"/>
          <p:cNvPicPr/>
          <p:nvPr/>
        </p:nvPicPr>
        <p:blipFill>
          <a:blip r:embed="rId1"/>
          <a:srcRect l="15476" t="25004" r="13096" b="15476"/>
          <a:stretch/>
        </p:blipFill>
        <p:spPr>
          <a:xfrm>
            <a:off x="2057400" y="1905120"/>
            <a:ext cx="5029200" cy="41907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5328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Impact"/>
              </a:rPr>
              <a:t>Aldolase and Triose Isomera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r.Amr</cp:lastModifiedBy>
  <dcterms:modified xsi:type="dcterms:W3CDTF">2015-10-15T13:54:33Z</dcterms:modified>
  <cp:revision>57</cp:revision>
  <dc:subject/>
  <dc:title>PowerPoint Presentation</dc:title>
</cp:coreProperties>
</file>