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CD7C-DB84-47F5-AEE5-5983A383C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0C3F-E30B-41AC-BCB5-7D71DB85F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F241-4C5D-47B4-8C47-D372608B3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2906-0349-4568-8A44-AD3D63509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4699-4CF9-41B5-A713-910E6FBE0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068F-D6C3-4397-A674-3ADD73ABD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D7B6-13DA-410B-9DBD-E51857BE5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15FA-AAA5-4E48-8049-E4A979865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E580-187E-4861-9CAD-ADD1C5041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E004-3ABE-4C84-B056-15FA0F21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BB06-037F-4C00-B25E-24BC3D794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3FD2-4E1D-421C-99A9-B4A2D424F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40A50-B934-422D-9D73-4C477F62E793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1120680"/>
            <a:ext cx="79246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Biochemical markers for diagnosis of diseases and follow up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ndation Block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r. Usman Ghan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Factors affecting serum biomarker levels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14264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Cell damag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ate of biomarker synthesis and clearan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Enzyme inhibito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lucose deficienc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Localized hypoxia (less oxygen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schemia (obstruction of blood vessels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Necrosi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issue infarction due to ischemic</a:t>
            </a: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ecrosi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Myocardial infarc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Qualities of a good biomarker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066680" y="1676520"/>
            <a:ext cx="74678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A good biomarker should be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Able to accurately diagnose a disea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ble to accurately predict prognosis of a disea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Compliant with treatment follow up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asily obtainable from blood, urine, etc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Qualities of a good biomarker assay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066680" y="1676160"/>
            <a:ext cx="74678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good biomarker assay should be rapid to deliver results fast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Sensitiv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bility of an assay to detect small quantities of a marke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Specific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bility of an assay to detect only the marker of interes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Types of biomarker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209680" y="1676160"/>
            <a:ext cx="5943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b092"/>
                </a:solidFill>
                <a:latin typeface="Calibri"/>
              </a:rPr>
              <a:t>Enzym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Hormon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b092"/>
                </a:solidFill>
                <a:latin typeface="Calibri"/>
              </a:rPr>
              <a:t>Protein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7" name="Picture 4" descr="Garden.jpg"/>
          <p:cNvPicPr/>
          <p:nvPr/>
        </p:nvPicPr>
        <p:blipFill>
          <a:blip r:embed="rId1"/>
          <a:stretch/>
        </p:blipFill>
        <p:spPr>
          <a:xfrm>
            <a:off x="0" y="0"/>
            <a:ext cx="175248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0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Enzymes as biomarker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447920" y="1676160"/>
            <a:ext cx="6705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nzymes are clinically used for the diagnosis and prognosis of various diseas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xamples include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Amylase, Lipa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lanine aminotransferase (ALT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Aspartate aminotransferase (AST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0" name="Picture 4" descr="Garden.jpg"/>
          <p:cNvPicPr/>
          <p:nvPr/>
        </p:nvPicPr>
        <p:blipFill>
          <a:blip r:embed="rId1"/>
          <a:stretch/>
        </p:blipFill>
        <p:spPr>
          <a:xfrm>
            <a:off x="0" y="0"/>
            <a:ext cx="175248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521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Amylase and Lipas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828440" y="1447560"/>
            <a:ext cx="6629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cute pancreatitis is the inflammation of pancreas caused by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cb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b092"/>
                </a:solidFill>
                <a:latin typeface="Calibri"/>
              </a:rPr>
              <a:t>Obstruction of the pancreatic duc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cb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b092"/>
                </a:solidFill>
                <a:latin typeface="Calibri"/>
              </a:rPr>
              <a:t>Gallston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cb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b092"/>
                </a:solidFill>
                <a:latin typeface="Calibri"/>
              </a:rPr>
              <a:t>Alcohol abus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bnormal release and premature activation of pancreatic enzymes (for example amylase, lipase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b092"/>
                </a:solidFill>
                <a:latin typeface="Calibri"/>
              </a:rPr>
              <a:t>Diagnosis conducted by measuring pancreatic enzym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3" name="Picture 4" descr="Garden.jpg"/>
          <p:cNvPicPr/>
          <p:nvPr/>
        </p:nvPicPr>
        <p:blipFill>
          <a:blip r:embed="rId1"/>
          <a:stretch/>
        </p:blipFill>
        <p:spPr>
          <a:xfrm>
            <a:off x="0" y="0"/>
            <a:ext cx="175248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533520" y="8377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Amyla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Elevated serum amylase level is a diagnostic indicator of acute  pancreatiti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cb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b092"/>
                </a:solidFill>
                <a:latin typeface="Calibri"/>
              </a:rPr>
              <a:t>Amylase level greater than 10 times the upper limit indicates acute pancreatiti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test has low specificity because elevated serum amylase level is also present in other diseas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Amylase appears in the serum within 2-12 hours after abdominal pai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ree amylase (unbound form) is rapidly cleared by the kidney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533520" y="8377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00"/>
                </a:solidFill>
                <a:latin typeface="Calibri"/>
              </a:rPr>
              <a:t>Lipase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rum lipase has higher specificity than serum amyla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74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cb092"/>
                </a:solidFill>
                <a:latin typeface="Calibri"/>
              </a:rPr>
              <a:t>It appears in plasma within 4-8 hours and remains for 8-14 days</a:t>
            </a:r>
            <a:endParaRPr b="0" lang="en-US" sz="31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alibri"/>
              </a:rPr>
              <a:t>Measurement of amylase and lipase give 90-95% accuracy in the diagnosis of acute pancreatitis and abdominal pain</a:t>
            </a:r>
            <a:endParaRPr b="0" lang="en-US" sz="31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High serum ALT and AST levels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in liver diseases are due to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523520" y="1523880"/>
            <a:ext cx="6324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Alcohol abu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edic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Chronic hepatitis B and C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teatosis and steatohepatiti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Autoimmune hepatiti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ilson’s disea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fcb092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-antitrypsin deficienc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lignanc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Poisons and infectious agen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Alanine aminotransferase (ALT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Mostly present in liv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mall amounts in hear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More specific for liver disease than AS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jor diagnosis: liver disea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Lecture objectiv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6840" y="129492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pon completion of this lecture, the students should be able to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Know about biomarkers and its qualiti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Understand the importance of different biomarkers in the diagnosis, treatment and follow up of a diseas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cognize the types of biomarkers and their use in specific diseases such as heart, cancer, liver, kidney and pancreatic disease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Aspartate aminotransferase (AST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Widely distributed in heart, liver, skeletal muscle, kidne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mall amounts in erythrocyt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High serum activity of AST found in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cb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b092"/>
                </a:solidFill>
                <a:latin typeface="Calibri"/>
              </a:rPr>
              <a:t>Liver disease, heart disease, skeletal muscle disease, hemolysi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jor diagnosis: liver and muscle diseas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533520" y="808200"/>
            <a:ext cx="8229600" cy="52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b092"/>
                </a:solidFill>
                <a:latin typeface="Calibri"/>
              </a:rPr>
              <a:t>Serum enzymes used in the assessment of liver function: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Markers used in hepatocellular necrosi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Alanine aminotransferas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Aspartate aminotransferas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Proteins as biomarker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447920" y="1676160"/>
            <a:ext cx="6705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ystatin C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-type natriuretic peptide (BNP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Tumor mark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-Fetoprotei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rostate Specific Antigen (PSA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5" name="Picture 4" descr="Garden.jpg"/>
          <p:cNvPicPr/>
          <p:nvPr/>
        </p:nvPicPr>
        <p:blipFill>
          <a:blip r:embed="rId1"/>
          <a:stretch/>
        </p:blipFill>
        <p:spPr>
          <a:xfrm>
            <a:off x="0" y="0"/>
            <a:ext cx="175248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1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10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Cystatin C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80520" y="99036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 cysteine protease inhibitor mainly produced by all nucleated cells of the bod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b092"/>
                </a:solidFill>
                <a:latin typeface="Calibri"/>
              </a:rPr>
              <a:t>Useful biomarker for measuring glomerular filtration rate (GFR) in assessing kidney function and failur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Unlike creatinine, its serum conc. is independent of gender, age or muscle mas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b092"/>
                </a:solidFill>
                <a:latin typeface="Calibri"/>
              </a:rPr>
              <a:t>Abnormally high serum levels of cystatin C indicates kidney failur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nically useful marker for detecting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arly kidney disease, monitoring kidney transplantation and acute kidney injur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B-type natriuretic peptide (BNP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838080" y="9140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 peptide secreted mainly in the cardiac ventricles in response to cardiac expansion and pressure overload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cb092"/>
                </a:solidFill>
                <a:latin typeface="Calibri"/>
              </a:rPr>
              <a:t>High serum levels are observed in congestive heart failur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In some pulmonary diseases, BNP levels are high but not as high as in heart failur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cb092"/>
                </a:solidFill>
                <a:latin typeface="Calibri"/>
              </a:rPr>
              <a:t>BNP helps differentiate between pulmonary disease and heart failur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n important marker for the diagnosis and prognosis of congestive heart failur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cb092"/>
                </a:solidFill>
                <a:latin typeface="Calibri"/>
              </a:rPr>
              <a:t>Currently being investigated as a screening biomarker for heart diseas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1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10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Tumor marker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914040" y="129492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A molecule secreted by a tumor that is measured for diagnosis and management of a tumo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-fetoprotei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ostate specific antigen (PSA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8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1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-Fetoprotei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0948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In newborn babies </a:t>
            </a:r>
            <a:r>
              <a:rPr b="0" lang="en-US" sz="3200" spc="-1" strike="noStrike">
                <a:solidFill>
                  <a:srgbClr val="fcb092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-fetoprotein levels are very low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igh conc. are observed in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epatocellular carcinomas (hepatoma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esticular carcinoma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GI tract carcinoma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However, high serum levels are also found in benign (non-cancerous) conditions e.g. hepatiti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igh conc. are not always suggestive of a tumo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1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1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8" dur="1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10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Prostate Specific Antigen (PSA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0948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A serine protease enzyme also called kallikrein III, semini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oduced by prostate glan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Liquefies ejaculat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igh serum PSA levels are observed in prostate canc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Less specific in diagnosi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cb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High serum levels are also observed in benign prostatic hypertrophy (enlarged prostate gland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1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2" dur="1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1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Hormones as biomarker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09480" y="837720"/>
            <a:ext cx="77724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Anti-Mullerian hormone (AMH)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alibri"/>
              </a:rPr>
              <a:t>A polypeptide hormone involved in sexual differentiation of male embryo</a:t>
            </a: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50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cb092"/>
                </a:solidFill>
                <a:latin typeface="Calibri"/>
              </a:rPr>
              <a:t>In females it is produced by ovaries</a:t>
            </a: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alibri"/>
              </a:rPr>
              <a:t>Prevents premature depletion of ovarian follicles</a:t>
            </a: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50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cb092"/>
                </a:solidFill>
                <a:latin typeface="Calibri"/>
              </a:rPr>
              <a:t>Appears to be a best marker for estimating egg cell reserve in the ovaries</a:t>
            </a: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alibri"/>
              </a:rPr>
              <a:t>Only growing follicles produce AMH</a:t>
            </a: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50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cb092"/>
                </a:solidFill>
                <a:latin typeface="Calibri"/>
              </a:rPr>
              <a:t>Plasma AMH levels strongly correlate with number of growing follicles</a:t>
            </a: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alibri"/>
              </a:rPr>
              <a:t>Helps assess female fertility</a:t>
            </a: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6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3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7" dur="1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nodeType="clickEffect" fill="hold">
                      <p:stCondLst>
                        <p:cond delay="indefinite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1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8" dur="10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80520" y="1066320"/>
            <a:ext cx="85345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is a biomarker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Diagnosis and prognosi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lasma and tissue-specific biomark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Factors affecting serum biomarker level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Qualities of a good biomark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Types: Enzymes, proteins, hormon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nzymes: Amylase, lipase, trypsinogen, ALT, AS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Proteins: Cystatin C, BNP, </a:t>
            </a:r>
            <a:r>
              <a:rPr b="0" lang="en-US" sz="3200" spc="-1" strike="noStrike">
                <a:solidFill>
                  <a:srgbClr val="fcb092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-fetoprotein, PS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ormones: Anti-Mullerian hormon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What is a biomarker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90720" y="129528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b092"/>
                </a:solidFill>
                <a:latin typeface="Calibri"/>
              </a:rPr>
              <a:t>A biological molecule found in blood, other body fluids, or tissues that indicates a normal or abnormal process such as a disease or a condition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A biomarker is measured to follow up a disease or treatmen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diagnosis and prognosi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990360" y="1371240"/>
            <a:ext cx="74674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b092"/>
                </a:solidFill>
                <a:latin typeface="Calibri"/>
              </a:rPr>
              <a:t>Diagnosis: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b092"/>
                </a:solidFill>
                <a:latin typeface="Calibri"/>
              </a:rPr>
              <a:t>Identification of a disease from its signs and symptom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Prognosis: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The future outcome of a diseas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1" name="Picture 6" descr="Creek.jpg"/>
          <p:cNvPicPr/>
          <p:nvPr/>
        </p:nvPicPr>
        <p:blipFill>
          <a:blip r:embed="rId1"/>
          <a:stretch/>
        </p:blipFill>
        <p:spPr>
          <a:xfrm>
            <a:off x="6705720" y="4952880"/>
            <a:ext cx="21333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990360" y="838080"/>
            <a:ext cx="7467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b092"/>
                </a:solidFill>
                <a:latin typeface="Calibri"/>
              </a:rPr>
              <a:t>Most common body fluids for measurement of biomarkers are: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Seru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b092"/>
                </a:solidFill>
                <a:latin typeface="Calibri"/>
              </a:rPr>
              <a:t>Plasma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b092"/>
                </a:solidFill>
                <a:latin typeface="Calibri"/>
              </a:rPr>
              <a:t>Urin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Some biomarkers are either: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Plasma-specific or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Tissue-specific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990360" y="761760"/>
            <a:ext cx="7467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Plasma-specific biomarker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b092"/>
                </a:solidFill>
                <a:latin typeface="Calibri"/>
              </a:rPr>
              <a:t>Normally present in plasma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Perform their functions in blood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b092"/>
                </a:solidFill>
                <a:latin typeface="Calibri"/>
              </a:rPr>
              <a:t>High level of activity in plasma than in tissue cell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Examples: blood clotting enzymes (thrombin), cholinesterase, etc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" name="Picture 5" descr="Forest Flowers.jpg"/>
          <p:cNvPicPr/>
          <p:nvPr/>
        </p:nvPicPr>
        <p:blipFill>
          <a:blip r:embed="rId1"/>
          <a:stretch/>
        </p:blipFill>
        <p:spPr>
          <a:xfrm>
            <a:off x="6858000" y="228600"/>
            <a:ext cx="19810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85440" y="91404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Tissue-specific biomarker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b092"/>
                </a:solidFill>
                <a:latin typeface="Calibri"/>
              </a:rPr>
              <a:t>Present inside the cell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onc. is lower in plasma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b092"/>
                </a:solidFill>
                <a:latin typeface="Calibri"/>
              </a:rPr>
              <a:t>Released into the body fluids in high conc. due to: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ell damag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efective cell membran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6" name="Picture 5" descr="Forest Flowers.jpg"/>
          <p:cNvPicPr/>
          <p:nvPr/>
        </p:nvPicPr>
        <p:blipFill>
          <a:blip r:embed="rId1"/>
          <a:stretch/>
        </p:blipFill>
        <p:spPr>
          <a:xfrm>
            <a:off x="6781680" y="304920"/>
            <a:ext cx="19814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990360" y="1066680"/>
            <a:ext cx="7467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Intracellular enzymes are present only in their cells of origi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me are secretory enzymes that are secreted by salivary glands, gastric mucosa and pancrea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fcb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b092"/>
                </a:solidFill>
                <a:latin typeface="Calibri"/>
              </a:rPr>
              <a:t>In disease, plasma levels of secretory enzymes increase when their cells are damag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diagnosis of organ disease is done by measurement of enzymes of that tissu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8" name="Picture 5" descr="Forest Flowers.jpg"/>
          <p:cNvPicPr/>
          <p:nvPr/>
        </p:nvPicPr>
        <p:blipFill>
          <a:blip r:embed="rId1"/>
          <a:stretch/>
        </p:blipFill>
        <p:spPr>
          <a:xfrm>
            <a:off x="0" y="0"/>
            <a:ext cx="1523880" cy="10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13:06:37Z</dcterms:created>
  <dc:creator>Usman</dc:creator>
  <dc:description/>
  <dc:language>en-US</dc:language>
  <cp:lastModifiedBy>UG</cp:lastModifiedBy>
  <dcterms:modified xsi:type="dcterms:W3CDTF">2015-11-01T05:53:37Z</dcterms:modified>
  <cp:revision>58</cp:revision>
  <dc:subject/>
  <dc:title>Genetic Counsel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65671033</vt:lpwstr>
  </property>
</Properties>
</file>