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491-4F83-464C-9C3D-56FC2985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8B7A-0D5D-46A0-8721-BD412F94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3A4-BBF2-4E51-83F2-D621C7C3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829-7B66-4243-AE12-16514D72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168-4B48-4FC3-8163-5515DA70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7AC-757B-4467-B439-E25B91AA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127-469C-4A1B-BA9E-D31BFC94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B96-5755-4D18-B670-1AEF28F5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2C1-AB5C-4F1E-8743-A537314A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92E-80FE-4344-897E-CF23ACE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C03-C199-4133-B647-93A50C11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275-826B-41C1-9AF0-35CDDCF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0375-700E-4831-A4B3-1B5550A282B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1206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iochemical markers for diagnosis of diseases and follow u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ndation Blo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Factors affecting serum biomarker level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142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ell da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e of biomarker synthesis and clear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Enzyme inhibito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uco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ocalized hypoxia (less oxyge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chemia (obstruction of blood vessel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Necr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ssue infarction due to ischemic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cr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yocardial infar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Qualities of a good biomark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16765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 good biomarker should b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ble to accurately diagnose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le to accurately predict prognosis of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ompliant with treatment follow u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sily obtainable from blood, urine,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Qualities of a good biomarker ass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66680" y="16761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good biomarker assay should be rapid to deliver results fas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Sens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ility of an assay to detect small quantities of a mark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Specif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ility of an assay to detect only the marker of 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of biomark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09680" y="1676160"/>
            <a:ext cx="5943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b092"/>
                </a:solidFill>
                <a:latin typeface="Calibri"/>
              </a:rPr>
              <a:t>Enzym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rmon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b092"/>
                </a:solidFill>
                <a:latin typeface="Calibri"/>
              </a:rPr>
              <a:t>Protei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zymes as biomark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47920" y="167616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zymes are clinically used for the diagnosis and prognosis of various dise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s includ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mylase, Lip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anine aminotransferase (AL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spartate aminotransferase (AS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Amylase and Lipa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828440" y="1447560"/>
            <a:ext cx="662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ute pancreatitis is the inflammation of pancreas caused b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092"/>
                </a:solidFill>
                <a:latin typeface="Calibri"/>
              </a:rPr>
              <a:t>Obstruction of the pancreatic du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092"/>
                </a:solidFill>
                <a:latin typeface="Calibri"/>
              </a:rPr>
              <a:t>Gallston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092"/>
                </a:solidFill>
                <a:latin typeface="Calibri"/>
              </a:rPr>
              <a:t>Alcohol abu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normal release and premature activation of pancreatic enzymes (for example amylase, lipa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Diagnosis conducted by measuring pancreatic enzym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3352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myl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Elevated serum amylase level is a diagnostic indicator of acute  pancre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Amylase level greater than 10 times the upper limit indicates acute pancreatit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est has low specificity because elevated serum amylase level is also present in other dise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mylase appears in the serum within 2-12 hours after abdominal p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ee amylase (unbound form) is rapidly cleared by the kidne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Calibri"/>
              </a:rPr>
              <a:t>Lipas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um lipase has higher specificity than serum amyl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cb092"/>
                </a:solidFill>
                <a:latin typeface="Calibri"/>
              </a:rPr>
              <a:t>It appears in plasma within 4-8 hours and remains for 8-14 days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Measurement of amylase and lipase give 90-95% accuracy in the diagnosis of acute pancreatitis and abdominal pain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High serum ALT and AST level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in liver diseases are due to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3520" y="1523880"/>
            <a:ext cx="632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lcohol ab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hronic hepatitis B and 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eatosis and steato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utoimmune 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lson’s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cb092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antitrypsin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ligna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Poisons and infectious ag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lanine aminotransferase (AL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ostly present in li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amounts in hea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ore specific for liver disease than A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diagnosis: liver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ecture 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on completion of this lecture, the students should be able t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now about biomarkers and its quali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Understand the importance of different biomarkers in the diagnosis, treatment and follow up of a disea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ognize the types of biomarkers and their use in specific diseases such as heart, cancer, liver, kidney and pancreatic disea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spartate aminotransferase (AS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Widely distributed in heart, liver, skeletal muscle, kidne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amounts in erythrocy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igh serum activity of AST found i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Liver disease, heart disease, skeletal muscle disease, hemoly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diagnosis: liver and muscle dise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3520" y="80820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Serum enzymes used in the assessment of liver function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rkers used in hepatocellular necrosi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lanine aminotransfera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spartate aminotransfera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oteins as biomark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47920" y="167616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ystatin 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-type natriuretic peptide (BNP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Tumor mark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Fetoprote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state Specific Antigen (PS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ystatin 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cysteine protease inhibitor mainly produced by all nucleated cells of the bod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Useful biomarker for measuring glomerular filtration rate (GFR) in assessing kidney function and fail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like creatinine, its serum conc. is independent of gender, age or muscle ma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Abnormally high serum levels of cystatin C indicates kidney fail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nically useful marker for detecting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arly kidney disease, monitoring kidney transplantation and acute kidney inju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B-type natriuretic peptide (BNP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 peptide secreted mainly in the cardiac ventricles in response to cardiac expansion and pressure overloa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b092"/>
                </a:solidFill>
                <a:latin typeface="Calibri"/>
              </a:rPr>
              <a:t>High serum levels are observed in congestive heart fail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some pulmonary diseases, BNP levels are high but not as high as in heart fail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b092"/>
                </a:solidFill>
                <a:latin typeface="Calibri"/>
              </a:rPr>
              <a:t>BNP helps differentiate between pulmonary disease and heart fail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 important marker for the diagnosis and prognosis of congestive heart fail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b092"/>
                </a:solidFill>
                <a:latin typeface="Calibri"/>
              </a:rPr>
              <a:t>Currently being investigated as a screening biomarker for heart disea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Tumor mark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040" y="12949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 molecule secreted by a tumor that is measured for diagnosis and management of a tum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fetoprote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state specific antigen (PS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-Fetoprotei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 newborn babies </a:t>
            </a: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fetoprotein levels are very 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conc. are observed i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patocellular carcinomas (hepatom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sticular carcinom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I tract carcinom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owever, high serum levels are also found in benign (non-cancerous) conditions e.g. 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conc. are not always suggestive of a tum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rostate Specific Antigen (PSA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 serine protease enzyme also called kallikrein III, semin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ed by prostate gl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iquefies ejacul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serum PSA levels are observed in prostate canc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ess specific in diagn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igh serum levels are also observed in benign prostatic hypertrophy (enlarged prostate glan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ormones as biomark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Anti-Mullerian hormone (AMH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A polypeptide hormone involved in sexual differentiation of male embryo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cb092"/>
                </a:solidFill>
                <a:latin typeface="Calibri"/>
              </a:rPr>
              <a:t>In females it is produced by ovari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Prevents premature depletion of ovarian follicl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cb092"/>
                </a:solidFill>
                <a:latin typeface="Calibri"/>
              </a:rPr>
              <a:t>Appears to be a best marker for estimating egg cell reserve in the ovari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Only growing follicles produce AMH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cb092"/>
                </a:solidFill>
                <a:latin typeface="Calibri"/>
              </a:rPr>
              <a:t>Plasma AMH levels strongly correlate with number of growing follicl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Helps assess female fertility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a biomark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Diagnosis and progn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sma and tissue-specific biomark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Factors affecting serum biomarker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ualities of a good biomark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Types: Enzymes, proteins, hormo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zymes: Amylase, lipase, trypsinogen, ALT, A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Proteins: Cystatin C, BNP, </a:t>
            </a: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fetoprotein, P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rmones: Anti-Mullerian horm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at is a biomarke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2952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A biological molecule found in blood, other body fluids, or tissues that indicates a normal or abnormal process such as a disease or a condi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biomarker is measured to follow up a disease or trea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progn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360" y="13712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Diagnosi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Identification of a disease from its signs and symptom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nosi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future outcome of a disea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6" descr="Creek.jpg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360" y="8380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Most common body fluids for measurement of biomarkers are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Ser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Urin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biomarkers are either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lasma-specific o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ssue-specifi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360" y="7617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Plasma-specific biomarke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Normally present in 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rform their functions in bloo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High level of activity in plasma than in tissue ce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amples: blood clotting enzymes (thrombin), cholinesterase, etc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5" descr="Forest Flowers.jpg"/>
          <p:cNvPicPr/>
          <p:nvPr/>
        </p:nvPicPr>
        <p:blipFill>
          <a:blip r:embed="rId1"/>
          <a:stretch/>
        </p:blipFill>
        <p:spPr>
          <a:xfrm>
            <a:off x="6858000" y="2286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440" y="9140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Tissue-specific biomarke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Present inside the cel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. is lower in 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Released into the body fluids in high conc. due to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ll da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cell membra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5" descr="Forest Flowers.jpg"/>
          <p:cNvPicPr/>
          <p:nvPr/>
        </p:nvPicPr>
        <p:blipFill>
          <a:blip r:embed="rId1"/>
          <a:stretch/>
        </p:blipFill>
        <p:spPr>
          <a:xfrm>
            <a:off x="6781680" y="304920"/>
            <a:ext cx="1981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360" y="10666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tracellular enzymes are present only in their cells of orig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are secretory enzymes that are secreted by salivary glands, gastric mucosa and panc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 disease, plasma levels of secretory enzymes increase when their cells are damag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agnosis of organ disease is done by measurement of enzymes of that t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5" descr="Forest Flowers.jpg"/>
          <p:cNvPicPr/>
          <p:nvPr/>
        </p:nvPicPr>
        <p:blipFill>
          <a:blip r:embed="rId1"/>
          <a:stretch/>
        </p:blipFill>
        <p:spPr>
          <a:xfrm>
            <a:off x="0" y="0"/>
            <a:ext cx="15238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3:06:37Z</dcterms:created>
  <dc:creator>Usman</dc:creator>
  <dc:description/>
  <dc:language>en-US</dc:language>
  <cp:lastModifiedBy>UG</cp:lastModifiedBy>
  <dcterms:modified xsi:type="dcterms:W3CDTF">2015-11-01T05:53:37Z</dcterms:modified>
  <cp:revision>58</cp:revision>
  <dc:subject/>
  <dc:title>Genetic Counsel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5671033</vt:lpwstr>
  </property>
</Properties>
</file>