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483C-080A-4B19-94E8-B5289A2D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E0E2-B0FF-43BE-A4E2-2D9DF296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2C9-BD9D-4C31-BB52-6061C198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009F-6A03-4357-9754-87BA73D32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05CF-0211-4029-A69A-10E422A2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84C5-0F0C-4CA0-AE9F-0690B1AC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79CF-50EC-4B12-85F6-C39D499F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F8F2-655E-40B8-A778-775A2E66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48EB-8D38-4336-8B84-2A30475F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499E-59C6-4852-A720-F863A103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0BB8-2BC3-41AD-8D04-D99FE60B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4044-F1B3-443A-9C07-68EC77A2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DEF4-89D3-47BA-BD60-68BB1EF9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4D91-50B7-4C09-BD41-55AB0D75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70B8-C8FB-4787-A10B-1ABABFFF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151B-546C-4A43-9B18-0DE13E40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8797-0B34-4946-B2A3-AD7E191D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9BC5A-CA38-4BB4-9582-AA35AD9E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CC039-8F7A-461E-B95D-8303C601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18AE4-B5BB-4861-97EB-5402B776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E48EE-DCC2-41BA-AFEB-E11239EC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F9AA32-4F32-49B7-B8E9-F03E7125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6A28-D7B4-4569-AAC7-E47F5955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AF613-1B68-47E7-A0E4-73384D78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B3160-7412-43E6-B7C7-02D08C03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6D1357-9254-4482-9468-5F9F0176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45CCE-4942-4989-94C7-6A5AEBDB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648992-3513-4248-8D18-A26E013B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A78F9-12D9-4990-A70E-613C03C6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7B4447-0CD8-4DBA-9E56-A2EED31EF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D3909-7ABD-4708-BACD-2278132B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1ED4A-F490-46FA-B0DB-716E91DD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4B0E3B-DA52-4976-A1AB-19C2BE35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7D18-0FC9-4F8A-BFF1-EF16712F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DE4333-3151-42C9-ACAB-EE9FC113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E3D90-55FA-4683-98ED-796D0C98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455942-48AA-4B65-BE2A-1E87AE1F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01606A-2914-4CA9-BACE-C6758803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37E1C1-85D1-4815-8A1A-DBB4F530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15EF8E-DDB3-436A-89F1-8BA93667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B77062-28C7-4BDD-A1F5-5934C3AD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5F2F50-9B0D-4652-B61D-738E7599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89FE79-92F1-44CB-92FF-8F615394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8BF84E-14FD-43B5-8D85-84C67EEF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3F6B-B3AB-4105-8125-A6F54ED9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DB1669-A03E-4028-B5F4-BDE38764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106D09-A5FA-4EFD-AB1F-BA4868DA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A6E0AD-21D0-4836-AA8C-22AD7E0B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460261-7206-40C1-AF8C-A445050D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02336F-AC79-43F5-8C1A-625B38F0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B594E-3651-4437-9DEC-8A5E9174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1AEF2-7AEA-4F17-9529-C0AB11CC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FDACD8-55CF-4CAB-A5D5-88B637D2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497A1-D8D4-44B2-8392-27FD1E05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8A9BA-44D9-4928-BC71-3E4216D0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303A-9C76-4FC0-BB1D-97700BF0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1D4A66-6036-4402-8DB7-CB63FCEA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E12C7-8DD5-4E01-8D66-46A3351C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83D36-EBED-4E71-BB96-DA99D15E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CFE01-E442-4347-8725-BF3A28AC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2F8E8-C9A2-498C-B61A-B03C36E8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A6F97-887D-4099-A66E-1B8AA02C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CFBA9-3F47-432D-B1C7-D6521518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B9463-5C13-43BA-862C-6213C7A6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CF957-DC06-43DB-A141-F9EDDA21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2983C-2AEE-493A-9057-46589B92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CBB-60EE-42A7-BF1D-106E1887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A2CD6-96F2-4213-8A07-7F2942E4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2FC75-C956-4584-8B0E-7C763075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46CDD-9038-47A1-85FE-64084C65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DB855-073E-41F4-8922-A6D63060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442FAD-4D73-4112-9144-6C68DFD2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FC9E36-7477-4AF4-8455-986EA61D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B8992E-1BD7-4E17-9512-54BF6155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DA9D20-5926-40EA-A07D-DAF7439C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F643A3-D613-4E10-B3BA-46C1C447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477741-8BD2-4F33-8EAC-90010A76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6BE-55A9-48B7-B485-19DAC56B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967F35-9B52-4413-BE29-E617BB3A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88135-E559-481A-B300-8A149FE4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5F1C70-52EB-4185-A230-0FF3DD1B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9AECE5-8C10-49EE-97B5-6F8F3807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D63C50-C364-40F3-9CDE-190E4313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3F668-4F6C-4C84-A556-0C0CD2F6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99D79-860A-432F-B7E9-31C791F6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3F39E-E4E6-424B-94F5-65B789C7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66C63-FC99-4BFA-8C14-2EE9382E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59437-5CD9-479A-8154-92F4B4FA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824-A9DD-4CC5-BD95-C0F0FF1C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F47D4-F8FD-427C-B56C-DE311A6F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4E9DA-5764-41BC-A36A-FF848FE6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64FE4-FCFF-4F3E-B18E-63EBDEB4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E48DE-9346-4613-9D78-3B1479E5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E8EEA-462B-4D91-9008-E2C4923D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9FFDE-4780-4D2E-A237-CD72FBBF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71804-065E-49EA-BAF1-825F78E6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7B10-073F-44EB-A760-9F6DDBC49DA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2119-113E-4361-8FEF-0C0399628736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8A37-3721-4B0F-82EC-411691D86053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919E-6B9A-417C-B52B-04481FC22F4E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4ABE-9FE2-49AC-8B01-74D02F3C118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A773-C7CD-42A8-9EB2-6C0613160ED9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597D-5D07-46C0-907E-B5B01514729D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BF1F-A5F6-43BE-BF4F-6AC11BACB5B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2120" y="1219320"/>
            <a:ext cx="7696080" cy="220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ebddc3"/>
                </a:solidFill>
                <a:latin typeface="Tw Cen MT"/>
                <a:ea typeface="Arial"/>
              </a:rPr>
              <a:t>CARBOHYDRATES: STRUCTURE AND FUNCTION</a:t>
            </a:r>
            <a:endParaRPr b="0" lang="en-US" sz="49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3978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By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erlin Sans FB"/>
              </a:rPr>
              <a:t>Dr. Amr S. Moustafa, MD, PhD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Poly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76520"/>
            <a:ext cx="837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Homopolysaccharid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Branched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Glycogen and starch (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-glycosidic polymer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Unbranched: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ellulose (</a:t>
            </a:r>
            <a:r>
              <a:rPr b="1" lang="el-GR" sz="3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-glycosidic polymer)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Heteropolysaccharid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e.g., glycosaminoglycans (GAGs)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2895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Isomerism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33160" y="152388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somer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ompounds having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same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chemical formula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but different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structural formula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The No. of isomers depends on the No. of asymmetric C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8" name="Picture 2" descr="C:\Documents and Settings\Dr.Chisti\Desktop\OLD Computer\Biochemistry\lippincot Pic\c07\07_004.jpg"/>
          <p:cNvPicPr/>
          <p:nvPr/>
        </p:nvPicPr>
        <p:blipFill>
          <a:blip r:embed="rId1"/>
          <a:srcRect l="25532" t="2321" r="29015" b="11773"/>
          <a:stretch/>
        </p:blipFill>
        <p:spPr>
          <a:xfrm>
            <a:off x="4876920" y="217440"/>
            <a:ext cx="40384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Aldo-Keto Isomer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04560" y="182880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Glucose (Aldose)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3600" spc="-1" strike="noStrike">
                <a:solidFill>
                  <a:srgbClr val="002060"/>
                </a:solidFill>
                <a:latin typeface="Tw Cen MT"/>
              </a:rPr>
              <a:t>Fructose (Ketose)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1" name="Picture 2" descr="C:\Documents and Settings\Dr.Chisti\Desktop\OLD Computer\Biochemistry\lippincot Pic\c07\07_004.jpg"/>
          <p:cNvPicPr/>
          <p:nvPr/>
        </p:nvPicPr>
        <p:blipFill>
          <a:blip r:embed="rId1"/>
          <a:srcRect l="25532" t="2321" r="29015" b="11773"/>
          <a:stretch/>
        </p:blipFill>
        <p:spPr>
          <a:xfrm>
            <a:off x="4495680" y="87480"/>
            <a:ext cx="441972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2971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pim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0880" y="158904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pim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CHO dimers that differ in configuration around only one specific carbon atom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1" lang="en-US" sz="2700" spc="-1" strike="noStrike">
                <a:solidFill>
                  <a:srgbClr val="002060"/>
                </a:solidFill>
                <a:latin typeface="Tw Cen MT"/>
              </a:rPr>
              <a:t>Glucose and galactose, C4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1" lang="en-US" sz="2700" spc="-1" strike="noStrike">
                <a:solidFill>
                  <a:srgbClr val="c00000"/>
                </a:solidFill>
                <a:latin typeface="Tw Cen MT"/>
              </a:rPr>
              <a:t>Glucose and Mannose, C2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Galactose and mannose </a:t>
            </a:r>
            <a:r>
              <a:rPr b="1" lang="en-US" sz="2700" spc="-1" strike="noStrike">
                <a:solidFill>
                  <a:srgbClr val="c00000"/>
                </a:solidFill>
                <a:latin typeface="Tw Cen MT"/>
              </a:rPr>
              <a:t>are not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pimers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4" name="Picture 2" descr="C:\Documents and Settings\Dr.Chisti\Desktop\OLD Computer\Biochemistry\lippincot Pic\c07\07_004.jpg"/>
          <p:cNvPicPr/>
          <p:nvPr/>
        </p:nvPicPr>
        <p:blipFill>
          <a:blip r:embed="rId1"/>
          <a:srcRect l="25532" t="2321" r="29015" b="11773"/>
          <a:stretch/>
        </p:blipFill>
        <p:spPr>
          <a:xfrm>
            <a:off x="4800600" y="57240"/>
            <a:ext cx="41148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-360" y="18288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tructures that ar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mirror images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of each other are designated as D- and L- sugars based on the position of –OH grp on th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asymmetric carbon farthest from the carbonyl carbo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jority of sugars in humans ar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D-suga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Enantiomers (D- and L-Form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7" name="Picture 2" descr="C:\Documents and Settings\Dr.Chisti\Desktop\OLD Computer\Biochemistry\lippincot Pic\c07\07_005.jpg"/>
          <p:cNvPicPr/>
          <p:nvPr/>
        </p:nvPicPr>
        <p:blipFill>
          <a:blip r:embed="rId1"/>
          <a:srcRect l="19644" t="1787" r="9822" b="41070"/>
          <a:stretch/>
        </p:blipFill>
        <p:spPr>
          <a:xfrm>
            <a:off x="4114800" y="1676520"/>
            <a:ext cx="4778280" cy="5008320"/>
          </a:xfrm>
          <a:prstGeom prst="rect">
            <a:avLst/>
          </a:prstGeom>
          <a:ln w="0">
            <a:noFill/>
          </a:ln>
        </p:spPr>
      </p:pic>
      <p:sp>
        <p:nvSpPr>
          <p:cNvPr id="388" name="Right Arrow 6"/>
          <p:cNvSpPr/>
          <p:nvPr/>
        </p:nvSpPr>
        <p:spPr>
          <a:xfrm rot="18767400">
            <a:off x="4252680" y="4791240"/>
            <a:ext cx="38088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ight Arrow 7"/>
          <p:cNvSpPr/>
          <p:nvPr/>
        </p:nvSpPr>
        <p:spPr>
          <a:xfrm rot="12503400">
            <a:off x="8145000" y="4715640"/>
            <a:ext cx="381240" cy="381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775f55"/>
                </a:solidFill>
                <a:latin typeface="Arial"/>
                <a:ea typeface="Arial"/>
              </a:rPr>
              <a:t>α</a:t>
            </a:r>
            <a:r>
              <a:rPr b="1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- and </a:t>
            </a:r>
            <a:r>
              <a:rPr b="1" lang="el-GR" sz="4400" spc="-1" strike="noStrike">
                <a:solidFill>
                  <a:srgbClr val="775f55"/>
                </a:solidFill>
                <a:latin typeface="Arial"/>
                <a:ea typeface="Arial"/>
              </a:rPr>
              <a:t>β</a:t>
            </a:r>
            <a:r>
              <a:rPr b="1" lang="en-US" sz="4400" spc="-1" strike="noStrike">
                <a:solidFill>
                  <a:srgbClr val="775f55"/>
                </a:solidFill>
                <a:latin typeface="Arial"/>
                <a:ea typeface="Arial"/>
              </a:rPr>
              <a:t>-Form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1" name="Object 11" descr=""/>
          <p:cNvPicPr/>
          <p:nvPr/>
        </p:nvPicPr>
        <p:blipFill>
          <a:blip r:embed="rId1"/>
          <a:stretch/>
        </p:blipFill>
        <p:spPr>
          <a:xfrm>
            <a:off x="5562720" y="4422600"/>
            <a:ext cx="3555720" cy="2206800"/>
          </a:xfrm>
          <a:prstGeom prst="rect">
            <a:avLst/>
          </a:prstGeom>
          <a:ln w="0">
            <a:noFill/>
          </a:ln>
        </p:spPr>
      </p:pic>
      <p:pic>
        <p:nvPicPr>
          <p:cNvPr id="392" name="Object 18" descr=""/>
          <p:cNvPicPr/>
          <p:nvPr/>
        </p:nvPicPr>
        <p:blipFill>
          <a:blip r:embed="rId2"/>
          <a:stretch/>
        </p:blipFill>
        <p:spPr>
          <a:xfrm>
            <a:off x="5694480" y="1219320"/>
            <a:ext cx="3144600" cy="3087720"/>
          </a:xfrm>
          <a:prstGeom prst="rect">
            <a:avLst/>
          </a:prstGeom>
          <a:ln w="0">
            <a:noFill/>
          </a:ln>
        </p:spPr>
      </p:pic>
      <p:sp>
        <p:nvSpPr>
          <p:cNvPr id="393" name="TextBox 7"/>
          <p:cNvSpPr/>
          <p:nvPr/>
        </p:nvSpPr>
        <p:spPr>
          <a:xfrm>
            <a:off x="304920" y="1847880"/>
            <a:ext cx="533376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Cyclization of Monosaccharides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onosaccharides with 5 or more carbon are predominantly found in the r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aldehyde or ketone grp react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ith the –OH grp on the same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w Cen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yclization creates an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anomeric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arbon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(former carbonyl carbon) generating the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utarot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09120" y="1665000"/>
            <a:ext cx="800100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In solution,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the cyclic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9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anomers of a sugar are in equilibrium with each other, and can be interconverted spontaneousl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TextBox 9"/>
          <p:cNvSpPr/>
          <p:nvPr/>
        </p:nvSpPr>
        <p:spPr>
          <a:xfrm>
            <a:off x="1177920" y="594360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Fischer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>
            <a:off x="47520" y="3111480"/>
            <a:ext cx="9052200" cy="3581280"/>
          </a:xfrm>
          <a:prstGeom prst="rect">
            <a:avLst/>
          </a:prstGeom>
          <a:ln w="0">
            <a:noFill/>
          </a:ln>
        </p:spPr>
      </p:pic>
      <p:sp>
        <p:nvSpPr>
          <p:cNvPr id="398" name="TextBox 11"/>
          <p:cNvSpPr/>
          <p:nvPr/>
        </p:nvSpPr>
        <p:spPr>
          <a:xfrm>
            <a:off x="5627520" y="6259680"/>
            <a:ext cx="24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w Cen MT"/>
              </a:rPr>
              <a:t>Haworth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7"/>
          <p:cNvSpPr/>
          <p:nvPr/>
        </p:nvSpPr>
        <p:spPr>
          <a:xfrm>
            <a:off x="1007280" y="626580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w Cen MT"/>
              </a:rPr>
              <a:t>Fischer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Sugar Isome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09120" y="1969560"/>
            <a:ext cx="80010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do-keto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m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 and L-Form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spcAft>
                <a:spcPts val="2401"/>
              </a:spcAft>
              <a:buClr>
                <a:srgbClr val="c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nd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nomer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Reducing Suga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127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the O on the anomeric C of a sugar is not attached to any other structure </a:t>
            </a: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(Free)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,</a:t>
            </a:r>
            <a:r>
              <a:rPr b="1" lang="en-US" sz="2900" spc="-1" strike="noStrike">
                <a:solidFill>
                  <a:srgbClr val="c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at sugar can act as a reducing agen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ducing sugars reduce chromogenic agents like Benedict’s reagent or Fehling’s solution to give a colored pericept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In the past, u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ine was tested for the presence of reducing sugars using these colorimetric tes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Reducing Sugar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Monosaccharides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Maltose and Lactos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Sucrose is non-reducing, Why?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7452360" y="92556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Objectiv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480" y="1523520"/>
            <a:ext cx="784872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understand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of carbohydrates of physiological significanc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in role of carbohydrates in providing and storing of energy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and function of glycosaminoglycans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omplex Carbohydrat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8288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arbohydrates attached to non-carbohydrate structures by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glycosidic bonds (O- or N-type)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e.g.,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1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Purine and pyrimidine bases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 nucleic aci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2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Bilirubi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3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Protein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 in glycoproteins and proteoglycan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4.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Lipid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 found in glycolipid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Glycosidic Bon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0" name="Picture 2" descr="C:\Documents and Settings\Dr.Chisti\Desktop\OLD Computer\Biochemistry\lippincot Pic\c07\07_007.jpg"/>
          <p:cNvPicPr/>
          <p:nvPr/>
        </p:nvPicPr>
        <p:blipFill>
          <a:blip r:embed="rId1"/>
          <a:srcRect l="16185" t="3069" r="16598" b="15076"/>
          <a:stretch/>
        </p:blipFill>
        <p:spPr>
          <a:xfrm>
            <a:off x="3429000" y="1523880"/>
            <a:ext cx="4952880" cy="53341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560" y="2666880"/>
            <a:ext cx="388620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N-Glycosidic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TextBox 6"/>
          <p:cNvSpPr/>
          <p:nvPr/>
        </p:nvSpPr>
        <p:spPr>
          <a:xfrm>
            <a:off x="220320" y="4876920"/>
            <a:ext cx="32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O-Glycosid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Glycosaminoglycans (GAG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Glycosaminoglycans (GAGs) are large complexes of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negatively</a:t>
            </a:r>
            <a:r>
              <a:rPr b="0" lang="en-US" sz="27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harged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hetero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olysaccharide chains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re associated with a small amount of protein, forming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proteoglycan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, which consist of over 95 percent carbohydra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ind with large amounts of water, producing the gel-like matrix that forms body's ground substance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 viscous, lubricating properties of mucous secretions also result from GAGs, which led to the original naming of these compounds as </a:t>
            </a:r>
            <a:r>
              <a:rPr b="0" lang="en-US" sz="2700" spc="-1" strike="noStrike">
                <a:solidFill>
                  <a:srgbClr val="002060"/>
                </a:solidFill>
                <a:latin typeface="Tw Cen MT"/>
              </a:rPr>
              <a:t>mucopolysaccharide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4768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lycosaminoglycans (GAGs)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75960" y="1447560"/>
            <a:ext cx="56386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7b615"/>
                </a:solidFill>
                <a:latin typeface="Tw Cen MT"/>
              </a:rPr>
              <a:t> </a:t>
            </a:r>
            <a:r>
              <a:rPr b="1" lang="en-US" sz="2300" spc="-1" strike="noStrike">
                <a:solidFill>
                  <a:srgbClr val="f7b615"/>
                </a:solidFill>
                <a:latin typeface="Tw Cen MT"/>
              </a:rPr>
              <a:t>GAGs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re linear polymers of </a:t>
            </a:r>
            <a:r>
              <a:rPr b="1" lang="en-US" sz="2300" spc="-1" strike="noStrike">
                <a:solidFill>
                  <a:srgbClr val="000099"/>
                </a:solidFill>
                <a:latin typeface="Tw Cen MT"/>
              </a:rPr>
              <a:t>repeating disaccharide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unit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c00000"/>
                </a:solidFill>
                <a:latin typeface="Tw Cen MT"/>
              </a:rPr>
              <a:t>[acidic sugar-amino sugar]n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e amino sugar (usually sulfated) is either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D-glucosamine or D-galactosamine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The acidic sugar is either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D-glucuronic acid or L-iduronic acid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Gs are strongly negatively-charged: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carboxyl groups of acidic sugars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95000"/>
              </a:lnSpc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	</a:t>
            </a:r>
            <a:r>
              <a:rPr b="1" lang="en-US" sz="2300" spc="-1" strike="noStrike">
                <a:solidFill>
                  <a:srgbClr val="002060"/>
                </a:solidFill>
                <a:latin typeface="Tw Cen MT"/>
              </a:rPr>
              <a:t>Sulfate group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7" name="Picture 4" descr="14_001"/>
          <p:cNvPicPr/>
          <p:nvPr/>
        </p:nvPicPr>
        <p:blipFill>
          <a:blip r:embed="rId1"/>
          <a:srcRect l="12502" t="3261" r="16405" b="21843"/>
          <a:stretch/>
        </p:blipFill>
        <p:spPr>
          <a:xfrm>
            <a:off x="5486400" y="1847880"/>
            <a:ext cx="3611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Resilience of GAG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52280" y="1512360"/>
            <a:ext cx="6553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Tw Cen MT"/>
              </a:rPr>
              <a:t>Relationship between glycosaminoglycan structure and function 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Because of negative charges, the GAG chains tend to be extended in solution and repel each other and when brought together, they "slip" past each other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This produces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w Cen MT"/>
              </a:rPr>
              <a:t>"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Tw Cen MT"/>
              </a:rPr>
              <a:t>slippery" consistency of mucous secretions and synovial fluid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When a solution of GAGs is compressed, the water is "squeezed out" and the GAGs are forced to occupy a smaller volume. When the compression is released, the GAGs spring back to their original, hydrated volume because of the repulsion of their negative charges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w Cen MT"/>
              </a:rPr>
              <a:t>This property contributes to the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Tw Cen MT"/>
              </a:rPr>
              <a:t>resilience of synovial fluid and the vitreous humor of the eye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0" name="Picture 2" descr="E:\c14\14_003.jpg"/>
          <p:cNvPicPr/>
          <p:nvPr/>
        </p:nvPicPr>
        <p:blipFill>
          <a:blip r:embed="rId1"/>
          <a:srcRect l="29687" t="3069" r="39848" b="12068"/>
          <a:stretch/>
        </p:blipFill>
        <p:spPr>
          <a:xfrm>
            <a:off x="6705720" y="214200"/>
            <a:ext cx="2286000" cy="64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152280" y="1588680"/>
            <a:ext cx="876312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xamples of GAGs are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108080" indent="-5144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Chondroitin sulfates: Most abundant GA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108080" indent="-5144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Keratan sulfates: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st heterogeneous GAG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108080" indent="-5144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Hyaluronic acid: Compared to other GAGs, it is unsulfated and not covalently attached to protei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1108080" indent="-514440">
              <a:lnSpc>
                <a:spcPct val="80000"/>
              </a:lnSpc>
              <a:spcBef>
                <a:spcPts val="499"/>
              </a:spcBef>
              <a:spcAft>
                <a:spcPts val="2401"/>
              </a:spcAft>
              <a:buClr>
                <a:srgbClr val="c00000"/>
              </a:buClr>
              <a:buFont typeface="Tw Cen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Heparin: Unlike other GAGs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at are extracellular, heparin is </a:t>
            </a:r>
            <a:r>
              <a:rPr b="1" lang="en-US" sz="2700" spc="-1" strike="noStrike">
                <a:solidFill>
                  <a:srgbClr val="c00000"/>
                </a:solidFill>
                <a:latin typeface="Tw Cen MT"/>
              </a:rPr>
              <a:t>intracellular and serves as an anticoagulant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embers of GAG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Take home Messa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127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09240" indent="-309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ructure and function of carbohydra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no-, Di-, and Poly-saccharid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ugar Isomers: Aldo-keto, epimers, D- and L-, </a:t>
            </a: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 and </a:t>
            </a:r>
            <a:r>
              <a:rPr b="0" lang="el-GR" sz="29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-anom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mplex carbohydrat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.g., Glycosaminoglycans and proteoglyca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tructure and function of GAG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xamples of GAGs: chondroitin sulfate, keratin sulfate, hyaluronic acid and hepar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OVER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7226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rbohydrates: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abundant organic molecules in nature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mpiric formula is (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n,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“hydrates of carbon”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509040" indent="-50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arbohydrates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824760" indent="-50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important part of energy in die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824760" indent="-50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as the storage form of energy in the body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824760" indent="-50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tructural component of cell membran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OVER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533520" y="1722600"/>
            <a:ext cx="8076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ny diseases associated with disorders of carbohydrate metabolism including: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abetes mellitus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alactosemia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lycogen storage diseases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actose intoleranc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TextBox 3"/>
          <p:cNvSpPr/>
          <p:nvPr/>
        </p:nvSpPr>
        <p:spPr>
          <a:xfrm>
            <a:off x="7110000" y="838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CLASSIFIC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2027160"/>
            <a:ext cx="868680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Mono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Simple sugar    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Di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2 monosaccharide uni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spcAft>
                <a:spcPts val="1800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Oligo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3-10 monosaccharide uni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spcAft>
                <a:spcPts val="601"/>
              </a:spcAft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Polysaccharides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: more than 10 sugar unit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24520" indent="-223560"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Homopolysaccharides &amp; heteropolysaccharid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ono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51920" y="1589040"/>
            <a:ext cx="403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Further classified based 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1. No. of carbon atom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2. Functional sugar group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Aldehyde group – </a:t>
            </a:r>
            <a:r>
              <a:rPr b="1" lang="en-US" sz="3200" spc="-1" strike="noStrike">
                <a:solidFill>
                  <a:srgbClr val="c00000"/>
                </a:solidFill>
                <a:latin typeface="Tw Cen MT"/>
              </a:rPr>
              <a:t>aldos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Keto group – </a:t>
            </a:r>
            <a:r>
              <a:rPr b="1" lang="en-US" sz="3200" spc="-1" strike="noStrike">
                <a:solidFill>
                  <a:srgbClr val="002060"/>
                </a:solidFill>
                <a:latin typeface="Tw Cen MT"/>
              </a:rPr>
              <a:t>ketoses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1" descr="C:\Documents and Settings\Dr.Chisti\Desktop\OLD Computer\Biochemistry\lippincot Pic\c07\07_001.jpg"/>
          <p:cNvPicPr/>
          <p:nvPr/>
        </p:nvPicPr>
        <p:blipFill>
          <a:blip r:embed="rId1"/>
          <a:srcRect l="4514" t="3705" r="6596" b="29630"/>
          <a:stretch/>
        </p:blipFill>
        <p:spPr>
          <a:xfrm>
            <a:off x="4114800" y="2057400"/>
            <a:ext cx="4876920" cy="18288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C:\Documents and Settings\Dr.Chisti\Desktop\OLD Computer\Biochemistry\lippincot Pic\c07\07_002.jpg"/>
          <p:cNvPicPr/>
          <p:nvPr/>
        </p:nvPicPr>
        <p:blipFill>
          <a:blip r:embed="rId2"/>
          <a:srcRect l="6520" t="0" r="6520" b="22250"/>
          <a:stretch/>
        </p:blipFill>
        <p:spPr>
          <a:xfrm>
            <a:off x="4356000" y="4267080"/>
            <a:ext cx="4330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Mono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51000" y="2286000"/>
          <a:ext cx="8458200" cy="3122640"/>
        </p:xfrm>
        <a:graphic>
          <a:graphicData uri="http://schemas.openxmlformats.org/drawingml/2006/table">
            <a:tbl>
              <a:tblPr/>
              <a:tblGrid>
                <a:gridCol w="1752480"/>
                <a:gridCol w="3352680"/>
                <a:gridCol w="33530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Tw Cen MT"/>
                        </a:rPr>
                        <a:t>Aldo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2060"/>
                          </a:solidFill>
                          <a:latin typeface="Tw Cen MT"/>
                        </a:rPr>
                        <a:t>Keto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ri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lyceraldehyd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hydroxyaceton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nt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ib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ibul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ex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luc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ructo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367" name="Rectangle 9"/>
          <p:cNvSpPr/>
          <p:nvPr/>
        </p:nvSpPr>
        <p:spPr>
          <a:xfrm>
            <a:off x="7528680" y="9144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i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04920" y="18288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Joining of 2 monosaccharides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w Cen MT"/>
              </a:rPr>
              <a:t>by O-glycosidic bond: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2060"/>
                </a:solidFill>
                <a:latin typeface="Tw Cen MT"/>
              </a:rPr>
              <a:t>Maltose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el-GR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1, 4)= glucose +  glucose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2060"/>
                </a:solidFill>
                <a:latin typeface="Tw Cen MT"/>
              </a:rPr>
              <a:t>Sucrose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el-GR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1,2)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= glucose 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+  fructose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2060"/>
                </a:solidFill>
                <a:latin typeface="Tw Cen MT"/>
              </a:rPr>
              <a:t>Lactose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 (</a:t>
            </a:r>
            <a:r>
              <a:rPr b="1" lang="el-GR" sz="33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1,4)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= glucose 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w Cen MT"/>
              </a:rPr>
              <a:t>+ galactose </a:t>
            </a:r>
            <a:endParaRPr b="0" lang="en-US" sz="33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75f55"/>
                </a:solidFill>
                <a:latin typeface="Tw Cen MT"/>
              </a:rPr>
              <a:t>Disaccharid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w Cen MT"/>
              </a:rPr>
              <a:t>Lactose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2" name="Picture 5" descr="C:\Documents and Settings\Dr.Chisti\Desktop\OLD Computer\Biochemistry\lippincot Pic\c07\07_003.jpg"/>
          <p:cNvPicPr/>
          <p:nvPr/>
        </p:nvPicPr>
        <p:blipFill>
          <a:blip r:embed="rId1"/>
          <a:srcRect l="4674" t="3508" r="4452" b="33335"/>
          <a:stretch/>
        </p:blipFill>
        <p:spPr>
          <a:xfrm>
            <a:off x="1096920" y="2286000"/>
            <a:ext cx="7010280" cy="41371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6"/>
          <p:cNvSpPr/>
          <p:nvPr/>
        </p:nvSpPr>
        <p:spPr>
          <a:xfrm>
            <a:off x="7300080" y="9144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Dr.Amr</cp:lastModifiedBy>
  <dcterms:modified xsi:type="dcterms:W3CDTF">2015-09-02T11:57:37Z</dcterms:modified>
  <cp:revision>87</cp:revision>
  <dc:subject/>
  <dc:title>Carbohydrates structure and FunCTION</dc:title>
</cp:coreProperties>
</file>