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83C-5868-4D70-B62F-70F94024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307-64A6-4EE8-B4F8-87899999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892-122D-44D6-8755-30283E33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F32-B580-46A4-AF56-857A8252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AD10-70AD-4D42-8240-0F2A3921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6120-9FEF-4BCD-AD0D-D260E382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2A92-A9F5-4BD7-A10F-E78D048D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41D7-17E4-4FAC-94D9-F808D09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00B2-51FC-440C-A381-BFF48281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7925-7B1D-4F5A-9773-659F7920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022F-AF32-4B58-8007-3A4375DD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FD4-D333-41B8-815F-E7233D96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D8D-64B4-4771-8D3C-F730E557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E291-D2C6-4D64-93BF-13525F8D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75C3-60EE-41FF-B60D-A2181D6D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6ABF-84FD-4086-B14F-FE3CF81D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21C0-54B2-43C5-A397-B8454378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DB9AA-9DAE-4242-A0AD-367C0630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10DE9-0973-46B1-AFA0-838614B9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99578-EE5C-4CEC-B821-F764CFF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F1775-537A-4139-926C-5970CB96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91198-26AD-4056-BA35-571E2EE0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51B-6A42-49B4-AF1A-2B92C37A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9F508-126B-4288-9369-BDE71D7A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31973-6E6B-4159-878E-8F145E5C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C7D56-C3D0-408D-A526-3208350C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E23BC-5303-4BF3-80B0-C47B5B65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1F6BB-003D-4E53-AC93-E8990670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890E8-67B5-4C4A-B237-1915D184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922CB-0F5B-4240-A50D-317240D0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1D16A-7449-43A3-B6B0-20DB6814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6A034-43D2-4852-BA5D-3DE8961A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DB4D6-9812-440D-A1BF-6E1E6C39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FD2-7D25-45C6-A9E7-8351B0E7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C4AC1-BE24-4FE4-AA14-211E7A65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C9853-9EA7-4B63-8E93-35E5AFC9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47FFB-C428-4DE0-B7EE-CF8AA4A0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D0F03-9D2B-4299-85B9-F3494AD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865AC-D68B-4602-9970-57446FA0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0CBD2-4AB0-4189-9B7D-10E545E1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3C239-7CDA-4CBA-8CC7-455B54C7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1ACC7-1441-4F24-AA7E-85DC96BB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062BD-5A81-4F16-A311-9EFC2707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3908B-E472-4F2C-8135-DCE5CD97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952-619B-4E9F-A0F2-AC5DD8D0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13C12-5752-4200-90D4-6B48ED9A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BB9EF-BA8E-4655-9527-DDFC7557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1DF25-7EF5-4A73-833F-4B0DB812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5F9FA-B12A-4BB4-8BF3-57A1CFB6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8902E-73D7-4854-A2A8-0C01EDE8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DE7A2-84C1-4D6D-8304-50B1D99C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EADF3-05AA-4957-8DFF-DF2A1FC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C80E7-C34C-4D92-BF0F-381BC91A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12330-FF79-4460-9848-33C2A899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3538C-F02B-453F-9B6E-B9BAF649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D7F-B12E-4756-9A24-80E76DC0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833C2-16BB-4115-AC88-5AD67217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AC27D-5461-4757-AE98-46EC0B35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2DABA-CD65-413A-AE2D-13851612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2BA17-6076-43CF-BDE8-2DDB35A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B668-7AFE-4EA4-B853-92BB6A0B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D99B-F77D-4F64-BA59-E03D7C78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68B42-636D-435D-9032-1E383401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39FB3-D9D8-4963-84DC-2E571E83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3995E-7365-4479-B7CA-7BCDA5B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15576-E813-4DB4-865C-695C5B9B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3D8-80D7-4303-A78A-73CDC51C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676F5-EBFC-4A90-86D9-EF27FB23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37F9D-A483-42D1-8D70-FCD50E0E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3EA1-9E26-4B43-87AF-E41A64F3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67DA6-179F-47B8-AFD2-350BA68A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B5B83-2EA9-47A6-8269-E1B4979B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46795-3A29-47DC-88B1-FB3C534C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6EC9A-BEED-456F-BEAF-0C37905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2851A-268F-4EAF-B538-0A2336C4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1FFD0-F48B-4BA6-A5DD-C441C4E2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E55F1-5E01-4F3E-8A54-7DBE31B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105-B57A-4603-BB7B-4E210FD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F0E96-B0FC-481C-B0D3-F0C566F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1CC42-0833-4541-8DBC-56C10ECF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44BC4-D7B9-4242-8186-824B555E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FE23C-CCB7-43BE-9DC5-AE28D66D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C61D8-79AD-4264-B79E-38E3E6BC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EF668-627B-4D21-BA72-B156CA97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83D66-863F-4D20-B5A7-B829494E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5E635-7FB4-4EDE-9739-C3FEDC3F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79A9C-18AB-43C8-A992-B3DB931C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35A6E-4593-43FF-98A9-24542ED0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C22-9814-48A0-B9F3-5064851C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FE9C3-13BD-4EC0-ACD1-FE65F6EB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E3F6-3618-4FC5-9D25-492D0CE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4EE77-E585-4DCB-A58F-998F97B1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1F1A2-7391-4FDD-9A70-AF9606B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201EF-597A-44F9-B368-79F07AF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28B18-AAAE-47FC-B0F1-A21C740F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2368B-87E1-4866-8E49-13ECE632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294C-EB04-4DBB-A104-52A9001B19B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321-4ED0-4AD7-9881-417ADD0E779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C9DE-BA89-462B-812F-58B0FAABAF9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7AF3-8A9D-4057-93E1-1C9780E1415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00D8-EBF9-440B-B0F8-AE94F984192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8719-1DC0-49F9-9E77-BAD2AA52518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E24E-F31F-4196-AEC0-97C95386FED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B3B-314A-4EC5-866C-CA19FA24741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696080" cy="220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bddc3"/>
                </a:solidFill>
                <a:latin typeface="Tw Cen MT"/>
                <a:ea typeface="Arial"/>
              </a:rPr>
              <a:t>CARBOHYDRATES: STRUCTURE AND FUNCTION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3978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Dr. Amr S. Moustafa, MD, PhD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oly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76520"/>
            <a:ext cx="837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om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Branched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Glycogen and starch (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Unbranched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ellulose (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eter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.g., glycosaminoglycans (GAGs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2895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somer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1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some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ompounds having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same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chemical formula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ut different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structural formu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The No. of isomers depends on the No. of asymmetric C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76920" y="217440"/>
            <a:ext cx="4038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ldo-Keto Isom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560" y="182880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Glucose (Aldose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Fructose (Ketose)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1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495680" y="87480"/>
            <a:ext cx="4419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pi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0880" y="158904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 dimers that differ in configuration around only one specific carbon ato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002060"/>
                </a:solidFill>
                <a:latin typeface="Tw Cen MT"/>
              </a:rPr>
              <a:t>Glucose and galactose, C4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Glucose and Mannose, C2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alactose and mannose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are not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00600" y="57240"/>
            <a:ext cx="4114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-360" y="1828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ructures that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mirror image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f each other are designated as D- and L- sugars based on the position of –OH grp on th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asymmetric carbon farthest from the carbonyl carb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jority of sugars in humans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-suga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nantiomers (D- and L-For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7" name="Picture 2" descr="C:\Documents and Settings\Dr.Chisti\Desktop\OLD Computer\Biochemistry\lippincot Pic\c07\07_005.jpg"/>
          <p:cNvPicPr/>
          <p:nvPr/>
        </p:nvPicPr>
        <p:blipFill>
          <a:blip r:embed="rId1"/>
          <a:srcRect l="19644" t="1787" r="9822" b="41070"/>
          <a:stretch/>
        </p:blipFill>
        <p:spPr>
          <a:xfrm>
            <a:off x="4114800" y="1676520"/>
            <a:ext cx="4778280" cy="5008320"/>
          </a:xfrm>
          <a:prstGeom prst="rect">
            <a:avLst/>
          </a:prstGeom>
          <a:ln w="0">
            <a:noFill/>
          </a:ln>
        </p:spPr>
      </p:pic>
      <p:sp>
        <p:nvSpPr>
          <p:cNvPr id="388" name="Right Arrow 6"/>
          <p:cNvSpPr/>
          <p:nvPr/>
        </p:nvSpPr>
        <p:spPr>
          <a:xfrm rot="18767400">
            <a:off x="4252680" y="479124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ight Arrow 7"/>
          <p:cNvSpPr/>
          <p:nvPr/>
        </p:nvSpPr>
        <p:spPr>
          <a:xfrm rot="12503400">
            <a:off x="8145000" y="4715640"/>
            <a:ext cx="381240" cy="38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α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 and </a:t>
            </a: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β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For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1" name="Object 11" descr=""/>
          <p:cNvPicPr/>
          <p:nvPr/>
        </p:nvPicPr>
        <p:blipFill>
          <a:blip r:embed="rId1"/>
          <a:stretch/>
        </p:blipFill>
        <p:spPr>
          <a:xfrm>
            <a:off x="5562720" y="4422600"/>
            <a:ext cx="3555720" cy="220680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18" descr=""/>
          <p:cNvPicPr/>
          <p:nvPr/>
        </p:nvPicPr>
        <p:blipFill>
          <a:blip r:embed="rId2"/>
          <a:stretch/>
        </p:blipFill>
        <p:spPr>
          <a:xfrm>
            <a:off x="5694480" y="1219320"/>
            <a:ext cx="3144600" cy="30877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304920" y="1847880"/>
            <a:ext cx="53337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Cyclization of Monosaccharid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nosaccharides with 5 or more carbon are predominantly found in the r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ldehyde or ketone grp react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th the –OH grp on the sam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yclization creates an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omeric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arbo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former carbonyl carbon) generating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utaro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1665000"/>
            <a:ext cx="800100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In solution,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cyclic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omers of a sugar are in equilibrium with each other, and can be interconverted spontaneous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1177920" y="59436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47520" y="3111480"/>
            <a:ext cx="9052200" cy="35812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11"/>
          <p:cNvSpPr/>
          <p:nvPr/>
        </p:nvSpPr>
        <p:spPr>
          <a:xfrm>
            <a:off x="5627520" y="625968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Haworth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1007280" y="62658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ugar Iso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120" y="1969560"/>
            <a:ext cx="80010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-ket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and L-Form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d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no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the O on the anomeric C of a sugar is not attached to any other structure 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(Free)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at sugar can act as a reducing ag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ducing sugars reduce chromogenic agents like Benedict’s reagent or Fehling’s solution to give a colored pericep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In the past, u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ne was tested for the presence of reducing sugars using these colorimetric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onosaccharid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altose and Lacto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Sucrose is non-reducing, Why?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7452360" y="9255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23520"/>
            <a:ext cx="78487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carbohydrates of physiological significa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role of carbohydrates in providing and storing of energy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glycosaminoglycan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mplex Carbohydra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arbohydrates attached to non-carbohydrate structures by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glycosidic bonds (O- or N-type)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e.g.,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urine and pyrimidine bases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 nucleic ac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ilirubi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rotein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in glycoproteins and proteoglyc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Lipid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found in glycolip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idic Bon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0" name="Picture 2" descr="C:\Documents and Settings\Dr.Chisti\Desktop\OLD Computer\Biochemistry\lippincot Pic\c07\07_007.jpg"/>
          <p:cNvPicPr/>
          <p:nvPr/>
        </p:nvPicPr>
        <p:blipFill>
          <a:blip r:embed="rId1"/>
          <a:srcRect l="16185" t="3069" r="16598" b="15076"/>
          <a:stretch/>
        </p:blipFill>
        <p:spPr>
          <a:xfrm>
            <a:off x="3429000" y="1523880"/>
            <a:ext cx="4952880" cy="53341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2666880"/>
            <a:ext cx="38862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N-Glycosidic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220320" y="4876920"/>
            <a:ext cx="32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O-Glycosid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lycosaminoglycans (GAGs) are large complexes of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gatively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arged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tero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olysaccharide chain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re associated with a small amount of protein, forming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roteoglycan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, which consist of over 95 percent carbohydr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ind with large amounts of water, producing the gel-like matrix that forms body's ground substance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viscous, lubricating properties of mucous secretions also result from GAGs, which led to the original naming of these compounds as </a:t>
            </a:r>
            <a:r>
              <a:rPr b="0" lang="en-US" sz="2700" spc="-1" strike="noStrike">
                <a:solidFill>
                  <a:srgbClr val="002060"/>
                </a:solidFill>
                <a:latin typeface="Tw Cen MT"/>
              </a:rPr>
              <a:t>mucopolysaccharid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5960" y="1447560"/>
            <a:ext cx="5638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 </a:t>
            </a: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GAGs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linear polymers of </a:t>
            </a:r>
            <a:r>
              <a:rPr b="1" lang="en-US" sz="2300" spc="-1" strike="noStrike">
                <a:solidFill>
                  <a:srgbClr val="000099"/>
                </a:solidFill>
                <a:latin typeface="Tw Cen MT"/>
              </a:rPr>
              <a:t>repeating disaccharide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nit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c00000"/>
                </a:solidFill>
                <a:latin typeface="Tw Cen MT"/>
              </a:rPr>
              <a:t>[acidic sugar-amino sugar]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mino sugar (usually sulfated)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osamine or D-galactosamin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cidic sugar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uronic acid or L-iduronic ac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Gs are strongly negatively-charged: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carboxyl groups of acidic suga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Sulfate grou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7" name="Picture 4" descr="14_001"/>
          <p:cNvPicPr/>
          <p:nvPr/>
        </p:nvPicPr>
        <p:blipFill>
          <a:blip r:embed="rId1"/>
          <a:srcRect l="12502" t="3261" r="16405" b="21843"/>
          <a:stretch/>
        </p:blipFill>
        <p:spPr>
          <a:xfrm>
            <a:off x="5486400" y="1847880"/>
            <a:ext cx="361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silience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52280" y="1512360"/>
            <a:ext cx="65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Tw Cen MT"/>
              </a:rPr>
              <a:t>Relationship between glycosaminoglycan structure and function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Because of negative charges, the GAG chains tend to be extended in solution and repel each other and when brought together, they "slip" past each oth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duces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"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slippery" consistency of mucous secretions and synovial fluid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When a solution of GAGs is compressed, the water is "squeezed out" and the GAGs are forced to occupy a smaller volume. When the compression is released, the GAGs spring back to their original, hydrated volume because of the repulsion of their negative charg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perty contributes to 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resilience of synovial fluid and the vitreous humor of the ey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0" name="Picture 2" descr="E:\c14\14_003.jpg"/>
          <p:cNvPicPr/>
          <p:nvPr/>
        </p:nvPicPr>
        <p:blipFill>
          <a:blip r:embed="rId1"/>
          <a:srcRect l="29687" t="3069" r="39848" b="12068"/>
          <a:stretch/>
        </p:blipFill>
        <p:spPr>
          <a:xfrm>
            <a:off x="6705720" y="214200"/>
            <a:ext cx="22860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52280" y="1588680"/>
            <a:ext cx="87631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xamples of GAGs ar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ndroitin sulfates: Most abundant GA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Keratan sulfates: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heterogeneous GAG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yaluronic acid: Compared to other GAGs, it is unsulfated and not covalently attached to prote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parin: Unlike other GAG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at are extracellular, heparin is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intracellular and serves as an anticoagulan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embers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ake home Mess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carbohyd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o-, Di-, and Poly-saccharid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gar Isomers: Aldo-keto, epimers, D- and L-,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d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anom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lex carbohydrat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.g., Glycosaminoglycans and proteoglyca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GA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mples of GAGs: chondroitin sulfate, keratin sulfate, hyaluronic acid and hepar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722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abundant organic molecules in natu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piric formula is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n,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hydrates of carbon”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important part of energy in die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as the storage form of energy in the bod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17226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diseases associated with disorders of carbohydrate metabolism including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betes mellitu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lactosemia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ycogen storage diseas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ose intoleranc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7110000" y="838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LASSIFIC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2027160"/>
            <a:ext cx="86868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Mon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Simple sugar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Di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2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Olig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3-10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Poly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more than 10 sugar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24520" indent="-223560"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Homopolysaccharides &amp; heteropolysaccharid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1920" y="158904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Further classified based 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1. No. of carbon ato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2. Functional sugar group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Aldehyde group –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ald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Keto group –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ket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1" descr="C:\Documents and Settings\Dr.Chisti\Desktop\OLD Computer\Biochemistry\lippincot Pic\c07\07_001.jpg"/>
          <p:cNvPicPr/>
          <p:nvPr/>
        </p:nvPicPr>
        <p:blipFill>
          <a:blip r:embed="rId1"/>
          <a:srcRect l="4514" t="3705" r="6596" b="29630"/>
          <a:stretch/>
        </p:blipFill>
        <p:spPr>
          <a:xfrm>
            <a:off x="4114800" y="2057400"/>
            <a:ext cx="4876920" cy="18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Dr.Chisti\Desktop\OLD Computer\Biochemistry\lippincot Pic\c07\07_002.jpg"/>
          <p:cNvPicPr/>
          <p:nvPr/>
        </p:nvPicPr>
        <p:blipFill>
          <a:blip r:embed="rId2"/>
          <a:srcRect l="6520" t="0" r="6520" b="22250"/>
          <a:stretch/>
        </p:blipFill>
        <p:spPr>
          <a:xfrm>
            <a:off x="4356000" y="4267080"/>
            <a:ext cx="4330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51000" y="2286000"/>
          <a:ext cx="8458200" cy="312264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3353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Tw Cen MT"/>
                        </a:rPr>
                        <a:t>Ald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Ket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i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yceraldehy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hydroxyacet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n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u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x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uc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ruc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67" name="Rectangle 9"/>
          <p:cNvSpPr/>
          <p:nvPr/>
        </p:nvSpPr>
        <p:spPr>
          <a:xfrm>
            <a:off x="75286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Joining of 2 monosaccharide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by O-glycosidic bo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Mal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 4)= glucose +  gluc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Sucr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2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 fru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Lac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4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gala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Lactos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5" descr="C:\Documents and Settings\Dr.Chisti\Desktop\OLD Computer\Biochemistry\lippincot Pic\c07\07_003.jpg"/>
          <p:cNvPicPr/>
          <p:nvPr/>
        </p:nvPicPr>
        <p:blipFill>
          <a:blip r:embed="rId1"/>
          <a:srcRect l="4674" t="3508" r="4452" b="33335"/>
          <a:stretch/>
        </p:blipFill>
        <p:spPr>
          <a:xfrm>
            <a:off x="1096920" y="2286000"/>
            <a:ext cx="7010280" cy="4137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6"/>
          <p:cNvSpPr/>
          <p:nvPr/>
        </p:nvSpPr>
        <p:spPr>
          <a:xfrm>
            <a:off x="73000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r.Amr</cp:lastModifiedBy>
  <dcterms:modified xsi:type="dcterms:W3CDTF">2015-09-02T11:57:37Z</dcterms:modified>
  <cp:revision>87</cp:revision>
  <dc:subject/>
  <dc:title>Carbohydrates structure and FunCTION</dc:title>
</cp:coreProperties>
</file>