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C89-AB70-4E7F-BB53-5F1FF62E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2B7-6AB6-4311-B1C1-2FC70670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E47-0CEA-40C4-848D-C1390843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D13-F8AE-4827-9556-8B7689A0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2C0-D5CA-4DA6-AD4C-02506827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FD2-5DFE-4DE3-8ADD-6595E098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A3C-99B0-4243-8D93-3F3015D5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10F-BC8B-4D0F-8F4F-C3CF5F96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407-287D-4306-B4F4-8354DA70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831-DA41-45B7-B0B3-DE05678C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D122-DD3F-47EB-9C0D-A8B1E0A0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989-D1B2-438C-A36F-755CDAC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8736-E7EB-41CF-B028-67EAC4E2B2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6_004"/>
          <p:cNvPicPr/>
          <p:nvPr/>
        </p:nvPicPr>
        <p:blipFill>
          <a:blip r:embed="rId1"/>
          <a:srcRect l="22301" t="3975" r="23744" b="17654"/>
          <a:stretch/>
        </p:blipFill>
        <p:spPr>
          <a:xfrm>
            <a:off x="3149640" y="152280"/>
            <a:ext cx="546084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460440" y="3200400"/>
            <a:ext cx="2428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Fatty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Essential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78000" y="2209680"/>
            <a:ext cx="853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. Linoleic acid, 18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2. Linolenic acid, 18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precursor of prostagland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achidonic acid 20: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also considere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ssential fatty aci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f linoleic acid is deficient from di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51444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8610480" y="0"/>
            <a:ext cx="533520" cy="6477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04920" y="0"/>
            <a:ext cx="8381880" cy="304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04200" y="240660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terified form (~90%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riacylglycerol, cholesterol ester, 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as part of lipoprote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e-form (unesterifi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ransported in association with 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Triacylglyce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rage form in adipos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~ 90% of dietary 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lyscerol plus 3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ood transport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 and V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6_022"/>
          <p:cNvPicPr/>
          <p:nvPr/>
        </p:nvPicPr>
        <p:blipFill>
          <a:blip r:embed="rId1"/>
          <a:srcRect l="32406" t="3027" r="31482" b="13241"/>
          <a:stretch/>
        </p:blipFill>
        <p:spPr>
          <a:xfrm>
            <a:off x="3124080" y="22860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1828800" y="1371600"/>
            <a:ext cx="6248520" cy="274320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820600" y="2284560"/>
            <a:ext cx="35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e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etoace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Hydroxybuty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578600" y="1635120"/>
            <a:ext cx="2986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Ketone Bo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033160" y="1495440"/>
            <a:ext cx="38048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Water-sol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Diabetic Ketoacid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219060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057400" y="0"/>
            <a:ext cx="3657600" cy="209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85800" y="1371600"/>
            <a:ext cx="80391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. Glycero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ycerol-containing 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 Phosphatidylcholine (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.g.,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urfactant (Dipalmitoy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 Phosphatidyl inositol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signaling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B. Sphingo-phospho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phingosine-containing phospholip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, sphingomyeli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Myelin sh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(To be discussed with CNS 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95480" y="492120"/>
            <a:ext cx="3581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7_001"/>
          <p:cNvPicPr/>
          <p:nvPr/>
        </p:nvPicPr>
        <p:blipFill>
          <a:blip r:embed="rId1"/>
          <a:srcRect l="24169" t="2831" r="46669" b="19813"/>
          <a:stretch/>
        </p:blipFill>
        <p:spPr>
          <a:xfrm>
            <a:off x="1600200" y="228600"/>
            <a:ext cx="2666880" cy="6248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419720" y="1219320"/>
            <a:ext cx="3968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Phosphatidylcho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.g., Surfa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Dipalmitoyl 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425840" y="415800"/>
            <a:ext cx="3935880" cy="1069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. Glycero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/>
          <p:cNvSpPr/>
          <p:nvPr/>
        </p:nvSpPr>
        <p:spPr>
          <a:xfrm rot="2628600">
            <a:off x="4366800" y="4800600"/>
            <a:ext cx="762120" cy="762120"/>
          </a:xfrm>
          <a:custGeom>
            <a:avLst/>
            <a:gdLst>
              <a:gd name="textAreaLeft" fmla="*/ 101880 w 762120"/>
              <a:gd name="textAreaRight" fmla="*/ 660240 w 7621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4399560" y="1752480"/>
            <a:ext cx="31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arent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atid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8_002"/>
          <p:cNvPicPr/>
          <p:nvPr/>
        </p:nvPicPr>
        <p:blipFill>
          <a:blip r:embed="rId1"/>
          <a:srcRect l="13866" t="3884" r="16968" b="17478"/>
          <a:stretch/>
        </p:blipFill>
        <p:spPr>
          <a:xfrm>
            <a:off x="4572000" y="380880"/>
            <a:ext cx="4038480" cy="617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Cholesterol: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152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Overview and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2440" y="1357200"/>
            <a:ext cx="8972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j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erol of anim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onent of cell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ecursor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Bile acids &amp; 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Vitami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Steroid horm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ineralocorticoids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Ald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lucocorticoid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Cort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x hormone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Test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Estrogen &amp; 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ypercholesterolemi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herosclerosis &amp; 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ipoprotei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6720" y="1847880"/>
            <a:ext cx="864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tein part: Apoproteins or apo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bbrevia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o-A, B,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tructural and transpor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zymati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igands f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ccording to the type of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Different lipid components in various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ipid Compounds of Physiological Signific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56080" y="4124160"/>
            <a:ext cx="7463880" cy="76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D, Ph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8_014"/>
          <p:cNvPicPr/>
          <p:nvPr/>
        </p:nvPicPr>
        <p:blipFill>
          <a:blip r:embed="rId1"/>
          <a:srcRect l="17504" t="2021" r="15833" b="19294"/>
          <a:stretch/>
        </p:blipFill>
        <p:spPr>
          <a:xfrm>
            <a:off x="1600200" y="53352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571500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8_019"/>
          <p:cNvPicPr/>
          <p:nvPr/>
        </p:nvPicPr>
        <p:blipFill>
          <a:blip r:embed="rId1"/>
          <a:srcRect l="35835" t="2397" r="34170" b="15528"/>
          <a:stretch/>
        </p:blipFill>
        <p:spPr>
          <a:xfrm>
            <a:off x="2971800" y="152280"/>
            <a:ext cx="2743200" cy="6629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228600" y="2209680"/>
            <a:ext cx="2971800" cy="228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15000" y="5778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ylomi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ry 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V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8_025"/>
          <p:cNvPicPr/>
          <p:nvPr/>
        </p:nvPicPr>
        <p:blipFill>
          <a:blip r:embed="rId1"/>
          <a:srcRect l="38387" t="23741" r="37629" b="17268"/>
          <a:stretch/>
        </p:blipFill>
        <p:spPr>
          <a:xfrm>
            <a:off x="1523880" y="304920"/>
            <a:ext cx="2667240" cy="6248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4343400" y="30481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Ultracentrifu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39760" y="2208240"/>
            <a:ext cx="85993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iacylglycerol trans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etary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V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dogenous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olesterol trans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ainly free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ainly esterifie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Take 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1080" y="1828800"/>
            <a:ext cx="9100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are heterogeneous group of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are relatively water-in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ple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FA, TG, Ketone bodies, 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lex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.g., Phospholipids, 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have important physiologic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disorders are the basis for common hu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ases, namel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besit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7432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unctions of lipi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linical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id compounds of physiological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lex lipid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olipids, glycolipids and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Functions of lipi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jor energy source for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ructural component of cell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portant regulatory molec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t-soluble vitamin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teroid hormone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ostaglandin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ignaling molecules: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ositol triphosphate (I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ipids and Related Clinic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be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therosclerosis and hyperten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ronary heart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57913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Lipi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terogeneous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latively water-insoluble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? Exception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luble in non-polar sol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5_001"/>
          <p:cNvPicPr/>
          <p:nvPr/>
        </p:nvPicPr>
        <p:blipFill>
          <a:blip r:embed="rId1"/>
          <a:srcRect l="25384" t="1868" r="22640" b="19627"/>
          <a:stretch/>
        </p:blipFill>
        <p:spPr>
          <a:xfrm>
            <a:off x="3352680" y="152280"/>
            <a:ext cx="327672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5569560" y="4530600"/>
            <a:ext cx="3525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ipid Compou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eterogeneou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44360" y="762120"/>
            <a:ext cx="3219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. Simple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tone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iacylgly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51560" y="3733920"/>
            <a:ext cx="356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. Complex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hosph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Glyc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Fatty Acids (F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16_002"/>
          <p:cNvPicPr/>
          <p:nvPr/>
        </p:nvPicPr>
        <p:blipFill>
          <a:blip r:embed="rId1"/>
          <a:srcRect l="3027" t="2612" r="3150" b="55561"/>
          <a:stretch/>
        </p:blipFill>
        <p:spPr>
          <a:xfrm>
            <a:off x="1143000" y="25909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537480" y="535932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mphipathic: Both hydrophobic &amp; hydrophilic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070840" y="2438280"/>
            <a:ext cx="311040" cy="266724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85800" y="2438280"/>
            <a:ext cx="7397640" cy="2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43040" y="2666880"/>
            <a:ext cx="233280" cy="243864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4320" y="1371600"/>
            <a:ext cx="834804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in leng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hort-chain and Medium-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ong-Chain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.g., Palmitic acid 16: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ry long-cha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.g., Nervonic acid 24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. Degree of sat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aturated: No doubl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nsaturated: Mono- or poly-unsatu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is- or trans-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 Essential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oo alde</cp:lastModifiedBy>
  <dcterms:modified xsi:type="dcterms:W3CDTF">2015-09-15T11:28:32Z</dcterms:modified>
  <cp:revision>24</cp:revision>
  <dc:subject/>
  <dc:title>PowerPoint Presentation</dc:title>
</cp:coreProperties>
</file>