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BB2-C9C2-406B-8828-4DA54543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DB0-1C2C-4BE1-A474-361B6FD3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B3E-C61E-4EB4-8131-63F3839A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E99D-33D7-4931-BB07-55D85F6C6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2F2-CADD-459C-AE5F-670B5EF3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F77-571B-4D6D-B4C0-911CB131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6E43-01CF-433F-B9B1-3C69E664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443D-677F-4E24-95FA-8600682A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EA8-2EF0-47E1-AF71-A0D9AA58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B93-9684-4502-84F0-0D3DB2C0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D86-06F5-4DF1-AB19-9205DB81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E75A-F40F-4B5B-81C8-32E5E57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CF5C-92A0-46D8-B8AE-7D00EAFDAD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6_004"/>
          <p:cNvPicPr/>
          <p:nvPr/>
        </p:nvPicPr>
        <p:blipFill>
          <a:blip r:embed="rId1"/>
          <a:srcRect l="22301" t="3975" r="23744" b="17654"/>
          <a:stretch/>
        </p:blipFill>
        <p:spPr>
          <a:xfrm>
            <a:off x="3149640" y="152280"/>
            <a:ext cx="546084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460440" y="3200400"/>
            <a:ext cx="2428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Fatty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533520"/>
            <a:ext cx="7924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Essential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78000" y="2209680"/>
            <a:ext cx="853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. Linoleic acid, 18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. Linolenic acid, 18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e precursor of prostagland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achidonic acid 20: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s also considere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ssential fatty aci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f linoleic acid is deficient from di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0" y="0"/>
            <a:ext cx="51444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8610480" y="0"/>
            <a:ext cx="533520" cy="64771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04920" y="0"/>
            <a:ext cx="8381880" cy="304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04200" y="240660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sterified form (~90%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iacylglycerol, cholesterol ester,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as part of lipo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ee-form (unesterifie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ransported in association with albu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Triacylglyce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orage form in adipose tiss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~ 90% of dietary 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lyscerol plus 3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ood transport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 and VL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16_022"/>
          <p:cNvPicPr/>
          <p:nvPr/>
        </p:nvPicPr>
        <p:blipFill>
          <a:blip r:embed="rId1"/>
          <a:srcRect l="32406" t="3027" r="31482" b="13241"/>
          <a:stretch/>
        </p:blipFill>
        <p:spPr>
          <a:xfrm>
            <a:off x="3124080" y="228600"/>
            <a:ext cx="2971800" cy="632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2"/>
          <p:cNvSpPr/>
          <p:nvPr/>
        </p:nvSpPr>
        <p:spPr>
          <a:xfrm>
            <a:off x="1828800" y="1371600"/>
            <a:ext cx="6248520" cy="27432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2820600" y="2284560"/>
            <a:ext cx="35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cetoace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33cc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-Hydroxybuty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578600" y="1635120"/>
            <a:ext cx="298656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Ketone Bod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033160" y="1495440"/>
            <a:ext cx="380484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Water-sol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Diabetic Ketoacid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2190600" cy="6553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57400" y="0"/>
            <a:ext cx="3657600" cy="20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5800" y="1371600"/>
            <a:ext cx="80391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A. Glycerophospho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erol-containing 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 Phosphatidylcholine (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.g.,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urfactant (Dipalmitoylec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 Phosphatidyl inositol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(signaling molecu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. Sphingo-phospho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phingosine-containing phospholipi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 sphingomyelin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Myelin shea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(To be discussed with CNS Blo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95480" y="492120"/>
            <a:ext cx="3581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17_001"/>
          <p:cNvPicPr/>
          <p:nvPr/>
        </p:nvPicPr>
        <p:blipFill>
          <a:blip r:embed="rId1"/>
          <a:srcRect l="24169" t="2831" r="46669" b="19813"/>
          <a:stretch/>
        </p:blipFill>
        <p:spPr>
          <a:xfrm>
            <a:off x="1600200" y="228600"/>
            <a:ext cx="2666880" cy="62485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4419720" y="1219320"/>
            <a:ext cx="396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Phosphatidylcho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.g., Surfac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Dipalmitoyl lecith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425840" y="415800"/>
            <a:ext cx="3935880" cy="1069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Phospholipi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. Glycerophospholip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 rot="2628600">
            <a:off x="4366800" y="4800600"/>
            <a:ext cx="762120" cy="762120"/>
          </a:xfrm>
          <a:custGeom>
            <a:avLst/>
            <a:gdLst>
              <a:gd name="textAreaLeft" fmla="*/ 101880 w 762120"/>
              <a:gd name="textAreaRight" fmla="*/ 660240 w 7621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4399560" y="1752480"/>
            <a:ext cx="314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arent Comp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atidic ac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8_002"/>
          <p:cNvPicPr/>
          <p:nvPr/>
        </p:nvPicPr>
        <p:blipFill>
          <a:blip r:embed="rId1"/>
          <a:srcRect l="13866" t="3884" r="16968" b="17478"/>
          <a:stretch/>
        </p:blipFill>
        <p:spPr>
          <a:xfrm>
            <a:off x="4572000" y="380880"/>
            <a:ext cx="4038480" cy="6172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50532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Cholesterol: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52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Impact"/>
              </a:rPr>
              <a:t>Overview and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82440" y="1357200"/>
            <a:ext cx="897264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jo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terol of anima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Precursor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Bile acids &amp; sa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Vitamin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Steroid horm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Mineralocorticoids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Ald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Glucocorticoid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Corti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x hormones, e.g.,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Testo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Estrogen &amp; 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Hypercholesterolemia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herosclerosis &amp; C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Lipoprotein Stru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6720" y="1847880"/>
            <a:ext cx="86479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rotein part: Apoproteins or apo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bbreviation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po-A, B,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un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tructural and transport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zymatic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Ligands for recep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p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According to the type of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Different lipid components in various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dcdc00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Impact"/>
              </a:rPr>
              <a:t>Lipid Compounds of Physiological Signific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201560" y="2678040"/>
            <a:ext cx="834480" cy="764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8f8f00"/>
              </a:gs>
            </a:gsLst>
            <a:lin ang="2700000"/>
          </a:gra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56080" y="4124160"/>
            <a:ext cx="7463880" cy="76428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MD, Ph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8_014"/>
          <p:cNvPicPr/>
          <p:nvPr/>
        </p:nvPicPr>
        <p:blipFill>
          <a:blip r:embed="rId1"/>
          <a:srcRect l="17504" t="2021" r="15833" b="19294"/>
          <a:stretch/>
        </p:blipFill>
        <p:spPr>
          <a:xfrm>
            <a:off x="1600200" y="533520"/>
            <a:ext cx="6095880" cy="5943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715000" y="5410080"/>
            <a:ext cx="3352680" cy="7621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Lipoprotein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18_019"/>
          <p:cNvPicPr/>
          <p:nvPr/>
        </p:nvPicPr>
        <p:blipFill>
          <a:blip r:embed="rId1"/>
          <a:srcRect l="35835" t="2397" r="34170" b="15528"/>
          <a:stretch/>
        </p:blipFill>
        <p:spPr>
          <a:xfrm>
            <a:off x="2971800" y="152280"/>
            <a:ext cx="2743200" cy="6629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7"/>
          <p:cNvSpPr/>
          <p:nvPr/>
        </p:nvSpPr>
        <p:spPr>
          <a:xfrm>
            <a:off x="228600" y="2209680"/>
            <a:ext cx="2971800" cy="228600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Compos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715000" y="577800"/>
            <a:ext cx="3429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ylomic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Very 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V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w den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L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igh den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oprotein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(HD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8_025"/>
          <p:cNvPicPr/>
          <p:nvPr/>
        </p:nvPicPr>
        <p:blipFill>
          <a:blip r:embed="rId1"/>
          <a:srcRect l="38387" t="23741" r="37629" b="17268"/>
          <a:stretch/>
        </p:blipFill>
        <p:spPr>
          <a:xfrm>
            <a:off x="1523880" y="304920"/>
            <a:ext cx="2667240" cy="6248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4343400" y="3048120"/>
            <a:ext cx="4572000" cy="19047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Ultracentrifu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Impact"/>
              </a:rPr>
              <a:t>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Plasma Lipo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39760" y="2208240"/>
            <a:ext cx="85993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ylomicrons: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dietary ori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V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TG of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ndogenous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 transpo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inly free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DL: 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Mainly esterified 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057400" y="533520"/>
            <a:ext cx="5486400" cy="99036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Take Home Mess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81080" y="1828800"/>
            <a:ext cx="9100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heterogeneous group of com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are relatively water-insolu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FA, TG, Ketone bodies, 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e.g., Phospholipids, Lipo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 have important physiological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 disorders are the basis for common hu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iseases, name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obesit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theroscler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27432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unctions of lipid compo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linical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ipid compounds of physiological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mplex lipid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hospholipids, glycolipids and lipo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5438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Functions of 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jor energy source for the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ructural component of cell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mportant regulatory molec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e.g.,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Fat-soluble vitam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teroid hormone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ostaglandins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Signaling molecules: </a:t>
            </a: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Inositol triphosphate (IP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ipids and Related Clinic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be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therosclerosis and hyperten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ronary heart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57913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Lipid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geneous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latively water-insoluble 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(? Exception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1199"/>
              </a:spcAft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luble in non-polar solv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5_001"/>
          <p:cNvPicPr/>
          <p:nvPr/>
        </p:nvPicPr>
        <p:blipFill>
          <a:blip r:embed="rId1"/>
          <a:srcRect l="25384" t="1868" r="22640" b="19627"/>
          <a:stretch/>
        </p:blipFill>
        <p:spPr>
          <a:xfrm>
            <a:off x="3352680" y="152280"/>
            <a:ext cx="327672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5569560" y="4530600"/>
            <a:ext cx="3525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ipid Compoun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Heterogeneous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144360" y="762120"/>
            <a:ext cx="3219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. Simple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tone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riacylglyc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51560" y="3733920"/>
            <a:ext cx="3561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B. Complex Lip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hosph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Glyco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 (F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16_002"/>
          <p:cNvPicPr/>
          <p:nvPr/>
        </p:nvPicPr>
        <p:blipFill>
          <a:blip r:embed="rId1"/>
          <a:srcRect l="3027" t="2612" r="3150" b="55561"/>
          <a:stretch/>
        </p:blipFill>
        <p:spPr>
          <a:xfrm>
            <a:off x="1143000" y="2590920"/>
            <a:ext cx="7086600" cy="2438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537480" y="5359320"/>
            <a:ext cx="82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mphipathic: Both hydrophobic &amp; hydrophilic p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Fatty Ac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8070840" y="2438280"/>
            <a:ext cx="311040" cy="26672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685800" y="2438280"/>
            <a:ext cx="739764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43040" y="2666880"/>
            <a:ext cx="233280" cy="2438640"/>
          </a:xfrm>
          <a:prstGeom prst="rect">
            <a:avLst/>
          </a:prstGeom>
          <a:solidFill>
            <a:srgbClr val="66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54320" y="1371600"/>
            <a:ext cx="8348040" cy="53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hain lengt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hort-chain and Medium-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Long-Chain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.g., Palmitic acid 16: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Very long-chain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e.g., Nervonic acid 24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. Degree of satur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Saturated: No double b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Unsaturated: Mono- or poly-unsatu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Cis- or trans-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3. Essential fatty ac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oo alde</cp:lastModifiedBy>
  <dcterms:modified xsi:type="dcterms:W3CDTF">2015-09-15T11:28:32Z</dcterms:modified>
  <cp:revision>24</cp:revision>
  <dc:subject/>
  <dc:title>PowerPoint Presentation</dc:title>
</cp:coreProperties>
</file>