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E18E-7551-46E9-ADBE-AA6A0CCDB2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A9AF-5A93-4FD9-8992-136CD89D8AD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1336-6A1E-48DC-8BD8-ADB7B8FD77C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0584-2124-4580-9A6B-5241ACA831B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23C-0BDC-4B86-AC6D-C8642CCC629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94B-B7E4-47EB-84CA-B1B20433F42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28A5-8B4B-484A-8A4D-7ABD670C9A9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5E5F-47BD-42B1-BB1A-F596F0C78D5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60F1-D484-474A-90D2-F2C11F2DD69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14F0-1A20-4348-A15B-AE5FDFDC0F8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CC7-37B1-43EC-955E-94584BB0056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212F-4D79-4646-B321-4BF93929269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C211-A850-4829-9AED-CB7568E2E3B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CC5-6812-43D4-9A9F-7A977679E67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8F2-3A0B-4DAE-A2A2-0762E76DEA7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50AA-A1A9-430E-8BE5-7141E7E7176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240"/>
            <a:ext cx="5403960" cy="46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aboo alde</cp:lastModifiedBy>
  <dcterms:modified xsi:type="dcterms:W3CDTF">2015-08-31T12:03:50Z</dcterms:modified>
  <cp:revision>392</cp:revision>
  <dc:subject/>
  <dc:title>Epithelium</dc:title>
</cp:coreProperties>
</file>