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6DA4-5AB7-477E-B391-601BCC83FBD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5261-238A-42DD-B46A-C4C36CB8F23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E058-804F-4FBB-A9F4-349D232C8E5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F14-E33C-4BB5-94E8-8A19AB3784F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A1F0-F195-467B-A80F-A7CB642F958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B04B-D409-487A-865C-3E4AE5E12957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DC67-C9FB-4005-9E93-8FE40E2019E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F4A1-7418-42E9-9017-0026B27A26C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C4B-A772-45CF-805D-02D4A91A830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08BE-E2B5-418B-966D-E3AA0A0842B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25E3-F798-42E8-82EC-8E9D06009E0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B4D4-9694-4AE7-A3EE-C783178FC68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2A96-240C-410A-96C4-B5CC417F1A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728C-0A50-4A46-B287-3B45AF39BCC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6D07-1A17-4BB3-AA6D-51F1F8D0BB5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18B-E44F-4C0F-9381-7B96720B9810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aboo alde</cp:lastModifiedBy>
  <dcterms:modified xsi:type="dcterms:W3CDTF">2015-08-31T12:03:50Z</dcterms:modified>
  <cp:revision>392</cp:revision>
  <dc:subject/>
  <dc:title>Epithelium</dc:title>
</cp:coreProperties>
</file>