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png" ContentType="image/png"/>
  <Override PartName="/ppt/media/image4.jpeg" ContentType="image/jpeg"/>
  <Override PartName="/ppt/media/driveby.wav" ContentType="audio/x-wav"/>
  <Override PartName="/ppt/media/image5.png" ContentType="image/pn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3D185-1AB0-414B-95CA-9F51A0D821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2AC1F-F269-4267-A0F8-C53E9F90BF2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6B08F0-AC6D-4BEF-93F3-1B9090C0DF4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163C65-CC31-48A8-966B-B20E2C6AF6A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4714D2-8209-4A27-81F4-5C1C5837266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689EDC-5EFF-4BE3-80EF-2132F024447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AD85B6-DEB9-4420-AF79-6BD581612C5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469FF6-B1E1-411F-BB4C-D460EC41CC6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5A19D0-8F3B-4AE5-AD09-BB0C0887F8E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0DE2BC-EF98-4EFF-A25E-6B5A1BC8B49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361490-600C-4BED-86B1-FF5CB178C5E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7266C-D510-4978-8FB9-3125493EB8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6659F-7AB0-4E6C-9D8F-66F16F6A50A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F27BC-95EC-4334-9862-0B480130EDD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27483-4441-472A-A6AD-9197900883C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B11A4-FABC-44FF-9FA4-BD0BC0CF520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6B8B5-2664-4974-AFBC-1A7EBE57E46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3CE97-CBBE-4601-B90B-1729A1BDB11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698BB-C792-4527-A024-0D1A4C8D278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1F8C0-2C65-4AED-BBDA-100F6A33050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D4582-A992-46CE-815A-B0BB7766D17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00832-3173-477E-B0A2-872C851323E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61843-9059-4848-846D-9A9CBF7ADF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B0CCC-546B-4677-844A-C61C575A8BB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904B7-E7BB-4549-9799-23B23527EC7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D2D894-50C0-4BB4-A6B3-EEE37CC6322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546A2E-8313-471A-9A49-484FC8341B2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65A255-95F9-4788-A46F-5873F93039C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F4A06F-5F82-4373-A73A-55F9B599E83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722D8C-2F2B-4B8E-A4FD-7536BF88DC7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1334D0-09A4-481C-9E57-B692C6C9BCA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DCE1D7-FB20-4E19-817F-36A421C2FE9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ACB59B-73EA-4ECF-AF0A-4E5F760F06D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11204E-25E3-4A44-90C3-2EAA736016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C45BE-2DE8-4D47-AEC8-E72B19832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F11B30-0ABC-43A5-AFAA-C269FDFABAA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1D69C5-0BB9-4596-8971-D8DAC379349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2F7BA0-89CE-4E72-9B2F-C43B2F0CD63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B21154-15B1-463F-AEC8-D9DC957EC0C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F92EC9-73FC-47FD-A891-3D524B417A8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4C849C-D277-4BEC-8B48-1A33F9C7FD6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D25B44-6CE2-434D-A2D1-FBC149E6048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4E860D-34CB-4885-A348-043E1EDACC4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7FB970-DC93-4CFE-9FC5-CCA2F299564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0FBAB5-9CA9-4452-BCD1-77E69FF8B0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DE3C3D-B5FC-4893-9D15-CF88BB4C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D78E14-AF9F-407D-ACE8-DA8C10998D1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482E49-63B7-4330-9967-A5F2C3C038A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828598-9E45-4B59-8CD6-6689AF6E405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88C271-245B-4861-8EA0-961BD07CD27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9F67C0-B771-4BC2-BEC0-2BA849A178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B14EE0-9737-4433-912D-28B4FA4D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CF2FE-A59A-444F-B2FE-16CFE9EF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FBA6BE-0636-45AE-B5B7-F04261A0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4B650-2E41-4D37-B5E7-AAB4F0BB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8C0A49-87B8-45E9-BD02-EA8BF444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17233-E26D-4918-BDFC-CEA1A9EB0C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465E9C-A3D3-4A1E-81BA-9E53BCCB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C92811-BB75-4AC3-B09E-B5C51482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34CDE6-40B5-452D-B962-5AAD8383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C5D696-04B2-4108-B7EB-45559EE8D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8D477-D6DC-483E-B255-6B23A89DA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6A5B1-0DBD-4BF9-8DA7-BE708125B43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C0EBC-E2E0-4A8C-8724-2D10E917990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849A7E-8233-4095-B5D3-9C1B34F8164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B66792-6F84-4791-A9D0-07886F47D49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C2DF34-DB54-41FF-9671-4678F86116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A99F8-8886-4FB4-AA5E-C140FE74824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438F7-163A-4380-8EF9-59779793EF0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54519-AF8D-40FA-A698-D5512A642C5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1F2B1-75F3-4FCD-90B7-2E0CBB10A42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67D84-089F-49DD-8558-A0AB1ECBB92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5031C4-0B49-495D-9A3C-2FBC92019DF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2C26F5-FFAD-4A3D-905B-8DC225B2F71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309C0-4C21-4CC4-8BDE-05269913CAE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3F23-0673-4823-9B53-27F678663C0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92B2E-F496-440E-92BB-8E363C5F7D6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19E9-B759-4D28-AD19-1FD3CC4CBE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7B735-463D-40EA-A707-2EDCA3AA113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5520-3854-4DD0-B3EA-FFA15FC8649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3C95-222E-4971-A3BA-43AE7EAA75C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ADBE-B293-479B-88FB-C87DA208288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93EF-9B6E-4CB6-AA00-0A11D674A07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984C-C9A5-43D2-B586-5ACDA82E643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A617-49AA-4FC1-8D34-9EEE2061C47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9231-F527-4216-A6FB-384BF3AC5AA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C2A5-6A59-40B9-BFB2-9022EE063C6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2EE0-814A-4C10-8E28-3802F6D6425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7DA9D4-5975-4F5D-A505-996887113B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AF87C-3004-4648-8781-432B44BDD9D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91A16E-6DD5-4D2C-9464-EFEEFBCD656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A9E7E7-604C-42B8-82F6-9F8332AB5F6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5FD24C-6D66-4754-8CB7-E7F9C1040B3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D0E7E7-C28E-4CB6-AA2D-54F6A581C88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1FA95F-0132-482C-A0DD-9AB4BBC92AD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B8F237-C41E-46A4-91EA-4C1BEE68E45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F792F7-2C0F-4D5D-BBE2-667448A3D82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9BD692-3B87-465A-AAA2-8A499FBD626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950B0D-EFFB-4B64-99C0-EC24DD3156D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C464C8-DB80-45C7-A3CB-33816E1AB1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8DBCB-25D0-4072-93A3-336A3F8BDB7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D39612-DFB9-47B3-9B89-7F99AABF8CE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1CD5BF-EE36-442A-ABB9-6CA5D710294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62F9E4-C35D-4CC6-AFAB-6C40AF9FC19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7903DA-FB1A-4BFA-BF2C-C57D6A9C150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F0D904-EB43-431C-9F7E-8BFD09C3FB7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72CC68-06BF-4B13-A77B-6BC9253C3A2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B9DA5F-6B50-4D77-804A-D618C0543F6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76B31B-C8F2-4D43-846B-1617C419DF1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940ABC-688B-4DC2-B546-123DF3BE1B9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DFDB51-A2B6-497C-9227-406DE76332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C337A-D080-40DD-9B15-29398BABA81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8F4231-994D-4FA5-A161-1341E2994F5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CFD5A9-4B82-4435-BD4D-92C57D69CBA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8045F9-082A-45B3-877D-45850393D21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401DB-84D3-42C6-A33C-4569E682EF2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165A9-F017-44CE-AD54-EC4F5E8EE4D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53994-100F-458B-BE30-AAA07AEEA27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F5FBD-731C-4943-9DBD-1351E064801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19F40-3078-41FA-9FE7-F52B378E03A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BA86B-3EAC-40BB-B950-81042A38E3B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550AE-A47D-416C-871B-50BD3D6406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C7BD9-BD33-452A-8FA1-08DA9D06C45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915BB-7287-4ACE-B747-FCCD52FF51E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1A512-D744-4BA4-9164-59B4A9B180C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4B6EF-5754-483A-AD40-CA060ED10DF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B782F-4FDC-4307-8491-CC003DA3CDC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7D9D7-3C8D-4878-83D3-AA668495178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25EB31-F73B-4963-A85E-492FAB59986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BDB403-9153-4D40-8919-B1B592BCA63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594097-40B0-4716-868A-3A73A493254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5FAA98-3DB5-4EE3-956E-F2A959556FB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53156A-1DE5-46C9-A4BB-24AB9913A1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7F48D-C8C7-4190-80D7-82A71AD7984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D54B69-E634-46DD-8DAF-7BEC8B90C1C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F28395-2E58-4F9D-9221-655C45036F1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C6FE4B-7A30-4DEC-B2F1-03846828EE2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2862E2-64A7-45AE-9D54-B2D21BD542F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0666C4-3FBB-460A-9818-B0AAC5648F7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ABAC07-A9FA-46F4-98D5-139AEA9A903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F03E25-8CB9-48E3-896B-19DCFA942A0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C3F4F6-3C58-4775-B253-FFB218C63C8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41405D-5106-493C-B05A-6C5D7F0B386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4DD2AA-DFFC-4783-9341-813DEE7864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5c6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Text Box 13"/>
          <p:cNvSpPr/>
          <p:nvPr/>
        </p:nvSpPr>
        <p:spPr>
          <a:xfrm>
            <a:off x="533520" y="6491160"/>
            <a:ext cx="3733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Mosby items and derived items © 2006 by Mosby, Inc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529D-0426-428D-883D-626DCA7C50EC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5c6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D7DA-583F-47CE-A087-773901CB91B1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5c6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649B-C52D-4C16-A0ED-2B485086067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5c6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8FDF-27F6-4BFC-90E5-2512869E71F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5c6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6529-F62B-42BB-BFA6-EB5CCAAFB40C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5c6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157C-B1A9-461F-8BD7-704ACA255341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5c6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D8E4-3E06-4FF9-B9D8-EA2FF9038A7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5c6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AFA8-DB3B-442D-B2E2-A9AE9D7ACDD4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5c6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12E7-C582-4B42-B36A-0D43CE22063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5c6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2ADC-1449-40D2-AD16-675B92D5C4B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5c6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5732-29B7-43C0-A7D4-BD8A2380143E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5c6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A4BF-AD7F-40EC-BCB1-5CB266E96D54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1447560"/>
            <a:ext cx="76964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Natural Defense Mechanisms</a:t>
            </a:r>
            <a:endParaRPr b="0" lang="en-US" sz="48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304920" y="52574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munology Un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pt. of Patholo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llege of Medic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S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TextBox 1"/>
          <p:cNvSpPr/>
          <p:nvPr/>
        </p:nvSpPr>
        <p:spPr>
          <a:xfrm>
            <a:off x="7467480" y="582444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ecture 2/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oundation blo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flammation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89560" indent="-427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9560" indent="-427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vent and limit infection and further dam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9560" indent="-427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teract with adaptive immune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9560" indent="-427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example Monocytes / Macrophage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rve as a link between the adaptive an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nate immunity by antigen pres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9560" indent="-427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pare the area of injury for hea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89560" indent="-427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533520" y="380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853200" indent="-410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53200" indent="-410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e Complement syste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853200" indent="-4100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853200" indent="-410040">
              <a:lnSpc>
                <a:spcPct val="90000"/>
              </a:lnSpc>
              <a:spcBef>
                <a:spcPts val="901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nsist of a group of serum proteins circulate in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nactiv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form once they become activated they produce important biological effects that initiate inflammation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853200" indent="-410040">
              <a:lnSpc>
                <a:spcPct val="90000"/>
              </a:lnSpc>
              <a:spcBef>
                <a:spcPts val="901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system plays an important role in linking Innate &amp; Adaptive immun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853200" indent="-4100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complement system: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720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Pathways of activation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* Classic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s antigen-antibody bind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1,C4,C2,C3,C5,C6,C7,C8,C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* Lecti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vated by mannan binding protien binding manose groups of bacterial carbohydrat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-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4,C2,C3,C5,C6,C7,C8,C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ternati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vated by bacterial produc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-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3,C5,C6,C7,C8,C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FDC0-0289-4617-9035-88AD6E67523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9" name="Picture 5" descr=""/>
          <p:cNvPicPr/>
          <p:nvPr/>
        </p:nvPicPr>
        <p:blipFill>
          <a:blip r:embed="rId1"/>
          <a:stretch/>
        </p:blipFill>
        <p:spPr>
          <a:xfrm>
            <a:off x="41400" y="914400"/>
            <a:ext cx="9061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4"/>
          <p:cNvSpPr/>
          <p:nvPr/>
        </p:nvSpPr>
        <p:spPr>
          <a:xfrm>
            <a:off x="1522440" y="566640"/>
            <a:ext cx="49528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mbrane Attack Complex form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5-activ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1" name="Group 5"/>
          <p:cNvGrpSpPr/>
          <p:nvPr/>
        </p:nvGrpSpPr>
        <p:grpSpPr>
          <a:xfrm>
            <a:off x="6392520" y="3651480"/>
            <a:ext cx="1152720" cy="1859040"/>
            <a:chOff x="6392520" y="3651480"/>
            <a:chExt cx="1152720" cy="1859040"/>
          </a:xfrm>
        </p:grpSpPr>
        <p:sp>
          <p:nvSpPr>
            <p:cNvPr id="542" name="AutoShape 6"/>
            <p:cNvSpPr/>
            <p:nvPr/>
          </p:nvSpPr>
          <p:spPr>
            <a:xfrm>
              <a:off x="6475320" y="3692520"/>
              <a:ext cx="990360" cy="1818000"/>
            </a:xfrm>
            <a:prstGeom prst="flowChartProcess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3b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AutoShape 7"/>
            <p:cNvSpPr/>
            <p:nvPr/>
          </p:nvSpPr>
          <p:spPr>
            <a:xfrm rot="21544200">
              <a:off x="6397200" y="3660840"/>
              <a:ext cx="1143000" cy="609480"/>
            </a:xfrm>
            <a:prstGeom prst="flowChartMerge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4" name="Group 8"/>
          <p:cNvGrpSpPr/>
          <p:nvPr/>
        </p:nvGrpSpPr>
        <p:grpSpPr>
          <a:xfrm>
            <a:off x="4853880" y="3817440"/>
            <a:ext cx="1868040" cy="2331000"/>
            <a:chOff x="4853880" y="3817440"/>
            <a:chExt cx="1868040" cy="2331000"/>
          </a:xfrm>
        </p:grpSpPr>
        <p:grpSp>
          <p:nvGrpSpPr>
            <p:cNvPr id="545" name="Group 9"/>
            <p:cNvGrpSpPr/>
            <p:nvPr/>
          </p:nvGrpSpPr>
          <p:grpSpPr>
            <a:xfrm>
              <a:off x="4853880" y="3817440"/>
              <a:ext cx="1868040" cy="2331000"/>
              <a:chOff x="4853880" y="3817440"/>
              <a:chExt cx="1868040" cy="2331000"/>
            </a:xfrm>
          </p:grpSpPr>
          <p:sp>
            <p:nvSpPr>
              <p:cNvPr id="546" name="AutoShape 10"/>
              <p:cNvSpPr/>
              <p:nvPr/>
            </p:nvSpPr>
            <p:spPr>
              <a:xfrm rot="21344400">
                <a:off x="4985640" y="3947760"/>
                <a:ext cx="1523880" cy="1904760"/>
              </a:xfrm>
              <a:prstGeom prst="pie">
                <a:avLst/>
              </a:prstGeom>
              <a:solidFill>
                <a:srgbClr val="33cc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C2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AutoShape 11"/>
              <p:cNvSpPr/>
              <p:nvPr/>
            </p:nvSpPr>
            <p:spPr>
              <a:xfrm rot="21286800">
                <a:off x="4949640" y="3889080"/>
                <a:ext cx="1676160" cy="2187360"/>
              </a:xfrm>
              <a:custGeom>
                <a:avLst/>
                <a:gdLst>
                  <a:gd name="textAreaLeft" fmla="*/ 66600 w 1676160"/>
                  <a:gd name="textAreaRight" fmla="*/ 1609560 w 1676160"/>
                  <a:gd name="textAreaTop" fmla="*/ 0 h 2187360"/>
                  <a:gd name="textAreaBottom" fmla="*/ 942840 h 2187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7730" y="8553"/>
                    </a:moveTo>
                    <a:cubicBezTo>
                      <a:pt x="8446" y="7574"/>
                      <a:pt x="9587" y="6995"/>
                      <a:pt x="10800" y="6996"/>
                    </a:cubicBezTo>
                    <a:cubicBezTo>
                      <a:pt x="12012" y="6996"/>
                      <a:pt x="13153" y="7574"/>
                      <a:pt x="13869" y="8553"/>
                    </a:cubicBezTo>
                    <a:lnTo>
                      <a:pt x="19515" y="4421"/>
                    </a:lnTo>
                    <a:cubicBezTo>
                      <a:pt x="17481" y="1642"/>
                      <a:pt x="14243" y="-1"/>
                      <a:pt x="10799" y="0"/>
                    </a:cubicBezTo>
                    <a:cubicBezTo>
                      <a:pt x="7356" y="0"/>
                      <a:pt x="4118" y="1642"/>
                      <a:pt x="2084" y="4421"/>
                    </a:cubicBezTo>
                    <a:lnTo>
                      <a:pt x="7730" y="8553"/>
                    </a:lnTo>
                    <a:close/>
                  </a:path>
                </a:pathLst>
              </a:custGeom>
              <a:solidFill>
                <a:srgbClr val="eaeaea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Text Box 12"/>
              <p:cNvSpPr/>
              <p:nvPr/>
            </p:nvSpPr>
            <p:spPr>
              <a:xfrm rot="778200">
                <a:off x="5950080" y="4651920"/>
                <a:ext cx="304200" cy="36828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49" name="AutoShape 13"/>
            <p:cNvSpPr/>
            <p:nvPr/>
          </p:nvSpPr>
          <p:spPr>
            <a:xfrm>
              <a:off x="5105520" y="5489640"/>
              <a:ext cx="1295280" cy="425520"/>
            </a:xfrm>
            <a:custGeom>
              <a:avLst/>
              <a:gdLst>
                <a:gd name="textAreaLeft" fmla="*/ 269640 w 1295280"/>
                <a:gd name="textAreaRight" fmla="*/ 1025640 w 1295280"/>
                <a:gd name="textAreaTop" fmla="*/ 88920 h 425520"/>
                <a:gd name="textAreaBottom" fmla="*/ 336600 h 42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0" name="Group 14"/>
          <p:cNvGrpSpPr/>
          <p:nvPr/>
        </p:nvGrpSpPr>
        <p:grpSpPr>
          <a:xfrm>
            <a:off x="3730680" y="3736800"/>
            <a:ext cx="1371600" cy="2210040"/>
            <a:chOff x="3730680" y="3736800"/>
            <a:chExt cx="1371600" cy="2210040"/>
          </a:xfrm>
        </p:grpSpPr>
        <p:sp>
          <p:nvSpPr>
            <p:cNvPr id="551" name="Oval 15"/>
            <p:cNvSpPr/>
            <p:nvPr/>
          </p:nvSpPr>
          <p:spPr>
            <a:xfrm>
              <a:off x="3730680" y="3736800"/>
              <a:ext cx="1295640" cy="2210040"/>
            </a:xfrm>
            <a:prstGeom prst="ellipse">
              <a:avLst/>
            </a:prstGeom>
            <a:solidFill>
              <a:srgbClr val="00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4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AutoShape 16"/>
            <p:cNvSpPr/>
            <p:nvPr/>
          </p:nvSpPr>
          <p:spPr>
            <a:xfrm>
              <a:off x="3807000" y="5521320"/>
              <a:ext cx="1295280" cy="425520"/>
            </a:xfrm>
            <a:custGeom>
              <a:avLst/>
              <a:gdLst>
                <a:gd name="textAreaLeft" fmla="*/ 269640 w 1295280"/>
                <a:gd name="textAreaRight" fmla="*/ 1025640 w 1295280"/>
                <a:gd name="textAreaTop" fmla="*/ 88920 h 425520"/>
                <a:gd name="textAreaBottom" fmla="*/ 336600 h 42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3" name="AutoShape 17"/>
          <p:cNvSpPr/>
          <p:nvPr/>
        </p:nvSpPr>
        <p:spPr>
          <a:xfrm rot="16168200">
            <a:off x="7077240" y="3286080"/>
            <a:ext cx="1766880" cy="992160"/>
          </a:xfrm>
          <a:custGeom>
            <a:avLst/>
            <a:gdLst>
              <a:gd name="textAreaLeft" fmla="*/ 0 w 1766880"/>
              <a:gd name="textAreaRight" fmla="*/ 1767240 w 176688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664" y="0"/>
                </a:lnTo>
                <a:lnTo>
                  <a:pt x="21600" y="10800"/>
                </a:lnTo>
                <a:lnTo>
                  <a:pt x="136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4" name="Group 18"/>
          <p:cNvGrpSpPr/>
          <p:nvPr/>
        </p:nvGrpSpPr>
        <p:grpSpPr>
          <a:xfrm>
            <a:off x="7463880" y="1754640"/>
            <a:ext cx="1073880" cy="2977200"/>
            <a:chOff x="7463880" y="1754640"/>
            <a:chExt cx="1073880" cy="2977200"/>
          </a:xfrm>
        </p:grpSpPr>
        <p:sp>
          <p:nvSpPr>
            <p:cNvPr id="555" name="Text Box 19"/>
            <p:cNvSpPr/>
            <p:nvPr/>
          </p:nvSpPr>
          <p:spPr>
            <a:xfrm flipH="1">
              <a:off x="8152560" y="3660840"/>
              <a:ext cx="228600" cy="36828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AutoShape 20"/>
            <p:cNvSpPr/>
            <p:nvPr/>
          </p:nvSpPr>
          <p:spPr>
            <a:xfrm rot="10806600">
              <a:off x="7464240" y="1755720"/>
              <a:ext cx="1069920" cy="611280"/>
            </a:xfrm>
            <a:prstGeom prst="flowChartMerg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5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AutoShape 21"/>
            <p:cNvSpPr/>
            <p:nvPr/>
          </p:nvSpPr>
          <p:spPr>
            <a:xfrm rot="10806600">
              <a:off x="7467120" y="4119480"/>
              <a:ext cx="1069920" cy="611280"/>
            </a:xfrm>
            <a:prstGeom prst="flowChartMerge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8" name="Rectangle 22"/>
          <p:cNvSpPr/>
          <p:nvPr/>
        </p:nvSpPr>
        <p:spPr>
          <a:xfrm>
            <a:off x="685800" y="5489640"/>
            <a:ext cx="8077320" cy="45720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4"/>
          <p:cNvSpPr/>
          <p:nvPr/>
        </p:nvSpPr>
        <p:spPr>
          <a:xfrm>
            <a:off x="1143000" y="343080"/>
            <a:ext cx="72388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omponents of the Membrane Attack Complex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Oval 5"/>
          <p:cNvSpPr/>
          <p:nvPr/>
        </p:nvSpPr>
        <p:spPr>
          <a:xfrm>
            <a:off x="4114800" y="2209680"/>
            <a:ext cx="1143000" cy="1143000"/>
          </a:xfrm>
          <a:prstGeom prst="ellipse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AutoShape 6"/>
          <p:cNvSpPr/>
          <p:nvPr/>
        </p:nvSpPr>
        <p:spPr>
          <a:xfrm>
            <a:off x="5867280" y="4267080"/>
            <a:ext cx="304920" cy="990720"/>
          </a:xfrm>
          <a:prstGeom prst="can">
            <a:avLst>
              <a:gd name="adj" fmla="val 31874"/>
            </a:avLst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2" name="Group 7"/>
          <p:cNvGrpSpPr/>
          <p:nvPr/>
        </p:nvGrpSpPr>
        <p:grpSpPr>
          <a:xfrm>
            <a:off x="2614320" y="3232440"/>
            <a:ext cx="1981440" cy="2939760"/>
            <a:chOff x="2614320" y="3232440"/>
            <a:chExt cx="1981440" cy="2939760"/>
          </a:xfrm>
        </p:grpSpPr>
        <p:sp>
          <p:nvSpPr>
            <p:cNvPr id="563" name="AutoShape 8"/>
            <p:cNvSpPr/>
            <p:nvPr/>
          </p:nvSpPr>
          <p:spPr>
            <a:xfrm>
              <a:off x="3276720" y="4876920"/>
              <a:ext cx="380880" cy="1295280"/>
            </a:xfrm>
            <a:prstGeom prst="can">
              <a:avLst>
                <a:gd name="adj" fmla="val 31874"/>
              </a:avLst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AutoShape 9"/>
            <p:cNvSpPr/>
            <p:nvPr/>
          </p:nvSpPr>
          <p:spPr>
            <a:xfrm rot="16033800">
              <a:off x="2500200" y="3443040"/>
              <a:ext cx="2209680" cy="1876680"/>
            </a:xfrm>
            <a:prstGeom prst="pi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C8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5" name="Group 10"/>
          <p:cNvGrpSpPr/>
          <p:nvPr/>
        </p:nvGrpSpPr>
        <p:grpSpPr>
          <a:xfrm>
            <a:off x="6934320" y="1905120"/>
            <a:ext cx="1143000" cy="2057400"/>
            <a:chOff x="6934320" y="1905120"/>
            <a:chExt cx="1143000" cy="2057400"/>
          </a:xfrm>
        </p:grpSpPr>
        <p:sp>
          <p:nvSpPr>
            <p:cNvPr id="566" name="Oval 11"/>
            <p:cNvSpPr/>
            <p:nvPr/>
          </p:nvSpPr>
          <p:spPr>
            <a:xfrm>
              <a:off x="6934320" y="1905120"/>
              <a:ext cx="1143000" cy="1133640"/>
            </a:xfrm>
            <a:prstGeom prst="ellipse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C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AutoShape 12"/>
            <p:cNvSpPr/>
            <p:nvPr/>
          </p:nvSpPr>
          <p:spPr>
            <a:xfrm>
              <a:off x="7315200" y="2667240"/>
              <a:ext cx="380880" cy="1295280"/>
            </a:xfrm>
            <a:prstGeom prst="can">
              <a:avLst>
                <a:gd name="adj" fmla="val 31874"/>
              </a:avLst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8" name="AutoShape 13"/>
          <p:cNvSpPr/>
          <p:nvPr/>
        </p:nvSpPr>
        <p:spPr>
          <a:xfrm rot="16227600">
            <a:off x="755280" y="2368440"/>
            <a:ext cx="1766880" cy="992160"/>
          </a:xfrm>
          <a:custGeom>
            <a:avLst/>
            <a:gdLst>
              <a:gd name="textAreaLeft" fmla="*/ 0 w 1766880"/>
              <a:gd name="textAreaRight" fmla="*/ 1767240 w 176688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143" y="0"/>
                </a:lnTo>
                <a:lnTo>
                  <a:pt x="21600" y="10800"/>
                </a:lnTo>
                <a:lnTo>
                  <a:pt x="1514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4"/>
          <p:cNvSpPr/>
          <p:nvPr/>
        </p:nvSpPr>
        <p:spPr>
          <a:xfrm>
            <a:off x="685800" y="5489640"/>
            <a:ext cx="8077320" cy="45720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Rectangle 5"/>
          <p:cNvSpPr/>
          <p:nvPr/>
        </p:nvSpPr>
        <p:spPr>
          <a:xfrm>
            <a:off x="1447920" y="68400"/>
            <a:ext cx="6553080" cy="19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mbrane Attack Complex components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ssembl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1" name="Group 6"/>
          <p:cNvGrpSpPr/>
          <p:nvPr/>
        </p:nvGrpSpPr>
        <p:grpSpPr>
          <a:xfrm>
            <a:off x="7456680" y="2894400"/>
            <a:ext cx="1081080" cy="1837440"/>
            <a:chOff x="7456680" y="2894400"/>
            <a:chExt cx="1081080" cy="1837440"/>
          </a:xfrm>
        </p:grpSpPr>
        <p:sp>
          <p:nvSpPr>
            <p:cNvPr id="572" name="AutoShape 7"/>
            <p:cNvSpPr/>
            <p:nvPr/>
          </p:nvSpPr>
          <p:spPr>
            <a:xfrm rot="16168200">
              <a:off x="7077240" y="3286080"/>
              <a:ext cx="1766880" cy="992160"/>
            </a:xfrm>
            <a:custGeom>
              <a:avLst/>
              <a:gdLst>
                <a:gd name="textAreaLeft" fmla="*/ 0 w 1766880"/>
                <a:gd name="textAreaRight" fmla="*/ 1767240 w 1766880"/>
                <a:gd name="textAreaTop" fmla="*/ 0 h 992160"/>
                <a:gd name="textAreaBottom" fmla="*/ 992520 h 99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664" y="0"/>
                  </a:lnTo>
                  <a:lnTo>
                    <a:pt x="21600" y="10800"/>
                  </a:lnTo>
                  <a:lnTo>
                    <a:pt x="1366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C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Text Box 8"/>
            <p:cNvSpPr/>
            <p:nvPr/>
          </p:nvSpPr>
          <p:spPr>
            <a:xfrm flipH="1">
              <a:off x="8152560" y="3657600"/>
              <a:ext cx="228600" cy="36828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AutoShape 9"/>
            <p:cNvSpPr/>
            <p:nvPr/>
          </p:nvSpPr>
          <p:spPr>
            <a:xfrm rot="10806600">
              <a:off x="7467120" y="4119480"/>
              <a:ext cx="1069920" cy="611280"/>
            </a:xfrm>
            <a:prstGeom prst="flowChartMerge">
              <a:avLst/>
            </a:prstGeom>
            <a:solidFill>
              <a:srgbClr val="eaeaea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5" name="Oval 10"/>
          <p:cNvSpPr/>
          <p:nvPr/>
        </p:nvSpPr>
        <p:spPr>
          <a:xfrm>
            <a:off x="6705720" y="2286000"/>
            <a:ext cx="1143000" cy="1143000"/>
          </a:xfrm>
          <a:prstGeom prst="ellipse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6" name="Group 11"/>
          <p:cNvGrpSpPr/>
          <p:nvPr/>
        </p:nvGrpSpPr>
        <p:grpSpPr>
          <a:xfrm>
            <a:off x="6324480" y="3352680"/>
            <a:ext cx="1143000" cy="2057400"/>
            <a:chOff x="6324480" y="3352680"/>
            <a:chExt cx="1143000" cy="2057400"/>
          </a:xfrm>
        </p:grpSpPr>
        <p:sp>
          <p:nvSpPr>
            <p:cNvPr id="577" name="Oval 12"/>
            <p:cNvSpPr/>
            <p:nvPr/>
          </p:nvSpPr>
          <p:spPr>
            <a:xfrm>
              <a:off x="6324480" y="3352680"/>
              <a:ext cx="1143000" cy="1133640"/>
            </a:xfrm>
            <a:prstGeom prst="ellipse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C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AutoShape 13"/>
            <p:cNvSpPr/>
            <p:nvPr/>
          </p:nvSpPr>
          <p:spPr>
            <a:xfrm>
              <a:off x="6705360" y="4114800"/>
              <a:ext cx="380880" cy="1295280"/>
            </a:xfrm>
            <a:prstGeom prst="can">
              <a:avLst>
                <a:gd name="adj" fmla="val 31874"/>
              </a:avLst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4"/>
          <p:cNvSpPr/>
          <p:nvPr/>
        </p:nvSpPr>
        <p:spPr>
          <a:xfrm>
            <a:off x="685800" y="5489640"/>
            <a:ext cx="8077320" cy="457200"/>
          </a:xfrm>
          <a:prstGeom prst="rect">
            <a:avLst/>
          </a:prstGeom>
          <a:solidFill>
            <a:srgbClr val="9966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1143000" y="149400"/>
            <a:ext cx="731520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embrane Attack Complex formation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br>
              <a:rPr sz="36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sertion of lytic complex into cell membra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1" name="Group 6"/>
          <p:cNvGrpSpPr/>
          <p:nvPr/>
        </p:nvGrpSpPr>
        <p:grpSpPr>
          <a:xfrm>
            <a:off x="6324480" y="1981080"/>
            <a:ext cx="2213280" cy="3124440"/>
            <a:chOff x="6324480" y="1981080"/>
            <a:chExt cx="2213280" cy="3124440"/>
          </a:xfrm>
        </p:grpSpPr>
        <p:grpSp>
          <p:nvGrpSpPr>
            <p:cNvPr id="582" name="Group 7"/>
            <p:cNvGrpSpPr/>
            <p:nvPr/>
          </p:nvGrpSpPr>
          <p:grpSpPr>
            <a:xfrm>
              <a:off x="7456680" y="2589480"/>
              <a:ext cx="1081080" cy="1837440"/>
              <a:chOff x="7456680" y="2589480"/>
              <a:chExt cx="1081080" cy="1837440"/>
            </a:xfrm>
          </p:grpSpPr>
          <p:sp>
            <p:nvSpPr>
              <p:cNvPr id="583" name="AutoShape 8"/>
              <p:cNvSpPr/>
              <p:nvPr/>
            </p:nvSpPr>
            <p:spPr>
              <a:xfrm rot="16168200">
                <a:off x="7077240" y="2981160"/>
                <a:ext cx="1766880" cy="992160"/>
              </a:xfrm>
              <a:custGeom>
                <a:avLst/>
                <a:gdLst>
                  <a:gd name="textAreaLeft" fmla="*/ 0 w 1766880"/>
                  <a:gd name="textAreaRight" fmla="*/ 1767240 w 176688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3664" y="0"/>
                    </a:lnTo>
                    <a:lnTo>
                      <a:pt x="21600" y="10800"/>
                    </a:lnTo>
                    <a:lnTo>
                      <a:pt x="1366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Arial"/>
                  </a:rPr>
                  <a:t>C5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Text Box 9"/>
              <p:cNvSpPr/>
              <p:nvPr/>
            </p:nvSpPr>
            <p:spPr>
              <a:xfrm flipH="1">
                <a:off x="8152560" y="3352680"/>
                <a:ext cx="228600" cy="36828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AutoShape 10"/>
              <p:cNvSpPr/>
              <p:nvPr/>
            </p:nvSpPr>
            <p:spPr>
              <a:xfrm rot="10806600">
                <a:off x="7467120" y="3814560"/>
                <a:ext cx="1069920" cy="611280"/>
              </a:xfrm>
              <a:prstGeom prst="flowChartMerge">
                <a:avLst/>
              </a:prstGeom>
              <a:solidFill>
                <a:srgbClr val="eaeaea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6" name="Oval 11"/>
            <p:cNvSpPr/>
            <p:nvPr/>
          </p:nvSpPr>
          <p:spPr>
            <a:xfrm>
              <a:off x="6705720" y="1981080"/>
              <a:ext cx="1143000" cy="1143000"/>
            </a:xfrm>
            <a:prstGeom prst="ellipse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C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7" name="Group 12"/>
            <p:cNvGrpSpPr/>
            <p:nvPr/>
          </p:nvGrpSpPr>
          <p:grpSpPr>
            <a:xfrm>
              <a:off x="6324480" y="3048120"/>
              <a:ext cx="1143000" cy="2057400"/>
              <a:chOff x="6324480" y="3048120"/>
              <a:chExt cx="1143000" cy="2057400"/>
            </a:xfrm>
          </p:grpSpPr>
          <p:sp>
            <p:nvSpPr>
              <p:cNvPr id="588" name="Oval 13"/>
              <p:cNvSpPr/>
              <p:nvPr/>
            </p:nvSpPr>
            <p:spPr>
              <a:xfrm>
                <a:off x="6324480" y="3048120"/>
                <a:ext cx="1143000" cy="1133640"/>
              </a:xfrm>
              <a:prstGeom prst="ellipse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3366"/>
                    </a:solidFill>
                    <a:latin typeface="Arial"/>
                  </a:rPr>
                  <a:t>C7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AutoShape 14"/>
              <p:cNvSpPr/>
              <p:nvPr/>
            </p:nvSpPr>
            <p:spPr>
              <a:xfrm>
                <a:off x="6705360" y="3810240"/>
                <a:ext cx="380880" cy="1295280"/>
              </a:xfrm>
              <a:prstGeom prst="can">
                <a:avLst>
                  <a:gd name="adj" fmla="val 31874"/>
                </a:avLst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0" name="Group 15"/>
          <p:cNvGrpSpPr/>
          <p:nvPr/>
        </p:nvGrpSpPr>
        <p:grpSpPr>
          <a:xfrm>
            <a:off x="5895360" y="2553120"/>
            <a:ext cx="1696680" cy="2704320"/>
            <a:chOff x="5895360" y="2553120"/>
            <a:chExt cx="1696680" cy="2704320"/>
          </a:xfrm>
        </p:grpSpPr>
        <p:sp>
          <p:nvSpPr>
            <p:cNvPr id="591" name="AutoShape 16"/>
            <p:cNvSpPr/>
            <p:nvPr/>
          </p:nvSpPr>
          <p:spPr>
            <a:xfrm>
              <a:off x="6463440" y="4064760"/>
              <a:ext cx="324720" cy="1192680"/>
            </a:xfrm>
            <a:prstGeom prst="can">
              <a:avLst>
                <a:gd name="adj" fmla="val 31874"/>
              </a:avLst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AutoShape 17"/>
            <p:cNvSpPr/>
            <p:nvPr/>
          </p:nvSpPr>
          <p:spPr>
            <a:xfrm rot="16033800">
              <a:off x="5725800" y="2807640"/>
              <a:ext cx="2035080" cy="1600200"/>
            </a:xfrm>
            <a:prstGeom prst="pie">
              <a:avLst/>
            </a:prstGeom>
            <a:solidFill>
              <a:srgbClr val="66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C8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93" name="Picture 18" descr="ComplRBC"/>
          <p:cNvPicPr/>
          <p:nvPr/>
        </p:nvPicPr>
        <p:blipFill>
          <a:blip r:embed="rId1"/>
          <a:stretch/>
        </p:blipFill>
        <p:spPr>
          <a:xfrm>
            <a:off x="762120" y="1676520"/>
            <a:ext cx="3533760" cy="3733560"/>
          </a:xfrm>
          <a:prstGeom prst="rect">
            <a:avLst/>
          </a:prstGeom>
          <a:ln w="0">
            <a:noFill/>
          </a:ln>
        </p:spPr>
      </p:pic>
      <p:grpSp>
        <p:nvGrpSpPr>
          <p:cNvPr id="594" name="Group 19"/>
          <p:cNvGrpSpPr/>
          <p:nvPr/>
        </p:nvGrpSpPr>
        <p:grpSpPr>
          <a:xfrm>
            <a:off x="4495680" y="4419720"/>
            <a:ext cx="1676520" cy="1218960"/>
            <a:chOff x="4495680" y="4419720"/>
            <a:chExt cx="1676520" cy="1218960"/>
          </a:xfrm>
        </p:grpSpPr>
        <p:sp>
          <p:nvSpPr>
            <p:cNvPr id="595" name="AutoShape 20"/>
            <p:cNvSpPr/>
            <p:nvPr/>
          </p:nvSpPr>
          <p:spPr>
            <a:xfrm>
              <a:off x="5791320" y="4495680"/>
              <a:ext cx="380880" cy="1143000"/>
            </a:xfrm>
            <a:prstGeom prst="irregularSeal1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AutoShape 21"/>
            <p:cNvSpPr/>
            <p:nvPr/>
          </p:nvSpPr>
          <p:spPr>
            <a:xfrm>
              <a:off x="4495680" y="4419720"/>
              <a:ext cx="457200" cy="1143000"/>
            </a:xfrm>
            <a:prstGeom prst="irregularSeal1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7" name="AutoShape 22"/>
          <p:cNvSpPr/>
          <p:nvPr/>
        </p:nvSpPr>
        <p:spPr>
          <a:xfrm>
            <a:off x="4968720" y="3657600"/>
            <a:ext cx="320760" cy="990720"/>
          </a:xfrm>
          <a:prstGeom prst="can">
            <a:avLst>
              <a:gd name="adj" fmla="val 31874"/>
            </a:avLst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AutoShape 23"/>
          <p:cNvSpPr/>
          <p:nvPr/>
        </p:nvSpPr>
        <p:spPr>
          <a:xfrm>
            <a:off x="4740120" y="3733920"/>
            <a:ext cx="320760" cy="990360"/>
          </a:xfrm>
          <a:prstGeom prst="can">
            <a:avLst>
              <a:gd name="adj" fmla="val 31874"/>
            </a:avLst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AutoShape 24"/>
          <p:cNvSpPr/>
          <p:nvPr/>
        </p:nvSpPr>
        <p:spPr>
          <a:xfrm>
            <a:off x="5257800" y="3657600"/>
            <a:ext cx="320760" cy="990720"/>
          </a:xfrm>
          <a:prstGeom prst="can">
            <a:avLst>
              <a:gd name="adj" fmla="val 31874"/>
            </a:avLst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AutoShape 25"/>
          <p:cNvSpPr/>
          <p:nvPr/>
        </p:nvSpPr>
        <p:spPr>
          <a:xfrm>
            <a:off x="5578560" y="3733920"/>
            <a:ext cx="304560" cy="990360"/>
          </a:xfrm>
          <a:prstGeom prst="can">
            <a:avLst>
              <a:gd name="adj" fmla="val 31874"/>
            </a:avLst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AutoShape 26"/>
          <p:cNvSpPr/>
          <p:nvPr/>
        </p:nvSpPr>
        <p:spPr>
          <a:xfrm>
            <a:off x="5730840" y="4038480"/>
            <a:ext cx="320760" cy="990720"/>
          </a:xfrm>
          <a:prstGeom prst="can">
            <a:avLst>
              <a:gd name="adj" fmla="val 31874"/>
            </a:avLst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AutoShape 27"/>
          <p:cNvSpPr/>
          <p:nvPr/>
        </p:nvSpPr>
        <p:spPr>
          <a:xfrm>
            <a:off x="4572000" y="4038480"/>
            <a:ext cx="320760" cy="990720"/>
          </a:xfrm>
          <a:prstGeom prst="can">
            <a:avLst>
              <a:gd name="adj" fmla="val 31874"/>
            </a:avLst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AutoShape 28"/>
          <p:cNvSpPr/>
          <p:nvPr/>
        </p:nvSpPr>
        <p:spPr>
          <a:xfrm>
            <a:off x="4816440" y="4267080"/>
            <a:ext cx="320760" cy="990720"/>
          </a:xfrm>
          <a:prstGeom prst="can">
            <a:avLst>
              <a:gd name="adj" fmla="val 31874"/>
            </a:avLst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AutoShape 29"/>
          <p:cNvSpPr/>
          <p:nvPr/>
        </p:nvSpPr>
        <p:spPr>
          <a:xfrm>
            <a:off x="5153040" y="4343400"/>
            <a:ext cx="320760" cy="990720"/>
          </a:xfrm>
          <a:prstGeom prst="can">
            <a:avLst>
              <a:gd name="adj" fmla="val 31874"/>
            </a:avLst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AutoShape 30"/>
          <p:cNvSpPr/>
          <p:nvPr/>
        </p:nvSpPr>
        <p:spPr>
          <a:xfrm>
            <a:off x="5486400" y="4267080"/>
            <a:ext cx="320760" cy="990720"/>
          </a:xfrm>
          <a:prstGeom prst="can">
            <a:avLst>
              <a:gd name="adj" fmla="val 31874"/>
            </a:avLst>
          </a:prstGeom>
          <a:solidFill>
            <a:srgbClr val="00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Bent Arrow 32"/>
          <p:cNvSpPr/>
          <p:nvPr/>
        </p:nvSpPr>
        <p:spPr>
          <a:xfrm flipH="1">
            <a:off x="4419000" y="2057400"/>
            <a:ext cx="685800" cy="1523880"/>
          </a:xfrm>
          <a:custGeom>
            <a:avLst/>
            <a:gdLst/>
            <a:ahLst/>
            <a:rect l="l" t="t" r="r" b="b"/>
            <a:pathLst>
              <a:path w="685800" h="1524000">
                <a:moveTo>
                  <a:pt x="0" y="1524000"/>
                </a:moveTo>
                <a:lnTo>
                  <a:pt x="0" y="385763"/>
                </a:lnTo>
                <a:cubicBezTo>
                  <a:pt x="0" y="220057"/>
                  <a:pt x="134332" y="85725"/>
                  <a:pt x="300038" y="85725"/>
                </a:cubicBezTo>
                <a:lnTo>
                  <a:pt x="514350" y="85725"/>
                </a:lnTo>
                <a:lnTo>
                  <a:pt x="514350" y="0"/>
                </a:lnTo>
                <a:lnTo>
                  <a:pt x="685800" y="171450"/>
                </a:lnTo>
                <a:lnTo>
                  <a:pt x="514350" y="342900"/>
                </a:lnTo>
                <a:lnTo>
                  <a:pt x="514350" y="257175"/>
                </a:lnTo>
                <a:lnTo>
                  <a:pt x="300038" y="257175"/>
                </a:lnTo>
                <a:cubicBezTo>
                  <a:pt x="229021" y="257175"/>
                  <a:pt x="171450" y="314746"/>
                  <a:pt x="171450" y="385763"/>
                </a:cubicBezTo>
                <a:lnTo>
                  <a:pt x="171450" y="1524000"/>
                </a:lnTo>
                <a:lnTo>
                  <a:pt x="0" y="1524000"/>
                </a:lnTo>
                <a:close/>
              </a:path>
            </a:pathLst>
          </a:custGeom>
          <a:solidFill>
            <a:srgbClr val="a7d2df"/>
          </a:solidFill>
          <a:ln w="25560">
            <a:solidFill>
              <a:srgbClr val="7a9a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iological effects of complement activation</a:t>
            </a:r>
            <a:endParaRPr b="0" lang="en-US" sz="32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914400" y="141264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Anaphylatoxin  (C3a, C5a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Induce histamine release from mast cel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ease chemotactic ag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Opsonization: (opsonin, C3b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ating of  bacteria enhances phagocyt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Cause direct cell ly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Destruction of bacter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B675-D4A7-4BD6-98E4-20D75DE17D7C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cess of chemotaxis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: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olling on vessel wall.         Adhesion (attach)    Pass through.  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275c6d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275c6d"/>
              </a:solidFill>
              <a:latin typeface="Times New Roman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4302000"/>
          </a:xfrm>
          <a:prstGeom prst="rect">
            <a:avLst/>
          </a:prstGeom>
          <a:ln w="0">
            <a:noFill/>
          </a:ln>
        </p:spPr>
      </p:pic>
      <p:sp>
        <p:nvSpPr>
          <p:cNvPr id="61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2BC9-BB28-4EFD-9E67-82448DECEED1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3" name="Picture 2" descr="http://www.chronicprostatitis.com/images/f3.jpg"/>
          <p:cNvPicPr/>
          <p:nvPr/>
        </p:nvPicPr>
        <p:blipFill>
          <a:blip r:embed="rId2"/>
          <a:stretch/>
        </p:blipFill>
        <p:spPr>
          <a:xfrm>
            <a:off x="228600" y="1371600"/>
            <a:ext cx="8610480" cy="5257800"/>
          </a:xfrm>
          <a:prstGeom prst="rect">
            <a:avLst/>
          </a:prstGeom>
          <a:ln w="0">
            <a:noFill/>
          </a:ln>
        </p:spPr>
      </p:pic>
      <p:cxnSp>
        <p:nvCxnSpPr>
          <p:cNvPr id="614" name="Straight Arrow Connector 8"/>
          <p:cNvCxnSpPr/>
          <p:nvPr/>
        </p:nvCxnSpPr>
        <p:spPr>
          <a:xfrm flipH="1">
            <a:off x="6017400" y="1220760"/>
            <a:ext cx="3960" cy="1296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15" name="Down Arrow 8"/>
          <p:cNvSpPr/>
          <p:nvPr/>
        </p:nvSpPr>
        <p:spPr>
          <a:xfrm>
            <a:off x="1371600" y="1295280"/>
            <a:ext cx="304920" cy="45720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00003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Down Arrow 9"/>
          <p:cNvSpPr/>
          <p:nvPr/>
        </p:nvSpPr>
        <p:spPr>
          <a:xfrm>
            <a:off x="5791320" y="1295280"/>
            <a:ext cx="380880" cy="121932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00003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Down Arrow 10"/>
          <p:cNvSpPr/>
          <p:nvPr/>
        </p:nvSpPr>
        <p:spPr>
          <a:xfrm>
            <a:off x="7315200" y="1295280"/>
            <a:ext cx="380880" cy="1130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33"/>
          </a:solidFill>
          <a:ln w="9360">
            <a:solidFill>
              <a:srgbClr val="a7d2d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First (non-specific immunity) and second (adaptive immunity) lines of defen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ment activation provides protection by killing pathoge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umulation of inflammatory cells important for clearance of inf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ytokines as mediators regulate inflamm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6422-09E7-46DB-92CA-E357919F6F9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ypes of Cells attracted to site of infection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that mediate inflammation : </a:t>
            </a:r>
            <a:endParaRPr b="0" lang="en-US" sz="36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onocyt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come Macrophages when they leave the blood and  enter the tissu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eutrophil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 (Phagocytic cell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osinophil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 (Allergy and Parasitic infectio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atural Killer (NK) cell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: (Kill tumor cells and virus infected cell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F86F-121C-4218-9507-25D23CE9ADE1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hagocytic cells (neutrophils &amp; macrophages) at site of infection start the process of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hagocytosis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The process by which a cell ingests and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  destroy foreign material</a:t>
            </a:r>
            <a:endParaRPr b="0" lang="en-US" sz="3600" spc="-1" strike="noStrike">
              <a:solidFill>
                <a:srgbClr val="275c6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456840" y="1828800"/>
            <a:ext cx="33526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3" name="Picture 2" descr=""/>
          <p:cNvPicPr/>
          <p:nvPr/>
        </p:nvPicPr>
        <p:blipFill>
          <a:blip r:embed="rId1"/>
          <a:srcRect l="4865" t="7887" r="17372" b="12055"/>
          <a:stretch/>
        </p:blipFill>
        <p:spPr>
          <a:xfrm>
            <a:off x="4572000" y="0"/>
            <a:ext cx="4572000" cy="6705720"/>
          </a:xfrm>
          <a:prstGeom prst="rect">
            <a:avLst/>
          </a:prstGeom>
          <a:ln w="0">
            <a:noFill/>
          </a:ln>
        </p:spPr>
      </p:pic>
      <p:sp>
        <p:nvSpPr>
          <p:cNvPr id="624" name="Content Placeholder 2"/>
          <p:cNvSpPr/>
          <p:nvPr/>
        </p:nvSpPr>
        <p:spPr>
          <a:xfrm>
            <a:off x="304920" y="1752480"/>
            <a:ext cx="3352680" cy="43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5" name="Picture 2" descr="http://www.chronicprostatitis.com/images/neutrophil.jpg"/>
          <p:cNvPicPr/>
          <p:nvPr/>
        </p:nvPicPr>
        <p:blipFill>
          <a:blip r:embed="rId2"/>
          <a:stretch/>
        </p:blipFill>
        <p:spPr>
          <a:xfrm>
            <a:off x="0" y="0"/>
            <a:ext cx="4605480" cy="6699240"/>
          </a:xfrm>
          <a:prstGeom prst="rect">
            <a:avLst/>
          </a:prstGeom>
          <a:ln w="0">
            <a:noFill/>
          </a:ln>
        </p:spPr>
      </p:pic>
      <p:sp>
        <p:nvSpPr>
          <p:cNvPr id="626" name="Rectangle 10"/>
          <p:cNvSpPr/>
          <p:nvPr/>
        </p:nvSpPr>
        <p:spPr>
          <a:xfrm>
            <a:off x="4572000" y="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rophage attacking E. coli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4302000"/>
          </a:xfrm>
          <a:prstGeom prst="rect">
            <a:avLst/>
          </a:prstGeom>
          <a:ln w="0">
            <a:noFill/>
          </a:ln>
        </p:spPr>
      </p:pic>
      <p:sp>
        <p:nvSpPr>
          <p:cNvPr id="62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785E-03AE-4EB0-BAE7-4189A2878EEC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0" name="Picture 2" descr="http://www.metapathogen.com/IMG/phagocytosis-diagram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631" name="TextBox 5"/>
          <p:cNvSpPr/>
          <p:nvPr/>
        </p:nvSpPr>
        <p:spPr>
          <a:xfrm>
            <a:off x="685800" y="0"/>
            <a:ext cx="7772400" cy="764280"/>
          </a:xfrm>
          <a:prstGeom prst="rect">
            <a:avLst/>
          </a:prstGeom>
          <a:solidFill>
            <a:srgbClr val="a7d2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  <a:ea typeface="Arial"/>
              </a:rPr>
              <a:t>Phagocytos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ytokines 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luble molecules, produced by different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cells, that control cell functions e.g. activation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         or inhibition.</a:t>
            </a:r>
            <a:endParaRPr b="0" lang="en-US" sz="32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457200" y="2437920"/>
            <a:ext cx="822960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.g.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terleuki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ed primarily by macrophages and lymphocytes in response to a pathoge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-1, IL-2, IL-3…....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4c8d9"/>
                </a:solidFill>
                <a:latin typeface="Times New Roman"/>
              </a:rPr>
              <a:t>Cytokines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terfero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tects against viral inf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duced and released by virally infected cells in response to viral infec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4c8d9"/>
                </a:solidFill>
                <a:latin typeface="Times New Roman"/>
              </a:rPr>
              <a:t>Cytokines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umor necrosis factor (TNF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reted by macrophag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uces fever by acting as an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ndogenous pyroge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a substance released from inside the body that produces fev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reases synthesis of inflammatory serum prote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ke home message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57200" y="16002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specific (innate immunity) acts as a first line of defense against invading pathoge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nate immunity is an important initial step for generation of adaptive immune respon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flammation is vital for controlling infection and limiting tissue damage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9F09-895A-4C50-A122-7592AE00E1EB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AutoShape 10"/>
          <p:cNvSpPr/>
          <p:nvPr/>
        </p:nvSpPr>
        <p:spPr>
          <a:xfrm>
            <a:off x="1144440" y="4432320"/>
            <a:ext cx="1016280" cy="5335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Text Box 11"/>
          <p:cNvSpPr/>
          <p:nvPr/>
        </p:nvSpPr>
        <p:spPr>
          <a:xfrm>
            <a:off x="6835320" y="5410080"/>
            <a:ext cx="20840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teria e.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ubercule bacill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phylococc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Text Box 12"/>
          <p:cNvSpPr/>
          <p:nvPr/>
        </p:nvSpPr>
        <p:spPr>
          <a:xfrm>
            <a:off x="533520" y="5410080"/>
            <a:ext cx="1746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gi e.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dida albica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Text Box 13"/>
          <p:cNvSpPr/>
          <p:nvPr/>
        </p:nvSpPr>
        <p:spPr>
          <a:xfrm>
            <a:off x="228600" y="9144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uses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luenz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i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Text Box 14"/>
          <p:cNvSpPr/>
          <p:nvPr/>
        </p:nvSpPr>
        <p:spPr>
          <a:xfrm>
            <a:off x="5791320" y="1295280"/>
            <a:ext cx="244620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sites e.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pewor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la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2" name="Group 15"/>
          <p:cNvGrpSpPr/>
          <p:nvPr/>
        </p:nvGrpSpPr>
        <p:grpSpPr>
          <a:xfrm>
            <a:off x="770400" y="2033640"/>
            <a:ext cx="1392120" cy="1269720"/>
            <a:chOff x="770400" y="2033640"/>
            <a:chExt cx="1392120" cy="1269720"/>
          </a:xfrm>
        </p:grpSpPr>
        <p:sp>
          <p:nvSpPr>
            <p:cNvPr id="483" name="AutoShape 16"/>
            <p:cNvSpPr/>
            <p:nvPr/>
          </p:nvSpPr>
          <p:spPr>
            <a:xfrm rot="1849800">
              <a:off x="1262160" y="2653920"/>
              <a:ext cx="542160" cy="549360"/>
            </a:xfrm>
            <a:prstGeom prst="sun">
              <a:avLst>
                <a:gd name="adj" fmla="val 25000"/>
              </a:avLst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AutoShape 17"/>
            <p:cNvSpPr/>
            <p:nvPr/>
          </p:nvSpPr>
          <p:spPr>
            <a:xfrm rot="1849800">
              <a:off x="1517760" y="2133720"/>
              <a:ext cx="542160" cy="549360"/>
            </a:xfrm>
            <a:prstGeom prst="sun">
              <a:avLst>
                <a:gd name="adj" fmla="val 25000"/>
              </a:avLst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AutoShape 18"/>
            <p:cNvSpPr/>
            <p:nvPr/>
          </p:nvSpPr>
          <p:spPr>
            <a:xfrm rot="1849800">
              <a:off x="872640" y="2188080"/>
              <a:ext cx="542160" cy="549000"/>
            </a:xfrm>
            <a:prstGeom prst="sun">
              <a:avLst>
                <a:gd name="adj" fmla="val 25000"/>
              </a:avLst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6" name="AutoShape 19"/>
          <p:cNvSpPr/>
          <p:nvPr/>
        </p:nvSpPr>
        <p:spPr>
          <a:xfrm>
            <a:off x="1460520" y="4957920"/>
            <a:ext cx="1015920" cy="5331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7" name="Group 20"/>
          <p:cNvGrpSpPr/>
          <p:nvPr/>
        </p:nvGrpSpPr>
        <p:grpSpPr>
          <a:xfrm>
            <a:off x="5938920" y="4316400"/>
            <a:ext cx="1610640" cy="1150560"/>
            <a:chOff x="5938920" y="4316400"/>
            <a:chExt cx="1610640" cy="1150560"/>
          </a:xfrm>
        </p:grpSpPr>
        <p:grpSp>
          <p:nvGrpSpPr>
            <p:cNvPr id="488" name="Group 21"/>
            <p:cNvGrpSpPr/>
            <p:nvPr/>
          </p:nvGrpSpPr>
          <p:grpSpPr>
            <a:xfrm>
              <a:off x="6658560" y="4316400"/>
              <a:ext cx="825480" cy="262080"/>
              <a:chOff x="6658560" y="4316400"/>
              <a:chExt cx="825480" cy="262080"/>
            </a:xfrm>
          </p:grpSpPr>
          <p:sp>
            <p:nvSpPr>
              <p:cNvPr id="489" name="AutoShape 22"/>
              <p:cNvSpPr/>
              <p:nvPr/>
            </p:nvSpPr>
            <p:spPr>
              <a:xfrm>
                <a:off x="7071120" y="4316400"/>
                <a:ext cx="412920" cy="26208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AutoShape 23"/>
              <p:cNvSpPr/>
              <p:nvPr/>
            </p:nvSpPr>
            <p:spPr>
              <a:xfrm flipH="1">
                <a:off x="6658560" y="4316400"/>
                <a:ext cx="412560" cy="26208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Group 24"/>
            <p:cNvGrpSpPr/>
            <p:nvPr/>
          </p:nvGrpSpPr>
          <p:grpSpPr>
            <a:xfrm>
              <a:off x="5938920" y="4637160"/>
              <a:ext cx="825480" cy="262080"/>
              <a:chOff x="5938920" y="4637160"/>
              <a:chExt cx="825480" cy="262080"/>
            </a:xfrm>
          </p:grpSpPr>
          <p:sp>
            <p:nvSpPr>
              <p:cNvPr id="492" name="AutoShape 25"/>
              <p:cNvSpPr/>
              <p:nvPr/>
            </p:nvSpPr>
            <p:spPr>
              <a:xfrm>
                <a:off x="6351480" y="4637160"/>
                <a:ext cx="412920" cy="26208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AutoShape 26"/>
              <p:cNvSpPr/>
              <p:nvPr/>
            </p:nvSpPr>
            <p:spPr>
              <a:xfrm flipH="1">
                <a:off x="5938920" y="4637160"/>
                <a:ext cx="412560" cy="26208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Group 27"/>
            <p:cNvGrpSpPr/>
            <p:nvPr/>
          </p:nvGrpSpPr>
          <p:grpSpPr>
            <a:xfrm>
              <a:off x="6724440" y="4869360"/>
              <a:ext cx="825120" cy="262080"/>
              <a:chOff x="6724440" y="4869360"/>
              <a:chExt cx="825120" cy="262080"/>
            </a:xfrm>
          </p:grpSpPr>
          <p:sp>
            <p:nvSpPr>
              <p:cNvPr id="495" name="AutoShape 28"/>
              <p:cNvSpPr/>
              <p:nvPr/>
            </p:nvSpPr>
            <p:spPr>
              <a:xfrm>
                <a:off x="7137000" y="4869360"/>
                <a:ext cx="412560" cy="26208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AutoShape 29"/>
              <p:cNvSpPr/>
              <p:nvPr/>
            </p:nvSpPr>
            <p:spPr>
              <a:xfrm flipH="1">
                <a:off x="6724080" y="4869360"/>
                <a:ext cx="412200" cy="26208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Group 30"/>
            <p:cNvGrpSpPr/>
            <p:nvPr/>
          </p:nvGrpSpPr>
          <p:grpSpPr>
            <a:xfrm>
              <a:off x="6095880" y="5205240"/>
              <a:ext cx="825120" cy="261720"/>
              <a:chOff x="6095880" y="5205240"/>
              <a:chExt cx="825120" cy="261720"/>
            </a:xfrm>
          </p:grpSpPr>
          <p:sp>
            <p:nvSpPr>
              <p:cNvPr id="498" name="AutoShape 31"/>
              <p:cNvSpPr/>
              <p:nvPr/>
            </p:nvSpPr>
            <p:spPr>
              <a:xfrm>
                <a:off x="6508440" y="5205240"/>
                <a:ext cx="412560" cy="26172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AutoShape 32"/>
              <p:cNvSpPr/>
              <p:nvPr/>
            </p:nvSpPr>
            <p:spPr>
              <a:xfrm flipH="1">
                <a:off x="6095520" y="5205240"/>
                <a:ext cx="412200" cy="261720"/>
              </a:xfrm>
              <a:prstGeom prst="flowChartDelay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0" name="Line 33"/>
          <p:cNvSpPr/>
          <p:nvPr/>
        </p:nvSpPr>
        <p:spPr>
          <a:xfrm>
            <a:off x="4921200" y="4309920"/>
            <a:ext cx="692280" cy="43992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Line 34"/>
          <p:cNvSpPr/>
          <p:nvPr/>
        </p:nvSpPr>
        <p:spPr>
          <a:xfrm flipH="1">
            <a:off x="4955400" y="2686680"/>
            <a:ext cx="683640" cy="538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Line 35"/>
          <p:cNvSpPr/>
          <p:nvPr/>
        </p:nvSpPr>
        <p:spPr>
          <a:xfrm flipH="1">
            <a:off x="2387160" y="4281480"/>
            <a:ext cx="692280" cy="43992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Line 36"/>
          <p:cNvSpPr/>
          <p:nvPr/>
        </p:nvSpPr>
        <p:spPr>
          <a:xfrm>
            <a:off x="2421360" y="2657880"/>
            <a:ext cx="683640" cy="538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Text Box 37"/>
          <p:cNvSpPr/>
          <p:nvPr/>
        </p:nvSpPr>
        <p:spPr>
          <a:xfrm>
            <a:off x="609480" y="1522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ain function of the immune system is to protect from infection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05" name="Object 2"/>
          <p:cNvGraphicFramePr/>
          <p:nvPr/>
        </p:nvGraphicFramePr>
        <p:xfrm>
          <a:off x="3436920" y="2454120"/>
          <a:ext cx="1116000" cy="24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6920" y="2454120"/>
                    <a:ext cx="1116000" cy="24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7" name="Group 2"/>
          <p:cNvGrpSpPr/>
          <p:nvPr/>
        </p:nvGrpSpPr>
        <p:grpSpPr>
          <a:xfrm>
            <a:off x="5750280" y="2556000"/>
            <a:ext cx="2193120" cy="631440"/>
            <a:chOff x="5750280" y="2556000"/>
            <a:chExt cx="2193120" cy="631440"/>
          </a:xfrm>
        </p:grpSpPr>
        <p:sp>
          <p:nvSpPr>
            <p:cNvPr id="508" name="AutoShape 3"/>
            <p:cNvSpPr/>
            <p:nvPr/>
          </p:nvSpPr>
          <p:spPr>
            <a:xfrm rot="21489000">
              <a:off x="5758560" y="2653200"/>
              <a:ext cx="394920" cy="527760"/>
            </a:xfrm>
            <a:custGeom>
              <a:avLst/>
              <a:gdLst>
                <a:gd name="textAreaLeft" fmla="*/ 0 w 394920"/>
                <a:gd name="textAreaRight" fmla="*/ 395280 w 394920"/>
                <a:gd name="textAreaTop" fmla="*/ 0 h 527760"/>
                <a:gd name="textAreaBottom" fmla="*/ 187920 h 52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5400" y="10800"/>
                  </a:lnTo>
                  <a:close/>
                </a:path>
              </a:pathLst>
            </a:custGeom>
            <a:solidFill>
              <a:srgbClr val="66ff33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AutoShape 4"/>
            <p:cNvSpPr/>
            <p:nvPr/>
          </p:nvSpPr>
          <p:spPr>
            <a:xfrm flipV="1" rot="21489000">
              <a:off x="6055920" y="2643480"/>
              <a:ext cx="396720" cy="52776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527760"/>
                <a:gd name="textAreaBottom" fmla="*/ 187920 h 52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5400" y="10800"/>
                  </a:lnTo>
                  <a:close/>
                </a:path>
              </a:pathLst>
            </a:custGeom>
            <a:solidFill>
              <a:srgbClr val="66ff33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AutoShape 5"/>
            <p:cNvSpPr/>
            <p:nvPr/>
          </p:nvSpPr>
          <p:spPr>
            <a:xfrm rot="21489000">
              <a:off x="6352560" y="2634120"/>
              <a:ext cx="396720" cy="52776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527760"/>
                <a:gd name="textAreaBottom" fmla="*/ 187920 h 52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5400" y="10800"/>
                  </a:lnTo>
                  <a:close/>
                </a:path>
              </a:pathLst>
            </a:custGeom>
            <a:solidFill>
              <a:srgbClr val="66ff33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AutoShape 6"/>
            <p:cNvSpPr/>
            <p:nvPr/>
          </p:nvSpPr>
          <p:spPr>
            <a:xfrm rot="21489000">
              <a:off x="7540560" y="2561760"/>
              <a:ext cx="394200" cy="527760"/>
            </a:xfrm>
            <a:custGeom>
              <a:avLst/>
              <a:gdLst>
                <a:gd name="textAreaLeft" fmla="*/ 0 w 394200"/>
                <a:gd name="textAreaRight" fmla="*/ 394560 w 394200"/>
                <a:gd name="textAreaTop" fmla="*/ 0 h 527760"/>
                <a:gd name="textAreaBottom" fmla="*/ 187920 h 52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5400" y="10800"/>
                  </a:lnTo>
                  <a:close/>
                </a:path>
              </a:pathLst>
            </a:custGeom>
            <a:solidFill>
              <a:srgbClr val="66ff33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AutoShape 7"/>
            <p:cNvSpPr/>
            <p:nvPr/>
          </p:nvSpPr>
          <p:spPr>
            <a:xfrm rot="21489000">
              <a:off x="6909120" y="2612520"/>
              <a:ext cx="398160" cy="52776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527760"/>
                <a:gd name="textAreaBottom" fmla="*/ 187920 h 52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5400" y="10800"/>
                  </a:lnTo>
                  <a:close/>
                </a:path>
              </a:pathLst>
            </a:custGeom>
            <a:solidFill>
              <a:srgbClr val="66ff33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AutoShape 8"/>
            <p:cNvSpPr/>
            <p:nvPr/>
          </p:nvSpPr>
          <p:spPr>
            <a:xfrm flipV="1" rot="21489000">
              <a:off x="7239960" y="2577240"/>
              <a:ext cx="397080" cy="52776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527760"/>
                <a:gd name="textAreaBottom" fmla="*/ 187920 h 52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5400" y="10800"/>
                  </a:lnTo>
                  <a:close/>
                </a:path>
              </a:pathLst>
            </a:custGeom>
            <a:solidFill>
              <a:srgbClr val="66ff33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AutoShape 9"/>
            <p:cNvSpPr/>
            <p:nvPr/>
          </p:nvSpPr>
          <p:spPr>
            <a:xfrm flipV="1" rot="21489000">
              <a:off x="6649920" y="2624400"/>
              <a:ext cx="396720" cy="52776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527760"/>
                <a:gd name="textAreaBottom" fmla="*/ 187920 h 52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5400" y="10800"/>
                  </a:lnTo>
                  <a:close/>
                </a:path>
              </a:pathLst>
            </a:custGeom>
            <a:solidFill>
              <a:srgbClr val="66ff33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5" name="Oval 39"/>
          <p:cNvSpPr/>
          <p:nvPr/>
        </p:nvSpPr>
        <p:spPr>
          <a:xfrm>
            <a:off x="5824440" y="2743200"/>
            <a:ext cx="6840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3" descr="E:\MEDIA\1421\142122.JPG"/>
          <p:cNvPicPr/>
          <p:nvPr/>
        </p:nvPicPr>
        <p:blipFill>
          <a:blip r:embed="rId1"/>
          <a:srcRect l="1612" t="0" r="1612" b="0"/>
          <a:stretch/>
        </p:blipFill>
        <p:spPr>
          <a:xfrm>
            <a:off x="0" y="1905120"/>
            <a:ext cx="9194760" cy="4952880"/>
          </a:xfrm>
          <a:prstGeom prst="rect">
            <a:avLst/>
          </a:prstGeom>
          <a:ln w="0">
            <a:noFill/>
          </a:ln>
        </p:spPr>
      </p:pic>
      <p:sp>
        <p:nvSpPr>
          <p:cNvPr id="517" name="TextBox 2"/>
          <p:cNvSpPr/>
          <p:nvPr/>
        </p:nvSpPr>
        <p:spPr>
          <a:xfrm>
            <a:off x="304920" y="30492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irst and the second lines of defense: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18" name="Straight Arrow Connector 4"/>
          <p:cNvCxnSpPr/>
          <p:nvPr/>
        </p:nvCxnSpPr>
        <p:spPr>
          <a:xfrm>
            <a:off x="990720" y="990720"/>
            <a:ext cx="1829520" cy="838800"/>
          </a:xfrm>
          <a:prstGeom prst="straightConnector1">
            <a:avLst/>
          </a:prstGeom>
          <a:ln w="28440">
            <a:solidFill>
              <a:srgbClr val="fede54"/>
            </a:solidFill>
            <a:miter/>
            <a:tailEnd len="med" type="arrow" w="med"/>
          </a:ln>
        </p:spPr>
      </p:cxnSp>
      <p:cxnSp>
        <p:nvCxnSpPr>
          <p:cNvPr id="519" name="Straight Arrow Connector 6"/>
          <p:cNvCxnSpPr/>
          <p:nvPr/>
        </p:nvCxnSpPr>
        <p:spPr>
          <a:xfrm>
            <a:off x="4267080" y="914400"/>
            <a:ext cx="2439000" cy="915120"/>
          </a:xfrm>
          <a:prstGeom prst="straightConnector1">
            <a:avLst/>
          </a:prstGeom>
          <a:ln w="31680">
            <a:solidFill>
              <a:srgbClr val="fede54"/>
            </a:solidFill>
            <a:miter/>
            <a:tailEnd len="med" type="triangle" w="med"/>
          </a:ln>
        </p:spPr>
      </p:cxnSp>
      <p:sp>
        <p:nvSpPr>
          <p:cNvPr id="520" name="TextBox 6"/>
          <p:cNvSpPr/>
          <p:nvPr/>
        </p:nvSpPr>
        <p:spPr>
          <a:xfrm>
            <a:off x="76320" y="3254400"/>
            <a:ext cx="5790960" cy="703800"/>
          </a:xfrm>
          <a:prstGeom prst="rect">
            <a:avLst/>
          </a:prstGeom>
          <a:solidFill>
            <a:srgbClr val="ddba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 Narrow"/>
                <a:ea typeface="Arial"/>
              </a:rPr>
              <a:t>First Line of Defen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TextBox 7"/>
          <p:cNvSpPr/>
          <p:nvPr/>
        </p:nvSpPr>
        <p:spPr>
          <a:xfrm>
            <a:off x="5867280" y="3254400"/>
            <a:ext cx="3276720" cy="703800"/>
          </a:xfrm>
          <a:prstGeom prst="rect">
            <a:avLst/>
          </a:prstGeom>
          <a:solidFill>
            <a:srgbClr val="d4f1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 Narrow"/>
              </a:rPr>
              <a:t>Second Line of Defen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irst line of defense :</a:t>
            </a:r>
            <a:endParaRPr b="0" lang="en-US" sz="40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lnSpc>
                <a:spcPct val="80000"/>
              </a:lnSpc>
              <a:spcBef>
                <a:spcPts val="11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atural (Innate) Immun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Physical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skin/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ucous membranes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Mechanical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Coughing, sneezing, vomiting, action of cilia in trachea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Biochemical barriers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(antimicrobial peptides, lung secretions, mucus, saliva, tea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al and mechanical barriers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kin, impermeable to microb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cous membranes lining the gastrointestinal, genitourinary and respiratory tra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her protective mechanism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dding of outer skin layer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ghing and sneez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ushing of ur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mit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cus and cilia in respiratory trac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iochemical barriers</a:t>
            </a:r>
            <a:endParaRPr b="0" lang="en-US" sz="4400" spc="-1" strike="noStrike">
              <a:solidFill>
                <a:srgbClr val="275c6d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380880" y="1295280"/>
            <a:ext cx="83059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dy  secretions contain anti-bacterial substances   e.g. saliva, tears and swe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timicrobial peptides (e.g., defensins, hepcidin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rmal bacterial flor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ompete with pathogenic bacteria for nutrien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11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flammation: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901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flammation is the first response of the immune system to infection or irritati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901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 consist of a series of vascular &amp; cellular changes that occur in response to  vario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            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imul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.g. infections, injury, radiation  etc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D2D8-6F17-46C6-895B-A3A513E07ED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36560" y="2666520"/>
            <a:ext cx="822960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bacteria possess an array of pro-inflammatory    molecu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0033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.g.   Lipopolysaccharides (LPS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B317-ADB3-4DBA-9370-D57FB50FBFC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851040" y="9907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crobial infections initiate inflamm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2T15:02:25Z</dcterms:created>
  <dc:creator>kchugg</dc:creator>
  <dc:description/>
  <dc:language>en-US</dc:language>
  <cp:lastModifiedBy>user</cp:lastModifiedBy>
  <dcterms:modified xsi:type="dcterms:W3CDTF">2015-09-01T10:58:41Z</dcterms:modified>
  <cp:revision>214</cp:revision>
  <dc:subject/>
  <dc:title>Cellular Biology</dc:title>
</cp:coreProperties>
</file>