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driveby.wav" ContentType="audio/x-wav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DBB9-838A-4E60-AC43-F9AEE9CA7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3124-70AA-4513-9A19-72FC44172D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E8280-830D-41AD-AD94-C91D9A53F7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37DD8-FFED-4AF3-8B1A-AE43D388D8B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F0235-DC98-44D5-B75B-FFA0925DD76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4A2A8-A0F9-4A8C-8D4B-72ACAC361E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D0047-3652-463D-A742-00D9FFDF9E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BF77C-CC44-4C81-B481-E2BCA5992F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2A389-6E46-4504-9CCC-2A2B2606D1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12BEB-8950-4F71-BE4F-C765B5DAAF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DCD7C-BBCD-4C56-B50F-DF91B80B69B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6EDD-8DDC-4D50-AA9F-150638B13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FDDF-D066-468D-A274-A508B57158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98E7-4ACA-4979-9E17-4F5C6D4C83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78A6-BF88-4EB4-9923-498097B84D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4F11-1578-4B70-8E1D-589809A320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F2B2-1B61-4547-A59A-04772FD3AC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2F58-88BF-42E2-B7D0-CF290F0066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000F-4F4A-44AA-BE19-981A6528C0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50DE-BBC4-4DDE-AE95-2C111ABFE4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376C-9F81-4538-88B0-583E7B407E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0E2B-2EC2-43AD-BC84-A3D3A364AC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9A4B-16B8-47E2-AC6F-BA641F283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D37E-8F76-4AE7-A5DC-DAEF721F070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91FD-CEF7-41A5-800E-9E7A6F562A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A2BB9-C907-402E-996D-B06834A859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D705C-7044-4183-B5A5-58A0C22C20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9D53B-045F-4532-BBCF-3E382E5791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88D99-99A6-447B-9BA9-360A0F7D116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931D9-68FB-48F5-BA49-A46E53D073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0D1DF-2556-4262-B571-18274BFC0A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02221-5414-4919-8F88-F175FA00FB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79B91-64D0-456C-880A-B71F6BC4B1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84401-B321-4627-97C8-1B8439486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E783-9BE5-4323-AB44-46BBA75C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2171C-1D1F-47DC-8F45-223F244AB8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144526-7320-4177-BD60-671F4A75C5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E6A078-D2A6-4E84-83B6-E1754F5D978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E9362-22DC-4201-BFD6-5F6FD67E71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49F90-4787-41FA-9779-C8370DF93A7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65C36-FDBF-4BBC-A68E-2AFBCF886C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5FA86-1323-4943-BC32-98E64ECAB6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3C28A-82C2-4FD7-8C65-B43881E5BA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39053-9A2E-4509-8DFF-1BB1CF69A1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FAA1C-5C55-4F17-B4E5-3375B5F44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C9F50-453A-4103-8A0B-921D561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C7F88-7CB8-4636-8704-C55842DB77D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554B9-C360-4A39-B1D5-03CC457EF5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84D40-168C-4281-BFEE-A63B9C6FA6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D540B-3387-4CD1-BC85-7235C8ACF7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BE627-A45F-4BF0-882C-1D903BB9A4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B5A5-9B8F-4A12-B9FC-5178666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471C6-12E4-4B91-B439-D1CCAEB5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6C8CF-1060-4D04-BFE2-E49FC58D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7A5C1-E9F1-44D7-B347-DF778C0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32CA1-E792-4CA3-B9AF-8CA08E1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62A7-C378-49A6-8951-14B7CF0ED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BE876-7868-4EE5-ACCF-CC2E678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B2106-5424-472E-ABA1-C6A9B8F1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912EE-450A-4B80-B7D7-6FC9BC42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BEDD-E5A5-4FEA-B0DD-A3C5BCA8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10BEE-9686-45C1-9A90-B290A9BF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DF4E-8DCE-488D-9DA8-E95C1B3C3C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6D629-0F5C-4933-89C0-FA0A921D49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D3196-2AD8-4566-AE76-EF8F0F1103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6E090-E9FB-4658-9993-CBE5DD8D36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D3922-95D3-4763-A029-DBF6FCB93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DFC9-CE54-4980-AD99-A87C97DF66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103F9-A7E6-4CB2-BAB9-1791593E9B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84FA-0816-4B2E-B7DB-BDB64CA259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0D52A-1191-43A4-B363-F33E762CB1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C2EE5-7158-4805-B092-521C941903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DF2B2-CD03-42CB-8F9B-4930698EE1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3D354-D69D-421D-8707-61F99BEF7C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2F85A-F155-477E-A6B3-897537FD42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2460-3668-4E38-B533-2905F7A5A8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46E8-29BD-433C-A454-40284069CF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514E-33D7-4432-8F9A-9BC779078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BEC9-2D01-4648-B3B1-1AC999C40B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7991-B20F-443F-BD8D-06625BBC11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BC4A-9880-43D3-8B0A-960BA8BA39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6E0E-13FE-49B3-860E-FE001E7E5C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6258-6FEC-4CA6-90EB-5972AEAD08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9232-048A-4088-8D39-D4D956E777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8E7A-1985-4C4D-B962-B31F1A5D49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A62E-E40D-45B7-A6AC-544DABFE18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F0A5-B7BE-4DC7-9EB8-60DB270416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630E-784A-4DE9-AA80-E2A6276250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6AD5E-B9AD-4A96-9CEF-5B7F7E341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E68B-90DB-46FB-9924-D7B034AA2F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FC227-F5B9-4105-9F79-7C1CC9794C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7C7CE-B4B9-4EAC-9AF4-79EEEF59E0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B4345-B402-4D94-B48F-ECC6233065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E033F-53E7-4AF6-A751-4E45AC5363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F7FD2-AFE9-47E5-BB00-40A1DAA438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2EBFA-70DE-40DD-AA62-D047D205FD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B35A6-46DD-45A4-ACC1-CF92434FCF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9F5D7-6DEA-4449-9D4F-84DA72D1A4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87017-B696-43BB-97E3-FE2336A978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27411-4F72-40DC-8D69-6A7934101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382-2D79-481B-9504-C2B4254AEC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434A6-E07A-42D5-A055-4FB900CAF9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C9A95-D11A-4704-845B-774A74EEC1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D7CA8-02AF-4FFD-9F40-296263255F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06335-9115-453B-BBA4-6BCE65DDDD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A08DB-9CBC-4095-975F-7B35EB3CF4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7B806-5E1C-4B3F-9579-86B9172342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DD758-ACAA-4753-85AF-E298D9D966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00D25-48F6-480C-A646-538463BB45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575D3-E83B-40CA-8459-F336B693AA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E9817-8891-4F74-8DF8-930896674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94C4-882D-4366-A157-96A248295B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91D88-5104-4461-9256-606D26CA85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8250B-087F-49E9-9D68-B16D606288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8CEA6-BECB-4789-B704-69A1ECD301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50F6-CA9C-4528-8CA1-BF73E2E56C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03E9-6FCD-40D6-B7ED-29037569BD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F57D-DE33-45F1-85A9-B3C6845288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96B9-FE32-4D06-89FF-D4DE5B5235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EBC9-C677-49E1-AF28-6F6BA4A51D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6FF8-92F8-45F3-83DD-BC276BDE14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9C64-EECA-424C-ABF5-AB0516243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350F-27ED-41E0-BD7A-C50D199D1C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AE76-BF31-4F2E-BD8B-6E8E4F750A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6953-E76B-486A-8C1A-498B743A4D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6120-8CCF-4087-960E-E4B0E66B2E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89D7-E2DC-4AF7-8DBB-5086CDBD58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FC20-1595-45C4-A6F5-7E64545198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43736-18C2-48BA-A239-7E5FC80CA89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F8504-23CD-4E47-8BDF-C3322612189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0CA2A-844E-44DD-A023-DD3A6A7A1D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7E7F2-88D7-43C8-ADFC-DC16349A6E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D4624-7F36-465F-9C9F-25199A27B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28AA-C5CC-42E0-A313-C0ED256DBD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CAB72-C733-4F1D-AB94-1903473802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181A1-0D6C-41E5-B32A-3BD68ADE3BA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4277E-3281-4ADC-876B-9127749C9E9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66C6A-4DAF-49F8-BC1D-FE7FC10AF1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80E72-1E68-404F-8BEB-DCA53CF89E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F1AA2-48C7-4B26-8330-4B8FAA1E14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8FC78-56A0-4BD9-B9A5-7F41AD9F9A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83469-C7D4-4A9D-9158-B8F3829CA5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4FB85-D9CC-45D5-A334-EFB9F9BE56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2D19A-02BE-43B0-967A-96A8C509F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533520" y="6491160"/>
            <a:ext cx="37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sby items and derived items © 2006 by Mosby, Inc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1D4-FAA8-46A0-892E-15D2ABE72AB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71F-6266-4CFC-BE44-DEEE7E89F1F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3FB-15E0-44E6-B529-E57AD4BD893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CD9C-744C-46D7-8B2C-1D8A25C1CD0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4AA-2488-4E78-AD8F-EF0349AC26D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A41-DABB-44D2-9255-1C6FC055FE5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1379-3625-48DC-A49B-2A9BF7703AF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4DF-2066-4D94-BFF8-5CA47BFA5B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3679-2532-431D-A06B-4CE9DDEE9AD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DD6A-291B-4F13-8692-B1D693FE10C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BB0B-0CC3-41D1-9337-3188B7D06B2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DDEB-9813-4F1E-8594-9CC3278AF5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696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atural Defense Mechanisms</a:t>
            </a:r>
            <a:endParaRPr b="0" lang="en-US" sz="48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4920" y="52574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munology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t. of Path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7467480" y="5824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 2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ndation b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lammation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 and limit infection and furthe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act with adaptive immu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 Monocytes / Macroph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as a link between the adaptive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ate immunity by antigen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the area of injury for he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53352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st of a group of serum proteins circulate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ac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m once they become activated they produce important biological effects that initiate inflammatio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ystem plays an important role in linking Innate &amp; Adaptive i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plement system: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Pathways of activ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Class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antigen-antibody bin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1,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Lec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mannan binding protien binding manose groups of bacterial carbohydr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bacterial produc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3,C5,C6,C7,C8,C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564C-074F-4C2C-9ED9-7724427EBC3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41400" y="914400"/>
            <a:ext cx="9061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1522440" y="566640"/>
            <a:ext cx="4952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mbrane Attack Complex form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5-acti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6392520" y="3651480"/>
            <a:ext cx="1152720" cy="1859040"/>
            <a:chOff x="6392520" y="3651480"/>
            <a:chExt cx="1152720" cy="1859040"/>
          </a:xfrm>
        </p:grpSpPr>
        <p:sp>
          <p:nvSpPr>
            <p:cNvPr id="542" name="AutoShape 6"/>
            <p:cNvSpPr/>
            <p:nvPr/>
          </p:nvSpPr>
          <p:spPr>
            <a:xfrm>
              <a:off x="6475320" y="3692520"/>
              <a:ext cx="990360" cy="1818000"/>
            </a:xfrm>
            <a:prstGeom prst="flowChartProcess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3b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AutoShape 7"/>
            <p:cNvSpPr/>
            <p:nvPr/>
          </p:nvSpPr>
          <p:spPr>
            <a:xfrm rot="21544200">
              <a:off x="6397200" y="3660840"/>
              <a:ext cx="1143000" cy="6094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Group 8"/>
          <p:cNvGrpSpPr/>
          <p:nvPr/>
        </p:nvGrpSpPr>
        <p:grpSpPr>
          <a:xfrm>
            <a:off x="4853880" y="3817440"/>
            <a:ext cx="1868040" cy="2331000"/>
            <a:chOff x="4853880" y="3817440"/>
            <a:chExt cx="1868040" cy="2331000"/>
          </a:xfrm>
        </p:grpSpPr>
        <p:grpSp>
          <p:nvGrpSpPr>
            <p:cNvPr id="545" name="Group 9"/>
            <p:cNvGrpSpPr/>
            <p:nvPr/>
          </p:nvGrpSpPr>
          <p:grpSpPr>
            <a:xfrm>
              <a:off x="4853880" y="3817440"/>
              <a:ext cx="1868040" cy="2331000"/>
              <a:chOff x="4853880" y="3817440"/>
              <a:chExt cx="1868040" cy="2331000"/>
            </a:xfrm>
          </p:grpSpPr>
          <p:sp>
            <p:nvSpPr>
              <p:cNvPr id="546" name="AutoShape 10"/>
              <p:cNvSpPr/>
              <p:nvPr/>
            </p:nvSpPr>
            <p:spPr>
              <a:xfrm rot="21344400">
                <a:off x="4985640" y="3947760"/>
                <a:ext cx="1523880" cy="19047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AutoShape 11"/>
              <p:cNvSpPr/>
              <p:nvPr/>
            </p:nvSpPr>
            <p:spPr>
              <a:xfrm rot="21286800">
                <a:off x="4949640" y="3889080"/>
                <a:ext cx="1676160" cy="2187360"/>
              </a:xfrm>
              <a:custGeom>
                <a:avLst/>
                <a:gdLst>
                  <a:gd name="textAreaLeft" fmla="*/ 66600 w 1676160"/>
                  <a:gd name="textAreaRight" fmla="*/ 1609560 w 1676160"/>
                  <a:gd name="textAreaTop" fmla="*/ 0 h 2187360"/>
                  <a:gd name="textAreaBottom" fmla="*/ 942840 h 218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730" y="8553"/>
                    </a:moveTo>
                    <a:cubicBezTo>
                      <a:pt x="8446" y="7574"/>
                      <a:pt x="9587" y="6995"/>
                      <a:pt x="10800" y="6996"/>
                    </a:cubicBezTo>
                    <a:cubicBezTo>
                      <a:pt x="12012" y="6996"/>
                      <a:pt x="13153" y="7574"/>
                      <a:pt x="13869" y="8553"/>
                    </a:cubicBezTo>
                    <a:lnTo>
                      <a:pt x="19515" y="4421"/>
                    </a:lnTo>
                    <a:cubicBezTo>
                      <a:pt x="17481" y="1642"/>
                      <a:pt x="14243" y="-1"/>
                      <a:pt x="10799" y="0"/>
                    </a:cubicBezTo>
                    <a:cubicBezTo>
                      <a:pt x="7356" y="0"/>
                      <a:pt x="4118" y="1642"/>
                      <a:pt x="2084" y="4421"/>
                    </a:cubicBezTo>
                    <a:lnTo>
                      <a:pt x="7730" y="8553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Text Box 12"/>
              <p:cNvSpPr/>
              <p:nvPr/>
            </p:nvSpPr>
            <p:spPr>
              <a:xfrm rot="778200">
                <a:off x="5950080" y="4651920"/>
                <a:ext cx="304200" cy="3682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AutoShape 13"/>
            <p:cNvSpPr/>
            <p:nvPr/>
          </p:nvSpPr>
          <p:spPr>
            <a:xfrm>
              <a:off x="5105520" y="548964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Group 14"/>
          <p:cNvGrpSpPr/>
          <p:nvPr/>
        </p:nvGrpSpPr>
        <p:grpSpPr>
          <a:xfrm>
            <a:off x="3730680" y="3736800"/>
            <a:ext cx="1371600" cy="2210040"/>
            <a:chOff x="3730680" y="3736800"/>
            <a:chExt cx="1371600" cy="2210040"/>
          </a:xfrm>
        </p:grpSpPr>
        <p:sp>
          <p:nvSpPr>
            <p:cNvPr id="551" name="Oval 15"/>
            <p:cNvSpPr/>
            <p:nvPr/>
          </p:nvSpPr>
          <p:spPr>
            <a:xfrm>
              <a:off x="3730680" y="3736800"/>
              <a:ext cx="1295640" cy="22100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4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AutoShape 16"/>
            <p:cNvSpPr/>
            <p:nvPr/>
          </p:nvSpPr>
          <p:spPr>
            <a:xfrm>
              <a:off x="3807000" y="552132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" name="AutoShape 17"/>
          <p:cNvSpPr/>
          <p:nvPr/>
        </p:nvSpPr>
        <p:spPr>
          <a:xfrm rot="16168200">
            <a:off x="7077240" y="328608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64" y="0"/>
                </a:lnTo>
                <a:lnTo>
                  <a:pt x="21600" y="10800"/>
                </a:lnTo>
                <a:lnTo>
                  <a:pt x="136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18"/>
          <p:cNvGrpSpPr/>
          <p:nvPr/>
        </p:nvGrpSpPr>
        <p:grpSpPr>
          <a:xfrm>
            <a:off x="7463880" y="1754640"/>
            <a:ext cx="1073880" cy="2977200"/>
            <a:chOff x="7463880" y="1754640"/>
            <a:chExt cx="1073880" cy="2977200"/>
          </a:xfrm>
        </p:grpSpPr>
        <p:sp>
          <p:nvSpPr>
            <p:cNvPr id="555" name="Text Box 19"/>
            <p:cNvSpPr/>
            <p:nvPr/>
          </p:nvSpPr>
          <p:spPr>
            <a:xfrm flipH="1">
              <a:off x="8152560" y="366084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AutoShape 20"/>
            <p:cNvSpPr/>
            <p:nvPr/>
          </p:nvSpPr>
          <p:spPr>
            <a:xfrm rot="10806600">
              <a:off x="7464240" y="1755720"/>
              <a:ext cx="1069920" cy="611280"/>
            </a:xfrm>
            <a:prstGeom prst="flowChartMerg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5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AutoShape 21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Rectangle 22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1143000" y="343080"/>
            <a:ext cx="72388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s of the Membrane Attack Comple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114800" y="220968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5867280" y="4267080"/>
            <a:ext cx="30492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2614320" y="3232440"/>
            <a:ext cx="1981440" cy="2939760"/>
            <a:chOff x="2614320" y="3232440"/>
            <a:chExt cx="1981440" cy="2939760"/>
          </a:xfrm>
        </p:grpSpPr>
        <p:sp>
          <p:nvSpPr>
            <p:cNvPr id="563" name="AutoShape 8"/>
            <p:cNvSpPr/>
            <p:nvPr/>
          </p:nvSpPr>
          <p:spPr>
            <a:xfrm>
              <a:off x="3276720" y="487692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AutoShape 9"/>
            <p:cNvSpPr/>
            <p:nvPr/>
          </p:nvSpPr>
          <p:spPr>
            <a:xfrm rot="16033800">
              <a:off x="2500200" y="3443040"/>
              <a:ext cx="2209680" cy="187668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Group 10"/>
          <p:cNvGrpSpPr/>
          <p:nvPr/>
        </p:nvGrpSpPr>
        <p:grpSpPr>
          <a:xfrm>
            <a:off x="6934320" y="1905120"/>
            <a:ext cx="1143000" cy="2057400"/>
            <a:chOff x="6934320" y="1905120"/>
            <a:chExt cx="1143000" cy="2057400"/>
          </a:xfrm>
        </p:grpSpPr>
        <p:sp>
          <p:nvSpPr>
            <p:cNvPr id="566" name="Oval 11"/>
            <p:cNvSpPr/>
            <p:nvPr/>
          </p:nvSpPr>
          <p:spPr>
            <a:xfrm>
              <a:off x="6934320" y="190512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>
              <a:off x="7315200" y="266724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AutoShape 13"/>
          <p:cNvSpPr/>
          <p:nvPr/>
        </p:nvSpPr>
        <p:spPr>
          <a:xfrm rot="16227600">
            <a:off x="755280" y="236844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3" y="0"/>
                </a:lnTo>
                <a:lnTo>
                  <a:pt x="21600" y="10800"/>
                </a:lnTo>
                <a:lnTo>
                  <a:pt x="151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1447920" y="68400"/>
            <a:ext cx="655308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mbrane Attack Complex component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semb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Group 6"/>
          <p:cNvGrpSpPr/>
          <p:nvPr/>
        </p:nvGrpSpPr>
        <p:grpSpPr>
          <a:xfrm>
            <a:off x="7456680" y="2894400"/>
            <a:ext cx="1081080" cy="1837440"/>
            <a:chOff x="7456680" y="2894400"/>
            <a:chExt cx="1081080" cy="1837440"/>
          </a:xfrm>
        </p:grpSpPr>
        <p:sp>
          <p:nvSpPr>
            <p:cNvPr id="572" name="AutoShape 7"/>
            <p:cNvSpPr/>
            <p:nvPr/>
          </p:nvSpPr>
          <p:spPr>
            <a:xfrm rot="16168200">
              <a:off x="7077240" y="3286080"/>
              <a:ext cx="1766880" cy="9921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664" y="0"/>
                  </a:lnTo>
                  <a:lnTo>
                    <a:pt x="21600" y="10800"/>
                  </a:lnTo>
                  <a:lnTo>
                    <a:pt x="136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Text Box 8"/>
            <p:cNvSpPr/>
            <p:nvPr/>
          </p:nvSpPr>
          <p:spPr>
            <a:xfrm flipH="1">
              <a:off x="8152560" y="365760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utoShape 9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Oval 10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6" name="Group 11"/>
          <p:cNvGrpSpPr/>
          <p:nvPr/>
        </p:nvGrpSpPr>
        <p:grpSpPr>
          <a:xfrm>
            <a:off x="6324480" y="3352680"/>
            <a:ext cx="1143000" cy="2057400"/>
            <a:chOff x="6324480" y="3352680"/>
            <a:chExt cx="1143000" cy="2057400"/>
          </a:xfrm>
        </p:grpSpPr>
        <p:sp>
          <p:nvSpPr>
            <p:cNvPr id="577" name="Oval 12"/>
            <p:cNvSpPr/>
            <p:nvPr/>
          </p:nvSpPr>
          <p:spPr>
            <a:xfrm>
              <a:off x="6324480" y="335268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AutoShape 13"/>
            <p:cNvSpPr/>
            <p:nvPr/>
          </p:nvSpPr>
          <p:spPr>
            <a:xfrm>
              <a:off x="6705360" y="411480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143000" y="149400"/>
            <a:ext cx="73152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mbrane Attack Complex formati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sertion of lytic complex into cell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6"/>
          <p:cNvGrpSpPr/>
          <p:nvPr/>
        </p:nvGrpSpPr>
        <p:grpSpPr>
          <a:xfrm>
            <a:off x="6324480" y="1981080"/>
            <a:ext cx="2213280" cy="3124440"/>
            <a:chOff x="6324480" y="1981080"/>
            <a:chExt cx="2213280" cy="3124440"/>
          </a:xfrm>
        </p:grpSpPr>
        <p:grpSp>
          <p:nvGrpSpPr>
            <p:cNvPr id="582" name="Group 7"/>
            <p:cNvGrpSpPr/>
            <p:nvPr/>
          </p:nvGrpSpPr>
          <p:grpSpPr>
            <a:xfrm>
              <a:off x="7456680" y="2589480"/>
              <a:ext cx="1081080" cy="1837440"/>
              <a:chOff x="7456680" y="2589480"/>
              <a:chExt cx="1081080" cy="1837440"/>
            </a:xfrm>
          </p:grpSpPr>
          <p:sp>
            <p:nvSpPr>
              <p:cNvPr id="583" name="AutoShape 8"/>
              <p:cNvSpPr/>
              <p:nvPr/>
            </p:nvSpPr>
            <p:spPr>
              <a:xfrm rot="16168200">
                <a:off x="7077240" y="2981160"/>
                <a:ext cx="1766880" cy="992160"/>
              </a:xfrm>
              <a:custGeom>
                <a:avLst/>
                <a:gdLst>
                  <a:gd name="textAreaLeft" fmla="*/ 0 w 1766880"/>
                  <a:gd name="textAreaRight" fmla="*/ 1767240 w 1766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664" y="0"/>
                    </a:lnTo>
                    <a:lnTo>
                      <a:pt x="21600" y="10800"/>
                    </a:lnTo>
                    <a:lnTo>
                      <a:pt x="1366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Text Box 9"/>
              <p:cNvSpPr/>
              <p:nvPr/>
            </p:nvSpPr>
            <p:spPr>
              <a:xfrm flipH="1">
                <a:off x="8152560" y="3352680"/>
                <a:ext cx="228600" cy="36828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AutoShape 10"/>
              <p:cNvSpPr/>
              <p:nvPr/>
            </p:nvSpPr>
            <p:spPr>
              <a:xfrm rot="10806600">
                <a:off x="7467120" y="3814560"/>
                <a:ext cx="1069920" cy="611280"/>
              </a:xfrm>
              <a:prstGeom prst="flowChartMerg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6" name="Oval 11"/>
            <p:cNvSpPr/>
            <p:nvPr/>
          </p:nvSpPr>
          <p:spPr>
            <a:xfrm>
              <a:off x="6705720" y="1981080"/>
              <a:ext cx="1143000" cy="114300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6324480" y="3048120"/>
              <a:ext cx="1143000" cy="2057400"/>
              <a:chOff x="6324480" y="3048120"/>
              <a:chExt cx="1143000" cy="2057400"/>
            </a:xfrm>
          </p:grpSpPr>
          <p:sp>
            <p:nvSpPr>
              <p:cNvPr id="588" name="Oval 13"/>
              <p:cNvSpPr/>
              <p:nvPr/>
            </p:nvSpPr>
            <p:spPr>
              <a:xfrm>
                <a:off x="6324480" y="3048120"/>
                <a:ext cx="1143000" cy="11336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AutoShape 14"/>
              <p:cNvSpPr/>
              <p:nvPr/>
            </p:nvSpPr>
            <p:spPr>
              <a:xfrm>
                <a:off x="6705360" y="3810240"/>
                <a:ext cx="380880" cy="1295280"/>
              </a:xfrm>
              <a:prstGeom prst="can">
                <a:avLst>
                  <a:gd name="adj" fmla="val 31874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Group 15"/>
          <p:cNvGrpSpPr/>
          <p:nvPr/>
        </p:nvGrpSpPr>
        <p:grpSpPr>
          <a:xfrm>
            <a:off x="5895360" y="2553120"/>
            <a:ext cx="1696680" cy="2704320"/>
            <a:chOff x="5895360" y="2553120"/>
            <a:chExt cx="1696680" cy="2704320"/>
          </a:xfrm>
        </p:grpSpPr>
        <p:sp>
          <p:nvSpPr>
            <p:cNvPr id="591" name="AutoShape 16"/>
            <p:cNvSpPr/>
            <p:nvPr/>
          </p:nvSpPr>
          <p:spPr>
            <a:xfrm>
              <a:off x="6463440" y="4064760"/>
              <a:ext cx="324720" cy="11926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AutoShape 17"/>
            <p:cNvSpPr/>
            <p:nvPr/>
          </p:nvSpPr>
          <p:spPr>
            <a:xfrm rot="16033800">
              <a:off x="5725800" y="2807640"/>
              <a:ext cx="2035080" cy="160020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3" name="Picture 18" descr="ComplRBC"/>
          <p:cNvPicPr/>
          <p:nvPr/>
        </p:nvPicPr>
        <p:blipFill>
          <a:blip r:embed="rId1"/>
          <a:stretch/>
        </p:blipFill>
        <p:spPr>
          <a:xfrm>
            <a:off x="762120" y="1676520"/>
            <a:ext cx="3533760" cy="373356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9"/>
          <p:cNvGrpSpPr/>
          <p:nvPr/>
        </p:nvGrpSpPr>
        <p:grpSpPr>
          <a:xfrm>
            <a:off x="4495680" y="4419720"/>
            <a:ext cx="1676520" cy="1218960"/>
            <a:chOff x="4495680" y="4419720"/>
            <a:chExt cx="1676520" cy="1218960"/>
          </a:xfrm>
        </p:grpSpPr>
        <p:sp>
          <p:nvSpPr>
            <p:cNvPr id="595" name="AutoShape 20"/>
            <p:cNvSpPr/>
            <p:nvPr/>
          </p:nvSpPr>
          <p:spPr>
            <a:xfrm>
              <a:off x="5791320" y="4495680"/>
              <a:ext cx="38088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21"/>
            <p:cNvSpPr/>
            <p:nvPr/>
          </p:nvSpPr>
          <p:spPr>
            <a:xfrm>
              <a:off x="4495680" y="4419720"/>
              <a:ext cx="45720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AutoShape 22"/>
          <p:cNvSpPr/>
          <p:nvPr/>
        </p:nvSpPr>
        <p:spPr>
          <a:xfrm>
            <a:off x="496872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23"/>
          <p:cNvSpPr/>
          <p:nvPr/>
        </p:nvSpPr>
        <p:spPr>
          <a:xfrm>
            <a:off x="4740120" y="3733920"/>
            <a:ext cx="3207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24"/>
          <p:cNvSpPr/>
          <p:nvPr/>
        </p:nvSpPr>
        <p:spPr>
          <a:xfrm>
            <a:off x="525780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25"/>
          <p:cNvSpPr/>
          <p:nvPr/>
        </p:nvSpPr>
        <p:spPr>
          <a:xfrm>
            <a:off x="5578560" y="3733920"/>
            <a:ext cx="3045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26"/>
          <p:cNvSpPr/>
          <p:nvPr/>
        </p:nvSpPr>
        <p:spPr>
          <a:xfrm>
            <a:off x="573084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27"/>
          <p:cNvSpPr/>
          <p:nvPr/>
        </p:nvSpPr>
        <p:spPr>
          <a:xfrm>
            <a:off x="457200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28"/>
          <p:cNvSpPr/>
          <p:nvPr/>
        </p:nvSpPr>
        <p:spPr>
          <a:xfrm>
            <a:off x="481644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29"/>
          <p:cNvSpPr/>
          <p:nvPr/>
        </p:nvSpPr>
        <p:spPr>
          <a:xfrm>
            <a:off x="5153040" y="43434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30"/>
          <p:cNvSpPr/>
          <p:nvPr/>
        </p:nvSpPr>
        <p:spPr>
          <a:xfrm>
            <a:off x="548640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Bent Arrow 32"/>
          <p:cNvSpPr/>
          <p:nvPr/>
        </p:nvSpPr>
        <p:spPr>
          <a:xfrm flipH="1">
            <a:off x="4419000" y="2057400"/>
            <a:ext cx="685800" cy="1523880"/>
          </a:xfrm>
          <a:custGeom>
            <a:avLst/>
            <a:gdLst/>
            <a:ahLst/>
            <a:rect l="l" t="t" r="r" b="b"/>
            <a:pathLst>
              <a:path w="685800" h="1524000">
                <a:moveTo>
                  <a:pt x="0" y="1524000"/>
                </a:moveTo>
                <a:lnTo>
                  <a:pt x="0" y="385763"/>
                </a:lnTo>
                <a:cubicBezTo>
                  <a:pt x="0" y="220057"/>
                  <a:pt x="134332" y="85725"/>
                  <a:pt x="300038" y="85725"/>
                </a:cubicBezTo>
                <a:lnTo>
                  <a:pt x="514350" y="85725"/>
                </a:lnTo>
                <a:lnTo>
                  <a:pt x="514350" y="0"/>
                </a:lnTo>
                <a:lnTo>
                  <a:pt x="685800" y="171450"/>
                </a:lnTo>
                <a:lnTo>
                  <a:pt x="514350" y="342900"/>
                </a:lnTo>
                <a:lnTo>
                  <a:pt x="514350" y="257175"/>
                </a:lnTo>
                <a:lnTo>
                  <a:pt x="300038" y="257175"/>
                </a:lnTo>
                <a:cubicBezTo>
                  <a:pt x="229021" y="257175"/>
                  <a:pt x="171450" y="314746"/>
                  <a:pt x="171450" y="385763"/>
                </a:cubicBezTo>
                <a:lnTo>
                  <a:pt x="171450" y="1524000"/>
                </a:lnTo>
                <a:lnTo>
                  <a:pt x="0" y="1524000"/>
                </a:lnTo>
                <a:close/>
              </a:path>
            </a:pathLst>
          </a:custGeom>
          <a:solidFill>
            <a:srgbClr val="a7d2df"/>
          </a:solidFill>
          <a:ln w="25560">
            <a:solidFill>
              <a:srgbClr val="7a9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logical effects of complement activation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9144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naphylatoxin  (C3a, C5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duce histamine release from mast 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chemotactic ag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Opsonization: (opsonin, C3b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ting of  bacteria enhances phagocy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Cause direct cell 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estruction of bacte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BA58-9CED-442D-9F12-E054092490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cess of chemotaxi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ling on vessel wall.         Adhesion (attach)    Pass through.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75c6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FDF-7E1C-4E9D-9D26-948AB344BB0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Picture 2" descr="http://www.chronicprostatitis.com/images/f3.jpg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257800"/>
          </a:xfrm>
          <a:prstGeom prst="rect">
            <a:avLst/>
          </a:prstGeom>
          <a:ln w="0">
            <a:noFill/>
          </a:ln>
        </p:spPr>
      </p:pic>
      <p:cxnSp>
        <p:nvCxnSpPr>
          <p:cNvPr id="614" name="Straight Arrow Connector 8"/>
          <p:cNvCxnSpPr/>
          <p:nvPr/>
        </p:nvCxnSpPr>
        <p:spPr>
          <a:xfrm flipH="1">
            <a:off x="6017400" y="1220760"/>
            <a:ext cx="3960" cy="129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5" name="Down Arrow 8"/>
          <p:cNvSpPr/>
          <p:nvPr/>
        </p:nvSpPr>
        <p:spPr>
          <a:xfrm>
            <a:off x="1371600" y="1295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Down Arrow 9"/>
          <p:cNvSpPr/>
          <p:nvPr/>
        </p:nvSpPr>
        <p:spPr>
          <a:xfrm>
            <a:off x="5791320" y="12952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Down Arrow 10"/>
          <p:cNvSpPr/>
          <p:nvPr/>
        </p:nvSpPr>
        <p:spPr>
          <a:xfrm>
            <a:off x="7315200" y="1295280"/>
            <a:ext cx="380880" cy="113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33"/>
          </a:solidFill>
          <a:ln w="9360">
            <a:solidFill>
              <a:srgbClr val="a7d2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First (non-specific immunity) and second (adaptive immunity) lines of def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activation provides protection by kill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inflammatory cells important for clearance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kines as mediators regulate inflam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ABC0-7257-47B5-AC91-D504A975DC0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ypes of Cells attracted to site of infec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that mediate inflammation : 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ocy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Macrophages when they leave the blood and  enter the tiss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utr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Phagocytic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osin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Allergy and Parasitic infec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Kill tumor cells and virus infected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BFE-EA38-4455-B079-3AD4AA0448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agocytic cells (neutrophils &amp; macrophages) at site of infection start the process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agocytosi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process by which a cell ingests and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destroy foreign material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6840" y="1828800"/>
            <a:ext cx="3352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4865" t="7887" r="17372" b="12055"/>
          <a:stretch/>
        </p:blipFill>
        <p:spPr>
          <a:xfrm>
            <a:off x="4572000" y="0"/>
            <a:ext cx="4572000" cy="6705720"/>
          </a:xfrm>
          <a:prstGeom prst="rect">
            <a:avLst/>
          </a:prstGeom>
          <a:ln w="0">
            <a:noFill/>
          </a:ln>
        </p:spPr>
      </p:pic>
      <p:sp>
        <p:nvSpPr>
          <p:cNvPr id="624" name="Content Placeholder 2"/>
          <p:cNvSpPr/>
          <p:nvPr/>
        </p:nvSpPr>
        <p:spPr>
          <a:xfrm>
            <a:off x="304920" y="1752480"/>
            <a:ext cx="335268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2" descr="http://www.chronicprostatitis.com/images/neutrophil.jpg"/>
          <p:cNvPicPr/>
          <p:nvPr/>
        </p:nvPicPr>
        <p:blipFill>
          <a:blip r:embed="rId2"/>
          <a:stretch/>
        </p:blipFill>
        <p:spPr>
          <a:xfrm>
            <a:off x="0" y="0"/>
            <a:ext cx="4605480" cy="66992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10"/>
          <p:cNvSpPr/>
          <p:nvPr/>
        </p:nvSpPr>
        <p:spPr>
          <a:xfrm>
            <a:off x="457200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phage attacking E. coli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EC6D-FD62-4A62-930D-049C1EFE185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2" descr="http://www.metapathogen.com/IMG/phagocytosis-diagr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1" name="TextBox 5"/>
          <p:cNvSpPr/>
          <p:nvPr/>
        </p:nvSpPr>
        <p:spPr>
          <a:xfrm>
            <a:off x="685800" y="0"/>
            <a:ext cx="7772400" cy="764280"/>
          </a:xfrm>
          <a:prstGeom prst="rect">
            <a:avLst/>
          </a:prstGeom>
          <a:solidFill>
            <a:srgbClr val="a7d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Phagocyt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ytokines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ble molecules, produced by different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cells, that control cell functions e.g. activation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or inhibition.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leuk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primarily by macrophages and lymphocytes in response to a pathog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-1, IL-2, IL-3…...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fer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nd released by virally infected cells in response to viral inf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umor necrosis factor (TN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ed by macroph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uces fever by acting as 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dogenous pyro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 substance released from inside the body that produces fe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s synthesis of inflammatory serum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pecific (innate immunity) acts as a first line of defense against invad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ate immunity is an important initial step for generation of adaptive immun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 is vital for controlling infection and limiting tissue damag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355-1740-4DE2-B905-6CC8EB0429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10"/>
          <p:cNvSpPr/>
          <p:nvPr/>
        </p:nvSpPr>
        <p:spPr>
          <a:xfrm>
            <a:off x="1144440" y="4432320"/>
            <a:ext cx="1016280" cy="533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6835320" y="5410080"/>
            <a:ext cx="2084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bercule bacil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phylococ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533520" y="5410080"/>
            <a:ext cx="174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i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22860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5791320" y="1295280"/>
            <a:ext cx="2446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ites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w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Group 15"/>
          <p:cNvGrpSpPr/>
          <p:nvPr/>
        </p:nvGrpSpPr>
        <p:grpSpPr>
          <a:xfrm>
            <a:off x="770400" y="2033640"/>
            <a:ext cx="1392120" cy="1269720"/>
            <a:chOff x="770400" y="2033640"/>
            <a:chExt cx="1392120" cy="1269720"/>
          </a:xfrm>
        </p:grpSpPr>
        <p:sp>
          <p:nvSpPr>
            <p:cNvPr id="483" name="AutoShape 16"/>
            <p:cNvSpPr/>
            <p:nvPr/>
          </p:nvSpPr>
          <p:spPr>
            <a:xfrm rot="1849800">
              <a:off x="1262160" y="26539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AutoShape 17"/>
            <p:cNvSpPr/>
            <p:nvPr/>
          </p:nvSpPr>
          <p:spPr>
            <a:xfrm rot="1849800">
              <a:off x="1517760" y="21337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18"/>
            <p:cNvSpPr/>
            <p:nvPr/>
          </p:nvSpPr>
          <p:spPr>
            <a:xfrm rot="1849800">
              <a:off x="872640" y="2188080"/>
              <a:ext cx="542160" cy="54900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AutoShape 19"/>
          <p:cNvSpPr/>
          <p:nvPr/>
        </p:nvSpPr>
        <p:spPr>
          <a:xfrm>
            <a:off x="1460520" y="4957920"/>
            <a:ext cx="1015920" cy="533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Group 20"/>
          <p:cNvGrpSpPr/>
          <p:nvPr/>
        </p:nvGrpSpPr>
        <p:grpSpPr>
          <a:xfrm>
            <a:off x="5938920" y="4316400"/>
            <a:ext cx="1610640" cy="1150560"/>
            <a:chOff x="5938920" y="4316400"/>
            <a:chExt cx="1610640" cy="1150560"/>
          </a:xfrm>
        </p:grpSpPr>
        <p:grpSp>
          <p:nvGrpSpPr>
            <p:cNvPr id="488" name="Group 21"/>
            <p:cNvGrpSpPr/>
            <p:nvPr/>
          </p:nvGrpSpPr>
          <p:grpSpPr>
            <a:xfrm>
              <a:off x="6658560" y="4316400"/>
              <a:ext cx="825480" cy="262080"/>
              <a:chOff x="6658560" y="4316400"/>
              <a:chExt cx="825480" cy="262080"/>
            </a:xfrm>
          </p:grpSpPr>
          <p:sp>
            <p:nvSpPr>
              <p:cNvPr id="489" name="AutoShape 22"/>
              <p:cNvSpPr/>
              <p:nvPr/>
            </p:nvSpPr>
            <p:spPr>
              <a:xfrm>
                <a:off x="7071120" y="431640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AutoShape 23"/>
              <p:cNvSpPr/>
              <p:nvPr/>
            </p:nvSpPr>
            <p:spPr>
              <a:xfrm flipH="1">
                <a:off x="6658560" y="431640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24"/>
            <p:cNvGrpSpPr/>
            <p:nvPr/>
          </p:nvGrpSpPr>
          <p:grpSpPr>
            <a:xfrm>
              <a:off x="5938920" y="4637160"/>
              <a:ext cx="825480" cy="262080"/>
              <a:chOff x="5938920" y="4637160"/>
              <a:chExt cx="825480" cy="262080"/>
            </a:xfrm>
          </p:grpSpPr>
          <p:sp>
            <p:nvSpPr>
              <p:cNvPr id="492" name="AutoShape 25"/>
              <p:cNvSpPr/>
              <p:nvPr/>
            </p:nvSpPr>
            <p:spPr>
              <a:xfrm>
                <a:off x="6351480" y="463716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AutoShape 26"/>
              <p:cNvSpPr/>
              <p:nvPr/>
            </p:nvSpPr>
            <p:spPr>
              <a:xfrm flipH="1">
                <a:off x="5938920" y="46371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7"/>
            <p:cNvGrpSpPr/>
            <p:nvPr/>
          </p:nvGrpSpPr>
          <p:grpSpPr>
            <a:xfrm>
              <a:off x="6724440" y="4869360"/>
              <a:ext cx="825120" cy="262080"/>
              <a:chOff x="6724440" y="4869360"/>
              <a:chExt cx="825120" cy="262080"/>
            </a:xfrm>
          </p:grpSpPr>
          <p:sp>
            <p:nvSpPr>
              <p:cNvPr id="495" name="AutoShape 28"/>
              <p:cNvSpPr/>
              <p:nvPr/>
            </p:nvSpPr>
            <p:spPr>
              <a:xfrm>
                <a:off x="7137000" y="48693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AutoShape 29"/>
              <p:cNvSpPr/>
              <p:nvPr/>
            </p:nvSpPr>
            <p:spPr>
              <a:xfrm flipH="1">
                <a:off x="6724080" y="4869360"/>
                <a:ext cx="41220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30"/>
            <p:cNvGrpSpPr/>
            <p:nvPr/>
          </p:nvGrpSpPr>
          <p:grpSpPr>
            <a:xfrm>
              <a:off x="6095880" y="5205240"/>
              <a:ext cx="825120" cy="261720"/>
              <a:chOff x="6095880" y="5205240"/>
              <a:chExt cx="825120" cy="261720"/>
            </a:xfrm>
          </p:grpSpPr>
          <p:sp>
            <p:nvSpPr>
              <p:cNvPr id="498" name="AutoShape 31"/>
              <p:cNvSpPr/>
              <p:nvPr/>
            </p:nvSpPr>
            <p:spPr>
              <a:xfrm>
                <a:off x="6508440" y="5205240"/>
                <a:ext cx="41256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AutoShape 32"/>
              <p:cNvSpPr/>
              <p:nvPr/>
            </p:nvSpPr>
            <p:spPr>
              <a:xfrm flipH="1">
                <a:off x="6095520" y="5205240"/>
                <a:ext cx="41220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Line 33"/>
          <p:cNvSpPr/>
          <p:nvPr/>
        </p:nvSpPr>
        <p:spPr>
          <a:xfrm>
            <a:off x="4921200" y="430992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 flipH="1">
            <a:off x="4955400" y="2686680"/>
            <a:ext cx="683640" cy="538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 flipH="1">
            <a:off x="2387160" y="428148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2421360" y="2657880"/>
            <a:ext cx="683640" cy="53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function of the immune system is to protect from infec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Object 2"/>
          <p:cNvGraphicFramePr/>
          <p:nvPr/>
        </p:nvGraphicFramePr>
        <p:xfrm>
          <a:off x="3436920" y="2454120"/>
          <a:ext cx="111600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6920" y="2454120"/>
                    <a:ext cx="1116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Group 2"/>
          <p:cNvGrpSpPr/>
          <p:nvPr/>
        </p:nvGrpSpPr>
        <p:grpSpPr>
          <a:xfrm>
            <a:off x="5750280" y="2556000"/>
            <a:ext cx="2193120" cy="631440"/>
            <a:chOff x="5750280" y="2556000"/>
            <a:chExt cx="2193120" cy="631440"/>
          </a:xfrm>
        </p:grpSpPr>
        <p:sp>
          <p:nvSpPr>
            <p:cNvPr id="508" name="AutoShape 3"/>
            <p:cNvSpPr/>
            <p:nvPr/>
          </p:nvSpPr>
          <p:spPr>
            <a:xfrm rot="21489000">
              <a:off x="5758560" y="2653200"/>
              <a:ext cx="394920" cy="5277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4"/>
            <p:cNvSpPr/>
            <p:nvPr/>
          </p:nvSpPr>
          <p:spPr>
            <a:xfrm flipV="1" rot="21489000">
              <a:off x="6055920" y="2643480"/>
              <a:ext cx="396720" cy="527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AutoShape 5"/>
            <p:cNvSpPr/>
            <p:nvPr/>
          </p:nvSpPr>
          <p:spPr>
            <a:xfrm rot="21489000">
              <a:off x="6352560" y="2634120"/>
              <a:ext cx="396720" cy="527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6"/>
            <p:cNvSpPr/>
            <p:nvPr/>
          </p:nvSpPr>
          <p:spPr>
            <a:xfrm rot="21489000">
              <a:off x="7540560" y="2561760"/>
              <a:ext cx="394200" cy="5277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7"/>
            <p:cNvSpPr/>
            <p:nvPr/>
          </p:nvSpPr>
          <p:spPr>
            <a:xfrm rot="21489000">
              <a:off x="6909120" y="2612520"/>
              <a:ext cx="398160" cy="5277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8"/>
            <p:cNvSpPr/>
            <p:nvPr/>
          </p:nvSpPr>
          <p:spPr>
            <a:xfrm flipV="1" rot="21489000">
              <a:off x="7239960" y="2577240"/>
              <a:ext cx="397080" cy="5277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AutoShape 9"/>
            <p:cNvSpPr/>
            <p:nvPr/>
          </p:nvSpPr>
          <p:spPr>
            <a:xfrm flipV="1" rot="21489000">
              <a:off x="6649920" y="2624400"/>
              <a:ext cx="396720" cy="527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Oval 39"/>
          <p:cNvSpPr/>
          <p:nvPr/>
        </p:nvSpPr>
        <p:spPr>
          <a:xfrm>
            <a:off x="5824440" y="2743200"/>
            <a:ext cx="684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E:\MEDIA\1421\142122.JPG"/>
          <p:cNvPicPr/>
          <p:nvPr/>
        </p:nvPicPr>
        <p:blipFill>
          <a:blip r:embed="rId1"/>
          <a:srcRect l="1612" t="0" r="1612" b="0"/>
          <a:stretch/>
        </p:blipFill>
        <p:spPr>
          <a:xfrm>
            <a:off x="0" y="1905120"/>
            <a:ext cx="9194760" cy="49528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2"/>
          <p:cNvSpPr/>
          <p:nvPr/>
        </p:nvSpPr>
        <p:spPr>
          <a:xfrm>
            <a:off x="304920" y="3049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and the second lines of defens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8" name="Straight Arrow Connector 4"/>
          <p:cNvCxnSpPr/>
          <p:nvPr/>
        </p:nvCxnSpPr>
        <p:spPr>
          <a:xfrm>
            <a:off x="990720" y="990720"/>
            <a:ext cx="1829520" cy="838800"/>
          </a:xfrm>
          <a:prstGeom prst="straightConnector1">
            <a:avLst/>
          </a:prstGeom>
          <a:ln w="28440">
            <a:solidFill>
              <a:srgbClr val="fede54"/>
            </a:solidFill>
            <a:miter/>
            <a:tailEnd len="med" type="arrow" w="med"/>
          </a:ln>
        </p:spPr>
      </p:cxnSp>
      <p:cxnSp>
        <p:nvCxnSpPr>
          <p:cNvPr id="519" name="Straight Arrow Connector 6"/>
          <p:cNvCxnSpPr/>
          <p:nvPr/>
        </p:nvCxnSpPr>
        <p:spPr>
          <a:xfrm>
            <a:off x="4267080" y="914400"/>
            <a:ext cx="2439000" cy="915120"/>
          </a:xfrm>
          <a:prstGeom prst="straightConnector1">
            <a:avLst/>
          </a:prstGeom>
          <a:ln w="31680">
            <a:solidFill>
              <a:srgbClr val="fede54"/>
            </a:solidFill>
            <a:miter/>
            <a:tailEnd len="med" type="arrow" w="med"/>
          </a:ln>
        </p:spPr>
      </p:cxnSp>
      <p:sp>
        <p:nvSpPr>
          <p:cNvPr id="520" name="TextBox 6"/>
          <p:cNvSpPr/>
          <p:nvPr/>
        </p:nvSpPr>
        <p:spPr>
          <a:xfrm>
            <a:off x="76320" y="3254400"/>
            <a:ext cx="5790960" cy="703800"/>
          </a:xfrm>
          <a:prstGeom prst="rect">
            <a:avLst/>
          </a:prstGeom>
          <a:solidFill>
            <a:srgbClr val="ddb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  <a:ea typeface="Arial"/>
              </a:rPr>
              <a:t>First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5867280" y="3254400"/>
            <a:ext cx="3276720" cy="703800"/>
          </a:xfrm>
          <a:prstGeom prst="rect">
            <a:avLst/>
          </a:prstGeom>
          <a:solidFill>
            <a:srgbClr val="d4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</a:rPr>
              <a:t>Second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rst line of defense :</a:t>
            </a:r>
            <a:endParaRPr b="0" lang="en-US" sz="40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11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atural (Innate) Immu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kin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ucous membran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echan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ughing, sneezing, vomiting, action of cilia in trache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iochemical barrier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ntimicrobial peptides, lung secretions, mucus, saliva, t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and mechan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n, impermeable to microb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ous membranes lining the gastrointestinal, genitourinary and respiratory tra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tective mechanis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dding of outer skin lay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ing and sneez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shing of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m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us and cilia in respiratory 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chem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dy  secretions contain anti-bacterial substances   e.g. saliva, tears and sw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microbial peptides (e.g., defensins, hepcidi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acterial fl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ompete with pathogenic bacteria for nutri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11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lammatio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ammation is the first response of the immune system to infection or irri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consist of a series of vascular &amp; cellular changes that occur in response to  var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.g. infections, injury, radiation 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77F-16A2-4A10-A7CC-7DDD20AF01F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36560" y="26665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acteria possess an array of pro-inflammatory    molec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  Lipopolysaccharides (LP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2EF6-BF64-467D-9922-FA9A561EC6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85104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bial infections initiate inflam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5:02:25Z</dcterms:created>
  <dc:creator>kchugg</dc:creator>
  <dc:description/>
  <dc:language>en-US</dc:language>
  <cp:lastModifiedBy>user</cp:lastModifiedBy>
  <dcterms:modified xsi:type="dcterms:W3CDTF">2015-09-01T10:58:41Z</dcterms:modified>
  <cp:revision>214</cp:revision>
  <dc:subject/>
  <dc:title>Cellular Biology</dc:title>
</cp:coreProperties>
</file>