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3560" y="744120"/>
            <a:ext cx="496116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F9B82-253C-48E2-8999-129ADC38C529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20BC5-3A6B-4AA2-9027-CC42C7A1D59E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90834-2CEB-44DB-A2A5-4AB84D5A3598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FF141-B78F-465A-90E5-8080E0C797E5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8B85A-5D2F-469F-883F-4BB8FEFFBADB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A2705-D5D4-4EB6-8C78-83FA9025C2E2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15AD1-6D7C-41E7-B7AB-F053179DF690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2EB3D-C8CE-4D45-9B86-806616D06186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7E4EF-7D7C-4CA3-88EB-C7A5CD5650D3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C8EE9-86EE-47C9-9468-F36F0295EA4B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070ED-9470-423D-9E7E-31D0A9D266FB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9DB55-188E-436A-80B7-DC4F62DCF8BC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59900-B79D-4426-81DA-D384F3A3ED3A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0F974-5032-4E46-A638-CFDF883BC2F5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542A0-A05D-494A-82E8-E57140A2778D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458C1-C183-40CF-9615-4631ACCA3D26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4435D-25A8-43D8-AD53-E135D8D1052C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18DBD-92E5-4430-A2A3-2D50BCD9A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7B6B4-3E9A-4993-85AF-65148AC09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CA759-94B9-4FBC-9241-0E43CF93A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305AE-EADD-4556-9DE7-D93EBF898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DB3BB-DCF3-407F-94E5-493BAED60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CC574-5454-4A16-A463-82916C852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F75B3-76C1-4098-BF23-00F0C898F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8CA83-3282-4987-B922-EE012EF69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DE5BA-9AD1-41AD-8AB6-4A42873C2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DE4BA-3880-4FA2-AAD7-FAA786E6F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87ECC-73FC-48C7-B0C1-7E234BC9F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2C93E-B91F-43E2-8A2B-58C81C43A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25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A2A55-2E9A-4E75-9848-C05EC1AED30F}" type="slidenum">
              <a:rPr b="1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images.search.yahoo.com/search/images/view?back=http%3A%2F%2Fimages.search.yahoo.com%2Fsearch%2Fimages%3Fp%3DPhagocytes%26toggle%3D1%26cop%3Dmss%26ei%3DUTF-8%26ni%3D20%26fr%3Dyfp-t-501%26b%3D121&amp;w=100&amp;h=100&amp;imgurl=www.netsoc.tcd.ie%2F%7Eelena%2Fcollegework%2Fapplet2%2Fphagocyte.jpg&amp;rurl=http%3A%2F%2Fwww.netsoc.tcd.ie%2F%7Eelena%2Fcollegework%2Fapplet2%2Flevel1.html&amp;size=2.6kB&amp;name=phagocyte.jpg&amp;p=Phagocytes&amp;type=jpeg&amp;no=129&amp;tt=183&amp;oid=38f49f2a14227ed4&amp;ei=UTF-8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www.ncbi.nlm.nih.gov/books/NBK27109/figure/A1506/?report=objectonly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Calibri"/>
              </a:rPr>
              <a:t>Immune </a:t>
            </a:r>
            <a:r>
              <a:rPr b="0" lang="en-US" sz="5400" spc="-1" strike="noStrike">
                <a:solidFill>
                  <a:srgbClr val="ffff00"/>
                </a:solidFill>
                <a:latin typeface="Calibri"/>
              </a:rPr>
              <a:t>deficiency</a:t>
            </a:r>
            <a:r>
              <a:rPr b="0" lang="en-US" sz="4800" spc="-1" strike="noStrike">
                <a:solidFill>
                  <a:srgbClr val="ffff00"/>
                </a:solidFill>
                <a:latin typeface="Calibri"/>
              </a:rPr>
              <a:t> disorders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51920" y="5257440"/>
            <a:ext cx="3962520" cy="1143000"/>
          </a:xfrm>
          <a:prstGeom prst="rect">
            <a:avLst/>
          </a:prstGeom>
          <a:solidFill>
            <a:srgbClr val="10253f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munology Unit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partment of Pathology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llege of Medicine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SU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TextBox 1"/>
          <p:cNvSpPr/>
          <p:nvPr/>
        </p:nvSpPr>
        <p:spPr>
          <a:xfrm>
            <a:off x="6934320" y="601992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cture # 6/6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undation Block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457200" y="1447560"/>
            <a:ext cx="8229600" cy="4144680"/>
          </a:xfrm>
          <a:prstGeom prst="rect">
            <a:avLst/>
          </a:prstGeom>
          <a:solidFill>
            <a:srgbClr val="10253f"/>
          </a:solidFill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-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Children  may present with tetany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298440" indent="-29844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298440" indent="-29844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-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Extreme susceptibility to viral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protozoal, and  fungal  infection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298440" indent="-29844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298440" indent="-29844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-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Profound  depression of T-cell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numbers 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298440" indent="-29844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298440" indent="-29844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-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Absence of T-cell response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685800" y="304920"/>
            <a:ext cx="7620120" cy="761760"/>
          </a:xfrm>
          <a:prstGeom prst="rect">
            <a:avLst/>
          </a:prstGeom>
          <a:solidFill>
            <a:srgbClr val="1025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eatures of DiGeorge  syndrome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457200" y="2438280"/>
            <a:ext cx="8229600" cy="3657600"/>
          </a:xfrm>
          <a:prstGeom prst="rect">
            <a:avLst/>
          </a:prstGeom>
          <a:solidFill>
            <a:srgbClr val="10253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     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Fetal thymus tissue graft 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     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(14 weeks old)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 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" name="Rectangle 5"/>
          <p:cNvSpPr/>
          <p:nvPr/>
        </p:nvSpPr>
        <p:spPr>
          <a:xfrm>
            <a:off x="380880" y="914400"/>
            <a:ext cx="7543800" cy="914400"/>
          </a:xfrm>
          <a:prstGeom prst="rect">
            <a:avLst/>
          </a:prstGeom>
          <a:solidFill>
            <a:srgbClr val="1025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nagement of DiGeorge   syndrome     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1600200" y="2514600"/>
            <a:ext cx="5410080" cy="1066680"/>
          </a:xfrm>
          <a:prstGeom prst="rect">
            <a:avLst/>
          </a:prstGeom>
          <a:solidFill>
            <a:srgbClr val="1025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4f8be"/>
                </a:solidFill>
                <a:latin typeface="Times New Roman"/>
                <a:ea typeface="Times New Roman"/>
              </a:rPr>
              <a:t>   </a:t>
            </a:r>
            <a:r>
              <a:rPr b="0" lang="en-US" sz="6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-cell defects</a:t>
            </a:r>
            <a:endParaRPr b="1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1219320" y="4114800"/>
            <a:ext cx="6324480" cy="1447920"/>
          </a:xfrm>
          <a:prstGeom prst="rect">
            <a:avLst/>
          </a:prstGeom>
          <a:solidFill>
            <a:srgbClr val="1025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Gammaglobulinaemias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Picture 2" descr="http://t3.gstatic.com/images?q=tbn:ANd9GcT6R0crhi6KxnXaWpjOyHLjMGSPmPgXCMQ23w28VquN1BTkHYYVFw"/>
          <p:cNvPicPr/>
          <p:nvPr/>
        </p:nvPicPr>
        <p:blipFill>
          <a:blip r:embed="rId1"/>
          <a:stretch/>
        </p:blipFill>
        <p:spPr>
          <a:xfrm>
            <a:off x="304920" y="228600"/>
            <a:ext cx="1828800" cy="22096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10253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Patients with B-cell defects  are subject to: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609120" y="1294920"/>
            <a:ext cx="8001000" cy="5257800"/>
          </a:xfrm>
          <a:prstGeom prst="rect">
            <a:avLst/>
          </a:prstGeom>
          <a:solidFill>
            <a:srgbClr val="10253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urrent bacterial infection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splay normal immunity to most viral and fungal  infection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???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457200" y="609480"/>
            <a:ext cx="8229600" cy="5516640"/>
          </a:xfrm>
          <a:prstGeom prst="rect">
            <a:avLst/>
          </a:prstGeom>
          <a:solidFill>
            <a:srgbClr val="10253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verse spectrum  ranging from: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lete absence of B-cells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lete  absence of plasma cells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w or absent immunoglobulins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lective absence of certain immunoglobulin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X-linked disease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emales : carriers (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ormal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les :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nifes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the diseas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304920" y="2209680"/>
            <a:ext cx="8686800" cy="4267440"/>
          </a:xfrm>
          <a:prstGeom prst="rect">
            <a:avLst/>
          </a:prstGeom>
          <a:solidFill>
            <a:srgbClr val="10253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most common type, 80 to 90 percen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fect in Bruton Tyrosine Kinase (BTK)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defect involves a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block in maturation of  pre- B- cells to mature B-cells in bone marrow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Rectangle 6"/>
          <p:cNvSpPr/>
          <p:nvPr/>
        </p:nvSpPr>
        <p:spPr>
          <a:xfrm>
            <a:off x="228600" y="838080"/>
            <a:ext cx="8763120" cy="838440"/>
          </a:xfrm>
          <a:prstGeom prst="rect">
            <a:avLst/>
          </a:prstGeom>
          <a:solidFill>
            <a:srgbClr val="1025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X-linked agammaglobulinaemia (XLA) or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ruton’s hypogammaglobulinaemia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Congenital disease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380880" y="1752480"/>
            <a:ext cx="8229600" cy="4114800"/>
          </a:xfrm>
          <a:prstGeom prst="rect">
            <a:avLst/>
          </a:prstGeom>
          <a:solidFill>
            <a:srgbClr val="10253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 Reduced B-cell counts to 0.1 percent     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normally 5-15 percent)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 Absence of Immunoglobulins 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Affected children suffer from recurrent pyogenic bacterial infection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Rectangle 3"/>
          <p:cNvSpPr/>
          <p:nvPr/>
        </p:nvSpPr>
        <p:spPr>
          <a:xfrm>
            <a:off x="457200" y="304920"/>
            <a:ext cx="8229600" cy="1295280"/>
          </a:xfrm>
          <a:prstGeom prst="rect">
            <a:avLst/>
          </a:prstGeom>
          <a:solidFill>
            <a:srgbClr val="1025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eatures of XLA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456840" y="1600200"/>
            <a:ext cx="8381880" cy="4525920"/>
          </a:xfrm>
          <a:prstGeom prst="rect">
            <a:avLst/>
          </a:prstGeom>
          <a:solidFill>
            <a:srgbClr val="10253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gA  deficiency   (1:700)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st  are  asymptomatic: but may have increased  incidence  of respiratory tract infections (R.T.I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me have recurrent R.T.I and gastrointestinal tract symptoms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10253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Selective immunoglobulin deficiency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(Congenital disease)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4"/>
          <p:cNvSpPr/>
          <p:nvPr/>
        </p:nvSpPr>
        <p:spPr>
          <a:xfrm>
            <a:off x="380880" y="1905120"/>
            <a:ext cx="8229600" cy="3886200"/>
          </a:xfrm>
          <a:prstGeom prst="rect">
            <a:avLst/>
          </a:prstGeom>
          <a:solidFill>
            <a:srgbClr val="1025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aracterized by: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 Markedly elevated IgM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 Low IgG, IgA &amp; Ig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380880" y="533520"/>
            <a:ext cx="7239240" cy="761760"/>
          </a:xfrm>
          <a:prstGeom prst="rect">
            <a:avLst/>
          </a:prstGeom>
          <a:solidFill>
            <a:srgbClr val="10253f"/>
          </a:solidFill>
          <a:ln w="9360">
            <a:solidFill>
              <a:srgbClr val="1025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X- linked  hyper-IgM  Syndrom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Congenital disease)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5" name="Picture 2" descr="http://t1.gstatic.com/images?q=tbn:ANd9GcTbrUSFfTP1aydJ6sC_kYhfhiBwSZNTKItqGUJo0aXElfM7ap_P-Q"/>
          <p:cNvPicPr/>
          <p:nvPr/>
        </p:nvPicPr>
        <p:blipFill>
          <a:blip r:embed="rId1"/>
          <a:stretch/>
        </p:blipFill>
        <p:spPr>
          <a:xfrm>
            <a:off x="6858000" y="1371600"/>
            <a:ext cx="1371600" cy="1305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838080"/>
            <a:ext cx="8229600" cy="2084400"/>
          </a:xfrm>
          <a:prstGeom prst="rect">
            <a:avLst/>
          </a:prstGeom>
          <a:solidFill>
            <a:srgbClr val="10253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Management of immunoglobulin   deficiencies: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3657240"/>
            <a:ext cx="8229600" cy="2057400"/>
          </a:xfrm>
          <a:prstGeom prst="rect">
            <a:avLst/>
          </a:prstGeom>
          <a:solidFill>
            <a:srgbClr val="10253f"/>
          </a:solidFill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*Periodic intravenous immunoglobulin      (IVIG)  reduces infectious complications      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Lecture Objectives 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761760" y="15235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dentify that Immunodeficiency is due to a defect in the immune function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cribe the classification of Immunodeficiency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plain the presentations of different types of Immuno-deficiencies (e.g. recurrent infections)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derstand the varieties of immune system deficiencies involving defects in :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 cells, B cells, phagocytes and complement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now the laboratory investigations for immunodeficiency disorders 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4"/>
          <p:cNvSpPr/>
          <p:nvPr/>
        </p:nvSpPr>
        <p:spPr>
          <a:xfrm>
            <a:off x="609480" y="304920"/>
            <a:ext cx="8153640" cy="1218960"/>
          </a:xfrm>
          <a:prstGeom prst="rect">
            <a:avLst/>
          </a:prstGeom>
          <a:solidFill>
            <a:srgbClr val="1025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evere Combined Immunodeficiency (SCID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Congenital disease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Rectangle 2"/>
          <p:cNvSpPr/>
          <p:nvPr/>
        </p:nvSpPr>
        <p:spPr>
          <a:xfrm>
            <a:off x="685800" y="1828800"/>
            <a:ext cx="8077320" cy="36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auses of  SCID: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zyme deficiencies: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A (adenosine deaminase ) deficienc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NP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urine phosphorylase) deficienc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xic metabolite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cumulate in T and B ce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152280" y="228600"/>
            <a:ext cx="87631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eatures of SCID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creased susceptibility to :viral, fungal, bacterial protozoal infections  (starting at 3 months of age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1" name="Picture 2" descr="http://www.pc.maricopa.edu/Biology/rcotter/BIO%20205/LessonBuilders/Chapter%2016LB/cow95289_16_18.jpg"/>
          <p:cNvPicPr/>
          <p:nvPr/>
        </p:nvPicPr>
        <p:blipFill>
          <a:blip r:embed="rId1"/>
          <a:stretch/>
        </p:blipFill>
        <p:spPr>
          <a:xfrm>
            <a:off x="0" y="1676520"/>
            <a:ext cx="9144000" cy="51814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8229600" cy="1143000"/>
          </a:xfrm>
          <a:prstGeom prst="rect">
            <a:avLst/>
          </a:prstGeom>
          <a:solidFill>
            <a:srgbClr val="10253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Management of SCID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2742840"/>
            <a:ext cx="7696080" cy="2133720"/>
          </a:xfrm>
          <a:prstGeom prst="rect">
            <a:avLst/>
          </a:prstGeom>
          <a:solidFill>
            <a:srgbClr val="10253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 Infusion of purified enzyme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 Gene therapy  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4"/>
          <p:cNvSpPr/>
          <p:nvPr/>
        </p:nvSpPr>
        <p:spPr>
          <a:xfrm>
            <a:off x="1828800" y="2590920"/>
            <a:ext cx="5410080" cy="12952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ukocyte defects  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Rectangle 5"/>
          <p:cNvSpPr/>
          <p:nvPr/>
        </p:nvSpPr>
        <p:spPr>
          <a:xfrm>
            <a:off x="609480" y="4648320"/>
            <a:ext cx="3505320" cy="685800"/>
          </a:xfrm>
          <a:prstGeom prst="rect">
            <a:avLst/>
          </a:prstGeom>
          <a:solidFill>
            <a:srgbClr val="17375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antitativ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Rectangle 6"/>
          <p:cNvSpPr/>
          <p:nvPr/>
        </p:nvSpPr>
        <p:spPr>
          <a:xfrm>
            <a:off x="4572000" y="4648320"/>
            <a:ext cx="3886200" cy="685800"/>
          </a:xfrm>
          <a:prstGeom prst="rect">
            <a:avLst/>
          </a:prstGeom>
          <a:solidFill>
            <a:srgbClr val="17375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alitativ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AutoShape 7"/>
          <p:cNvSpPr/>
          <p:nvPr/>
        </p:nvSpPr>
        <p:spPr>
          <a:xfrm rot="961200">
            <a:off x="2435400" y="3929040"/>
            <a:ext cx="145800" cy="571680"/>
          </a:xfrm>
          <a:prstGeom prst="downArrow">
            <a:avLst>
              <a:gd name="adj1" fmla="val 50000"/>
              <a:gd name="adj2" fmla="val 143751"/>
            </a:avLst>
          </a:prstGeom>
          <a:solidFill>
            <a:srgbClr val="ffff00"/>
          </a:solidFill>
          <a:ln w="93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AutoShape 8"/>
          <p:cNvSpPr/>
          <p:nvPr/>
        </p:nvSpPr>
        <p:spPr>
          <a:xfrm rot="20596800">
            <a:off x="5949720" y="3927240"/>
            <a:ext cx="153720" cy="600120"/>
          </a:xfrm>
          <a:prstGeom prst="downArrow">
            <a:avLst>
              <a:gd name="adj1" fmla="val 50000"/>
              <a:gd name="adj2" fmla="val 156141"/>
            </a:avLst>
          </a:prstGeom>
          <a:solidFill>
            <a:srgbClr val="ffff00"/>
          </a:solidFill>
          <a:ln w="93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Picture 9" descr="Go to full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819520" y="228600"/>
            <a:ext cx="3543120" cy="21337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304920" y="1371240"/>
            <a:ext cx="8610480" cy="5257800"/>
          </a:xfrm>
          <a:prstGeom prst="rect">
            <a:avLst/>
          </a:prstGeom>
          <a:solidFill>
            <a:srgbClr val="10253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genital agranulocytosis:  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fect in the gene inducing G-CSF (granulocyte colony stimulating factor)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eatures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neumonia, otitis media, abscess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Rectangle 5"/>
          <p:cNvSpPr/>
          <p:nvPr/>
        </p:nvSpPr>
        <p:spPr>
          <a:xfrm>
            <a:off x="685800" y="380880"/>
            <a:ext cx="5105520" cy="685800"/>
          </a:xfrm>
          <a:prstGeom prst="rect">
            <a:avLst/>
          </a:prstGeom>
          <a:solidFill>
            <a:srgbClr val="10253f"/>
          </a:solidFill>
          <a:ln w="9360">
            <a:solidFill>
              <a:srgbClr val="1025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Quantitative Defects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228600" y="1219320"/>
            <a:ext cx="8610480" cy="4906800"/>
          </a:xfrm>
          <a:prstGeom prst="rect">
            <a:avLst/>
          </a:prstGeom>
          <a:solidFill>
            <a:srgbClr val="10253f"/>
          </a:solidFill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70720" indent="-2707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Defect  in  chemotaxi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270720" indent="-2707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ukocyte adhesion deficiency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LAD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270720" indent="-2707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270720" indent="-2707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Defect in intracellular Killing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270720" indent="-27072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ronic granulomatous disease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270720" indent="-27072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270720" indent="-27072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Defec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 in the oxidative complex responsible     for producing superoxide radicals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270720" indent="-2707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70720" indent="-270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70720" indent="-270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457200" y="304920"/>
            <a:ext cx="5334120" cy="685800"/>
          </a:xfrm>
          <a:prstGeom prst="rect">
            <a:avLst/>
          </a:prstGeom>
          <a:solidFill>
            <a:srgbClr val="1025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Qualitative Defects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Congenital disease)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Chronic granulomatous disease (CGD)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(Congenital disease)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Rectangle 3"/>
          <p:cNvSpPr/>
          <p:nvPr/>
        </p:nvSpPr>
        <p:spPr>
          <a:xfrm>
            <a:off x="228600" y="2514600"/>
            <a:ext cx="86868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trophils lack the "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spiratory burst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" upon phagocytosis 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aracterized by recurrent life-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reatening bacterial and fungal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ections and granuloma forma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Picture 2" descr="http://www.humpath.com/IMG/jpg/granuloma_fgsd-2.jpg"/>
          <p:cNvPicPr/>
          <p:nvPr/>
        </p:nvPicPr>
        <p:blipFill>
          <a:blip r:embed="rId1"/>
          <a:stretch/>
        </p:blipFill>
        <p:spPr>
          <a:xfrm>
            <a:off x="6248520" y="914400"/>
            <a:ext cx="2590560" cy="16765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4"/>
          <p:cNvSpPr/>
          <p:nvPr/>
        </p:nvSpPr>
        <p:spPr>
          <a:xfrm>
            <a:off x="838080" y="2895480"/>
            <a:ext cx="7620120" cy="990720"/>
          </a:xfrm>
          <a:prstGeom prst="rect">
            <a:avLst/>
          </a:prstGeom>
          <a:solidFill>
            <a:srgbClr val="10253f"/>
          </a:solidFill>
          <a:ln w="9360">
            <a:solidFill>
              <a:srgbClr val="1025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mplement  Deficiency</a:t>
            </a: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2"/>
          <p:cNvSpPr/>
          <p:nvPr/>
        </p:nvSpPr>
        <p:spPr>
          <a:xfrm>
            <a:off x="533520" y="152280"/>
            <a:ext cx="784836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ficiency of all complement components  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ve been described C1-C9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Picture 2" descr="Figure 11.14. Defects in complement components are associated with susceptibility to certain infections and accumulation of immune complexes.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1143000"/>
            <a:ext cx="8991720" cy="5715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Laboratory diagnosis of ID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390960" indent="-39096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lete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lood count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total &amp; differentia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90960" indent="-39096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valuation of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ntibody level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nd response to antigen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90960" indent="-39096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 and B cells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unt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Flowcytometry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90960" indent="-39096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asurement of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mplement proteins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function (C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5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90960" indent="-39096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sessment of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hagocytosis and respiratory burst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xygen radicals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90960" indent="-3909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90960" indent="-3909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90960" indent="-3909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90960" indent="-3909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efinition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228600" y="1143000"/>
            <a:ext cx="86868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state in which  the ability of the immune system to fight infectious disease is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mpromised or entirely absent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person who has an immunodeficiency is said to be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mmuno-compromised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Take Home Messag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mmunodeficiency may be congenital or acquired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t can involve any component of the immune system such as cells, antibodies, complement etc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ost common presentation of immunodeficiency is recurrent infections that may be fatal due to delay in diagnosis and lack of appropriate therapy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http://bio116.pbworks.com/f/bubbleboy1_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4"/>
          <p:cNvSpPr/>
          <p:nvPr/>
        </p:nvSpPr>
        <p:spPr>
          <a:xfrm>
            <a:off x="3886200" y="152280"/>
            <a:ext cx="525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deada"/>
                </a:solidFill>
                <a:latin typeface="Times New Roman"/>
                <a:ea typeface="Times New Roman"/>
              </a:rPr>
              <a:t>A boy with congenital ID lived in a bubble for 12 years before he di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Diagram 4" descr=""/>
          <p:cNvPicPr/>
          <p:nvPr/>
        </p:nvPicPr>
        <p:blipFill>
          <a:blip r:embed="rId1"/>
          <a:stretch/>
        </p:blipFill>
        <p:spPr>
          <a:xfrm>
            <a:off x="-19080" y="0"/>
            <a:ext cx="9182160" cy="6858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Diagram 1" descr=""/>
          <p:cNvPicPr/>
          <p:nvPr/>
        </p:nvPicPr>
        <p:blipFill>
          <a:blip r:embed="rId1"/>
          <a:stretch/>
        </p:blipFill>
        <p:spPr>
          <a:xfrm>
            <a:off x="-23760" y="0"/>
            <a:ext cx="9198000" cy="6858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Diagram 1" descr=""/>
          <p:cNvPicPr/>
          <p:nvPr/>
        </p:nvPicPr>
        <p:blipFill>
          <a:blip r:embed="rId1"/>
          <a:stretch/>
        </p:blipFill>
        <p:spPr>
          <a:xfrm>
            <a:off x="-19080" y="0"/>
            <a:ext cx="9223560" cy="6858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4"/>
          <p:cNvSpPr/>
          <p:nvPr/>
        </p:nvSpPr>
        <p:spPr>
          <a:xfrm>
            <a:off x="838080" y="304920"/>
            <a:ext cx="7086600" cy="990360"/>
          </a:xfrm>
          <a:prstGeom prst="rect">
            <a:avLst/>
          </a:prstGeom>
          <a:solidFill>
            <a:srgbClr val="1025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</a:t>
            </a:r>
            <a:r>
              <a:rPr b="0" lang="en-US" sz="5400" spc="-1" strike="noStrike">
                <a:solidFill>
                  <a:srgbClr val="ffff00"/>
                </a:solidFill>
                <a:latin typeface="Calibri"/>
                <a:ea typeface="Times New Roman"/>
              </a:rPr>
              <a:t>T-cell defects</a:t>
            </a: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" name="Picture 4" descr="http://t3.gstatic.com/images?q=tbn:ANd9GcSVGBMI6vkB0i2_XMEeLMNaPzI6IIowIqLhyf6xFgjSa_vOtMRO"/>
          <p:cNvPicPr/>
          <p:nvPr/>
        </p:nvPicPr>
        <p:blipFill>
          <a:blip r:embed="rId1"/>
          <a:stretch/>
        </p:blipFill>
        <p:spPr>
          <a:xfrm>
            <a:off x="457200" y="1523880"/>
            <a:ext cx="3962520" cy="39625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" descr="http://t0.gstatic.com/images?q=tbn:ANd9GcSZ0FRBvkw-acEe0IEvCG4NWB4lRYk-r_c5E0IUffiGTROVss2Y8g"/>
          <p:cNvPicPr/>
          <p:nvPr/>
        </p:nvPicPr>
        <p:blipFill>
          <a:blip r:embed="rId2"/>
          <a:stretch/>
        </p:blipFill>
        <p:spPr>
          <a:xfrm>
            <a:off x="4419720" y="1523880"/>
            <a:ext cx="4181400" cy="39625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533520" y="2438280"/>
            <a:ext cx="8229600" cy="4191120"/>
          </a:xfrm>
          <a:prstGeom prst="rect">
            <a:avLst/>
          </a:prstGeom>
          <a:solidFill>
            <a:srgbClr val="10253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sence or underdevelopment  of  the Thymus  gland (hypoplasia)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ypoparathyroidism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Cardiovascular  abnormalities   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380880" y="1676520"/>
            <a:ext cx="8382240" cy="1066680"/>
          </a:xfrm>
          <a:prstGeom prst="rect">
            <a:avLst/>
          </a:prstGeom>
          <a:solidFill>
            <a:srgbClr val="1025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congenital defect that is  marked by: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" name="Picture 2" descr="http://t3.gstatic.com/images?q=tbn:ANd9GcRSayqznbuAtyhQleFDFaI7hZRw85WdRq0d-1bRPCrQfs-t_243"/>
          <p:cNvPicPr/>
          <p:nvPr/>
        </p:nvPicPr>
        <p:blipFill>
          <a:blip r:embed="rId1"/>
          <a:stretch/>
        </p:blipFill>
        <p:spPr>
          <a:xfrm>
            <a:off x="6934320" y="304920"/>
            <a:ext cx="1904760" cy="167616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4"/>
          <p:cNvSpPr/>
          <p:nvPr/>
        </p:nvSpPr>
        <p:spPr>
          <a:xfrm>
            <a:off x="304920" y="228600"/>
            <a:ext cx="6629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George    Syndrome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Congenital  Thymic  Aplasia ) 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1T16:05:20Z</dcterms:created>
  <dc:creator>Ahmed</dc:creator>
  <dc:description/>
  <dc:language>en-US</dc:language>
  <cp:lastModifiedBy>ZAHID</cp:lastModifiedBy>
  <dcterms:modified xsi:type="dcterms:W3CDTF">2015-10-18T12:54:58Z</dcterms:modified>
  <cp:revision>1107</cp:revision>
  <dc:subject/>
  <dc:title>GENERAL FETURES OF IMMUNODEFICIENCY.</dc:title>
</cp:coreProperties>
</file>