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B1B1-F97D-4A46-89A1-39A941B90C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F4F9-3971-41A9-AAB8-55617F20BB8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7BBD-622F-4B10-A0D6-AC4FE616D7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BE29-59FF-490B-999E-19322AE743B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6D2E-0D5B-4538-A8D4-F39288344F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8D1-B416-4C59-8C6F-5EF2A879DE4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1432-300B-47B9-B94D-ABAB2256A71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2817-A0BB-47E3-BD44-6D3136B0D60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1B2A-A998-442D-9AF5-FCC1BE32F4A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1C1A-1521-4C6B-A9F5-A5BE33B6360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7B16-9AC3-4B29-8AC0-82E1C956B64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D35C-A504-4AD9-A817-DB7A9DD8B8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69CC-2D59-4C15-B51D-ECB898D341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E554-80B4-4695-ACE9-6012C00815A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5DE1-9928-4A11-A666-97930886A6C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2B25-20AE-4B12-A898-A7573685005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6004-FF9D-411E-80A4-48643387CC8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E40-BA06-4A48-BE3F-5C5A7CA7C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2D9-E557-4EE6-AAE0-37A54A8D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870-4355-410B-B4EF-C9BDA325F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0EC3-0B1C-46AE-B2D5-E75C45EA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A46-5285-40CD-97CC-1DBCBC68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B93-0F00-45C8-B418-D2CC66D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408-E26D-4827-AD19-9FCEDCB6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427-A26B-4B1C-B37C-78FED1DC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57F-6661-427E-A565-6934587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584B-5680-4164-B772-B6E2E96E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91B-0419-43F2-9067-16EA1BA5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DBF-6F71-46F6-88C6-9A29E09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2F5E-031C-4C41-9C1F-11583D329340}" type="slidenum">
              <a:rPr b="1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Immune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</a:rPr>
              <a:t>deficiency</a:t>
            </a: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 disorde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1920" y="5257440"/>
            <a:ext cx="396252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unology Uni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artment of Patholog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ge of Medicin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SU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343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cture # 6/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ndation B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447560"/>
            <a:ext cx="8229600" cy="4144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hildren  may present with tetan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Extreme susceptibility to vira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tozoal, and 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found  depression of T-cell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number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bsence of T-cell respon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etal thymus tissue graft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(14 weeks old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atients with B-cell defects  are subject to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120" y="1294920"/>
            <a:ext cx="800100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??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X-linked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rm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les 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04920" y="2209680"/>
            <a:ext cx="8686800" cy="4267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28600" y="838080"/>
            <a:ext cx="8763120" cy="8384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elective immunoglobulin deficiency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80880" y="1905120"/>
            <a:ext cx="8229600" cy="38862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80880" y="533520"/>
            <a:ext cx="7239240" cy="76176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6858000" y="1371600"/>
            <a:ext cx="1371600" cy="130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immunoglobulin   deficiencies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ecture Objective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685800" y="1828800"/>
            <a:ext cx="8077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uses of  SCI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zyme deficiencies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 (adenosine deaminase 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c metaboli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umulate in T and B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52280" y="22860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SCID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nagement of SCI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17375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1219320"/>
            <a:ext cx="8610480" cy="4906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AD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in the oxidative complex responsible     for producing superoxide radical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57200" y="304920"/>
            <a:ext cx="5334120" cy="68580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hronic granulomatous disease (CGD)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ngenital disease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228600" y="251460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 upon phagocytosis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ized by recurrent life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tening bacterial and fungal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ctions and granuloma 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248520" y="914400"/>
            <a:ext cx="259056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10253f"/>
          </a:solidFill>
          <a:ln w="93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33520" y="1522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43000"/>
            <a:ext cx="89917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boratory diagnosis of I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u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Flowcytometry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lement protein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gocytosis and respiratory burst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xygen radical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90960" indent="-390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promised or entirely abs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mmuno-compromise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Take Home Messa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unodeficiency may be congenital or acqui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can involve any component of the immune system such as cells, antibodies, complement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common presentation of immunodeficiency is recurrent infections that may be fatal due to delay in diagnosis and lack of appropriate thera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deada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iagram 4" descr=""/>
          <p:cNvPicPr/>
          <p:nvPr/>
        </p:nvPicPr>
        <p:blipFill>
          <a:blip r:embed="rId1"/>
          <a:stretch/>
        </p:blipFill>
        <p:spPr>
          <a:xfrm>
            <a:off x="-19080" y="0"/>
            <a:ext cx="91821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agram 1" descr=""/>
          <p:cNvPicPr/>
          <p:nvPr/>
        </p:nvPicPr>
        <p:blipFill>
          <a:blip r:embed="rId1"/>
          <a:stretch/>
        </p:blipFill>
        <p:spPr>
          <a:xfrm>
            <a:off x="-23760" y="0"/>
            <a:ext cx="9198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Diagram 1" descr=""/>
          <p:cNvPicPr/>
          <p:nvPr/>
        </p:nvPicPr>
        <p:blipFill>
          <a:blip r:embed="rId1"/>
          <a:stretch/>
        </p:blipFill>
        <p:spPr>
          <a:xfrm>
            <a:off x="-19080" y="0"/>
            <a:ext cx="922356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alibri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Ahmed</dc:creator>
  <dc:description/>
  <dc:language>en-US</dc:language>
  <cp:lastModifiedBy>ZAHID</cp:lastModifiedBy>
  <dcterms:modified xsi:type="dcterms:W3CDTF">2015-10-18T12:54:58Z</dcterms:modified>
  <cp:revision>1107</cp:revision>
  <dc:subject/>
  <dc:title>GENERAL FETURES OF IMMUNODEFICIENCY.</dc:title>
</cp:coreProperties>
</file>