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0EA-769B-4EAF-8E52-B95E2CD7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D29-BFC1-48A9-95B1-8179FFD7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8667-7793-44FB-8247-5C592E47B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CDC-78D9-4084-A80C-E30CD6321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019B-88EA-4FF8-BFA2-5D5467106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658-1726-4896-BD7D-8994B5B3D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6708-0893-4DE7-85E2-41AA6491D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FF5A-D64D-4F01-9F0A-BE58BA8DF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42C-DD79-4F30-A574-BACDD6485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959D-08CF-4545-9D3F-07296A5BE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3B66-DE35-40FE-8779-0EFC16A94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0F9-0078-4068-90E7-F5B82F9792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A59-98A6-4702-99C1-3B490A79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915-EEF7-45F3-BD75-3B108B77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8AD-BAB5-45CF-8CDC-6A8F48AA6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88D-B895-4E98-915F-81F3559CF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8B8-1CE8-44C3-A528-3C8612541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CD3-F2B7-4272-AA33-B8AF85D36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8F4-2BE5-4C70-923C-748AB8547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C79-AFD5-4CF7-8E48-C86D22FD2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81DC-8ACC-4B7C-A8AC-A4B9D1750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364-59BF-4641-B2AD-0E21E9632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DB1-7253-4DA2-8B8B-DD75B7F63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0150-31F2-4189-9CFB-08CBBF018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383-74A6-4555-94A9-562FDA21B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A5C-14C3-4208-A33A-3097BC6B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10C-F551-42C7-B1F2-3DBC681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016-9F45-46FE-97AC-B0E25E38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DF5-C51F-47D9-9F6B-6976BDA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4E88-7526-4D21-9C3D-E963AE72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753-1E29-4168-B7D2-26F63271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908-4AE2-4B9C-990E-8AE8BD4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099-42DE-45B1-9F6A-6DDBBB9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0DA-7247-41FD-833D-BF4A83AF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D2E-CDDB-40F3-AB21-54C51AA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CEBE-8BAD-4E68-B70C-1B7DD2D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5E8-4294-406B-BF38-09D8726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7908-BA52-424F-8C1C-3F34991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8D0-6CF2-4F38-9B3D-AD3A4DF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543A-ABE2-4250-80DA-86E8CA2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BA6-01F6-4704-9DFE-2A53CBF2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72DC-A4B9-4782-AE8D-8BEFCEC5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4BBD5-3D29-42D8-A7B4-D987CBE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54F3B-2D6C-46C8-840E-5527B69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50C42-B9FF-4922-B473-96F75E5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38149-8A9C-4C08-B1CB-80DE3A8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7F7D2-3C7D-49B8-9128-F874609A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412-3B7D-454C-A68C-25B114C6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B0529-C6EC-49EE-B4AE-98E6356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3765D-CBA9-4779-BDA0-C8FA19E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CBC5D-2BA7-4F27-BD3B-C13D0F1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23CF4-0770-4DD5-A992-2082044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C1D8-1630-4385-8290-7B03B520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5C1EB-2C3E-4333-B0CF-0C78D5D8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E5141-681C-41C2-8F7C-FBC6D8C2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3029-4EDD-4286-846C-9CD5B1DA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FB24-07AB-41DE-80F5-D06984EA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D9D8-4194-44D6-8B01-FDC9C72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B88-13CD-4890-A159-23C7CADC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DBEA-FF59-4F63-B8B6-7E4A30C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82E9-F3B1-40CD-881B-0D7D877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D6C2-C68B-4145-8A0E-4DF07EB3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8CF5-69F2-49CA-A19C-17378410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CD28-5877-41A9-BBED-7B15EF2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1998-0068-44C1-814A-7A9AAC9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2152-EADB-4191-B79A-33BC0B4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52B5-C5EE-4AD9-83C6-3DC58FEC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B2C1-AF02-4536-8A12-BA226B44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809-03D6-4EE1-B1A8-661B0C34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E12-ADD3-4486-B329-3CA572B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5B6-BCC4-4786-B62C-74F9BDA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8B4-46FA-4C5D-BB07-DCA9AC6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A50-AE37-4665-BF24-A2A6557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012-23C6-42EA-A4DF-B857031D1BA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4ABB-4FB8-4B2F-B5A0-12A59B130DF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BFAF-5943-49F5-BEB2-5A7E594B724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B20-48D3-4AF3-A9DF-BEB53A8EBB2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2296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vark-learn.com/the-vark-questionnaire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5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2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7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30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31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3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4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3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Prof Hamza</cp:lastModifiedBy>
  <dcterms:modified xsi:type="dcterms:W3CDTF">2015-09-06T05:59:15Z</dcterms:modified>
  <cp:revision>101</cp:revision>
  <dc:subject/>
  <dc:title>PROFESSIONALISM        IN MEDICAL EDUCATION </dc:title>
</cp:coreProperties>
</file>