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121F-F693-48A4-842A-3501FC72A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cs typeface="Arial"/>
              </a:rPr>
              <a:t>للأمانة العلمية: جهزت هذه الشرائح من قبل أعضاء هيئة التدريس من الكلية و خارجهاو ليس عمل شخص واحد. هذه سلسلة من المحاضرات على مدار السنة بمعدل محاضرة واحدة أسبوعيا للفائدة. تعرض هذه المحاضرات باللغة الإنجليزية و لكن سيوضح عضو هيئة التدريس أي نقطة يستفسر الطالب عنها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y skill; learning how to learn. Other names are given as “Meta-cognition” , Academic skills &amp; Learning skills. If we have these skills we can learn faster, we will not have difficulty in learning &amp; learning becomes enjoyable &amp; f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D24E-3621-4B43-B256-57F6C65D4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6DDF-8869-425A-9DB3-7944168C74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3BEE-26FD-489F-B7C1-5B7B987183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E2BD-17CA-4C66-91E3-BE40E006F1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CB03-AF92-4C62-A6E2-2DF709B80A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6AB8-E85B-4063-917F-6CA2C12E10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B9DD-603A-4D23-A1A9-97ABC6B205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B51C-1D81-44B9-8F4E-16495C105F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6C5A-2FE7-40AD-8442-E83FD16F39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3F09-CE59-498E-9482-7FA70DF5D0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FA7A-C205-4E0E-A9AF-84CA9FFD88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36DD-5528-4A2A-88BB-504CB327C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st objective is kept here that we are ready to apply it in our daily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7310-874A-45D4-8A75-B99A05BF6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03B9-6610-4A0B-BFF9-B2F19B59CE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8C40-BBE7-4B2F-B459-D3B42B45F7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FAAE-80B7-4B25-879B-075191AD6A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B28D-5BF2-48E3-B32A-D26EE83FD3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9983-B09D-4DD1-AEE8-892F371297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84D9-C231-41BA-AFBB-B3E2F17BDA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5441-B1AC-49CF-9E85-9466DF6EB9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A17E-4EB9-4C13-B5F9-D854467582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for male students is “Car driving” &amp; for female students is “Cooking a special dish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C5C0-CBF3-4FE7-A45D-7C7C395F3F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D369-3779-4F5D-A383-9607B62DA0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64D5-39B0-4107-AAFF-D4956AD74A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5BBA-7B8C-40DF-A0B8-400BBFF7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E6F7-9495-4D5D-802C-F6BD6C4D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0F02-9487-45DD-B876-18A4D193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D592-14A7-4FE2-B07B-DEB14E42A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BCB8-3AE4-4573-AA49-8597BCC7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3F43-7BB3-4F53-AD34-B80DD453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C320-D4E9-4141-A7D2-EADE0BAB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C230-6DB9-40D1-BDC4-E2DFB0A6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AF5A-2872-4CF9-BD1A-5FF4B38A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16F5-27FA-4267-A679-7F58D139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1277-5519-4CC9-AC57-2C0F1815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35C1-9128-49F8-8AC9-E6C46A88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0A24-B0F1-4DC2-8BB6-D4F54A5D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50C6-C04A-47B0-A637-6D9BD94E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E681-C6F8-42D1-9A25-59B8BFE6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48FA-5034-4A15-A95C-67E8D143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3DD1-213F-4070-B497-546F8DA7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E11670-1A7C-4B68-8862-CE9AD195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1FF112-A136-4E31-BDC9-3194B1B4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9EE16B-D3EE-4893-A5A1-208FB04C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5397B3-4727-4F26-B820-AB67A5E5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3028F0-1CB1-4905-9DFF-04698D4A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4246-7789-4686-A5F8-E39F9CBA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716D5A-0589-4D6D-A973-E0A0AC2F6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8EB365-8CB9-4F3F-8FD7-AEF420C5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ADEEB3-F729-447A-8542-3E66B107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ECCCB5-8FE2-43BF-9F67-750C33AC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EBC05-C631-480A-B5FF-D3209757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A24E65-0D02-4EC2-A87B-17B3D6C5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363FA0-02E1-4C83-B916-6A3990C2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08FD3-4D68-49AB-A18E-900182E2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3316C-69F7-46DC-B9E4-2B39A781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A2B39-152B-4A8D-963E-8AB7284F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ABA8-3212-441F-A372-7796F9E3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B0535-D00D-4FBB-87B4-580C62F7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76C9C-44ED-4E9B-81AD-57BB4808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10C10-549D-40A3-9325-A1483A9E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CF4E2-8D5D-415E-8259-0C322C80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CADF9-4D0D-4059-B920-8A31C5DC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04876-040C-4EC5-AA99-90653FD1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66351-4309-4789-96A3-49BB3EE3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EC18A-99CA-4CAB-96E8-284EC046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5FD4A-9711-4EDC-BD72-0FB474EC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54DA-EA84-4A40-8873-72867C43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923F-BDC4-4072-89E0-F74C85B3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B56E-2EB2-4273-AD02-F50B2415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CCB8-EC1D-4968-89FE-DD375641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00BA-B2CB-4872-A70B-9945971B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9CF1-89AF-48A8-97DB-E9771E0345DC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4553-DB19-4F3B-957A-9787FF6CC2BD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12EC-30AE-40C6-A31B-5BCE03DB6CD2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D58C-851F-4F7D-B29E-386E086E2CD1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28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rebuchet MS"/>
              </a:rPr>
              <a:t>Study Skills: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Trebuchet MS"/>
              </a:rPr>
              <a:t>Learning How to Learn 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123720" y="4419360"/>
            <a:ext cx="5334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Study Skill Cours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Dept of Medical Educ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College of Medicin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428760" y="21420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are these differences in lea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1285920" y="8571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e consider you as adult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357120" y="1428840"/>
            <a:ext cx="850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need to kn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— adult learners need to know why they need to learn something before undertaking to learn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arner self-concep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— need to be responsible for their own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ole of learners' experie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— have a variety of experiences of life - the richest resource fo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diness to lear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— are ready to learn those things they need to know in order to cope effectively with life sit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ientation to lear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— are motivated to learn to the extent that they perceive that it will help them perform tasks they confront in their life situ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714240" y="42876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f adult learning is to be achieved…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428760" y="121428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has to b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e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earning as opposed to superficial and pass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571680" y="2857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Why is deep/active learning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"/>
          <p:cNvSpPr/>
          <p:nvPr/>
        </p:nvSpPr>
        <p:spPr>
          <a:xfrm>
            <a:off x="285840" y="357192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ficial learning is easily and very quickly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forgo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6"/>
          <p:cNvSpPr/>
          <p:nvPr/>
        </p:nvSpPr>
        <p:spPr>
          <a:xfrm>
            <a:off x="285840" y="457200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superficial learning you will not be able to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app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use it in practica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7"/>
          <p:cNvSpPr/>
          <p:nvPr/>
        </p:nvSpPr>
        <p:spPr>
          <a:xfrm>
            <a:off x="357120" y="564372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ep learning accommodates varying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learn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"/>
          <p:cNvSpPr/>
          <p:nvPr/>
        </p:nvSpPr>
        <p:spPr>
          <a:xfrm>
            <a:off x="571680" y="257184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 be a passive receiver of information. Try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a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th information and try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t and tr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 do different thing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that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785880" y="85716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How can deep /active learning be achie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1"/>
          <p:cNvSpPr/>
          <p:nvPr/>
        </p:nvSpPr>
        <p:spPr>
          <a:xfrm>
            <a:off x="1857240" y="64296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What do we reme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"/>
          <p:cNvSpPr/>
          <p:nvPr/>
        </p:nvSpPr>
        <p:spPr>
          <a:xfrm>
            <a:off x="1571760" y="164304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% of what we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1571760" y="228600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% of what we 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1571760" y="29289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% of what we 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1571760" y="357192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 of what we 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6"/>
          <p:cNvSpPr/>
          <p:nvPr/>
        </p:nvSpPr>
        <p:spPr>
          <a:xfrm>
            <a:off x="1571760" y="421488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% of what we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7"/>
          <p:cNvSpPr/>
          <p:nvPr/>
        </p:nvSpPr>
        <p:spPr>
          <a:xfrm>
            <a:off x="1571760" y="4929120"/>
            <a:ext cx="67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424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90% of what we read, hear, see,            say and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"/>
          <p:cNvSpPr/>
          <p:nvPr/>
        </p:nvSpPr>
        <p:spPr>
          <a:xfrm>
            <a:off x="1500120" y="64296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Learn actively and de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"/>
          <p:cNvSpPr/>
          <p:nvPr/>
        </p:nvSpPr>
        <p:spPr>
          <a:xfrm>
            <a:off x="1000080" y="164304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Don’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just read and close the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928800" y="22860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000000"/>
              </a:buClr>
              <a:buFont typeface="Arial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y to do different things with what you have read immediately afte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1643040" y="335772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w flow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1643040" y="392904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w diagrams using col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1643040" y="450072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a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7"/>
          <p:cNvSpPr/>
          <p:nvPr/>
        </p:nvSpPr>
        <p:spPr>
          <a:xfrm>
            <a:off x="1643040" y="507204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empt answering pass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8"/>
          <p:cNvSpPr/>
          <p:nvPr/>
        </p:nvSpPr>
        <p:spPr>
          <a:xfrm>
            <a:off x="642960" y="571500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short, interact with what you have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"/>
          <p:cNvSpPr/>
          <p:nvPr/>
        </p:nvSpPr>
        <p:spPr>
          <a:xfrm>
            <a:off x="1357200" y="64296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How to shift information from short term to long tern mem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"/>
          <p:cNvSpPr/>
          <p:nvPr/>
        </p:nvSpPr>
        <p:spPr>
          <a:xfrm>
            <a:off x="1643040" y="185724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Learn actively &amp; dee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1643040" y="242892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Revisit, repeat &amp; rev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357120" y="571500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55680" indent="-355680"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Do not wait until you finish studying to rev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285840" y="3429000"/>
            <a:ext cx="87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mportant points about revisiting &amp;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"/>
          <p:cNvSpPr/>
          <p:nvPr/>
        </p:nvSpPr>
        <p:spPr>
          <a:xfrm>
            <a:off x="285840" y="407196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There is no special place of time to rev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7"/>
          <p:cNvSpPr/>
          <p:nvPr/>
        </p:nvSpPr>
        <p:spPr>
          <a:xfrm>
            <a:off x="285840" y="4714920"/>
            <a:ext cx="857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Try to revisit and repeat at every given opportu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3" descr="http://www.adm.uwaterloo.ca/infocs/Images/curve.gif"/>
          <p:cNvPicPr/>
          <p:nvPr/>
        </p:nvPicPr>
        <p:blipFill>
          <a:blip r:embed="rId1"/>
          <a:stretch/>
        </p:blipFill>
        <p:spPr>
          <a:xfrm>
            <a:off x="428760" y="1571760"/>
            <a:ext cx="8215200" cy="464328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"/>
          <p:cNvSpPr/>
          <p:nvPr/>
        </p:nvSpPr>
        <p:spPr>
          <a:xfrm>
            <a:off x="1857240" y="64296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Forgett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1" descr=""/>
          <p:cNvPicPr/>
          <p:nvPr/>
        </p:nvPicPr>
        <p:blipFill>
          <a:blip r:embed="rId1"/>
          <a:stretch/>
        </p:blipFill>
        <p:spPr>
          <a:xfrm>
            <a:off x="360360" y="-615960"/>
            <a:ext cx="8229600" cy="52070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2"/>
          <p:cNvSpPr/>
          <p:nvPr/>
        </p:nvSpPr>
        <p:spPr>
          <a:xfrm>
            <a:off x="2000160" y="1428840"/>
            <a:ext cx="478656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ual le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1928880" y="3786120"/>
            <a:ext cx="485784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ing/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1928880" y="2571840"/>
            <a:ext cx="485784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ditory le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1928880" y="5000760"/>
            <a:ext cx="485784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inaesthetic le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"/>
          <p:cNvSpPr/>
          <p:nvPr/>
        </p:nvSpPr>
        <p:spPr>
          <a:xfrm>
            <a:off x="1643040" y="35712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Learning style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2"/>
          <p:cNvSpPr/>
          <p:nvPr/>
        </p:nvSpPr>
        <p:spPr>
          <a:xfrm>
            <a:off x="1643040" y="2428920"/>
            <a:ext cx="236232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fl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5148360" y="4257720"/>
            <a:ext cx="266688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agmat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4"/>
          <p:cNvSpPr/>
          <p:nvPr/>
        </p:nvSpPr>
        <p:spPr>
          <a:xfrm>
            <a:off x="5148360" y="2428920"/>
            <a:ext cx="266688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or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5"/>
          <p:cNvSpPr/>
          <p:nvPr/>
        </p:nvSpPr>
        <p:spPr>
          <a:xfrm>
            <a:off x="1490760" y="4257720"/>
            <a:ext cx="266688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7"/>
          <p:cNvSpPr/>
          <p:nvPr/>
        </p:nvSpPr>
        <p:spPr>
          <a:xfrm>
            <a:off x="880920" y="3648240"/>
            <a:ext cx="73915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ight Arrow 8"/>
          <p:cNvSpPr/>
          <p:nvPr/>
        </p:nvSpPr>
        <p:spPr>
          <a:xfrm rot="16200000">
            <a:off x="-26640" y="1964880"/>
            <a:ext cx="2197080" cy="6858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9"/>
          <p:cNvSpPr/>
          <p:nvPr/>
        </p:nvSpPr>
        <p:spPr>
          <a:xfrm rot="16200000">
            <a:off x="493560" y="2358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ight Arrow 10"/>
          <p:cNvSpPr/>
          <p:nvPr/>
        </p:nvSpPr>
        <p:spPr>
          <a:xfrm rot="5400000">
            <a:off x="-27360" y="4556160"/>
            <a:ext cx="2197080" cy="6858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1"/>
          <p:cNvSpPr/>
          <p:nvPr/>
        </p:nvSpPr>
        <p:spPr>
          <a:xfrm rot="16200000">
            <a:off x="198360" y="455904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-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Straight Arrow Connector 13"/>
          <p:cNvCxnSpPr/>
          <p:nvPr/>
        </p:nvCxnSpPr>
        <p:spPr>
          <a:xfrm>
            <a:off x="4005000" y="3114360"/>
            <a:ext cx="1143720" cy="1067400"/>
          </a:xfrm>
          <a:prstGeom prst="straightConnector1">
            <a:avLst/>
          </a:prstGeom>
          <a:ln w="31680">
            <a:solidFill>
              <a:srgbClr val="43808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98" name="Straight Arrow Connector 15"/>
          <p:cNvCxnSpPr/>
          <p:nvPr/>
        </p:nvCxnSpPr>
        <p:spPr>
          <a:xfrm flipV="1">
            <a:off x="4081320" y="3114000"/>
            <a:ext cx="991440" cy="1067400"/>
          </a:xfrm>
          <a:prstGeom prst="straightConnector1">
            <a:avLst/>
          </a:prstGeom>
          <a:ln w="31680">
            <a:solidFill>
              <a:srgbClr val="438086"/>
            </a:solidFill>
            <a:miter/>
            <a:headEnd len="med" type="arrow" w="med"/>
            <a:tailEnd len="med" type="arrow" w="med"/>
          </a:ln>
        </p:spPr>
      </p:cxnSp>
      <p:sp>
        <p:nvSpPr>
          <p:cNvPr id="299" name="TextBox 1"/>
          <p:cNvSpPr/>
          <p:nvPr/>
        </p:nvSpPr>
        <p:spPr>
          <a:xfrm>
            <a:off x="1643040" y="35712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Learning style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2071800" y="571680"/>
            <a:ext cx="521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Bernard MT Condensed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571680" y="178596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How is undergraduate learning diff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642960" y="278604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How to learn deeply and activ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685800" y="3733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What is your learning sty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642960" y="471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How to promote reflective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r learning style  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ow you </a:t>
            </a:r>
            <a:r>
              <a:rPr b="0" lang="en-US" sz="2800" spc="-1" strike="noStrike">
                <a:solidFill>
                  <a:srgbClr val="424456"/>
                </a:solidFill>
                <a:latin typeface="Georgia"/>
              </a:rPr>
              <a:t>perceive</a:t>
            </a: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ow you </a:t>
            </a:r>
            <a:r>
              <a:rPr b="0" lang="en-US" sz="2800" spc="-1" strike="noStrike">
                <a:solidFill>
                  <a:srgbClr val="424456"/>
                </a:solidFill>
                <a:latin typeface="Georgia"/>
              </a:rPr>
              <a:t>process</a:t>
            </a: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c00000"/>
                </a:solidFill>
                <a:latin typeface="Arial Unicode MS"/>
              </a:rPr>
              <a:t>WHAT IS LEARING STYLES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way in which each individual learner begins to concentrate on, process, absorb, and retain new and difficult informa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arning styles are the most important tool for us when we construct knowledg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right way of studying does not exis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verybody learns in his individual way, but without knowing this way, you can’t learn efficiently – sometimes you can’t learn at all.           </a:t>
            </a:r>
            <a:r>
              <a:rPr b="0" lang="en-US" sz="4000" spc="-1" strike="noStrike">
                <a:solidFill>
                  <a:srgbClr val="ff0000"/>
                </a:solidFill>
                <a:latin typeface="Arial Unicode MS"/>
              </a:rPr>
              <a:t>SO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arning styles are strategies or regular mental behaviors that are habitually applied by an individual to learning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Classical classification of Learning style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ual (prefer to learn by seein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uditory (prefer to learn by sound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Kinesthetic (prefer to learn by doin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erbal (linguistic) learning sty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gical (mathematical) learning sty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cial (interpersonal) learning sty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533520" y="10663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Visual 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  </a:t>
            </a:r>
            <a:r>
              <a:rPr b="0" lang="en-US" sz="2800" spc="-1" strike="noStrike">
                <a:solidFill>
                  <a:srgbClr val="a6a6a6"/>
                </a:solidFill>
                <a:latin typeface="Georgia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fer to see the informatio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like reading tex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morizes by writing repeated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en inactive, doodles, looks around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</a:t>
            </a:r>
            <a:r>
              <a:rPr b="0" lang="en-US" sz="2800" spc="-1" strike="noStrike">
                <a:solidFill>
                  <a:srgbClr val="a6a6a6"/>
                </a:solidFill>
                <a:latin typeface="Georgia"/>
              </a:rPr>
              <a:t>Enhanc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ualization-imagi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ual promp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cept ma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visual representation of information-posters et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://vark-learn.com/the-vark-questionnaire/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Auditory style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  </a:t>
            </a:r>
            <a:r>
              <a:rPr b="0" lang="en-US" sz="2800" spc="-1" strike="noStrike">
                <a:solidFill>
                  <a:srgbClr val="a6a6a6"/>
                </a:solidFill>
                <a:latin typeface="Georgia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ke to listen to teach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alks fluently and logical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morizes by repeating words alou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activity leads to talking to self or oth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  </a:t>
            </a:r>
            <a:r>
              <a:rPr b="0" lang="en-US" sz="2800" spc="-1" strike="noStrike">
                <a:solidFill>
                  <a:srgbClr val="a6a6a6"/>
                </a:solidFill>
                <a:latin typeface="Georgia"/>
              </a:rPr>
              <a:t>Enhanc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ctive liste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hyme and rhythm-mnemonic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agine you can hear 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685800" y="914400"/>
            <a:ext cx="624852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Kinesth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394be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ands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lks about actions, speaks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activity leads to fidg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stracted by physical disturb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* </a:t>
            </a:r>
            <a:r>
              <a:rPr b="0" lang="en-US" sz="2800" spc="-1" strike="noStrike">
                <a:solidFill>
                  <a:srgbClr val="a6a6a6"/>
                </a:solidFill>
                <a:latin typeface="Trebuchet MS"/>
              </a:rPr>
              <a:t>Enh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se objects that can be manipu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cting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ody language and physical m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The verbal (linguistic)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Involves both the written and spoken wor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Express both in writing and verbally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 love reading and writing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 Know the meaning of many wor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The temporal and frontal lobes drive this styl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088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The logical (mathematical) 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ing brain for logical and mathematical reasoning. classify and group information to learn or understand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ork well with numbers and perform complex calculatio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ork through problems and issues in a systematic wa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The parietal lobes, especially the left side, drive our logical thinking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088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The social (interpersonal) 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Communication well with people, both verbally and non-verbally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listen well and understand other’s view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Prefer learning in grou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prefer to stay around and talk with other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-  The frontal and temporal lobes handle much of our social activit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24456"/>
                </a:solidFill>
                <a:latin typeface="Bernard MT Condensed"/>
              </a:rPr>
              <a:t>OBJECTIVES</a:t>
            </a: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o define “Learning” &amp; learning principl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o recognize that undergraduate learning different from secondary schoo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o identify different types of lear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o apply these learning principles to our daily learning activiti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pull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34"/>
          <p:cNvSpPr/>
          <p:nvPr/>
        </p:nvSpPr>
        <p:spPr>
          <a:xfrm>
            <a:off x="406440" y="2590920"/>
            <a:ext cx="15764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5000"/>
              </a:lnSpc>
              <a:spcBef>
                <a:spcPts val="168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Remember </a:t>
            </a:r>
            <a:br>
              <a:rPr sz="1800"/>
            </a:b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best when </a:t>
            </a:r>
            <a:br>
              <a:rPr sz="1800"/>
            </a:b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LISTEN</a:t>
            </a: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da-DK" sz="1800" spc="-1" strike="noStrike">
                <a:solidFill>
                  <a:srgbClr val="373737"/>
                </a:solidFill>
                <a:latin typeface="Arial"/>
              </a:rPr>
              <a:t>to a lecture, a presentation, or an </a:t>
            </a:r>
            <a:br>
              <a:rPr sz="1800"/>
            </a:br>
            <a:r>
              <a:rPr b="0" lang="da-DK" sz="1800" spc="-1" strike="noStrike">
                <a:solidFill>
                  <a:srgbClr val="373737"/>
                </a:solidFill>
                <a:latin typeface="Arial"/>
              </a:rPr>
              <a:t>audiotape</a:t>
            </a: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035"/>
          <p:cNvSpPr/>
          <p:nvPr/>
        </p:nvSpPr>
        <p:spPr>
          <a:xfrm>
            <a:off x="396720" y="1447920"/>
            <a:ext cx="1595520" cy="4647960"/>
          </a:xfrm>
          <a:prstGeom prst="rect">
            <a:avLst/>
          </a:prstGeom>
          <a:noFill/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1036"/>
          <p:cNvGrpSpPr/>
          <p:nvPr/>
        </p:nvGrpSpPr>
        <p:grpSpPr>
          <a:xfrm>
            <a:off x="554040" y="1523880"/>
            <a:ext cx="1163160" cy="733320"/>
            <a:chOff x="554040" y="1523880"/>
            <a:chExt cx="1163160" cy="733320"/>
          </a:xfrm>
        </p:grpSpPr>
        <p:sp>
          <p:nvSpPr>
            <p:cNvPr id="315" name="Line 1037"/>
            <p:cNvSpPr/>
            <p:nvPr/>
          </p:nvSpPr>
          <p:spPr>
            <a:xfrm>
              <a:off x="1135440" y="1523880"/>
              <a:ext cx="0" cy="73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1038"/>
            <p:cNvSpPr/>
            <p:nvPr/>
          </p:nvSpPr>
          <p:spPr>
            <a:xfrm>
              <a:off x="554040" y="1523880"/>
              <a:ext cx="1163160" cy="73332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039"/>
            <p:cNvSpPr/>
            <p:nvPr/>
          </p:nvSpPr>
          <p:spPr>
            <a:xfrm>
              <a:off x="699120" y="1627560"/>
              <a:ext cx="872280" cy="275040"/>
            </a:xfrm>
            <a:prstGeom prst="rect">
              <a:avLst/>
            </a:prstGeom>
            <a:solidFill>
              <a:srgbClr val="ef7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Rectangle 1040"/>
          <p:cNvSpPr/>
          <p:nvPr/>
        </p:nvSpPr>
        <p:spPr>
          <a:xfrm>
            <a:off x="609480" y="1631880"/>
            <a:ext cx="1067040" cy="520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041"/>
          <p:cNvSpPr/>
          <p:nvPr/>
        </p:nvSpPr>
        <p:spPr>
          <a:xfrm>
            <a:off x="7151760" y="2590920"/>
            <a:ext cx="15764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5000"/>
              </a:lnSpc>
              <a:spcBef>
                <a:spcPts val="168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embe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whe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DISCU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with others the new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and complex information they are lea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042"/>
          <p:cNvSpPr/>
          <p:nvPr/>
        </p:nvSpPr>
        <p:spPr>
          <a:xfrm>
            <a:off x="7151760" y="1447920"/>
            <a:ext cx="1595520" cy="46479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1043"/>
          <p:cNvGrpSpPr/>
          <p:nvPr/>
        </p:nvGrpSpPr>
        <p:grpSpPr>
          <a:xfrm>
            <a:off x="7423200" y="1523880"/>
            <a:ext cx="1164960" cy="733320"/>
            <a:chOff x="7423200" y="1523880"/>
            <a:chExt cx="1164960" cy="733320"/>
          </a:xfrm>
        </p:grpSpPr>
        <p:sp>
          <p:nvSpPr>
            <p:cNvPr id="322" name="Line 1044"/>
            <p:cNvSpPr/>
            <p:nvPr/>
          </p:nvSpPr>
          <p:spPr>
            <a:xfrm>
              <a:off x="8005680" y="1523880"/>
              <a:ext cx="0" cy="73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1045"/>
            <p:cNvSpPr/>
            <p:nvPr/>
          </p:nvSpPr>
          <p:spPr>
            <a:xfrm>
              <a:off x="7423200" y="1523880"/>
              <a:ext cx="1164960" cy="73332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046"/>
            <p:cNvSpPr/>
            <p:nvPr/>
          </p:nvSpPr>
          <p:spPr>
            <a:xfrm>
              <a:off x="7568280" y="1627560"/>
              <a:ext cx="873720" cy="275040"/>
            </a:xfrm>
            <a:prstGeom prst="rect">
              <a:avLst/>
            </a:prstGeom>
            <a:solidFill>
              <a:srgbClr val="ef7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Rectangle 1047"/>
          <p:cNvSpPr/>
          <p:nvPr/>
        </p:nvSpPr>
        <p:spPr>
          <a:xfrm>
            <a:off x="7467480" y="1631880"/>
            <a:ext cx="1081080" cy="520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b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1084"/>
          <p:cNvGrpSpPr/>
          <p:nvPr/>
        </p:nvGrpSpPr>
        <p:grpSpPr>
          <a:xfrm>
            <a:off x="3776760" y="1447920"/>
            <a:ext cx="1595520" cy="4647960"/>
            <a:chOff x="3776760" y="1447920"/>
            <a:chExt cx="1595520" cy="4647960"/>
          </a:xfrm>
        </p:grpSpPr>
        <p:sp>
          <p:nvSpPr>
            <p:cNvPr id="327" name="Rectangle 1048"/>
            <p:cNvSpPr/>
            <p:nvPr/>
          </p:nvSpPr>
          <p:spPr>
            <a:xfrm>
              <a:off x="3776760" y="2590920"/>
              <a:ext cx="1576800" cy="35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lnSpc>
                  <a:spcPct val="115000"/>
                </a:lnSpc>
                <a:spcBef>
                  <a:spcPts val="1687"/>
                </a:spcBef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member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est when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ey </a:t>
              </a: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READ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73737"/>
                  </a:solidFill>
                  <a:latin typeface="Arial"/>
                </a:rPr>
                <a:t>the written word (textbooks, memos, </a:t>
              </a:r>
              <a:br>
                <a:rPr sz="1800"/>
              </a:br>
              <a:r>
                <a:rPr b="0" lang="en-US" sz="1800" spc="-1" strike="noStrike">
                  <a:solidFill>
                    <a:srgbClr val="373737"/>
                  </a:solidFill>
                  <a:latin typeface="Arial"/>
                </a:rPr>
                <a:t> and e-mail message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049"/>
            <p:cNvSpPr/>
            <p:nvPr/>
          </p:nvSpPr>
          <p:spPr>
            <a:xfrm>
              <a:off x="3776760" y="1447920"/>
              <a:ext cx="1595520" cy="464796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1074"/>
            <p:cNvGrpSpPr/>
            <p:nvPr/>
          </p:nvGrpSpPr>
          <p:grpSpPr>
            <a:xfrm>
              <a:off x="3898440" y="1523880"/>
              <a:ext cx="1351440" cy="735120"/>
              <a:chOff x="3898440" y="1523880"/>
              <a:chExt cx="1351440" cy="735120"/>
            </a:xfrm>
          </p:grpSpPr>
          <p:grpSp>
            <p:nvGrpSpPr>
              <p:cNvPr id="330" name="Group 1050"/>
              <p:cNvGrpSpPr/>
              <p:nvPr/>
            </p:nvGrpSpPr>
            <p:grpSpPr>
              <a:xfrm>
                <a:off x="3935880" y="1523880"/>
                <a:ext cx="1275840" cy="733320"/>
                <a:chOff x="3935880" y="1523880"/>
                <a:chExt cx="1275840" cy="733320"/>
              </a:xfrm>
            </p:grpSpPr>
            <p:sp>
              <p:nvSpPr>
                <p:cNvPr id="331" name="Line 1051"/>
                <p:cNvSpPr/>
                <p:nvPr/>
              </p:nvSpPr>
              <p:spPr>
                <a:xfrm>
                  <a:off x="4573800" y="1523880"/>
                  <a:ext cx="0" cy="733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AutoShape 1052"/>
                <p:cNvSpPr/>
                <p:nvPr/>
              </p:nvSpPr>
              <p:spPr>
                <a:xfrm>
                  <a:off x="3935880" y="1523880"/>
                  <a:ext cx="1275840" cy="733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Rectangle 1053"/>
                <p:cNvSpPr/>
                <p:nvPr/>
              </p:nvSpPr>
              <p:spPr>
                <a:xfrm>
                  <a:off x="4095000" y="1627560"/>
                  <a:ext cx="956880" cy="27504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Rectangle 1054"/>
              <p:cNvSpPr/>
              <p:nvPr/>
            </p:nvSpPr>
            <p:spPr>
              <a:xfrm>
                <a:off x="3898440" y="1525680"/>
                <a:ext cx="13514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Visual 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earn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5" name="Rectangle 1055"/>
          <p:cNvSpPr/>
          <p:nvPr/>
        </p:nvSpPr>
        <p:spPr>
          <a:xfrm>
            <a:off x="5462640" y="2590920"/>
            <a:ext cx="15778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5000"/>
              </a:lnSpc>
              <a:spcBef>
                <a:spcPts val="168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embe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by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DO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rather than sitting and listening, reading,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or thinking about the inform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056"/>
          <p:cNvSpPr/>
          <p:nvPr/>
        </p:nvSpPr>
        <p:spPr>
          <a:xfrm>
            <a:off x="5462640" y="1447920"/>
            <a:ext cx="1596960" cy="46479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058"/>
          <p:cNvSpPr/>
          <p:nvPr/>
        </p:nvSpPr>
        <p:spPr>
          <a:xfrm>
            <a:off x="6238800" y="152244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059"/>
          <p:cNvSpPr/>
          <p:nvPr/>
        </p:nvSpPr>
        <p:spPr>
          <a:xfrm>
            <a:off x="5600880" y="1522440"/>
            <a:ext cx="1276200" cy="7333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Tactile and/or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Kinesthe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062"/>
          <p:cNvSpPr/>
          <p:nvPr/>
        </p:nvSpPr>
        <p:spPr>
          <a:xfrm>
            <a:off x="2082960" y="2590920"/>
            <a:ext cx="15778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5000"/>
              </a:lnSpc>
              <a:spcBef>
                <a:spcPts val="168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embe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whe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SE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(create) mental images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of what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they hear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or 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063"/>
          <p:cNvSpPr/>
          <p:nvPr/>
        </p:nvSpPr>
        <p:spPr>
          <a:xfrm>
            <a:off x="2087640" y="1447920"/>
            <a:ext cx="1596960" cy="4647960"/>
          </a:xfrm>
          <a:prstGeom prst="rect">
            <a:avLst/>
          </a:prstGeom>
          <a:noFill/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065"/>
          <p:cNvSpPr/>
          <p:nvPr/>
        </p:nvSpPr>
        <p:spPr>
          <a:xfrm>
            <a:off x="2881440" y="1523880"/>
            <a:ext cx="0" cy="73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066"/>
          <p:cNvSpPr/>
          <p:nvPr/>
        </p:nvSpPr>
        <p:spPr>
          <a:xfrm>
            <a:off x="2243160" y="1523880"/>
            <a:ext cx="1276200" cy="7336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Visual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087"/>
          <p:cNvSpPr/>
          <p:nvPr/>
        </p:nvSpPr>
        <p:spPr>
          <a:xfrm>
            <a:off x="1130400" y="457200"/>
            <a:ext cx="68832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ceptual Elements of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089"/>
          <p:cNvSpPr/>
          <p:nvPr/>
        </p:nvSpPr>
        <p:spPr>
          <a:xfrm>
            <a:off x="304920" y="1066680"/>
            <a:ext cx="8534160" cy="0"/>
          </a:xfrm>
          <a:prstGeom prst="line">
            <a:avLst/>
          </a:prstGeom>
          <a:ln w="63360">
            <a:solidFill>
              <a:srgbClr val="ff66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214200" y="285840"/>
            <a:ext cx="878688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Georgia"/>
              </a:rPr>
              <a:t>How can you learn from learning experiences (both academic &amp; non-academic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2"/>
          <p:cNvSpPr/>
          <p:nvPr/>
        </p:nvSpPr>
        <p:spPr>
          <a:xfrm>
            <a:off x="380880" y="220968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active ref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3"/>
          <p:cNvSpPr/>
          <p:nvPr/>
        </p:nvSpPr>
        <p:spPr>
          <a:xfrm>
            <a:off x="785880" y="3143160"/>
            <a:ext cx="80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lection is purposeful and systematic revisiting of a learning experience with a view to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5"/>
          <p:cNvSpPr/>
          <p:nvPr/>
        </p:nvSpPr>
        <p:spPr>
          <a:xfrm>
            <a:off x="785880" y="5286240"/>
            <a:ext cx="70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incident that you either participate in or see/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6"/>
          <p:cNvSpPr/>
          <p:nvPr/>
        </p:nvSpPr>
        <p:spPr>
          <a:xfrm>
            <a:off x="357120" y="264312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f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7"/>
          <p:cNvSpPr/>
          <p:nvPr/>
        </p:nvSpPr>
        <p:spPr>
          <a:xfrm>
            <a:off x="357120" y="471492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arning experie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4"/>
          <p:cNvSpPr/>
          <p:nvPr/>
        </p:nvSpPr>
        <p:spPr>
          <a:xfrm>
            <a:off x="1357200" y="157176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8086"/>
                </a:solidFill>
                <a:latin typeface="Calibri"/>
              </a:rPr>
              <a:t>Kolb’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19"/>
          <p:cNvGrpSpPr/>
          <p:nvPr/>
        </p:nvGrpSpPr>
        <p:grpSpPr>
          <a:xfrm>
            <a:off x="1285920" y="2286000"/>
            <a:ext cx="6705360" cy="4102200"/>
            <a:chOff x="1285920" y="2286000"/>
            <a:chExt cx="6705360" cy="4102200"/>
          </a:xfrm>
        </p:grpSpPr>
        <p:grpSp>
          <p:nvGrpSpPr>
            <p:cNvPr id="353" name="Group 18"/>
            <p:cNvGrpSpPr/>
            <p:nvPr/>
          </p:nvGrpSpPr>
          <p:grpSpPr>
            <a:xfrm>
              <a:off x="2124000" y="2590920"/>
              <a:ext cx="4876920" cy="3429000"/>
              <a:chOff x="2124000" y="2590920"/>
              <a:chExt cx="4876920" cy="3429000"/>
            </a:xfrm>
          </p:grpSpPr>
          <p:sp>
            <p:nvSpPr>
              <p:cNvPr id="354" name="Oval 5"/>
              <p:cNvSpPr/>
              <p:nvPr/>
            </p:nvSpPr>
            <p:spPr>
              <a:xfrm>
                <a:off x="2124000" y="2590920"/>
                <a:ext cx="4876920" cy="3429000"/>
              </a:xfrm>
              <a:prstGeom prst="ellipse">
                <a:avLst/>
              </a:prstGeom>
              <a:solidFill>
                <a:srgbClr val="53548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ine 13"/>
              <p:cNvSpPr/>
              <p:nvPr/>
            </p:nvSpPr>
            <p:spPr>
              <a:xfrm>
                <a:off x="6238800" y="3048120"/>
                <a:ext cx="15228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14"/>
              <p:cNvSpPr/>
              <p:nvPr/>
            </p:nvSpPr>
            <p:spPr>
              <a:xfrm flipH="1">
                <a:off x="6543360" y="5029200"/>
                <a:ext cx="228600" cy="304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Line 15"/>
              <p:cNvSpPr/>
              <p:nvPr/>
            </p:nvSpPr>
            <p:spPr>
              <a:xfrm flipH="1" flipV="1">
                <a:off x="2428560" y="5105160"/>
                <a:ext cx="15228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Line 16"/>
              <p:cNvSpPr/>
              <p:nvPr/>
            </p:nvSpPr>
            <p:spPr>
              <a:xfrm flipV="1">
                <a:off x="2428920" y="3276360"/>
                <a:ext cx="15228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Text Box 6"/>
            <p:cNvSpPr/>
            <p:nvPr/>
          </p:nvSpPr>
          <p:spPr>
            <a:xfrm>
              <a:off x="3267000" y="2362320"/>
              <a:ext cx="2514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7"/>
            <p:cNvSpPr/>
            <p:nvPr/>
          </p:nvSpPr>
          <p:spPr>
            <a:xfrm>
              <a:off x="3571920" y="2286000"/>
              <a:ext cx="19810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Concrete experi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8"/>
            <p:cNvSpPr/>
            <p:nvPr/>
          </p:nvSpPr>
          <p:spPr>
            <a:xfrm>
              <a:off x="6010200" y="3809880"/>
              <a:ext cx="19810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Reflective observ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9"/>
            <p:cNvSpPr/>
            <p:nvPr/>
          </p:nvSpPr>
          <p:spPr>
            <a:xfrm>
              <a:off x="3429000" y="5562720"/>
              <a:ext cx="242892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Abstract conceptualis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10"/>
            <p:cNvSpPr/>
            <p:nvPr/>
          </p:nvSpPr>
          <p:spPr>
            <a:xfrm>
              <a:off x="1285920" y="4038480"/>
              <a:ext cx="19810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Future plan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20"/>
          <p:cNvSpPr/>
          <p:nvPr/>
        </p:nvSpPr>
        <p:spPr>
          <a:xfrm>
            <a:off x="685800" y="380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flection - cyclic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1"/>
          <p:cNvSpPr/>
          <p:nvPr/>
        </p:nvSpPr>
        <p:spPr>
          <a:xfrm>
            <a:off x="2214720" y="8571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y way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4"/>
          <p:cNvSpPr/>
          <p:nvPr/>
        </p:nvSpPr>
        <p:spPr>
          <a:xfrm>
            <a:off x="609480" y="7621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Reflective cycle: a simplified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1523880" y="1752480"/>
            <a:ext cx="67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What is the learning ev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1523880" y="2514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What did I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"/>
          <p:cNvSpPr/>
          <p:nvPr/>
        </p:nvSpPr>
        <p:spPr>
          <a:xfrm>
            <a:off x="1523880" y="3276720"/>
            <a:ext cx="66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What more do I have to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1523880" y="41148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How can I learn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1523880" y="4876920"/>
            <a:ext cx="690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Evidence for further learning / change of pract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"/>
          <p:cNvGrpSpPr/>
          <p:nvPr/>
        </p:nvGrpSpPr>
        <p:grpSpPr>
          <a:xfrm>
            <a:off x="1447920" y="1828800"/>
            <a:ext cx="6705360" cy="3919320"/>
            <a:chOff x="1447920" y="1828800"/>
            <a:chExt cx="6705360" cy="3919320"/>
          </a:xfrm>
        </p:grpSpPr>
        <p:sp>
          <p:nvSpPr>
            <p:cNvPr id="373" name="Oval 5"/>
            <p:cNvSpPr/>
            <p:nvPr/>
          </p:nvSpPr>
          <p:spPr>
            <a:xfrm>
              <a:off x="2286000" y="2133720"/>
              <a:ext cx="4876920" cy="3429000"/>
            </a:xfrm>
            <a:prstGeom prst="ellipse">
              <a:avLst/>
            </a:prstGeom>
            <a:solidFill>
              <a:srgbClr val="53548a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6"/>
            <p:cNvSpPr/>
            <p:nvPr/>
          </p:nvSpPr>
          <p:spPr>
            <a:xfrm>
              <a:off x="3733920" y="1828800"/>
              <a:ext cx="1981080" cy="64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oncrete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7"/>
            <p:cNvSpPr/>
            <p:nvPr/>
          </p:nvSpPr>
          <p:spPr>
            <a:xfrm>
              <a:off x="6172200" y="3352680"/>
              <a:ext cx="1981080" cy="64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Reflective observ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8"/>
            <p:cNvSpPr/>
            <p:nvPr/>
          </p:nvSpPr>
          <p:spPr>
            <a:xfrm>
              <a:off x="3809880" y="5105520"/>
              <a:ext cx="2210040" cy="64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bstract conceptualis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9"/>
            <p:cNvSpPr/>
            <p:nvPr/>
          </p:nvSpPr>
          <p:spPr>
            <a:xfrm>
              <a:off x="1447920" y="3581280"/>
              <a:ext cx="1981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uture pla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0"/>
            <p:cNvSpPr/>
            <p:nvPr/>
          </p:nvSpPr>
          <p:spPr>
            <a:xfrm>
              <a:off x="6400800" y="2590920"/>
              <a:ext cx="15228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1"/>
            <p:cNvSpPr/>
            <p:nvPr/>
          </p:nvSpPr>
          <p:spPr>
            <a:xfrm flipH="1">
              <a:off x="6705360" y="4572000"/>
              <a:ext cx="22860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2"/>
            <p:cNvSpPr/>
            <p:nvPr/>
          </p:nvSpPr>
          <p:spPr>
            <a:xfrm flipH="1" flipV="1">
              <a:off x="2590560" y="4647960"/>
              <a:ext cx="1522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3"/>
            <p:cNvSpPr/>
            <p:nvPr/>
          </p:nvSpPr>
          <p:spPr>
            <a:xfrm flipV="1">
              <a:off x="2590920" y="2819160"/>
              <a:ext cx="1522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 Box 2"/>
          <p:cNvSpPr/>
          <p:nvPr/>
        </p:nvSpPr>
        <p:spPr>
          <a:xfrm>
            <a:off x="2514600" y="3049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3429000" y="19051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4"/>
          <p:cNvSpPr/>
          <p:nvPr/>
        </p:nvSpPr>
        <p:spPr>
          <a:xfrm>
            <a:off x="3657600" y="251460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s the ev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5"/>
          <p:cNvSpPr/>
          <p:nvPr/>
        </p:nvSpPr>
        <p:spPr>
          <a:xfrm>
            <a:off x="6095880" y="41911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6"/>
          <p:cNvSpPr/>
          <p:nvPr/>
        </p:nvSpPr>
        <p:spPr>
          <a:xfrm>
            <a:off x="6172200" y="419112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did I lea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8"/>
          <p:cNvSpPr/>
          <p:nvPr/>
        </p:nvSpPr>
        <p:spPr>
          <a:xfrm>
            <a:off x="1371600" y="4038480"/>
            <a:ext cx="2057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can I lea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9"/>
          <p:cNvSpPr/>
          <p:nvPr/>
        </p:nvSpPr>
        <p:spPr>
          <a:xfrm>
            <a:off x="3352680" y="1066680"/>
            <a:ext cx="26672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idence for learning / change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7"/>
          <p:cNvSpPr/>
          <p:nvPr/>
        </p:nvSpPr>
        <p:spPr>
          <a:xfrm>
            <a:off x="6172200" y="4952880"/>
            <a:ext cx="243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more do I have to lea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1"/>
          <p:cNvSpPr/>
          <p:nvPr/>
        </p:nvSpPr>
        <p:spPr>
          <a:xfrm>
            <a:off x="285840" y="3571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Why should you participate in other non-academic activ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2"/>
          <p:cNvSpPr/>
          <p:nvPr/>
        </p:nvSpPr>
        <p:spPr>
          <a:xfrm>
            <a:off x="357120" y="178596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provide a rich source of learning experiences for you to develop a lot of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3"/>
          <p:cNvSpPr/>
          <p:nvPr/>
        </p:nvSpPr>
        <p:spPr>
          <a:xfrm>
            <a:off x="1000080" y="2786040"/>
            <a:ext cx="7643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/interpers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 work and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sational and management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5"/>
          <p:cNvSpPr/>
          <p:nvPr/>
        </p:nvSpPr>
        <p:spPr>
          <a:xfrm>
            <a:off x="357120" y="564372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listic edu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Box 1"/>
          <p:cNvSpPr/>
          <p:nvPr/>
        </p:nvSpPr>
        <p:spPr>
          <a:xfrm>
            <a:off x="2500200" y="35712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357120" y="114300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in university is fundamentally different from learning in secondary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3"/>
          <p:cNvSpPr/>
          <p:nvPr/>
        </p:nvSpPr>
        <p:spPr>
          <a:xfrm>
            <a:off x="428760" y="228600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and deep learning is the key to success in the university (and in later l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4"/>
          <p:cNvSpPr/>
          <p:nvPr/>
        </p:nvSpPr>
        <p:spPr>
          <a:xfrm>
            <a:off x="428760" y="507204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y to learning from all experiences (both academic and non-academic) in th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5"/>
          <p:cNvSpPr/>
          <p:nvPr/>
        </p:nvSpPr>
        <p:spPr>
          <a:xfrm>
            <a:off x="428760" y="3500280"/>
            <a:ext cx="828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the learning style that suits you best to achieve deep learning and use it to the maxim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1"/>
          <p:cNvSpPr/>
          <p:nvPr/>
        </p:nvSpPr>
        <p:spPr>
          <a:xfrm>
            <a:off x="1143000" y="1571760"/>
            <a:ext cx="657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arlow Solid Italic"/>
              </a:rPr>
              <a:t>I wish you a very successful and enjoyable time in your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"/>
          <p:cNvSpPr/>
          <p:nvPr/>
        </p:nvSpPr>
        <p:spPr>
          <a:xfrm>
            <a:off x="1785960" y="3857760"/>
            <a:ext cx="500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Harlow Solid Italic"/>
              </a:rPr>
              <a:t>All the bes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2071800" y="571680"/>
            <a:ext cx="521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Bernard MT Condensed"/>
              </a:rPr>
              <a:t>Some Opening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642960" y="257184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Successful people have made a decision to be successfu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642960" y="3500280"/>
            <a:ext cx="8001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714240" y="4429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Successful is a journey not a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714240" y="5286240"/>
            <a:ext cx="8001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62080" y="1974960"/>
            <a:ext cx="8369280" cy="14014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2571840" y="642960"/>
            <a:ext cx="42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Bernard MT Condensed"/>
              </a:rPr>
              <a:t>Learn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"/>
          <p:cNvSpPr/>
          <p:nvPr/>
        </p:nvSpPr>
        <p:spPr>
          <a:xfrm>
            <a:off x="642960" y="178596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nard MT Condensed"/>
              </a:rPr>
              <a:t>The process of acquisition of new </a:t>
            </a:r>
            <a:r>
              <a:rPr b="1" lang="en-US" sz="2800" spc="-1" strike="noStrike">
                <a:solidFill>
                  <a:srgbClr val="002060"/>
                </a:solidFill>
                <a:latin typeface="Bernard MT Condensed"/>
              </a:rPr>
              <a:t>knowledge, skills, attitudes, values, behaviours,  preferences, &amp; understanding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685800" y="43434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Bernard MT Condensed"/>
              </a:rPr>
              <a:t>You should be able to demonstrate such new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533520" y="3429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Bernard MT Condensed"/>
              </a:rPr>
              <a:t>It is </a:t>
            </a:r>
            <a:r>
              <a:rPr b="1" lang="en-US" sz="2800" spc="-1" strike="noStrike">
                <a:solidFill>
                  <a:srgbClr val="c00000"/>
                </a:solidFill>
                <a:latin typeface="Bernard MT Condensed"/>
              </a:rPr>
              <a:t>not</a:t>
            </a:r>
            <a:r>
              <a:rPr b="1" lang="en-US" sz="2800" spc="-1" strike="noStrike">
                <a:solidFill>
                  <a:srgbClr val="002060"/>
                </a:solidFill>
                <a:latin typeface="Bernard MT Condensed"/>
              </a:rPr>
              <a:t> only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44600" y="1974960"/>
            <a:ext cx="8053200" cy="13906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3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Georgia"/>
              </a:rPr>
              <a:t>“ </a:t>
            </a:r>
            <a:r>
              <a:rPr b="0" lang="en-US" sz="3200" spc="-1" strike="noStrike">
                <a:solidFill>
                  <a:srgbClr val="424456"/>
                </a:solidFill>
                <a:latin typeface="Georgia"/>
              </a:rPr>
              <a:t>Reading with a purpose i.e to obtain specific answers to specific questions”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84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Georgia"/>
              </a:rPr>
              <a:t>                                                                     </a:t>
            </a:r>
            <a:r>
              <a:rPr b="0" i="1" lang="en-US" sz="3200" spc="-1" strike="noStrike">
                <a:solidFill>
                  <a:srgbClr val="424456"/>
                </a:solidFill>
                <a:latin typeface="Georgia"/>
              </a:rPr>
              <a:t>Ailan Mora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1071720" y="1357200"/>
            <a:ext cx="714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&amp; studying 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undergradua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different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&amp; studying 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econdary school stude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214200" y="42876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University vs. secondary schoo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85840" y="1214280"/>
          <a:ext cx="8501040" cy="5954760"/>
        </p:xfrm>
        <a:graphic>
          <a:graphicData uri="http://schemas.openxmlformats.org/drawingml/2006/table">
            <a:tbl>
              <a:tblPr/>
              <a:tblGrid>
                <a:gridCol w="1309680"/>
                <a:gridCol w="2833560"/>
                <a:gridCol w="4357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Secondary edu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Undergraduate edu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inly from teachers &amp; boo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t only from teachers. Books, internet, peers are also very impor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ri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ore knowledge orien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t only knowledge. In a professional course there are skills and behavi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o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o pass an ex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t only to pass an exam, but mainly to train for a profession (especially in a professional  cour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ype of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assive and superficial mostly (unfortunatel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ctive and deep learning. Learning needs to be with you for a life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inly  books &amp; teacher’s no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ectures, small group discussions, computer assisted learning, library, internet, clinical skills sessions, labora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ritten ex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ritten exams, practicals (OSPE), vivas (oral exams), clinical exams (e.g. &amp; OS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10:05:42Z</dcterms:created>
  <dc:creator>NURULHUDA</dc:creator>
  <dc:description/>
  <dc:language>en-US</dc:language>
  <cp:lastModifiedBy>Prof Hamza</cp:lastModifiedBy>
  <dcterms:modified xsi:type="dcterms:W3CDTF">2015-09-06T05:59:15Z</dcterms:modified>
  <cp:revision>101</cp:revision>
  <dc:subject/>
  <dc:title>PROFESSIONALISM        IN MEDICAL EDUCATION </dc:title>
</cp:coreProperties>
</file>