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1.png" ContentType="image/png"/>
  <Override PartName="/ppt/media/image71.wmf" ContentType="image/x-wmf"/>
  <Override PartName="/ppt/media/image29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.jpeg" ContentType="image/jpeg"/>
  <Override PartName="/ppt/media/image73.wmf" ContentType="image/x-wmf"/>
  <Override PartName="/ppt/media/image24.wmf" ContentType="image/x-wmf"/>
  <Override PartName="/ppt/media/image61.wmf" ContentType="image/x-wmf"/>
  <Override PartName="/ppt/media/image72.wmf" ContentType="image/x-wmf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31.wmf" ContentType="image/x-wmf"/>
  <Override PartName="/ppt/media/image74.png" ContentType="image/png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B684-6F47-4E1E-81D3-A78182ED8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DAE6-678E-409B-97BE-0204DCF00F2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697F-925F-4A47-866B-53510D25072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is reduces our ability to work effectively with other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CAFA-DDFB-4EA0-9D2A-C5B313D66EF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A493-45FA-40AA-BB46-16DF2C0F5B5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96F2-AB4D-440D-896C-20E469FBC3D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B167-ED52-4854-AB18-68869FEA31D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78B8-CC5D-4313-AD63-45598482363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3F23-96C6-4DB5-A668-184CB0A5AD5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04B7-B441-47F5-9CA6-A4B076FEEE0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2B46-0184-4E24-BB46-7E3B7B23A51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48A7-4BD4-426D-A6FA-AA87EB2EAD1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7348-8C55-4025-A756-CF0E1E312A0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814E-1E14-4619-AA28-0651FB97CA5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4BE4-9CE2-4B73-8DBA-2CCFF4E3387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738D-EA91-4993-A076-7DA2423A2AC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9457-57D4-44DF-88AA-E39B095BF33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F06C-5360-4DFF-902A-EEE1E4BBE94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7224-0490-49CD-B607-1079EBB7BE4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A795-3328-4B55-B0F2-7F9F6536B0E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F176-45E9-4CB0-B5DF-B448118DBEA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68C8-88E5-4DE0-BD24-B0F2895A355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A0DE-928C-491E-8200-3B7EFDB3D88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92CC-79EA-4A59-ACD8-27D48E1E736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6EA0-107E-4BE0-A4AD-113D5CAD8EC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439F-50E3-44FB-ACB4-7980EAA3AFE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41DD-6F61-4000-8F32-DE715747649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8EB7-B3F4-4694-A116-297783721E2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D80A-2A34-4B92-906C-584A80DF978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FC64-64EA-4F2F-B997-4339C7FC676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6AA-07B8-48F1-9EA8-BB1EF5F5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CCC-E895-4E10-8659-CF02A133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F73D7-1206-4671-9F75-F345C7A4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C77A0-1C2C-42FB-9C7F-2026D0E9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9584E-F933-4322-A1FC-D3F82F34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958E87-CF1E-47A6-8B70-67F481E2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47EED6-31E1-4548-A875-BDCD2F30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C8F86-14A3-482C-AA01-E5897CDB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D4613-FCE4-4FEC-AB30-53689E6A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234166-23F0-49E9-8874-EFA60DB2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D2AB2B-C1BC-4647-A22C-A76A5A28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D30A9-4195-4B0A-9898-C5CA05CF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762C-B4AE-4D1B-A54D-74BF5AC9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EEBE1C-A0CE-4A2C-8201-CFFDF7B5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A7EE65-479E-4F10-9232-1BFACAE8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C7782-AB1B-47FB-957A-D7CA31D8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68F2C-B411-4C3A-ACC9-B91149F7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31B7CE-AD8B-42E9-9A4E-BCE7598F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001F28-D21C-4525-AAA4-E5873B4C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AB3F75-0CEA-436D-AE24-C8CF6224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3E72A-651C-4F65-AD93-E1BF8967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1D61B-ADB8-4636-A316-9AFD7118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A5DE8C-18FF-4DA1-A514-2887FF10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0C5-7F4B-4289-BDF8-00B87D2C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1AD5A-2F7B-4D6B-B8EA-FDAD8E91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D862C-BE4B-44E1-B5FA-1E43E1AE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B21DF-F870-436C-BD9D-08CD9F12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B5E61-10D8-4162-9BDF-6A86B714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5D500-D6F1-4CF9-A86E-4363BCBB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C3BA0-5773-4893-B9E2-6E90B7FE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36D65-930B-4FA1-8EA6-C7C567B1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8F4D6-1249-4A73-B2B1-B37AD0C0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E4414-AEDB-4D62-B2BC-60A0551C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6D8B9-D35C-4855-8061-115B9781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13FE-BC23-47C9-AF6F-957AA8A9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98B87-1829-4461-B6AE-5837EB46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71F8B-0254-46B6-9D27-8C2BD376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AE4A4-8982-48A2-912F-4C37B3B5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B35F94-BBA5-433F-AEE5-A6DAA594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5DF0E-04BD-4034-93E9-C2B5EEAB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D39E53-4C0D-4178-8356-8DBB4CC1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7F4532-92E5-4C5B-BCFF-7D453360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8A2C9-8F03-4C6F-B672-215275C4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DA81D-CA40-4FE1-A0AF-5826A874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26E58-AA10-41B9-B902-07138C64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06D3-24BB-442C-B477-5A0DDD4C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F2AED1-FC7E-4A94-83C1-92E6B604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019F75-3547-444C-AD2D-417AB956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4510DD-C32A-412D-99A0-E9360E27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0CB4B-0436-43D7-9392-A1B63BA3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3F5F1-4C8C-46F1-A027-113E712E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7BBF-9AA4-4FA5-9523-166ADE79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9260-0960-43AD-9A19-9D8ABF59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586A-3A59-4CCA-8048-2C1D45BB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CFCA-41F2-48A7-80B0-07C9D825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0642-C9E9-4D81-A8C3-BF6913A6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FB7-39F7-4DC2-8605-7E5CDED1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0BF1-811C-47B4-858A-40453D1B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08F7-8D61-433A-9F01-628247A5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2EA7-725E-443E-87A5-DEACAAD2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79D6-BEFD-480C-8FDF-1300E026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A15B-D9FF-45E0-9596-BD289C2A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0EA50-A5F2-42E4-8E8E-9E531287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D6724-22D1-4565-877C-8A46FB28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CEB48-1FD0-44E6-8F96-77B0DE8E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C7166-4556-4063-A53A-BC562EC6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E3637-2FBA-4636-8BB1-14E2A984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88D6-82D9-42FF-A9D2-A9A93526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804E7-A82A-49CC-9961-500D8161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469B1-D242-4B68-9E07-8F06B84D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ADF75-5DBA-41FD-84E8-CC800C93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70539-D86B-43BA-8D61-1314C4AA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365B7-6D69-435A-B292-5CE7CABE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FDA8B-CD0A-495F-8D19-5C51C60C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D75F0-CBA9-4480-8B91-6981BC04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EDFF7-02F1-4926-AAAB-C3DC986D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CD367-96CC-40D1-B6AD-4602D305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A2848-E270-4605-9829-E3A0F3AC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4C45-416E-4B53-866A-855CF217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1922E-9A54-478F-8858-644AC8FA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7DCDD-0CED-4DE6-B300-FD9F2878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8F023-F4EB-47C5-B0D3-D87C9890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A6209-59E8-4981-85AC-19B48729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40296-C902-4F7E-A079-17F3BBC2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0BF6C-D4AF-43C9-8C6B-A605D5A9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32AF8-9B28-45C8-B8A1-105C7EDF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7E00B-793A-48FF-B4A1-07021B53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08471-FFDC-4534-AAEF-C1123211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8BC8F-0D4D-42AE-886B-5B6A625D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9616-F227-4E2E-AF2E-D81C7E9B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35B01-C670-4DEB-8D0F-0BEC2CFA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5032D-C264-4864-8F55-CEBE9633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3AD09-E6AA-4EFE-8C34-06921307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C17DC-88BF-400B-8660-E9294BEE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AFEE9-A20F-42FB-B5E3-D4E81B80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46A39-CFBB-4821-BB16-4587B302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4241E-97D3-4076-86D3-E4286D31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96F42-7AF4-4E9A-AD30-B827F560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D3DB2-B4BD-4207-90D9-49C0961E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0C00D-34AC-468F-8714-E013A31C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3F99-98FA-48A8-A199-2700C7DB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1B354-7BE7-4A35-ABAB-65649138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9F620-A3BF-47EF-83F1-5F956809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7B8FA-84A4-47E8-AD4A-DA96A71F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C0E19-E31B-4899-B73B-BCBB0EA8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D8076-49B7-4F17-8A78-A42C60C6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E42CA-4123-40F3-AF4D-954EF188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27CAC-2A87-4457-B209-59538BCC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C66C5-29F2-4F43-93A6-C4321958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0A5DF-C52B-4880-8CFA-6831274B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88BD0-3668-4095-B213-0E7CEC0C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FBD4-A540-4362-BAC6-C7E6072B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CCEF5-4020-4933-AFED-FE56F830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8901B-8115-45CB-A70A-FC3BBD98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F93A2-4342-443A-8CD8-ABC237DD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BCB96-FAB9-4C92-A5C1-8BCB9882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6D8DB-1427-40AD-84EA-B12014E0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329CB-F545-4330-BE75-B8ADB0B3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9EBA7-B494-410E-95B4-87F02295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9F5D0-F998-4D14-B48C-111C9619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1D2D1-786A-4918-ABD0-75511570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34DD5-6C25-4236-9AC0-D3EA588D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ACC-CFFE-4DBC-9F60-6D5A3D5E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4AACA-CD0C-45DE-B104-475D1FCC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7A641-CC7F-4F50-92B9-0864E151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63209-C0F9-44BF-8155-FDAE71A6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93225-B99B-436A-9A94-09ECF43F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8FB06-215C-41C8-A9B0-9F1F6FB7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13AD4-117E-4EE3-ADF5-CE6C7D23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60194-9DE1-4ECA-AE6D-9B8C3B37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D5B20-06C3-4134-BA80-2C980B39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DA912-8469-405E-83B0-DEE291AE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318B4-3881-4C8E-B6E4-5E88DBD4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61A-3B15-4280-AFDC-F2B184E7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C882B-8241-4D8E-9A30-F9AE10F1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CB8AF-48FB-4DAC-9AFF-11C79C14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75D16-095D-4878-969A-46F579B2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80108-D6A7-47D1-B6F9-7BAB586A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D882D-BC9D-45B5-A3A4-79FBFA9F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EE333-C165-48ED-AB3E-EFD4F091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EB4C3-3B49-4470-B1E3-D36465E9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FC2347-DA8E-484B-9391-BEEDB2D1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69C1B5-ABBC-45C6-9F3B-62AF9A3D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945D8-B4AA-4B5A-AFEB-09175B3E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B410-09FE-4334-AD4E-9AA01FFABC33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9CDE-4074-4CF6-85B8-965FB2A81915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728F-CB62-4133-A455-91AEAA754FD6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8170-9341-4816-A7A9-41AD85F542A1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5C36-4881-4B2F-A749-5BA3FB4B3F13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0730-043D-4464-A6A3-F5F574099A50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E354-4F29-4682-8AB4-93F25B48B524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4940-7033-41F3-A218-A66D1A87C59B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B670-9652-44DE-A86E-C61E09CA7202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D605-43DE-41DB-9026-E61A1686D5CA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793F-0083-45E2-8C86-F393C6BAE3B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895F-6284-48B9-87C4-7EB6798AED00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wmf"/><Relationship Id="rId17" Type="http://schemas.openxmlformats.org/officeDocument/2006/relationships/image" Target="../media/image19.wmf"/><Relationship Id="rId18" Type="http://schemas.openxmlformats.org/officeDocument/2006/relationships/image" Target="../media/image20.wmf"/><Relationship Id="rId19" Type="http://schemas.openxmlformats.org/officeDocument/2006/relationships/image" Target="../media/image21.wmf"/><Relationship Id="rId20" Type="http://schemas.openxmlformats.org/officeDocument/2006/relationships/image" Target="../media/image22.wmf"/><Relationship Id="rId21" Type="http://schemas.openxmlformats.org/officeDocument/2006/relationships/image" Target="../media/image23.wmf"/><Relationship Id="rId22" Type="http://schemas.openxmlformats.org/officeDocument/2006/relationships/image" Target="../media/image24.wmf"/><Relationship Id="rId23" Type="http://schemas.openxmlformats.org/officeDocument/2006/relationships/image" Target="../media/image25.wmf"/><Relationship Id="rId24" Type="http://schemas.openxmlformats.org/officeDocument/2006/relationships/image" Target="../media/image26.wmf"/><Relationship Id="rId25" Type="http://schemas.openxmlformats.org/officeDocument/2006/relationships/image" Target="../media/image27.wmf"/><Relationship Id="rId26" Type="http://schemas.openxmlformats.org/officeDocument/2006/relationships/image" Target="../media/image28.wmf"/><Relationship Id="rId27" Type="http://schemas.openxmlformats.org/officeDocument/2006/relationships/image" Target="../media/image29.wmf"/><Relationship Id="rId28" Type="http://schemas.openxmlformats.org/officeDocument/2006/relationships/image" Target="../media/image30.wmf"/><Relationship Id="rId29" Type="http://schemas.openxmlformats.org/officeDocument/2006/relationships/image" Target="../media/image31.wmf"/><Relationship Id="rId30" Type="http://schemas.openxmlformats.org/officeDocument/2006/relationships/image" Target="../media/image32.wmf"/><Relationship Id="rId31" Type="http://schemas.openxmlformats.org/officeDocument/2006/relationships/image" Target="../media/image33.wmf"/><Relationship Id="rId32" Type="http://schemas.openxmlformats.org/officeDocument/2006/relationships/image" Target="../media/image34.wmf"/><Relationship Id="rId33" Type="http://schemas.openxmlformats.org/officeDocument/2006/relationships/image" Target="../media/image35.wmf"/><Relationship Id="rId34" Type="http://schemas.openxmlformats.org/officeDocument/2006/relationships/image" Target="../media/image36.wmf"/><Relationship Id="rId35" Type="http://schemas.openxmlformats.org/officeDocument/2006/relationships/image" Target="../media/image37.wmf"/><Relationship Id="rId36" Type="http://schemas.openxmlformats.org/officeDocument/2006/relationships/slideLayout" Target="../slideLayouts/slideLayout85.xml"/><Relationship Id="rId3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image" Target="../media/image46.wmf"/><Relationship Id="rId10" Type="http://schemas.openxmlformats.org/officeDocument/2006/relationships/image" Target="../media/image47.wmf"/><Relationship Id="rId11" Type="http://schemas.openxmlformats.org/officeDocument/2006/relationships/image" Target="../media/image48.wmf"/><Relationship Id="rId12" Type="http://schemas.openxmlformats.org/officeDocument/2006/relationships/image" Target="../media/image49.wmf"/><Relationship Id="rId13" Type="http://schemas.openxmlformats.org/officeDocument/2006/relationships/image" Target="../media/image50.wmf"/><Relationship Id="rId14" Type="http://schemas.openxmlformats.org/officeDocument/2006/relationships/image" Target="../media/image51.wmf"/><Relationship Id="rId15" Type="http://schemas.openxmlformats.org/officeDocument/2006/relationships/image" Target="../media/image52.wmf"/><Relationship Id="rId16" Type="http://schemas.openxmlformats.org/officeDocument/2006/relationships/image" Target="../media/image53.wmf"/><Relationship Id="rId17" Type="http://schemas.openxmlformats.org/officeDocument/2006/relationships/image" Target="../media/image54.wmf"/><Relationship Id="rId18" Type="http://schemas.openxmlformats.org/officeDocument/2006/relationships/image" Target="../media/image55.wmf"/><Relationship Id="rId19" Type="http://schemas.openxmlformats.org/officeDocument/2006/relationships/image" Target="../media/image56.wmf"/><Relationship Id="rId20" Type="http://schemas.openxmlformats.org/officeDocument/2006/relationships/image" Target="../media/image57.wmf"/><Relationship Id="rId21" Type="http://schemas.openxmlformats.org/officeDocument/2006/relationships/image" Target="../media/image58.wmf"/><Relationship Id="rId22" Type="http://schemas.openxmlformats.org/officeDocument/2006/relationships/image" Target="../media/image59.wmf"/><Relationship Id="rId23" Type="http://schemas.openxmlformats.org/officeDocument/2006/relationships/image" Target="../media/image60.wmf"/><Relationship Id="rId24" Type="http://schemas.openxmlformats.org/officeDocument/2006/relationships/image" Target="../media/image61.wmf"/><Relationship Id="rId25" Type="http://schemas.openxmlformats.org/officeDocument/2006/relationships/image" Target="../media/image62.wmf"/><Relationship Id="rId26" Type="http://schemas.openxmlformats.org/officeDocument/2006/relationships/image" Target="../media/image63.wmf"/><Relationship Id="rId27" Type="http://schemas.openxmlformats.org/officeDocument/2006/relationships/image" Target="../media/image64.wmf"/><Relationship Id="rId28" Type="http://schemas.openxmlformats.org/officeDocument/2006/relationships/image" Target="../media/image65.wmf"/><Relationship Id="rId29" Type="http://schemas.openxmlformats.org/officeDocument/2006/relationships/image" Target="../media/image66.wmf"/><Relationship Id="rId30" Type="http://schemas.openxmlformats.org/officeDocument/2006/relationships/image" Target="../media/image67.wmf"/><Relationship Id="rId31" Type="http://schemas.openxmlformats.org/officeDocument/2006/relationships/image" Target="../media/image68.wmf"/><Relationship Id="rId32" Type="http://schemas.openxmlformats.org/officeDocument/2006/relationships/image" Target="../media/image69.wmf"/><Relationship Id="rId33" Type="http://schemas.openxmlformats.org/officeDocument/2006/relationships/image" Target="../media/image70.wmf"/><Relationship Id="rId34" Type="http://schemas.openxmlformats.org/officeDocument/2006/relationships/image" Target="../media/image71.wmf"/><Relationship Id="rId35" Type="http://schemas.openxmlformats.org/officeDocument/2006/relationships/image" Target="../media/image72.wmf"/><Relationship Id="rId36" Type="http://schemas.openxmlformats.org/officeDocument/2006/relationships/slideLayout" Target="../slideLayouts/slideLayout85.xml"/><Relationship Id="rId3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3857760"/>
            <a:ext cx="640080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Georgia"/>
              </a:rPr>
              <a:t>LEARNING SKILL COURS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Georgia"/>
              </a:rPr>
              <a:t>DEPT. OF MEDICAL EDUCA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Georgia"/>
              </a:rPr>
              <a:t>COLLEGE OF MEDICIN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53735"/>
                </a:solidFill>
                <a:latin typeface="Georgia"/>
              </a:rPr>
              <a:t>Stress Management</a:t>
            </a:r>
            <a:endParaRPr b="0" lang="en-US" sz="4200" spc="-1" strike="noStrike">
              <a:solidFill>
                <a:srgbClr val="9d2512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Mechanisms of stress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ight-or-Flight </a:t>
            </a: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(Cannon in 1932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When an animal experiences a shock or perceives a threat, it quickly releases hormones that help it to surviv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These hormones help us to run faster and fight hard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Mechanisms of stress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6760"/>
            <a:ext cx="85042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wer, but little control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it difficult to execute precise, controlled skil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We find ourselves more accident-prone and less able to make good decis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Is easy to think that this fight-or-flight, or adrenaline, response is only triggered by obviously life-threatening dang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4"/>
          <p:cNvSpPr/>
          <p:nvPr/>
        </p:nvSpPr>
        <p:spPr>
          <a:xfrm>
            <a:off x="1981080" y="2133720"/>
            <a:ext cx="6705720" cy="4114800"/>
          </a:xfrm>
          <a:prstGeom prst="rect">
            <a:avLst/>
          </a:prstGeom>
          <a:solidFill>
            <a:srgbClr val="0000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4"/>
          <p:cNvSpPr/>
          <p:nvPr/>
        </p:nvSpPr>
        <p:spPr>
          <a:xfrm>
            <a:off x="4076640" y="2216160"/>
            <a:ext cx="0" cy="400680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5"/>
          <p:cNvSpPr/>
          <p:nvPr/>
        </p:nvSpPr>
        <p:spPr>
          <a:xfrm>
            <a:off x="6477120" y="2216160"/>
            <a:ext cx="0" cy="400680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6"/>
          <p:cNvSpPr/>
          <p:nvPr/>
        </p:nvSpPr>
        <p:spPr>
          <a:xfrm>
            <a:off x="2006640" y="4095720"/>
            <a:ext cx="6616800" cy="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2196000" y="1452600"/>
            <a:ext cx="1856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ag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larm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4736520" y="1452600"/>
            <a:ext cx="1385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6969960" y="1452600"/>
            <a:ext cx="1414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ag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xhau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0"/>
          <p:cNvSpPr/>
          <p:nvPr/>
        </p:nvSpPr>
        <p:spPr>
          <a:xfrm>
            <a:off x="526680" y="3349800"/>
            <a:ext cx="1385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11"/>
          <p:cNvSpPr/>
          <p:nvPr/>
        </p:nvSpPr>
        <p:spPr>
          <a:xfrm>
            <a:off x="2235240" y="3701880"/>
            <a:ext cx="1843200" cy="1017720"/>
          </a:xfrm>
          <a:custGeom>
            <a:avLst/>
            <a:gdLst>
              <a:gd name="textAreaLeft" fmla="*/ 0 w 1843200"/>
              <a:gd name="textAreaRight" fmla="*/ 1843560 w 1843200"/>
              <a:gd name="textAreaTop" fmla="*/ 0 h 1017720"/>
              <a:gd name="textAreaBottom" fmla="*/ 1018080 h 1017720"/>
            </a:gdLst>
            <a:ahLst/>
            <a:rect l="textAreaLeft" t="textAreaTop" r="textAreaRight" b="textAreaBottom"/>
            <a:pathLst>
              <a:path w="1161" h="641">
                <a:moveTo>
                  <a:pt x="0" y="232"/>
                </a:moveTo>
                <a:lnTo>
                  <a:pt x="0" y="240"/>
                </a:lnTo>
                <a:lnTo>
                  <a:pt x="0" y="248"/>
                </a:lnTo>
                <a:lnTo>
                  <a:pt x="8" y="260"/>
                </a:lnTo>
                <a:lnTo>
                  <a:pt x="16" y="268"/>
                </a:lnTo>
                <a:lnTo>
                  <a:pt x="20" y="276"/>
                </a:lnTo>
                <a:lnTo>
                  <a:pt x="24" y="284"/>
                </a:lnTo>
                <a:lnTo>
                  <a:pt x="24" y="292"/>
                </a:lnTo>
                <a:lnTo>
                  <a:pt x="28" y="300"/>
                </a:lnTo>
                <a:lnTo>
                  <a:pt x="32" y="308"/>
                </a:lnTo>
                <a:lnTo>
                  <a:pt x="44" y="316"/>
                </a:lnTo>
                <a:lnTo>
                  <a:pt x="48" y="324"/>
                </a:lnTo>
                <a:lnTo>
                  <a:pt x="56" y="332"/>
                </a:lnTo>
                <a:lnTo>
                  <a:pt x="64" y="340"/>
                </a:lnTo>
                <a:lnTo>
                  <a:pt x="72" y="356"/>
                </a:lnTo>
                <a:lnTo>
                  <a:pt x="76" y="368"/>
                </a:lnTo>
                <a:lnTo>
                  <a:pt x="80" y="376"/>
                </a:lnTo>
                <a:lnTo>
                  <a:pt x="84" y="384"/>
                </a:lnTo>
                <a:lnTo>
                  <a:pt x="88" y="392"/>
                </a:lnTo>
                <a:lnTo>
                  <a:pt x="96" y="404"/>
                </a:lnTo>
                <a:lnTo>
                  <a:pt x="104" y="412"/>
                </a:lnTo>
                <a:lnTo>
                  <a:pt x="108" y="420"/>
                </a:lnTo>
                <a:lnTo>
                  <a:pt x="120" y="436"/>
                </a:lnTo>
                <a:lnTo>
                  <a:pt x="132" y="448"/>
                </a:lnTo>
                <a:lnTo>
                  <a:pt x="136" y="456"/>
                </a:lnTo>
                <a:lnTo>
                  <a:pt x="144" y="464"/>
                </a:lnTo>
                <a:lnTo>
                  <a:pt x="160" y="484"/>
                </a:lnTo>
                <a:lnTo>
                  <a:pt x="164" y="492"/>
                </a:lnTo>
                <a:lnTo>
                  <a:pt x="168" y="500"/>
                </a:lnTo>
                <a:lnTo>
                  <a:pt x="176" y="504"/>
                </a:lnTo>
                <a:lnTo>
                  <a:pt x="180" y="512"/>
                </a:lnTo>
                <a:lnTo>
                  <a:pt x="192" y="528"/>
                </a:lnTo>
                <a:lnTo>
                  <a:pt x="200" y="532"/>
                </a:lnTo>
                <a:lnTo>
                  <a:pt x="208" y="540"/>
                </a:lnTo>
                <a:lnTo>
                  <a:pt x="216" y="548"/>
                </a:lnTo>
                <a:lnTo>
                  <a:pt x="224" y="552"/>
                </a:lnTo>
                <a:lnTo>
                  <a:pt x="232" y="564"/>
                </a:lnTo>
                <a:lnTo>
                  <a:pt x="240" y="564"/>
                </a:lnTo>
                <a:lnTo>
                  <a:pt x="260" y="576"/>
                </a:lnTo>
                <a:lnTo>
                  <a:pt x="268" y="580"/>
                </a:lnTo>
                <a:lnTo>
                  <a:pt x="280" y="588"/>
                </a:lnTo>
                <a:lnTo>
                  <a:pt x="288" y="592"/>
                </a:lnTo>
                <a:lnTo>
                  <a:pt x="296" y="596"/>
                </a:lnTo>
                <a:lnTo>
                  <a:pt x="304" y="600"/>
                </a:lnTo>
                <a:lnTo>
                  <a:pt x="308" y="608"/>
                </a:lnTo>
                <a:lnTo>
                  <a:pt x="324" y="612"/>
                </a:lnTo>
                <a:lnTo>
                  <a:pt x="332" y="616"/>
                </a:lnTo>
                <a:lnTo>
                  <a:pt x="356" y="624"/>
                </a:lnTo>
                <a:lnTo>
                  <a:pt x="368" y="628"/>
                </a:lnTo>
                <a:lnTo>
                  <a:pt x="376" y="632"/>
                </a:lnTo>
                <a:lnTo>
                  <a:pt x="384" y="632"/>
                </a:lnTo>
                <a:lnTo>
                  <a:pt x="392" y="636"/>
                </a:lnTo>
                <a:lnTo>
                  <a:pt x="404" y="636"/>
                </a:lnTo>
                <a:lnTo>
                  <a:pt x="412" y="636"/>
                </a:lnTo>
                <a:lnTo>
                  <a:pt x="420" y="640"/>
                </a:lnTo>
                <a:lnTo>
                  <a:pt x="432" y="640"/>
                </a:lnTo>
                <a:lnTo>
                  <a:pt x="440" y="640"/>
                </a:lnTo>
                <a:lnTo>
                  <a:pt x="452" y="640"/>
                </a:lnTo>
                <a:lnTo>
                  <a:pt x="460" y="640"/>
                </a:lnTo>
                <a:lnTo>
                  <a:pt x="468" y="640"/>
                </a:lnTo>
                <a:lnTo>
                  <a:pt x="480" y="640"/>
                </a:lnTo>
                <a:lnTo>
                  <a:pt x="488" y="636"/>
                </a:lnTo>
                <a:lnTo>
                  <a:pt x="496" y="636"/>
                </a:lnTo>
                <a:lnTo>
                  <a:pt x="516" y="640"/>
                </a:lnTo>
                <a:lnTo>
                  <a:pt x="524" y="640"/>
                </a:lnTo>
                <a:lnTo>
                  <a:pt x="540" y="632"/>
                </a:lnTo>
                <a:lnTo>
                  <a:pt x="548" y="632"/>
                </a:lnTo>
                <a:lnTo>
                  <a:pt x="560" y="632"/>
                </a:lnTo>
                <a:lnTo>
                  <a:pt x="572" y="632"/>
                </a:lnTo>
                <a:lnTo>
                  <a:pt x="580" y="632"/>
                </a:lnTo>
                <a:lnTo>
                  <a:pt x="588" y="632"/>
                </a:lnTo>
                <a:lnTo>
                  <a:pt x="596" y="628"/>
                </a:lnTo>
                <a:lnTo>
                  <a:pt x="604" y="620"/>
                </a:lnTo>
                <a:lnTo>
                  <a:pt x="612" y="616"/>
                </a:lnTo>
                <a:lnTo>
                  <a:pt x="620" y="612"/>
                </a:lnTo>
                <a:lnTo>
                  <a:pt x="628" y="608"/>
                </a:lnTo>
                <a:lnTo>
                  <a:pt x="636" y="596"/>
                </a:lnTo>
                <a:lnTo>
                  <a:pt x="648" y="588"/>
                </a:lnTo>
                <a:lnTo>
                  <a:pt x="656" y="584"/>
                </a:lnTo>
                <a:lnTo>
                  <a:pt x="664" y="580"/>
                </a:lnTo>
                <a:lnTo>
                  <a:pt x="668" y="572"/>
                </a:lnTo>
                <a:lnTo>
                  <a:pt x="676" y="564"/>
                </a:lnTo>
                <a:lnTo>
                  <a:pt x="680" y="556"/>
                </a:lnTo>
                <a:lnTo>
                  <a:pt x="688" y="548"/>
                </a:lnTo>
                <a:lnTo>
                  <a:pt x="696" y="544"/>
                </a:lnTo>
                <a:lnTo>
                  <a:pt x="704" y="536"/>
                </a:lnTo>
                <a:lnTo>
                  <a:pt x="712" y="524"/>
                </a:lnTo>
                <a:lnTo>
                  <a:pt x="720" y="520"/>
                </a:lnTo>
                <a:lnTo>
                  <a:pt x="724" y="512"/>
                </a:lnTo>
                <a:lnTo>
                  <a:pt x="732" y="508"/>
                </a:lnTo>
                <a:lnTo>
                  <a:pt x="736" y="500"/>
                </a:lnTo>
                <a:lnTo>
                  <a:pt x="748" y="492"/>
                </a:lnTo>
                <a:lnTo>
                  <a:pt x="752" y="484"/>
                </a:lnTo>
                <a:lnTo>
                  <a:pt x="764" y="468"/>
                </a:lnTo>
                <a:lnTo>
                  <a:pt x="772" y="464"/>
                </a:lnTo>
                <a:lnTo>
                  <a:pt x="780" y="452"/>
                </a:lnTo>
                <a:lnTo>
                  <a:pt x="788" y="444"/>
                </a:lnTo>
                <a:lnTo>
                  <a:pt x="792" y="436"/>
                </a:lnTo>
                <a:lnTo>
                  <a:pt x="804" y="420"/>
                </a:lnTo>
                <a:lnTo>
                  <a:pt x="812" y="416"/>
                </a:lnTo>
                <a:lnTo>
                  <a:pt x="816" y="400"/>
                </a:lnTo>
                <a:lnTo>
                  <a:pt x="824" y="392"/>
                </a:lnTo>
                <a:lnTo>
                  <a:pt x="832" y="384"/>
                </a:lnTo>
                <a:lnTo>
                  <a:pt x="836" y="376"/>
                </a:lnTo>
                <a:lnTo>
                  <a:pt x="840" y="368"/>
                </a:lnTo>
                <a:lnTo>
                  <a:pt x="848" y="360"/>
                </a:lnTo>
                <a:lnTo>
                  <a:pt x="856" y="352"/>
                </a:lnTo>
                <a:lnTo>
                  <a:pt x="864" y="344"/>
                </a:lnTo>
                <a:lnTo>
                  <a:pt x="872" y="328"/>
                </a:lnTo>
                <a:lnTo>
                  <a:pt x="880" y="324"/>
                </a:lnTo>
                <a:lnTo>
                  <a:pt x="892" y="308"/>
                </a:lnTo>
                <a:lnTo>
                  <a:pt x="900" y="300"/>
                </a:lnTo>
                <a:lnTo>
                  <a:pt x="908" y="292"/>
                </a:lnTo>
                <a:lnTo>
                  <a:pt x="912" y="284"/>
                </a:lnTo>
                <a:lnTo>
                  <a:pt x="916" y="276"/>
                </a:lnTo>
                <a:lnTo>
                  <a:pt x="936" y="260"/>
                </a:lnTo>
                <a:lnTo>
                  <a:pt x="940" y="252"/>
                </a:lnTo>
                <a:lnTo>
                  <a:pt x="948" y="248"/>
                </a:lnTo>
                <a:lnTo>
                  <a:pt x="952" y="240"/>
                </a:lnTo>
                <a:lnTo>
                  <a:pt x="960" y="232"/>
                </a:lnTo>
                <a:lnTo>
                  <a:pt x="968" y="224"/>
                </a:lnTo>
                <a:lnTo>
                  <a:pt x="976" y="220"/>
                </a:lnTo>
                <a:lnTo>
                  <a:pt x="980" y="212"/>
                </a:lnTo>
                <a:lnTo>
                  <a:pt x="988" y="204"/>
                </a:lnTo>
                <a:lnTo>
                  <a:pt x="996" y="196"/>
                </a:lnTo>
                <a:lnTo>
                  <a:pt x="1004" y="192"/>
                </a:lnTo>
                <a:lnTo>
                  <a:pt x="1008" y="184"/>
                </a:lnTo>
                <a:lnTo>
                  <a:pt x="1020" y="176"/>
                </a:lnTo>
                <a:lnTo>
                  <a:pt x="1024" y="168"/>
                </a:lnTo>
                <a:lnTo>
                  <a:pt x="1036" y="156"/>
                </a:lnTo>
                <a:lnTo>
                  <a:pt x="1040" y="148"/>
                </a:lnTo>
                <a:lnTo>
                  <a:pt x="1048" y="144"/>
                </a:lnTo>
                <a:lnTo>
                  <a:pt x="1052" y="136"/>
                </a:lnTo>
                <a:lnTo>
                  <a:pt x="1064" y="120"/>
                </a:lnTo>
                <a:lnTo>
                  <a:pt x="1068" y="112"/>
                </a:lnTo>
                <a:lnTo>
                  <a:pt x="1072" y="104"/>
                </a:lnTo>
                <a:lnTo>
                  <a:pt x="1084" y="96"/>
                </a:lnTo>
                <a:lnTo>
                  <a:pt x="1088" y="88"/>
                </a:lnTo>
                <a:lnTo>
                  <a:pt x="1096" y="76"/>
                </a:lnTo>
                <a:lnTo>
                  <a:pt x="1104" y="68"/>
                </a:lnTo>
                <a:lnTo>
                  <a:pt x="1112" y="52"/>
                </a:lnTo>
                <a:lnTo>
                  <a:pt x="1120" y="48"/>
                </a:lnTo>
                <a:lnTo>
                  <a:pt x="1128" y="40"/>
                </a:lnTo>
                <a:lnTo>
                  <a:pt x="1128" y="32"/>
                </a:lnTo>
                <a:lnTo>
                  <a:pt x="1136" y="28"/>
                </a:lnTo>
                <a:lnTo>
                  <a:pt x="1140" y="20"/>
                </a:lnTo>
                <a:lnTo>
                  <a:pt x="1148" y="12"/>
                </a:lnTo>
                <a:lnTo>
                  <a:pt x="1156" y="8"/>
                </a:lnTo>
                <a:lnTo>
                  <a:pt x="1160" y="0"/>
                </a:lnTo>
              </a:path>
            </a:pathLst>
          </a:custGeom>
          <a:noFill/>
          <a:ln cap="rnd" w="507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13"/>
          <p:cNvSpPr/>
          <p:nvPr/>
        </p:nvSpPr>
        <p:spPr>
          <a:xfrm>
            <a:off x="6470640" y="3519360"/>
            <a:ext cx="1557360" cy="196704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1967040"/>
              <a:gd name="textAreaBottom" fmla="*/ 1967040 h 1967040"/>
            </a:gdLst>
            <a:ahLst/>
            <a:rect l="textAreaLeft" t="textAreaTop" r="textAreaRight" b="textAreaBottom"/>
            <a:pathLst>
              <a:path w="981" h="1239">
                <a:moveTo>
                  <a:pt x="0" y="0"/>
                </a:moveTo>
                <a:lnTo>
                  <a:pt x="0" y="8"/>
                </a:lnTo>
                <a:lnTo>
                  <a:pt x="5" y="16"/>
                </a:lnTo>
                <a:lnTo>
                  <a:pt x="9" y="24"/>
                </a:lnTo>
                <a:lnTo>
                  <a:pt x="14" y="31"/>
                </a:lnTo>
                <a:lnTo>
                  <a:pt x="18" y="38"/>
                </a:lnTo>
                <a:lnTo>
                  <a:pt x="23" y="46"/>
                </a:lnTo>
                <a:lnTo>
                  <a:pt x="27" y="53"/>
                </a:lnTo>
                <a:lnTo>
                  <a:pt x="32" y="61"/>
                </a:lnTo>
                <a:lnTo>
                  <a:pt x="37" y="69"/>
                </a:lnTo>
                <a:lnTo>
                  <a:pt x="45" y="76"/>
                </a:lnTo>
                <a:lnTo>
                  <a:pt x="54" y="84"/>
                </a:lnTo>
                <a:lnTo>
                  <a:pt x="58" y="91"/>
                </a:lnTo>
                <a:lnTo>
                  <a:pt x="63" y="99"/>
                </a:lnTo>
                <a:lnTo>
                  <a:pt x="67" y="107"/>
                </a:lnTo>
                <a:lnTo>
                  <a:pt x="72" y="119"/>
                </a:lnTo>
                <a:lnTo>
                  <a:pt x="77" y="126"/>
                </a:lnTo>
                <a:lnTo>
                  <a:pt x="81" y="134"/>
                </a:lnTo>
                <a:lnTo>
                  <a:pt x="86" y="142"/>
                </a:lnTo>
                <a:lnTo>
                  <a:pt x="90" y="150"/>
                </a:lnTo>
                <a:lnTo>
                  <a:pt x="95" y="157"/>
                </a:lnTo>
                <a:lnTo>
                  <a:pt x="100" y="165"/>
                </a:lnTo>
                <a:lnTo>
                  <a:pt x="100" y="173"/>
                </a:lnTo>
                <a:lnTo>
                  <a:pt x="113" y="192"/>
                </a:lnTo>
                <a:lnTo>
                  <a:pt x="114" y="200"/>
                </a:lnTo>
                <a:lnTo>
                  <a:pt x="115" y="208"/>
                </a:lnTo>
                <a:lnTo>
                  <a:pt x="119" y="216"/>
                </a:lnTo>
                <a:lnTo>
                  <a:pt x="124" y="224"/>
                </a:lnTo>
                <a:lnTo>
                  <a:pt x="128" y="231"/>
                </a:lnTo>
                <a:lnTo>
                  <a:pt x="133" y="239"/>
                </a:lnTo>
                <a:lnTo>
                  <a:pt x="146" y="250"/>
                </a:lnTo>
                <a:lnTo>
                  <a:pt x="150" y="258"/>
                </a:lnTo>
                <a:lnTo>
                  <a:pt x="155" y="266"/>
                </a:lnTo>
                <a:lnTo>
                  <a:pt x="160" y="277"/>
                </a:lnTo>
                <a:lnTo>
                  <a:pt x="172" y="285"/>
                </a:lnTo>
                <a:lnTo>
                  <a:pt x="173" y="293"/>
                </a:lnTo>
                <a:lnTo>
                  <a:pt x="177" y="300"/>
                </a:lnTo>
                <a:lnTo>
                  <a:pt x="178" y="312"/>
                </a:lnTo>
                <a:lnTo>
                  <a:pt x="192" y="335"/>
                </a:lnTo>
                <a:lnTo>
                  <a:pt x="196" y="343"/>
                </a:lnTo>
                <a:lnTo>
                  <a:pt x="210" y="362"/>
                </a:lnTo>
                <a:lnTo>
                  <a:pt x="214" y="370"/>
                </a:lnTo>
                <a:lnTo>
                  <a:pt x="227" y="385"/>
                </a:lnTo>
                <a:lnTo>
                  <a:pt x="232" y="393"/>
                </a:lnTo>
                <a:lnTo>
                  <a:pt x="246" y="420"/>
                </a:lnTo>
                <a:lnTo>
                  <a:pt x="254" y="423"/>
                </a:lnTo>
                <a:lnTo>
                  <a:pt x="259" y="434"/>
                </a:lnTo>
                <a:lnTo>
                  <a:pt x="268" y="442"/>
                </a:lnTo>
                <a:lnTo>
                  <a:pt x="268" y="450"/>
                </a:lnTo>
                <a:lnTo>
                  <a:pt x="276" y="457"/>
                </a:lnTo>
                <a:lnTo>
                  <a:pt x="285" y="481"/>
                </a:lnTo>
                <a:lnTo>
                  <a:pt x="290" y="488"/>
                </a:lnTo>
                <a:lnTo>
                  <a:pt x="299" y="500"/>
                </a:lnTo>
                <a:lnTo>
                  <a:pt x="308" y="515"/>
                </a:lnTo>
                <a:lnTo>
                  <a:pt x="312" y="523"/>
                </a:lnTo>
                <a:lnTo>
                  <a:pt x="317" y="531"/>
                </a:lnTo>
                <a:lnTo>
                  <a:pt x="326" y="538"/>
                </a:lnTo>
                <a:lnTo>
                  <a:pt x="330" y="546"/>
                </a:lnTo>
                <a:lnTo>
                  <a:pt x="339" y="553"/>
                </a:lnTo>
                <a:lnTo>
                  <a:pt x="343" y="561"/>
                </a:lnTo>
                <a:lnTo>
                  <a:pt x="352" y="572"/>
                </a:lnTo>
                <a:lnTo>
                  <a:pt x="361" y="580"/>
                </a:lnTo>
                <a:lnTo>
                  <a:pt x="378" y="603"/>
                </a:lnTo>
                <a:lnTo>
                  <a:pt x="383" y="610"/>
                </a:lnTo>
                <a:lnTo>
                  <a:pt x="388" y="622"/>
                </a:lnTo>
                <a:lnTo>
                  <a:pt x="405" y="645"/>
                </a:lnTo>
                <a:lnTo>
                  <a:pt x="414" y="656"/>
                </a:lnTo>
                <a:lnTo>
                  <a:pt x="419" y="664"/>
                </a:lnTo>
                <a:lnTo>
                  <a:pt x="436" y="687"/>
                </a:lnTo>
                <a:lnTo>
                  <a:pt x="441" y="695"/>
                </a:lnTo>
                <a:lnTo>
                  <a:pt x="446" y="706"/>
                </a:lnTo>
                <a:lnTo>
                  <a:pt x="454" y="714"/>
                </a:lnTo>
                <a:lnTo>
                  <a:pt x="459" y="722"/>
                </a:lnTo>
                <a:lnTo>
                  <a:pt x="472" y="737"/>
                </a:lnTo>
                <a:lnTo>
                  <a:pt x="477" y="745"/>
                </a:lnTo>
                <a:lnTo>
                  <a:pt x="481" y="752"/>
                </a:lnTo>
                <a:lnTo>
                  <a:pt x="490" y="760"/>
                </a:lnTo>
                <a:lnTo>
                  <a:pt x="494" y="767"/>
                </a:lnTo>
                <a:lnTo>
                  <a:pt x="499" y="775"/>
                </a:lnTo>
                <a:lnTo>
                  <a:pt x="507" y="783"/>
                </a:lnTo>
                <a:lnTo>
                  <a:pt x="529" y="809"/>
                </a:lnTo>
                <a:lnTo>
                  <a:pt x="534" y="817"/>
                </a:lnTo>
                <a:lnTo>
                  <a:pt x="539" y="824"/>
                </a:lnTo>
                <a:lnTo>
                  <a:pt x="547" y="827"/>
                </a:lnTo>
                <a:lnTo>
                  <a:pt x="551" y="835"/>
                </a:lnTo>
                <a:lnTo>
                  <a:pt x="556" y="843"/>
                </a:lnTo>
                <a:lnTo>
                  <a:pt x="564" y="850"/>
                </a:lnTo>
                <a:lnTo>
                  <a:pt x="590" y="876"/>
                </a:lnTo>
                <a:lnTo>
                  <a:pt x="595" y="888"/>
                </a:lnTo>
                <a:lnTo>
                  <a:pt x="608" y="899"/>
                </a:lnTo>
                <a:lnTo>
                  <a:pt x="617" y="907"/>
                </a:lnTo>
                <a:lnTo>
                  <a:pt x="625" y="918"/>
                </a:lnTo>
                <a:lnTo>
                  <a:pt x="656" y="952"/>
                </a:lnTo>
                <a:lnTo>
                  <a:pt x="665" y="960"/>
                </a:lnTo>
                <a:lnTo>
                  <a:pt x="677" y="967"/>
                </a:lnTo>
                <a:lnTo>
                  <a:pt x="686" y="978"/>
                </a:lnTo>
                <a:lnTo>
                  <a:pt x="690" y="986"/>
                </a:lnTo>
                <a:lnTo>
                  <a:pt x="699" y="989"/>
                </a:lnTo>
                <a:lnTo>
                  <a:pt x="707" y="997"/>
                </a:lnTo>
                <a:lnTo>
                  <a:pt x="745" y="1034"/>
                </a:lnTo>
                <a:lnTo>
                  <a:pt x="762" y="1049"/>
                </a:lnTo>
                <a:lnTo>
                  <a:pt x="771" y="1053"/>
                </a:lnTo>
                <a:lnTo>
                  <a:pt x="779" y="1064"/>
                </a:lnTo>
                <a:lnTo>
                  <a:pt x="788" y="1071"/>
                </a:lnTo>
                <a:lnTo>
                  <a:pt x="796" y="1071"/>
                </a:lnTo>
                <a:lnTo>
                  <a:pt x="804" y="1078"/>
                </a:lnTo>
                <a:lnTo>
                  <a:pt x="809" y="1090"/>
                </a:lnTo>
                <a:lnTo>
                  <a:pt x="818" y="1093"/>
                </a:lnTo>
                <a:lnTo>
                  <a:pt x="822" y="1101"/>
                </a:lnTo>
                <a:lnTo>
                  <a:pt x="835" y="1108"/>
                </a:lnTo>
                <a:lnTo>
                  <a:pt x="843" y="1112"/>
                </a:lnTo>
                <a:lnTo>
                  <a:pt x="877" y="1146"/>
                </a:lnTo>
                <a:lnTo>
                  <a:pt x="882" y="1153"/>
                </a:lnTo>
                <a:lnTo>
                  <a:pt x="891" y="1165"/>
                </a:lnTo>
                <a:lnTo>
                  <a:pt x="903" y="1168"/>
                </a:lnTo>
                <a:lnTo>
                  <a:pt x="912" y="1175"/>
                </a:lnTo>
                <a:lnTo>
                  <a:pt x="933" y="1194"/>
                </a:lnTo>
                <a:lnTo>
                  <a:pt x="942" y="1201"/>
                </a:lnTo>
                <a:lnTo>
                  <a:pt x="946" y="1208"/>
                </a:lnTo>
                <a:lnTo>
                  <a:pt x="955" y="1212"/>
                </a:lnTo>
                <a:lnTo>
                  <a:pt x="968" y="1227"/>
                </a:lnTo>
                <a:lnTo>
                  <a:pt x="976" y="1230"/>
                </a:lnTo>
                <a:lnTo>
                  <a:pt x="980" y="1238"/>
                </a:lnTo>
              </a:path>
            </a:pathLst>
          </a:custGeom>
          <a:noFill/>
          <a:ln cap="rnd" w="507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6"/>
          <p:cNvSpPr/>
          <p:nvPr/>
        </p:nvSpPr>
        <p:spPr>
          <a:xfrm>
            <a:off x="5638680" y="2590920"/>
            <a:ext cx="297180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12"/>
          <p:cNvSpPr/>
          <p:nvPr/>
        </p:nvSpPr>
        <p:spPr>
          <a:xfrm>
            <a:off x="4076640" y="2558880"/>
            <a:ext cx="2408400" cy="1132200"/>
          </a:xfrm>
          <a:custGeom>
            <a:avLst/>
            <a:gdLst>
              <a:gd name="textAreaLeft" fmla="*/ 0 w 2408400"/>
              <a:gd name="textAreaRight" fmla="*/ 2408760 w 2408400"/>
              <a:gd name="textAreaTop" fmla="*/ 0 h 1132200"/>
              <a:gd name="textAreaBottom" fmla="*/ 1132560 h 1132200"/>
            </a:gdLst>
            <a:ahLst/>
            <a:rect l="textAreaLeft" t="textAreaTop" r="textAreaRight" b="textAreaBottom"/>
            <a:pathLst>
              <a:path w="1517" h="713">
                <a:moveTo>
                  <a:pt x="0" y="712"/>
                </a:moveTo>
                <a:lnTo>
                  <a:pt x="4" y="704"/>
                </a:lnTo>
                <a:lnTo>
                  <a:pt x="12" y="700"/>
                </a:lnTo>
                <a:lnTo>
                  <a:pt x="16" y="688"/>
                </a:lnTo>
                <a:lnTo>
                  <a:pt x="24" y="680"/>
                </a:lnTo>
                <a:lnTo>
                  <a:pt x="32" y="668"/>
                </a:lnTo>
                <a:lnTo>
                  <a:pt x="36" y="660"/>
                </a:lnTo>
                <a:lnTo>
                  <a:pt x="40" y="652"/>
                </a:lnTo>
                <a:lnTo>
                  <a:pt x="44" y="644"/>
                </a:lnTo>
                <a:lnTo>
                  <a:pt x="52" y="636"/>
                </a:lnTo>
                <a:lnTo>
                  <a:pt x="56" y="628"/>
                </a:lnTo>
                <a:lnTo>
                  <a:pt x="64" y="620"/>
                </a:lnTo>
                <a:lnTo>
                  <a:pt x="68" y="612"/>
                </a:lnTo>
                <a:lnTo>
                  <a:pt x="80" y="600"/>
                </a:lnTo>
                <a:lnTo>
                  <a:pt x="84" y="592"/>
                </a:lnTo>
                <a:lnTo>
                  <a:pt x="84" y="584"/>
                </a:lnTo>
                <a:lnTo>
                  <a:pt x="100" y="568"/>
                </a:lnTo>
                <a:lnTo>
                  <a:pt x="104" y="560"/>
                </a:lnTo>
                <a:lnTo>
                  <a:pt x="112" y="552"/>
                </a:lnTo>
                <a:lnTo>
                  <a:pt x="116" y="544"/>
                </a:lnTo>
                <a:lnTo>
                  <a:pt x="120" y="536"/>
                </a:lnTo>
                <a:lnTo>
                  <a:pt x="124" y="528"/>
                </a:lnTo>
                <a:lnTo>
                  <a:pt x="132" y="524"/>
                </a:lnTo>
                <a:lnTo>
                  <a:pt x="136" y="516"/>
                </a:lnTo>
                <a:lnTo>
                  <a:pt x="148" y="496"/>
                </a:lnTo>
                <a:lnTo>
                  <a:pt x="152" y="488"/>
                </a:lnTo>
                <a:lnTo>
                  <a:pt x="160" y="476"/>
                </a:lnTo>
                <a:lnTo>
                  <a:pt x="184" y="448"/>
                </a:lnTo>
                <a:lnTo>
                  <a:pt x="188" y="440"/>
                </a:lnTo>
                <a:lnTo>
                  <a:pt x="196" y="432"/>
                </a:lnTo>
                <a:lnTo>
                  <a:pt x="200" y="424"/>
                </a:lnTo>
                <a:lnTo>
                  <a:pt x="208" y="416"/>
                </a:lnTo>
                <a:lnTo>
                  <a:pt x="220" y="404"/>
                </a:lnTo>
                <a:lnTo>
                  <a:pt x="224" y="396"/>
                </a:lnTo>
                <a:lnTo>
                  <a:pt x="228" y="388"/>
                </a:lnTo>
                <a:lnTo>
                  <a:pt x="240" y="376"/>
                </a:lnTo>
                <a:lnTo>
                  <a:pt x="244" y="368"/>
                </a:lnTo>
                <a:lnTo>
                  <a:pt x="264" y="344"/>
                </a:lnTo>
                <a:lnTo>
                  <a:pt x="268" y="336"/>
                </a:lnTo>
                <a:lnTo>
                  <a:pt x="284" y="320"/>
                </a:lnTo>
                <a:lnTo>
                  <a:pt x="292" y="316"/>
                </a:lnTo>
                <a:lnTo>
                  <a:pt x="296" y="308"/>
                </a:lnTo>
                <a:lnTo>
                  <a:pt x="312" y="292"/>
                </a:lnTo>
                <a:lnTo>
                  <a:pt x="320" y="280"/>
                </a:lnTo>
                <a:lnTo>
                  <a:pt x="328" y="272"/>
                </a:lnTo>
                <a:lnTo>
                  <a:pt x="336" y="260"/>
                </a:lnTo>
                <a:lnTo>
                  <a:pt x="344" y="256"/>
                </a:lnTo>
                <a:lnTo>
                  <a:pt x="356" y="244"/>
                </a:lnTo>
                <a:lnTo>
                  <a:pt x="364" y="240"/>
                </a:lnTo>
                <a:lnTo>
                  <a:pt x="372" y="228"/>
                </a:lnTo>
                <a:lnTo>
                  <a:pt x="380" y="224"/>
                </a:lnTo>
                <a:lnTo>
                  <a:pt x="388" y="216"/>
                </a:lnTo>
                <a:lnTo>
                  <a:pt x="400" y="208"/>
                </a:lnTo>
                <a:lnTo>
                  <a:pt x="408" y="200"/>
                </a:lnTo>
                <a:lnTo>
                  <a:pt x="420" y="192"/>
                </a:lnTo>
                <a:lnTo>
                  <a:pt x="432" y="176"/>
                </a:lnTo>
                <a:lnTo>
                  <a:pt x="440" y="172"/>
                </a:lnTo>
                <a:lnTo>
                  <a:pt x="456" y="156"/>
                </a:lnTo>
                <a:lnTo>
                  <a:pt x="464" y="148"/>
                </a:lnTo>
                <a:lnTo>
                  <a:pt x="472" y="144"/>
                </a:lnTo>
                <a:lnTo>
                  <a:pt x="480" y="144"/>
                </a:lnTo>
                <a:lnTo>
                  <a:pt x="484" y="136"/>
                </a:lnTo>
                <a:lnTo>
                  <a:pt x="492" y="132"/>
                </a:lnTo>
                <a:lnTo>
                  <a:pt x="504" y="124"/>
                </a:lnTo>
                <a:lnTo>
                  <a:pt x="512" y="116"/>
                </a:lnTo>
                <a:lnTo>
                  <a:pt x="520" y="108"/>
                </a:lnTo>
                <a:lnTo>
                  <a:pt x="532" y="100"/>
                </a:lnTo>
                <a:lnTo>
                  <a:pt x="540" y="96"/>
                </a:lnTo>
                <a:lnTo>
                  <a:pt x="544" y="88"/>
                </a:lnTo>
                <a:lnTo>
                  <a:pt x="568" y="76"/>
                </a:lnTo>
                <a:lnTo>
                  <a:pt x="576" y="72"/>
                </a:lnTo>
                <a:lnTo>
                  <a:pt x="584" y="68"/>
                </a:lnTo>
                <a:lnTo>
                  <a:pt x="592" y="60"/>
                </a:lnTo>
                <a:lnTo>
                  <a:pt x="600" y="56"/>
                </a:lnTo>
                <a:lnTo>
                  <a:pt x="608" y="52"/>
                </a:lnTo>
                <a:lnTo>
                  <a:pt x="616" y="48"/>
                </a:lnTo>
                <a:lnTo>
                  <a:pt x="624" y="44"/>
                </a:lnTo>
                <a:lnTo>
                  <a:pt x="640" y="40"/>
                </a:lnTo>
                <a:lnTo>
                  <a:pt x="648" y="36"/>
                </a:lnTo>
                <a:lnTo>
                  <a:pt x="656" y="36"/>
                </a:lnTo>
                <a:lnTo>
                  <a:pt x="664" y="32"/>
                </a:lnTo>
                <a:lnTo>
                  <a:pt x="672" y="32"/>
                </a:lnTo>
                <a:lnTo>
                  <a:pt x="684" y="28"/>
                </a:lnTo>
                <a:lnTo>
                  <a:pt x="692" y="24"/>
                </a:lnTo>
                <a:lnTo>
                  <a:pt x="712" y="24"/>
                </a:lnTo>
                <a:lnTo>
                  <a:pt x="720" y="20"/>
                </a:lnTo>
                <a:lnTo>
                  <a:pt x="728" y="16"/>
                </a:lnTo>
                <a:lnTo>
                  <a:pt x="736" y="16"/>
                </a:lnTo>
                <a:lnTo>
                  <a:pt x="744" y="12"/>
                </a:lnTo>
                <a:lnTo>
                  <a:pt x="760" y="8"/>
                </a:lnTo>
                <a:lnTo>
                  <a:pt x="768" y="4"/>
                </a:lnTo>
                <a:lnTo>
                  <a:pt x="776" y="4"/>
                </a:lnTo>
                <a:lnTo>
                  <a:pt x="788" y="0"/>
                </a:lnTo>
                <a:lnTo>
                  <a:pt x="796" y="0"/>
                </a:lnTo>
                <a:lnTo>
                  <a:pt x="812" y="0"/>
                </a:lnTo>
                <a:lnTo>
                  <a:pt x="820" y="0"/>
                </a:lnTo>
                <a:lnTo>
                  <a:pt x="828" y="0"/>
                </a:lnTo>
                <a:lnTo>
                  <a:pt x="844" y="0"/>
                </a:lnTo>
                <a:lnTo>
                  <a:pt x="852" y="0"/>
                </a:lnTo>
                <a:lnTo>
                  <a:pt x="860" y="0"/>
                </a:lnTo>
                <a:lnTo>
                  <a:pt x="888" y="4"/>
                </a:lnTo>
                <a:lnTo>
                  <a:pt x="900" y="4"/>
                </a:lnTo>
                <a:lnTo>
                  <a:pt x="908" y="8"/>
                </a:lnTo>
                <a:lnTo>
                  <a:pt x="916" y="12"/>
                </a:lnTo>
                <a:lnTo>
                  <a:pt x="924" y="12"/>
                </a:lnTo>
                <a:lnTo>
                  <a:pt x="932" y="12"/>
                </a:lnTo>
                <a:lnTo>
                  <a:pt x="940" y="16"/>
                </a:lnTo>
                <a:lnTo>
                  <a:pt x="948" y="16"/>
                </a:lnTo>
                <a:lnTo>
                  <a:pt x="960" y="20"/>
                </a:lnTo>
                <a:lnTo>
                  <a:pt x="968" y="24"/>
                </a:lnTo>
                <a:lnTo>
                  <a:pt x="1012" y="40"/>
                </a:lnTo>
                <a:lnTo>
                  <a:pt x="1024" y="44"/>
                </a:lnTo>
                <a:lnTo>
                  <a:pt x="1032" y="48"/>
                </a:lnTo>
                <a:lnTo>
                  <a:pt x="1040" y="48"/>
                </a:lnTo>
                <a:lnTo>
                  <a:pt x="1048" y="52"/>
                </a:lnTo>
                <a:lnTo>
                  <a:pt x="1056" y="56"/>
                </a:lnTo>
                <a:lnTo>
                  <a:pt x="1060" y="64"/>
                </a:lnTo>
                <a:lnTo>
                  <a:pt x="1068" y="68"/>
                </a:lnTo>
                <a:lnTo>
                  <a:pt x="1076" y="76"/>
                </a:lnTo>
                <a:lnTo>
                  <a:pt x="1084" y="80"/>
                </a:lnTo>
                <a:lnTo>
                  <a:pt x="1100" y="96"/>
                </a:lnTo>
                <a:lnTo>
                  <a:pt x="1112" y="100"/>
                </a:lnTo>
                <a:lnTo>
                  <a:pt x="1120" y="108"/>
                </a:lnTo>
                <a:lnTo>
                  <a:pt x="1132" y="116"/>
                </a:lnTo>
                <a:lnTo>
                  <a:pt x="1152" y="132"/>
                </a:lnTo>
                <a:lnTo>
                  <a:pt x="1160" y="136"/>
                </a:lnTo>
                <a:lnTo>
                  <a:pt x="1164" y="144"/>
                </a:lnTo>
                <a:lnTo>
                  <a:pt x="1172" y="152"/>
                </a:lnTo>
                <a:lnTo>
                  <a:pt x="1176" y="160"/>
                </a:lnTo>
                <a:lnTo>
                  <a:pt x="1184" y="164"/>
                </a:lnTo>
                <a:lnTo>
                  <a:pt x="1188" y="172"/>
                </a:lnTo>
                <a:lnTo>
                  <a:pt x="1196" y="180"/>
                </a:lnTo>
                <a:lnTo>
                  <a:pt x="1200" y="188"/>
                </a:lnTo>
                <a:lnTo>
                  <a:pt x="1208" y="196"/>
                </a:lnTo>
                <a:lnTo>
                  <a:pt x="1224" y="212"/>
                </a:lnTo>
                <a:lnTo>
                  <a:pt x="1232" y="224"/>
                </a:lnTo>
                <a:lnTo>
                  <a:pt x="1240" y="228"/>
                </a:lnTo>
                <a:lnTo>
                  <a:pt x="1248" y="240"/>
                </a:lnTo>
                <a:lnTo>
                  <a:pt x="1256" y="252"/>
                </a:lnTo>
                <a:lnTo>
                  <a:pt x="1264" y="260"/>
                </a:lnTo>
                <a:lnTo>
                  <a:pt x="1280" y="276"/>
                </a:lnTo>
                <a:lnTo>
                  <a:pt x="1284" y="284"/>
                </a:lnTo>
                <a:lnTo>
                  <a:pt x="1292" y="292"/>
                </a:lnTo>
                <a:lnTo>
                  <a:pt x="1296" y="300"/>
                </a:lnTo>
                <a:lnTo>
                  <a:pt x="1304" y="312"/>
                </a:lnTo>
                <a:lnTo>
                  <a:pt x="1308" y="320"/>
                </a:lnTo>
                <a:lnTo>
                  <a:pt x="1308" y="328"/>
                </a:lnTo>
                <a:lnTo>
                  <a:pt x="1312" y="336"/>
                </a:lnTo>
                <a:lnTo>
                  <a:pt x="1316" y="344"/>
                </a:lnTo>
                <a:lnTo>
                  <a:pt x="1324" y="348"/>
                </a:lnTo>
                <a:lnTo>
                  <a:pt x="1332" y="360"/>
                </a:lnTo>
                <a:lnTo>
                  <a:pt x="1336" y="368"/>
                </a:lnTo>
                <a:lnTo>
                  <a:pt x="1348" y="380"/>
                </a:lnTo>
                <a:lnTo>
                  <a:pt x="1356" y="388"/>
                </a:lnTo>
                <a:lnTo>
                  <a:pt x="1360" y="396"/>
                </a:lnTo>
                <a:lnTo>
                  <a:pt x="1368" y="400"/>
                </a:lnTo>
                <a:lnTo>
                  <a:pt x="1372" y="408"/>
                </a:lnTo>
                <a:lnTo>
                  <a:pt x="1376" y="416"/>
                </a:lnTo>
                <a:lnTo>
                  <a:pt x="1396" y="428"/>
                </a:lnTo>
                <a:lnTo>
                  <a:pt x="1396" y="436"/>
                </a:lnTo>
                <a:lnTo>
                  <a:pt x="1404" y="448"/>
                </a:lnTo>
                <a:lnTo>
                  <a:pt x="1412" y="456"/>
                </a:lnTo>
                <a:lnTo>
                  <a:pt x="1416" y="464"/>
                </a:lnTo>
                <a:lnTo>
                  <a:pt x="1424" y="472"/>
                </a:lnTo>
                <a:lnTo>
                  <a:pt x="1432" y="484"/>
                </a:lnTo>
                <a:lnTo>
                  <a:pt x="1440" y="496"/>
                </a:lnTo>
                <a:lnTo>
                  <a:pt x="1444" y="504"/>
                </a:lnTo>
                <a:lnTo>
                  <a:pt x="1448" y="512"/>
                </a:lnTo>
                <a:lnTo>
                  <a:pt x="1456" y="528"/>
                </a:lnTo>
                <a:lnTo>
                  <a:pt x="1464" y="540"/>
                </a:lnTo>
                <a:lnTo>
                  <a:pt x="1472" y="548"/>
                </a:lnTo>
                <a:lnTo>
                  <a:pt x="1476" y="556"/>
                </a:lnTo>
                <a:lnTo>
                  <a:pt x="1484" y="572"/>
                </a:lnTo>
                <a:lnTo>
                  <a:pt x="1488" y="580"/>
                </a:lnTo>
                <a:lnTo>
                  <a:pt x="1496" y="584"/>
                </a:lnTo>
                <a:lnTo>
                  <a:pt x="1500" y="592"/>
                </a:lnTo>
                <a:lnTo>
                  <a:pt x="1504" y="600"/>
                </a:lnTo>
                <a:lnTo>
                  <a:pt x="1512" y="608"/>
                </a:lnTo>
                <a:lnTo>
                  <a:pt x="1516" y="616"/>
                </a:lnTo>
              </a:path>
            </a:pathLst>
          </a:custGeom>
          <a:noFill/>
          <a:ln cap="rnd" w="507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5867280" y="2209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ANGER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88a44d"/>
                </a:solidFill>
                <a:latin typeface="Georgia"/>
              </a:rPr>
              <a:t>General Adaptation Syndrome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7933c"/>
                </a:solidFill>
                <a:latin typeface="Georgia"/>
              </a:rPr>
              <a:t>THREE STAGES OF ADAPTASION IN STRESS</a:t>
            </a:r>
            <a:endParaRPr b="0" lang="en-US" sz="36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1.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Georgia"/>
              </a:rPr>
              <a:t>Alarm reaction: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when a person is exposed to an unadapted stimulus there is an initial shock (in which resistance is lowered) followed by a rebound reaction (counter shock phase) during which the organism’s defense mechanisms become active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2.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Georgia"/>
              </a:rPr>
              <a:t>Stage of resistance: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uring this stage the person’s full adaptation may lead to successful return to equilibrium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3.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Georgia"/>
              </a:rPr>
              <a:t>Stage of exhaus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Georgia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n case of failure of adaptability the organism becomes exhauste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Line 4"/>
          <p:cNvSpPr/>
          <p:nvPr/>
        </p:nvSpPr>
        <p:spPr>
          <a:xfrm>
            <a:off x="8686800" y="457200"/>
            <a:ext cx="0" cy="601992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5"/>
          <p:cNvSpPr/>
          <p:nvPr/>
        </p:nvSpPr>
        <p:spPr>
          <a:xfrm>
            <a:off x="457200" y="457200"/>
            <a:ext cx="0" cy="601992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6"/>
          <p:cNvSpPr/>
          <p:nvPr/>
        </p:nvSpPr>
        <p:spPr>
          <a:xfrm>
            <a:off x="457200" y="6477120"/>
            <a:ext cx="822960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7"/>
          <p:cNvSpPr/>
          <p:nvPr/>
        </p:nvSpPr>
        <p:spPr>
          <a:xfrm>
            <a:off x="457200" y="457200"/>
            <a:ext cx="822960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0" name=""/>
          <p:cNvGraphicFramePr/>
          <p:nvPr/>
        </p:nvGraphicFramePr>
        <p:xfrm>
          <a:off x="714240" y="285840"/>
          <a:ext cx="7929720" cy="6313320"/>
        </p:xfrm>
        <a:graphic>
          <a:graphicData uri="http://schemas.openxmlformats.org/drawingml/2006/table">
            <a:tbl>
              <a:tblPr/>
              <a:tblGrid>
                <a:gridCol w="397080"/>
                <a:gridCol w="4201920"/>
                <a:gridCol w="666720"/>
                <a:gridCol w="665280"/>
                <a:gridCol w="666720"/>
                <a:gridCol w="665280"/>
                <a:gridCol w="666720"/>
              </a:tblGrid>
              <a:tr h="857160"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re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me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y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7588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eel run down and drained of physical or emotional energ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70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ind that you are prone to negative thinking about your job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10162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ind that you are harder and less sympathetic with people than perhaps they deserv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852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ind yourself getting easily irritated by small problems, or by your co-workers and team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7588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eel misunderstood or unappreciated by your co-worker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436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eel that you have no one to talk to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72216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eel that you are achieving less than you should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81" name="DefaultOcx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82" name="HTMLOption1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83" name="HTMLOption2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84" name="HTMLOption3" descr=""/>
          <p:cNvPicPr/>
          <p:nvPr/>
        </p:nvPicPr>
        <p:blipFill>
          <a:blip r:embed="rId4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85" name="HTMLOption4" descr=""/>
          <p:cNvPicPr/>
          <p:nvPr/>
        </p:nvPicPr>
        <p:blipFill>
          <a:blip r:embed="rId5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86" name="HTMLOption5" descr=""/>
          <p:cNvPicPr/>
          <p:nvPr/>
        </p:nvPicPr>
        <p:blipFill>
          <a:blip r:embed="rId6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87" name="HTMLOption6" descr=""/>
          <p:cNvPicPr/>
          <p:nvPr/>
        </p:nvPicPr>
        <p:blipFill>
          <a:blip r:embed="rId7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88" name="HTMLOption7" descr=""/>
          <p:cNvPicPr/>
          <p:nvPr/>
        </p:nvPicPr>
        <p:blipFill>
          <a:blip r:embed="rId8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89" name="HTMLOption8" descr=""/>
          <p:cNvPicPr/>
          <p:nvPr/>
        </p:nvPicPr>
        <p:blipFill>
          <a:blip r:embed="rId9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90" name="HTMLOption9" descr=""/>
          <p:cNvPicPr/>
          <p:nvPr/>
        </p:nvPicPr>
        <p:blipFill>
          <a:blip r:embed="rId10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91" name="HTMLOption10" descr=""/>
          <p:cNvPicPr/>
          <p:nvPr/>
        </p:nvPicPr>
        <p:blipFill>
          <a:blip r:embed="rId11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92" name="HTMLOption11" descr=""/>
          <p:cNvPicPr/>
          <p:nvPr/>
        </p:nvPicPr>
        <p:blipFill>
          <a:blip r:embed="rId12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93" name="HTMLOption12" descr=""/>
          <p:cNvPicPr/>
          <p:nvPr/>
        </p:nvPicPr>
        <p:blipFill>
          <a:blip r:embed="rId13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94" name="HTMLOption13" descr=""/>
          <p:cNvPicPr/>
          <p:nvPr/>
        </p:nvPicPr>
        <p:blipFill>
          <a:blip r:embed="rId14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95" name="HTMLOption14" descr=""/>
          <p:cNvPicPr/>
          <p:nvPr/>
        </p:nvPicPr>
        <p:blipFill>
          <a:blip r:embed="rId15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96" name="HTMLOption15" descr=""/>
          <p:cNvPicPr/>
          <p:nvPr/>
        </p:nvPicPr>
        <p:blipFill>
          <a:blip r:embed="rId16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97" name="HTMLOption16" descr=""/>
          <p:cNvPicPr/>
          <p:nvPr/>
        </p:nvPicPr>
        <p:blipFill>
          <a:blip r:embed="rId17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98" name="HTMLOption17" descr=""/>
          <p:cNvPicPr/>
          <p:nvPr/>
        </p:nvPicPr>
        <p:blipFill>
          <a:blip r:embed="rId18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99" name="HTMLOption18" descr=""/>
          <p:cNvPicPr/>
          <p:nvPr/>
        </p:nvPicPr>
        <p:blipFill>
          <a:blip r:embed="rId19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00" name="HTMLOption19" descr=""/>
          <p:cNvPicPr/>
          <p:nvPr/>
        </p:nvPicPr>
        <p:blipFill>
          <a:blip r:embed="rId20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01" name="HTMLOption20" descr=""/>
          <p:cNvPicPr/>
          <p:nvPr/>
        </p:nvPicPr>
        <p:blipFill>
          <a:blip r:embed="rId21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02" name="HTMLOption21" descr=""/>
          <p:cNvPicPr/>
          <p:nvPr/>
        </p:nvPicPr>
        <p:blipFill>
          <a:blip r:embed="rId22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03" name="HTMLOption22" descr=""/>
          <p:cNvPicPr/>
          <p:nvPr/>
        </p:nvPicPr>
        <p:blipFill>
          <a:blip r:embed="rId23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04" name="HTMLOption23" descr=""/>
          <p:cNvPicPr/>
          <p:nvPr/>
        </p:nvPicPr>
        <p:blipFill>
          <a:blip r:embed="rId24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05" name="HTMLOption24" descr=""/>
          <p:cNvPicPr/>
          <p:nvPr/>
        </p:nvPicPr>
        <p:blipFill>
          <a:blip r:embed="rId25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06" name="HTMLOption25" descr=""/>
          <p:cNvPicPr/>
          <p:nvPr/>
        </p:nvPicPr>
        <p:blipFill>
          <a:blip r:embed="rId26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07" name="HTMLOption26" descr=""/>
          <p:cNvPicPr/>
          <p:nvPr/>
        </p:nvPicPr>
        <p:blipFill>
          <a:blip r:embed="rId27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08" name="HTMLOption27" descr=""/>
          <p:cNvPicPr/>
          <p:nvPr/>
        </p:nvPicPr>
        <p:blipFill>
          <a:blip r:embed="rId28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09" name="HTMLOption28" descr=""/>
          <p:cNvPicPr/>
          <p:nvPr/>
        </p:nvPicPr>
        <p:blipFill>
          <a:blip r:embed="rId29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10" name="HTMLOption29" descr=""/>
          <p:cNvPicPr/>
          <p:nvPr/>
        </p:nvPicPr>
        <p:blipFill>
          <a:blip r:embed="rId30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11" name="HTMLOption30" descr=""/>
          <p:cNvPicPr/>
          <p:nvPr/>
        </p:nvPicPr>
        <p:blipFill>
          <a:blip r:embed="rId31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12" name="HTMLOption31" descr=""/>
          <p:cNvPicPr/>
          <p:nvPr/>
        </p:nvPicPr>
        <p:blipFill>
          <a:blip r:embed="rId32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13" name="HTMLOption32" descr=""/>
          <p:cNvPicPr/>
          <p:nvPr/>
        </p:nvPicPr>
        <p:blipFill>
          <a:blip r:embed="rId33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14" name="HTMLOption33" descr=""/>
          <p:cNvPicPr/>
          <p:nvPr/>
        </p:nvPicPr>
        <p:blipFill>
          <a:blip r:embed="rId34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15" name="HTMLOption34" descr=""/>
          <p:cNvPicPr/>
          <p:nvPr/>
        </p:nvPicPr>
        <p:blipFill>
          <a:blip r:embed="rId35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6" name=""/>
          <p:cNvGraphicFramePr/>
          <p:nvPr/>
        </p:nvGraphicFramePr>
        <p:xfrm>
          <a:off x="500040" y="214200"/>
          <a:ext cx="7858080" cy="6429600"/>
        </p:xfrm>
        <a:graphic>
          <a:graphicData uri="http://schemas.openxmlformats.org/drawingml/2006/table">
            <a:tbl>
              <a:tblPr/>
              <a:tblGrid>
                <a:gridCol w="1122480"/>
                <a:gridCol w="1122120"/>
                <a:gridCol w="1122480"/>
                <a:gridCol w="1123920"/>
                <a:gridCol w="1122480"/>
                <a:gridCol w="387360"/>
                <a:gridCol w="500040"/>
                <a:gridCol w="235080"/>
                <a:gridCol w="122040"/>
                <a:gridCol w="357120"/>
                <a:gridCol w="428760"/>
                <a:gridCol w="214200"/>
              </a:tblGrid>
              <a:tr h="563760">
                <a:tc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gridSpan="5"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eel under an unpleasant level of pressure to succeed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gridSpan="2"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563400">
                <a:tc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eel that you are not getting what you want out of your job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gridSpan="5"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eel that you are in the wrong organization or the wrong profession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gridSpan="2"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563400">
                <a:tc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 you becoming frustrated with parts of your job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4640">
                <a:tc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gridSpan="5"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eel that organizational politics or bureaucracy frustrate your ability to do a good job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gridSpan="2"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752400">
                <a:tc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eel that there is more work to do than you practically have the ability to do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4640">
                <a:tc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gridSpan="5"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eel that you do not have time to do many of the things that are important to doing a good quality job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gridSpan="2"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754200">
                <a:tc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3960" rIns="3960" tIns="3960" bIns="3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ind that you do not have time to plan as much as you would like to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 gridSpan="12"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080">
                <a:tc>
                  <a:txBody>
                    <a:bodyPr lIns="3960" rIns="3960" tIns="3960" bIns="396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60" rIns="3960" tIns="3960" bIns="1944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 =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60" rIns="3960" tIns="3960" bIns="396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7440" rIns="37440" tIns="18720" bIns="18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18720" bIns="18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7440" rIns="37440" tIns="18720" bIns="18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7440" rIns="37440" tIns="18720" bIns="18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17" name="DefaultOcx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18" name="HTMLOption1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19" name="HTMLOption2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20" name="HTMLOption3" descr=""/>
          <p:cNvPicPr/>
          <p:nvPr/>
        </p:nvPicPr>
        <p:blipFill>
          <a:blip r:embed="rId4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21" name="HTMLOption4" descr=""/>
          <p:cNvPicPr/>
          <p:nvPr/>
        </p:nvPicPr>
        <p:blipFill>
          <a:blip r:embed="rId5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22" name="HTMLOption5" descr=""/>
          <p:cNvPicPr/>
          <p:nvPr/>
        </p:nvPicPr>
        <p:blipFill>
          <a:blip r:embed="rId6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23" name="HTMLOption6" descr=""/>
          <p:cNvPicPr/>
          <p:nvPr/>
        </p:nvPicPr>
        <p:blipFill>
          <a:blip r:embed="rId7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24" name="HTMLOption7" descr=""/>
          <p:cNvPicPr/>
          <p:nvPr/>
        </p:nvPicPr>
        <p:blipFill>
          <a:blip r:embed="rId8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25" name="HTMLOption8" descr=""/>
          <p:cNvPicPr/>
          <p:nvPr/>
        </p:nvPicPr>
        <p:blipFill>
          <a:blip r:embed="rId9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26" name="HTMLOption9" descr=""/>
          <p:cNvPicPr/>
          <p:nvPr/>
        </p:nvPicPr>
        <p:blipFill>
          <a:blip r:embed="rId10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27" name="HTMLOption10" descr=""/>
          <p:cNvPicPr/>
          <p:nvPr/>
        </p:nvPicPr>
        <p:blipFill>
          <a:blip r:embed="rId11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28" name="HTMLOption11" descr=""/>
          <p:cNvPicPr/>
          <p:nvPr/>
        </p:nvPicPr>
        <p:blipFill>
          <a:blip r:embed="rId12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29" name="HTMLOption12" descr=""/>
          <p:cNvPicPr/>
          <p:nvPr/>
        </p:nvPicPr>
        <p:blipFill>
          <a:blip r:embed="rId13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30" name="HTMLOption13" descr=""/>
          <p:cNvPicPr/>
          <p:nvPr/>
        </p:nvPicPr>
        <p:blipFill>
          <a:blip r:embed="rId14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31" name="HTMLOption14" descr=""/>
          <p:cNvPicPr/>
          <p:nvPr/>
        </p:nvPicPr>
        <p:blipFill>
          <a:blip r:embed="rId15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32" name="HTMLOption15" descr=""/>
          <p:cNvPicPr/>
          <p:nvPr/>
        </p:nvPicPr>
        <p:blipFill>
          <a:blip r:embed="rId16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33" name="HTMLOption16" descr=""/>
          <p:cNvPicPr/>
          <p:nvPr/>
        </p:nvPicPr>
        <p:blipFill>
          <a:blip r:embed="rId17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34" name="HTMLOption17" descr=""/>
          <p:cNvPicPr/>
          <p:nvPr/>
        </p:nvPicPr>
        <p:blipFill>
          <a:blip r:embed="rId18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35" name="HTMLOption18" descr=""/>
          <p:cNvPicPr/>
          <p:nvPr/>
        </p:nvPicPr>
        <p:blipFill>
          <a:blip r:embed="rId19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36" name="HTMLOption19" descr=""/>
          <p:cNvPicPr/>
          <p:nvPr/>
        </p:nvPicPr>
        <p:blipFill>
          <a:blip r:embed="rId20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37" name="HTMLOption20" descr=""/>
          <p:cNvPicPr/>
          <p:nvPr/>
        </p:nvPicPr>
        <p:blipFill>
          <a:blip r:embed="rId21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38" name="HTMLOption21" descr=""/>
          <p:cNvPicPr/>
          <p:nvPr/>
        </p:nvPicPr>
        <p:blipFill>
          <a:blip r:embed="rId22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39" name="HTMLOption22" descr=""/>
          <p:cNvPicPr/>
          <p:nvPr/>
        </p:nvPicPr>
        <p:blipFill>
          <a:blip r:embed="rId23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40" name="HTMLOption23" descr=""/>
          <p:cNvPicPr/>
          <p:nvPr/>
        </p:nvPicPr>
        <p:blipFill>
          <a:blip r:embed="rId24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41" name="HTMLOption24" descr=""/>
          <p:cNvPicPr/>
          <p:nvPr/>
        </p:nvPicPr>
        <p:blipFill>
          <a:blip r:embed="rId25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42" name="HTMLOption25" descr=""/>
          <p:cNvPicPr/>
          <p:nvPr/>
        </p:nvPicPr>
        <p:blipFill>
          <a:blip r:embed="rId26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43" name="HTMLOption26" descr=""/>
          <p:cNvPicPr/>
          <p:nvPr/>
        </p:nvPicPr>
        <p:blipFill>
          <a:blip r:embed="rId27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44" name="HTMLOption27" descr=""/>
          <p:cNvPicPr/>
          <p:nvPr/>
        </p:nvPicPr>
        <p:blipFill>
          <a:blip r:embed="rId28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45" name="HTMLOption28" descr=""/>
          <p:cNvPicPr/>
          <p:nvPr/>
        </p:nvPicPr>
        <p:blipFill>
          <a:blip r:embed="rId29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46" name="HTMLOption29" descr=""/>
          <p:cNvPicPr/>
          <p:nvPr/>
        </p:nvPicPr>
        <p:blipFill>
          <a:blip r:embed="rId30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47" name="HTMLOption30" descr=""/>
          <p:cNvPicPr/>
          <p:nvPr/>
        </p:nvPicPr>
        <p:blipFill>
          <a:blip r:embed="rId31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48" name="HTMLOption31" descr=""/>
          <p:cNvPicPr/>
          <p:nvPr/>
        </p:nvPicPr>
        <p:blipFill>
          <a:blip r:embed="rId32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49" name="HTMLOption32" descr=""/>
          <p:cNvPicPr/>
          <p:nvPr/>
        </p:nvPicPr>
        <p:blipFill>
          <a:blip r:embed="rId33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50" name="HTMLOption33" descr=""/>
          <p:cNvPicPr/>
          <p:nvPr/>
        </p:nvPicPr>
        <p:blipFill>
          <a:blip r:embed="rId34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51" name="HTMLOption34" descr=""/>
          <p:cNvPicPr/>
          <p:nvPr/>
        </p:nvPicPr>
        <p:blipFill>
          <a:blip r:embed="rId35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357120" y="1000080"/>
          <a:ext cx="8215560" cy="5357880"/>
        </p:xfrm>
        <a:graphic>
          <a:graphicData uri="http://schemas.openxmlformats.org/drawingml/2006/table">
            <a:tbl>
              <a:tblPr/>
              <a:tblGrid>
                <a:gridCol w="986040"/>
                <a:gridCol w="7229520"/>
              </a:tblGrid>
              <a:tr h="66996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d3d3d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d3d3d3"/>
                    </a:solidFill>
                  </a:tcPr>
                </a:tc>
              </a:tr>
              <a:tr h="66996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5 – 1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Little sign of burnout h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4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9 – 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d3d3d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Little sign of burnout here, unless some factors are particularly sev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d3d3d3"/>
                    </a:solidFill>
                  </a:tcPr>
                </a:tc>
              </a:tr>
              <a:tr h="100332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33 – 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Be careful - you may be at risk of burnout, particularly if several scores are hig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812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50 – 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d3d3d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You may be at severe risk of burnout - do something about this urgentl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d3d3d3"/>
                    </a:solidFill>
                  </a:tcPr>
                </a:tc>
              </a:tr>
              <a:tr h="1031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60 -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You may be at very severe risk of burnout - do something about this urgentl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Burnout – Cont.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79280" y="1268280"/>
            <a:ext cx="8964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voiding Burnout 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690480" indent="-19188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Too much to do, too little tim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921240" indent="-191880">
              <a:spcBef>
                <a:spcPts val="700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f497d"/>
                </a:solidFill>
                <a:latin typeface="Georgia"/>
              </a:rPr>
              <a:t>Use the  job analysis tool to see if you can cut away low-yield work</a:t>
            </a:r>
            <a:endParaRPr b="0" lang="en-US" sz="2800" spc="-1" strike="noStrike">
              <a:solidFill>
                <a:srgbClr val="1f497d"/>
              </a:solidFill>
              <a:latin typeface="Georgia"/>
            </a:endParaRPr>
          </a:p>
          <a:p>
            <a:pPr lvl="3" marL="921240" indent="-1918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Georgia"/>
            </a:endParaRPr>
          </a:p>
          <a:p>
            <a:pPr lvl="3" marL="921240" indent="-191880">
              <a:spcBef>
                <a:spcPts val="700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f497d"/>
                </a:solidFill>
                <a:latin typeface="Georgia"/>
              </a:rPr>
              <a:t> </a:t>
            </a:r>
            <a:r>
              <a:rPr b="0" lang="en-CA" sz="2800" spc="-1" strike="noStrike">
                <a:solidFill>
                  <a:srgbClr val="1f497d"/>
                </a:solidFill>
                <a:latin typeface="Georgia"/>
              </a:rPr>
              <a:t>Review your management of time </a:t>
            </a:r>
            <a:endParaRPr b="0" lang="en-US" sz="2800" spc="-1" strike="noStrike">
              <a:solidFill>
                <a:srgbClr val="1f497d"/>
              </a:solidFill>
              <a:latin typeface="Georgia"/>
            </a:endParaRPr>
          </a:p>
          <a:p>
            <a:pPr lvl="3" marL="921240" indent="-1918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f497d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1f497d"/>
              </a:solidFill>
              <a:latin typeface="Georgia"/>
            </a:endParaRPr>
          </a:p>
          <a:p>
            <a:pPr lvl="3" marL="921240" indent="-191880">
              <a:spcBef>
                <a:spcPts val="700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f497d"/>
                </a:solidFill>
                <a:latin typeface="Georgia"/>
              </a:rPr>
              <a:t>Check that you are using all of the resources available to you. </a:t>
            </a:r>
            <a:endParaRPr b="0" lang="en-US" sz="2800" spc="-1" strike="noStrike">
              <a:solidFill>
                <a:srgbClr val="1f497d"/>
              </a:solidFill>
              <a:latin typeface="Georgia"/>
            </a:endParaRPr>
          </a:p>
          <a:p>
            <a:pPr lvl="3" marL="921240" indent="-1918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f497d"/>
                </a:solidFill>
                <a:latin typeface="Georgi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Burnout - Cont.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250560" y="1125360"/>
            <a:ext cx="8504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voiding Burnout :                             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780840" indent="-217080">
              <a:spcBef>
                <a:spcPts val="799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voiding Exhaustion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041840" indent="-217080">
              <a:spcBef>
                <a:spcPts val="799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1f497d"/>
                </a:solidFill>
                <a:latin typeface="Georgia"/>
              </a:rPr>
              <a:t>Going on a good, long vacation is one of the best ways of avoiding burnout</a:t>
            </a:r>
            <a:endParaRPr b="0" lang="en-US" sz="3200" spc="-1" strike="noStrike">
              <a:solidFill>
                <a:srgbClr val="1f497d"/>
              </a:solidFill>
              <a:latin typeface="Georgia"/>
            </a:endParaRPr>
          </a:p>
          <a:p>
            <a:pPr lvl="3" marL="1041840" indent="-217080">
              <a:spcBef>
                <a:spcPts val="799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1f497d"/>
                </a:solidFill>
                <a:latin typeface="Georgia"/>
              </a:rPr>
              <a:t>Leave your laptop and mobile phone behind.</a:t>
            </a:r>
            <a:endParaRPr b="0" lang="en-US" sz="3200" spc="-1" strike="noStrike">
              <a:solidFill>
                <a:srgbClr val="1f497d"/>
              </a:solidFill>
              <a:latin typeface="Georgia"/>
            </a:endParaRPr>
          </a:p>
          <a:p>
            <a:pPr lvl="3" marL="1041840" indent="-217080">
              <a:spcBef>
                <a:spcPts val="799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1f497d"/>
                </a:solidFill>
                <a:latin typeface="Georgia"/>
              </a:rPr>
              <a:t>Rest, and enjoy life. Being a workaholic is not something to be proud of.</a:t>
            </a:r>
            <a:endParaRPr b="0" lang="en-US" sz="3200" spc="-1" strike="noStrike">
              <a:solidFill>
                <a:srgbClr val="1f497d"/>
              </a:solidFill>
              <a:latin typeface="Georgia"/>
            </a:endParaRPr>
          </a:p>
          <a:p>
            <a:pPr lvl="3" marL="1041840" indent="-217080">
              <a:spcBef>
                <a:spcPts val="799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1f497d"/>
                </a:solidFill>
                <a:latin typeface="Georgia"/>
              </a:rPr>
              <a:t>make sure you get enough sleep and rest</a:t>
            </a:r>
            <a:endParaRPr b="0" lang="en-US" sz="3200" spc="-1" strike="noStrike">
              <a:solidFill>
                <a:srgbClr val="1f497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3"/>
          <p:cNvSpPr/>
          <p:nvPr/>
        </p:nvSpPr>
        <p:spPr>
          <a:xfrm>
            <a:off x="1676520" y="2895480"/>
            <a:ext cx="2209680" cy="1067040"/>
          </a:xfrm>
          <a:prstGeom prst="rect">
            <a:avLst/>
          </a:prstGeom>
          <a:solidFill>
            <a:srgbClr val="82190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7d769"/>
                </a:solidFill>
                <a:latin typeface="Arial"/>
              </a:rPr>
              <a:t>Behavi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4"/>
          <p:cNvSpPr/>
          <p:nvPr/>
        </p:nvSpPr>
        <p:spPr>
          <a:xfrm>
            <a:off x="1676520" y="4419720"/>
            <a:ext cx="2209680" cy="990360"/>
          </a:xfrm>
          <a:prstGeom prst="rect">
            <a:avLst/>
          </a:prstGeom>
          <a:solidFill>
            <a:srgbClr val="004e4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7d769"/>
                </a:solidFill>
                <a:latin typeface="Arial"/>
              </a:rPr>
              <a:t>Psych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5"/>
          <p:cNvSpPr/>
          <p:nvPr/>
        </p:nvSpPr>
        <p:spPr>
          <a:xfrm>
            <a:off x="3886200" y="2895480"/>
            <a:ext cx="4114800" cy="1067040"/>
          </a:xfrm>
          <a:prstGeom prst="rect">
            <a:avLst/>
          </a:prstGeom>
          <a:solidFill>
            <a:srgbClr val="bdb19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Work performance, accidents, absenteeism, aggression, poor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6"/>
          <p:cNvSpPr/>
          <p:nvPr/>
        </p:nvSpPr>
        <p:spPr>
          <a:xfrm>
            <a:off x="3886200" y="4419720"/>
            <a:ext cx="4114800" cy="990360"/>
          </a:xfrm>
          <a:prstGeom prst="rect">
            <a:avLst/>
          </a:prstGeom>
          <a:solidFill>
            <a:srgbClr val="8fe99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Dissatisfaction, moodiness, depression, emotional fatig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9"/>
          <p:cNvSpPr/>
          <p:nvPr/>
        </p:nvSpPr>
        <p:spPr>
          <a:xfrm>
            <a:off x="1676520" y="1523880"/>
            <a:ext cx="2209680" cy="990720"/>
          </a:xfrm>
          <a:prstGeom prst="rect">
            <a:avLst/>
          </a:prstGeom>
          <a:solidFill>
            <a:srgbClr val="26334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7d769"/>
                </a:solidFill>
                <a:latin typeface="Arial"/>
              </a:rPr>
              <a:t>Phys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0"/>
          <p:cNvSpPr/>
          <p:nvPr/>
        </p:nvSpPr>
        <p:spPr>
          <a:xfrm>
            <a:off x="3886200" y="1523880"/>
            <a:ext cx="4114800" cy="990720"/>
          </a:xfrm>
          <a:prstGeom prst="rect">
            <a:avLst/>
          </a:prstGeom>
          <a:solidFill>
            <a:srgbClr val="5f9b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Cardiovascular disease, hypertension, head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Georgia"/>
              </a:rPr>
              <a:t>Consequences of Stress</a:t>
            </a:r>
            <a:endParaRPr b="0" lang="en-US" sz="4100" spc="-1" strike="noStrike">
              <a:solidFill>
                <a:srgbClr val="9d2512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Managemen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Objectives of the session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99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efine stres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99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dentify the types of stres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99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cognize the mechanisms of stres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99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dentify the relation of stress and our health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99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call the stress management strateg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99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343880" indent="-2239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1343880" indent="-223920">
              <a:spcBef>
                <a:spcPts val="451"/>
              </a:spcBef>
              <a:buClr>
                <a:srgbClr val="aebad5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and our health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Stress and the immune system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dical school examinations associated with decreases in cellular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mmun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and increases in proinflammatory and humoral immun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reases in vulnerability to infectious disease as well as allerg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fe stress is associated with 2-fold increase in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usceptibility to the common cold viru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re life stress is associated with a 4-fold increase in risk of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IV progressi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and 2.6-fold increase in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orta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and our health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08000" y="1341360"/>
            <a:ext cx="4176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Georgia"/>
              </a:rPr>
              <a:t>Stress and the cardiovascular system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diovascular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ortalit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tripled in this group (15%) compared to non-depressed patients (5%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68" name="Object 4"/>
          <p:cNvGraphicFramePr/>
          <p:nvPr/>
        </p:nvGraphicFramePr>
        <p:xfrm>
          <a:off x="4427640" y="2421000"/>
          <a:ext cx="471636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421000"/>
                    <a:ext cx="471636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4920" y="1890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Examination stress , how to handle i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Preparatio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100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Georgia"/>
              </a:rPr>
              <a:t>Simple study routine , have a clear plan of action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100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Georgia"/>
              </a:rPr>
              <a:t>Adequate early preparation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100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Georgia"/>
              </a:rPr>
              <a:t>Regular and systematic revision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100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Georgia"/>
              </a:rPr>
              <a:t>Practice  (Mock exams) as it would reduce anxiety 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Examination stress , how to handle i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me management 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90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Georgia"/>
              </a:rPr>
              <a:t>Priority tasks , evaluate how you are budgeting your time.</a:t>
            </a:r>
            <a:endParaRPr b="0" lang="en-US" sz="36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90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Georgia"/>
              </a:rPr>
              <a:t>Set achievable goals keeping in mind your strengths and weakness</a:t>
            </a:r>
            <a:endParaRPr b="0" lang="en-US" sz="36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90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Georgia"/>
              </a:rPr>
              <a:t>Make a realistic schedule and follow it through.</a:t>
            </a:r>
            <a:endParaRPr b="0" lang="en-US" sz="3600" spc="-1" strike="noStrike">
              <a:solidFill>
                <a:srgbClr val="1f497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Examination stress , how to handle i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tivation 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110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Georgia"/>
              </a:rPr>
              <a:t>Drive to achieve goals</a:t>
            </a:r>
            <a:endParaRPr b="0" lang="en-US" sz="44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110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Georgia"/>
              </a:rPr>
              <a:t>Don’t get discouraged’ learn to appreciate your strengths</a:t>
            </a:r>
            <a:endParaRPr b="0" lang="en-US" sz="44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110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Georgia"/>
              </a:rPr>
              <a:t>Learn from mistakes</a:t>
            </a:r>
            <a:endParaRPr b="0" lang="en-US" sz="44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110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Georgia"/>
              </a:rPr>
              <a:t>Visualize success</a:t>
            </a:r>
            <a:endParaRPr b="0" lang="en-US" sz="4400" spc="-1" strike="noStrike">
              <a:solidFill>
                <a:srgbClr val="1f497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Examination stress , how to handle i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intain confidence 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09040" indent="-253440">
              <a:spcBef>
                <a:spcPts val="90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Georgia"/>
              </a:rPr>
              <a:t>look at yourself without any judgment</a:t>
            </a:r>
            <a:endParaRPr b="0" lang="en-US" sz="3600" spc="-1" strike="noStrike">
              <a:solidFill>
                <a:srgbClr val="1f497d"/>
              </a:solidFill>
              <a:latin typeface="Georgia"/>
            </a:endParaRPr>
          </a:p>
          <a:p>
            <a:pPr lvl="1" marL="509040" indent="-253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Georgia"/>
            </a:endParaRPr>
          </a:p>
          <a:p>
            <a:pPr lvl="1" marL="509040" indent="-253440">
              <a:spcBef>
                <a:spcPts val="90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Georgia"/>
              </a:rPr>
              <a:t>Resist comparisons , don’t compare yourself to other people .compare yourself to the best you can do . In other  words , compete within yourself.</a:t>
            </a:r>
            <a:endParaRPr b="0" lang="en-US" sz="3600" spc="-1" strike="noStrike">
              <a:solidFill>
                <a:srgbClr val="1f497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Diagram 3" descr=""/>
          <p:cNvPicPr/>
          <p:nvPr/>
        </p:nvPicPr>
        <p:blipFill>
          <a:blip r:embed="rId1"/>
          <a:stretch/>
        </p:blipFill>
        <p:spPr>
          <a:xfrm>
            <a:off x="208080" y="360360"/>
            <a:ext cx="87278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Arial Narrow"/>
              </a:rPr>
              <a:t>Personal Managemen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wo Anti-Stress Approaches 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100000"/>
              </a:lnSpc>
              <a:spcBef>
                <a:spcPts val="901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4-Steps to Interrupting Stres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100000"/>
              </a:lnSpc>
              <a:spcBef>
                <a:spcPts val="901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Relaxation Respons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8a44d"/>
                </a:solidFill>
                <a:latin typeface="Arial Narrow"/>
              </a:rPr>
              <a:t>Interrupting Stress – A 4 Step Approach</a:t>
            </a:r>
            <a:endParaRPr b="0" lang="en-US" sz="32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09760" indent="-6094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ch time you encounter a stress…stop…before (automatic) thoughts escalate into worst possible scenario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eath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09760" indent="-6094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fter you stop, breathe deeply to release physical tension…most time one tends to hold breath in the midst being stressed…even a momentary interruption can help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flec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09760" indent="-6094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cus energy on problem &amp; reflect on the cause of str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hoo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09760" indent="-6094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ime to choose how to deal with str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Arial Narrow"/>
              </a:rPr>
              <a:t>Relaxation Response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Pick a focus word, phrase, image, or prayer; or focus on breath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Sit quietly in comfortable posi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Close eyes &amp; relax musc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Breathe slowly &amp; naturally – as you do, repeat focus word or phase as you exhal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When other thoughts come to mind, just go back to repetition of word or breath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Definitions??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1f497d"/>
                </a:solidFill>
                <a:latin typeface="Georgia"/>
              </a:rPr>
              <a:t>Stress is a condition or feeling experienced when a person perceives that demands exceed the personal and social resources.    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1f497d"/>
                </a:solidFill>
                <a:latin typeface="Georgia"/>
              </a:rPr>
              <a:t>                                                                           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1f497d"/>
                </a:solidFill>
                <a:latin typeface="Georgia"/>
              </a:rPr>
              <a:t>                                                                            </a:t>
            </a:r>
            <a:r>
              <a:rPr b="1" i="1" lang="en-CA" sz="2200" spc="-1" strike="noStrike">
                <a:solidFill>
                  <a:srgbClr val="1f497d"/>
                </a:solidFill>
                <a:latin typeface="Georgia"/>
              </a:rPr>
              <a:t>(</a:t>
            </a:r>
            <a:r>
              <a:rPr b="0" i="1" lang="en-US" sz="2200" spc="-1" strike="noStrike">
                <a:solidFill>
                  <a:srgbClr val="1f497d"/>
                </a:solidFill>
                <a:latin typeface="Georgia"/>
              </a:rPr>
              <a:t>Richard S Lazarus)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management strategy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strategy #1 :Avoid unnecessary stress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748080" indent="-207720">
              <a:spcBef>
                <a:spcPts val="499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748080" indent="-20772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Georgia"/>
              </a:rPr>
              <a:t>Learn how to say “no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48080" indent="-207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48080" indent="-20772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Georgia"/>
              </a:rPr>
              <a:t>Avoid people who stress you out</a:t>
            </a: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48080" indent="-207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48080" indent="-20772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Georgia"/>
              </a:rPr>
              <a:t>Take control of your environment</a:t>
            </a: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48080" indent="-207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48080" indent="-20772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void hot-button topic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48080" indent="-207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management strategy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179280" y="1267920"/>
            <a:ext cx="8785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Georgia"/>
              </a:rPr>
              <a:t>Strategy #2: Alter the situation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Georgia"/>
              </a:rPr>
              <a:t>Express your feelings instead of bottling them 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Be willing to compromi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Be more assert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anage your time bet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management strategy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Georgia"/>
              </a:rPr>
              <a:t>strategy #3</a:t>
            </a:r>
            <a:r>
              <a:rPr b="1" lang="en-CA" sz="2800" spc="-1" strike="noStrike">
                <a:solidFill>
                  <a:srgbClr val="000000"/>
                </a:solidFill>
                <a:latin typeface="Georgia"/>
              </a:rPr>
              <a:t>: Adapt to the stressor 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901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eframe problem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901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Georgia"/>
              </a:rPr>
              <a:t>Look at the big pictur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901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ocus on the positiv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management strategy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Georgia"/>
              </a:rPr>
              <a:t>strategy #4: Accept the things you can’t change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Georgia"/>
              </a:rPr>
              <a:t>Don’t try to control the uncontrollab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hare your feelin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arn to forg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management strategy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Georgia"/>
              </a:rPr>
              <a:t>strategy #5: Make time for fun and relaxation 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et aside relaxation ti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onnect with oth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Georgia"/>
              </a:rPr>
              <a:t>Do something you enjoy every d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Georgia"/>
              </a:rPr>
              <a:t>Keep your sense of hum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management strategy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78920" y="12682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Georgia"/>
              </a:rPr>
              <a:t>strategy #6: Adopt a healthy lifestyl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Exercise regular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Eat a healthy di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educe caffeine and sug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Georgia"/>
              </a:rPr>
              <a:t>Avoid alcohol, cigarettes, and dru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Get enough slee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Stress management strategy for a doctor 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98" name="Rectangle 3"/>
          <p:cNvSpPr/>
          <p:nvPr/>
        </p:nvSpPr>
        <p:spPr>
          <a:xfrm>
            <a:off x="457200" y="1886040"/>
            <a:ext cx="400860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c00000"/>
                </a:solidFill>
                <a:latin typeface="Georgia"/>
              </a:rPr>
              <a:t>Stress due 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4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Georgia"/>
                <a:ea typeface="Arial"/>
              </a:rPr>
              <a:t>Night ca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4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Georgia"/>
                <a:ea typeface="Arial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4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Georgia"/>
                <a:ea typeface="Arial"/>
              </a:rPr>
              <a:t>Contact with dy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4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Georgia"/>
                <a:ea typeface="Arial"/>
              </a:rPr>
              <a:t>Dealing with rel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4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Georgia"/>
                <a:ea typeface="Arial"/>
              </a:rPr>
              <a:t>Lack of recogn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4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Georgia"/>
                <a:ea typeface="Arial"/>
              </a:rPr>
              <a:t>24 hr co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4"/>
          <p:cNvSpPr/>
          <p:nvPr/>
        </p:nvSpPr>
        <p:spPr>
          <a:xfrm>
            <a:off x="4627440" y="1886040"/>
            <a:ext cx="400860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f6228"/>
                </a:solidFill>
                <a:latin typeface="Georgia"/>
              </a:rPr>
              <a:t>Solu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f6228"/>
                </a:solidFill>
                <a:latin typeface="Georgia"/>
                <a:ea typeface="Arial"/>
              </a:rPr>
              <a:t>Time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f6228"/>
                </a:solidFill>
                <a:latin typeface="Georgia"/>
                <a:ea typeface="Arial"/>
              </a:rPr>
              <a:t>Decrease interru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f6228"/>
                </a:solidFill>
                <a:latin typeface="Georgia"/>
                <a:ea typeface="Arial"/>
              </a:rPr>
              <a:t>Decrease paper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f6228"/>
                </a:solidFill>
                <a:latin typeface="Georgia"/>
                <a:ea typeface="Arial"/>
              </a:rPr>
              <a:t>Good staff relation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f6228"/>
                </a:solidFill>
                <a:latin typeface="Georgia"/>
                <a:ea typeface="Arial"/>
              </a:rPr>
              <a:t>Deleg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f6228"/>
                </a:solidFill>
                <a:latin typeface="Georgia"/>
                <a:ea typeface="Arial"/>
              </a:rPr>
              <a:t>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f6228"/>
                </a:solidFill>
                <a:latin typeface="Georgia"/>
                <a:ea typeface="Arial"/>
              </a:rPr>
              <a:t>Relax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f6228"/>
                </a:solidFill>
                <a:latin typeface="Georgia"/>
                <a:ea typeface="Arial"/>
              </a:rPr>
              <a:t>Protected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7933c"/>
                </a:solidFill>
                <a:latin typeface="Georgia"/>
              </a:rPr>
              <a:t>CONCLUSION</a:t>
            </a:r>
            <a:endParaRPr b="0" lang="en-US" sz="36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762120" y="1981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ne third of the illnesses are caused by Stress, either directly or indirectl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If handled properly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274680" algn="just">
              <a:lnSpc>
                <a:spcPct val="90000"/>
              </a:lnSpc>
              <a:spcBef>
                <a:spcPts val="5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1f497d"/>
                </a:solidFill>
                <a:latin typeface="Georgia"/>
              </a:rPr>
              <a:t>Stress can help improve performance, </a:t>
            </a:r>
            <a:endParaRPr b="0" lang="en-US" sz="2300" spc="-1" strike="noStrike">
              <a:solidFill>
                <a:srgbClr val="1f497d"/>
              </a:solidFill>
              <a:latin typeface="Georgia"/>
            </a:endParaRPr>
          </a:p>
          <a:p>
            <a:pPr lvl="1" marL="274680" algn="just">
              <a:lnSpc>
                <a:spcPct val="90000"/>
              </a:lnSpc>
              <a:spcBef>
                <a:spcPts val="5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1f497d"/>
                </a:solidFill>
                <a:latin typeface="Georgia"/>
              </a:rPr>
              <a:t>but too much stress without appropriate strategy to control it can be harmful for the mind and the body.</a:t>
            </a:r>
            <a:endParaRPr b="0" lang="en-US" sz="2300" spc="-1" strike="noStrike">
              <a:solidFill>
                <a:srgbClr val="1f497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WordArt 2"/>
          <p:cNvSpPr txBox="1"/>
          <p:nvPr/>
        </p:nvSpPr>
        <p:spPr>
          <a:xfrm>
            <a:off x="685800" y="762120"/>
            <a:ext cx="7343640" cy="2361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ahoma"/>
              </a:rPr>
              <a:t>شكــــــراً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ahoma"/>
              <a:ea typeface="Tahoma"/>
            </a:endParaRPr>
          </a:p>
        </p:txBody>
      </p:sp>
      <p:sp>
        <p:nvSpPr>
          <p:cNvPr id="803" name="WordArt 3"/>
          <p:cNvSpPr txBox="1"/>
          <p:nvPr/>
        </p:nvSpPr>
        <p:spPr>
          <a:xfrm>
            <a:off x="685800" y="4038480"/>
            <a:ext cx="7800840" cy="2210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ahoma"/>
              </a:rPr>
              <a:t>THANK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ahoma"/>
              <a:ea typeface="Tahoma"/>
            </a:endParaRPr>
          </a:p>
        </p:txBody>
      </p:sp>
      <p:sp>
        <p:nvSpPr>
          <p:cNvPr id="804" name="Rectangle 4"/>
          <p:cNvSpPr/>
          <p:nvPr/>
        </p:nvSpPr>
        <p:spPr>
          <a:xfrm>
            <a:off x="4876920" y="6477120"/>
            <a:ext cx="365760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rebuchet MS"/>
                <a:ea typeface="Arial"/>
              </a:rPr>
              <a:t>Dept. of Medical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Georgia"/>
              </a:rPr>
              <a:t>If these capacities handle the demand and enjoy the stimulation involved, then stress is welcome and helpful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Georgia"/>
              </a:rPr>
              <a:t>If the capacities cannot handle the demand, then stress is unwelcome and unhelpful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Line 4"/>
          <p:cNvSpPr/>
          <p:nvPr/>
        </p:nvSpPr>
        <p:spPr>
          <a:xfrm>
            <a:off x="457200" y="457200"/>
            <a:ext cx="0" cy="601992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>
            <a:off x="457200" y="457200"/>
            <a:ext cx="822960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8686800" y="457200"/>
            <a:ext cx="0" cy="601992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7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7933c"/>
                </a:solidFill>
                <a:latin typeface="Georgia"/>
              </a:rPr>
              <a:t>STRESS AS A RESPONSE </a:t>
            </a:r>
            <a:endParaRPr b="0" lang="en-US" sz="32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Georgia"/>
              </a:rPr>
              <a:t>It results in certain physiological changes: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75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Georgia"/>
              </a:rPr>
              <a:t>gastrointestinal, </a:t>
            </a:r>
            <a:endParaRPr b="0" lang="en-US" sz="27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75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Georgia"/>
              </a:rPr>
              <a:t>glandular and </a:t>
            </a:r>
            <a:endParaRPr b="0" lang="en-US" sz="27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75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Georgia"/>
              </a:rPr>
              <a:t>cardiovascular disorders </a:t>
            </a:r>
            <a:endParaRPr b="0" lang="en-US" sz="27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75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Georgia"/>
              </a:rPr>
              <a:t>etc.</a:t>
            </a:r>
            <a:endParaRPr b="0" lang="en-US" sz="27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Georgia"/>
              </a:rPr>
              <a:t>It affects the entire body, not just a single part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Georgia"/>
              </a:rPr>
              <a:t>Differences in response within and between individuals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Line 4"/>
          <p:cNvSpPr/>
          <p:nvPr/>
        </p:nvSpPr>
        <p:spPr>
          <a:xfrm>
            <a:off x="8686800" y="457200"/>
            <a:ext cx="0" cy="601992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"/>
          <p:cNvSpPr/>
          <p:nvPr/>
        </p:nvSpPr>
        <p:spPr>
          <a:xfrm>
            <a:off x="457200" y="457200"/>
            <a:ext cx="822960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457200" y="457200"/>
            <a:ext cx="0" cy="601992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7"/>
          <p:cNvSpPr/>
          <p:nvPr/>
        </p:nvSpPr>
        <p:spPr>
          <a:xfrm>
            <a:off x="457200" y="6477120"/>
            <a:ext cx="822960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23640" y="1196640"/>
            <a:ext cx="848196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alth professionals face many stressors in their work environment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leep depriva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ruptions in social suppo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nical vs. educational conflict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ing for critically ill or dying pati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ertification or licensing examin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(French et al., 1982; Peterlini et al., 200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2 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700"/>
              </a:spcBef>
              <a:buClr>
                <a:srgbClr val="aebad5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88a44d"/>
                </a:solidFill>
                <a:latin typeface="Georgia"/>
              </a:rPr>
              <a:t>stress</a:t>
            </a:r>
            <a:endParaRPr b="0" lang="en-US" sz="4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Can be useful in enhancing performance &amp; efficienc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Can be harmful &amp; negative especially when it becomes chronic &amp; excessiv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Picture 3" descr=""/>
          <p:cNvPicPr/>
          <p:nvPr/>
        </p:nvPicPr>
        <p:blipFill>
          <a:blip r:embed="rId1"/>
          <a:stretch/>
        </p:blipFill>
        <p:spPr>
          <a:xfrm>
            <a:off x="4800600" y="2198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53735"/>
                </a:solidFill>
                <a:latin typeface="Georgia"/>
              </a:rPr>
              <a:t>HUMAN FUNCTION CURVE</a:t>
            </a:r>
            <a:endParaRPr b="0" lang="en-US" sz="36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36" name="Line 4"/>
          <p:cNvSpPr/>
          <p:nvPr/>
        </p:nvSpPr>
        <p:spPr>
          <a:xfrm>
            <a:off x="8686800" y="457200"/>
            <a:ext cx="0" cy="640080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5"/>
          <p:cNvSpPr/>
          <p:nvPr/>
        </p:nvSpPr>
        <p:spPr>
          <a:xfrm>
            <a:off x="457200" y="457200"/>
            <a:ext cx="0" cy="640080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6"/>
          <p:cNvSpPr/>
          <p:nvPr/>
        </p:nvSpPr>
        <p:spPr>
          <a:xfrm>
            <a:off x="457200" y="6705720"/>
            <a:ext cx="822960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7"/>
          <p:cNvSpPr/>
          <p:nvPr/>
        </p:nvSpPr>
        <p:spPr>
          <a:xfrm>
            <a:off x="457200" y="457200"/>
            <a:ext cx="822960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8" descr="line"/>
          <p:cNvPicPr/>
          <p:nvPr/>
        </p:nvPicPr>
        <p:blipFill>
          <a:blip r:embed="rId1"/>
          <a:stretch/>
        </p:blipFill>
        <p:spPr>
          <a:xfrm>
            <a:off x="1600200" y="1752480"/>
            <a:ext cx="5791320" cy="4157640"/>
          </a:xfrm>
          <a:prstGeom prst="rect">
            <a:avLst/>
          </a:prstGeom>
          <a:ln w="0">
            <a:noFill/>
          </a:ln>
        </p:spPr>
      </p:pic>
      <p:sp>
        <p:nvSpPr>
          <p:cNvPr id="641" name="Line 9"/>
          <p:cNvSpPr/>
          <p:nvPr/>
        </p:nvSpPr>
        <p:spPr>
          <a:xfrm flipV="1">
            <a:off x="1676520" y="1828800"/>
            <a:ext cx="0" cy="403848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0"/>
          <p:cNvSpPr/>
          <p:nvPr/>
        </p:nvSpPr>
        <p:spPr>
          <a:xfrm>
            <a:off x="1676520" y="5791320"/>
            <a:ext cx="571500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2"/>
          <p:cNvSpPr/>
          <p:nvPr/>
        </p:nvSpPr>
        <p:spPr>
          <a:xfrm>
            <a:off x="3733920" y="12952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Intende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3"/>
          <p:cNvSpPr/>
          <p:nvPr/>
        </p:nvSpPr>
        <p:spPr>
          <a:xfrm>
            <a:off x="5562720" y="19051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Exhau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4"/>
          <p:cNvSpPr/>
          <p:nvPr/>
        </p:nvSpPr>
        <p:spPr>
          <a:xfrm>
            <a:off x="6095880" y="2666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III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5"/>
          <p:cNvSpPr/>
          <p:nvPr/>
        </p:nvSpPr>
        <p:spPr>
          <a:xfrm>
            <a:off x="6477120" y="3733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6"/>
          <p:cNvSpPr/>
          <p:nvPr/>
        </p:nvSpPr>
        <p:spPr>
          <a:xfrm>
            <a:off x="3657600" y="2743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Fati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7"/>
          <p:cNvSpPr/>
          <p:nvPr/>
        </p:nvSpPr>
        <p:spPr>
          <a:xfrm>
            <a:off x="4114800" y="3276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Actual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8"/>
          <p:cNvSpPr/>
          <p:nvPr/>
        </p:nvSpPr>
        <p:spPr>
          <a:xfrm>
            <a:off x="6477120" y="5334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Break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9"/>
          <p:cNvSpPr/>
          <p:nvPr/>
        </p:nvSpPr>
        <p:spPr>
          <a:xfrm>
            <a:off x="2057400" y="5257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Healthy 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0"/>
          <p:cNvSpPr/>
          <p:nvPr/>
        </p:nvSpPr>
        <p:spPr>
          <a:xfrm>
            <a:off x="1143000" y="1752480"/>
            <a:ext cx="533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1"/>
          <p:cNvSpPr/>
          <p:nvPr/>
        </p:nvSpPr>
        <p:spPr>
          <a:xfrm>
            <a:off x="2743200" y="58514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OU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2"/>
          <p:cNvSpPr/>
          <p:nvPr/>
        </p:nvSpPr>
        <p:spPr>
          <a:xfrm>
            <a:off x="1371600" y="6099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 = The point at which minimum arousal may bring on a break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 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chanisms of stress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ght-or-Fligh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The General Adaptation Syndrome and Burnout</a:t>
            </a:r>
            <a:br>
              <a:rPr sz="2700"/>
            </a:b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4:19:33Z</dcterms:created>
  <dc:creator>Sami Alnassar</dc:creator>
  <dc:description/>
  <dc:language>en-US</dc:language>
  <cp:lastModifiedBy>kk101452</cp:lastModifiedBy>
  <dcterms:modified xsi:type="dcterms:W3CDTF">2015-10-04T06:47:48Z</dcterms:modified>
  <cp:revision>197</cp:revision>
  <dc:subject/>
  <dc:title>Stress Managment</dc:title>
</cp:coreProperties>
</file>