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1.png" ContentType="image/png"/>
  <Override PartName="/ppt/media/image71.wmf" ContentType="image/x-wmf"/>
  <Override PartName="/ppt/media/image29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.jpeg" ContentType="image/jpeg"/>
  <Override PartName="/ppt/media/image73.wmf" ContentType="image/x-wmf"/>
  <Override PartName="/ppt/media/image24.wmf" ContentType="image/x-wmf"/>
  <Override PartName="/ppt/media/image61.wmf" ContentType="image/x-wmf"/>
  <Override PartName="/ppt/media/image72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74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B506-3BC9-46A6-BD99-3E2D44104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FFC-AA06-4737-899B-63F02BCE2B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58D3-052C-4554-9C9D-04A990BD39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This reduces our ability to work effectively with other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60CD-4621-4794-A835-26107EB3D7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9FD1-CA16-40CD-A4A1-9632FFCB22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A459-4631-4F29-A22A-857B4BC6C3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5B53-C99B-43F0-A749-6715BA11D9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FDDC-DC67-4486-AD66-8390289BE64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7466-BF37-42BA-966F-4C32C246BE4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4519-A152-42BC-BEF1-3E9985AFC18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6000-027A-4B50-B789-9E5B74D10B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3969-CA65-41D8-8448-CD943E1AAD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1814-0046-4235-81E6-A574A768A77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628E-7356-49EA-89AF-26EAE2CF33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1890-C743-4EDB-8DC5-145984619F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2E06-3ABD-445C-BB61-C92518792B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4C77-2EA7-441F-ADDD-7DE33CDFCD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6EC1-CC30-47E7-B0FB-4DEC06CC9F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4A1-1884-44AC-95B3-D4DB4535F95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CBF7-915E-4FAD-8095-375B259A36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20AD-EDC1-43A5-B36F-9EDF2B9BFA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0517-1AEB-4375-BE1F-FE0ED4C6FA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8D9E-41C3-45AD-8D5A-1FBD8712DF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2FDC-BFEE-4ABA-9A41-B4D12BE899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B302-7ECE-4E86-B28B-B6B4B359CBB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F584-DA99-49A3-97B5-08C3272597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FB5F-0D76-4880-99B8-75934C79F6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A02-C0C8-4DE3-9D59-0839491050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F1F4-6FD3-4E14-A7E5-8A6F7294B9E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DF17-724A-4DE0-9B65-5146397D9D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7CE-9C29-49DF-B5C2-F7341559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87C-9116-4AC7-9C85-C739E796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EC397C-4FBB-4F9F-B2C0-47B07A2B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8EE30-63D0-4CAD-9647-13F5217D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05D58-C2D6-42E0-BAD2-51A1AAF8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3B36E-AE58-43CA-A57D-973352A4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21EAEE-0864-4D19-81E8-CDAEE9B0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A693E-8125-4EF2-B172-357AFEFB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0BF2B7-5D4D-4523-B8C1-4735DEB6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531407-F76D-4909-BDF4-2B49A085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DEAD3-2703-40F5-A4FF-05F3D8B1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2F06A1-6874-4664-B439-F0855AE9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326-5666-486A-9114-82DC0C4B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FF2E1-6F86-4AEC-9C2B-B8332C13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F477E7-DC49-41E3-8CE3-4C756A8E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80CB0A-B654-4B14-9D20-DD226AA0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B3EC21-7D04-4611-BD3F-51A6D12D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CBCDF6-A34D-436D-AC74-3FF78DF2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6CBC0-4E96-49FB-8490-F6F50512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1B97EE-8860-4AC6-BCF2-CEBA3A9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BFACAC-5312-4F48-961F-E8721692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77C9E-D7C5-4D39-A243-1D2BA37D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74D53-886A-458B-9DA2-5E2D96574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3C6C-D570-49C0-BAC5-1DF2F3FC8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305F97-F109-4457-A71C-8914ABD8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52284-CD78-4785-9D0A-4D88448F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73799-E2BA-4144-BD16-49759167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34743-040B-4463-8A06-86AEB729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B63F7-8F06-46E5-82F2-790F1F74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75557-7557-4201-8AB2-AE6E6340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CDFDE-C50A-424B-88A9-97619911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3F953-C844-492E-93E3-7809C85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2CD1-B026-40AC-9869-29CA2112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5BBD2-14FF-48C2-AD73-F04A2ECF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1F6-02FC-4743-80A0-E84DD7B5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2D3B9-76C8-43C9-A1A3-F897B57D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8E92-F683-4F8A-9B99-D794BA35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847AC-4A8F-4688-BDF1-B8B061D6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69B21-B971-49BD-BA79-4FA5C8121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4D874-1A66-4C52-9E9C-1B972AB1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4F25A3-3091-4D6F-BB70-C5266B0C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A2B67-6A68-421A-BD79-99FB20DC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87E09-7948-4D86-9C1B-D3DD8324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44E5D2-D40D-4ED8-B233-B11D742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999FE4-33B2-4E59-8A8F-67BE36E0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0438-DCF5-4069-8283-687A4179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30C942-1E58-4B31-A2EA-B33FC909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450154-E54D-4700-B655-10D6C1C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49F35-3F66-49E9-A9C0-79565410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DE2174-8B61-4569-B1BB-4C0848E5C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8F9CB8-23C9-4107-ABFC-CFFBC585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6366-8E7C-4B81-9625-DD5F0F17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51EA-7018-4BCF-B186-13CEE690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BE91-1D7D-4220-BD90-0FD30520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CA27-3C1D-474A-BC8E-C603F4D1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0193-DE7F-482F-AA82-605B2F1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2C5-847B-4976-902F-A7FE03F0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9BA1-46BB-4102-B78B-3CB7420E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37B8-F243-4012-B0F1-106AA74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0B17-54B6-4D91-AB3F-86775EAD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1CF8-EC0B-4A82-AF9E-22F70DB9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77F3-41B3-401C-84EE-E2C3EEEF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1A385-72AA-4E0C-A5AA-929C1ACB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AE58-72A9-4ABE-8212-1285C041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6044-F856-4106-9CDC-0A4F3153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D4669-C292-4538-9F5C-9F02B802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AB20-565F-4620-BFBD-EBEF4A9A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A07-67D9-470C-8231-660069CD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5907-E012-4612-B1D3-0272E33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B12E-1021-4BB0-A0C8-720E1216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0AAD1-6A5D-4946-8F8A-13A1D8C5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7F367-D938-4B58-B87C-68F6D91D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AABA-F9BF-4484-84EC-1F8D2F8E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93DA-4D9F-4782-AEE0-7BDDFEE7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3142-0AC0-49F6-B9E9-4963501E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7558-3BF7-49AD-90E5-9C08A37A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98802-439D-47F5-ACD5-1577DD8D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66B1A-9F7B-4C03-9C86-B94EBDBA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3F98-3713-4354-A238-C5EBE127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1BC1-AB5C-4EAE-9ED5-5C757B6B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ED8CA-338B-400F-A1E6-F01C262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AAD2-F9A8-4D27-8E61-384DF616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1B628-FA64-4C9F-AC81-0C26CF7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69EE-6D22-4E39-AF83-80DC539D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2F3B6-EFC5-425E-BBC1-0C93C4B2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420BB-AAA9-4573-ADCE-EF245EB4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63106-6559-469A-BDF3-37F1BAC0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1E827-6D1B-46A7-8853-91661DB3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3DC6C-E3A5-42A8-9008-B0292D12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2EC-C7F7-4075-AD89-61819E9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D2D3-87A7-4987-9DD0-9544739F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F6ECD-526B-4590-B4F0-3F2D1A40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5385-5993-4C02-B622-116A65E0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A319-6FF9-49A5-81D7-0DDAD977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A3B51-4497-4F3A-9BC7-8E4BD659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F5EDB-7444-4141-BE30-D19AE85C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7002-BA79-4CD7-965D-44846B09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CFCD3-3B29-48A5-BAB7-8AE551E2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EABB-8AD1-413C-A261-2720BED4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90CC1-8C2D-47EC-8DB9-AF7D9416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9AD-3AD1-46C3-AD71-33E9CFC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3A5F7-4DB4-44F8-A706-8CCD0715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58A70-EA79-4B8B-9112-812CABD1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779AC-F961-4171-A11C-2DA8CB84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309B8-21FA-4C4E-899B-9858400D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09B6D-6077-4918-BA44-29BF60C9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A06D3-801B-49D3-8DBD-9EE35215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146EE-4BD4-4A43-A2D5-2BED8650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2C9C3-1E54-4CE2-89FE-1629F7E9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1876B-BD57-4508-8706-E88EF670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7F8E3-8DB5-4FEA-B93B-CF3F4201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0A5B-5E1C-4BB0-A07C-2BDFA9F8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F794-9637-4D77-BD38-19339AA9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CED38-E29A-41AA-803D-0E9D33F2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7768A-FD6A-46F7-BE8F-CD2071B0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45051-DB55-4EE5-A519-F99E53B0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CCC4D-7BF6-4412-BA40-06389EE5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22F32-E551-4594-BD2A-52A80D19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1342F-DC75-444D-A17D-B34F9E2C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1E5C0-7358-4D58-A7AC-8FA0CC8E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A54F6-AF48-455E-BB0F-3E6C0B48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F9E3-B0A5-45C0-88AC-9CE9DF6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D668-CA3F-4EB4-8197-C4A0EE2D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F54C-0F69-4E50-96B3-C80DD60B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48ADC-D201-4CD3-BA4C-E719E03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F7192-90E4-4CE5-984E-0677C2DB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AE92F-CAC7-4E96-AC9D-AAA74A42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20AEA-8FE8-4441-81C0-0186E7A5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A0034-0406-4945-A0E5-578C6267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E90B7-C61B-437B-BFEB-C1016700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11848-9DEE-4F3C-A83B-7463B236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E6235-66A1-49D8-8025-995E94E7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03192-4E7D-4BCF-A267-C954D23D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7F3-318D-48F1-9589-107C5C2B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85EE6-E23E-4F47-B06A-15CBB96B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AB412-EDEA-49CC-A5E3-901F8223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C065A-B330-4E91-B4F5-1D61E6C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47C58-CAEF-4F0F-954E-DFB2521F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D9E4D-80AA-4E5A-ADBF-F72A7D97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2C824-793E-4118-A049-F288965E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61A6B-A439-4A18-8836-A2CE1F7B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E6815D-87C7-42C5-8FC9-9A14BD184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10CA4E-E1CF-4686-9675-F7F7B150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137535-7665-4A66-B522-B82B0ADF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ADE7-671C-49D0-ADE2-F2AD36E9252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D812-CAB4-40B8-AFB4-CA996EEB02AF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008C-79FF-49A7-9A2E-84687A79C37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869F-108B-4524-A4C9-6555D41A521F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1FB5-0EB9-48D9-A83D-32CCCD290C5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ED22-A84B-45E0-BC81-6C7FBBAE6ECA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4B5A-E5CB-4B22-9CDC-F897560FAEE3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180-9234-4B5A-976D-F0E9F17505B7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CB35-C689-4D58-B2DB-1A610D6B48F2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A11-0D4A-4DB2-930D-D96D40F3E66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D61E-3ADB-4293-8750-C4098A8B4B9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d2512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ebad5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8C9F-6FCE-4A39-9FBC-5A542B76662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wmf"/><Relationship Id="rId17" Type="http://schemas.openxmlformats.org/officeDocument/2006/relationships/image" Target="../media/image19.wmf"/><Relationship Id="rId18" Type="http://schemas.openxmlformats.org/officeDocument/2006/relationships/image" Target="../media/image20.wmf"/><Relationship Id="rId19" Type="http://schemas.openxmlformats.org/officeDocument/2006/relationships/image" Target="../media/image21.wmf"/><Relationship Id="rId20" Type="http://schemas.openxmlformats.org/officeDocument/2006/relationships/image" Target="../media/image22.wmf"/><Relationship Id="rId21" Type="http://schemas.openxmlformats.org/officeDocument/2006/relationships/image" Target="../media/image23.wmf"/><Relationship Id="rId22" Type="http://schemas.openxmlformats.org/officeDocument/2006/relationships/image" Target="../media/image24.wmf"/><Relationship Id="rId23" Type="http://schemas.openxmlformats.org/officeDocument/2006/relationships/image" Target="../media/image25.wmf"/><Relationship Id="rId24" Type="http://schemas.openxmlformats.org/officeDocument/2006/relationships/image" Target="../media/image26.wmf"/><Relationship Id="rId25" Type="http://schemas.openxmlformats.org/officeDocument/2006/relationships/image" Target="../media/image27.wmf"/><Relationship Id="rId26" Type="http://schemas.openxmlformats.org/officeDocument/2006/relationships/image" Target="../media/image28.wmf"/><Relationship Id="rId27" Type="http://schemas.openxmlformats.org/officeDocument/2006/relationships/image" Target="../media/image29.wmf"/><Relationship Id="rId28" Type="http://schemas.openxmlformats.org/officeDocument/2006/relationships/image" Target="../media/image30.wmf"/><Relationship Id="rId29" Type="http://schemas.openxmlformats.org/officeDocument/2006/relationships/image" Target="../media/image31.wmf"/><Relationship Id="rId30" Type="http://schemas.openxmlformats.org/officeDocument/2006/relationships/image" Target="../media/image32.wmf"/><Relationship Id="rId31" Type="http://schemas.openxmlformats.org/officeDocument/2006/relationships/image" Target="../media/image33.wmf"/><Relationship Id="rId32" Type="http://schemas.openxmlformats.org/officeDocument/2006/relationships/image" Target="../media/image34.wmf"/><Relationship Id="rId33" Type="http://schemas.openxmlformats.org/officeDocument/2006/relationships/image" Target="../media/image35.wmf"/><Relationship Id="rId34" Type="http://schemas.openxmlformats.org/officeDocument/2006/relationships/image" Target="../media/image36.wmf"/><Relationship Id="rId35" Type="http://schemas.openxmlformats.org/officeDocument/2006/relationships/image" Target="../media/image37.wmf"/><Relationship Id="rId36" Type="http://schemas.openxmlformats.org/officeDocument/2006/relationships/slideLayout" Target="../slideLayouts/slideLayout85.xml"/><Relationship Id="rId3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image" Target="../media/image49.wmf"/><Relationship Id="rId13" Type="http://schemas.openxmlformats.org/officeDocument/2006/relationships/image" Target="../media/image50.wmf"/><Relationship Id="rId14" Type="http://schemas.openxmlformats.org/officeDocument/2006/relationships/image" Target="../media/image51.wmf"/><Relationship Id="rId15" Type="http://schemas.openxmlformats.org/officeDocument/2006/relationships/image" Target="../media/image52.wmf"/><Relationship Id="rId16" Type="http://schemas.openxmlformats.org/officeDocument/2006/relationships/image" Target="../media/image53.wmf"/><Relationship Id="rId17" Type="http://schemas.openxmlformats.org/officeDocument/2006/relationships/image" Target="../media/image54.wmf"/><Relationship Id="rId18" Type="http://schemas.openxmlformats.org/officeDocument/2006/relationships/image" Target="../media/image55.wmf"/><Relationship Id="rId19" Type="http://schemas.openxmlformats.org/officeDocument/2006/relationships/image" Target="../media/image56.wmf"/><Relationship Id="rId20" Type="http://schemas.openxmlformats.org/officeDocument/2006/relationships/image" Target="../media/image57.wmf"/><Relationship Id="rId21" Type="http://schemas.openxmlformats.org/officeDocument/2006/relationships/image" Target="../media/image58.wmf"/><Relationship Id="rId22" Type="http://schemas.openxmlformats.org/officeDocument/2006/relationships/image" Target="../media/image59.wmf"/><Relationship Id="rId23" Type="http://schemas.openxmlformats.org/officeDocument/2006/relationships/image" Target="../media/image60.wmf"/><Relationship Id="rId24" Type="http://schemas.openxmlformats.org/officeDocument/2006/relationships/image" Target="../media/image61.wmf"/><Relationship Id="rId25" Type="http://schemas.openxmlformats.org/officeDocument/2006/relationships/image" Target="../media/image62.wmf"/><Relationship Id="rId26" Type="http://schemas.openxmlformats.org/officeDocument/2006/relationships/image" Target="../media/image63.wmf"/><Relationship Id="rId27" Type="http://schemas.openxmlformats.org/officeDocument/2006/relationships/image" Target="../media/image64.wmf"/><Relationship Id="rId28" Type="http://schemas.openxmlformats.org/officeDocument/2006/relationships/image" Target="../media/image65.wmf"/><Relationship Id="rId29" Type="http://schemas.openxmlformats.org/officeDocument/2006/relationships/image" Target="../media/image66.wmf"/><Relationship Id="rId30" Type="http://schemas.openxmlformats.org/officeDocument/2006/relationships/image" Target="../media/image67.wmf"/><Relationship Id="rId31" Type="http://schemas.openxmlformats.org/officeDocument/2006/relationships/image" Target="../media/image68.wmf"/><Relationship Id="rId32" Type="http://schemas.openxmlformats.org/officeDocument/2006/relationships/image" Target="../media/image69.wmf"/><Relationship Id="rId33" Type="http://schemas.openxmlformats.org/officeDocument/2006/relationships/image" Target="../media/image70.wmf"/><Relationship Id="rId34" Type="http://schemas.openxmlformats.org/officeDocument/2006/relationships/image" Target="../media/image71.wmf"/><Relationship Id="rId35" Type="http://schemas.openxmlformats.org/officeDocument/2006/relationships/image" Target="../media/image72.wmf"/><Relationship Id="rId36" Type="http://schemas.openxmlformats.org/officeDocument/2006/relationships/slideLayout" Target="../slideLayouts/slideLayout85.xml"/><Relationship Id="rId3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3857760"/>
            <a:ext cx="640080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LEARNING SKILL COURS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DEPT. OF MEDICAL EDUC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Georgia"/>
              </a:rPr>
              <a:t>COLLEGE OF MEDICIN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53735"/>
                </a:solidFill>
                <a:latin typeface="Georgia"/>
              </a:rPr>
              <a:t>Stress Management</a:t>
            </a:r>
            <a:endParaRPr b="0" lang="en-US" sz="42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Mechanisms of stress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ight-or-Flight </a:t>
            </a: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(Cannon in 1932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When an animal experiences a shock or perceives a threat, it quickly releases hormones that help it to surviv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These hormones help us to run faster and fight hard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Mechanisms of stress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301320" y="1526760"/>
            <a:ext cx="8504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ower, but little control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it difficult to execute precise, controlled ski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We find ourselves more accident-prone and less able to make good deci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Is easy to think that this fight-or-flight, or adrenaline, response is only triggered by obviously life-threatening dang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4"/>
          <p:cNvSpPr/>
          <p:nvPr/>
        </p:nvSpPr>
        <p:spPr>
          <a:xfrm>
            <a:off x="1981080" y="2133720"/>
            <a:ext cx="6705720" cy="4114800"/>
          </a:xfrm>
          <a:prstGeom prst="rect">
            <a:avLst/>
          </a:prstGeom>
          <a:solidFill>
            <a:srgbClr val="0000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4"/>
          <p:cNvSpPr/>
          <p:nvPr/>
        </p:nvSpPr>
        <p:spPr>
          <a:xfrm>
            <a:off x="4076640" y="2216160"/>
            <a:ext cx="0" cy="4006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5"/>
          <p:cNvSpPr/>
          <p:nvPr/>
        </p:nvSpPr>
        <p:spPr>
          <a:xfrm>
            <a:off x="6477120" y="2216160"/>
            <a:ext cx="0" cy="400680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6"/>
          <p:cNvSpPr/>
          <p:nvPr/>
        </p:nvSpPr>
        <p:spPr>
          <a:xfrm>
            <a:off x="2006640" y="4095720"/>
            <a:ext cx="661680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2196000" y="1452600"/>
            <a:ext cx="185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larm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4736520" y="1452600"/>
            <a:ext cx="1385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969960" y="1452600"/>
            <a:ext cx="1414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"/>
          <p:cNvSpPr/>
          <p:nvPr/>
        </p:nvSpPr>
        <p:spPr>
          <a:xfrm>
            <a:off x="526680" y="3349800"/>
            <a:ext cx="13852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Level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11"/>
          <p:cNvSpPr/>
          <p:nvPr/>
        </p:nvSpPr>
        <p:spPr>
          <a:xfrm>
            <a:off x="2235240" y="3701880"/>
            <a:ext cx="1843200" cy="101772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1017720"/>
              <a:gd name="textAreaBottom" fmla="*/ 1018080 h 1017720"/>
            </a:gdLst>
            <a:ahLst/>
            <a:rect l="textAreaLeft" t="textAreaTop" r="textAreaRight" b="textAreaBottom"/>
            <a:pathLst>
              <a:path w="1161" h="641">
                <a:moveTo>
                  <a:pt x="0" y="232"/>
                </a:moveTo>
                <a:lnTo>
                  <a:pt x="0" y="240"/>
                </a:lnTo>
                <a:lnTo>
                  <a:pt x="0" y="248"/>
                </a:lnTo>
                <a:lnTo>
                  <a:pt x="8" y="260"/>
                </a:lnTo>
                <a:lnTo>
                  <a:pt x="16" y="268"/>
                </a:lnTo>
                <a:lnTo>
                  <a:pt x="20" y="276"/>
                </a:lnTo>
                <a:lnTo>
                  <a:pt x="24" y="284"/>
                </a:lnTo>
                <a:lnTo>
                  <a:pt x="24" y="292"/>
                </a:lnTo>
                <a:lnTo>
                  <a:pt x="28" y="300"/>
                </a:lnTo>
                <a:lnTo>
                  <a:pt x="32" y="308"/>
                </a:lnTo>
                <a:lnTo>
                  <a:pt x="44" y="316"/>
                </a:lnTo>
                <a:lnTo>
                  <a:pt x="48" y="324"/>
                </a:lnTo>
                <a:lnTo>
                  <a:pt x="56" y="332"/>
                </a:lnTo>
                <a:lnTo>
                  <a:pt x="64" y="340"/>
                </a:lnTo>
                <a:lnTo>
                  <a:pt x="72" y="356"/>
                </a:lnTo>
                <a:lnTo>
                  <a:pt x="76" y="368"/>
                </a:lnTo>
                <a:lnTo>
                  <a:pt x="80" y="376"/>
                </a:lnTo>
                <a:lnTo>
                  <a:pt x="84" y="384"/>
                </a:lnTo>
                <a:lnTo>
                  <a:pt x="88" y="392"/>
                </a:lnTo>
                <a:lnTo>
                  <a:pt x="96" y="404"/>
                </a:lnTo>
                <a:lnTo>
                  <a:pt x="104" y="412"/>
                </a:lnTo>
                <a:lnTo>
                  <a:pt x="108" y="420"/>
                </a:lnTo>
                <a:lnTo>
                  <a:pt x="120" y="436"/>
                </a:lnTo>
                <a:lnTo>
                  <a:pt x="132" y="448"/>
                </a:lnTo>
                <a:lnTo>
                  <a:pt x="136" y="456"/>
                </a:lnTo>
                <a:lnTo>
                  <a:pt x="144" y="464"/>
                </a:lnTo>
                <a:lnTo>
                  <a:pt x="160" y="484"/>
                </a:lnTo>
                <a:lnTo>
                  <a:pt x="164" y="492"/>
                </a:lnTo>
                <a:lnTo>
                  <a:pt x="168" y="500"/>
                </a:lnTo>
                <a:lnTo>
                  <a:pt x="176" y="504"/>
                </a:lnTo>
                <a:lnTo>
                  <a:pt x="180" y="512"/>
                </a:lnTo>
                <a:lnTo>
                  <a:pt x="192" y="528"/>
                </a:lnTo>
                <a:lnTo>
                  <a:pt x="200" y="532"/>
                </a:lnTo>
                <a:lnTo>
                  <a:pt x="208" y="540"/>
                </a:lnTo>
                <a:lnTo>
                  <a:pt x="216" y="548"/>
                </a:lnTo>
                <a:lnTo>
                  <a:pt x="224" y="552"/>
                </a:lnTo>
                <a:lnTo>
                  <a:pt x="232" y="564"/>
                </a:lnTo>
                <a:lnTo>
                  <a:pt x="240" y="564"/>
                </a:lnTo>
                <a:lnTo>
                  <a:pt x="260" y="576"/>
                </a:lnTo>
                <a:lnTo>
                  <a:pt x="268" y="580"/>
                </a:lnTo>
                <a:lnTo>
                  <a:pt x="280" y="588"/>
                </a:lnTo>
                <a:lnTo>
                  <a:pt x="288" y="592"/>
                </a:lnTo>
                <a:lnTo>
                  <a:pt x="296" y="596"/>
                </a:lnTo>
                <a:lnTo>
                  <a:pt x="304" y="600"/>
                </a:lnTo>
                <a:lnTo>
                  <a:pt x="308" y="608"/>
                </a:lnTo>
                <a:lnTo>
                  <a:pt x="324" y="612"/>
                </a:lnTo>
                <a:lnTo>
                  <a:pt x="332" y="616"/>
                </a:lnTo>
                <a:lnTo>
                  <a:pt x="356" y="624"/>
                </a:lnTo>
                <a:lnTo>
                  <a:pt x="368" y="628"/>
                </a:lnTo>
                <a:lnTo>
                  <a:pt x="376" y="632"/>
                </a:lnTo>
                <a:lnTo>
                  <a:pt x="384" y="632"/>
                </a:lnTo>
                <a:lnTo>
                  <a:pt x="392" y="636"/>
                </a:lnTo>
                <a:lnTo>
                  <a:pt x="404" y="636"/>
                </a:lnTo>
                <a:lnTo>
                  <a:pt x="412" y="636"/>
                </a:lnTo>
                <a:lnTo>
                  <a:pt x="420" y="640"/>
                </a:lnTo>
                <a:lnTo>
                  <a:pt x="432" y="640"/>
                </a:lnTo>
                <a:lnTo>
                  <a:pt x="440" y="640"/>
                </a:lnTo>
                <a:lnTo>
                  <a:pt x="452" y="640"/>
                </a:lnTo>
                <a:lnTo>
                  <a:pt x="460" y="640"/>
                </a:lnTo>
                <a:lnTo>
                  <a:pt x="468" y="640"/>
                </a:lnTo>
                <a:lnTo>
                  <a:pt x="480" y="640"/>
                </a:lnTo>
                <a:lnTo>
                  <a:pt x="488" y="636"/>
                </a:lnTo>
                <a:lnTo>
                  <a:pt x="496" y="636"/>
                </a:lnTo>
                <a:lnTo>
                  <a:pt x="516" y="640"/>
                </a:lnTo>
                <a:lnTo>
                  <a:pt x="524" y="640"/>
                </a:lnTo>
                <a:lnTo>
                  <a:pt x="540" y="632"/>
                </a:lnTo>
                <a:lnTo>
                  <a:pt x="548" y="632"/>
                </a:lnTo>
                <a:lnTo>
                  <a:pt x="560" y="632"/>
                </a:lnTo>
                <a:lnTo>
                  <a:pt x="572" y="632"/>
                </a:lnTo>
                <a:lnTo>
                  <a:pt x="580" y="632"/>
                </a:lnTo>
                <a:lnTo>
                  <a:pt x="588" y="632"/>
                </a:lnTo>
                <a:lnTo>
                  <a:pt x="596" y="628"/>
                </a:lnTo>
                <a:lnTo>
                  <a:pt x="604" y="620"/>
                </a:lnTo>
                <a:lnTo>
                  <a:pt x="612" y="616"/>
                </a:lnTo>
                <a:lnTo>
                  <a:pt x="620" y="612"/>
                </a:lnTo>
                <a:lnTo>
                  <a:pt x="628" y="608"/>
                </a:lnTo>
                <a:lnTo>
                  <a:pt x="636" y="596"/>
                </a:lnTo>
                <a:lnTo>
                  <a:pt x="648" y="588"/>
                </a:lnTo>
                <a:lnTo>
                  <a:pt x="656" y="584"/>
                </a:lnTo>
                <a:lnTo>
                  <a:pt x="664" y="580"/>
                </a:lnTo>
                <a:lnTo>
                  <a:pt x="668" y="572"/>
                </a:lnTo>
                <a:lnTo>
                  <a:pt x="676" y="564"/>
                </a:lnTo>
                <a:lnTo>
                  <a:pt x="680" y="556"/>
                </a:lnTo>
                <a:lnTo>
                  <a:pt x="688" y="548"/>
                </a:lnTo>
                <a:lnTo>
                  <a:pt x="696" y="544"/>
                </a:lnTo>
                <a:lnTo>
                  <a:pt x="704" y="536"/>
                </a:lnTo>
                <a:lnTo>
                  <a:pt x="712" y="524"/>
                </a:lnTo>
                <a:lnTo>
                  <a:pt x="720" y="520"/>
                </a:lnTo>
                <a:lnTo>
                  <a:pt x="724" y="512"/>
                </a:lnTo>
                <a:lnTo>
                  <a:pt x="732" y="508"/>
                </a:lnTo>
                <a:lnTo>
                  <a:pt x="736" y="500"/>
                </a:lnTo>
                <a:lnTo>
                  <a:pt x="748" y="492"/>
                </a:lnTo>
                <a:lnTo>
                  <a:pt x="752" y="484"/>
                </a:lnTo>
                <a:lnTo>
                  <a:pt x="764" y="468"/>
                </a:lnTo>
                <a:lnTo>
                  <a:pt x="772" y="464"/>
                </a:lnTo>
                <a:lnTo>
                  <a:pt x="780" y="452"/>
                </a:lnTo>
                <a:lnTo>
                  <a:pt x="788" y="444"/>
                </a:lnTo>
                <a:lnTo>
                  <a:pt x="792" y="436"/>
                </a:lnTo>
                <a:lnTo>
                  <a:pt x="804" y="420"/>
                </a:lnTo>
                <a:lnTo>
                  <a:pt x="812" y="416"/>
                </a:lnTo>
                <a:lnTo>
                  <a:pt x="816" y="400"/>
                </a:lnTo>
                <a:lnTo>
                  <a:pt x="824" y="392"/>
                </a:lnTo>
                <a:lnTo>
                  <a:pt x="832" y="384"/>
                </a:lnTo>
                <a:lnTo>
                  <a:pt x="836" y="376"/>
                </a:lnTo>
                <a:lnTo>
                  <a:pt x="840" y="368"/>
                </a:lnTo>
                <a:lnTo>
                  <a:pt x="848" y="360"/>
                </a:lnTo>
                <a:lnTo>
                  <a:pt x="856" y="352"/>
                </a:lnTo>
                <a:lnTo>
                  <a:pt x="864" y="344"/>
                </a:lnTo>
                <a:lnTo>
                  <a:pt x="872" y="328"/>
                </a:lnTo>
                <a:lnTo>
                  <a:pt x="880" y="324"/>
                </a:lnTo>
                <a:lnTo>
                  <a:pt x="892" y="308"/>
                </a:lnTo>
                <a:lnTo>
                  <a:pt x="900" y="300"/>
                </a:lnTo>
                <a:lnTo>
                  <a:pt x="908" y="292"/>
                </a:lnTo>
                <a:lnTo>
                  <a:pt x="912" y="284"/>
                </a:lnTo>
                <a:lnTo>
                  <a:pt x="916" y="276"/>
                </a:lnTo>
                <a:lnTo>
                  <a:pt x="936" y="260"/>
                </a:lnTo>
                <a:lnTo>
                  <a:pt x="940" y="252"/>
                </a:lnTo>
                <a:lnTo>
                  <a:pt x="948" y="248"/>
                </a:lnTo>
                <a:lnTo>
                  <a:pt x="952" y="240"/>
                </a:lnTo>
                <a:lnTo>
                  <a:pt x="960" y="232"/>
                </a:lnTo>
                <a:lnTo>
                  <a:pt x="968" y="224"/>
                </a:lnTo>
                <a:lnTo>
                  <a:pt x="976" y="220"/>
                </a:lnTo>
                <a:lnTo>
                  <a:pt x="980" y="212"/>
                </a:lnTo>
                <a:lnTo>
                  <a:pt x="988" y="204"/>
                </a:lnTo>
                <a:lnTo>
                  <a:pt x="996" y="196"/>
                </a:lnTo>
                <a:lnTo>
                  <a:pt x="1004" y="192"/>
                </a:lnTo>
                <a:lnTo>
                  <a:pt x="1008" y="184"/>
                </a:lnTo>
                <a:lnTo>
                  <a:pt x="1020" y="176"/>
                </a:lnTo>
                <a:lnTo>
                  <a:pt x="1024" y="168"/>
                </a:lnTo>
                <a:lnTo>
                  <a:pt x="1036" y="156"/>
                </a:lnTo>
                <a:lnTo>
                  <a:pt x="1040" y="148"/>
                </a:lnTo>
                <a:lnTo>
                  <a:pt x="1048" y="144"/>
                </a:lnTo>
                <a:lnTo>
                  <a:pt x="1052" y="136"/>
                </a:lnTo>
                <a:lnTo>
                  <a:pt x="1064" y="120"/>
                </a:lnTo>
                <a:lnTo>
                  <a:pt x="1068" y="112"/>
                </a:lnTo>
                <a:lnTo>
                  <a:pt x="1072" y="104"/>
                </a:lnTo>
                <a:lnTo>
                  <a:pt x="1084" y="96"/>
                </a:lnTo>
                <a:lnTo>
                  <a:pt x="1088" y="88"/>
                </a:lnTo>
                <a:lnTo>
                  <a:pt x="1096" y="76"/>
                </a:lnTo>
                <a:lnTo>
                  <a:pt x="1104" y="68"/>
                </a:lnTo>
                <a:lnTo>
                  <a:pt x="1112" y="52"/>
                </a:lnTo>
                <a:lnTo>
                  <a:pt x="1120" y="48"/>
                </a:lnTo>
                <a:lnTo>
                  <a:pt x="1128" y="40"/>
                </a:lnTo>
                <a:lnTo>
                  <a:pt x="1128" y="32"/>
                </a:lnTo>
                <a:lnTo>
                  <a:pt x="1136" y="28"/>
                </a:lnTo>
                <a:lnTo>
                  <a:pt x="1140" y="20"/>
                </a:lnTo>
                <a:lnTo>
                  <a:pt x="1148" y="12"/>
                </a:lnTo>
                <a:lnTo>
                  <a:pt x="1156" y="8"/>
                </a:lnTo>
                <a:lnTo>
                  <a:pt x="1160" y="0"/>
                </a:lnTo>
              </a:path>
            </a:pathLst>
          </a:custGeom>
          <a:noFill/>
          <a:ln cap="rnd" w="507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13"/>
          <p:cNvSpPr/>
          <p:nvPr/>
        </p:nvSpPr>
        <p:spPr>
          <a:xfrm>
            <a:off x="6470640" y="3519360"/>
            <a:ext cx="1557360" cy="196704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1967040"/>
              <a:gd name="textAreaBottom" fmla="*/ 1967040 h 1967040"/>
            </a:gdLst>
            <a:ahLst/>
            <a:rect l="textAreaLeft" t="textAreaTop" r="textAreaRight" b="textAreaBottom"/>
            <a:pathLst>
              <a:path w="981" h="1239">
                <a:moveTo>
                  <a:pt x="0" y="0"/>
                </a:moveTo>
                <a:lnTo>
                  <a:pt x="0" y="8"/>
                </a:lnTo>
                <a:lnTo>
                  <a:pt x="5" y="16"/>
                </a:lnTo>
                <a:lnTo>
                  <a:pt x="9" y="24"/>
                </a:lnTo>
                <a:lnTo>
                  <a:pt x="14" y="31"/>
                </a:lnTo>
                <a:lnTo>
                  <a:pt x="18" y="38"/>
                </a:lnTo>
                <a:lnTo>
                  <a:pt x="23" y="46"/>
                </a:lnTo>
                <a:lnTo>
                  <a:pt x="27" y="53"/>
                </a:lnTo>
                <a:lnTo>
                  <a:pt x="32" y="61"/>
                </a:lnTo>
                <a:lnTo>
                  <a:pt x="37" y="69"/>
                </a:lnTo>
                <a:lnTo>
                  <a:pt x="45" y="76"/>
                </a:lnTo>
                <a:lnTo>
                  <a:pt x="54" y="84"/>
                </a:lnTo>
                <a:lnTo>
                  <a:pt x="58" y="91"/>
                </a:lnTo>
                <a:lnTo>
                  <a:pt x="63" y="99"/>
                </a:lnTo>
                <a:lnTo>
                  <a:pt x="67" y="107"/>
                </a:lnTo>
                <a:lnTo>
                  <a:pt x="72" y="119"/>
                </a:lnTo>
                <a:lnTo>
                  <a:pt x="77" y="126"/>
                </a:lnTo>
                <a:lnTo>
                  <a:pt x="81" y="134"/>
                </a:lnTo>
                <a:lnTo>
                  <a:pt x="86" y="142"/>
                </a:lnTo>
                <a:lnTo>
                  <a:pt x="90" y="150"/>
                </a:lnTo>
                <a:lnTo>
                  <a:pt x="95" y="157"/>
                </a:lnTo>
                <a:lnTo>
                  <a:pt x="100" y="165"/>
                </a:lnTo>
                <a:lnTo>
                  <a:pt x="100" y="173"/>
                </a:lnTo>
                <a:lnTo>
                  <a:pt x="113" y="192"/>
                </a:lnTo>
                <a:lnTo>
                  <a:pt x="114" y="200"/>
                </a:lnTo>
                <a:lnTo>
                  <a:pt x="115" y="208"/>
                </a:lnTo>
                <a:lnTo>
                  <a:pt x="119" y="216"/>
                </a:lnTo>
                <a:lnTo>
                  <a:pt x="124" y="224"/>
                </a:lnTo>
                <a:lnTo>
                  <a:pt x="128" y="231"/>
                </a:lnTo>
                <a:lnTo>
                  <a:pt x="133" y="239"/>
                </a:lnTo>
                <a:lnTo>
                  <a:pt x="146" y="250"/>
                </a:lnTo>
                <a:lnTo>
                  <a:pt x="150" y="258"/>
                </a:lnTo>
                <a:lnTo>
                  <a:pt x="155" y="266"/>
                </a:lnTo>
                <a:lnTo>
                  <a:pt x="160" y="277"/>
                </a:lnTo>
                <a:lnTo>
                  <a:pt x="172" y="285"/>
                </a:lnTo>
                <a:lnTo>
                  <a:pt x="173" y="293"/>
                </a:lnTo>
                <a:lnTo>
                  <a:pt x="177" y="300"/>
                </a:lnTo>
                <a:lnTo>
                  <a:pt x="178" y="312"/>
                </a:lnTo>
                <a:lnTo>
                  <a:pt x="192" y="335"/>
                </a:lnTo>
                <a:lnTo>
                  <a:pt x="196" y="343"/>
                </a:lnTo>
                <a:lnTo>
                  <a:pt x="210" y="362"/>
                </a:lnTo>
                <a:lnTo>
                  <a:pt x="214" y="370"/>
                </a:lnTo>
                <a:lnTo>
                  <a:pt x="227" y="385"/>
                </a:lnTo>
                <a:lnTo>
                  <a:pt x="232" y="393"/>
                </a:lnTo>
                <a:lnTo>
                  <a:pt x="246" y="420"/>
                </a:lnTo>
                <a:lnTo>
                  <a:pt x="254" y="423"/>
                </a:lnTo>
                <a:lnTo>
                  <a:pt x="259" y="434"/>
                </a:lnTo>
                <a:lnTo>
                  <a:pt x="268" y="442"/>
                </a:lnTo>
                <a:lnTo>
                  <a:pt x="268" y="450"/>
                </a:lnTo>
                <a:lnTo>
                  <a:pt x="276" y="457"/>
                </a:lnTo>
                <a:lnTo>
                  <a:pt x="285" y="481"/>
                </a:lnTo>
                <a:lnTo>
                  <a:pt x="290" y="488"/>
                </a:lnTo>
                <a:lnTo>
                  <a:pt x="299" y="500"/>
                </a:lnTo>
                <a:lnTo>
                  <a:pt x="308" y="515"/>
                </a:lnTo>
                <a:lnTo>
                  <a:pt x="312" y="523"/>
                </a:lnTo>
                <a:lnTo>
                  <a:pt x="317" y="531"/>
                </a:lnTo>
                <a:lnTo>
                  <a:pt x="326" y="538"/>
                </a:lnTo>
                <a:lnTo>
                  <a:pt x="330" y="546"/>
                </a:lnTo>
                <a:lnTo>
                  <a:pt x="339" y="553"/>
                </a:lnTo>
                <a:lnTo>
                  <a:pt x="343" y="561"/>
                </a:lnTo>
                <a:lnTo>
                  <a:pt x="352" y="572"/>
                </a:lnTo>
                <a:lnTo>
                  <a:pt x="361" y="580"/>
                </a:lnTo>
                <a:lnTo>
                  <a:pt x="378" y="603"/>
                </a:lnTo>
                <a:lnTo>
                  <a:pt x="383" y="610"/>
                </a:lnTo>
                <a:lnTo>
                  <a:pt x="388" y="622"/>
                </a:lnTo>
                <a:lnTo>
                  <a:pt x="405" y="645"/>
                </a:lnTo>
                <a:lnTo>
                  <a:pt x="414" y="656"/>
                </a:lnTo>
                <a:lnTo>
                  <a:pt x="419" y="664"/>
                </a:lnTo>
                <a:lnTo>
                  <a:pt x="436" y="687"/>
                </a:lnTo>
                <a:lnTo>
                  <a:pt x="441" y="695"/>
                </a:lnTo>
                <a:lnTo>
                  <a:pt x="446" y="706"/>
                </a:lnTo>
                <a:lnTo>
                  <a:pt x="454" y="714"/>
                </a:lnTo>
                <a:lnTo>
                  <a:pt x="459" y="722"/>
                </a:lnTo>
                <a:lnTo>
                  <a:pt x="472" y="737"/>
                </a:lnTo>
                <a:lnTo>
                  <a:pt x="477" y="745"/>
                </a:lnTo>
                <a:lnTo>
                  <a:pt x="481" y="752"/>
                </a:lnTo>
                <a:lnTo>
                  <a:pt x="490" y="760"/>
                </a:lnTo>
                <a:lnTo>
                  <a:pt x="494" y="767"/>
                </a:lnTo>
                <a:lnTo>
                  <a:pt x="499" y="775"/>
                </a:lnTo>
                <a:lnTo>
                  <a:pt x="507" y="783"/>
                </a:lnTo>
                <a:lnTo>
                  <a:pt x="529" y="809"/>
                </a:lnTo>
                <a:lnTo>
                  <a:pt x="534" y="817"/>
                </a:lnTo>
                <a:lnTo>
                  <a:pt x="539" y="824"/>
                </a:lnTo>
                <a:lnTo>
                  <a:pt x="547" y="827"/>
                </a:lnTo>
                <a:lnTo>
                  <a:pt x="551" y="835"/>
                </a:lnTo>
                <a:lnTo>
                  <a:pt x="556" y="843"/>
                </a:lnTo>
                <a:lnTo>
                  <a:pt x="564" y="850"/>
                </a:lnTo>
                <a:lnTo>
                  <a:pt x="590" y="876"/>
                </a:lnTo>
                <a:lnTo>
                  <a:pt x="595" y="888"/>
                </a:lnTo>
                <a:lnTo>
                  <a:pt x="608" y="899"/>
                </a:lnTo>
                <a:lnTo>
                  <a:pt x="617" y="907"/>
                </a:lnTo>
                <a:lnTo>
                  <a:pt x="625" y="918"/>
                </a:lnTo>
                <a:lnTo>
                  <a:pt x="656" y="952"/>
                </a:lnTo>
                <a:lnTo>
                  <a:pt x="665" y="960"/>
                </a:lnTo>
                <a:lnTo>
                  <a:pt x="677" y="967"/>
                </a:lnTo>
                <a:lnTo>
                  <a:pt x="686" y="978"/>
                </a:lnTo>
                <a:lnTo>
                  <a:pt x="690" y="986"/>
                </a:lnTo>
                <a:lnTo>
                  <a:pt x="699" y="989"/>
                </a:lnTo>
                <a:lnTo>
                  <a:pt x="707" y="997"/>
                </a:lnTo>
                <a:lnTo>
                  <a:pt x="745" y="1034"/>
                </a:lnTo>
                <a:lnTo>
                  <a:pt x="762" y="1049"/>
                </a:lnTo>
                <a:lnTo>
                  <a:pt x="771" y="1053"/>
                </a:lnTo>
                <a:lnTo>
                  <a:pt x="779" y="1064"/>
                </a:lnTo>
                <a:lnTo>
                  <a:pt x="788" y="1071"/>
                </a:lnTo>
                <a:lnTo>
                  <a:pt x="796" y="1071"/>
                </a:lnTo>
                <a:lnTo>
                  <a:pt x="804" y="1078"/>
                </a:lnTo>
                <a:lnTo>
                  <a:pt x="809" y="1090"/>
                </a:lnTo>
                <a:lnTo>
                  <a:pt x="818" y="1093"/>
                </a:lnTo>
                <a:lnTo>
                  <a:pt x="822" y="1101"/>
                </a:lnTo>
                <a:lnTo>
                  <a:pt x="835" y="1108"/>
                </a:lnTo>
                <a:lnTo>
                  <a:pt x="843" y="1112"/>
                </a:lnTo>
                <a:lnTo>
                  <a:pt x="877" y="1146"/>
                </a:lnTo>
                <a:lnTo>
                  <a:pt x="882" y="1153"/>
                </a:lnTo>
                <a:lnTo>
                  <a:pt x="891" y="1165"/>
                </a:lnTo>
                <a:lnTo>
                  <a:pt x="903" y="1168"/>
                </a:lnTo>
                <a:lnTo>
                  <a:pt x="912" y="1175"/>
                </a:lnTo>
                <a:lnTo>
                  <a:pt x="933" y="1194"/>
                </a:lnTo>
                <a:lnTo>
                  <a:pt x="942" y="1201"/>
                </a:lnTo>
                <a:lnTo>
                  <a:pt x="946" y="1208"/>
                </a:lnTo>
                <a:lnTo>
                  <a:pt x="955" y="1212"/>
                </a:lnTo>
                <a:lnTo>
                  <a:pt x="968" y="1227"/>
                </a:lnTo>
                <a:lnTo>
                  <a:pt x="976" y="1230"/>
                </a:lnTo>
                <a:lnTo>
                  <a:pt x="980" y="1238"/>
                </a:lnTo>
              </a:path>
            </a:pathLst>
          </a:custGeom>
          <a:noFill/>
          <a:ln cap="rnd" w="507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6"/>
          <p:cNvSpPr/>
          <p:nvPr/>
        </p:nvSpPr>
        <p:spPr>
          <a:xfrm>
            <a:off x="5638680" y="2590920"/>
            <a:ext cx="2971800" cy="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12"/>
          <p:cNvSpPr/>
          <p:nvPr/>
        </p:nvSpPr>
        <p:spPr>
          <a:xfrm>
            <a:off x="4076640" y="2558880"/>
            <a:ext cx="2408400" cy="1132200"/>
          </a:xfrm>
          <a:custGeom>
            <a:avLst/>
            <a:gdLst>
              <a:gd name="textAreaLeft" fmla="*/ 0 w 2408400"/>
              <a:gd name="textAreaRight" fmla="*/ 2408760 w 240840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1517" h="713">
                <a:moveTo>
                  <a:pt x="0" y="712"/>
                </a:moveTo>
                <a:lnTo>
                  <a:pt x="4" y="704"/>
                </a:lnTo>
                <a:lnTo>
                  <a:pt x="12" y="700"/>
                </a:lnTo>
                <a:lnTo>
                  <a:pt x="16" y="688"/>
                </a:lnTo>
                <a:lnTo>
                  <a:pt x="24" y="680"/>
                </a:lnTo>
                <a:lnTo>
                  <a:pt x="32" y="668"/>
                </a:lnTo>
                <a:lnTo>
                  <a:pt x="36" y="660"/>
                </a:lnTo>
                <a:lnTo>
                  <a:pt x="40" y="652"/>
                </a:lnTo>
                <a:lnTo>
                  <a:pt x="44" y="644"/>
                </a:lnTo>
                <a:lnTo>
                  <a:pt x="52" y="636"/>
                </a:lnTo>
                <a:lnTo>
                  <a:pt x="56" y="628"/>
                </a:lnTo>
                <a:lnTo>
                  <a:pt x="64" y="620"/>
                </a:lnTo>
                <a:lnTo>
                  <a:pt x="68" y="612"/>
                </a:lnTo>
                <a:lnTo>
                  <a:pt x="80" y="600"/>
                </a:lnTo>
                <a:lnTo>
                  <a:pt x="84" y="592"/>
                </a:lnTo>
                <a:lnTo>
                  <a:pt x="84" y="584"/>
                </a:lnTo>
                <a:lnTo>
                  <a:pt x="100" y="568"/>
                </a:lnTo>
                <a:lnTo>
                  <a:pt x="104" y="560"/>
                </a:lnTo>
                <a:lnTo>
                  <a:pt x="112" y="552"/>
                </a:lnTo>
                <a:lnTo>
                  <a:pt x="116" y="544"/>
                </a:lnTo>
                <a:lnTo>
                  <a:pt x="120" y="536"/>
                </a:lnTo>
                <a:lnTo>
                  <a:pt x="124" y="528"/>
                </a:lnTo>
                <a:lnTo>
                  <a:pt x="132" y="524"/>
                </a:lnTo>
                <a:lnTo>
                  <a:pt x="136" y="516"/>
                </a:lnTo>
                <a:lnTo>
                  <a:pt x="148" y="496"/>
                </a:lnTo>
                <a:lnTo>
                  <a:pt x="152" y="488"/>
                </a:lnTo>
                <a:lnTo>
                  <a:pt x="160" y="476"/>
                </a:lnTo>
                <a:lnTo>
                  <a:pt x="184" y="448"/>
                </a:lnTo>
                <a:lnTo>
                  <a:pt x="188" y="440"/>
                </a:lnTo>
                <a:lnTo>
                  <a:pt x="196" y="432"/>
                </a:lnTo>
                <a:lnTo>
                  <a:pt x="200" y="424"/>
                </a:lnTo>
                <a:lnTo>
                  <a:pt x="208" y="416"/>
                </a:lnTo>
                <a:lnTo>
                  <a:pt x="220" y="404"/>
                </a:lnTo>
                <a:lnTo>
                  <a:pt x="224" y="396"/>
                </a:lnTo>
                <a:lnTo>
                  <a:pt x="228" y="388"/>
                </a:lnTo>
                <a:lnTo>
                  <a:pt x="240" y="376"/>
                </a:lnTo>
                <a:lnTo>
                  <a:pt x="244" y="368"/>
                </a:lnTo>
                <a:lnTo>
                  <a:pt x="264" y="344"/>
                </a:lnTo>
                <a:lnTo>
                  <a:pt x="268" y="336"/>
                </a:lnTo>
                <a:lnTo>
                  <a:pt x="284" y="320"/>
                </a:lnTo>
                <a:lnTo>
                  <a:pt x="292" y="316"/>
                </a:lnTo>
                <a:lnTo>
                  <a:pt x="296" y="308"/>
                </a:lnTo>
                <a:lnTo>
                  <a:pt x="312" y="292"/>
                </a:lnTo>
                <a:lnTo>
                  <a:pt x="320" y="280"/>
                </a:lnTo>
                <a:lnTo>
                  <a:pt x="328" y="272"/>
                </a:lnTo>
                <a:lnTo>
                  <a:pt x="336" y="260"/>
                </a:lnTo>
                <a:lnTo>
                  <a:pt x="344" y="256"/>
                </a:lnTo>
                <a:lnTo>
                  <a:pt x="356" y="244"/>
                </a:lnTo>
                <a:lnTo>
                  <a:pt x="364" y="240"/>
                </a:lnTo>
                <a:lnTo>
                  <a:pt x="372" y="228"/>
                </a:lnTo>
                <a:lnTo>
                  <a:pt x="380" y="224"/>
                </a:lnTo>
                <a:lnTo>
                  <a:pt x="388" y="216"/>
                </a:lnTo>
                <a:lnTo>
                  <a:pt x="400" y="208"/>
                </a:lnTo>
                <a:lnTo>
                  <a:pt x="408" y="200"/>
                </a:lnTo>
                <a:lnTo>
                  <a:pt x="420" y="192"/>
                </a:lnTo>
                <a:lnTo>
                  <a:pt x="432" y="176"/>
                </a:lnTo>
                <a:lnTo>
                  <a:pt x="440" y="172"/>
                </a:lnTo>
                <a:lnTo>
                  <a:pt x="456" y="156"/>
                </a:lnTo>
                <a:lnTo>
                  <a:pt x="464" y="148"/>
                </a:lnTo>
                <a:lnTo>
                  <a:pt x="472" y="144"/>
                </a:lnTo>
                <a:lnTo>
                  <a:pt x="480" y="144"/>
                </a:lnTo>
                <a:lnTo>
                  <a:pt x="484" y="136"/>
                </a:lnTo>
                <a:lnTo>
                  <a:pt x="492" y="132"/>
                </a:lnTo>
                <a:lnTo>
                  <a:pt x="504" y="124"/>
                </a:lnTo>
                <a:lnTo>
                  <a:pt x="512" y="116"/>
                </a:lnTo>
                <a:lnTo>
                  <a:pt x="520" y="108"/>
                </a:lnTo>
                <a:lnTo>
                  <a:pt x="532" y="100"/>
                </a:lnTo>
                <a:lnTo>
                  <a:pt x="540" y="96"/>
                </a:lnTo>
                <a:lnTo>
                  <a:pt x="544" y="88"/>
                </a:lnTo>
                <a:lnTo>
                  <a:pt x="568" y="76"/>
                </a:lnTo>
                <a:lnTo>
                  <a:pt x="576" y="72"/>
                </a:lnTo>
                <a:lnTo>
                  <a:pt x="584" y="68"/>
                </a:lnTo>
                <a:lnTo>
                  <a:pt x="592" y="60"/>
                </a:lnTo>
                <a:lnTo>
                  <a:pt x="600" y="56"/>
                </a:lnTo>
                <a:lnTo>
                  <a:pt x="608" y="52"/>
                </a:lnTo>
                <a:lnTo>
                  <a:pt x="616" y="48"/>
                </a:lnTo>
                <a:lnTo>
                  <a:pt x="624" y="44"/>
                </a:lnTo>
                <a:lnTo>
                  <a:pt x="640" y="40"/>
                </a:lnTo>
                <a:lnTo>
                  <a:pt x="648" y="36"/>
                </a:lnTo>
                <a:lnTo>
                  <a:pt x="656" y="36"/>
                </a:lnTo>
                <a:lnTo>
                  <a:pt x="664" y="32"/>
                </a:lnTo>
                <a:lnTo>
                  <a:pt x="672" y="32"/>
                </a:lnTo>
                <a:lnTo>
                  <a:pt x="684" y="28"/>
                </a:lnTo>
                <a:lnTo>
                  <a:pt x="692" y="24"/>
                </a:lnTo>
                <a:lnTo>
                  <a:pt x="712" y="24"/>
                </a:lnTo>
                <a:lnTo>
                  <a:pt x="720" y="20"/>
                </a:lnTo>
                <a:lnTo>
                  <a:pt x="728" y="16"/>
                </a:lnTo>
                <a:lnTo>
                  <a:pt x="736" y="16"/>
                </a:lnTo>
                <a:lnTo>
                  <a:pt x="744" y="12"/>
                </a:lnTo>
                <a:lnTo>
                  <a:pt x="760" y="8"/>
                </a:lnTo>
                <a:lnTo>
                  <a:pt x="768" y="4"/>
                </a:lnTo>
                <a:lnTo>
                  <a:pt x="776" y="4"/>
                </a:lnTo>
                <a:lnTo>
                  <a:pt x="788" y="0"/>
                </a:lnTo>
                <a:lnTo>
                  <a:pt x="796" y="0"/>
                </a:lnTo>
                <a:lnTo>
                  <a:pt x="812" y="0"/>
                </a:lnTo>
                <a:lnTo>
                  <a:pt x="820" y="0"/>
                </a:lnTo>
                <a:lnTo>
                  <a:pt x="828" y="0"/>
                </a:lnTo>
                <a:lnTo>
                  <a:pt x="844" y="0"/>
                </a:lnTo>
                <a:lnTo>
                  <a:pt x="852" y="0"/>
                </a:lnTo>
                <a:lnTo>
                  <a:pt x="860" y="0"/>
                </a:lnTo>
                <a:lnTo>
                  <a:pt x="888" y="4"/>
                </a:lnTo>
                <a:lnTo>
                  <a:pt x="900" y="4"/>
                </a:lnTo>
                <a:lnTo>
                  <a:pt x="908" y="8"/>
                </a:lnTo>
                <a:lnTo>
                  <a:pt x="916" y="12"/>
                </a:lnTo>
                <a:lnTo>
                  <a:pt x="924" y="12"/>
                </a:lnTo>
                <a:lnTo>
                  <a:pt x="932" y="12"/>
                </a:lnTo>
                <a:lnTo>
                  <a:pt x="940" y="16"/>
                </a:lnTo>
                <a:lnTo>
                  <a:pt x="948" y="16"/>
                </a:lnTo>
                <a:lnTo>
                  <a:pt x="960" y="20"/>
                </a:lnTo>
                <a:lnTo>
                  <a:pt x="968" y="24"/>
                </a:lnTo>
                <a:lnTo>
                  <a:pt x="1012" y="40"/>
                </a:lnTo>
                <a:lnTo>
                  <a:pt x="1024" y="44"/>
                </a:lnTo>
                <a:lnTo>
                  <a:pt x="1032" y="48"/>
                </a:lnTo>
                <a:lnTo>
                  <a:pt x="1040" y="48"/>
                </a:lnTo>
                <a:lnTo>
                  <a:pt x="1048" y="52"/>
                </a:lnTo>
                <a:lnTo>
                  <a:pt x="1056" y="56"/>
                </a:lnTo>
                <a:lnTo>
                  <a:pt x="1060" y="64"/>
                </a:lnTo>
                <a:lnTo>
                  <a:pt x="1068" y="68"/>
                </a:lnTo>
                <a:lnTo>
                  <a:pt x="1076" y="76"/>
                </a:lnTo>
                <a:lnTo>
                  <a:pt x="1084" y="80"/>
                </a:lnTo>
                <a:lnTo>
                  <a:pt x="1100" y="96"/>
                </a:lnTo>
                <a:lnTo>
                  <a:pt x="1112" y="100"/>
                </a:lnTo>
                <a:lnTo>
                  <a:pt x="1120" y="108"/>
                </a:lnTo>
                <a:lnTo>
                  <a:pt x="1132" y="116"/>
                </a:lnTo>
                <a:lnTo>
                  <a:pt x="1152" y="132"/>
                </a:lnTo>
                <a:lnTo>
                  <a:pt x="1160" y="136"/>
                </a:lnTo>
                <a:lnTo>
                  <a:pt x="1164" y="144"/>
                </a:lnTo>
                <a:lnTo>
                  <a:pt x="1172" y="152"/>
                </a:lnTo>
                <a:lnTo>
                  <a:pt x="1176" y="160"/>
                </a:lnTo>
                <a:lnTo>
                  <a:pt x="1184" y="164"/>
                </a:lnTo>
                <a:lnTo>
                  <a:pt x="1188" y="172"/>
                </a:lnTo>
                <a:lnTo>
                  <a:pt x="1196" y="180"/>
                </a:lnTo>
                <a:lnTo>
                  <a:pt x="1200" y="188"/>
                </a:lnTo>
                <a:lnTo>
                  <a:pt x="1208" y="196"/>
                </a:lnTo>
                <a:lnTo>
                  <a:pt x="1224" y="212"/>
                </a:lnTo>
                <a:lnTo>
                  <a:pt x="1232" y="224"/>
                </a:lnTo>
                <a:lnTo>
                  <a:pt x="1240" y="228"/>
                </a:lnTo>
                <a:lnTo>
                  <a:pt x="1248" y="240"/>
                </a:lnTo>
                <a:lnTo>
                  <a:pt x="1256" y="252"/>
                </a:lnTo>
                <a:lnTo>
                  <a:pt x="1264" y="260"/>
                </a:lnTo>
                <a:lnTo>
                  <a:pt x="1280" y="276"/>
                </a:lnTo>
                <a:lnTo>
                  <a:pt x="1284" y="284"/>
                </a:lnTo>
                <a:lnTo>
                  <a:pt x="1292" y="292"/>
                </a:lnTo>
                <a:lnTo>
                  <a:pt x="1296" y="300"/>
                </a:lnTo>
                <a:lnTo>
                  <a:pt x="1304" y="312"/>
                </a:lnTo>
                <a:lnTo>
                  <a:pt x="1308" y="320"/>
                </a:lnTo>
                <a:lnTo>
                  <a:pt x="1308" y="328"/>
                </a:lnTo>
                <a:lnTo>
                  <a:pt x="1312" y="336"/>
                </a:lnTo>
                <a:lnTo>
                  <a:pt x="1316" y="344"/>
                </a:lnTo>
                <a:lnTo>
                  <a:pt x="1324" y="348"/>
                </a:lnTo>
                <a:lnTo>
                  <a:pt x="1332" y="360"/>
                </a:lnTo>
                <a:lnTo>
                  <a:pt x="1336" y="368"/>
                </a:lnTo>
                <a:lnTo>
                  <a:pt x="1348" y="380"/>
                </a:lnTo>
                <a:lnTo>
                  <a:pt x="1356" y="388"/>
                </a:lnTo>
                <a:lnTo>
                  <a:pt x="1360" y="396"/>
                </a:lnTo>
                <a:lnTo>
                  <a:pt x="1368" y="400"/>
                </a:lnTo>
                <a:lnTo>
                  <a:pt x="1372" y="408"/>
                </a:lnTo>
                <a:lnTo>
                  <a:pt x="1376" y="416"/>
                </a:lnTo>
                <a:lnTo>
                  <a:pt x="1396" y="428"/>
                </a:lnTo>
                <a:lnTo>
                  <a:pt x="1396" y="436"/>
                </a:lnTo>
                <a:lnTo>
                  <a:pt x="1404" y="448"/>
                </a:lnTo>
                <a:lnTo>
                  <a:pt x="1412" y="456"/>
                </a:lnTo>
                <a:lnTo>
                  <a:pt x="1416" y="464"/>
                </a:lnTo>
                <a:lnTo>
                  <a:pt x="1424" y="472"/>
                </a:lnTo>
                <a:lnTo>
                  <a:pt x="1432" y="484"/>
                </a:lnTo>
                <a:lnTo>
                  <a:pt x="1440" y="496"/>
                </a:lnTo>
                <a:lnTo>
                  <a:pt x="1444" y="504"/>
                </a:lnTo>
                <a:lnTo>
                  <a:pt x="1448" y="512"/>
                </a:lnTo>
                <a:lnTo>
                  <a:pt x="1456" y="528"/>
                </a:lnTo>
                <a:lnTo>
                  <a:pt x="1464" y="540"/>
                </a:lnTo>
                <a:lnTo>
                  <a:pt x="1472" y="548"/>
                </a:lnTo>
                <a:lnTo>
                  <a:pt x="1476" y="556"/>
                </a:lnTo>
                <a:lnTo>
                  <a:pt x="1484" y="572"/>
                </a:lnTo>
                <a:lnTo>
                  <a:pt x="1488" y="580"/>
                </a:lnTo>
                <a:lnTo>
                  <a:pt x="1496" y="584"/>
                </a:lnTo>
                <a:lnTo>
                  <a:pt x="1500" y="592"/>
                </a:lnTo>
                <a:lnTo>
                  <a:pt x="1504" y="600"/>
                </a:lnTo>
                <a:lnTo>
                  <a:pt x="1512" y="608"/>
                </a:lnTo>
                <a:lnTo>
                  <a:pt x="1516" y="616"/>
                </a:lnTo>
              </a:path>
            </a:pathLst>
          </a:custGeom>
          <a:noFill/>
          <a:ln cap="rnd" w="507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67280" y="2209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DANGER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300" spc="-1" strike="noStrike">
                <a:solidFill>
                  <a:srgbClr val="88a44d"/>
                </a:solidFill>
                <a:latin typeface="Georgia"/>
              </a:rPr>
              <a:t>General Adaptation Syndrome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7933c"/>
                </a:solidFill>
                <a:latin typeface="Georgia"/>
              </a:rPr>
              <a:t>THREE STAGES OF ADAPTASION IN STRESS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1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Alarm reaction: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when a person is exposed to an unadapted stimulus there is an initial shock (in which resistance is lowered) followed by a rebound reaction (counter shock phase) during which the organism’s defense mechanisms become active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2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Stage of resistance:</a:t>
            </a: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uring this stage the person’s full adaptation may lead to successful return to equilibrium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eorgia"/>
              </a:rPr>
              <a:t>3.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Georgia"/>
              </a:rPr>
              <a:t>Stage of exhaustion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eorgia"/>
              </a:rPr>
              <a:t>:</a:t>
            </a:r>
            <a:r>
              <a:rPr b="1" lang="en-US" sz="24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n case of failure of adaptability the organism becomes exhausted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Line 4"/>
          <p:cNvSpPr/>
          <p:nvPr/>
        </p:nvSpPr>
        <p:spPr>
          <a:xfrm>
            <a:off x="86868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"/>
          <p:cNvSpPr/>
          <p:nvPr/>
        </p:nvSpPr>
        <p:spPr>
          <a:xfrm>
            <a:off x="4572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7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" name=""/>
          <p:cNvGraphicFramePr/>
          <p:nvPr/>
        </p:nvGraphicFramePr>
        <p:xfrm>
          <a:off x="714240" y="285840"/>
          <a:ext cx="7929720" cy="6313320"/>
        </p:xfrm>
        <a:graphic>
          <a:graphicData uri="http://schemas.openxmlformats.org/drawingml/2006/table">
            <a:tbl>
              <a:tblPr/>
              <a:tblGrid>
                <a:gridCol w="397080"/>
                <a:gridCol w="4201920"/>
                <a:gridCol w="666720"/>
                <a:gridCol w="665280"/>
                <a:gridCol w="666720"/>
                <a:gridCol w="665280"/>
                <a:gridCol w="666720"/>
              </a:tblGrid>
              <a:tr h="857160"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#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re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ry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f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88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run down and drained of physical or emotional energ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7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that you are prone to negative thinking about your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1016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that you are harder and less sympathetic with people than perhaps they deserv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85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yourself getting easily irritated by small problems, or by your co-workers and tea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88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misunderstood or unappreciated by your co-work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3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have no one to talk t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221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are achieving less than you shoul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81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2" name="HTMLOption1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3" name="HTMLOption2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4" name="HTMLOption3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5" name="HTMLOption4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6" name="HTMLOption5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7" name="HTMLOption6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8" name="HTMLOption7" descr=""/>
          <p:cNvPicPr/>
          <p:nvPr/>
        </p:nvPicPr>
        <p:blipFill>
          <a:blip r:embed="rId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89" name="HTMLOption8" descr=""/>
          <p:cNvPicPr/>
          <p:nvPr/>
        </p:nvPicPr>
        <p:blipFill>
          <a:blip r:embed="rId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0" name="HTMLOption9" descr=""/>
          <p:cNvPicPr/>
          <p:nvPr/>
        </p:nvPicPr>
        <p:blipFill>
          <a:blip r:embed="rId1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1" name="HTMLOption10" descr=""/>
          <p:cNvPicPr/>
          <p:nvPr/>
        </p:nvPicPr>
        <p:blipFill>
          <a:blip r:embed="rId1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HTMLOption11" descr=""/>
          <p:cNvPicPr/>
          <p:nvPr/>
        </p:nvPicPr>
        <p:blipFill>
          <a:blip r:embed="rId1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3" name="HTMLOption12" descr=""/>
          <p:cNvPicPr/>
          <p:nvPr/>
        </p:nvPicPr>
        <p:blipFill>
          <a:blip r:embed="rId1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4" name="HTMLOption13" descr=""/>
          <p:cNvPicPr/>
          <p:nvPr/>
        </p:nvPicPr>
        <p:blipFill>
          <a:blip r:embed="rId1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5" name="HTMLOption14" descr=""/>
          <p:cNvPicPr/>
          <p:nvPr/>
        </p:nvPicPr>
        <p:blipFill>
          <a:blip r:embed="rId1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6" name="HTMLOption15" descr=""/>
          <p:cNvPicPr/>
          <p:nvPr/>
        </p:nvPicPr>
        <p:blipFill>
          <a:blip r:embed="rId1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7" name="HTMLOption16" descr=""/>
          <p:cNvPicPr/>
          <p:nvPr/>
        </p:nvPicPr>
        <p:blipFill>
          <a:blip r:embed="rId1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8" name="HTMLOption17" descr=""/>
          <p:cNvPicPr/>
          <p:nvPr/>
        </p:nvPicPr>
        <p:blipFill>
          <a:blip r:embed="rId1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699" name="HTMLOption18" descr=""/>
          <p:cNvPicPr/>
          <p:nvPr/>
        </p:nvPicPr>
        <p:blipFill>
          <a:blip r:embed="rId1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0" name="HTMLOption19" descr=""/>
          <p:cNvPicPr/>
          <p:nvPr/>
        </p:nvPicPr>
        <p:blipFill>
          <a:blip r:embed="rId2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1" name="HTMLOption20" descr=""/>
          <p:cNvPicPr/>
          <p:nvPr/>
        </p:nvPicPr>
        <p:blipFill>
          <a:blip r:embed="rId2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2" name="HTMLOption21" descr=""/>
          <p:cNvPicPr/>
          <p:nvPr/>
        </p:nvPicPr>
        <p:blipFill>
          <a:blip r:embed="rId2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3" name="HTMLOption22" descr=""/>
          <p:cNvPicPr/>
          <p:nvPr/>
        </p:nvPicPr>
        <p:blipFill>
          <a:blip r:embed="rId2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4" name="HTMLOption23" descr=""/>
          <p:cNvPicPr/>
          <p:nvPr/>
        </p:nvPicPr>
        <p:blipFill>
          <a:blip r:embed="rId2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5" name="HTMLOption24" descr=""/>
          <p:cNvPicPr/>
          <p:nvPr/>
        </p:nvPicPr>
        <p:blipFill>
          <a:blip r:embed="rId2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6" name="HTMLOption25" descr=""/>
          <p:cNvPicPr/>
          <p:nvPr/>
        </p:nvPicPr>
        <p:blipFill>
          <a:blip r:embed="rId2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HTMLOption26" descr=""/>
          <p:cNvPicPr/>
          <p:nvPr/>
        </p:nvPicPr>
        <p:blipFill>
          <a:blip r:embed="rId2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HTMLOption27" descr=""/>
          <p:cNvPicPr/>
          <p:nvPr/>
        </p:nvPicPr>
        <p:blipFill>
          <a:blip r:embed="rId2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09" name="HTMLOption28" descr=""/>
          <p:cNvPicPr/>
          <p:nvPr/>
        </p:nvPicPr>
        <p:blipFill>
          <a:blip r:embed="rId2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0" name="HTMLOption29" descr=""/>
          <p:cNvPicPr/>
          <p:nvPr/>
        </p:nvPicPr>
        <p:blipFill>
          <a:blip r:embed="rId3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1" name="HTMLOption30" descr=""/>
          <p:cNvPicPr/>
          <p:nvPr/>
        </p:nvPicPr>
        <p:blipFill>
          <a:blip r:embed="rId3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2" name="HTMLOption31" descr=""/>
          <p:cNvPicPr/>
          <p:nvPr/>
        </p:nvPicPr>
        <p:blipFill>
          <a:blip r:embed="rId3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3" name="HTMLOption32" descr=""/>
          <p:cNvPicPr/>
          <p:nvPr/>
        </p:nvPicPr>
        <p:blipFill>
          <a:blip r:embed="rId3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4" name="HTMLOption33" descr=""/>
          <p:cNvPicPr/>
          <p:nvPr/>
        </p:nvPicPr>
        <p:blipFill>
          <a:blip r:embed="rId3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5" name="HTMLOption34" descr=""/>
          <p:cNvPicPr/>
          <p:nvPr/>
        </p:nvPicPr>
        <p:blipFill>
          <a:blip r:embed="rId3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500040" y="214200"/>
          <a:ext cx="7858080" cy="6429600"/>
        </p:xfrm>
        <a:graphic>
          <a:graphicData uri="http://schemas.openxmlformats.org/drawingml/2006/table">
            <a:tbl>
              <a:tblPr/>
              <a:tblGrid>
                <a:gridCol w="1122480"/>
                <a:gridCol w="1122120"/>
                <a:gridCol w="1122480"/>
                <a:gridCol w="1123920"/>
                <a:gridCol w="1122480"/>
                <a:gridCol w="387360"/>
                <a:gridCol w="500040"/>
                <a:gridCol w="235080"/>
                <a:gridCol w="122040"/>
                <a:gridCol w="357120"/>
                <a:gridCol w="428760"/>
                <a:gridCol w="214200"/>
              </a:tblGrid>
              <a:tr h="56376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under an unpleasant level of pressure to succeed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5634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are not getting what you want out of your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are in the wrong organization or the wrong profession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5634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 you becoming frustrated with parts of your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organizational politics or bureaucracy frustrate your ability to do a good job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24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there is more work to do than you practically have the ability to d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464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eel that you do not have time to do many of the things that are important to doing a good quality job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</a:tr>
              <a:tr h="754200">
                <a:tc>
                  <a:txBody>
                    <a:bodyPr lIns="3960" rIns="3960" tIns="3960" bIns="39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5">
                  <a:txBody>
                    <a:bodyPr lIns="3960" rIns="3960" tIns="3960" bIns="39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find that you do not have time to plan as much as you would like to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 gridSpan="12">
                  <a:txBody>
                    <a:bodyPr lIns="3960" rIns="3960" tIns="3960" bIns="3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>
                  <a:txBody>
                    <a:bodyPr lIns="3960" rIns="3960" tIns="3960" bIns="39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1944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 =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960" rIns="3960" tIns="3960" bIns="396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666666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eeeeee"/>
                    </a:solidFill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66666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7440" rIns="37440" tIns="18720" bIns="187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7440" marR="37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17" name="DefaultOcx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8" name="HTMLOption1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19" name="HTMLOption2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0" name="HTMLOption3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1" name="HTMLOption4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2" name="HTMLOption5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3" name="HTMLOption6" descr=""/>
          <p:cNvPicPr/>
          <p:nvPr/>
        </p:nvPicPr>
        <p:blipFill>
          <a:blip r:embed="rId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4" name="HTMLOption7" descr=""/>
          <p:cNvPicPr/>
          <p:nvPr/>
        </p:nvPicPr>
        <p:blipFill>
          <a:blip r:embed="rId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5" name="HTMLOption8" descr=""/>
          <p:cNvPicPr/>
          <p:nvPr/>
        </p:nvPicPr>
        <p:blipFill>
          <a:blip r:embed="rId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6" name="HTMLOption9" descr=""/>
          <p:cNvPicPr/>
          <p:nvPr/>
        </p:nvPicPr>
        <p:blipFill>
          <a:blip r:embed="rId1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7" name="HTMLOption10" descr=""/>
          <p:cNvPicPr/>
          <p:nvPr/>
        </p:nvPicPr>
        <p:blipFill>
          <a:blip r:embed="rId1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8" name="HTMLOption11" descr=""/>
          <p:cNvPicPr/>
          <p:nvPr/>
        </p:nvPicPr>
        <p:blipFill>
          <a:blip r:embed="rId1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29" name="HTMLOption12" descr=""/>
          <p:cNvPicPr/>
          <p:nvPr/>
        </p:nvPicPr>
        <p:blipFill>
          <a:blip r:embed="rId1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0" name="HTMLOption13" descr=""/>
          <p:cNvPicPr/>
          <p:nvPr/>
        </p:nvPicPr>
        <p:blipFill>
          <a:blip r:embed="rId1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1" name="HTMLOption14" descr=""/>
          <p:cNvPicPr/>
          <p:nvPr/>
        </p:nvPicPr>
        <p:blipFill>
          <a:blip r:embed="rId1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2" name="HTMLOption15" descr=""/>
          <p:cNvPicPr/>
          <p:nvPr/>
        </p:nvPicPr>
        <p:blipFill>
          <a:blip r:embed="rId1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3" name="HTMLOption16" descr=""/>
          <p:cNvPicPr/>
          <p:nvPr/>
        </p:nvPicPr>
        <p:blipFill>
          <a:blip r:embed="rId1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4" name="HTMLOption17" descr=""/>
          <p:cNvPicPr/>
          <p:nvPr/>
        </p:nvPicPr>
        <p:blipFill>
          <a:blip r:embed="rId1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5" name="HTMLOption18" descr=""/>
          <p:cNvPicPr/>
          <p:nvPr/>
        </p:nvPicPr>
        <p:blipFill>
          <a:blip r:embed="rId1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6" name="HTMLOption19" descr=""/>
          <p:cNvPicPr/>
          <p:nvPr/>
        </p:nvPicPr>
        <p:blipFill>
          <a:blip r:embed="rId2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7" name="HTMLOption20" descr=""/>
          <p:cNvPicPr/>
          <p:nvPr/>
        </p:nvPicPr>
        <p:blipFill>
          <a:blip r:embed="rId2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8" name="HTMLOption21" descr=""/>
          <p:cNvPicPr/>
          <p:nvPr/>
        </p:nvPicPr>
        <p:blipFill>
          <a:blip r:embed="rId2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39" name="HTMLOption22" descr=""/>
          <p:cNvPicPr/>
          <p:nvPr/>
        </p:nvPicPr>
        <p:blipFill>
          <a:blip r:embed="rId2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0" name="HTMLOption23" descr=""/>
          <p:cNvPicPr/>
          <p:nvPr/>
        </p:nvPicPr>
        <p:blipFill>
          <a:blip r:embed="rId2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1" name="HTMLOption24" descr=""/>
          <p:cNvPicPr/>
          <p:nvPr/>
        </p:nvPicPr>
        <p:blipFill>
          <a:blip r:embed="rId2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2" name="HTMLOption25" descr=""/>
          <p:cNvPicPr/>
          <p:nvPr/>
        </p:nvPicPr>
        <p:blipFill>
          <a:blip r:embed="rId26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3" name="HTMLOption26" descr=""/>
          <p:cNvPicPr/>
          <p:nvPr/>
        </p:nvPicPr>
        <p:blipFill>
          <a:blip r:embed="rId27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4" name="HTMLOption27" descr=""/>
          <p:cNvPicPr/>
          <p:nvPr/>
        </p:nvPicPr>
        <p:blipFill>
          <a:blip r:embed="rId28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5" name="HTMLOption28" descr=""/>
          <p:cNvPicPr/>
          <p:nvPr/>
        </p:nvPicPr>
        <p:blipFill>
          <a:blip r:embed="rId29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6" name="HTMLOption29" descr=""/>
          <p:cNvPicPr/>
          <p:nvPr/>
        </p:nvPicPr>
        <p:blipFill>
          <a:blip r:embed="rId30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HTMLOption30" descr=""/>
          <p:cNvPicPr/>
          <p:nvPr/>
        </p:nvPicPr>
        <p:blipFill>
          <a:blip r:embed="rId31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8" name="HTMLOption31" descr=""/>
          <p:cNvPicPr/>
          <p:nvPr/>
        </p:nvPicPr>
        <p:blipFill>
          <a:blip r:embed="rId3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49" name="HTMLOption32" descr=""/>
          <p:cNvPicPr/>
          <p:nvPr/>
        </p:nvPicPr>
        <p:blipFill>
          <a:blip r:embed="rId3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50" name="HTMLOption33" descr=""/>
          <p:cNvPicPr/>
          <p:nvPr/>
        </p:nvPicPr>
        <p:blipFill>
          <a:blip r:embed="rId3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51" name="HTMLOption34" descr=""/>
          <p:cNvPicPr/>
          <p:nvPr/>
        </p:nvPicPr>
        <p:blipFill>
          <a:blip r:embed="rId3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357120" y="1000080"/>
          <a:ext cx="8215560" cy="5357880"/>
        </p:xfrm>
        <a:graphic>
          <a:graphicData uri="http://schemas.openxmlformats.org/drawingml/2006/table">
            <a:tbl>
              <a:tblPr/>
              <a:tblGrid>
                <a:gridCol w="986040"/>
                <a:gridCol w="7229520"/>
              </a:tblGrid>
              <a:tr h="669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Sc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</a:tr>
              <a:tr h="669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5 – 1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Little sign of burnout h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4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19 – 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Little sign of burnout here, unless some factors are particularly seve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</a:tr>
              <a:tr h="100332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33 – 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Be careful - you may be at risk of burnout, particularly if several scores are hig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7812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50 – 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You may be at severe risk of burnout - do something about this urgentl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d3d3d3"/>
                    </a:solidFill>
                  </a:tcPr>
                </a:tc>
              </a:tr>
              <a:tr h="10317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60 - 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You may be at very severe risk of burnout - do something about this urgentl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ccccc"/>
                      </a:solidFill>
                    </a:lnL>
                    <a:lnR w="5760">
                      <a:solidFill>
                        <a:srgbClr val="cccccc"/>
                      </a:solidFill>
                    </a:lnR>
                    <a:lnT w="5760">
                      <a:solidFill>
                        <a:srgbClr val="cccccc"/>
                      </a:solidFill>
                    </a:lnT>
                    <a:lnB w="5760">
                      <a:solidFill>
                        <a:srgbClr val="ccccc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Burnout – Cont.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79280" y="1268280"/>
            <a:ext cx="8964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voiding Burnout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690480" indent="-191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Too much to do, too little time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Use the  job analysis tool to see if you can cut away low-yield work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Review your management of time 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Check that you are using all of the resources available to you. </a:t>
            </a: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  <a:p>
            <a:pPr lvl="3" marL="921240" indent="-1918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1f497d"/>
                </a:solidFill>
                <a:latin typeface="Georgi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Burnout - Cont.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250560" y="1125360"/>
            <a:ext cx="8504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79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Avoiding Burnout :                           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780840" indent="-21708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voiding Exhaustion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Going on a good, long vacation is one of the best ways of avoiding burnout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Leave your laptop and mobile phone behind.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Rest, and enjoy life. Being a workaholic is not something to be proud of.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  <a:p>
            <a:pPr lvl="3" marL="1041840" indent="-217080">
              <a:spcBef>
                <a:spcPts val="799"/>
              </a:spcBef>
              <a:buClr>
                <a:srgbClr val="f5cd2d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f497d"/>
                </a:solidFill>
                <a:latin typeface="Georgia"/>
              </a:rPr>
              <a:t>make sure you get enough sleep and rest</a:t>
            </a:r>
            <a:endParaRPr b="0" lang="en-US" sz="32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3"/>
          <p:cNvSpPr/>
          <p:nvPr/>
        </p:nvSpPr>
        <p:spPr>
          <a:xfrm>
            <a:off x="1676520" y="2895480"/>
            <a:ext cx="2209680" cy="1067040"/>
          </a:xfrm>
          <a:prstGeom prst="rect">
            <a:avLst/>
          </a:prstGeom>
          <a:solidFill>
            <a:srgbClr val="82190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7d769"/>
                </a:solidFill>
                <a:latin typeface="Arial"/>
              </a:rPr>
              <a:t>Behavi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"/>
          <p:cNvSpPr/>
          <p:nvPr/>
        </p:nvSpPr>
        <p:spPr>
          <a:xfrm>
            <a:off x="1676520" y="4419720"/>
            <a:ext cx="2209680" cy="990360"/>
          </a:xfrm>
          <a:prstGeom prst="rect">
            <a:avLst/>
          </a:prstGeom>
          <a:solidFill>
            <a:srgbClr val="004e4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7d769"/>
                </a:solidFill>
                <a:latin typeface="Arial"/>
              </a:rPr>
              <a:t>Psych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5"/>
          <p:cNvSpPr/>
          <p:nvPr/>
        </p:nvSpPr>
        <p:spPr>
          <a:xfrm>
            <a:off x="3886200" y="2895480"/>
            <a:ext cx="4114800" cy="1067040"/>
          </a:xfrm>
          <a:prstGeom prst="rect">
            <a:avLst/>
          </a:prstGeom>
          <a:solidFill>
            <a:srgbClr val="bdb19b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ork performance, accidents, absenteeism, aggression, poor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3886200" y="4419720"/>
            <a:ext cx="4114800" cy="990360"/>
          </a:xfrm>
          <a:prstGeom prst="rect">
            <a:avLst/>
          </a:prstGeom>
          <a:solidFill>
            <a:srgbClr val="8fe99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Dissatisfaction, moodiness, depression, emotional fatig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9"/>
          <p:cNvSpPr/>
          <p:nvPr/>
        </p:nvSpPr>
        <p:spPr>
          <a:xfrm>
            <a:off x="1676520" y="1523880"/>
            <a:ext cx="2209680" cy="990720"/>
          </a:xfrm>
          <a:prstGeom prst="rect">
            <a:avLst/>
          </a:prstGeom>
          <a:solidFill>
            <a:srgbClr val="26334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7d769"/>
                </a:solidFill>
                <a:latin typeface="Arial"/>
              </a:rPr>
              <a:t>Phys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0"/>
          <p:cNvSpPr/>
          <p:nvPr/>
        </p:nvSpPr>
        <p:spPr>
          <a:xfrm>
            <a:off x="3886200" y="1523880"/>
            <a:ext cx="4114800" cy="990720"/>
          </a:xfrm>
          <a:prstGeom prst="rect">
            <a:avLst/>
          </a:prstGeom>
          <a:solidFill>
            <a:srgbClr val="5f9b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ardiovascular disease, hypertension, head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Georgia"/>
              </a:rPr>
              <a:t>Consequences of Stress</a:t>
            </a:r>
            <a:endParaRPr b="0" lang="en-US" sz="4100" spc="-1" strike="noStrike">
              <a:solidFill>
                <a:srgbClr val="9d2512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Objectives of the session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Define stres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types of stres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ognize the mechanisms of stres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dentify the relation of stress and our health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call the stress management strateg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805680" indent="-223920">
              <a:spcBef>
                <a:spcPts val="7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343880" indent="-2239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1343880" indent="-223920">
              <a:spcBef>
                <a:spcPts val="451"/>
              </a:spcBef>
              <a:buClr>
                <a:srgbClr val="aebad5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and our health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tress and the immune system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dical school examinations associated with decreases in cellula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munit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increases in proinflammatory and humoral immun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creases in vulnerability to infectious disease as well as allerg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fe stress is associated with 2-fold increase 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usceptibility to the common cold vir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re life stress is associated with a 4-fold increase in risk of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IV progressi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nd 2.6-fold increase 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and our health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8000" y="1341360"/>
            <a:ext cx="4176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Georgia"/>
              </a:rPr>
              <a:t>Stress and the cardiovascular system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diovascular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ortalit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s tripled in this group (15%) compared to non-depressed patients (5%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4427640" y="2421000"/>
          <a:ext cx="471636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2421000"/>
                    <a:ext cx="47163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Preparatio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Simple study routine , have a clear plan of action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Adequate early preparation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Regular and systematic revision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0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Georgia"/>
              </a:rPr>
              <a:t>Practice  (Mock exams) as it would reduce anxiety </a:t>
            </a:r>
            <a:endParaRPr b="0" lang="en-US" sz="40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ime management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Priority tasks , evaluate how you are budgeting your time.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Set achievable goals keeping in mind your strengths and weakness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Make a realistic schedule and follow it through.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vation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Drive to achieve goal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Don’t get discouraged’ learn to appreciate your strength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Learn from mistake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110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Georgia"/>
              </a:rPr>
              <a:t>Visualize success</a:t>
            </a:r>
            <a:endParaRPr b="0" lang="en-US" sz="44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Examination stress , how to handle i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intain confidence 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09040" indent="-25344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look at yourself without any judgment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09040" indent="-253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  <a:p>
            <a:pPr lvl="1" marL="509040" indent="-253440">
              <a:spcBef>
                <a:spcPts val="901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Georgia"/>
              </a:rPr>
              <a:t>Resist comparisons , don’t compare yourself to other people .compare yourself to the best you can do . In other  words , compete within yourself.</a:t>
            </a:r>
            <a:endParaRPr b="0" lang="en-US" sz="36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Diagram 3" descr=""/>
          <p:cNvPicPr/>
          <p:nvPr/>
        </p:nvPicPr>
        <p:blipFill>
          <a:blip r:embed="rId1"/>
          <a:stretch/>
        </p:blipFill>
        <p:spPr>
          <a:xfrm>
            <a:off x="208080" y="360360"/>
            <a:ext cx="87278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Arial Narrow"/>
              </a:rPr>
              <a:t>Personal Management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wo Anti-Stress Approaches 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4-Steps to Interrupting Stres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Relaxation Respons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100000"/>
              </a:lnSpc>
              <a:spcBef>
                <a:spcPts val="4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8a44d"/>
                </a:solidFill>
                <a:latin typeface="Arial Narrow"/>
              </a:rPr>
              <a:t>Interrupting Stress – A 4 Step Approach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time you encounter a stress…stop…before (automatic) thoughts escalate into worst possible scenarios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eath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fter you stop, breathe deeply to release physical tension…most time one tends to hold breath in the midst being stressed…even a momentary interruption can help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flec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cus energy on problem &amp; reflect on the cause of 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o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09760" indent="-6094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me to choose how to deal with str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Arial Narrow"/>
              </a:rPr>
              <a:t>Relaxation Response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Pick a focus word, phrase, image, or prayer; or focus on breath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Sit quietly in comfortable positio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Close eyes &amp; relax musc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Breathe slowly &amp; naturally – as you do, repeat focus word or phase as you exhal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Narrow"/>
              </a:rPr>
              <a:t>When other thoughts come to mind, just go back to repetition of word or breath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Definitions??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Georgia"/>
              </a:rPr>
              <a:t>Stress is a condition or feeling experienced when a person perceives that demands exceed the personal and social resources.    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                       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1f497d"/>
                </a:solidFill>
                <a:latin typeface="Georgia"/>
              </a:rPr>
              <a:t>                                                                            </a:t>
            </a:r>
            <a:r>
              <a:rPr b="1" i="1" lang="en-CA" sz="2200" spc="-1" strike="noStrike">
                <a:solidFill>
                  <a:srgbClr val="1f497d"/>
                </a:solidFill>
                <a:latin typeface="Georgia"/>
              </a:rPr>
              <a:t>(</a:t>
            </a:r>
            <a:r>
              <a:rPr b="0" i="1" lang="en-US" sz="2200" spc="-1" strike="noStrike">
                <a:solidFill>
                  <a:srgbClr val="1f497d"/>
                </a:solidFill>
                <a:latin typeface="Georgia"/>
              </a:rPr>
              <a:t>Richard S Lazarus)</a:t>
            </a:r>
            <a:endParaRPr b="0" lang="en-US" sz="22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trategy #1 :Avoid unnecessary stress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499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Learn how to say “no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Avoid people who stress you out</a:t>
            </a: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Take control of your environment</a:t>
            </a:r>
            <a:r>
              <a:rPr b="0" lang="en-CA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void hot-button topic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48080" indent="-207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2: Alter the situation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Express your feelings instead of bottling them 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Be willing to compromi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Be more asser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anage your time bett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3</a:t>
            </a: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: Adapt to the stressor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eframe problem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Georgia"/>
              </a:rPr>
              <a:t>Look at the big pictur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901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Focus on the positive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4: Accept the things you can’t change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Don’t try to control the uncontroll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hare your feelin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arn to forg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strategy #5: Make time for fun and relaxation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t aside relaxation ti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nnect with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Do something you enjoy every d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Keep your sense of hum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management strategy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8920" y="126828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Georgia"/>
              </a:rPr>
              <a:t>strategy #6: Adopt a healthy lifesty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Exercise regular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Eat a healthy di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Reduce caffeine and suga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Georgia"/>
              </a:rPr>
              <a:t>Avoid alcohol, cigarettes, and drug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723240" indent="-200880"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Get enough slee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Stress management strategy for a doctor 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7200" y="1886040"/>
            <a:ext cx="40086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c00000"/>
                </a:solidFill>
                <a:latin typeface="Georgia"/>
              </a:rPr>
              <a:t>Stress due t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Night ca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Contact with dy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Dealing with rel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Lack of recogn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4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Georgia"/>
                <a:ea typeface="Arial"/>
              </a:rPr>
              <a:t>24 hr co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4"/>
          <p:cNvSpPr/>
          <p:nvPr/>
        </p:nvSpPr>
        <p:spPr>
          <a:xfrm>
            <a:off x="4627440" y="1886040"/>
            <a:ext cx="40086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72880" indent="-272880">
              <a:lnSpc>
                <a:spcPct val="100000"/>
              </a:lnSpc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f6228"/>
                </a:solidFill>
                <a:latin typeface="Georgia"/>
              </a:rPr>
              <a:t>Solu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Time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Decrease interru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Decrease paper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Good staff relation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Deleg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Exerc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Relax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lnSpc>
                <a:spcPct val="100000"/>
              </a:lnSpc>
              <a:spcBef>
                <a:spcPts val="550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f6228"/>
                </a:solidFill>
                <a:latin typeface="Georgia"/>
                <a:ea typeface="Arial"/>
              </a:rPr>
              <a:t>Protected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77933c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762120" y="1981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ne third of the illnesses are caused by Stress, either directly or indirectl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If handled properly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274680" algn="just">
              <a:lnSpc>
                <a:spcPct val="90000"/>
              </a:lnSpc>
              <a:spcBef>
                <a:spcPts val="5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f497d"/>
                </a:solidFill>
                <a:latin typeface="Georgia"/>
              </a:rPr>
              <a:t>Stress can help improve performance, </a:t>
            </a:r>
            <a:endParaRPr b="0" lang="en-US" sz="2300" spc="-1" strike="noStrike">
              <a:solidFill>
                <a:srgbClr val="1f497d"/>
              </a:solidFill>
              <a:latin typeface="Georgia"/>
            </a:endParaRPr>
          </a:p>
          <a:p>
            <a:pPr lvl="1" marL="274680" algn="just">
              <a:lnSpc>
                <a:spcPct val="90000"/>
              </a:lnSpc>
              <a:spcBef>
                <a:spcPts val="5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1f497d"/>
                </a:solidFill>
                <a:latin typeface="Georgia"/>
              </a:rPr>
              <a:t>but too much stress without appropriate strategy to control it can be harmful for the mind and the body.</a:t>
            </a:r>
            <a:endParaRPr b="0" lang="en-US" sz="2300" spc="-1" strike="noStrike">
              <a:solidFill>
                <a:srgbClr val="1f497d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WordArt 2"/>
          <p:cNvSpPr txBox="1"/>
          <p:nvPr/>
        </p:nvSpPr>
        <p:spPr>
          <a:xfrm>
            <a:off x="685800" y="762120"/>
            <a:ext cx="7343640" cy="23619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ahoma"/>
              </a:rPr>
              <a:t>شكــــــراً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ahoma"/>
              <a:ea typeface="Tahoma"/>
            </a:endParaRPr>
          </a:p>
        </p:txBody>
      </p:sp>
      <p:sp>
        <p:nvSpPr>
          <p:cNvPr id="803" name="WordArt 3"/>
          <p:cNvSpPr txBox="1"/>
          <p:nvPr/>
        </p:nvSpPr>
        <p:spPr>
          <a:xfrm>
            <a:off x="685800" y="4038480"/>
            <a:ext cx="7800840" cy="22100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ahoma"/>
              </a:rPr>
              <a:t>THANKS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ahoma"/>
              <a:ea typeface="Tahoma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4876920" y="6477120"/>
            <a:ext cx="3657600" cy="3808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rebuchet MS"/>
                <a:ea typeface="Arial"/>
              </a:rPr>
              <a:t>Dept. of Medical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Georgia"/>
              </a:rPr>
              <a:t>If these capacities handle the demand and enjoy the stimulation involved, then stress is welcome and helpful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Georgia"/>
              </a:rPr>
              <a:t>If the capacities cannot handle the demand, then stress is unwelcome and unhelpful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Line 4"/>
          <p:cNvSpPr/>
          <p:nvPr/>
        </p:nvSpPr>
        <p:spPr>
          <a:xfrm>
            <a:off x="4572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6"/>
          <p:cNvSpPr/>
          <p:nvPr/>
        </p:nvSpPr>
        <p:spPr>
          <a:xfrm>
            <a:off x="86868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7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7933c"/>
                </a:solidFill>
                <a:latin typeface="Georgia"/>
              </a:rPr>
              <a:t>STRESS AS A RESPONSE </a:t>
            </a:r>
            <a:endParaRPr b="0" lang="en-US" sz="32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It results in certain physiological changes: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gastrointestinal, 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glandular and 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cardiovascular disorders 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675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1f497d"/>
                </a:solidFill>
                <a:latin typeface="Georgia"/>
              </a:rPr>
              <a:t>etc.</a:t>
            </a:r>
            <a:endParaRPr b="0" lang="en-US" sz="2700" spc="-1" strike="noStrike">
              <a:solidFill>
                <a:srgbClr val="1f497d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It affects the entire body, not just a single part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Georgia"/>
              </a:rPr>
              <a:t>Differences in response within and between individuals.</a:t>
            </a:r>
            <a:endParaRPr b="0" lang="en-US" sz="3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86868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457200" y="457200"/>
            <a:ext cx="0" cy="601992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7"/>
          <p:cNvSpPr/>
          <p:nvPr/>
        </p:nvSpPr>
        <p:spPr>
          <a:xfrm>
            <a:off x="457200" y="647712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3640" y="1196640"/>
            <a:ext cx="848196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alth professionals face many stressors in their work environment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leep depriv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sruptions in social suppo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nical vs. educational conflict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ring for critically ill or dying patie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lnSpc>
                <a:spcPct val="90000"/>
              </a:lnSpc>
              <a:spcBef>
                <a:spcPts val="700"/>
              </a:spcBef>
              <a:buClr>
                <a:srgbClr val="b32c16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rtification or licensing examin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(French et al., 1982; Peterlini et al., 200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2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700"/>
              </a:spcBef>
              <a:buClr>
                <a:srgbClr val="aebad5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88a44d"/>
                </a:solidFill>
                <a:latin typeface="Georgia"/>
              </a:rPr>
              <a:t>stress</a:t>
            </a:r>
            <a:endParaRPr b="0" lang="en-US" sz="4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Can be useful in enhancing performance &amp; efficiency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Can be harmful &amp; negative especially when it becomes chronic &amp; excessive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1"/>
          <a:stretch/>
        </p:blipFill>
        <p:spPr>
          <a:xfrm>
            <a:off x="4800600" y="2198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53735"/>
                </a:solidFill>
                <a:latin typeface="Georgia"/>
              </a:rPr>
              <a:t>HUMAN FUNCTION CURVE</a:t>
            </a:r>
            <a:endParaRPr b="0" lang="en-US" sz="36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36" name="Line 4"/>
          <p:cNvSpPr/>
          <p:nvPr/>
        </p:nvSpPr>
        <p:spPr>
          <a:xfrm>
            <a:off x="8686800" y="457200"/>
            <a:ext cx="0" cy="640080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457200" y="457200"/>
            <a:ext cx="0" cy="640080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457200" y="670572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457200" y="457200"/>
            <a:ext cx="82296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8" descr="line"/>
          <p:cNvPicPr/>
          <p:nvPr/>
        </p:nvPicPr>
        <p:blipFill>
          <a:blip r:embed="rId1"/>
          <a:stretch/>
        </p:blipFill>
        <p:spPr>
          <a:xfrm>
            <a:off x="1600200" y="1752480"/>
            <a:ext cx="5791320" cy="4157640"/>
          </a:xfrm>
          <a:prstGeom prst="rect">
            <a:avLst/>
          </a:prstGeom>
          <a:ln w="0">
            <a:noFill/>
          </a:ln>
        </p:spPr>
      </p:pic>
      <p:sp>
        <p:nvSpPr>
          <p:cNvPr id="641" name="Line 9"/>
          <p:cNvSpPr/>
          <p:nvPr/>
        </p:nvSpPr>
        <p:spPr>
          <a:xfrm flipV="1">
            <a:off x="1676520" y="1828800"/>
            <a:ext cx="0" cy="403848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0"/>
          <p:cNvSpPr/>
          <p:nvPr/>
        </p:nvSpPr>
        <p:spPr>
          <a:xfrm>
            <a:off x="1676520" y="5791320"/>
            <a:ext cx="5715000" cy="0"/>
          </a:xfrm>
          <a:prstGeom prst="line">
            <a:avLst/>
          </a:prstGeom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2"/>
          <p:cNvSpPr/>
          <p:nvPr/>
        </p:nvSpPr>
        <p:spPr>
          <a:xfrm>
            <a:off x="3733920" y="12952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ntende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3"/>
          <p:cNvSpPr/>
          <p:nvPr/>
        </p:nvSpPr>
        <p:spPr>
          <a:xfrm>
            <a:off x="5562720" y="19051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Exhau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4"/>
          <p:cNvSpPr/>
          <p:nvPr/>
        </p:nvSpPr>
        <p:spPr>
          <a:xfrm>
            <a:off x="6095880" y="2666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III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5"/>
          <p:cNvSpPr/>
          <p:nvPr/>
        </p:nvSpPr>
        <p:spPr>
          <a:xfrm>
            <a:off x="6477120" y="3733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6"/>
          <p:cNvSpPr/>
          <p:nvPr/>
        </p:nvSpPr>
        <p:spPr>
          <a:xfrm>
            <a:off x="365760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Fatig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7"/>
          <p:cNvSpPr/>
          <p:nvPr/>
        </p:nvSpPr>
        <p:spPr>
          <a:xfrm>
            <a:off x="4114800" y="3276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Actual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8"/>
          <p:cNvSpPr/>
          <p:nvPr/>
        </p:nvSpPr>
        <p:spPr>
          <a:xfrm>
            <a:off x="6477120" y="5334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  <a:ea typeface="Arial"/>
              </a:rPr>
              <a:t>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9"/>
          <p:cNvSpPr/>
          <p:nvPr/>
        </p:nvSpPr>
        <p:spPr>
          <a:xfrm>
            <a:off x="2057400" y="52578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Healthy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0"/>
          <p:cNvSpPr/>
          <p:nvPr/>
        </p:nvSpPr>
        <p:spPr>
          <a:xfrm>
            <a:off x="1143000" y="1752480"/>
            <a:ext cx="533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21"/>
          <p:cNvSpPr/>
          <p:nvPr/>
        </p:nvSpPr>
        <p:spPr>
          <a:xfrm>
            <a:off x="2743200" y="5851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OU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2"/>
          <p:cNvSpPr/>
          <p:nvPr/>
        </p:nvSpPr>
        <p:spPr>
          <a:xfrm>
            <a:off x="1371600" y="60991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 = The point at which minimum arousal may bring on a break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9d2512"/>
                </a:solidFill>
                <a:latin typeface="Georgia"/>
              </a:rPr>
              <a:t>Stress  </a:t>
            </a:r>
            <a:endParaRPr b="0" lang="en-US" sz="3300" spc="-1" strike="noStrike">
              <a:solidFill>
                <a:srgbClr val="9d2512"/>
              </a:solidFill>
              <a:latin typeface="Georgi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echanisms of stress 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ght-or-Flig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The General Adaptation Syndrome and Burnout</a:t>
            </a:r>
            <a:br>
              <a:rPr sz="2700"/>
            </a:br>
            <a:r>
              <a:rPr b="0" lang="en-CA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4:19:33Z</dcterms:created>
  <dc:creator>Sami Alnassar</dc:creator>
  <dc:description/>
  <dc:language>en-US</dc:language>
  <cp:lastModifiedBy>kk101452</cp:lastModifiedBy>
  <dcterms:modified xsi:type="dcterms:W3CDTF">2015-10-04T06:47:48Z</dcterms:modified>
  <cp:revision>197</cp:revision>
  <dc:subject/>
  <dc:title>Stress Managment</dc:title>
</cp:coreProperties>
</file>