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WHOOSH.WAV" ContentType="audio/x-wav"/>
  <Override PartName="/ppt/media/image8.png" ContentType="image/png"/>
  <Override PartName="/ppt/media/image16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5.wmf" ContentType="image/x-wmf"/>
  <Override PartName="/ppt/media/image14.wmf" ContentType="image/x-wmf"/>
  <Override PartName="/ppt/media/image2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2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6C8-7D75-43BE-887B-21E09F07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BEF-AEAA-472B-BB6F-D00FB05B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FC2-0A01-4CCF-9F4F-0A471406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14E-39D9-406A-A33C-DE3FD0A8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A0B8-C814-4AB3-A27F-C593E035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10CE-5BF4-48F4-873E-F7EC3D42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FDE9-5524-441F-B3DF-D88E813C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CBE0-0BDC-4A0F-A4DC-EAC381F9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1471-CF70-409E-9A81-F6E8D1B3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06600" y="227160"/>
            <a:ext cx="63244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5DBE-BAB6-4603-BD8E-E8F29EFB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FC57-05F3-467F-9E85-637D122A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0F8-021C-4F68-A0E0-9B61ADFA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0CF3-3FF1-4FAA-8211-96654A51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6069-4A52-4FBA-B8AF-21482A10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AF03-4CF3-4912-AC95-476CA1E1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8638-A2A6-48AD-B002-46AE525B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942C-6CEE-4C5A-B140-23075E16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013-755E-4850-A0C1-9A0EF1FA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E2A-5265-4B41-97B5-2B52CE51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A78-73E4-4417-BC32-A20045C9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06600" y="227160"/>
            <a:ext cx="63244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52F9-96DB-472B-ADFF-00197967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CCDA-476B-48C1-8871-6B4D003F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361-F611-40F7-BEEC-19E1BF83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0C5-3E1E-43E2-985D-04953162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9"/>
          <p:cNvGraphicFramePr/>
          <p:nvPr/>
        </p:nvGraphicFramePr>
        <p:xfrm>
          <a:off x="2987640" y="2736720"/>
          <a:ext cx="6156360" cy="412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2736720"/>
                    <a:ext cx="615636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Object 20"/>
          <p:cNvGraphicFramePr/>
          <p:nvPr/>
        </p:nvGraphicFramePr>
        <p:xfrm>
          <a:off x="0" y="0"/>
          <a:ext cx="9144000" cy="97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Object 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Freeform 21"/>
          <p:cNvSpPr/>
          <p:nvPr/>
        </p:nvSpPr>
        <p:spPr>
          <a:xfrm>
            <a:off x="1828800" y="246240"/>
            <a:ext cx="7315200" cy="720720"/>
          </a:xfrm>
          <a:custGeom>
            <a:avLst/>
            <a:gdLst/>
            <a:ahLst/>
            <a:rect l="l" t="t" r="r" b="b"/>
            <a:pathLst>
              <a:path w="4798" h="454">
                <a:moveTo>
                  <a:pt x="0" y="454"/>
                </a:moveTo>
                <a:lnTo>
                  <a:pt x="4798" y="454"/>
                </a:lnTo>
                <a:lnTo>
                  <a:pt x="4798" y="0"/>
                </a:lnTo>
                <a:lnTo>
                  <a:pt x="382" y="3"/>
                </a:lnTo>
                <a:lnTo>
                  <a:pt x="0" y="454"/>
                </a:lnTo>
                <a:close/>
              </a:path>
            </a:pathLst>
          </a:custGeom>
          <a:gradFill rotWithShape="0">
            <a:gsLst>
              <a:gs pos="0">
                <a:srgbClr val="023b3f"/>
              </a:gs>
              <a:gs pos="100000">
                <a:srgbClr val="0580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Freeform 22"/>
          <p:cNvSpPr/>
          <p:nvPr/>
        </p:nvSpPr>
        <p:spPr>
          <a:xfrm>
            <a:off x="0" y="966960"/>
            <a:ext cx="1828800" cy="288720"/>
          </a:xfrm>
          <a:custGeom>
            <a:avLst/>
            <a:gdLst/>
            <a:ahLst/>
            <a:rect l="l" t="t" r="r" b="b"/>
            <a:pathLst>
              <a:path w="1338" h="182">
                <a:moveTo>
                  <a:pt x="0" y="0"/>
                </a:moveTo>
                <a:lnTo>
                  <a:pt x="1338" y="0"/>
                </a:lnTo>
                <a:lnTo>
                  <a:pt x="1138" y="182"/>
                </a:lnTo>
                <a:lnTo>
                  <a:pt x="0" y="181"/>
                </a:lnTo>
                <a:lnTo>
                  <a:pt x="0" y="0"/>
                </a:lnTo>
                <a:close/>
              </a:path>
            </a:pathLst>
          </a:custGeom>
          <a:solidFill>
            <a:srgbClr val="66b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4517-A709-4B0E-BB79-6E32C04FF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0" descr="j0341439"/>
          <p:cNvPicPr/>
          <p:nvPr/>
        </p:nvPicPr>
        <p:blipFill>
          <a:blip r:embed="rId2"/>
          <a:srcRect l="0" t="0" r="0" b="19829"/>
          <a:stretch/>
        </p:blipFill>
        <p:spPr>
          <a:xfrm>
            <a:off x="0" y="1744560"/>
            <a:ext cx="9144000" cy="5127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1"/>
          <p:cNvSpPr/>
          <p:nvPr/>
        </p:nvSpPr>
        <p:spPr>
          <a:xfrm>
            <a:off x="0" y="0"/>
            <a:ext cx="9144000" cy="2392200"/>
          </a:xfrm>
          <a:prstGeom prst="rect">
            <a:avLst/>
          </a:prstGeom>
          <a:gradFill rotWithShape="0">
            <a:gsLst>
              <a:gs pos="0">
                <a:srgbClr val="2ca9d0"/>
              </a:gs>
              <a:gs pos="100000">
                <a:srgbClr val="144e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Freeform 32"/>
          <p:cNvSpPr/>
          <p:nvPr/>
        </p:nvSpPr>
        <p:spPr>
          <a:xfrm>
            <a:off x="2130480" y="1486080"/>
            <a:ext cx="7014960" cy="909360"/>
          </a:xfrm>
          <a:custGeom>
            <a:avLst/>
            <a:gdLst/>
            <a:ahLst/>
            <a:rect l="l" t="t" r="r" b="b"/>
            <a:pathLst>
              <a:path w="4134" h="573">
                <a:moveTo>
                  <a:pt x="0" y="573"/>
                </a:moveTo>
                <a:lnTo>
                  <a:pt x="4134" y="573"/>
                </a:lnTo>
                <a:lnTo>
                  <a:pt x="4134" y="1"/>
                </a:lnTo>
                <a:lnTo>
                  <a:pt x="322" y="0"/>
                </a:lnTo>
                <a:lnTo>
                  <a:pt x="0" y="573"/>
                </a:lnTo>
                <a:close/>
              </a:path>
            </a:pathLst>
          </a:custGeom>
          <a:gradFill rotWithShape="0">
            <a:gsLst>
              <a:gs pos="0">
                <a:srgbClr val="011011"/>
              </a:gs>
              <a:gs pos="100000">
                <a:srgbClr val="0580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Freeform 33"/>
          <p:cNvSpPr/>
          <p:nvPr/>
        </p:nvSpPr>
        <p:spPr>
          <a:xfrm>
            <a:off x="-6480" y="2379600"/>
            <a:ext cx="2140200" cy="455760"/>
          </a:xfrm>
          <a:custGeom>
            <a:avLst/>
            <a:gdLst/>
            <a:ahLst/>
            <a:rect l="l" t="t" r="r" b="b"/>
            <a:pathLst>
              <a:path w="1348" h="287">
                <a:moveTo>
                  <a:pt x="0" y="0"/>
                </a:moveTo>
                <a:lnTo>
                  <a:pt x="1348" y="0"/>
                </a:lnTo>
                <a:lnTo>
                  <a:pt x="1170" y="287"/>
                </a:lnTo>
                <a:lnTo>
                  <a:pt x="0" y="286"/>
                </a:lnTo>
                <a:lnTo>
                  <a:pt x="0" y="0"/>
                </a:lnTo>
                <a:close/>
              </a:path>
            </a:pathLst>
          </a:custGeom>
          <a:solidFill>
            <a:srgbClr val="66b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Text Box 34"/>
          <p:cNvSpPr/>
          <p:nvPr/>
        </p:nvSpPr>
        <p:spPr>
          <a:xfrm>
            <a:off x="610200" y="15238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36C5-DDF7-4C60-B86B-6670783D6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520" y="16077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ime Managemen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86000" y="5638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Skills Course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pt of medical educ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llege of Medicin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5" name="Picture 3" descr="11.jpg"/>
          <p:cNvPicPr/>
          <p:nvPr/>
        </p:nvPicPr>
        <p:blipFill>
          <a:blip r:embed="rId1"/>
          <a:stretch/>
        </p:blipFill>
        <p:spPr>
          <a:xfrm>
            <a:off x="0" y="0"/>
            <a:ext cx="2292480" cy="2371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7391520" y="228600"/>
            <a:ext cx="1523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1142"/>
                </a:solidFill>
                <a:latin typeface="Cooper Black"/>
              </a:rPr>
              <a:t>The Truth!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s college students, you are very busy people, and to make those  168 hours effective, you have to do some planning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Benefits of Time Managemen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You are more </a:t>
            </a:r>
            <a:r>
              <a:rPr b="0" lang="en-US" sz="2400" spc="-1" strike="noStrike">
                <a:solidFill>
                  <a:srgbClr val="66be0e"/>
                </a:solidFill>
                <a:latin typeface="Times New Roman"/>
                <a:ea typeface="Times New Roman"/>
              </a:rPr>
              <a:t>productiv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You reduce your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stress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You improve your </a:t>
            </a:r>
            <a:r>
              <a:rPr b="0" lang="en-US" sz="2400" spc="-1" strike="noStrike">
                <a:solidFill>
                  <a:srgbClr val="458109"/>
                </a:solidFill>
                <a:latin typeface="Times New Roman"/>
                <a:ea typeface="Times New Roman"/>
              </a:rPr>
              <a:t>self-esteem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You achiev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alanc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in your life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You feel more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confident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in your ability to get things done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You reach your </a:t>
            </a:r>
            <a:r>
              <a:rPr b="0" lang="en-US" sz="2400" spc="-1" strike="noStrike">
                <a:solidFill>
                  <a:srgbClr val="458109"/>
                </a:solidFill>
                <a:latin typeface="Times New Roman"/>
                <a:ea typeface="Times New Roman"/>
              </a:rPr>
              <a:t>goals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0" y="1905120"/>
            <a:ext cx="914400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8080"/>
                </a:solidFill>
                <a:latin typeface="Kristen ITC"/>
                <a:ea typeface="Arial"/>
              </a:rPr>
              <a:t>What is Time Management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Arial"/>
                <a:ea typeface="Arial"/>
              </a:rPr>
              <a:t>Simply, making use of most of your time and energy!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26"/>
          <p:cNvSpPr/>
          <p:nvPr/>
        </p:nvSpPr>
        <p:spPr>
          <a:xfrm>
            <a:off x="3048120" y="2286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8,8,8 = Balance</a:t>
            </a:r>
            <a:br>
              <a:rPr sz="40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re are only 24 hours in a day!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23" name="Object 1027"/>
          <p:cNvGraphicFramePr/>
          <p:nvPr/>
        </p:nvGraphicFramePr>
        <p:xfrm>
          <a:off x="2260440" y="1076400"/>
          <a:ext cx="4783320" cy="530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0440" y="1076400"/>
                    <a:ext cx="478332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1028"/>
          <p:cNvSpPr/>
          <p:nvPr/>
        </p:nvSpPr>
        <p:spPr>
          <a:xfrm>
            <a:off x="6477120" y="1940040"/>
            <a:ext cx="25146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8 hours of work/school keeps you from burning out by doing too much, or from  not devoting enough time to your goals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8 hours of personal time keeps your life well-rounded with time for fun and enjoyment!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Rectangle 1029"/>
          <p:cNvSpPr/>
          <p:nvPr/>
        </p:nvSpPr>
        <p:spPr>
          <a:xfrm>
            <a:off x="152280" y="2397240"/>
            <a:ext cx="2625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The day is made of only 24 hours (even though we wish it had more). Three segments of 8 hours keeps things simple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8 hours of sleep gives you the rest your body needs to accomplish your goals and remain healthy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57200" y="106668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A Word about </a:t>
            </a:r>
            <a:r>
              <a:rPr b="1" i="1" lang="en-US" sz="4000" spc="-1" strike="noStrike">
                <a:solidFill>
                  <a:srgbClr val="0000cc"/>
                </a:solidFill>
                <a:latin typeface="Arial"/>
              </a:rPr>
              <a:t>ENERGY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1828800"/>
            <a:ext cx="8839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 most overlooked aspect of time management is your energy level. 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0" y="22860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mic Sans MS"/>
                <a:ea typeface="Arial"/>
              </a:rPr>
              <a:t>Evaluate your energy level at different times of day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mic Sans MS"/>
                <a:ea typeface="Arial"/>
              </a:rPr>
              <a:t>Schedule tasks when you have the energy level to match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mic Sans MS"/>
                <a:ea typeface="Arial"/>
              </a:rPr>
              <a:t>Now that you know your “smart” hours – peaks and your slump hours – use that information to guide your study time selection.</a:t>
            </a:r>
            <a:r>
              <a:rPr b="1" i="1" lang="en-US" sz="2400" spc="-1" strike="noStrike">
                <a:solidFill>
                  <a:srgbClr val="7030a0"/>
                </a:solidFill>
                <a:latin typeface="Comic Sans MS"/>
                <a:ea typeface="Arial"/>
              </a:rPr>
              <a:t>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067"/>
                </a:solidFill>
                <a:latin typeface="Arial"/>
                <a:ea typeface="Arial"/>
              </a:rPr>
              <a:t>If you are a “morning person,” seize the early hours to study and do assignments that require focus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067"/>
                </a:solidFill>
                <a:latin typeface="Arial"/>
                <a:ea typeface="Arial"/>
              </a:rPr>
              <a:t>If you are an “evening person,” make sure that you are being productive and not sacrificing sleep for extra  hours to socialize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mic Sans MS"/>
                <a:ea typeface="Arial"/>
              </a:rPr>
              <a:t>Losing sleep is the easiest way to sabotage your energy level!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0" y="19051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200000"/>
              </a:lnSpc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  <a:ea typeface="Arial"/>
              </a:rPr>
              <a:t>Set goals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571680" indent="-571680">
              <a:lnSpc>
                <a:spcPct val="200000"/>
              </a:lnSpc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  <a:ea typeface="Arial"/>
              </a:rPr>
              <a:t>Make a schedule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571680" indent="-571680">
              <a:lnSpc>
                <a:spcPct val="200000"/>
              </a:lnSpc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  <a:ea typeface="Arial"/>
              </a:rPr>
              <a:t>Revisit and revise your plan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990720"/>
            <a:ext cx="9144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Arial"/>
              </a:rPr>
              <a:t>What are the steps to Managing Your Time</a:t>
            </a:r>
            <a:r>
              <a:rPr b="1" i="1" lang="en-US" sz="40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8"/>
          <p:cNvSpPr/>
          <p:nvPr/>
        </p:nvSpPr>
        <p:spPr>
          <a:xfrm>
            <a:off x="2440440" y="121932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1. Set Goals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2438280"/>
            <a:ext cx="6705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Unicode MS"/>
              </a:rPr>
              <a:t>Make your goals specific and concrete.  </a:t>
            </a:r>
            <a:r>
              <a:rPr b="0" lang="en-US" sz="2800" spc="-1" strike="noStrike" u="sng">
                <a:solidFill>
                  <a:srgbClr val="808080"/>
                </a:solidFill>
                <a:uFillTx/>
                <a:latin typeface="Arial Unicode MS"/>
              </a:rPr>
              <a:t>Don’t be vague</a:t>
            </a:r>
            <a:r>
              <a:rPr b="0" lang="en-US" sz="2800" spc="-1" strike="noStrike">
                <a:solidFill>
                  <a:srgbClr val="80808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Unicode MS"/>
              </a:rPr>
              <a:t>Set both long-term goals and short-term ones to support them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Unicode MS"/>
              </a:rPr>
              <a:t>Set a </a:t>
            </a:r>
            <a:r>
              <a:rPr b="0" lang="en-US" sz="2800" spc="-1" strike="noStrike" u="sng">
                <a:solidFill>
                  <a:srgbClr val="808080"/>
                </a:solidFill>
                <a:uFillTx/>
                <a:latin typeface="Arial Unicode MS"/>
              </a:rPr>
              <a:t>deadline</a:t>
            </a:r>
            <a:r>
              <a:rPr b="0" lang="en-US" sz="2800" spc="-1" strike="noStrike">
                <a:solidFill>
                  <a:srgbClr val="808080"/>
                </a:solidFill>
                <a:latin typeface="Arial Unicode MS"/>
              </a:rPr>
              <a:t> for your goals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Unicode MS"/>
              </a:rPr>
              <a:t>Integrate your goals: school, personal and career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Unicode MS"/>
              </a:rPr>
              <a:t>Realize that </a:t>
            </a:r>
            <a:r>
              <a:rPr b="0" lang="en-US" sz="2800" spc="-1" strike="noStrike" u="sng">
                <a:solidFill>
                  <a:srgbClr val="808080"/>
                </a:solidFill>
                <a:uFillTx/>
                <a:latin typeface="Arial Unicode MS"/>
              </a:rPr>
              <a:t>goals change</a:t>
            </a:r>
            <a:r>
              <a:rPr b="0" lang="en-US" sz="2800" spc="-1" strike="noStrike">
                <a:solidFill>
                  <a:srgbClr val="808080"/>
                </a:solidFill>
                <a:latin typeface="Arial Unicode MS"/>
              </a:rPr>
              <a:t>, but know which goals to stick to!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4" name="Picture 4" descr="MCj01976550000[1]"/>
          <p:cNvPicPr/>
          <p:nvPr/>
        </p:nvPicPr>
        <p:blipFill>
          <a:blip r:embed="rId1"/>
          <a:stretch/>
        </p:blipFill>
        <p:spPr>
          <a:xfrm>
            <a:off x="6389640" y="1981080"/>
            <a:ext cx="2754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1676520" y="990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From your goals, set priorities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What’s important and what isn’t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What order do things need to be done in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Once you know what your </a:t>
            </a:r>
            <a:r>
              <a:rPr b="0" lang="en-US" sz="2800" spc="-1" strike="noStrike" u="sng">
                <a:solidFill>
                  <a:srgbClr val="808080"/>
                </a:solidFill>
                <a:uFillTx/>
                <a:latin typeface="Arial"/>
              </a:rPr>
              <a:t>priorities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are, you need to </a:t>
            </a:r>
            <a:r>
              <a:rPr b="0" lang="en-US" sz="2800" spc="-1" strike="noStrike" u="sng">
                <a:solidFill>
                  <a:srgbClr val="808080"/>
                </a:solidFill>
                <a:uFillTx/>
                <a:latin typeface="Arial"/>
              </a:rPr>
              <a:t>plan out a schedule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or the semester, the week and the day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Planning may seem hard at first, but the more you do it, the easier and more natural it gets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 your tim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(Eisenhower method)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29528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5e43"/>
                </a:solidFill>
                <a:latin typeface="Arial"/>
              </a:rPr>
              <a:t>People don't plan to fail but a lot of people do fail to plan</a:t>
            </a:r>
            <a:r>
              <a:rPr b="0" i="1" lang="en-US" sz="3200" spc="-1" strike="noStrike">
                <a:solidFill>
                  <a:srgbClr val="e55e43"/>
                </a:solidFill>
                <a:latin typeface="Arial"/>
              </a:rPr>
              <a:t>."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55e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5e43"/>
                </a:solidFill>
                <a:latin typeface="Arial"/>
              </a:rPr>
              <a:t>To Do List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- Break things down into small step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- Like a child cleaning his/her room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- Do the ugliest thing first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9" name="Content Placeholder 3" descr="8.gif"/>
          <p:cNvPicPr/>
          <p:nvPr/>
        </p:nvPicPr>
        <p:blipFill>
          <a:blip r:embed="rId1"/>
          <a:stretch/>
        </p:blipFill>
        <p:spPr>
          <a:xfrm>
            <a:off x="457200" y="1371600"/>
            <a:ext cx="7924680" cy="480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Picture 5" descr="8.gif"/>
          <p:cNvPicPr/>
          <p:nvPr/>
        </p:nvPicPr>
        <p:blipFill>
          <a:blip r:embed="rId2"/>
          <a:stretch/>
        </p:blipFill>
        <p:spPr>
          <a:xfrm>
            <a:off x="380880" y="1295280"/>
            <a:ext cx="8077320" cy="533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ssess your task!!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685800" y="1828800"/>
            <a:ext cx="2133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Is the task urgent &amp; important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43" name="Group 68"/>
          <p:cNvGrpSpPr/>
          <p:nvPr/>
        </p:nvGrpSpPr>
        <p:grpSpPr>
          <a:xfrm>
            <a:off x="2743200" y="1733400"/>
            <a:ext cx="781200" cy="400320"/>
            <a:chOff x="2743200" y="1733400"/>
            <a:chExt cx="781200" cy="400320"/>
          </a:xfrm>
        </p:grpSpPr>
        <p:sp>
          <p:nvSpPr>
            <p:cNvPr id="144" name="Line 22"/>
            <p:cNvSpPr/>
            <p:nvPr/>
          </p:nvSpPr>
          <p:spPr>
            <a:xfrm>
              <a:off x="2743200" y="2133720"/>
              <a:ext cx="685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5" name="Text Box 23"/>
            <p:cNvSpPr/>
            <p:nvPr/>
          </p:nvSpPr>
          <p:spPr>
            <a:xfrm>
              <a:off x="2838600" y="17334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Arial"/>
                  <a:ea typeface="Arial"/>
                </a:rPr>
                <a:t>yes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46" name="Text Box 25"/>
          <p:cNvSpPr/>
          <p:nvPr/>
        </p:nvSpPr>
        <p:spPr>
          <a:xfrm>
            <a:off x="3429000" y="1905120"/>
            <a:ext cx="2133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o you need to complete it today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47" name="Group 69"/>
          <p:cNvGrpSpPr/>
          <p:nvPr/>
        </p:nvGrpSpPr>
        <p:grpSpPr>
          <a:xfrm>
            <a:off x="5543640" y="1809720"/>
            <a:ext cx="914400" cy="476280"/>
            <a:chOff x="5543640" y="1809720"/>
            <a:chExt cx="914400" cy="476280"/>
          </a:xfrm>
        </p:grpSpPr>
        <p:sp>
          <p:nvSpPr>
            <p:cNvPr id="148" name="Line 27"/>
            <p:cNvSpPr/>
            <p:nvPr/>
          </p:nvSpPr>
          <p:spPr>
            <a:xfrm>
              <a:off x="5562720" y="2286000"/>
              <a:ext cx="685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9" name="Text Box 28"/>
            <p:cNvSpPr/>
            <p:nvPr/>
          </p:nvSpPr>
          <p:spPr>
            <a:xfrm>
              <a:off x="5543640" y="1809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Arial"/>
                  <a:ea typeface="Arial"/>
                </a:rPr>
                <a:t>yes</a:t>
              </a: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50" name="Text Box 29"/>
          <p:cNvSpPr/>
          <p:nvPr/>
        </p:nvSpPr>
        <p:spPr>
          <a:xfrm>
            <a:off x="6248520" y="1905120"/>
            <a:ext cx="13716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Take immediate action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7620120" y="23623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WordArt 31"/>
          <p:cNvSpPr txBox="1"/>
          <p:nvPr/>
        </p:nvSpPr>
        <p:spPr>
          <a:xfrm>
            <a:off x="8058240" y="1943280"/>
            <a:ext cx="914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grpSp>
        <p:nvGrpSpPr>
          <p:cNvPr id="153" name="Group 52"/>
          <p:cNvGrpSpPr/>
          <p:nvPr/>
        </p:nvGrpSpPr>
        <p:grpSpPr>
          <a:xfrm>
            <a:off x="1657440" y="2438280"/>
            <a:ext cx="609480" cy="838440"/>
            <a:chOff x="1657440" y="2438280"/>
            <a:chExt cx="609480" cy="838440"/>
          </a:xfrm>
        </p:grpSpPr>
        <p:sp>
          <p:nvSpPr>
            <p:cNvPr id="154" name="Line 33"/>
            <p:cNvSpPr/>
            <p:nvPr/>
          </p:nvSpPr>
          <p:spPr>
            <a:xfrm>
              <a:off x="1676520" y="2438280"/>
              <a:ext cx="0" cy="838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55" name="Text Box 34"/>
            <p:cNvSpPr/>
            <p:nvPr/>
          </p:nvSpPr>
          <p:spPr>
            <a:xfrm>
              <a:off x="1657440" y="25430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Arial"/>
                  <a:ea typeface="Arial"/>
                </a:rPr>
                <a:t>No</a:t>
              </a: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56" name="Text Box 32"/>
          <p:cNvSpPr/>
          <p:nvPr/>
        </p:nvSpPr>
        <p:spPr>
          <a:xfrm>
            <a:off x="609480" y="3228840"/>
            <a:ext cx="2133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Is the task urgent or important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57" name="Group 57"/>
          <p:cNvGrpSpPr/>
          <p:nvPr/>
        </p:nvGrpSpPr>
        <p:grpSpPr>
          <a:xfrm>
            <a:off x="2743200" y="3124080"/>
            <a:ext cx="762120" cy="409680"/>
            <a:chOff x="2743200" y="3124080"/>
            <a:chExt cx="762120" cy="409680"/>
          </a:xfrm>
        </p:grpSpPr>
        <p:sp>
          <p:nvSpPr>
            <p:cNvPr id="158" name="Line 37"/>
            <p:cNvSpPr/>
            <p:nvPr/>
          </p:nvSpPr>
          <p:spPr>
            <a:xfrm>
              <a:off x="2743200" y="3533760"/>
              <a:ext cx="685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59" name="Text Box 38"/>
            <p:cNvSpPr/>
            <p:nvPr/>
          </p:nvSpPr>
          <p:spPr>
            <a:xfrm>
              <a:off x="281952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Arial"/>
                  <a:ea typeface="Arial"/>
                </a:rPr>
                <a:t>yes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60" name="Text Box 39"/>
          <p:cNvSpPr/>
          <p:nvPr/>
        </p:nvSpPr>
        <p:spPr>
          <a:xfrm>
            <a:off x="3429000" y="3228840"/>
            <a:ext cx="2133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oes it has a definite dead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161" name="AutoShape 42"/>
          <p:cNvCxnSpPr/>
          <p:nvPr/>
        </p:nvCxnSpPr>
        <p:spPr>
          <a:xfrm flipV="1">
            <a:off x="5562360" y="3161880"/>
            <a:ext cx="991080" cy="324720"/>
          </a:xfrm>
          <a:prstGeom prst="bentConnector3">
            <a:avLst>
              <a:gd name="adj1" fmla="val 5000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62" name="AutoShape 40"/>
          <p:cNvCxnSpPr/>
          <p:nvPr/>
        </p:nvCxnSpPr>
        <p:spPr>
          <a:xfrm>
            <a:off x="5600520" y="3638160"/>
            <a:ext cx="952920" cy="400680"/>
          </a:xfrm>
          <a:prstGeom prst="bentConnector3">
            <a:avLst>
              <a:gd name="adj1" fmla="val 5000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63" name="Text Box 43"/>
          <p:cNvSpPr/>
          <p:nvPr/>
        </p:nvSpPr>
        <p:spPr>
          <a:xfrm>
            <a:off x="5421240" y="31417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y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Text Box 44"/>
          <p:cNvSpPr/>
          <p:nvPr/>
        </p:nvSpPr>
        <p:spPr>
          <a:xfrm>
            <a:off x="55627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Text Box 48"/>
          <p:cNvSpPr/>
          <p:nvPr/>
        </p:nvSpPr>
        <p:spPr>
          <a:xfrm>
            <a:off x="6629400" y="28195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8089"/>
                </a:solidFill>
                <a:latin typeface="Arial"/>
                <a:ea typeface="Arial"/>
              </a:rPr>
              <a:t>Allocate time to complete i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6553080" y="3962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8089"/>
                </a:solidFill>
                <a:latin typeface="Arial"/>
                <a:ea typeface="Arial"/>
              </a:rPr>
              <a:t>Set realistic deadline for i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WordArt 51"/>
          <p:cNvSpPr txBox="1"/>
          <p:nvPr/>
        </p:nvSpPr>
        <p:spPr>
          <a:xfrm>
            <a:off x="8001000" y="335268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grpSp>
        <p:nvGrpSpPr>
          <p:cNvPr id="168" name="Group 53"/>
          <p:cNvGrpSpPr/>
          <p:nvPr/>
        </p:nvGrpSpPr>
        <p:grpSpPr>
          <a:xfrm>
            <a:off x="1676520" y="3809880"/>
            <a:ext cx="609480" cy="838440"/>
            <a:chOff x="1676520" y="3809880"/>
            <a:chExt cx="609480" cy="838440"/>
          </a:xfrm>
        </p:grpSpPr>
        <p:sp>
          <p:nvSpPr>
            <p:cNvPr id="169" name="Line 54"/>
            <p:cNvSpPr/>
            <p:nvPr/>
          </p:nvSpPr>
          <p:spPr>
            <a:xfrm>
              <a:off x="1695600" y="3809880"/>
              <a:ext cx="0" cy="838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0" name="Text Box 55"/>
            <p:cNvSpPr/>
            <p:nvPr/>
          </p:nvSpPr>
          <p:spPr>
            <a:xfrm>
              <a:off x="1676520" y="39146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Arial"/>
                  <a:ea typeface="Arial"/>
                </a:rPr>
                <a:t>No</a:t>
              </a: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71" name="Text Box 56"/>
          <p:cNvSpPr/>
          <p:nvPr/>
        </p:nvSpPr>
        <p:spPr>
          <a:xfrm>
            <a:off x="762120" y="4648320"/>
            <a:ext cx="2133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Is the task necessary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72" name="Group 58"/>
          <p:cNvGrpSpPr/>
          <p:nvPr/>
        </p:nvGrpSpPr>
        <p:grpSpPr>
          <a:xfrm>
            <a:off x="2895480" y="4572000"/>
            <a:ext cx="3123000" cy="409680"/>
            <a:chOff x="2895480" y="4572000"/>
            <a:chExt cx="3123000" cy="409680"/>
          </a:xfrm>
        </p:grpSpPr>
        <p:sp>
          <p:nvSpPr>
            <p:cNvPr id="173" name="Line 59"/>
            <p:cNvSpPr/>
            <p:nvPr/>
          </p:nvSpPr>
          <p:spPr>
            <a:xfrm>
              <a:off x="2895480" y="4981680"/>
              <a:ext cx="28105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4" name="Text Box 60"/>
            <p:cNvSpPr/>
            <p:nvPr/>
          </p:nvSpPr>
          <p:spPr>
            <a:xfrm>
              <a:off x="3207960" y="4572000"/>
              <a:ext cx="281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Arial"/>
                  <a:ea typeface="Arial"/>
                </a:rPr>
                <a:t>yes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75" name="Text Box 61"/>
          <p:cNvSpPr/>
          <p:nvPr/>
        </p:nvSpPr>
        <p:spPr>
          <a:xfrm>
            <a:off x="5791320" y="464832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ave the task for quiet tim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76" name="Group 73"/>
          <p:cNvGrpSpPr/>
          <p:nvPr/>
        </p:nvGrpSpPr>
        <p:grpSpPr>
          <a:xfrm>
            <a:off x="1676520" y="5257800"/>
            <a:ext cx="1447560" cy="838080"/>
            <a:chOff x="1676520" y="5257800"/>
            <a:chExt cx="1447560" cy="838080"/>
          </a:xfrm>
        </p:grpSpPr>
        <p:grpSp>
          <p:nvGrpSpPr>
            <p:cNvPr id="177" name="Group 62"/>
            <p:cNvGrpSpPr/>
            <p:nvPr/>
          </p:nvGrpSpPr>
          <p:grpSpPr>
            <a:xfrm>
              <a:off x="1676520" y="5257800"/>
              <a:ext cx="609480" cy="838080"/>
              <a:chOff x="1676520" y="5257800"/>
              <a:chExt cx="609480" cy="838080"/>
            </a:xfrm>
          </p:grpSpPr>
          <p:sp>
            <p:nvSpPr>
              <p:cNvPr id="178" name="Line 63"/>
              <p:cNvSpPr/>
              <p:nvPr/>
            </p:nvSpPr>
            <p:spPr>
              <a:xfrm>
                <a:off x="1695600" y="5257800"/>
                <a:ext cx="0" cy="838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79" name="Text Box 64"/>
              <p:cNvSpPr/>
              <p:nvPr/>
            </p:nvSpPr>
            <p:spPr>
              <a:xfrm>
                <a:off x="1676520" y="53622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No</a:t>
                </a: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  <p:sp>
          <p:nvSpPr>
            <p:cNvPr id="180" name="Line 65"/>
            <p:cNvSpPr/>
            <p:nvPr/>
          </p:nvSpPr>
          <p:spPr>
            <a:xfrm>
              <a:off x="1676520" y="6019920"/>
              <a:ext cx="1447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81" name="Text Box 66"/>
          <p:cNvSpPr/>
          <p:nvPr/>
        </p:nvSpPr>
        <p:spPr>
          <a:xfrm>
            <a:off x="3352680" y="5791320"/>
            <a:ext cx="1905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8089"/>
                </a:solidFill>
                <a:latin typeface="Arial"/>
                <a:ea typeface="Arial"/>
              </a:rPr>
              <a:t>Discard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WordArt 67"/>
          <p:cNvSpPr txBox="1"/>
          <p:nvPr/>
        </p:nvSpPr>
        <p:spPr>
          <a:xfrm>
            <a:off x="8077320" y="4648320"/>
            <a:ext cx="914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C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34">
                                  <p:stCondLst>
                                    <p:cond delay="20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432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45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462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46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8700"/>
                            </p:stCondLst>
                            <p:childTnLst>
                              <p:par>
                                <p:cTn id="474" nodeType="afterEffect" fill="hold" presetClass="entr" presetID="56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486" nodeType="afterEffect" fill="hold" presetClass="entr" presetID="34">
                                  <p:stCondLst>
                                    <p:cond delay="150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503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524" nodeType="afterEffect" fill="hold" presetClass="entr" presetID="1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533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74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545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8288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6720" indent="-66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3300"/>
                </a:solidFill>
                <a:latin typeface="Arial"/>
              </a:rPr>
              <a:t>2. Make a Schedule</a:t>
            </a:r>
            <a:br>
              <a:rPr sz="3500"/>
            </a:br>
            <a:r>
              <a:rPr b="0" i="1" lang="en-US" sz="3000" spc="-1" strike="noStrike">
                <a:solidFill>
                  <a:srgbClr val="ffffff"/>
                </a:solidFill>
                <a:latin typeface="Arial Unicode MS"/>
              </a:rPr>
              <a:t>Set Up Your Semester Calendar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0" y="2057400"/>
            <a:ext cx="842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Look at the syllabus for the class schedule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Begin with blocking all </a:t>
            </a:r>
            <a:r>
              <a:rPr b="0" i="1" lang="en-US" sz="2400" spc="-1" strike="noStrike">
                <a:solidFill>
                  <a:srgbClr val="808080"/>
                </a:solidFill>
                <a:latin typeface="Arial Unicode MS"/>
              </a:rPr>
              <a:t>class </a:t>
            </a: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and </a:t>
            </a:r>
            <a:r>
              <a:rPr b="0" i="1" lang="en-US" sz="2400" spc="-1" strike="noStrike">
                <a:solidFill>
                  <a:srgbClr val="808080"/>
                </a:solidFill>
                <a:latin typeface="Arial Unicode MS"/>
              </a:rPr>
              <a:t>lab</a:t>
            </a: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 times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Block all other set time obligations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Unicode MS"/>
                <a:ea typeface="Arial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Arial Unicode MS"/>
                <a:ea typeface="Arial"/>
              </a:rPr>
              <a:t>Work, mosque, meetings and so on…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Highlight all </a:t>
            </a:r>
            <a:r>
              <a:rPr b="0" i="1" lang="en-US" sz="2400" spc="-1" strike="noStrike">
                <a:solidFill>
                  <a:srgbClr val="808080"/>
                </a:solidFill>
                <a:latin typeface="Arial Unicode MS"/>
              </a:rPr>
              <a:t>exams</a:t>
            </a: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 and project </a:t>
            </a:r>
            <a:r>
              <a:rPr b="0" i="1" lang="en-US" sz="2400" spc="-1" strike="noStrike">
                <a:solidFill>
                  <a:srgbClr val="808080"/>
                </a:solidFill>
                <a:latin typeface="Arial Unicode MS"/>
              </a:rPr>
              <a:t>due dates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Identify routine homework days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Work backwards from exams and papers and map out study/writing time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Don’t forget to take a break once in a while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t the end of this session, the student will be able to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dentify the importance of T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Plan your schedules effectively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Enumerate Time waster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dentify procrastination signs &amp; tackle i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828800" y="990720"/>
            <a:ext cx="6248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06060"/>
                </a:solidFill>
                <a:latin typeface="Arial"/>
              </a:rPr>
              <a:t>Make a Schedule continued</a:t>
            </a:r>
            <a:br>
              <a:rPr sz="2400"/>
            </a:br>
            <a:r>
              <a:rPr b="0" i="1" lang="en-US" sz="3400" spc="-1" strike="noStrike">
                <a:solidFill>
                  <a:srgbClr val="0070c0"/>
                </a:solidFill>
                <a:latin typeface="Arial Unicode MS"/>
              </a:rPr>
              <a:t>Set Up Your Weekly Plan</a:t>
            </a: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213372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Unicode MS"/>
              </a:rPr>
              <a:t>Spend 30 minutes or so mapping out the week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Unicode MS"/>
              </a:rPr>
              <a:t>Ask yourself these questions about the week: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Unicode MS"/>
                <a:ea typeface="Arial"/>
              </a:rPr>
              <a:t>What do I expect to accomplish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Unicode MS"/>
                <a:ea typeface="Arial"/>
              </a:rPr>
              <a:t>What will I have to do to reach these goals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Unicode MS"/>
                <a:ea typeface="Arial"/>
              </a:rPr>
              <a:t>What tasks are more important than others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Unicode MS"/>
                <a:ea typeface="Arial"/>
              </a:rPr>
              <a:t>How much time will each activity take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Unicode MS"/>
                <a:ea typeface="Arial"/>
              </a:rPr>
              <a:t>When will I do each activity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Unicode MS"/>
                <a:ea typeface="Arial"/>
              </a:rPr>
              <a:t>How flexible do I have to be to allow for unexpected things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67"/>
          <p:cNvSpPr/>
          <p:nvPr/>
        </p:nvSpPr>
        <p:spPr>
          <a:xfrm>
            <a:off x="0" y="1163520"/>
            <a:ext cx="9144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sk yourself 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How effective is my schedule?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Does I allow enough time to accomplish what the schedules?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Am I paying attention to my energy level?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Does it look like I will accomplish everything I plan?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How well will I be able to accomplish certain tasks?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ca9d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000" spc="-1" strike="noStrike">
                <a:solidFill>
                  <a:srgbClr val="2ca9d0"/>
                </a:solidFill>
                <a:latin typeface="Times New Roman"/>
                <a:ea typeface="Times New Roman"/>
              </a:rPr>
              <a:t>Work smarter, not harder.”- Alan Lakei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Set realistic goals, there are only 24 hours in a day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Study at the same time each day: make it a habi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Divide study time into 50-minute blocks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Don’t forget to reward yourself when you do something right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0" y="914400"/>
            <a:ext cx="63244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4606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4606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067"/>
                </a:solidFill>
                <a:latin typeface="Arial Unicode MS"/>
              </a:rPr>
              <a:t>Complete a term assignment preview.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4606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067"/>
                </a:solidFill>
                <a:latin typeface="Arial Unicode MS"/>
              </a:rPr>
              <a:t>Use a “</a:t>
            </a:r>
            <a:r>
              <a:rPr b="0" lang="en-US" sz="2400" spc="-1" strike="noStrike" u="sng">
                <a:solidFill>
                  <a:srgbClr val="046067"/>
                </a:solidFill>
                <a:uFillTx/>
                <a:latin typeface="Arial Unicode MS"/>
              </a:rPr>
              <a:t>week at a glance</a:t>
            </a:r>
            <a:r>
              <a:rPr b="0" lang="en-US" sz="2400" spc="-1" strike="noStrike">
                <a:solidFill>
                  <a:srgbClr val="046067"/>
                </a:solidFill>
                <a:latin typeface="Arial Unicode MS"/>
              </a:rPr>
              <a:t>” organizer.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4606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067"/>
                </a:solidFill>
                <a:latin typeface="Arial Unicode MS"/>
              </a:rPr>
              <a:t>Enter in due dates and social events as soon as you can.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4606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46067"/>
                </a:solidFill>
                <a:uFillTx/>
                <a:latin typeface="Arial Unicode MS"/>
              </a:rPr>
              <a:t>Review your calendar daily </a:t>
            </a:r>
            <a:r>
              <a:rPr b="0" lang="en-US" sz="2400" spc="-1" strike="noStrike">
                <a:solidFill>
                  <a:srgbClr val="046067"/>
                </a:solidFill>
                <a:latin typeface="Arial Unicode MS"/>
              </a:rPr>
              <a:t>for the current week and upcoming week.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4606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067"/>
                </a:solidFill>
                <a:latin typeface="Arial Unicode MS"/>
              </a:rPr>
              <a:t>It just takes a moment to review your calendar and </a:t>
            </a:r>
            <a:r>
              <a:rPr b="0" lang="en-US" sz="2400" spc="-1" strike="noStrike" u="sng">
                <a:solidFill>
                  <a:srgbClr val="046067"/>
                </a:solidFill>
                <a:uFillTx/>
                <a:latin typeface="Arial Unicode MS"/>
              </a:rPr>
              <a:t>it relieves stress </a:t>
            </a:r>
            <a:r>
              <a:rPr b="0" lang="en-US" sz="2400" spc="-1" strike="noStrike">
                <a:solidFill>
                  <a:srgbClr val="046067"/>
                </a:solidFill>
                <a:latin typeface="Arial Unicode MS"/>
              </a:rPr>
              <a:t>to know you are on top of things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4606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343400" y="1752480"/>
            <a:ext cx="4495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91" name="Picture 5" descr="MCj01500240000[1]"/>
          <p:cNvPicPr/>
          <p:nvPr/>
        </p:nvPicPr>
        <p:blipFill>
          <a:blip r:embed="rId1"/>
          <a:stretch/>
        </p:blipFill>
        <p:spPr>
          <a:xfrm>
            <a:off x="6324480" y="3581280"/>
            <a:ext cx="2362320" cy="1793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MCj02976250000[1]"/>
          <p:cNvPicPr/>
          <p:nvPr/>
        </p:nvPicPr>
        <p:blipFill>
          <a:blip r:embed="rId2"/>
          <a:stretch/>
        </p:blipFill>
        <p:spPr>
          <a:xfrm>
            <a:off x="6248520" y="1295280"/>
            <a:ext cx="1981080" cy="17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 busy are you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ecause we are not concentrating on the right thing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e55e43"/>
                </a:solidFill>
                <a:latin typeface="Arial"/>
              </a:rPr>
              <a:t>To succeed</a:t>
            </a:r>
            <a:r>
              <a:rPr b="0" lang="en-US" sz="2400" spc="-1" strike="noStrike">
                <a:solidFill>
                  <a:srgbClr val="e55e43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we must concentrate on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55e43"/>
                </a:solidFill>
                <a:latin typeface="Arial"/>
              </a:rPr>
              <a:t>1.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The results to be achieved, not on being busy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e55e43"/>
                </a:solidFill>
                <a:latin typeface="Arial"/>
              </a:rPr>
              <a:t>2.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Setting priorities, which is vit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5e43"/>
                </a:solidFill>
                <a:latin typeface="Comic Sans MS"/>
              </a:rPr>
              <a:t>The aims to ensure that we concentrate our effort on the high payoff task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95" name="Picture 6" descr="BD06140_[1]"/>
          <p:cNvPicPr/>
          <p:nvPr/>
        </p:nvPicPr>
        <p:blipFill>
          <a:blip r:embed="rId1"/>
          <a:stretch/>
        </p:blipFill>
        <p:spPr>
          <a:xfrm>
            <a:off x="3505320" y="1295280"/>
            <a:ext cx="17780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7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2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 your tim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447560"/>
            <a:ext cx="91440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5e4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e55e43"/>
                </a:solidFill>
                <a:latin typeface="Arial"/>
              </a:rPr>
              <a:t>Remember,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lans and schedules for managing time are useless if one does not follow the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risis Managemen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2949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5e43"/>
                </a:solidFill>
                <a:latin typeface="Arial"/>
              </a:rPr>
              <a:t>It can lead to situations such as: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5e43"/>
                </a:solidFill>
                <a:latin typeface="Arial"/>
              </a:rPr>
              <a:t>1- </a:t>
            </a: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High levels of stres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5e43"/>
                </a:solidFill>
                <a:latin typeface="Arial"/>
              </a:rPr>
              <a:t>2- </a:t>
            </a: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 A disrupted private life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5e43"/>
                </a:solidFill>
                <a:latin typeface="Arial"/>
              </a:rPr>
              <a:t>3-</a:t>
            </a: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 Tirednes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5e43"/>
                </a:solidFill>
                <a:latin typeface="Arial"/>
              </a:rPr>
              <a:t>4- </a:t>
            </a: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Failure of projects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00" name="Picture 4" descr="PE06002_[1]"/>
          <p:cNvPicPr/>
          <p:nvPr/>
        </p:nvPicPr>
        <p:blipFill>
          <a:blip r:embed="rId1"/>
          <a:stretch/>
        </p:blipFill>
        <p:spPr>
          <a:xfrm>
            <a:off x="5105520" y="2362320"/>
            <a:ext cx="2514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6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1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on Time Waster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447560"/>
            <a:ext cx="76201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Interruption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05808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8089"/>
                </a:solidFill>
                <a:latin typeface="Arial"/>
              </a:rPr>
              <a:t>Meetings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Tasks to delegate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4d8e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8e0b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d8e0b"/>
                </a:solidFill>
                <a:latin typeface="Arial"/>
              </a:rPr>
              <a:t>Procrastination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58089"/>
                </a:solidFill>
                <a:latin typeface="Arial"/>
              </a:rPr>
              <a:t>Acting with incomplete information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Arial"/>
              </a:rPr>
              <a:t>Dealing with classmates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Crisis management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e55e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5e43"/>
                </a:solidFill>
                <a:latin typeface="Arial"/>
              </a:rPr>
              <a:t>Unclear communication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Inadequate technical knowledge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1506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50603"/>
                </a:solidFill>
                <a:latin typeface="Arial"/>
              </a:rPr>
              <a:t>Unclear objectives and priorities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e55e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5e4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Lack of planning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e55e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5e4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Stress and fatigue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606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06060"/>
                </a:solidFill>
                <a:latin typeface="Arial"/>
              </a:rPr>
              <a:t>Inability to say "No“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e55e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5e4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ersonal disorganization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9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9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9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9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9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9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9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9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9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9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9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9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26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000"/>
                </a:solidFill>
                <a:latin typeface="Arial Unicode MS"/>
              </a:rPr>
              <a:t>Procrastination: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“Never do today what you can pu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off ‘till tomorrow!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447560"/>
            <a:ext cx="91440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Forms of procrastination: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Ignoring the task, hoping it will go away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Underestimating how long it will tak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Overestimating your abilities and resourc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Telling yourself that poor performance is okay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Doing something else that isn’t very importan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Believing that repeated “minor” delays won’t hurt you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Talking about a hard job rather than doing i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Putting all your work on only one part of the task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Becoming paralyzed when having to make choic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4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1371600"/>
            <a:ext cx="8382240" cy="52704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crastination Sign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Thief of Time)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TextBox 4"/>
          <p:cNvGrpSpPr/>
          <p:nvPr/>
        </p:nvGrpSpPr>
        <p:grpSpPr>
          <a:xfrm>
            <a:off x="2225520" y="2097000"/>
            <a:ext cx="4699080" cy="2389320"/>
            <a:chOff x="2225520" y="2097000"/>
            <a:chExt cx="4699080" cy="2389320"/>
          </a:xfrm>
        </p:grpSpPr>
        <p:pic>
          <p:nvPicPr>
            <p:cNvPr id="208" name="TextBox 4" descr=""/>
            <p:cNvPicPr/>
            <p:nvPr/>
          </p:nvPicPr>
          <p:blipFill>
            <a:blip r:embed="rId2"/>
            <a:stretch/>
          </p:blipFill>
          <p:spPr>
            <a:xfrm>
              <a:off x="2225520" y="2097000"/>
              <a:ext cx="469908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514600" y="2362320"/>
              <a:ext cx="41148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How to tackle procrastination?</a:t>
              </a:r>
              <a:r>
                <a:rPr b="0" lang="en-US" sz="2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55e43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et deadlines by which goals should be achieved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mportance of T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Daily schedules planning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ime waster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Procrastination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ake home messages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Why don't people manage their time?</a:t>
            </a:r>
            <a:endParaRPr b="0" i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They don't know about i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They are too lazy to pla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They enjoy the adrenaline buzz of meeting tight deadlin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They enjoy crisis managemen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212" name="TextBox 4"/>
          <p:cNvGrpSpPr/>
          <p:nvPr/>
        </p:nvGrpSpPr>
        <p:grpSpPr>
          <a:xfrm>
            <a:off x="2073240" y="5522760"/>
            <a:ext cx="5613480" cy="1043280"/>
            <a:chOff x="2073240" y="5522760"/>
            <a:chExt cx="5613480" cy="1043280"/>
          </a:xfrm>
        </p:grpSpPr>
        <p:pic>
          <p:nvPicPr>
            <p:cNvPr id="213" name="TextBox 4" descr=""/>
            <p:cNvPicPr/>
            <p:nvPr/>
          </p:nvPicPr>
          <p:blipFill>
            <a:blip r:embed="rId1"/>
            <a:stretch/>
          </p:blipFill>
          <p:spPr>
            <a:xfrm>
              <a:off x="2073240" y="5522760"/>
              <a:ext cx="561348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2362320" y="579132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5e43"/>
                  </a:solidFill>
                  <a:latin typeface="Arial"/>
                </a:rPr>
                <a:t>Failing to plan is planning to fail</a:t>
              </a: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7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7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50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000"/>
                </a:solidFill>
                <a:latin typeface="Arial Unicode MS"/>
              </a:rPr>
              <a:t>How to Overcome Procrastination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080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Win the mental battle by committing to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being on tim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et and keep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deadlines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Organize, schedule &amp; pla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Divide a big job into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maller ones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Find a way to make a game of your work or make it fun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ward yourself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when you’re done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Tell your friends and room mates to remind you of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priorities and deadlines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earn to say “no” to time wasters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Arial Unicode MS"/>
              </a:rPr>
              <a:t>Tackle Time Waster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Learn to say ‘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NO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’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Examples of good ways to say “no”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Instead of: “I really should study”, say “You caught me in the middle of something important, I’ll call you later.”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I can’t go the movies tonight, but I can go on Saturday.”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Before I say yes, let me check my planner and get back to you.”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52120" y="22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rategies on using time (read at home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ese applications of time management have proven to be effective as good study habits.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Blocks of study time and break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As your school term begins and your course schedule is set, develop and plan for, blocks of study time in a typical week. Blocks ideally are around 50 minutes, but perhaps you become restless after only 30 minutes? Some difficult material may require more frequent breaks. 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edicated study space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etermine a place free from distraction (no cell phone or text messaging!) 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eekly review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Each week, like a Saturday night, review your assignments, your notes, your calendar. 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ioritize your assignment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hen studying, get in the habit of beginning with the most difficult subject or task. 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ostpone unnecessary activities until the work is done!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Identify resources to help you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Are there tutors? An expert friend? Have you tried a keyword search on the Internet to get better explanations? Are there specialists in the library that can point you to resources? What about professionals and professional organizations. 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Use your free time wisely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e bottom line is to put your time to good use. What is one example of applying free time to your studies?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eview notes and readings just before clas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It demonstrates to your teacher that you are interested and have prepared. How would you make time to review?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eview lecture notes just after clas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en review lecture material immediately after class.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e first 24 hours are critical. Forgetting is greatest within 24 hours without review! 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0" y="152388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10 WAYS THAT YOU CAN USE TO IMPROVE YOUR TIME MANAGEMENT SKILLS</a:t>
            </a:r>
            <a:r>
              <a:rPr b="0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 AND INCREASE PRODUCTIVITY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5060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DELEGATE TASK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2. PRIORITIZE WORK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3. AVOID PROCRASTIN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4. SCHEDULE TASK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5. AVOID STRES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6. SET UP DEADLIN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7. AVOID MULTITASKING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8. START EARLY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9. TAKE SOME BREAK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10. LEARN TO SAY NO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stions !!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Content Placeholder 3" descr="3.jpg"/>
          <p:cNvPicPr/>
          <p:nvPr/>
        </p:nvPicPr>
        <p:blipFill>
          <a:blip r:embed="rId1"/>
          <a:stretch/>
        </p:blipFill>
        <p:spPr>
          <a:xfrm>
            <a:off x="380880" y="1927080"/>
            <a:ext cx="5105520" cy="406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5" name="TextBox 4"/>
          <p:cNvSpPr/>
          <p:nvPr/>
        </p:nvSpPr>
        <p:spPr>
          <a:xfrm>
            <a:off x="7086600" y="1600200"/>
            <a:ext cx="6094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5e43"/>
                </a:solidFill>
                <a:latin typeface="Kristen ITC"/>
                <a:ea typeface="Arial"/>
              </a:rPr>
              <a:t>T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5e43"/>
                </a:solidFill>
                <a:latin typeface="Kristen ITC"/>
                <a:ea typeface="Arial"/>
              </a:rPr>
              <a:t>H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5e43"/>
                </a:solidFill>
                <a:latin typeface="Kristen ITC"/>
                <a:ea typeface="Arial"/>
              </a:rPr>
              <a:t>A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5e43"/>
                </a:solidFill>
                <a:latin typeface="Kristen ITC"/>
                <a:ea typeface="Arial"/>
              </a:rPr>
              <a:t>N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5e43"/>
                </a:solidFill>
                <a:latin typeface="Kristen ITC"/>
                <a:ea typeface="Arial"/>
              </a:rPr>
              <a:t>K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5e43"/>
                </a:solidFill>
                <a:latin typeface="Kristen ITC"/>
                <a:ea typeface="Arial"/>
              </a:rPr>
              <a:t>Y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5e43"/>
                </a:solidFill>
                <a:latin typeface="Kristen ITC"/>
                <a:ea typeface="Arial"/>
              </a:rPr>
              <a:t>O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5e43"/>
                </a:solidFill>
                <a:latin typeface="Kristen ITC"/>
                <a:ea typeface="Arial"/>
              </a:rPr>
              <a:t>U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did you do yesterday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We need one volunteer on the board.</a:t>
            </a:r>
            <a:r>
              <a:rPr b="0" lang="en-US" sz="2400" spc="-1" strike="noStrike">
                <a:solidFill>
                  <a:srgbClr val="e55e4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e55e43"/>
                </a:solidFill>
                <a:latin typeface="Arial"/>
              </a:rPr>
              <a:t>[5 minutes]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ear colleague, tell us how did you consume your time yesterday </a:t>
            </a:r>
            <a:r>
              <a:rPr b="1" i="1" lang="en-US" sz="2400" spc="-1" strike="noStrike">
                <a:solidFill>
                  <a:srgbClr val="e55e43"/>
                </a:solidFill>
                <a:latin typeface="Arial"/>
              </a:rPr>
              <a:t>[the whole day, bed to bed]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3" name="Picture 3" descr="6.gif"/>
          <p:cNvPicPr/>
          <p:nvPr/>
        </p:nvPicPr>
        <p:blipFill>
          <a:blip r:embed="rId1"/>
          <a:stretch/>
        </p:blipFill>
        <p:spPr>
          <a:xfrm>
            <a:off x="4267080" y="3429000"/>
            <a:ext cx="39625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management important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ime cannot be bought, stored or stopped - every second that passes is gone forever and can never be recovered or re-us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mic Sans MS"/>
              </a:rPr>
              <a:t>"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Perhaps the </a:t>
            </a:r>
            <a:r>
              <a:rPr b="0" i="1" lang="en-US" sz="2000" spc="-1" strike="noStrike" u="sng">
                <a:solidFill>
                  <a:srgbClr val="002060"/>
                </a:solidFill>
                <a:uFillTx/>
                <a:latin typeface="Comic Sans MS"/>
              </a:rPr>
              <a:t>most valuable result 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of any work is the </a:t>
            </a:r>
            <a:r>
              <a:rPr b="0" i="1" lang="en-US" sz="2000" spc="-1" strike="noStrike" u="sng">
                <a:solidFill>
                  <a:srgbClr val="002060"/>
                </a:solidFill>
                <a:uFillTx/>
                <a:latin typeface="Comic Sans MS"/>
              </a:rPr>
              <a:t>ability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 to make yourself </a:t>
            </a:r>
            <a:r>
              <a:rPr b="0" i="1" lang="en-US" sz="2000" spc="-1" strike="noStrike" u="sng">
                <a:solidFill>
                  <a:srgbClr val="002060"/>
                </a:solidFill>
                <a:uFillTx/>
                <a:latin typeface="Comic Sans MS"/>
              </a:rPr>
              <a:t>do the things 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that you have to do, when it </a:t>
            </a:r>
            <a:r>
              <a:rPr b="0" i="1" lang="en-US" sz="2000" spc="-1" strike="noStrike" u="sng">
                <a:solidFill>
                  <a:srgbClr val="002060"/>
                </a:solidFill>
                <a:uFillTx/>
                <a:latin typeface="Comic Sans MS"/>
              </a:rPr>
              <a:t>ought 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to be done, </a:t>
            </a:r>
            <a:r>
              <a:rPr b="0" i="1" lang="en-US" sz="2000" spc="-1" strike="noStrike" u="sng">
                <a:solidFill>
                  <a:srgbClr val="002060"/>
                </a:solidFill>
                <a:uFillTx/>
                <a:latin typeface="Comic Sans MS"/>
              </a:rPr>
              <a:t>whether you like it or not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."—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mic Sans MS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002060"/>
                </a:solidFill>
                <a:latin typeface="Comic Sans MS"/>
              </a:rPr>
              <a:t>Thomas Huxley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“ 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Be </a:t>
            </a:r>
            <a:r>
              <a:rPr b="0" i="1" lang="en-US" sz="2000" spc="-1" strike="noStrike" u="sng">
                <a:solidFill>
                  <a:srgbClr val="002060"/>
                </a:solidFill>
                <a:uFillTx/>
                <a:latin typeface="Comic Sans MS"/>
              </a:rPr>
              <a:t>regular and orderly 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in your life.”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omic Sans MS"/>
              </a:rPr>
              <a:t>Gustave Flaubert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4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84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000" spc="-1" strike="noStrike">
                <a:solidFill>
                  <a:srgbClr val="ffffff"/>
                </a:solidFill>
                <a:latin typeface="Arial"/>
              </a:rPr>
              <a:t>أهمية الوقت في حياة المسلم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0c0"/>
                </a:solidFill>
                <a:latin typeface="Arial"/>
              </a:rPr>
              <a:t>عن معاذ بن جبل رضي الله عنه قال قال رسول الله صلى الله عليه وسلم " لن تزول قدما عبد يوم القيامة حتى يسأل عن أربع: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353240" indent="-585000" algn="r" rtl="1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Arial"/>
              </a:rPr>
              <a:t>عن عمره فيما أفناه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353240" indent="-585000" algn="r" rtl="1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Arial"/>
              </a:rPr>
              <a:t>وعن شبابه فيما أبلاه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353240" indent="-585000" algn="r" rtl="1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Arial"/>
              </a:rPr>
              <a:t>وعن ماله من أين اكتسبه وفيما أنفقه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353240" indent="-585000" algn="r" rtl="1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Arial"/>
              </a:rPr>
              <a:t>وعن علمه ماذا عمل به؟ "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Age , youth, money and deeds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85000" indent="-585000" algn="r" rtl="1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Arial"/>
              </a:rPr>
              <a:t>عن ابن عباس رضي الله عنهما قال قال رسول الله صلى الله عليه وسلم " نعمتان مغبون فيهما كثير من الناس: الصحة والفراغ “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585000" indent="-585000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The majority of humanity is at a loss as they do not recognize the value of two of God’s gifts: Health and (discretionary) time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Basic Rul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447560"/>
            <a:ext cx="50292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8e0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8e0b"/>
                </a:solidFill>
                <a:latin typeface="Comic Sans MS"/>
              </a:rPr>
              <a:t>Time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 can't be managed, time is uncontrollabl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We can only manage </a:t>
            </a:r>
            <a:r>
              <a:rPr b="1" lang="en-US" sz="2400" spc="-1" strike="noStrike">
                <a:solidFill>
                  <a:srgbClr val="4d8e0b"/>
                </a:solidFill>
                <a:latin typeface="Comic Sans MS"/>
              </a:rPr>
              <a:t>ourselves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4d8e0b"/>
                </a:solidFill>
                <a:latin typeface="Comic Sans MS"/>
              </a:rPr>
              <a:t>our use 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of tim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0" name="Picture 4" descr="j0195252[1]"/>
          <p:cNvPicPr/>
          <p:nvPr/>
        </p:nvPicPr>
        <p:blipFill>
          <a:blip r:embed="rId1"/>
          <a:stretch/>
        </p:blipFill>
        <p:spPr>
          <a:xfrm>
            <a:off x="609480" y="1295280"/>
            <a:ext cx="1676520" cy="1793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503880" cy="4419360"/>
          </a:xfrm>
          <a:prstGeom prst="rect">
            <a:avLst/>
          </a:prstGeom>
          <a:ln w="9360">
            <a:solidFill>
              <a:srgbClr val="ac601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000"/>
                </a:solidFill>
                <a:latin typeface="Baskerville Old Face"/>
              </a:rPr>
              <a:t>Myths about Time Managemen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Time management is nothing but common sense. I do well in college, so I must be managing my time effectively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>
            <a:off x="914400" y="3118320"/>
            <a:ext cx="2514600" cy="2494800"/>
          </a:xfrm>
          <a:prstGeom prst="cloudCallout">
            <a:avLst>
              <a:gd name="adj1" fmla="val -74175"/>
              <a:gd name="adj2" fmla="val 71106"/>
            </a:avLst>
          </a:prstGeom>
          <a:solidFill>
            <a:srgbClr val="05808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  <a:ea typeface="Arial"/>
              </a:rPr>
              <a:t>No matter what I do, I won’t have enough time!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5638680" y="3118320"/>
            <a:ext cx="2895840" cy="2494800"/>
          </a:xfrm>
          <a:prstGeom prst="cloudCallout">
            <a:avLst>
              <a:gd name="adj1" fmla="val 56782"/>
              <a:gd name="adj2" fmla="val -36930"/>
            </a:avLst>
          </a:prstGeom>
          <a:solidFill>
            <a:srgbClr val="05808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  <a:ea typeface="Arial"/>
              </a:rPr>
              <a:t>Time management?  I work better under pressure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>
            <a:off x="3429000" y="5947200"/>
            <a:ext cx="2743200" cy="776880"/>
          </a:xfrm>
          <a:prstGeom prst="wedgeRectCallout">
            <a:avLst>
              <a:gd name="adj1" fmla="val 86685"/>
              <a:gd name="adj2" fmla="val -88810"/>
            </a:avLst>
          </a:prstGeom>
          <a:solidFill>
            <a:srgbClr val="2ca9d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It takes all the fun out of life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3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2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ca9d0"/>
                                </p:to>
                              </p:animCl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 Management Tips 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Use a planner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a planner can be an effective and easy way to help you organize your time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look at a number of different kinds of planners before you select one- some will help you more than others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choose one that is easy to carry with you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commit to checking/updating it daily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try to include your daily to-do list in your pla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8:24:02Z</dcterms:created>
  <dc:creator>Dr. Sharif</dc:creator>
  <dc:description/>
  <dc:language>en-US</dc:language>
  <cp:lastModifiedBy>aboo alde</cp:lastModifiedBy>
  <dcterms:modified xsi:type="dcterms:W3CDTF">2015-08-31T13:21:09Z</dcterms:modified>
  <cp:revision>171</cp:revision>
  <dc:subject/>
  <dc:title>Time Management</dc:title>
</cp:coreProperties>
</file>