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WHOOSH.WAV" ContentType="audio/x-wav"/>
  <Override PartName="/ppt/media/image8.png" ContentType="image/png"/>
  <Override PartName="/ppt/media/image16.wmf" ContentType="image/x-wmf"/>
  <Override PartName="/ppt/media/image11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wmf" ContentType="image/x-wmf"/>
  <Override PartName="/ppt/media/image14.wmf" ContentType="image/x-wmf"/>
  <Override PartName="/ppt/media/image2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2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107F-4FD9-4DEA-A727-A8357C147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049-4A9E-45D4-9146-120AA630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662B-773A-4FA4-B754-EB234F13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A8E-2A43-47DD-A542-7CBD278D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1B3A-33BC-4BBA-AEC5-3B02CBE6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104A-E02C-4BB1-99C4-D4C99EC4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6D3B-0108-4340-903A-EDC5B1E7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26BB-7534-4028-9EBD-26545809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B9B2-5FD7-4274-BD35-350C6D5A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06600" y="22716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0AB1-A077-43B0-B2B5-DEC3C8ED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3C73-07D0-4ED1-960F-8F38BA45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4C4-F964-4313-9410-ADF506AE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2F87-FB12-4086-8BB4-AD343AC5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0298-162E-4644-B946-3082E52E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9386-6B2E-4B25-B978-EE746279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EC16-9D5D-4BCF-8F54-F908F378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33080"/>
            <a:ext cx="264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5BFE-5E14-4581-8118-555C8347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BFE-10BC-4C0F-82DE-6D6F8BDF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949-F4A6-465D-91D3-B970B509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0BA-6E53-4EB9-AA0E-636AB405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406600" y="227160"/>
            <a:ext cx="632448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8D8-668F-45F0-8329-F56A56CE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AF3-9EFD-447F-95CB-D9865C2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308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17E-735B-4E7C-9700-79AF20A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3080"/>
            <a:ext cx="8229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536B-522F-424C-8C36-70071593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9"/>
          <p:cNvGraphicFramePr/>
          <p:nvPr/>
        </p:nvGraphicFramePr>
        <p:xfrm>
          <a:off x="2987640" y="2736720"/>
          <a:ext cx="6156360" cy="412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2736720"/>
                    <a:ext cx="615636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Object 20"/>
          <p:cNvGraphicFramePr/>
          <p:nvPr/>
        </p:nvGraphicFramePr>
        <p:xfrm>
          <a:off x="0" y="0"/>
          <a:ext cx="9144000" cy="973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Freeform 21"/>
          <p:cNvSpPr/>
          <p:nvPr/>
        </p:nvSpPr>
        <p:spPr>
          <a:xfrm>
            <a:off x="1828800" y="246240"/>
            <a:ext cx="7315200" cy="720720"/>
          </a:xfrm>
          <a:custGeom>
            <a:avLst/>
            <a:gdLst/>
            <a:ahLst/>
            <a:rect l="l" t="t" r="r" b="b"/>
            <a:pathLst>
              <a:path w="4798" h="454">
                <a:moveTo>
                  <a:pt x="0" y="454"/>
                </a:moveTo>
                <a:lnTo>
                  <a:pt x="4798" y="454"/>
                </a:lnTo>
                <a:lnTo>
                  <a:pt x="4798" y="0"/>
                </a:lnTo>
                <a:lnTo>
                  <a:pt x="382" y="3"/>
                </a:lnTo>
                <a:lnTo>
                  <a:pt x="0" y="454"/>
                </a:lnTo>
                <a:close/>
              </a:path>
            </a:pathLst>
          </a:custGeom>
          <a:gradFill rotWithShape="0">
            <a:gsLst>
              <a:gs pos="0">
                <a:srgbClr val="023b3f"/>
              </a:gs>
              <a:gs pos="100000">
                <a:srgbClr val="0580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Freeform 22"/>
          <p:cNvSpPr/>
          <p:nvPr/>
        </p:nvSpPr>
        <p:spPr>
          <a:xfrm>
            <a:off x="0" y="966960"/>
            <a:ext cx="1828800" cy="288720"/>
          </a:xfrm>
          <a:custGeom>
            <a:avLst/>
            <a:gdLst/>
            <a:ahLst/>
            <a:rect l="l" t="t" r="r" b="b"/>
            <a:pathLst>
              <a:path w="1338" h="182">
                <a:moveTo>
                  <a:pt x="0" y="0"/>
                </a:moveTo>
                <a:lnTo>
                  <a:pt x="1338" y="0"/>
                </a:lnTo>
                <a:lnTo>
                  <a:pt x="1138" y="182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66b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F98-3EE7-4652-9802-0C377E5BA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0" descr="j0341439"/>
          <p:cNvPicPr/>
          <p:nvPr/>
        </p:nvPicPr>
        <p:blipFill>
          <a:blip r:embed="rId2"/>
          <a:srcRect l="0" t="0" r="0" b="19829"/>
          <a:stretch/>
        </p:blipFill>
        <p:spPr>
          <a:xfrm>
            <a:off x="0" y="1744560"/>
            <a:ext cx="9144000" cy="5127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1"/>
          <p:cNvSpPr/>
          <p:nvPr/>
        </p:nvSpPr>
        <p:spPr>
          <a:xfrm>
            <a:off x="0" y="0"/>
            <a:ext cx="9144000" cy="2392200"/>
          </a:xfrm>
          <a:prstGeom prst="rect">
            <a:avLst/>
          </a:prstGeom>
          <a:gradFill rotWithShape="0">
            <a:gsLst>
              <a:gs pos="0">
                <a:srgbClr val="2ca9d0"/>
              </a:gs>
              <a:gs pos="100000">
                <a:srgbClr val="144e6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9" name="Freeform 32"/>
          <p:cNvSpPr/>
          <p:nvPr/>
        </p:nvSpPr>
        <p:spPr>
          <a:xfrm>
            <a:off x="2130480" y="1486080"/>
            <a:ext cx="7014960" cy="909360"/>
          </a:xfrm>
          <a:custGeom>
            <a:avLst/>
            <a:gdLst/>
            <a:ahLst/>
            <a:rect l="l" t="t" r="r" b="b"/>
            <a:pathLst>
              <a:path w="4134" h="573">
                <a:moveTo>
                  <a:pt x="0" y="573"/>
                </a:moveTo>
                <a:lnTo>
                  <a:pt x="4134" y="573"/>
                </a:lnTo>
                <a:lnTo>
                  <a:pt x="4134" y="1"/>
                </a:lnTo>
                <a:lnTo>
                  <a:pt x="322" y="0"/>
                </a:lnTo>
                <a:lnTo>
                  <a:pt x="0" y="573"/>
                </a:lnTo>
                <a:close/>
              </a:path>
            </a:pathLst>
          </a:custGeom>
          <a:gradFill rotWithShape="0">
            <a:gsLst>
              <a:gs pos="0">
                <a:srgbClr val="011011"/>
              </a:gs>
              <a:gs pos="100000">
                <a:srgbClr val="05808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Freeform 33"/>
          <p:cNvSpPr/>
          <p:nvPr/>
        </p:nvSpPr>
        <p:spPr>
          <a:xfrm>
            <a:off x="-6480" y="2379600"/>
            <a:ext cx="2140200" cy="455760"/>
          </a:xfrm>
          <a:custGeom>
            <a:avLst/>
            <a:gdLst/>
            <a:ahLst/>
            <a:rect l="l" t="t" r="r" b="b"/>
            <a:pathLst>
              <a:path w="1348" h="287">
                <a:moveTo>
                  <a:pt x="0" y="0"/>
                </a:moveTo>
                <a:lnTo>
                  <a:pt x="1348" y="0"/>
                </a:lnTo>
                <a:lnTo>
                  <a:pt x="1170" y="287"/>
                </a:lnTo>
                <a:lnTo>
                  <a:pt x="0" y="286"/>
                </a:lnTo>
                <a:lnTo>
                  <a:pt x="0" y="0"/>
                </a:lnTo>
                <a:close/>
              </a:path>
            </a:pathLst>
          </a:custGeom>
          <a:solidFill>
            <a:srgbClr val="66be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Text Box 34"/>
          <p:cNvSpPr/>
          <p:nvPr/>
        </p:nvSpPr>
        <p:spPr>
          <a:xfrm>
            <a:off x="610200" y="15238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9385-16FC-45B8-9937-ACCC7ECE21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520" y="16077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ime Manage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286000" y="56386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Skills Course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ept of medical educatio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llege of Medicin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95" name="Picture 3" descr="11.jpg"/>
          <p:cNvPicPr/>
          <p:nvPr/>
        </p:nvPicPr>
        <p:blipFill>
          <a:blip r:embed="rId1"/>
          <a:stretch/>
        </p:blipFill>
        <p:spPr>
          <a:xfrm>
            <a:off x="0" y="0"/>
            <a:ext cx="2292480" cy="2371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7391520" y="228600"/>
            <a:ext cx="1523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db1142"/>
                </a:solidFill>
                <a:latin typeface="Cooper Black"/>
              </a:rPr>
              <a:t>The Truth!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89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s college students, you are very busy people, and to make those  168 hours effective, you have to do some planning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Benefits of Time Managem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are more </a:t>
            </a:r>
            <a:r>
              <a:rPr b="0" lang="en-US" sz="2400" spc="-1" strike="noStrike">
                <a:solidFill>
                  <a:srgbClr val="66be0e"/>
                </a:solidFill>
                <a:latin typeface="Times New Roman"/>
                <a:ea typeface="Times New Roman"/>
              </a:rPr>
              <a:t>productiv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reduce your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stres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improve your </a:t>
            </a:r>
            <a:r>
              <a:rPr b="0" lang="en-US" sz="2400" spc="-1" strike="noStrike">
                <a:solidFill>
                  <a:srgbClr val="458109"/>
                </a:solidFill>
                <a:latin typeface="Times New Roman"/>
                <a:ea typeface="Times New Roman"/>
              </a:rPr>
              <a:t>self-esteem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achieve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alanc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in your lif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feel more </a:t>
            </a:r>
            <a:r>
              <a:rPr b="0" lang="en-US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confident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in your ability to get things don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You reach your </a:t>
            </a:r>
            <a:r>
              <a:rPr b="0" lang="en-US" sz="2400" spc="-1" strike="noStrike">
                <a:solidFill>
                  <a:srgbClr val="458109"/>
                </a:solidFill>
                <a:latin typeface="Times New Roman"/>
                <a:ea typeface="Times New Roman"/>
              </a:rPr>
              <a:t>goal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"/>
          <p:cNvSpPr/>
          <p:nvPr/>
        </p:nvSpPr>
        <p:spPr>
          <a:xfrm>
            <a:off x="0" y="1905120"/>
            <a:ext cx="91440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8080"/>
                </a:solidFill>
                <a:latin typeface="Kristen ITC"/>
                <a:ea typeface="Arial"/>
              </a:rPr>
              <a:t>What is Time Management?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Arial"/>
                <a:ea typeface="Arial"/>
              </a:rPr>
              <a:t>Simply, making use of most of your time and energy!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26"/>
          <p:cNvSpPr/>
          <p:nvPr/>
        </p:nvSpPr>
        <p:spPr>
          <a:xfrm>
            <a:off x="3048120" y="228600"/>
            <a:ext cx="5105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8,8,8 = Balance</a:t>
            </a:r>
            <a:br>
              <a:rPr sz="4000"/>
            </a:b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ere are only 24 hours in a day!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23" name="Object 1027"/>
          <p:cNvGraphicFramePr/>
          <p:nvPr/>
        </p:nvGraphicFramePr>
        <p:xfrm>
          <a:off x="2260440" y="1076400"/>
          <a:ext cx="4783320" cy="530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0440" y="1076400"/>
                    <a:ext cx="478332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028"/>
          <p:cNvSpPr/>
          <p:nvPr/>
        </p:nvSpPr>
        <p:spPr>
          <a:xfrm>
            <a:off x="6477120" y="1940040"/>
            <a:ext cx="25146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8 hours of work/school keeps you from burning out by doing too much, or from  not devoting enough time to your goals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8 hours of personal time keeps your life well-rounded with time for fun and enjoyment!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Rectangle 1029"/>
          <p:cNvSpPr/>
          <p:nvPr/>
        </p:nvSpPr>
        <p:spPr>
          <a:xfrm>
            <a:off x="152280" y="2397240"/>
            <a:ext cx="2625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The day is made of only 24 hours (even though we wish it had more). Three segments of 8 hours keeps things simple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8 hours of sleep gives you the rest your body needs to accomplish your goals and remain healthy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57200" y="1066680"/>
            <a:ext cx="822960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cc"/>
                </a:solidFill>
                <a:latin typeface="Arial"/>
              </a:rPr>
              <a:t>A Word about </a:t>
            </a:r>
            <a:r>
              <a:rPr b="1" i="1" lang="en-US" sz="4000" spc="-1" strike="noStrike">
                <a:solidFill>
                  <a:srgbClr val="0000cc"/>
                </a:solidFill>
                <a:latin typeface="Arial"/>
              </a:rPr>
              <a:t>ENERGY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1828800"/>
            <a:ext cx="8839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 most overlooked aspect of time management is your energy level. 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0" y="2286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Evaluate your energy level at different times of day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Schedule tasks when you have the energy level to match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Now that you know your “smart” hours – peaks and your slump hours – use that information to guide your study time selection.</a:t>
            </a:r>
            <a:r>
              <a:rPr b="1" i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 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"/>
                <a:ea typeface="Arial"/>
              </a:rPr>
              <a:t>If you are a “morning person,” seize the early hours to study and do assignments that require focu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"/>
                <a:ea typeface="Arial"/>
              </a:rPr>
              <a:t>If you are an “evening person,” make sure that you are being productive and not sacrificing sleep for extra  hours to socializ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omic Sans MS"/>
                <a:ea typeface="Arial"/>
              </a:rPr>
              <a:t>Losing sleep is the easiest way to sabotage your energy level!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0" y="19051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20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  <a:ea typeface="Arial"/>
              </a:rPr>
              <a:t>Set goals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  <a:ea typeface="Arial"/>
              </a:rPr>
              <a:t>Make a schedule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571680" indent="-571680">
              <a:lnSpc>
                <a:spcPct val="200000"/>
              </a:lnSpc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08080"/>
                </a:solidFill>
                <a:latin typeface="Arial"/>
                <a:ea typeface="Arial"/>
              </a:rPr>
              <a:t>Revisit and revise your plan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990720"/>
            <a:ext cx="9144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Arial"/>
              </a:rPr>
              <a:t>What are the steps to Managing Your Time</a:t>
            </a:r>
            <a:r>
              <a:rPr b="1" i="1" lang="en-US" sz="4000" spc="-1" strike="noStrike">
                <a:solidFill>
                  <a:srgbClr val="0070c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8"/>
          <p:cNvSpPr/>
          <p:nvPr/>
        </p:nvSpPr>
        <p:spPr>
          <a:xfrm>
            <a:off x="2440440" y="1219320"/>
            <a:ext cx="29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Arial"/>
              </a:rPr>
              <a:t>1. Set Goals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2438280"/>
            <a:ext cx="6705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Make your goals specific and concrete. 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 Unicode MS"/>
              </a:rPr>
              <a:t>Don’t be vague</a:t>
            </a: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Set both long-term goals and short-term ones to support them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Set a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 Unicode MS"/>
              </a:rPr>
              <a:t>deadline</a:t>
            </a: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 for your goals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Integrate your goals: school, personal and career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Realize that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 Unicode MS"/>
              </a:rPr>
              <a:t>goals change</a:t>
            </a:r>
            <a:r>
              <a:rPr b="0" lang="en-US" sz="2800" spc="-1" strike="noStrike">
                <a:solidFill>
                  <a:srgbClr val="808080"/>
                </a:solidFill>
                <a:latin typeface="Arial Unicode MS"/>
              </a:rPr>
              <a:t>, but know which goals to stick to!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4" name="Picture 4" descr="MCj01976550000[1]"/>
          <p:cNvPicPr/>
          <p:nvPr/>
        </p:nvPicPr>
        <p:blipFill>
          <a:blip r:embed="rId1"/>
          <a:stretch/>
        </p:blipFill>
        <p:spPr>
          <a:xfrm>
            <a:off x="6389640" y="1981080"/>
            <a:ext cx="27543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1676520" y="990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rial"/>
              </a:rPr>
              <a:t>From your goals, set priorities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What’s important and what isn’t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What order do things need to be done in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Once you know what your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"/>
              </a:rPr>
              <a:t>priorities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 are, you need to </a:t>
            </a:r>
            <a:r>
              <a:rPr b="0" lang="en-US" sz="2800" spc="-1" strike="noStrike" u="sng">
                <a:solidFill>
                  <a:srgbClr val="808080"/>
                </a:solidFill>
                <a:uFillTx/>
                <a:latin typeface="Arial"/>
              </a:rPr>
              <a:t>plan out a schedule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for the semester, the week and the day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Planning may seem hard at first, but the more you do it, the easier and more natural it gets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 your tim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(Eisenhower method)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29528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5e43"/>
                </a:solidFill>
                <a:latin typeface="Arial"/>
              </a:rPr>
              <a:t>People don't plan to fail but a lot of people do fail to plan</a:t>
            </a:r>
            <a:r>
              <a:rPr b="0" i="1" lang="en-US" sz="3200" spc="-1" strike="noStrike">
                <a:solidFill>
                  <a:srgbClr val="e55e43"/>
                </a:solidFill>
                <a:latin typeface="Arial"/>
              </a:rPr>
              <a:t>."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55e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5e43"/>
                </a:solidFill>
                <a:latin typeface="Arial"/>
              </a:rPr>
              <a:t>To Do List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- Break things down into small step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- Like a child cleaning his/her room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- Do the ugliest thing first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9" name="Content Placeholder 3" descr="8.gif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80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5" descr="8.gif"/>
          <p:cNvPicPr/>
          <p:nvPr/>
        </p:nvPicPr>
        <p:blipFill>
          <a:blip r:embed="rId2"/>
          <a:stretch/>
        </p:blipFill>
        <p:spPr>
          <a:xfrm>
            <a:off x="380880" y="1295280"/>
            <a:ext cx="8077320" cy="533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3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8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ssess your task!!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685800" y="1828800"/>
            <a:ext cx="2133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s the task urgent &amp; important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43" name="Group 68"/>
          <p:cNvGrpSpPr/>
          <p:nvPr/>
        </p:nvGrpSpPr>
        <p:grpSpPr>
          <a:xfrm>
            <a:off x="2743200" y="1733400"/>
            <a:ext cx="781200" cy="400320"/>
            <a:chOff x="2743200" y="1733400"/>
            <a:chExt cx="781200" cy="400320"/>
          </a:xfrm>
        </p:grpSpPr>
        <p:sp>
          <p:nvSpPr>
            <p:cNvPr id="144" name="Line 22"/>
            <p:cNvSpPr/>
            <p:nvPr/>
          </p:nvSpPr>
          <p:spPr>
            <a:xfrm>
              <a:off x="2743200" y="2133720"/>
              <a:ext cx="685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5" name="Text Box 23"/>
            <p:cNvSpPr/>
            <p:nvPr/>
          </p:nvSpPr>
          <p:spPr>
            <a:xfrm>
              <a:off x="2838600" y="17334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  <a:ea typeface="Arial"/>
                </a:rPr>
                <a:t>yes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46" name="Text Box 25"/>
          <p:cNvSpPr/>
          <p:nvPr/>
        </p:nvSpPr>
        <p:spPr>
          <a:xfrm>
            <a:off x="3429000" y="1905120"/>
            <a:ext cx="2133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o you need to complete it today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47" name="Group 69"/>
          <p:cNvGrpSpPr/>
          <p:nvPr/>
        </p:nvGrpSpPr>
        <p:grpSpPr>
          <a:xfrm>
            <a:off x="5543640" y="1809720"/>
            <a:ext cx="914400" cy="476280"/>
            <a:chOff x="5543640" y="1809720"/>
            <a:chExt cx="914400" cy="476280"/>
          </a:xfrm>
        </p:grpSpPr>
        <p:sp>
          <p:nvSpPr>
            <p:cNvPr id="148" name="Line 27"/>
            <p:cNvSpPr/>
            <p:nvPr/>
          </p:nvSpPr>
          <p:spPr>
            <a:xfrm>
              <a:off x="5562720" y="2286000"/>
              <a:ext cx="685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49" name="Text Box 28"/>
            <p:cNvSpPr/>
            <p:nvPr/>
          </p:nvSpPr>
          <p:spPr>
            <a:xfrm>
              <a:off x="5543640" y="1809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yes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50" name="Text Box 29"/>
          <p:cNvSpPr/>
          <p:nvPr/>
        </p:nvSpPr>
        <p:spPr>
          <a:xfrm>
            <a:off x="6248520" y="1905120"/>
            <a:ext cx="13716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Take immediate action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7620120" y="2362320"/>
            <a:ext cx="45720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WordArt 31"/>
          <p:cNvSpPr txBox="1"/>
          <p:nvPr/>
        </p:nvSpPr>
        <p:spPr>
          <a:xfrm>
            <a:off x="8058240" y="1943280"/>
            <a:ext cx="914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grpSp>
        <p:nvGrpSpPr>
          <p:cNvPr id="153" name="Group 52"/>
          <p:cNvGrpSpPr/>
          <p:nvPr/>
        </p:nvGrpSpPr>
        <p:grpSpPr>
          <a:xfrm>
            <a:off x="1657440" y="2438280"/>
            <a:ext cx="609480" cy="838440"/>
            <a:chOff x="1657440" y="2438280"/>
            <a:chExt cx="609480" cy="838440"/>
          </a:xfrm>
        </p:grpSpPr>
        <p:sp>
          <p:nvSpPr>
            <p:cNvPr id="154" name="Line 33"/>
            <p:cNvSpPr/>
            <p:nvPr/>
          </p:nvSpPr>
          <p:spPr>
            <a:xfrm>
              <a:off x="1676520" y="2438280"/>
              <a:ext cx="0" cy="838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5" name="Text Box 34"/>
            <p:cNvSpPr/>
            <p:nvPr/>
          </p:nvSpPr>
          <p:spPr>
            <a:xfrm>
              <a:off x="1657440" y="25430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No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56" name="Text Box 32"/>
          <p:cNvSpPr/>
          <p:nvPr/>
        </p:nvSpPr>
        <p:spPr>
          <a:xfrm>
            <a:off x="609480" y="3228840"/>
            <a:ext cx="2133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s the task urgent or important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57" name="Group 57"/>
          <p:cNvGrpSpPr/>
          <p:nvPr/>
        </p:nvGrpSpPr>
        <p:grpSpPr>
          <a:xfrm>
            <a:off x="2743200" y="3124080"/>
            <a:ext cx="762120" cy="409680"/>
            <a:chOff x="2743200" y="3124080"/>
            <a:chExt cx="762120" cy="409680"/>
          </a:xfrm>
        </p:grpSpPr>
        <p:sp>
          <p:nvSpPr>
            <p:cNvPr id="158" name="Line 37"/>
            <p:cNvSpPr/>
            <p:nvPr/>
          </p:nvSpPr>
          <p:spPr>
            <a:xfrm>
              <a:off x="2743200" y="3533760"/>
              <a:ext cx="6858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59" name="Text Box 38"/>
            <p:cNvSpPr/>
            <p:nvPr/>
          </p:nvSpPr>
          <p:spPr>
            <a:xfrm>
              <a:off x="281952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  <a:ea typeface="Arial"/>
                </a:rPr>
                <a:t>yes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60" name="Text Box 39"/>
          <p:cNvSpPr/>
          <p:nvPr/>
        </p:nvSpPr>
        <p:spPr>
          <a:xfrm>
            <a:off x="3429000" y="3228840"/>
            <a:ext cx="2133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oes it has a definite deadline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cxnSp>
        <p:nvCxnSpPr>
          <p:cNvPr id="161" name="AutoShape 42"/>
          <p:cNvCxnSpPr/>
          <p:nvPr/>
        </p:nvCxnSpPr>
        <p:spPr>
          <a:xfrm flipV="1">
            <a:off x="5562360" y="3161880"/>
            <a:ext cx="991080" cy="324720"/>
          </a:xfrm>
          <a:prstGeom prst="bentConnector3">
            <a:avLst>
              <a:gd name="adj1" fmla="val 5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62" name="AutoShape 40"/>
          <p:cNvCxnSpPr/>
          <p:nvPr/>
        </p:nvCxnSpPr>
        <p:spPr>
          <a:xfrm>
            <a:off x="5600520" y="3638160"/>
            <a:ext cx="952920" cy="400680"/>
          </a:xfrm>
          <a:prstGeom prst="bentConnector3">
            <a:avLst>
              <a:gd name="adj1" fmla="val 5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63" name="Text Box 43"/>
          <p:cNvSpPr/>
          <p:nvPr/>
        </p:nvSpPr>
        <p:spPr>
          <a:xfrm>
            <a:off x="5421240" y="314172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5562720" y="36576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6629400" y="28195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089"/>
                </a:solidFill>
                <a:latin typeface="Arial"/>
                <a:ea typeface="Arial"/>
              </a:rPr>
              <a:t>Allocate time to complete i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Text Box 50"/>
          <p:cNvSpPr/>
          <p:nvPr/>
        </p:nvSpPr>
        <p:spPr>
          <a:xfrm>
            <a:off x="6553080" y="3962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8089"/>
                </a:solidFill>
                <a:latin typeface="Arial"/>
                <a:ea typeface="Arial"/>
              </a:rPr>
              <a:t>Set realistic deadline for i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WordArt 51"/>
          <p:cNvSpPr txBox="1"/>
          <p:nvPr/>
        </p:nvSpPr>
        <p:spPr>
          <a:xfrm>
            <a:off x="8001000" y="3352680"/>
            <a:ext cx="914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grpSp>
        <p:nvGrpSpPr>
          <p:cNvPr id="168" name="Group 53"/>
          <p:cNvGrpSpPr/>
          <p:nvPr/>
        </p:nvGrpSpPr>
        <p:grpSpPr>
          <a:xfrm>
            <a:off x="1676520" y="3809880"/>
            <a:ext cx="609480" cy="838440"/>
            <a:chOff x="1676520" y="3809880"/>
            <a:chExt cx="609480" cy="838440"/>
          </a:xfrm>
        </p:grpSpPr>
        <p:sp>
          <p:nvSpPr>
            <p:cNvPr id="169" name="Line 54"/>
            <p:cNvSpPr/>
            <p:nvPr/>
          </p:nvSpPr>
          <p:spPr>
            <a:xfrm>
              <a:off x="1695600" y="3809880"/>
              <a:ext cx="0" cy="838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0" name="Text Box 55"/>
            <p:cNvSpPr/>
            <p:nvPr/>
          </p:nvSpPr>
          <p:spPr>
            <a:xfrm>
              <a:off x="1676520" y="39146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Arial"/>
                  <a:ea typeface="Arial"/>
                </a:rPr>
                <a:t>No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1" name="Text Box 56"/>
          <p:cNvSpPr/>
          <p:nvPr/>
        </p:nvSpPr>
        <p:spPr>
          <a:xfrm>
            <a:off x="762120" y="4648320"/>
            <a:ext cx="2133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Is the task necessary?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72" name="Group 58"/>
          <p:cNvGrpSpPr/>
          <p:nvPr/>
        </p:nvGrpSpPr>
        <p:grpSpPr>
          <a:xfrm>
            <a:off x="2895480" y="4572000"/>
            <a:ext cx="3123000" cy="409680"/>
            <a:chOff x="2895480" y="4572000"/>
            <a:chExt cx="3123000" cy="409680"/>
          </a:xfrm>
        </p:grpSpPr>
        <p:sp>
          <p:nvSpPr>
            <p:cNvPr id="173" name="Line 59"/>
            <p:cNvSpPr/>
            <p:nvPr/>
          </p:nvSpPr>
          <p:spPr>
            <a:xfrm>
              <a:off x="2895480" y="4981680"/>
              <a:ext cx="28105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74" name="Text Box 60"/>
            <p:cNvSpPr/>
            <p:nvPr/>
          </p:nvSpPr>
          <p:spPr>
            <a:xfrm>
              <a:off x="3207960" y="4572000"/>
              <a:ext cx="281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8080"/>
                  </a:solidFill>
                  <a:latin typeface="Arial"/>
                  <a:ea typeface="Arial"/>
                </a:rPr>
                <a:t>yes</a:t>
              </a:r>
              <a:endParaRPr b="0" lang="en-US" sz="20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75" name="Text Box 61"/>
          <p:cNvSpPr/>
          <p:nvPr/>
        </p:nvSpPr>
        <p:spPr>
          <a:xfrm>
            <a:off x="5791320" y="464832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ave the task for quiet time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76" name="Group 73"/>
          <p:cNvGrpSpPr/>
          <p:nvPr/>
        </p:nvGrpSpPr>
        <p:grpSpPr>
          <a:xfrm>
            <a:off x="1676520" y="5257800"/>
            <a:ext cx="1447560" cy="838080"/>
            <a:chOff x="1676520" y="5257800"/>
            <a:chExt cx="1447560" cy="838080"/>
          </a:xfrm>
        </p:grpSpPr>
        <p:grpSp>
          <p:nvGrpSpPr>
            <p:cNvPr id="177" name="Group 62"/>
            <p:cNvGrpSpPr/>
            <p:nvPr/>
          </p:nvGrpSpPr>
          <p:grpSpPr>
            <a:xfrm>
              <a:off x="1676520" y="5257800"/>
              <a:ext cx="609480" cy="838080"/>
              <a:chOff x="1676520" y="5257800"/>
              <a:chExt cx="609480" cy="838080"/>
            </a:xfrm>
          </p:grpSpPr>
          <p:sp>
            <p:nvSpPr>
              <p:cNvPr id="178" name="Line 63"/>
              <p:cNvSpPr/>
              <p:nvPr/>
            </p:nvSpPr>
            <p:spPr>
              <a:xfrm>
                <a:off x="1695600" y="5257800"/>
                <a:ext cx="0" cy="838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79" name="Text Box 64"/>
              <p:cNvSpPr/>
              <p:nvPr/>
            </p:nvSpPr>
            <p:spPr>
              <a:xfrm>
                <a:off x="1676520" y="536220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No</a:t>
                </a:r>
                <a:endParaRPr b="0" lang="en-US" sz="24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  <p:sp>
          <p:nvSpPr>
            <p:cNvPr id="180" name="Line 65"/>
            <p:cNvSpPr/>
            <p:nvPr/>
          </p:nvSpPr>
          <p:spPr>
            <a:xfrm>
              <a:off x="1676520" y="6019920"/>
              <a:ext cx="1447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  <p:sp>
        <p:nvSpPr>
          <p:cNvPr id="181" name="Text Box 66"/>
          <p:cNvSpPr/>
          <p:nvPr/>
        </p:nvSpPr>
        <p:spPr>
          <a:xfrm>
            <a:off x="3352680" y="5791320"/>
            <a:ext cx="1905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8089"/>
                </a:solidFill>
                <a:latin typeface="Arial"/>
                <a:ea typeface="Arial"/>
              </a:rPr>
              <a:t>Discard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WordArt 67"/>
          <p:cNvSpPr txBox="1"/>
          <p:nvPr/>
        </p:nvSpPr>
        <p:spPr>
          <a:xfrm>
            <a:off x="8077320" y="4648320"/>
            <a:ext cx="9144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C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34">
                                  <p:stCondLst>
                                    <p:cond delay="20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432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44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457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469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8700"/>
                            </p:stCondLst>
                            <p:childTnLst>
                              <p:par>
                                <p:cTn id="474" nodeType="afterEffect" fill="hold" presetClass="entr" presetID="56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486" nodeType="afterEffect" fill="hold" presetClass="entr" presetID="34">
                                  <p:stCondLst>
                                    <p:cond delay="150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498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7600"/>
                            </p:stCondLst>
                            <p:childTnLst>
                              <p:par>
                                <p:cTn id="503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51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524" nodeType="afterEffect" fill="hold" presetClass="entr" presetID="1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533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545" nodeType="afterEffect" fill="hold" presetClass="entr" presetID="56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8288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6720" indent="-666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3300"/>
                </a:solidFill>
                <a:latin typeface="Arial"/>
              </a:rPr>
              <a:t>2. Make a Schedule</a:t>
            </a:r>
            <a:br>
              <a:rPr sz="3500"/>
            </a:br>
            <a:r>
              <a:rPr b="0" i="1" lang="en-US" sz="3000" spc="-1" strike="noStrike">
                <a:solidFill>
                  <a:srgbClr val="ffffff"/>
                </a:solidFill>
                <a:latin typeface="Arial Unicode MS"/>
              </a:rPr>
              <a:t>Set Up Your Semester Calendar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0" y="2057400"/>
            <a:ext cx="842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Look at the syllabus for the class schedul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Begin with blocking all </a:t>
            </a:r>
            <a:r>
              <a:rPr b="0" i="1" lang="en-US" sz="2400" spc="-1" strike="noStrike">
                <a:solidFill>
                  <a:srgbClr val="808080"/>
                </a:solidFill>
                <a:latin typeface="Arial Unicode MS"/>
              </a:rPr>
              <a:t>class </a:t>
            </a: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and </a:t>
            </a:r>
            <a:r>
              <a:rPr b="0" i="1" lang="en-US" sz="2400" spc="-1" strike="noStrike">
                <a:solidFill>
                  <a:srgbClr val="808080"/>
                </a:solidFill>
                <a:latin typeface="Arial Unicode MS"/>
              </a:rPr>
              <a:t>lab</a:t>
            </a: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 time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Block all other set time obligation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ork, mosque, meetings and so on…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Highlight all </a:t>
            </a:r>
            <a:r>
              <a:rPr b="0" i="1" lang="en-US" sz="2400" spc="-1" strike="noStrike">
                <a:solidFill>
                  <a:srgbClr val="808080"/>
                </a:solidFill>
                <a:latin typeface="Arial Unicode MS"/>
              </a:rPr>
              <a:t>exams</a:t>
            </a: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 and project </a:t>
            </a:r>
            <a:r>
              <a:rPr b="0" i="1" lang="en-US" sz="2400" spc="-1" strike="noStrike">
                <a:solidFill>
                  <a:srgbClr val="808080"/>
                </a:solidFill>
                <a:latin typeface="Arial Unicode MS"/>
              </a:rPr>
              <a:t>due date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Identify routine homework day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Work backwards from exams and papers and map out study/writing tim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Unicode MS"/>
              </a:rPr>
              <a:t>Don’t forget to take a break once in a whil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t the end of this session, the student will be able to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dentify the importance of T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Plan your schedules effectively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Enumerate Time waster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dentify procrastination signs &amp; tackle i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828800" y="990720"/>
            <a:ext cx="6248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06060"/>
                </a:solidFill>
                <a:latin typeface="Arial"/>
              </a:rPr>
              <a:t>Make a Schedule continued</a:t>
            </a:r>
            <a:br>
              <a:rPr sz="2400"/>
            </a:br>
            <a:r>
              <a:rPr b="0" i="1" lang="en-US" sz="3400" spc="-1" strike="noStrike">
                <a:solidFill>
                  <a:srgbClr val="0070c0"/>
                </a:solidFill>
                <a:latin typeface="Arial Unicode MS"/>
              </a:rPr>
              <a:t>Set Up Your Weekly Plan</a:t>
            </a:r>
            <a:endParaRPr b="0" lang="en-US" sz="3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213372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</a:rPr>
              <a:t>Spend 30 minutes or so mapping out the week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</a:rPr>
              <a:t>Ask yourself these questions about the week: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hat do I expect to accomplish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hat will I have to do to reach these goals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hat tasks are more important than others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How much time will each activity take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When will I do each activity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808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 Unicode MS"/>
                <a:ea typeface="Arial"/>
              </a:rPr>
              <a:t>How flexible do I have to be to allow for unexpected things?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7"/>
          <p:cNvSpPr/>
          <p:nvPr/>
        </p:nvSpPr>
        <p:spPr>
          <a:xfrm>
            <a:off x="0" y="116352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sk yourself 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effective is my schedule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oes I allow enough time to accomplish what the schedules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Am I paying attention to my energy level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oes it look like I will accomplish everything I plan?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How well will I be able to accomplish certain tasks?</a:t>
            </a:r>
            <a:r>
              <a:rPr b="1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3"/>
          <p:cNvSpPr/>
          <p:nvPr/>
        </p:nvSpPr>
        <p:spPr>
          <a:xfrm>
            <a:off x="0" y="106668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ca9d0"/>
                </a:solidFill>
                <a:latin typeface="Times New Roman"/>
                <a:ea typeface="Times New Roman"/>
              </a:rPr>
              <a:t>“</a:t>
            </a:r>
            <a:r>
              <a:rPr b="1" i="1" lang="en-US" sz="2000" spc="-1" strike="noStrike">
                <a:solidFill>
                  <a:srgbClr val="2ca9d0"/>
                </a:solidFill>
                <a:latin typeface="Times New Roman"/>
                <a:ea typeface="Times New Roman"/>
              </a:rPr>
              <a:t>Work smarter, not harder.”- Alan Lakein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Set realistic goals, there are only 24 hours in a day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Study at the same time each day: make it a habi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ivide study time into 50-minute blocks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on’t forget to reward yourself when you do something right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0" y="914400"/>
            <a:ext cx="632448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Complete a term assignment preview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Use a “</a:t>
            </a:r>
            <a:r>
              <a:rPr b="0" lang="en-US" sz="2400" spc="-1" strike="noStrike" u="sng">
                <a:solidFill>
                  <a:srgbClr val="046067"/>
                </a:solidFill>
                <a:uFillTx/>
                <a:latin typeface="Arial Unicode MS"/>
              </a:rPr>
              <a:t>week at a glance</a:t>
            </a: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” organizer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Enter in due dates and social events as soon as you can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46067"/>
                </a:solidFill>
                <a:uFillTx/>
                <a:latin typeface="Arial Unicode MS"/>
              </a:rPr>
              <a:t>Review your calendar daily </a:t>
            </a: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for the current week and upcoming week.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It just takes a moment to review your calendar and </a:t>
            </a:r>
            <a:r>
              <a:rPr b="0" lang="en-US" sz="2400" spc="-1" strike="noStrike" u="sng">
                <a:solidFill>
                  <a:srgbClr val="046067"/>
                </a:solidFill>
                <a:uFillTx/>
                <a:latin typeface="Arial Unicode MS"/>
              </a:rPr>
              <a:t>it relieves stress </a:t>
            </a:r>
            <a:r>
              <a:rPr b="0" lang="en-US" sz="2400" spc="-1" strike="noStrike">
                <a:solidFill>
                  <a:srgbClr val="046067"/>
                </a:solidFill>
                <a:latin typeface="Arial Unicode MS"/>
              </a:rPr>
              <a:t>to know you are on top of thing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46067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343400" y="1752480"/>
            <a:ext cx="44956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1" name="Picture 5" descr="MCj01500240000[1]"/>
          <p:cNvPicPr/>
          <p:nvPr/>
        </p:nvPicPr>
        <p:blipFill>
          <a:blip r:embed="rId1"/>
          <a:stretch/>
        </p:blipFill>
        <p:spPr>
          <a:xfrm>
            <a:off x="6324480" y="3581280"/>
            <a:ext cx="2362320" cy="1793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Cj02976250000[1]"/>
          <p:cNvPicPr/>
          <p:nvPr/>
        </p:nvPicPr>
        <p:blipFill>
          <a:blip r:embed="rId2"/>
          <a:stretch/>
        </p:blipFill>
        <p:spPr>
          <a:xfrm>
            <a:off x="6248520" y="1295280"/>
            <a:ext cx="1981080" cy="17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1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busy are you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Because we are not concentrating on the right thing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55e43"/>
                </a:solidFill>
                <a:latin typeface="Arial"/>
              </a:rPr>
              <a:t>To succeed</a:t>
            </a:r>
            <a:r>
              <a:rPr b="0" lang="en-US" sz="2400" spc="-1" strike="noStrike">
                <a:solidFill>
                  <a:srgbClr val="e55e43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e must concentrate on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1.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The results to be achieved, not on being busy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e55e43"/>
                </a:solidFill>
                <a:latin typeface="Arial"/>
              </a:rPr>
              <a:t>2.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8080"/>
                </a:solidFill>
                <a:latin typeface="Arial"/>
              </a:rPr>
              <a:t>Setting priorities, which is vit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5e43"/>
                </a:solidFill>
                <a:latin typeface="Comic Sans MS"/>
              </a:rPr>
              <a:t>The aims to ensure that we concentrate our effort on the high payoff task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95" name="Picture 6" descr="BD06140_[1]"/>
          <p:cNvPicPr/>
          <p:nvPr/>
        </p:nvPicPr>
        <p:blipFill>
          <a:blip r:embed="rId1"/>
          <a:stretch/>
        </p:blipFill>
        <p:spPr>
          <a:xfrm>
            <a:off x="3505320" y="1295280"/>
            <a:ext cx="177804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7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2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 your tim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1447560"/>
            <a:ext cx="91440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5e4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e55e43"/>
                </a:solidFill>
                <a:latin typeface="Arial"/>
              </a:rPr>
              <a:t>Remember,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plans and schedules for managing time are useless if one does not follow them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risis Managemen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2949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5e43"/>
                </a:solidFill>
                <a:latin typeface="Arial"/>
              </a:rPr>
              <a:t>It can lead to situations such as: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1- 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High levels of stres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2- 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 A disrupted private life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3-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 Tirednes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4- </a:t>
            </a: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Failure of projects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200" name="Picture 4" descr="PE06002_[1]"/>
          <p:cNvPicPr/>
          <p:nvPr/>
        </p:nvPicPr>
        <p:blipFill>
          <a:blip r:embed="rId1"/>
          <a:stretch/>
        </p:blipFill>
        <p:spPr>
          <a:xfrm>
            <a:off x="5105520" y="2362320"/>
            <a:ext cx="2514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6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1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6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1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 Time Waster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447560"/>
            <a:ext cx="762012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nterrup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05808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8089"/>
                </a:solidFill>
                <a:latin typeface="Arial"/>
              </a:rPr>
              <a:t>Meeting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33"/>
                </a:solidFill>
                <a:latin typeface="Arial"/>
              </a:rPr>
              <a:t>Tasks to delegate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4d8e0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d8e0b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4d8e0b"/>
                </a:solidFill>
                <a:latin typeface="Arial"/>
              </a:rPr>
              <a:t>Procrastina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80808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58089"/>
                </a:solidFill>
                <a:latin typeface="Arial"/>
              </a:rPr>
              <a:t>Acting with incomplete information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ffc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Arial"/>
              </a:rPr>
              <a:t>Dealing with classmate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030a0"/>
                </a:solidFill>
                <a:latin typeface="Arial"/>
              </a:rPr>
              <a:t>Crisis management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e55e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5e43"/>
                </a:solidFill>
                <a:latin typeface="Arial"/>
              </a:rPr>
              <a:t>Unclear communication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Arial"/>
              </a:rPr>
              <a:t>Inadequate technical knowledge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1506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50603"/>
                </a:solidFill>
                <a:latin typeface="Arial"/>
              </a:rPr>
              <a:t>Unclear objectives and priorities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e55e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5e4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Lack of planning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e55e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5e4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Stress and fatigue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606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06060"/>
                </a:solidFill>
                <a:latin typeface="Arial"/>
              </a:rPr>
              <a:t>Inability to say "No“ 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349"/>
              </a:spcBef>
              <a:buClr>
                <a:srgbClr val="e55e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5e4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ersonal disorganization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9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9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9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9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9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900" fill="hold"/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26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000"/>
                </a:solidFill>
                <a:latin typeface="Arial Unicode MS"/>
              </a:rPr>
              <a:t>Procrastination:</a:t>
            </a:r>
            <a:br>
              <a:rPr sz="2400"/>
            </a:b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“Never do today what you can pu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off ‘till tomorrow!”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447560"/>
            <a:ext cx="91440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Forms of procrastination: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gnoring the task, hoping it will go awa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Underestimating how long it will tak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verestimating your abilities and resourc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elling yourself that poor performance is oka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Doing something else that isn’t very importan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elieving that repeated “minor” delays won’t hurt you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alking about a hard job rather than doing i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Putting all your work on only one part of the task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ecoming paralyzed when having to make choic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4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4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1371600"/>
            <a:ext cx="8382240" cy="52704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crastination Sign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Thief of Time)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TextBox 4"/>
          <p:cNvGrpSpPr/>
          <p:nvPr/>
        </p:nvGrpSpPr>
        <p:grpSpPr>
          <a:xfrm>
            <a:off x="2225520" y="2097000"/>
            <a:ext cx="4699080" cy="2389320"/>
            <a:chOff x="2225520" y="2097000"/>
            <a:chExt cx="4699080" cy="2389320"/>
          </a:xfrm>
        </p:grpSpPr>
        <p:pic>
          <p:nvPicPr>
            <p:cNvPr id="208" name="TextBox 4" descr=""/>
            <p:cNvPicPr/>
            <p:nvPr/>
          </p:nvPicPr>
          <p:blipFill>
            <a:blip r:embed="rId2"/>
            <a:stretch/>
          </p:blipFill>
          <p:spPr>
            <a:xfrm>
              <a:off x="2225520" y="2097000"/>
              <a:ext cx="4699080" cy="238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514600" y="2362320"/>
              <a:ext cx="41148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How to tackle procrastination?</a:t>
              </a:r>
              <a:r>
                <a:rPr b="0" lang="en-US" sz="2800" spc="-1" strike="noStrike">
                  <a:solidFill>
                    <a:srgbClr val="7030a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55e43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t deadlines by which goals should be achieved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mportance of T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Daily schedules planning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ime waster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Procrastination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ake home messages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Why don't people manage their time?</a:t>
            </a: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They don't know about i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They are too lazy to pla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They enjoy the adrenaline buzz of meeting tight deadlin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8080"/>
                </a:solidFill>
                <a:latin typeface="Arial"/>
              </a:rPr>
              <a:t>They enjoy crisis managemen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212" name="TextBox 4"/>
          <p:cNvGrpSpPr/>
          <p:nvPr/>
        </p:nvGrpSpPr>
        <p:grpSpPr>
          <a:xfrm>
            <a:off x="2073240" y="5522760"/>
            <a:ext cx="5613480" cy="1043280"/>
            <a:chOff x="2073240" y="5522760"/>
            <a:chExt cx="5613480" cy="1043280"/>
          </a:xfrm>
        </p:grpSpPr>
        <p:pic>
          <p:nvPicPr>
            <p:cNvPr id="213" name="TextBox 4" descr=""/>
            <p:cNvPicPr/>
            <p:nvPr/>
          </p:nvPicPr>
          <p:blipFill>
            <a:blip r:embed="rId1"/>
            <a:stretch/>
          </p:blipFill>
          <p:spPr>
            <a:xfrm>
              <a:off x="2073240" y="5522760"/>
              <a:ext cx="5613480" cy="10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2362320" y="579132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55e43"/>
                  </a:solidFill>
                  <a:latin typeface="Arial"/>
                </a:rPr>
                <a:t>Failing to plan is planning to fail</a:t>
              </a:r>
              <a:endParaRPr b="0" lang="en-US" sz="24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7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2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50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000"/>
                </a:solidFill>
                <a:latin typeface="Arial Unicode MS"/>
              </a:rPr>
              <a:t>How to Overcome Procrastination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08000"/>
            <a:ext cx="82296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Win the mental battle by committing to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eing on time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et and keep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eadlines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Organize, schedule &amp; plan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ivide a big job into 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maller ones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Find a way to make a game of your work or make it fun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Reward yourself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when you’re done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Tell your friends and room mates to remind you of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priorities and deadlines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arn to say “no” to time wasters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cc"/>
                </a:solidFill>
                <a:latin typeface="Arial Unicode MS"/>
              </a:rPr>
              <a:t>Tackle Time Waster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1600200"/>
            <a:ext cx="9144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Learn to say ‘</a:t>
            </a: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NO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’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Examples of good ways to say “no”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nstead of: “I really should study”, say “You caught me in the middle of something important, I’ll call you later.”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I can’t go the movies tonight, but I can go on Saturday.”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808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808080"/>
                </a:solidFill>
                <a:latin typeface="Times New Roman"/>
                <a:ea typeface="Times New Roman"/>
              </a:rPr>
              <a:t>Before I say yes, let me check my planner and get back to you.”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52120" y="223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rategies on using time (read at home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ese applications of time management have proven to be effective as good study habits.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Blocks of study time and break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s your school term begins and your course schedule is set, develop and plan for, blocks of study time in a typical week. Blocks ideally are around 50 minutes, but perhaps you become restless after only 30 minutes? Some difficult material may require more frequent breaks.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edicated study space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Determine a place free from distraction (no cell phone or text messaging!)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eekly review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Each week, like a Saturday night, review your assignments, your notes, your calendar.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rioritize your assignment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When studying, get in the habit of beginning with the most difficult subject or task.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ostpone unnecessary activities until the work is done!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Identify resources to help you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Are there tutors? An expert friend? Have you tried a keyword search on the Internet to get better explanations? Are there specialists in the library that can point you to resources? What about professionals and professional organizations.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Use your free time wisely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e bottom line is to put your time to good use. What is one example of applying free time to your studies?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eview notes and readings just before clas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It demonstrates to your teacher that you are interested and have prepared. How would you make time to review?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eview lecture notes just after class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en review lecture material immediately after class.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e first 24 hours are critical. Forgetting is greatest within 24 hours without review! 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0" y="152388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10 WAYS THAT YOU CAN USE TO IMPROVE YOUR TIME MANAGEMENT SKILLS</a:t>
            </a:r>
            <a:r>
              <a:rPr b="0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 AND INCREASE PRODUCTIVITY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5060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DELEGATE TASK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2. PRIORITIZE WORK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3. AVOID PROCRASTINAT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4. SCHEDULE TASK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5. AVOID STRES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6. SET UP DEADLIN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7. AVOID MULTITASKING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8. START EARLY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9. TAKE SOME BREAK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50603"/>
                </a:solidFill>
                <a:latin typeface="Times New Roman"/>
                <a:ea typeface="Times New Roman"/>
              </a:rPr>
              <a:t>10. LEARN TO SAY N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stions !!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Content Placeholder 3" descr="3.jpg"/>
          <p:cNvPicPr/>
          <p:nvPr/>
        </p:nvPicPr>
        <p:blipFill>
          <a:blip r:embed="rId1"/>
          <a:stretch/>
        </p:blipFill>
        <p:spPr>
          <a:xfrm>
            <a:off x="380880" y="1927080"/>
            <a:ext cx="5105520" cy="4062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5" name="TextBox 4"/>
          <p:cNvSpPr/>
          <p:nvPr/>
        </p:nvSpPr>
        <p:spPr>
          <a:xfrm>
            <a:off x="7086600" y="1600200"/>
            <a:ext cx="609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T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H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A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N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K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Y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O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55e43"/>
                </a:solidFill>
                <a:latin typeface="Kristen ITC"/>
                <a:ea typeface="Arial"/>
              </a:rPr>
              <a:t>U</a:t>
            </a:r>
            <a:endParaRPr b="0" lang="en-US" sz="2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did you do yesterday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We need one volunteer on the board.</a:t>
            </a:r>
            <a:r>
              <a:rPr b="0" lang="en-US" sz="2400" spc="-1" strike="noStrike">
                <a:solidFill>
                  <a:srgbClr val="e55e4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[5 minutes]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Dear colleague, tell us how did you consume your time yesterday </a:t>
            </a:r>
            <a:r>
              <a:rPr b="1" i="1" lang="en-US" sz="2400" spc="-1" strike="noStrike">
                <a:solidFill>
                  <a:srgbClr val="e55e43"/>
                </a:solidFill>
                <a:latin typeface="Arial"/>
              </a:rPr>
              <a:t>[the whole day, bed to bed]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3" name="Picture 3" descr="6.gif"/>
          <p:cNvPicPr/>
          <p:nvPr/>
        </p:nvPicPr>
        <p:blipFill>
          <a:blip r:embed="rId1"/>
          <a:stretch/>
        </p:blipFill>
        <p:spPr>
          <a:xfrm>
            <a:off x="4267080" y="3429000"/>
            <a:ext cx="39625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management important?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Time cannot be bought, stored or stopped - every second that passes is gone forever and can never be recovered or re-us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"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Perhaps the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most valuable result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of any work is the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ability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 to make yourself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do the things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that you have to do, when it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ought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to be done,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whether you like it or not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."—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Thomas Huxley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“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Be </a:t>
            </a:r>
            <a:r>
              <a:rPr b="0" i="1" lang="en-US" sz="2000" spc="-1" strike="noStrike" u="sng">
                <a:solidFill>
                  <a:srgbClr val="002060"/>
                </a:solidFill>
                <a:uFillTx/>
                <a:latin typeface="Comic Sans MS"/>
              </a:rPr>
              <a:t>regular and orderly 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in your life.”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206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omic Sans MS"/>
              </a:rPr>
              <a:t>Gustave Flaubert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4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4000" spc="-1" strike="noStrike">
                <a:solidFill>
                  <a:srgbClr val="ffffff"/>
                </a:solidFill>
                <a:latin typeface="Arial"/>
              </a:rPr>
              <a:t>أهمية الوقت في حياة المسلم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2296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70c0"/>
                </a:solidFill>
                <a:latin typeface="Arial"/>
              </a:rPr>
              <a:t>عن معاذ بن جبل رضي الله عنه قال قال رسول الله صلى الله عليه وسلم " لن تزول قدما عبد يوم القيامة حتى يسأل عن أربع: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1353240" indent="-58500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عن عمره فيما أفناه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353240" indent="-58500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وعن شبابه فيما أبلاه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353240" indent="-58500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وعن ماله من أين اكتسبه وفيما أنفقه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353240" indent="-585000" algn="r" rtl="1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Arial"/>
              </a:rPr>
              <a:t>وعن علمه ماذا عمل به؟ "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Age , youth, money and deeds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585000" indent="-585000" algn="r" rtl="1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0c0"/>
                </a:solidFill>
                <a:latin typeface="Arial"/>
              </a:rPr>
              <a:t>عن ابن عباس رضي الله عنهما قال قال رسول الله صلى الله عليه وسلم " نعمتان مغبون فيهما كثير من الناس: الصحة والفراغ “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585000" indent="-585000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The majority of humanity is at a loss as they do not recognize the value of two of God’s gifts: Health and (discretionary) time</a:t>
            </a:r>
            <a:r>
              <a:rPr b="0" lang="en-US" sz="1800" spc="-1" strike="noStrike">
                <a:solidFill>
                  <a:srgbClr val="7030a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585000" indent="-585000" algn="r" rtl="1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Basic Rul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47560"/>
            <a:ext cx="50292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d8e0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8e0b"/>
                </a:solidFill>
                <a:latin typeface="Comic Sans MS"/>
              </a:rPr>
              <a:t>Time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 can't be managed, time is uncontrollabl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We can only manage </a:t>
            </a:r>
            <a:r>
              <a:rPr b="1" lang="en-US" sz="2400" spc="-1" strike="noStrike">
                <a:solidFill>
                  <a:srgbClr val="4d8e0b"/>
                </a:solidFill>
                <a:latin typeface="Comic Sans MS"/>
              </a:rPr>
              <a:t>ourselves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4d8e0b"/>
                </a:solidFill>
                <a:latin typeface="Comic Sans MS"/>
              </a:rPr>
              <a:t>our use </a:t>
            </a:r>
            <a:r>
              <a:rPr b="0" lang="en-US" sz="2400" spc="-1" strike="noStrike">
                <a:solidFill>
                  <a:srgbClr val="7030a0"/>
                </a:solidFill>
                <a:latin typeface="Comic Sans MS"/>
              </a:rPr>
              <a:t>of tim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0" name="Picture 4" descr="j0195252[1]"/>
          <p:cNvPicPr/>
          <p:nvPr/>
        </p:nvPicPr>
        <p:blipFill>
          <a:blip r:embed="rId1"/>
          <a:stretch/>
        </p:blipFill>
        <p:spPr>
          <a:xfrm>
            <a:off x="609480" y="1295280"/>
            <a:ext cx="1676520" cy="1793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3503880" cy="4419360"/>
          </a:xfrm>
          <a:prstGeom prst="rect">
            <a:avLst/>
          </a:prstGeom>
          <a:ln w="9360">
            <a:solidFill>
              <a:srgbClr val="ac601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c000"/>
                </a:solidFill>
                <a:latin typeface="Baskerville Old Face"/>
              </a:rPr>
              <a:t>Myths about Time Managemen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0c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70c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ime management is nothing but common sense. I do well in college, so I must be managing my time effectively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914400" y="3118320"/>
            <a:ext cx="2514600" cy="2494800"/>
          </a:xfrm>
          <a:prstGeom prst="cloudCallout">
            <a:avLst>
              <a:gd name="adj1" fmla="val -74175"/>
              <a:gd name="adj2" fmla="val 71106"/>
            </a:avLst>
          </a:prstGeom>
          <a:solidFill>
            <a:srgbClr val="05808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No matter what I do, I won’t have enough time!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5638680" y="3118320"/>
            <a:ext cx="2895840" cy="2494800"/>
          </a:xfrm>
          <a:prstGeom prst="cloudCallout">
            <a:avLst>
              <a:gd name="adj1" fmla="val 56782"/>
              <a:gd name="adj2" fmla="val -36930"/>
            </a:avLst>
          </a:prstGeom>
          <a:solidFill>
            <a:srgbClr val="05808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  <a:ea typeface="Arial"/>
              </a:rPr>
              <a:t>Time management?  I work better under pressure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AutoShape 12"/>
          <p:cNvSpPr/>
          <p:nvPr/>
        </p:nvSpPr>
        <p:spPr>
          <a:xfrm>
            <a:off x="3429000" y="5947200"/>
            <a:ext cx="2743200" cy="776880"/>
          </a:xfrm>
          <a:prstGeom prst="wedgeRectCallout">
            <a:avLst>
              <a:gd name="adj1" fmla="val 86685"/>
              <a:gd name="adj2" fmla="val -88810"/>
            </a:avLst>
          </a:prstGeom>
          <a:solidFill>
            <a:srgbClr val="2ca9d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It takes all the fun out of life!!!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23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2ca9d0"/>
                                </p:to>
                              </p:animCl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4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9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06600" y="22716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Management Tips 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Use a planner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a planner can be an effective and easy way to help you organize your time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look at a number of different kinds of planners before you select one- some will help you more than others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choose one that is easy to carry with you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commit to checking/updating it daily 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  <a:ea typeface="Arial"/>
              </a:rPr>
              <a:t>try to include your daily to-do list in your pla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8:24:02Z</dcterms:created>
  <dc:creator>Dr. Sharif</dc:creator>
  <dc:description/>
  <dc:language>en-US</dc:language>
  <cp:lastModifiedBy>aboo alde</cp:lastModifiedBy>
  <dcterms:modified xsi:type="dcterms:W3CDTF">2015-08-31T13:21:09Z</dcterms:modified>
  <cp:revision>171</cp:revision>
  <dc:subject/>
  <dc:title>Time Management</dc:title>
</cp:coreProperties>
</file>