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134-1518-4BAE-B1DB-7DAFD20A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3B8-2E4F-4AD4-A423-23866E7B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719A6-486C-4591-98B4-ED3334DB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89C53-FD32-4B21-89C1-BE5ABFA6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9861-03B4-4745-8B9A-A3A86087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BF98D-81F4-4873-8C9E-FDDC292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9916E-522A-4CBC-AD30-786C43C7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80AE8-0B2D-45E9-8C2B-BD0C8B9D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DEDA3-2660-4B4B-BCFF-8449CCE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859E9-6FD1-48E1-9703-9E6B5CC9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20A5B-018C-4DDC-B440-FA78A7D3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55896-D25B-4965-AA6A-CD9FC447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2AE-2102-4291-BAB3-C516CF08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96213-A462-4659-971F-8ACFDE2B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BD07A-1CF0-4484-9F70-3F6052E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398E6-E009-4C57-A3A0-FA69B667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345B5-71F0-44A4-94C3-9D222106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D8816-CF4F-44EF-82B6-92FADF0A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98626-FB51-4B9A-9553-E2CB895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CCE9B-EADD-4E55-95DF-ECB4C38F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DBE24-AC39-4F2A-93A6-403A35F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E3209-92AC-41EF-8FC5-72E8AC16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21EF8-C94B-4D84-831E-D9A1077F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4D4-B195-4F26-A4C6-72339652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70B46-8221-4D18-99C8-EF5C1B80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FB118-E071-4AA4-AC76-B80A0B74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AD414-5EE9-41BE-A3C2-765D052E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1FBA4-65B0-43C5-B705-09F6B4AA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46121-EC00-4F06-980C-AFF8EDFD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C55C4-2357-42F4-AA24-CAE1E52A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98BE5-870D-43F7-8695-ABB6FE55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CF309-5809-411B-9B91-D3D3A725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7B686-5342-4CE3-B41A-6AACE661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B23B0-F135-4F61-AF5F-47332F0F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42B0-829B-48DF-BEA0-E210270E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5B6CE-BEB5-49B9-8F6C-B6A44FC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57753-666F-4066-86CD-2A30481A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B3B43-D15B-4211-888C-6AD15A6B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E3192-4427-4899-AA21-A8863E1F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C6DDE-842A-4015-872A-003EF2D6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F1F5E-2C24-446B-9FBE-B1BA86F5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869F0-59F5-4377-BBB8-31C4435A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64ADE-260A-44D5-8675-1EFB3BC3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0BBB8-B584-4AB1-8310-88C7CB31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65D2F-953B-46E5-AAAC-264658E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F3B5-9F22-4F2B-8713-EC1D81CF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2568D-ADFB-4643-A97D-F103D251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70933-F151-4739-9FB9-8B69EDC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39C0E-06EB-43C6-A7EC-B2945051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6901A-D6E6-4F63-BECA-8A4967CA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7FA11-8D59-43D5-8D26-FD93B890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E7273-BB25-4BFB-9216-329023C0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134AC-CA7A-4AC1-A03B-E7667128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FCC08-35C4-412F-957B-A346C326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5C1DD-9079-40DD-A26E-0898E07D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ADA31-048E-42EC-8373-7F2D4B5C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BF25-34C6-423B-A1BA-A7B59527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E4A7C-B276-45E6-8A5B-18FE07FE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EC097-BB78-444F-99F6-3FC910B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7FF7B-0DB3-4A29-A371-DFD7CEC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7D82C-9F39-4A24-BB21-698B8D3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363C0-06C3-4E11-AAF5-5D041846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3C9B4-1A45-4AF0-A656-C53BA1A8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46AC7-39DA-4FFF-9983-90B4B42C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73726-D3BF-4E99-BAB5-CC2ED1C4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A184A-3BE6-4F9B-9CD7-8C01A4F6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96381-3160-46CB-A6C0-38FA98FE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3118-4E6A-4A0B-AAD9-41529B2E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D942B-527F-469E-B193-1859F1D1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C51C8-8285-49AE-9314-2B01688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E76D7-251C-48AD-BC0F-36742F23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3CCF1-738A-4480-B5C2-09F519E9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DAAC4-6286-41BC-9B8C-BBA9805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7B677-9B9F-4D10-800E-5B204A9C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F0A69-F131-431F-9A93-E3576D7B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9B8E0-537B-4BCD-9628-6D7388C6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6C843-63B1-4781-8B39-9F12B281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EBF2A-2A2D-42A6-B535-458D6FA9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D973-3B4F-41FC-8458-EACBF93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FDE38-0A12-4E9A-92DB-57CA0C4C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5A89E-4251-4187-BA38-2607DCAA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7BC11-6302-415B-AF6E-BC7102CE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0C339-1475-48BD-B974-31006070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73BA5-3624-4DE6-AB30-E72CE6E0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24207-F8BE-4AC5-82E5-1F4825CF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AEE25-2BCB-4392-8B3A-FE5C5BB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CDDBD-5BC8-4C82-A4C0-BE26CE8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34C0E-21A8-42E6-8052-ECFD83E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09EAC-A3AB-4BCB-946A-53FA2451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9C31-3258-409D-8778-E3122E2A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35F84-60F0-46E0-82F0-AD96897B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A92D6-75AC-4C04-AEED-E02677A7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70727-2D08-4C43-8A30-03C672B5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68C49-CEEA-4A01-B034-FBB70F10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5CBC0-DAE4-4B83-969E-D4872DBB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4C657-DD39-4748-B9A8-5E830D5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C4240-D1C1-4673-A594-278A2139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DF685-48AB-4DEE-B74E-3873D7DB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2E25C4-8028-4EDB-BCEB-A813B27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5C171-8CF4-4661-A2E6-0995267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4EF-7A39-4715-871B-6440643B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C44209-0C49-4CE2-8324-9C75DF80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5454D-ADF3-49AE-8909-889701A8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C1504-6FDB-4ADE-8090-AA858674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BE4-16C1-47C0-A2FF-A293B6DA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B1BF-F234-4FB3-8C53-8E7091B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C759-A9DD-4CB9-A1E4-DA4A6F8A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7D6B-4EC2-4EB3-B705-D2DA307A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FEA3-077A-437C-8F73-AD30F1F4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D541-6299-4DB8-A562-9A38DD49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E920-4DCA-4FE6-9A96-B1B86046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4FB6-F584-4B83-A69E-9F52D01A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D97F-CC7F-4B60-8994-116D8BB0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1991-CF2C-404E-A1EC-E3317F09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6B76-5F1E-4E65-8E2C-FD663F83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837-CAC2-4149-9C98-33A80A16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1722-A1D4-4DF6-BDE3-0F304DB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594F-305B-4549-8778-85F49ED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9901-2278-43C0-9154-7A21523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C705-FB38-4C40-9F44-C233D8E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DB66-034A-4CF2-B248-1C195CE1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6CF9-7FF9-4DE0-880F-0F217905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E4DE-0BF3-4E9B-AA7E-721D0CF5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D1CE7-CF57-406E-BD29-4BBC7B77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1DB8-ADDA-4843-849F-0541C3CD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71BB-D998-4BAE-BC9F-5EB95A67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EA5-C30D-435C-9FB0-FECABDF6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61A91-F6F4-4B4B-A14A-C96705B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1FBF-984B-4F20-9090-BECD0DAC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6D610-9A2D-4D84-9763-2F4C5E7E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C147-6E87-42C3-9956-46A1F654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B5C4-06BC-451D-BBB2-04A076BB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EF6D-B45C-4FC1-9FD8-8409237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6B57-DC6A-4274-9FD6-35067C76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722A-2B45-4265-A3B8-A77D3C64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95D52-71C1-4C08-97BA-E7CB2282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2E88-12D4-45B3-88CF-1F7DA3E1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7C9-0B33-4C53-8E89-8BBD7DB4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42776-E00C-48D3-9D1E-A067F9DA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547D-CF3F-4C7F-8220-6E330F7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9E165-366B-420E-B03B-A8AF103B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DE30-88DE-4339-BAF9-D5DF8143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D5E0-9F91-4ED6-9FA6-7A0338EF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A67BD-19B6-4B33-8DEA-637B7585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76CC-724C-4F50-B97F-39CE4BD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8E3F-7B5D-46DB-B973-4538398A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49A5-B8E2-4466-9276-F86C5490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01495-BFD1-471D-BBBB-F1580C81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D96-084D-4A39-B97B-24F44999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A5F2-B725-4C01-A2EC-C4DEB818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99402-30AF-483D-B52B-AB7AE7AA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F669E-9C6A-4409-A08C-791017AA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05483-8636-4696-BAEB-AFCD6D11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63A7-2DBC-44C0-AF12-DE13D4E7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2294C-A714-4259-A3C4-B00669E7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55DDB-16F7-402D-99E4-C5E1CA6E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5237-43EC-4BCD-9B2A-1409BA58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BB4FE-302C-462E-96AE-3D4D575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F3210-6697-47A6-BC59-1DAE661A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77D-1944-4102-8645-6A1374A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2CF0-ABD0-4E6C-B30D-CA446EC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FBA25-701A-42A3-B448-69F2D9BF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15707-6E89-45A7-85B2-31CA925D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69610-6536-48DF-8005-E72ABE7A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FB704-EAE1-48C7-B8CD-5AA7FE91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BE171-65C6-4BFF-A55C-122C1799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7C4CD-E4E5-44B7-95FF-8B76DF75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83909-FC24-4F97-9509-CF7DDF51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8AD6E-DE66-4A80-9E79-9598E31F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EA5BB-FA58-46A9-A174-139CD967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5B7-3AC7-414D-9A85-643A5D0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12C9E-1B95-4BBB-8C8F-ED7E07D7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D7C9B-CF34-43DB-B5A5-CCFB145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A02A-445A-4BD3-BB32-F3F1A142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C007B-96C8-4F02-A0B6-889CEB10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895D-1B48-42A5-9926-F14CAAB2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695DF-458B-4C06-B9E0-BAAED992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0D098-BE4F-4960-8126-E49F81FA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C94FC-98A5-4F53-80DE-C9B5F143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CE653-DB7C-412C-B5E5-335A8E8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CAF87-0DDD-4198-AFBF-6161D025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45A-7F50-4E47-B730-9A80671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DF3C-6785-4125-BA52-19B9703F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C8C1D-BB12-4FAE-95D8-C8B33D01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F441F-BCCE-46DF-AF32-E10E63F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9B65F-FD5E-49E8-8E44-178C8BA6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ED14D-3FAC-4554-B344-3E4897F1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61735-27C8-47E2-B40C-C1D61106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09E63-5429-45E8-9C8E-6E6ABF4F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25EDC-969F-4BBD-BBBC-152FED3E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692DA-4897-43E7-88C0-F0E7DC98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ED16F-408B-42DB-82C7-6077280D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4205-1798-44F1-918F-8A63C2F2E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41F6-809C-4862-82CB-DF6F4C382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3D3E-79C8-44E5-BEA6-A47D0D2EB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101-EFA3-4640-91DD-238251F02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2DDD-5912-48FF-AF75-58AD81893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5CC0-F3D2-4613-B8AD-E7D53DCF7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C0CA-7759-46B8-A5E4-71BCC789A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F3EC-BBBC-4B08-969B-81B2492C612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8B06-9AFD-4B0D-AD2A-6CCADD1CCB2D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7816-DD44-458B-9984-E55397836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FEA5-8084-49F7-A905-93A646138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79E-0D52-45F4-BCDF-7F983DC2D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000-5779-415D-8FA2-4A31CF355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9FE3-B0A4-4255-97CE-742830DBF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ACD8-2219-4C76-9999-219513D77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F908-7555-4C9C-876A-25770473D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1"/>
          <p:cNvSpPr/>
          <p:nvPr/>
        </p:nvSpPr>
        <p:spPr>
          <a:xfrm>
            <a:off x="20574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52574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aenia saginata Example of a tapeworm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4" name="Picture 3" descr="Taenia_saginataL"/>
          <p:cNvPicPr/>
          <p:nvPr/>
        </p:nvPicPr>
        <p:blipFill>
          <a:blip r:embed="rId1"/>
          <a:stretch/>
        </p:blipFill>
        <p:spPr>
          <a:xfrm>
            <a:off x="4572000" y="533520"/>
            <a:ext cx="3949560" cy="26413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Taenia_saginataK"/>
          <p:cNvPicPr/>
          <p:nvPr/>
        </p:nvPicPr>
        <p:blipFill>
          <a:blip r:embed="rId2"/>
          <a:stretch/>
        </p:blipFill>
        <p:spPr>
          <a:xfrm>
            <a:off x="762120" y="533520"/>
            <a:ext cx="3759120" cy="27050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Taenia_saginataH_v2"/>
          <p:cNvPicPr/>
          <p:nvPr/>
        </p:nvPicPr>
        <p:blipFill>
          <a:blip r:embed="rId3"/>
          <a:stretch/>
        </p:blipFill>
        <p:spPr>
          <a:xfrm>
            <a:off x="2743200" y="335268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tae3"/>
          <p:cNvPicPr/>
          <p:nvPr/>
        </p:nvPicPr>
        <p:blipFill>
          <a:blip r:embed="rId4"/>
          <a:stretch/>
        </p:blipFill>
        <p:spPr>
          <a:xfrm>
            <a:off x="6553080" y="3276720"/>
            <a:ext cx="201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DICAL IMPORTANCE OF ARTHROP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)As aetiologic agents (causes) of dis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ssue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ion of hypersensitivity reac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jection of poi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omophobia (acarophob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) As vectors of diseas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: Mechanical transmission - simple carriage of pathoge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: Biological transmi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ic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o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: Transovarian trans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scabies1"/>
          <p:cNvPicPr/>
          <p:nvPr/>
        </p:nvPicPr>
        <p:blipFill>
          <a:blip r:embed="rId1"/>
          <a:stretch/>
        </p:blipFill>
        <p:spPr>
          <a:xfrm>
            <a:off x="838080" y="1066680"/>
            <a:ext cx="4673880" cy="35053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4"/>
          <p:cNvSpPr/>
          <p:nvPr/>
        </p:nvSpPr>
        <p:spPr>
          <a:xfrm>
            <a:off x="457920" y="38088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2" name="Picture 2" descr="biopara-scabies"/>
          <p:cNvPicPr/>
          <p:nvPr/>
        </p:nvPicPr>
        <p:blipFill>
          <a:blip r:embed="rId2"/>
          <a:stretch/>
        </p:blipFill>
        <p:spPr>
          <a:xfrm>
            <a:off x="5562720" y="1905120"/>
            <a:ext cx="33526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biopara-scabies"/>
          <p:cNvPicPr/>
          <p:nvPr/>
        </p:nvPicPr>
        <p:blipFill>
          <a:blip r:embed="rId1"/>
          <a:stretch/>
        </p:blipFill>
        <p:spPr>
          <a:xfrm>
            <a:off x="5410080" y="2743200"/>
            <a:ext cx="3353040" cy="23464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3"/>
          <p:cNvSpPr/>
          <p:nvPr/>
        </p:nvSpPr>
        <p:spPr>
          <a:xfrm>
            <a:off x="720" y="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Object 2"/>
          <p:cNvGraphicFramePr/>
          <p:nvPr/>
        </p:nvGraphicFramePr>
        <p:xfrm>
          <a:off x="428760" y="214200"/>
          <a:ext cx="821520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4200"/>
                    <a:ext cx="821520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ortant arthropod vectors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disea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85800" y="1981080"/>
          <a:ext cx="7772400" cy="4448160"/>
        </p:xfrm>
        <a:graphic>
          <a:graphicData uri="http://schemas.openxmlformats.org/drawingml/2006/table">
            <a:tbl>
              <a:tblPr/>
              <a:tblGrid>
                <a:gridCol w="2957400"/>
                <a:gridCol w="4815000"/>
              </a:tblGrid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Musca domest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hanical transmission of  many viruses, bacteria and parasi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quitoe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عو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pheles :malaria filariasis Culex: filariasis, viruses                Aedes: yellow fever, dengue fever, Rift Valley Fe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ce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مل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y louse: vector for: Relapsing fever, typhus and trench fev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ea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راغيث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 flea is vector for plague due to Yersinia pest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cks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راد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 ticks , some are vestors for : Borrela duttoni         Hard ticks Include vectors for Babesiosis (protozoa), Q fever, and Rocky mountain spotted fever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e t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Glossina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تس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African Trynanosomiasis (African sleeping sick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imulium)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ذبابة السوداء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Onchocerca (river blind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hlebotomus)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رم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s for leishmania and sandfly fever vir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cl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Dracunculus medinen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" descr="louse384.jpg"/>
          <p:cNvPicPr/>
          <p:nvPr/>
        </p:nvPicPr>
        <p:blipFill>
          <a:blip r:embed="rId1"/>
          <a:stretch/>
        </p:blipFill>
        <p:spPr>
          <a:xfrm>
            <a:off x="1714680" y="2786040"/>
            <a:ext cx="5286240" cy="338616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2"/>
          <p:cNvSpPr/>
          <p:nvPr/>
        </p:nvSpPr>
        <p:spPr>
          <a:xfrm>
            <a:off x="3568680" y="4287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201240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se(singular) , Lice (pleur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0" y="1357200"/>
            <a:ext cx="84582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Pediculus human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Ae_albo_30Ap01_P4300281"/>
          <p:cNvPicPr/>
          <p:nvPr/>
        </p:nvPicPr>
        <p:blipFill>
          <a:blip r:embed="rId1"/>
          <a:stretch/>
        </p:blipFill>
        <p:spPr>
          <a:xfrm>
            <a:off x="5943600" y="457200"/>
            <a:ext cx="2338560" cy="18241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Ae_albo_Pb230730"/>
          <p:cNvPicPr/>
          <p:nvPr/>
        </p:nvPicPr>
        <p:blipFill>
          <a:blip r:embed="rId2"/>
          <a:stretch/>
        </p:blipFill>
        <p:spPr>
          <a:xfrm>
            <a:off x="3886200" y="533520"/>
            <a:ext cx="1560600" cy="122868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4"/>
          <p:cNvSpPr/>
          <p:nvPr/>
        </p:nvSpPr>
        <p:spPr>
          <a:xfrm>
            <a:off x="457200" y="4572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osquitoes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533520" y="1371600"/>
            <a:ext cx="32763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mopolitan , more than 3000 spe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val and pupal stages always aqu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th parts in female adapted to piercing and suck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us and species distinguished by morphology of adult and deveopmetal stag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7" name="Picture 6" descr="mosquito2"/>
          <p:cNvPicPr/>
          <p:nvPr/>
        </p:nvPicPr>
        <p:blipFill>
          <a:blip r:embed="rId3"/>
          <a:stretch/>
        </p:blipFill>
        <p:spPr>
          <a:xfrm>
            <a:off x="5029200" y="2514600"/>
            <a:ext cx="307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sandfly2"/>
          <p:cNvPicPr/>
          <p:nvPr/>
        </p:nvPicPr>
        <p:blipFill>
          <a:blip r:embed="rId1"/>
          <a:stretch/>
        </p:blipFill>
        <p:spPr>
          <a:xfrm>
            <a:off x="1447920" y="914400"/>
            <a:ext cx="3039840" cy="26179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sandfly3"/>
          <p:cNvPicPr/>
          <p:nvPr/>
        </p:nvPicPr>
        <p:blipFill>
          <a:blip r:embed="rId2"/>
          <a:stretch/>
        </p:blipFill>
        <p:spPr>
          <a:xfrm>
            <a:off x="4876920" y="1295280"/>
            <a:ext cx="3200400" cy="27068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" descr="Sandfly4"/>
          <p:cNvPicPr/>
          <p:nvPr/>
        </p:nvPicPr>
        <p:blipFill>
          <a:blip r:embed="rId3"/>
          <a:stretch/>
        </p:blipFill>
        <p:spPr>
          <a:xfrm>
            <a:off x="4876920" y="41148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5" descr="sandflyreserve1"/>
          <p:cNvPicPr/>
          <p:nvPr/>
        </p:nvPicPr>
        <p:blipFill>
          <a:blip r:embed="rId4"/>
          <a:stretch/>
        </p:blipFill>
        <p:spPr>
          <a:xfrm>
            <a:off x="83808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106668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hlebotom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 sand fl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207468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end of this lecture the student should be able to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 the three main groups of parasitic helminths and their characteristic  morphological feature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life cycle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caris lumbricoid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s an example of parasitic heminth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ss the role of arthropods as agents and as vectors of diseases  in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examples of the main arthropod vectors of dise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0" y="1066680"/>
          <a:ext cx="9144000" cy="5410440"/>
        </p:xfrm>
        <a:graphic>
          <a:graphicData uri="http://schemas.openxmlformats.org/drawingml/2006/table">
            <a:tbl>
              <a:tblPr/>
              <a:tblGrid>
                <a:gridCol w="4514760"/>
                <a:gridCol w="46292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z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cell for all 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moeba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psudob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agellat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iliat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cil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picomplex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porozoa) Tissue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ound worm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ematodes) cylindrical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at w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-Trema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f-like, 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-Ces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pe-like, 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Text Box 38"/>
          <p:cNvSpPr/>
          <p:nvPr/>
        </p:nvSpPr>
        <p:spPr>
          <a:xfrm>
            <a:off x="6094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tion of Parasi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Location of helminths in the body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Intestinal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Tissue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731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Nemato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General feature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ongated worm, cylindrical, unsegmented and tapering at both e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 in size, measure &lt;1 cm to  about 100cm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x separate and male is smaller than fe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1" name="Picture 5" descr="untitled"/>
          <p:cNvPicPr/>
          <p:nvPr/>
        </p:nvPicPr>
        <p:blipFill>
          <a:blip r:embed="rId1"/>
          <a:stretch/>
        </p:blipFill>
        <p:spPr>
          <a:xfrm>
            <a:off x="2895480" y="4419720"/>
            <a:ext cx="29718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4" descr="Ascarisalumbmf"/>
          <p:cNvPicPr/>
          <p:nvPr/>
        </p:nvPicPr>
        <p:blipFill>
          <a:blip r:embed="rId1"/>
          <a:stretch/>
        </p:blipFill>
        <p:spPr>
          <a:xfrm>
            <a:off x="1371600" y="1219320"/>
            <a:ext cx="6426360" cy="46479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7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67057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onest human helminthes inf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in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jejunum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upper part of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le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male 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± 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m longer than male 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± 10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 on semi digested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1028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1029" descr="1Ascaris_adultK"/>
          <p:cNvPicPr/>
          <p:nvPr/>
        </p:nvPicPr>
        <p:blipFill>
          <a:blip r:embed="rId1"/>
          <a:stretch/>
        </p:blipFill>
        <p:spPr>
          <a:xfrm>
            <a:off x="4419720" y="3124080"/>
            <a:ext cx="41907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066680" y="0"/>
            <a:ext cx="6510600" cy="662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2514600" y="5943600"/>
            <a:ext cx="37339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caris lumbric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Fisiolahepatica-cow"/>
          <p:cNvPicPr/>
          <p:nvPr/>
        </p:nvPicPr>
        <p:blipFill>
          <a:blip r:embed="rId1"/>
          <a:stretch/>
        </p:blipFill>
        <p:spPr>
          <a:xfrm>
            <a:off x="0" y="428760"/>
            <a:ext cx="8763120" cy="58417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Fisiolahepatica-cow"/>
          <p:cNvPicPr/>
          <p:nvPr/>
        </p:nvPicPr>
        <p:blipFill>
          <a:blip r:embed="rId2"/>
          <a:stretch/>
        </p:blipFill>
        <p:spPr>
          <a:xfrm>
            <a:off x="214200" y="500040"/>
            <a:ext cx="8763120" cy="58420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1000080" y="4143240"/>
            <a:ext cx="77439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The Trematod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14:58:24Z</dcterms:created>
  <dc:creator>Prof.Adeel</dc:creator>
  <dc:description/>
  <dc:language>en-US</dc:language>
  <cp:lastModifiedBy>Ahmed</cp:lastModifiedBy>
  <dcterms:modified xsi:type="dcterms:W3CDTF">2015-10-25T13:31:20Z</dcterms:modified>
  <cp:revision>67</cp:revision>
  <dc:subject/>
  <dc:title>Photo Album</dc:title>
</cp:coreProperties>
</file>