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7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CC2-EA10-427E-89B9-70D6364C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106-9275-411D-BA87-C75A9950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7122A-48D2-4487-B77F-1315AA62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56994-FAA9-4A6A-855D-7A552595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966E4-9026-4196-B19C-27EC65D9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1A33D-8FA5-4327-8373-B762C3B0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746F4-FE2F-47FE-B70C-B9B9B465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8B0BA-813D-4FA8-9D39-1C4AED40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EF7D1-F271-490C-8523-E7DB2D8B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2A751-33B5-4176-99A4-D71C6759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2D56B-A79F-4822-B363-21F583E0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6334B-E384-4CCE-958B-B672933A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2B2-73D5-47FC-B305-D33666E6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2731E-6CD2-47DF-982E-0048B713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4B483-F169-4B91-B66E-B39A5CF8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C4AB1-A88A-40C3-980B-6F582B9E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50AD0-C6A5-4178-B066-85FE6B92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C8345-8812-4456-83AE-8AE7EDA9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8CB84-654D-4693-BB3C-22BDAC2F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6A932-F3E0-457C-B86E-7FA71CEE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EA63D-4FCC-4C3F-A08C-4DE08A3F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4CD7A-DE67-49FD-AF43-32BB4AE7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0358E-8DCC-40D3-92F2-F213E71F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A7A-DFC6-461F-AE61-D0978EE0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230B7-08F9-4003-88E0-94B808063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529E5-4E97-431B-8B7B-EEEDBEDFA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70853-6969-4DFA-B09E-E624A2C4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32961-86C2-4EB2-B54F-99C0525D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F3341-2454-41CF-AABB-DA06A068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A2119-B38D-4BAD-B62E-25FF94AD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AE18B-DE5F-477B-99CD-C1B6C9EC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8E641-7B65-4F77-8EDA-51312B3A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CA866-FD2D-448C-B22D-5FF50FAD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1CC19-AAD7-462A-81F1-2074B508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9590-B371-4009-95D2-4D398975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569E1-60F6-4D5B-BBF7-DC5661E5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029DE-0746-4B0D-BDD4-FD75F139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72608-498B-4864-A0F5-E474C37A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588F0-EC68-4D92-B0C4-53B892316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557C0-CAE3-46D3-AB0B-04480A14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CD2DB-AB59-4BBC-AED4-2BE2E3C8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CCC61-EE99-4ACC-953F-247F7255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8C6AD-214A-47A2-A605-1503310D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12885-5A19-471E-8119-40FE670B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5C7935-E082-4E77-8FFC-6D65F476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1C26-3AB7-4345-820D-28AA6841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FF9EB-3572-4EA7-BD17-1EB695C1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97EED-05E1-44BB-9D5A-D6173B3E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093D3-E91D-45FB-9877-AADBCB52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353AA-611B-4EC3-B8A5-98EB5778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B964E-7445-46EB-AE28-D6D28A59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42D17C-4C76-4B97-BACA-AA6FA664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3B0DF-2761-4D1D-9FDE-EAD4AF0F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E3437-3D57-48D1-B0FD-5A5CA0F9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EB21BF-B949-41EB-853C-4C192D51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2BF0DA-46A2-4432-8C69-23FA9782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F790-08A1-4BA8-AC4C-4886FD3B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24C7B8-3E18-4508-9F6E-7B249E9C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7BB7C-BC38-4976-9D63-189045A5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86D48-C8DC-48BF-B9D4-EAA97A55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FDCDB-D80F-4AAA-B69B-D3915B99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D24C2-CC79-49AE-9783-D5694380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DD9066-85CF-442E-835D-AF4C9725F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3990B2-7E8F-4762-A5D2-BAD23CB9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718AE-BD4C-4480-8C79-F75AFEEF0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D63F93-6858-4C02-9DC1-32C8D671E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98422-CC65-4BE1-AE55-6A9F44FF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E39F-4586-40D0-9FCC-06FA4A3C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82899D-E69A-4543-9688-D56BCCEA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77F21-870D-4402-B928-C5C8F566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CC943-FB48-4C30-8C84-5EF49E7D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2FB74A-2E7C-4167-8FBE-F2383372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8CDAA5-410D-4418-86C7-9E68214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EE077-A700-4260-A669-96BFC814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6F85C3-EA19-41E2-990C-07C74810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EC6F8-C685-47A1-8B57-BA8F9F6D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D43350-5D8D-45CC-AC38-146E0319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DD86BC-183A-492D-8182-CA5A5027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690E-C871-4DB4-90E9-BAE3F2DA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DA063D-FCCA-4A7C-9A57-DF33694C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F32CEB-629D-4938-B79F-CED717CC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C9765-3C3C-4ACB-9D3A-07415958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1A2B7-40BD-423A-B69E-538A9FF5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103693-1351-4F8E-AD2D-960C0442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C2F85D-13E8-423E-9D4B-B722C168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A9616-DFC9-4FDD-BCEF-C106AEF8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049D6-6E96-4743-B459-DF9AFCE9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E8DB3-E324-4CA8-957D-49E848C6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967421-7541-430E-B651-358EE6B5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512D-D832-4698-AA65-75A57E80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20D1A6-243D-49DE-BFA7-7002A75B5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7EBFD9-6C43-4137-BDD9-A7FA0164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EC127E-5604-4EC1-9825-D375F25B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4E4C42-D6E9-48E3-B108-F392E9C8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376045-AE7D-470E-B70D-1CABAF6C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14E496-4D0A-4B04-8117-90CD465B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D590DA-AE03-42A2-8746-622D8D9B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811674-A2C6-4C98-81B6-1AD10141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DDE241-2A9C-475B-B263-6973D26E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7B723-4348-4B32-BF06-939E307C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996C-45DE-4C10-8539-1431D531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C6688-F089-4856-9039-686B4054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12F3BF-986E-475B-AA52-EE9906A4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976DB-A228-426D-AC42-8B7DDE8F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EF6-CF6E-4600-8011-4DBDB74C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7FB3-5B96-4236-9E09-A2FC348F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EE0A-1685-41A8-B270-BF1E5BB2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1BDC-0507-446C-8438-6F12DEF6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AE2E-A33F-4E8C-9055-BEC9CE9D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EE1E-E134-4433-AEBB-8612A486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E9675-BC7C-47C4-812C-516FCE0B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31931-6385-41CA-A563-48D49DA6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2D126-A609-43A0-A7BE-6575C86D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E2248-40E4-4C6D-AC46-BF4436DA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60AAE-56D0-4F49-9AF2-C30BD51F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400-C00C-4542-9951-BEFC3038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718F2-19CA-42C0-B98F-5E348ADF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1DCC4-56F6-4CD8-B8EC-FF091A1F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CAC05-5362-44EB-98AE-450CE39E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44010-A2EB-4621-971F-5AF579CE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E4C14-E15A-4EB3-B79E-32A4270C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EE949-1041-4E53-A310-46E682B1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41A3-1AD2-4684-B5EF-E8B08B16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A40A9-E269-426B-AB9B-00C9E428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01F79-AB51-4917-A50E-6D2E82FE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53B74-7A71-4E2E-8369-7BBF7F5A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0187-0C12-4091-86E9-B28F7D0F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61026-6340-4182-A7C7-C0DA6537B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A9903-3F3D-4B51-81BD-18D6A1BA8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B9073-3AC0-4333-B905-EEA1CE2A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5D47A-DFCF-4CC7-8B4B-BF5F3063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7AE4C-DD7C-419E-A7A3-3426CB87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ACA18-4117-4D30-B92E-66B12191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721C1-4EA5-4909-A8BC-A73735DE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A2F13-8D4F-487C-86F5-B3147C37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8DE45-B9EF-44E5-B91C-AE7F5102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4BEA0-291C-4A80-AF0A-99BDA4CA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1A5-922F-43B6-8117-14A201AF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32DF8-BFBD-4B4B-B163-384BEF94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3770F-1977-43E5-B90B-B7E3B35F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A2451-65D0-49C0-9A10-61497EE0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F3395-3C84-41F7-9024-CD71050C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7C6B9-E7D4-4200-9E58-0C2EC692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C0603-C780-43DD-86FC-C8ACDA45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68AEA-1C0D-4C0A-87F6-5169018C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65879-6C98-4973-8E78-25018947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6F928-5AED-4418-B194-E950E545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23796-8AB7-4705-A12B-C6FCFDDD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53D-8F30-4C0B-AB8E-172F41F8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1DACF-CE71-4114-BF64-317F4C88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073DF-09A5-4AC7-A09E-0C358A90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4CB42-B52E-4184-AA91-31726316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4B7B1-D9DD-45FE-AA78-29E52D7A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D373B-BE45-4BC5-AD60-6A9260D2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341C3-6892-4D5C-882E-E9897C33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72AEF-2675-4D0B-B363-A5046426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E588C-BED9-4980-A3EB-9228DEDC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B01E6-72B6-4BA3-8B9E-DF7A9424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FAE6F-EC9F-4C62-AB35-33531DD4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479A-0023-4023-9D27-16002B88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793D9-FC9C-4EBA-B9B2-1EB3DAE0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A275F-58A3-41C3-ADF9-4DE038480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56342-3530-47EA-A016-6DDA842C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22550-C986-4100-A5BC-5EB833FD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F215C-D6A9-4D52-9E69-F57AE649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DB29E-F000-458C-8F0A-0694EFBE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C8724-6EDE-4EB8-88B3-83EE85CE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E8699-14EF-4AF7-AD51-9F05C9F2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7A0A1-0F86-4446-A2CE-EE23A977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03391-9886-4704-BC37-19587D45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B67-9A53-4579-93EF-342B889C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4FC32-9C33-4708-8EA2-9952BD69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04BA9-711E-4A56-8FDB-186F5BF8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92D5C-84D7-43DB-B338-3112CB84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66B08-AA55-489D-A9C0-427E2D85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A0BAF-45FE-4968-94E3-8A45A0467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39C82-11DB-40F4-826B-240F688B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DC32B-1889-46DD-AE10-CD66F153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22ADF-D62F-4B5C-BC36-672D0A97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08157-8FD6-4B57-8EAB-8D9D71CE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81156-2B21-464E-AFB2-60A4C090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B08-E7EA-4280-B88A-D565368C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10422-72FC-4B35-8D4A-105BD748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0F82E-94CD-442F-AAF9-25E18200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66F28-B11B-4281-8993-D10FBF24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96B20-3C9C-4061-BDC9-9BA08B66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1DD92-0242-4BF1-A050-FFCD5B69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B5818-1836-47C0-AC23-9604B365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69454-FA96-478A-8F20-422E6E7A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A6634-5CA3-4CCC-90DB-7EEB23A3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77D59-5645-4ACC-8727-C0C64492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AE161-858D-415F-8BF3-C79FAC7C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BAD9-F0FE-4F53-ABD8-21C6C56C0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8821-2310-4A26-B330-E8BF6B05E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FCC2-1424-4F81-AF24-3A6D39216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8235-51CF-42ED-AD41-8035E2FE2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3D8A-C58D-411D-B1C0-CB2E2A2F9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BB45-7562-422E-A0BB-BBAB3A614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48C3-BE5C-41E6-8026-5CBDEC364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F6FA-0EAD-403C-84F8-819BDE28E53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DBB9-B762-40F6-A659-826C036F838F}" type="slidenum">
              <a:rPr b="0" lang="en-US" sz="1400" spc="-1" strike="noStrike">
                <a:solidFill>
                  <a:srgbClr val="1c1c1c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5AB3-5201-4ACE-A51D-355A90B41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4F14-77DB-4C7B-AA91-985078CFC5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AC00-FEDF-4B66-B411-CD926F7F5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4124-F958-446D-BFF8-0688D27C8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357B-05C6-4B73-BA82-573CAFE4D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F9F3-CA15-49E1-B949-6C0D2E73C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7E53-DA40-4793-9854-AB52AA5387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1"/>
          <p:cNvSpPr/>
          <p:nvPr/>
        </p:nvSpPr>
        <p:spPr>
          <a:xfrm>
            <a:off x="2057400" y="160020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arasitic Helminth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rthropod  Agents and Vectors of Diseas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-360" y="52574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Taenia saginata Example of a tapeworm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94" name="Picture 3" descr="Taenia_saginataL"/>
          <p:cNvPicPr/>
          <p:nvPr/>
        </p:nvPicPr>
        <p:blipFill>
          <a:blip r:embed="rId1"/>
          <a:stretch/>
        </p:blipFill>
        <p:spPr>
          <a:xfrm>
            <a:off x="4572000" y="533520"/>
            <a:ext cx="3949560" cy="26413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" descr="Taenia_saginataK"/>
          <p:cNvPicPr/>
          <p:nvPr/>
        </p:nvPicPr>
        <p:blipFill>
          <a:blip r:embed="rId2"/>
          <a:stretch/>
        </p:blipFill>
        <p:spPr>
          <a:xfrm>
            <a:off x="762120" y="533520"/>
            <a:ext cx="3759120" cy="270504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5" descr="Taenia_saginataH_v2"/>
          <p:cNvPicPr/>
          <p:nvPr/>
        </p:nvPicPr>
        <p:blipFill>
          <a:blip r:embed="rId3"/>
          <a:stretch/>
        </p:blipFill>
        <p:spPr>
          <a:xfrm>
            <a:off x="2743200" y="3352680"/>
            <a:ext cx="1854360" cy="18543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" descr="tae3"/>
          <p:cNvPicPr/>
          <p:nvPr/>
        </p:nvPicPr>
        <p:blipFill>
          <a:blip r:embed="rId4"/>
          <a:stretch/>
        </p:blipFill>
        <p:spPr>
          <a:xfrm>
            <a:off x="6553080" y="3276720"/>
            <a:ext cx="2016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DICAL IMPORTANCE OF ARTHROPO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)As aetiologic agents (causes) of dis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ssue dam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ction of hypersensitivity reaction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jection of poi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omophobia (acarophobi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) As vectors of diseas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: Mechanical transmission - simple carriage of pathoge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: Biological transmiss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yclica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ropa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yclopropagat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II: Transovarian transmis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scabies1"/>
          <p:cNvPicPr/>
          <p:nvPr/>
        </p:nvPicPr>
        <p:blipFill>
          <a:blip r:embed="rId1"/>
          <a:stretch/>
        </p:blipFill>
        <p:spPr>
          <a:xfrm>
            <a:off x="838080" y="1066680"/>
            <a:ext cx="4673880" cy="3505320"/>
          </a:xfrm>
          <a:prstGeom prst="rect">
            <a:avLst/>
          </a:prstGeom>
          <a:ln w="0">
            <a:noFill/>
          </a:ln>
        </p:spPr>
      </p:pic>
      <p:sp>
        <p:nvSpPr>
          <p:cNvPr id="701" name="Rectangle 4"/>
          <p:cNvSpPr/>
          <p:nvPr/>
        </p:nvSpPr>
        <p:spPr>
          <a:xfrm>
            <a:off x="457920" y="38088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b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2" name="Picture 2" descr="biopara-scabies"/>
          <p:cNvPicPr/>
          <p:nvPr/>
        </p:nvPicPr>
        <p:blipFill>
          <a:blip r:embed="rId2"/>
          <a:stretch/>
        </p:blipFill>
        <p:spPr>
          <a:xfrm>
            <a:off x="5562720" y="1905120"/>
            <a:ext cx="33526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2" descr="biopara-scabies"/>
          <p:cNvPicPr/>
          <p:nvPr/>
        </p:nvPicPr>
        <p:blipFill>
          <a:blip r:embed="rId1"/>
          <a:stretch/>
        </p:blipFill>
        <p:spPr>
          <a:xfrm>
            <a:off x="5410080" y="2743200"/>
            <a:ext cx="3353040" cy="23464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3"/>
          <p:cNvSpPr/>
          <p:nvPr/>
        </p:nvSpPr>
        <p:spPr>
          <a:xfrm>
            <a:off x="720" y="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b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Object 2"/>
          <p:cNvGraphicFramePr/>
          <p:nvPr/>
        </p:nvGraphicFramePr>
        <p:xfrm>
          <a:off x="428760" y="214200"/>
          <a:ext cx="8215200" cy="648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4200"/>
                    <a:ext cx="8215200" cy="648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mportant arthropod vectors for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uman disea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685800" y="1981080"/>
          <a:ext cx="7772400" cy="4448160"/>
        </p:xfrm>
        <a:graphic>
          <a:graphicData uri="http://schemas.openxmlformats.org/drawingml/2006/table">
            <a:tbl>
              <a:tblPr/>
              <a:tblGrid>
                <a:gridCol w="2957400"/>
                <a:gridCol w="4815000"/>
              </a:tblGrid>
              <a:tr h="42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 fly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Musca domest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chanical transmission of  many viruses, bacteria and parasit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squitoes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بعو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pheles :malaria filariasis Culex: filariasis, viruses                Aedes: yellow fever, dengue fever, Rift Valley Fe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ce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قمل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dy louse: vector for: Relapsing fever, typhus and trench feve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eas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براغيث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 flea is vector for plague due to Yersinia pesti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cks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لقراد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ft ticks , some are vestors for : Borrela duttoni         Hard ticks Include vectors for Babesiosis (protozoa), Q fever, and Rocky mountain spotted fever 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se tse fly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Glossina) 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ذبابة التس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African Trynanosomiasis (African sleeping sicknes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ack fly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Simulium)</a:t>
                      </a:r>
                      <a:r>
                        <a:rPr b="1" i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ا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لذبابة السوداء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i="1" lang="ar-SA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Onchocerca (river blindnes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d fly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hlebotomus) 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Arial"/>
                          <a:cs typeface="Arial"/>
                        </a:rPr>
                        <a:t>ذبابة الرمل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s for leishmania and sandfly fever viru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yclo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ctor for Dracunculus medinen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1" descr="louse384.jpg"/>
          <p:cNvPicPr/>
          <p:nvPr/>
        </p:nvPicPr>
        <p:blipFill>
          <a:blip r:embed="rId1"/>
          <a:stretch/>
        </p:blipFill>
        <p:spPr>
          <a:xfrm>
            <a:off x="1714680" y="2786040"/>
            <a:ext cx="5286240" cy="3386160"/>
          </a:xfrm>
          <a:prstGeom prst="rect">
            <a:avLst/>
          </a:prstGeom>
          <a:ln w="0">
            <a:noFill/>
          </a:ln>
        </p:spPr>
      </p:pic>
      <p:sp>
        <p:nvSpPr>
          <p:cNvPr id="710" name="Rectangle 2"/>
          <p:cNvSpPr/>
          <p:nvPr/>
        </p:nvSpPr>
        <p:spPr>
          <a:xfrm>
            <a:off x="3568680" y="42876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2012400" y="92880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use(singular) , Lice (pleur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0" y="1357200"/>
            <a:ext cx="84582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Pediculus humanu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Ae_albo_30Ap01_P4300281"/>
          <p:cNvPicPr/>
          <p:nvPr/>
        </p:nvPicPr>
        <p:blipFill>
          <a:blip r:embed="rId1"/>
          <a:stretch/>
        </p:blipFill>
        <p:spPr>
          <a:xfrm>
            <a:off x="5943600" y="457200"/>
            <a:ext cx="2338560" cy="18241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3" descr="Ae_albo_Pb230730"/>
          <p:cNvPicPr/>
          <p:nvPr/>
        </p:nvPicPr>
        <p:blipFill>
          <a:blip r:embed="rId2"/>
          <a:stretch/>
        </p:blipFill>
        <p:spPr>
          <a:xfrm>
            <a:off x="3886200" y="533520"/>
            <a:ext cx="1560600" cy="1228680"/>
          </a:xfrm>
          <a:prstGeom prst="rect">
            <a:avLst/>
          </a:prstGeom>
          <a:ln w="0">
            <a:noFill/>
          </a:ln>
        </p:spPr>
      </p:pic>
      <p:sp>
        <p:nvSpPr>
          <p:cNvPr id="715" name="Text Box 4"/>
          <p:cNvSpPr/>
          <p:nvPr/>
        </p:nvSpPr>
        <p:spPr>
          <a:xfrm>
            <a:off x="457200" y="4572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Mosquitoes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533520" y="1371600"/>
            <a:ext cx="3276360" cy="63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mopolitan , more than 3000 spec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val and pupal stages always aqua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th parts in female adapted to piercing and sucking bl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us and species distinguished by morphology of adult and deveopmetal stag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7" name="Picture 6" descr="mosquito2"/>
          <p:cNvPicPr/>
          <p:nvPr/>
        </p:nvPicPr>
        <p:blipFill>
          <a:blip r:embed="rId3"/>
          <a:stretch/>
        </p:blipFill>
        <p:spPr>
          <a:xfrm>
            <a:off x="5029200" y="2514600"/>
            <a:ext cx="30700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sandfly2"/>
          <p:cNvPicPr/>
          <p:nvPr/>
        </p:nvPicPr>
        <p:blipFill>
          <a:blip r:embed="rId1"/>
          <a:stretch/>
        </p:blipFill>
        <p:spPr>
          <a:xfrm>
            <a:off x="1447920" y="914400"/>
            <a:ext cx="3039840" cy="26179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sandfly3"/>
          <p:cNvPicPr/>
          <p:nvPr/>
        </p:nvPicPr>
        <p:blipFill>
          <a:blip r:embed="rId2"/>
          <a:stretch/>
        </p:blipFill>
        <p:spPr>
          <a:xfrm>
            <a:off x="4876920" y="1295280"/>
            <a:ext cx="3200400" cy="270684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4" descr="Sandfly4"/>
          <p:cNvPicPr/>
          <p:nvPr/>
        </p:nvPicPr>
        <p:blipFill>
          <a:blip r:embed="rId3"/>
          <a:stretch/>
        </p:blipFill>
        <p:spPr>
          <a:xfrm>
            <a:off x="4876920" y="4114800"/>
            <a:ext cx="3352680" cy="249696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5" descr="sandflyreserve1"/>
          <p:cNvPicPr/>
          <p:nvPr/>
        </p:nvPicPr>
        <p:blipFill>
          <a:blip r:embed="rId4"/>
          <a:stretch/>
        </p:blipFill>
        <p:spPr>
          <a:xfrm>
            <a:off x="838080" y="38862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722" name="Rectangle 6"/>
          <p:cNvSpPr/>
          <p:nvPr/>
        </p:nvSpPr>
        <p:spPr>
          <a:xfrm>
            <a:off x="1066680" y="3808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hlebotomu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 sand fly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1"/>
          <p:cNvSpPr/>
          <p:nvPr/>
        </p:nvSpPr>
        <p:spPr>
          <a:xfrm>
            <a:off x="45720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sitic Helminth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ropod  Agents and Vectors of Diseas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Rectangle 2"/>
          <p:cNvSpPr/>
          <p:nvPr/>
        </p:nvSpPr>
        <p:spPr>
          <a:xfrm>
            <a:off x="914400" y="2074680"/>
            <a:ext cx="7391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 the end of this lecture the student should be able to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ame the three main groups of parasitic helminths and their characteristic  morphological features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cribe the life cycle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scaris lumbricoide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s an example of parasitic heminths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cuss the role of arthropods as agents and as vectors of diseases  in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ive examples of the main arthropod vectors of dise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0" y="1066680"/>
          <a:ext cx="9144000" cy="5410440"/>
        </p:xfrm>
        <a:graphic>
          <a:graphicData uri="http://schemas.openxmlformats.org/drawingml/2006/table">
            <a:tbl>
              <a:tblPr/>
              <a:tblGrid>
                <a:gridCol w="4514760"/>
                <a:gridCol w="462924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oz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lminth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gle cell for all 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icellu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ecialized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403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moeba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e by psudobodi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lagellat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e by flagell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Ciliates 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e by cili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Apicomplex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sporozoa) Tissue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asi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Round worm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Nematodes) cylindrical,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segmen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Flat w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-Trematod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f-like, unsegmen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-Cestode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pe-like, segmen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Text Box 38"/>
          <p:cNvSpPr/>
          <p:nvPr/>
        </p:nvSpPr>
        <p:spPr>
          <a:xfrm>
            <a:off x="609480" y="457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assification of Parasi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Location of helminths in the body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Tahoma"/>
              </a:rPr>
              <a:t>Intestinal helminth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cc"/>
                </a:solidFill>
                <a:uFillTx/>
                <a:latin typeface="Tahoma"/>
              </a:rPr>
              <a:t>Tissue helminth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7200" y="7315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</a:t>
            </a:r>
            <a:r>
              <a:rPr b="1" lang="en-US" sz="4400" spc="-1" strike="noStrike">
                <a:solidFill>
                  <a:srgbClr val="cc0066"/>
                </a:solidFill>
                <a:latin typeface="Tahoma"/>
              </a:rPr>
              <a:t>Nematod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99"/>
                </a:solidFill>
                <a:latin typeface="Tahoma"/>
              </a:rPr>
              <a:t>General features</a:t>
            </a:r>
            <a:r>
              <a:rPr b="1" lang="en-US" sz="32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ongated worm, cylindrical, unsegmented and tapering at both e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 in size, measure &lt;1 cm to  about 100cm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x separate and male is smaller than fem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1" name="Picture 5" descr="untitled"/>
          <p:cNvPicPr/>
          <p:nvPr/>
        </p:nvPicPr>
        <p:blipFill>
          <a:blip r:embed="rId1"/>
          <a:stretch/>
        </p:blipFill>
        <p:spPr>
          <a:xfrm>
            <a:off x="2895480" y="4419720"/>
            <a:ext cx="297180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4" descr="Ascarisalumbmf"/>
          <p:cNvPicPr/>
          <p:nvPr/>
        </p:nvPicPr>
        <p:blipFill>
          <a:blip r:embed="rId1"/>
          <a:stretch/>
        </p:blipFill>
        <p:spPr>
          <a:xfrm>
            <a:off x="1371600" y="1219320"/>
            <a:ext cx="6426360" cy="464796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7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ahoma"/>
              </a:rPr>
              <a:t>Ascaris lumbricoides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                  (roundworm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-360" y="1676520"/>
            <a:ext cx="67057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monest human helminthes inf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nd in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 jejunum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upper part of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ile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male 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± 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m longer than male </a:t>
            </a:r>
            <a:r>
              <a:rPr b="1" lang="en-US" sz="2400" spc="-1" strike="noStrike">
                <a:solidFill>
                  <a:srgbClr val="cc0066"/>
                </a:solidFill>
                <a:latin typeface="Tahoma"/>
              </a:rPr>
              <a:t>± 10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 on semi digested fo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Text Box 1028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ahoma"/>
              </a:rPr>
              <a:t>Ascaris lumbricoides</a:t>
            </a: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                        (roundworm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6" name="Picture 1029" descr="1Ascaris_adultK"/>
          <p:cNvPicPr/>
          <p:nvPr/>
        </p:nvPicPr>
        <p:blipFill>
          <a:blip r:embed="rId1"/>
          <a:stretch/>
        </p:blipFill>
        <p:spPr>
          <a:xfrm>
            <a:off x="4419720" y="3124080"/>
            <a:ext cx="419076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8" name="Rectangle 3"/>
          <p:cNvSpPr/>
          <p:nvPr/>
        </p:nvSpPr>
        <p:spPr>
          <a:xfrm>
            <a:off x="1066680" y="0"/>
            <a:ext cx="6510600" cy="662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2514600" y="5943600"/>
            <a:ext cx="373392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caris lumbricoi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2" descr="Fisiolahepatica-cow"/>
          <p:cNvPicPr/>
          <p:nvPr/>
        </p:nvPicPr>
        <p:blipFill>
          <a:blip r:embed="rId1"/>
          <a:stretch/>
        </p:blipFill>
        <p:spPr>
          <a:xfrm>
            <a:off x="0" y="428760"/>
            <a:ext cx="8763120" cy="584172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2" descr="Fisiolahepatica-cow"/>
          <p:cNvPicPr/>
          <p:nvPr/>
        </p:nvPicPr>
        <p:blipFill>
          <a:blip r:embed="rId2"/>
          <a:stretch/>
        </p:blipFill>
        <p:spPr>
          <a:xfrm>
            <a:off x="214200" y="500040"/>
            <a:ext cx="8763120" cy="58420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4"/>
          <p:cNvSpPr/>
          <p:nvPr/>
        </p:nvSpPr>
        <p:spPr>
          <a:xfrm>
            <a:off x="1000080" y="4143240"/>
            <a:ext cx="77439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Black"/>
              </a:rPr>
              <a:t>The Trematod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14:58:24Z</dcterms:created>
  <dc:creator>Prof.Adeel</dc:creator>
  <dc:description/>
  <dc:language>en-US</dc:language>
  <cp:lastModifiedBy>Ahmed</cp:lastModifiedBy>
  <dcterms:modified xsi:type="dcterms:W3CDTF">2015-10-25T13:31:20Z</dcterms:modified>
  <cp:revision>67</cp:revision>
  <dc:subject/>
  <dc:title>Photo Album</dc:title>
</cp:coreProperties>
</file>