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371-AD88-4BEB-A276-1BF5AA4B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8EC-3985-4E6D-8AA6-FCA68AF4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D04C-53ED-4129-A4C3-33CC22CF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65DB-4F1D-4096-929E-F7A56537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251-9E0E-4386-8DB8-179138D7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3433-E953-4CE7-A7B1-A82C3451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9FE7-1BD3-49D6-BF6B-9E17423E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E8A6-66DF-40CB-9154-41C0512D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0FCA-2E52-4BC2-918B-FE00EE51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55F7-121D-4136-8A18-C1049288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24AC-9F9C-4F3E-A5CC-47D64B11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5640-6EA4-40F1-80E6-FEECB1A1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D888-AC90-4204-B793-B3CC81D8722B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cornellbiochem.wikispaces.com/file/view/Amoxicillin_rash_11_hours_after_17th_dose.jpg/104620279/Amoxicillin_rash_11_hours_after_17th_dose.jpg&amp;imgrefurl=http://cornellbiochem.wikispaces.com/Amoxicillin&amp;usg=__yBpVuwCPabfgJc5beIqkx-ishCE=&amp;h=1051&amp;w=740&amp;sz=320&amp;hl=en&amp;start=15&amp;zoom=1&amp;tbnid=qVixmTjN81DSXM:&amp;tbnh=150&amp;tbnw=106&amp;prev=/images%3Fq%3Dallergy%2Bto%2Bpenicillin%26hl%3Den%26safe%3Dactive%26sa%3DG%26gbv%3D2%26tbs%3Disch:1&amp;itbs=1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image+of+antibiotics/v=2/SID=e/l=II/R=1/SS=i/OID=965afcd7f98c3f4e/;_ylt=A9ibyGX4DR1Ej.kASeaJzbkF;_ylu=X3oDMTBjMHZkMjZyBHBvcwMxBHNlYwNzcg--/SIG=1ebm3hq53/EXP=1142841208/*-http%3A//images.search.yahoo.com/search/images/view?back=http%3A%2F%2Fimages.search.yahoo.com%2Fsearch%2Fimages%3Fp%3Dimage%2Bof%2Bantibiotics%26ei%3DUTF-8%26fr%3DFP-tab-web-t%26x%3Dwrt&amp;w=150&amp;h=137&amp;imgurl=images.familyhealth.com.au%2Fbranding%2Fdc%2Fnewsletter%2F2002-07-16%2Fantibiotics.jpg&amp;rurl=http%3A%2F%2Fwww.dietclub.com.au%2Farchive%2F2002-07-16&amp;size=8.2kB&amp;name=antibiotics.jpg&amp;p=image+of+antibiotics&amp;type=jpeg&amp;no=1&amp;tt=16,921&amp;ei=UTF-8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ds.yahoo.com/S=96062857/K=image+of+antibiotics/v=2/SID=e/l=II/R=4/SS=i/OID=75c4220f30067f94/;_ylt=A9ibyGX4DR1Ej.kATOaJzbkF;_ylu=X3oDMTBjb3ZrYjNkBHBvcwM0BHNlYwNzcg--/SIG=1f3gg80oa/EXP=1142841208/*-http%3A//images.search.yahoo.com/search/images/view?back=http%3A%2F%2Fimages.search.yahoo.com%2Fsearch%2Fimages%3Fp%3Dimage%2Bof%2Bantibiotics%26ei%3DUTF-8%26fr%3DFP-tab-web-t%26x%3Dwrt&amp;w=640&amp;h=480&amp;imgurl=web.princeton.edu%2Fsites%2Fehs%2Fbiosafety%2Fanimalworker%2Fpics%2Fantibiotics.jpg&amp;rurl=http%3A%2F%2Fwww.princeton.edu%2Fsites%2Fehs%2Fbiosafety%2Fanimalworker%2Fpg2.htm&amp;size=69.4kB&amp;name=antibiotics.jpg&amp;p=image+of+antibiotics&amp;type=jpeg&amp;no=4&amp;tt=16,921&amp;ei=UTF-8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ANTIBIOTICS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FOUNDATION BLO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Prof. </a:t>
            </a:r>
            <a:r>
              <a:rPr b="1" i="1" lang="en-US" sz="2000" spc="-1" strike="noStrike">
                <a:solidFill>
                  <a:srgbClr val="898989"/>
                </a:solidFill>
                <a:latin typeface="Calibri"/>
              </a:rPr>
              <a:t>Hanan Habib &amp; Dr.Ali Somi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Department of Path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98989"/>
                </a:solidFill>
                <a:latin typeface="Calibri"/>
              </a:rPr>
              <a:t>KKUH, KS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ergy &amp; Anaphylax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ttp://t1.gstatic.com/images?q=tbn:qVixmTjN81DSXM:http://cornellbiochem.wikispaces.com/file/view/Amoxicillin_rash_11_hours_after_17th_dose.jpg/104620279/Amoxicillin_rash_11_hours_after_17th_dos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2349360"/>
            <a:ext cx="3456000" cy="3095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t1.gstatic.com/images?q=tbn:YTqlLAzL3zcW6M:http://www.back2life.co.uk/images/anaphylaxis.jpg"/>
          <p:cNvPicPr/>
          <p:nvPr/>
        </p:nvPicPr>
        <p:blipFill>
          <a:blip r:embed="rId3"/>
          <a:stretch/>
        </p:blipFill>
        <p:spPr>
          <a:xfrm>
            <a:off x="5292720" y="2349360"/>
            <a:ext cx="2303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028"/>
          <p:cNvSpPr/>
          <p:nvPr/>
        </p:nvSpPr>
        <p:spPr>
          <a:xfrm>
            <a:off x="5334120" y="426708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29" descr="~AUT0001"/>
          <p:cNvPicPr/>
          <p:nvPr/>
        </p:nvPicPr>
        <p:blipFill>
          <a:blip r:embed="rId1"/>
          <a:stretch/>
        </p:blipFill>
        <p:spPr>
          <a:xfrm>
            <a:off x="1908000" y="0"/>
            <a:ext cx="503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Penicill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99"/>
                </a:solidFill>
                <a:latin typeface="Calibri"/>
              </a:rPr>
              <a:t>  </a:t>
            </a:r>
            <a:r>
              <a:rPr b="1" i="1" lang="en-US" sz="2800" spc="-1" strike="noStrike">
                <a:solidFill>
                  <a:srgbClr val="ff3399"/>
                </a:solidFill>
                <a:latin typeface="Calibri"/>
              </a:rPr>
              <a:t>Benzyl penicillin</a:t>
            </a:r>
            <a:r>
              <a:rPr b="1" i="1" lang="en-US" sz="28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i="1" lang="en-US" sz="2800" spc="-1" strike="noStrike">
                <a:solidFill>
                  <a:srgbClr val="ffff99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s</a:t>
            </a:r>
            <a:r>
              <a:rPr b="1" i="1" lang="en-US" sz="28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ly</a:t>
            </a:r>
            <a:r>
              <a:rPr b="0" lang="en-US" sz="2800" spc="-1" strike="noStrike">
                <a:solidFill>
                  <a:srgbClr val="ffff99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Gram positive bacteria, exampl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99"/>
                </a:solidFill>
                <a:latin typeface="Calibri"/>
              </a:rPr>
              <a:t>  </a:t>
            </a:r>
            <a:r>
              <a:rPr b="1" i="1" lang="en-US" sz="2800" spc="-1" strike="noStrike">
                <a:solidFill>
                  <a:srgbClr val="ffff99"/>
                </a:solidFill>
                <a:latin typeface="Calibri"/>
              </a:rPr>
              <a:t>-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Penicillin V ,Procaine penicillin &amp; Benzathine penicill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99"/>
                </a:solidFill>
                <a:latin typeface="Calibri"/>
              </a:rPr>
              <a:t>    </a:t>
            </a:r>
            <a:r>
              <a:rPr b="1" i="1" lang="en-US" sz="2800" spc="-1" strike="noStrike">
                <a:solidFill>
                  <a:srgbClr val="ff3399"/>
                </a:solidFill>
                <a:latin typeface="Calibri"/>
              </a:rPr>
              <a:t>Isoxazolyl penicilli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Cloxacillin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effective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aphylococcus aure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ff3399"/>
                </a:solidFill>
                <a:latin typeface="Calibri"/>
              </a:rPr>
              <a:t>Amino-penicillins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: 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mpicill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effective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nterobacteri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ff3399"/>
                </a:solidFill>
                <a:latin typeface="Calibri"/>
              </a:rPr>
              <a:t>Acylaminopenicilli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Piperacill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mezlocillin-effective 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seudomon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CEPHALOSPOR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880" y="1676160"/>
            <a:ext cx="4114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b050"/>
                </a:solidFill>
                <a:uFillTx/>
                <a:latin typeface="Calibri"/>
              </a:rPr>
              <a:t>First  Generation</a:t>
            </a:r>
            <a:r>
              <a:rPr b="1" i="1" lang="en-US" sz="2200" spc="-1" strike="noStrike" u="sng">
                <a:solidFill>
                  <a:srgbClr val="ffff99"/>
                </a:solidFill>
                <a:uFillTx/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Calibri"/>
              </a:rPr>
              <a:t>Cephradin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Calibri"/>
              </a:rPr>
              <a:t>Ceohalex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b050"/>
                </a:solidFill>
                <a:uFillTx/>
                <a:latin typeface="Calibri"/>
              </a:rPr>
              <a:t>Second genera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Calibri"/>
              </a:rPr>
              <a:t>Cefuroxim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ephamycin</a:t>
            </a:r>
            <a:r>
              <a:rPr b="1" lang="en-US" sz="2200" spc="-1" strike="noStrike">
                <a:solidFill>
                  <a:srgbClr val="ff3399"/>
                </a:solidFill>
                <a:latin typeface="Calibri"/>
              </a:rPr>
              <a:t> (Cefoxit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b050"/>
                </a:solidFill>
                <a:uFillTx/>
                <a:latin typeface="Calibri"/>
              </a:rPr>
              <a:t>Third generation</a:t>
            </a:r>
            <a:r>
              <a:rPr b="1" lang="en-US" sz="2200" spc="-1" strike="noStrike" u="sng">
                <a:solidFill>
                  <a:srgbClr val="00b050"/>
                </a:solidFill>
                <a:uFillTx/>
                <a:latin typeface="Calibri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expanded spectru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7960" y="1981080"/>
            <a:ext cx="38098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Calibri"/>
              </a:rPr>
              <a:t>eg. of third generation:     Ceftriax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Calibri"/>
              </a:rPr>
              <a:t>       </a:t>
            </a:r>
            <a:r>
              <a:rPr b="1" lang="en-US" sz="2200" spc="-1" strike="noStrike">
                <a:solidFill>
                  <a:srgbClr val="ff3399"/>
                </a:solidFill>
                <a:latin typeface="Calibri"/>
              </a:rPr>
              <a:t>Ceftazid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b050"/>
                </a:solidFill>
                <a:uFillTx/>
                <a:latin typeface="Calibri"/>
              </a:rPr>
              <a:t>Fourth genera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Calibri"/>
              </a:rPr>
              <a:t>      </a:t>
            </a:r>
            <a:r>
              <a:rPr b="1" lang="en-US" sz="2200" spc="-1" strike="noStrike">
                <a:solidFill>
                  <a:srgbClr val="ff3399"/>
                </a:solidFill>
                <a:latin typeface="Calibri"/>
              </a:rPr>
              <a:t>Cefepi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Calibri"/>
              </a:rPr>
              <a:t>      </a:t>
            </a:r>
            <a:r>
              <a:rPr b="1" lang="en-US" sz="2200" spc="-1" strike="noStrike">
                <a:solidFill>
                  <a:srgbClr val="ff3399"/>
                </a:solidFill>
                <a:latin typeface="Calibri"/>
              </a:rPr>
              <a:t>Cefexime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VANCOMYC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ycopeptides, inhibit cell wall synthe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tericidal . Acts on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Gram positive bacteria only ( </a:t>
            </a:r>
            <a:r>
              <a:rPr b="1" i="1" lang="en-US" sz="2400" spc="-1" strike="noStrike">
                <a:solidFill>
                  <a:srgbClr val="ff3399"/>
                </a:solidFill>
                <a:latin typeface="Calibri"/>
              </a:rPr>
              <a:t>narrow spectrum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by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inj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n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for  </a:t>
            </a: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methicillin resistant </a:t>
            </a:r>
            <a:r>
              <a:rPr b="0" i="1" lang="en-US" sz="2400" spc="-1" strike="noStrike">
                <a:solidFill>
                  <a:srgbClr val="800080"/>
                </a:solidFill>
                <a:latin typeface="Calibri"/>
              </a:rPr>
              <a:t>S.aureus </a:t>
            </a: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systemic infections (MRSA) ,  emperical treatment of Gram positive infections &amp; pseudomembranous colit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alibri"/>
              </a:rPr>
              <a:t>Side effec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 man syndrome , phlebitis,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ephrotoxic &amp; ototox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NTIBIOTICS THAT ALTER CELL MEMBRA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3160" y="15235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Polymyxin B and Colis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Polymyxin B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: a Peptide active against Gram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negative bacteria onl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ctericid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ly used </a:t>
            </a:r>
            <a:r>
              <a:rPr b="1" i="1" lang="en-US" sz="2400" spc="-1" strike="noStrike">
                <a:solidFill>
                  <a:srgbClr val="800080"/>
                </a:solidFill>
                <a:latin typeface="Calibri"/>
              </a:rPr>
              <a:t>locall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due to serious </a:t>
            </a: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nephrotoxicit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used systemical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Colist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used for the treatment of multi-resistant organisms (MRO) such as ;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seudomona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cinetobact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e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NTIBIOTICS  THAT INHIBIT PROTIEN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MINOGLYCOS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TRACYC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LORAMPHENIC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ROL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Calibri"/>
              </a:rPr>
              <a:t>AMINOGLYCOSIDES</a:t>
            </a:r>
            <a:br>
              <a:rPr sz="40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3160" y="129492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tericid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s only on </a:t>
            </a:r>
            <a:r>
              <a:rPr b="0" lang="en-US" sz="3200" spc="-1" strike="noStrike">
                <a:solidFill>
                  <a:srgbClr val="ff3399"/>
                </a:solidFill>
                <a:latin typeface="Calibri"/>
              </a:rPr>
              <a:t>Gram negative bacteria( </a:t>
            </a:r>
            <a:r>
              <a:rPr b="0" i="1" lang="en-US" sz="3200" spc="-1" strike="noStrike">
                <a:solidFill>
                  <a:srgbClr val="ff3399"/>
                </a:solidFill>
                <a:latin typeface="Calibri"/>
              </a:rPr>
              <a:t>narrow spectrum</a:t>
            </a:r>
            <a:r>
              <a:rPr b="0" lang="en-US" sz="3200" spc="-1" strike="noStrike">
                <a:solidFill>
                  <a:srgbClr val="ff3399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</a:rPr>
              <a:t>Streptococci &amp; anaerobes are naturally resi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 Gentamicin ,Amikacin , Neomycin 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by </a:t>
            </a:r>
            <a:r>
              <a:rPr b="0" lang="en-US" sz="3200" spc="-1" strike="noStrike">
                <a:solidFill>
                  <a:srgbClr val="ff3399"/>
                </a:solidFill>
                <a:latin typeface="Calibri"/>
              </a:rPr>
              <a:t>injec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alibri"/>
              </a:rPr>
              <a:t>Side effects :Nephrotoxic &amp; Ototox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- dose rel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Calibri"/>
              </a:rPr>
              <a:t>TETRACYCLINES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4920" y="14479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ad spectrum , bacteriostatic, not used for children under 8 yrs. or pregnant women. Oral absorp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ective for Intracellular organisms eg. </a:t>
            </a:r>
            <a:r>
              <a:rPr b="0" i="1" lang="en-US" sz="2800" spc="-1" strike="noStrike">
                <a:solidFill>
                  <a:srgbClr val="ff3399"/>
                </a:solidFill>
                <a:latin typeface="Calibri"/>
              </a:rPr>
              <a:t>Mycoplasma, Chlamydia ,Brucell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lso for </a:t>
            </a:r>
            <a:r>
              <a:rPr b="0" i="1" lang="en-US" sz="2800" spc="-1" strike="noStrike">
                <a:solidFill>
                  <a:srgbClr val="ff3399"/>
                </a:solidFill>
                <a:latin typeface="Calibri"/>
              </a:rPr>
              <a:t>V</a:t>
            </a:r>
            <a:r>
              <a:rPr b="0" lang="en-US" sz="2800" spc="-1" strike="noStrike">
                <a:solidFill>
                  <a:srgbClr val="ff3399"/>
                </a:solidFill>
                <a:latin typeface="Calibri"/>
              </a:rPr>
              <a:t>. </a:t>
            </a:r>
            <a:r>
              <a:rPr b="0" i="1" lang="en-US" sz="2800" spc="-1" strike="noStrike">
                <a:solidFill>
                  <a:srgbClr val="ff3399"/>
                </a:solidFill>
                <a:latin typeface="Calibri"/>
              </a:rPr>
              <a:t>cholera  &amp; Nocar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b0f0"/>
                </a:solidFill>
                <a:uFillTx/>
                <a:latin typeface="Calibri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 acting:   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Tetracyc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acting:   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Minocycline , Doxycycline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 good CSF penetratio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etracycline : 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Tigycycline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( covers MRSA,MSSA, some Gram negative bacteria  and anaerob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ide effect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manent teeth discoloration , GIT disturb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CHLORAMPHENI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ad spectrum &amp; bactericid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Side effects : it affects bone marrow cells and cause aplastic 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only for severe infections not responding to treatment by other antimicrobials , also for the treatment of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Rickettsi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iseas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also </a:t>
            </a:r>
            <a:r>
              <a:rPr b="0" i="1" lang="en-US" sz="3200" spc="-1" strike="noStrike">
                <a:solidFill>
                  <a:srgbClr val="c00000"/>
                </a:solidFill>
                <a:latin typeface="Calibri"/>
              </a:rPr>
              <a:t>topicall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eye and ear infe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ntique Olive"/>
              </a:rPr>
              <a:t>ANTIMICROBIAL AG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NTIBIO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alibri"/>
              </a:rPr>
              <a:t>Natural compoun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roduced by microorganism  which inhibit the growth of other microorganism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CHEM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alibri"/>
              </a:rPr>
              <a:t>Synthetic compoun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together are </a:t>
            </a: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Antimicrobial Agen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029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3716280"/>
            <a:ext cx="1584360" cy="93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31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3716280"/>
            <a:ext cx="14414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MACROL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44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alibri"/>
              </a:rPr>
              <a:t>Erythromycin &amp; Clindamyc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cteriostat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Good activity on :Legionella, Camylobacter, Gram negative and positive infections for patients allergic to Penicillins and Cephalospori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ndamycin acts on 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anaerob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s w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de effects : GIT disturbance,  </a:t>
            </a:r>
            <a:r>
              <a:rPr b="0" lang="en-US" sz="2000" spc="-1" strike="noStrike">
                <a:solidFill>
                  <a:srgbClr val="800080"/>
                </a:solidFill>
                <a:latin typeface="Calibri"/>
              </a:rPr>
              <a:t>Pseudomembraneous colitis (mainly </a:t>
            </a:r>
            <a:r>
              <a:rPr b="0" i="1" lang="en-US" sz="2000" spc="-1" strike="noStrike">
                <a:solidFill>
                  <a:srgbClr val="800080"/>
                </a:solidFill>
                <a:latin typeface="Calibri"/>
              </a:rPr>
              <a:t>clindamycin</a:t>
            </a:r>
            <a:r>
              <a:rPr b="0" lang="en-US" sz="2000" spc="-1" strike="noStrike">
                <a:solidFill>
                  <a:srgbClr val="800080"/>
                </a:solidFill>
                <a:latin typeface="Calibri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New Macrolide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800080"/>
                </a:solidFill>
                <a:latin typeface="Calibri"/>
              </a:rPr>
              <a:t>Azithromycin &amp; Clarithromycin </a:t>
            </a:r>
            <a:r>
              <a:rPr b="0" lang="en-US" sz="2000" spc="-1" strike="noStrike">
                <a:solidFill>
                  <a:srgbClr val="800080"/>
                </a:solidFill>
                <a:latin typeface="Calibri"/>
              </a:rPr>
              <a:t>. Less side effects , better penetration  and longer half lif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ANTIMICROBIALS THAT ACT ON  NUCLEIC ACI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fampic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inol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ronidaz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phoebe01"/>
          <p:cNvPicPr/>
          <p:nvPr/>
        </p:nvPicPr>
        <p:blipFill>
          <a:blip r:embed="rId1"/>
          <a:stretch/>
        </p:blipFill>
        <p:spPr>
          <a:xfrm>
            <a:off x="4067280" y="1773360"/>
            <a:ext cx="3960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RIFAMPIC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i-synthetic, bactericidal , acts on Gram positive bacteria and selected Gram negative bacter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Reserved for Tuberculo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esistance develops quick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Used in comb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alibri"/>
              </a:rPr>
              <a:t>Side effec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Causes discoloration of body fluids &amp; hepatotoxic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QUINOL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hetic, bactericidal, inhibit DNA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yr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/or Topoisome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enerations: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Calibri"/>
              </a:rPr>
              <a:t>first gene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Calibri"/>
              </a:rPr>
              <a:t>Nalidexic aci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locally ac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Calibri"/>
              </a:rPr>
              <a:t>Second gene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Calibri"/>
              </a:rPr>
              <a:t>Fluoroquinolon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g. Ciprofloxacin, Norfloxacin, Ofloxacin,Levofloxac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Calibri"/>
              </a:rPr>
              <a:t>Third gene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Calibri"/>
              </a:rPr>
              <a:t>Sparfloxacin, Gatifloxac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Calibri"/>
              </a:rPr>
              <a:t>Fourth gener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800" spc="-1" strike="noStrike">
                <a:solidFill>
                  <a:srgbClr val="ff3399"/>
                </a:solidFill>
                <a:latin typeface="Calibri"/>
              </a:rPr>
              <a:t>Moxifloxacin, Trovafloxac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de effects: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fects cartilage (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nimal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&amp;  hea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1523880" y="152388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~AUT0003"/>
          <p:cNvPicPr/>
          <p:nvPr/>
        </p:nvPicPr>
        <p:blipFill>
          <a:blip r:embed="rId1"/>
          <a:stretch/>
        </p:blipFill>
        <p:spPr>
          <a:xfrm>
            <a:off x="1295280" y="76320"/>
            <a:ext cx="6934320" cy="6172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3276720" y="6248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tronidaz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troimidazole active on </a:t>
            </a:r>
            <a:r>
              <a:rPr b="0" lang="en-US" sz="3200" spc="-1" strike="noStrike">
                <a:solidFill>
                  <a:srgbClr val="ff3399"/>
                </a:solidFill>
                <a:latin typeface="Calibri"/>
              </a:rPr>
              <a:t>anaerobic bacteria and also parasite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s DNA break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Used for the treatment of infections due to : </a:t>
            </a:r>
            <a:r>
              <a:rPr b="1" i="1" lang="en-US" sz="3200" spc="-1" strike="noStrike">
                <a:solidFill>
                  <a:srgbClr val="00b050"/>
                </a:solidFill>
                <a:latin typeface="Calibri"/>
              </a:rPr>
              <a:t>B.fragilis , Trichomonas vaginalis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 and also for  amoebiasis and giardiasis 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ANTIMETABOLITES ( folate inhibito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160" y="16761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rimethoprim-Sulfamethoxazole ( TMP-SM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f0"/>
                </a:solidFill>
                <a:latin typeface="Calibri"/>
              </a:rPr>
              <a:t>Combination of TMP-SMX called </a:t>
            </a: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:  Bactrim / Septr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lock sequential steps in folic acid synth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ffective of infections caused by </a:t>
            </a:r>
            <a:r>
              <a:rPr b="1" i="1" lang="en-US" sz="2000" spc="-1" strike="noStrike">
                <a:solidFill>
                  <a:srgbClr val="ff3399"/>
                </a:solidFill>
                <a:latin typeface="Calibri"/>
              </a:rPr>
              <a:t>:Nocardia, Chlamydia, Protozoa &amp; Pneumocystis caranii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e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d for the treatment of upper &amp; lower respiratory tract infections , otitis media, sinusitis &amp; infectious diarrhe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Side effects:   GIT, hepatitis , bone marrow depression&amp; hypersensi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www.world-drugs.net/generic_bactrim_ds_sulphamethoxazole_tmp_clip_image002.gif"/>
          <p:cNvPicPr/>
          <p:nvPr/>
        </p:nvPicPr>
        <p:blipFill>
          <a:blip r:embed="rId1"/>
          <a:stretch/>
        </p:blipFill>
        <p:spPr>
          <a:xfrm>
            <a:off x="539640" y="549360"/>
            <a:ext cx="7920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ti-tuberculosis ag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First line 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oniazid ( IN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fampic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ambut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yrazinam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A combination of 4 drugs used for 6 month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eg. INH+ Rifampicin + Ethambutol for 2 months then continue INH+ Rfampicin for 4 month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econd line ag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rptomyc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a amino salicylic acid (PAS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ycloser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reomyc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alibri"/>
              </a:rPr>
              <a:t>Used for resistant cases or cases not responding to first line dru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soniazid (INH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tericid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ffects mycobacteria at different sites of the lung tiss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d for the treatment  and prophylaxis of tuberculo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ide effect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peripheral neuritis &amp;liver tox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LECTIVE TOXI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bility to kill or inhibit the growth of a microorganism without harming the host cel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Prokaryotic Cell Structure"/>
          <p:cNvPicPr/>
          <p:nvPr/>
        </p:nvPicPr>
        <p:blipFill>
          <a:blip r:embed="rId1"/>
          <a:stretch/>
        </p:blipFill>
        <p:spPr>
          <a:xfrm>
            <a:off x="1547640" y="3068640"/>
            <a:ext cx="55454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thambut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tericid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entrated in the phagolysosomes of alveol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ide eff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ptic neur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yrazinam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s on acid environment of macroph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ide effec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hepatitis and arthralg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ANTIBIOTIC RESISTANCE IN BAC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1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E TO INDISCRIMINATE USE OF ANTIMICROB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SELECTIVE ADVANTAGE OF ANTIBIO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TYPES OF RES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PRIMARY</a:t>
            </a:r>
            <a:r>
              <a:rPr b="0" lang="en-US" sz="2400" spc="-1" strike="noStrike">
                <a:solidFill>
                  <a:srgbClr val="7030a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Inna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resistan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g.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treptococcu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&amp; anaerobes are naturally resistant to gentamic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ANTIBIOTIC RESISTANCE IN BACTERIA </a:t>
            </a:r>
            <a:r>
              <a:rPr b="1" lang="en-US" sz="1600" spc="-1" strike="noStrike">
                <a:solidFill>
                  <a:srgbClr val="800080"/>
                </a:solidFill>
                <a:latin typeface="Calibri"/>
              </a:rPr>
              <a:t>(Continue</a:t>
            </a:r>
            <a:r>
              <a:rPr b="1" lang="en-US" sz="1600" spc="-1" strike="noStrike" u="sng">
                <a:solidFill>
                  <a:srgbClr val="800080"/>
                </a:solidFill>
                <a:uFillTx/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44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Acquired resistance ,due to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  </a:t>
            </a:r>
            <a:r>
              <a:rPr b="1" lang="en-US" sz="1800" spc="-1" strike="noStrike">
                <a:solidFill>
                  <a:srgbClr val="ff3399"/>
                </a:solidFill>
                <a:latin typeface="Calibri"/>
              </a:rPr>
              <a:t>MUT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 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Mycobacterium  tuberculosi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istant to streptomyc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1" lang="en-US" sz="2000" spc="-1" strike="noStrike">
                <a:solidFill>
                  <a:srgbClr val="ff3399"/>
                </a:solidFill>
                <a:latin typeface="Calibri"/>
              </a:rPr>
              <a:t>GENE TRANSF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smid mediated or through transpos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Cross resistanc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istance to one group confer resistance to  other drug of the same group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g. resistance to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erythromyc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clindamyc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Dissociate resistanc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g. resistance to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gentamic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does not confer resistance to </a:t>
            </a: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tobramici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MECHANISMS OR RES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26560" y="170028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meability chan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- Modification of site of action, eg. </a:t>
            </a:r>
            <a:r>
              <a:rPr b="1" lang="en-US" sz="2800" spc="-1" strike="noStrike">
                <a:solidFill>
                  <a:srgbClr val="ff3399"/>
                </a:solidFill>
                <a:latin typeface="Calibri"/>
              </a:rPr>
              <a:t>Mu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- Inactivation by enzymes . eg.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Beta- Lactamase &amp;  aminoglycoside inactivating enzy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- Passing blocked metabolic reaction eg.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ABA ( para amino benzoic acid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folic acid , and is plasmid medi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ight Arrow 4"/>
          <p:cNvSpPr/>
          <p:nvPr/>
        </p:nvSpPr>
        <p:spPr>
          <a:xfrm>
            <a:off x="5292720" y="5300640"/>
            <a:ext cx="977760" cy="485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</a:rPr>
              <a:t>PRINCIPLES OF ANTIMICROBIAL THERAP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NDIC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OICE OF DRU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ROUT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DOSAG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DU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DISTRIB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CRE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TOXICIT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BINATION USE AS IN TUBERCULOSI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ROPHYLAXI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7960" y="1980720"/>
            <a:ext cx="42670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99"/>
                </a:solidFill>
                <a:latin typeface="Calibri"/>
              </a:rPr>
              <a:t>Prophylaxis</a:t>
            </a:r>
            <a:r>
              <a:rPr b="1" lang="en-US" sz="1500" spc="-1" strike="noStrike" u="sng">
                <a:solidFill>
                  <a:srgbClr val="ff3399"/>
                </a:solidFill>
                <a:uFillTx/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99"/>
                </a:solidFill>
                <a:latin typeface="Calibri"/>
              </a:rPr>
              <a:t>SHORT TERM</a:t>
            </a:r>
            <a:r>
              <a:rPr b="1" lang="en-US" sz="1500" spc="-1" strike="noStrike">
                <a:solidFill>
                  <a:srgbClr val="ffff99"/>
                </a:solidFill>
                <a:latin typeface="Calibr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MENINGITI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99"/>
                </a:solidFill>
                <a:latin typeface="Calibri"/>
              </a:rPr>
              <a:t>LONG TERM</a:t>
            </a:r>
            <a:r>
              <a:rPr b="1" lang="en-US" sz="1500" spc="-1" strike="noStrike">
                <a:solidFill>
                  <a:srgbClr val="ffff99"/>
                </a:solidFill>
                <a:latin typeface="Calibri"/>
              </a:rPr>
              <a:t>: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Tuberculosis, Recurrent urinary tract infections , Rheumatic fever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riteria for ideal antimicrobial ag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Has selective tox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auses no hyper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enetrate tissues quick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Resistance does not develop quick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Has no effect of normal fl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Broad spect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ntibiotics can do harm ,develop resistance so must be used judicious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tibiotics potentiate the function of human immune system to fight microb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We must know the toxicity , pharmacokinetics, spectrum of activity of antimicrobials to make best guess of u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5" descr="http://t0.gstatic.com/images?q=tbn:FNNQPFHKffJp1M:http://www.gibbons.de/main3/03cartoons/1999-08-take_home.jpg"/>
          <p:cNvPicPr/>
          <p:nvPr/>
        </p:nvPicPr>
        <p:blipFill>
          <a:blip r:embed="rId1"/>
          <a:stretch/>
        </p:blipFill>
        <p:spPr>
          <a:xfrm>
            <a:off x="7093080" y="333360"/>
            <a:ext cx="141912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Calibri"/>
              </a:rPr>
              <a:t>BACTERICIDA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lls bac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99"/>
                </a:solidFill>
                <a:latin typeface="Calibri"/>
              </a:rPr>
              <a:t>BACTERIOSTATIC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i="1" lang="en-US" sz="24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Calibri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ents multiplic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Spectrum of 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alibri"/>
              </a:rPr>
              <a:t>Broad spectru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 affects Gram positive &amp; Gram negative  bacte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99"/>
                </a:solidFill>
                <a:latin typeface="Calibri"/>
              </a:rPr>
              <a:t>Narrow spectru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 affects selected organi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THERAPEUTIC INDEX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oxic dose to human / Therapeutic dose against bacter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Calibri"/>
              </a:rPr>
              <a:t>        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Penicill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High , is good to hum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400" spc="-1" strike="noStrike">
                <a:solidFill>
                  <a:srgbClr val="00b0f0"/>
                </a:solidFill>
                <a:latin typeface="Calibri"/>
              </a:rPr>
              <a:t>Aminoglycosides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olymyxin 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:   the lowest, is toxic to human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alibri"/>
              </a:rPr>
              <a:t>MECHANISMS OF ACTION OF ANTIMICROB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240" y="198072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hibition of cell wall synthe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)  Alteration of cell membr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)  Inhibition of protein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)  Inhibition of nucleic acid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)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ti-metabolite OR competitive antagonis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800080"/>
                </a:solidFill>
                <a:latin typeface="Calibri"/>
              </a:rPr>
              <a:t>ANTIMICROBIALS THAT  INHIBIT CELL WALL SYNTHESI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c3399"/>
                </a:solidFill>
                <a:latin typeface="Calibri"/>
              </a:rPr>
              <a:t>1- Beta –Lactam antimicrobial agents</a:t>
            </a:r>
            <a:r>
              <a:rPr b="0" lang="en-US" sz="2400" spc="-1" strike="noStrike">
                <a:solidFill>
                  <a:srgbClr val="cc33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nicill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phalospor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bapenems ( imipenem &amp; meropene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obactam (aztreona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c3399"/>
                </a:solidFill>
                <a:latin typeface="Calibri"/>
              </a:rPr>
              <a:t>2-  Vancomyci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 Teicoplanin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447920" y="12952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6" descr="~AUT0000"/>
          <p:cNvPicPr/>
          <p:nvPr/>
        </p:nvPicPr>
        <p:blipFill>
          <a:blip r:embed="rId1"/>
          <a:stretch/>
        </p:blipFill>
        <p:spPr>
          <a:xfrm>
            <a:off x="1676520" y="307800"/>
            <a:ext cx="6476760" cy="5864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3352680" y="62485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.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Calibri"/>
              </a:rPr>
              <a:t>- LACTAM ANTIBIO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810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osed of : </a:t>
            </a:r>
            <a:r>
              <a:rPr b="0" lang="en-US" sz="2400" spc="-1" strike="noStrike">
                <a:solidFill>
                  <a:srgbClr val="800080"/>
                </a:solidFill>
                <a:latin typeface="Calibri"/>
              </a:rPr>
              <a:t>Beta- Lactam r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amp; Organic ac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ural &amp; Semi-synthe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ctericid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nd to penicillin binding protein (</a:t>
            </a: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PBP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interfere with trans-peptidation rea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oxicity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inly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ergy ,comm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phylaxis 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rrhea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334120" y="426708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20:14:19Z</dcterms:created>
  <dc:creator>kkuh</dc:creator>
  <dc:description/>
  <dc:language>en-US</dc:language>
  <cp:lastModifiedBy>DRSUMAILI</cp:lastModifiedBy>
  <dcterms:modified xsi:type="dcterms:W3CDTF">2013-10-30T20:14:01Z</dcterms:modified>
  <cp:revision>78</cp:revision>
  <dc:subject/>
  <dc:title>ANTIMICROBIAL AGENTS</dc:title>
</cp:coreProperties>
</file>