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84E-BB14-43B9-8962-1100DDF7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FEC-E582-4CDF-B9C7-912C19F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ECA-C1E6-4E91-883B-B8625E3D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4BF-1E37-413C-9C33-C71FFF92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381-6F7B-452D-AED2-5A58ED33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BC4-3099-4D69-B51A-D1AC77F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D26-B137-46C4-977C-F5B03E1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964-7B2F-4F32-9E46-5C133A78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F64-0509-4E4F-A8D5-706AACB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C62-3AF9-44D5-BC13-B6ACB2A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A51-5EF9-4958-97AC-6D44191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E01-2749-4285-A1B8-AB6D662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B51-CD0C-4A11-BF44-E99C223636F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ornellbiochem.wikispaces.com/file/view/Amoxicillin_rash_11_hours_after_17th_dose.jpg/104620279/Amoxicillin_rash_11_hours_after_17th_dose.jpg&amp;imgrefurl=http://cornellbiochem.wikispaces.com/Amoxicillin&amp;usg=__yBpVuwCPabfgJc5beIqkx-ishCE=&amp;h=1051&amp;w=740&amp;sz=320&amp;hl=en&amp;start=15&amp;zoom=1&amp;tbnid=qVixmTjN81DSXM:&amp;tbnh=150&amp;tbnw=106&amp;prev=/images%3Fq%3Dallergy%2Bto%2Bpenicillin%26hl%3Den%26safe%3Dactive%26sa%3DG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image+of+antibiotics/v=2/SID=e/l=II/R=1/SS=i/OID=965afcd7f98c3f4e/;_ylt=A9ibyGX4DR1Ej.kASeaJzbkF;_ylu=X3oDMTBjMHZkMjZyBHBvcwMxBHNlYwNzcg--/SIG=1ebm3hq53/EXP=1142841208/*-http%3A//images.search.yahoo.com/search/images/view?back=http%3A%2F%2Fimages.search.yahoo.com%2Fsearch%2Fimages%3Fp%3Dimage%2Bof%2Bantibiotics%26ei%3DUTF-8%26fr%3DFP-tab-web-t%26x%3Dwrt&amp;w=150&amp;h=137&amp;imgurl=images.familyhealth.com.au%2Fbranding%2Fdc%2Fnewsletter%2F2002-07-16%2Fantibiotics.jpg&amp;rurl=http%3A%2F%2Fwww.dietclub.com.au%2Farchive%2F2002-07-16&amp;size=8.2kB&amp;name=antibiotics.jpg&amp;p=image+of+antibiotics&amp;type=jpeg&amp;no=1&amp;tt=16,921&amp;ei=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S=96062857/K=image+of+antibiotics/v=2/SID=e/l=II/R=4/SS=i/OID=75c4220f30067f94/;_ylt=A9ibyGX4DR1Ej.kATOaJzbkF;_ylu=X3oDMTBjb3ZrYjNkBHBvcwM0BHNlYwNzcg--/SIG=1f3gg80oa/EXP=1142841208/*-http%3A//images.search.yahoo.com/search/images/view?back=http%3A%2F%2Fimages.search.yahoo.com%2Fsearch%2Fimages%3Fp%3Dimage%2Bof%2Bantibiotics%26ei%3DUTF-8%26fr%3DFP-tab-web-t%26x%3Dwrt&amp;w=640&amp;h=480&amp;imgurl=web.princeton.edu%2Fsites%2Fehs%2Fbiosafety%2Fanimalworker%2Fpics%2Fantibiotics.jpg&amp;rurl=http%3A%2F%2Fwww.princeton.edu%2Fsites%2Fehs%2Fbiosafety%2Fanimalworker%2Fpg2.htm&amp;size=69.4kB&amp;name=antibiotics.jpg&amp;p=image+of+antibiotics&amp;type=jpeg&amp;no=4&amp;tt=16,921&amp;ei=UTF-8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TIBIOTICS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NDATION BL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Prof. </a:t>
            </a:r>
            <a:r>
              <a:rPr b="1" i="1" lang="en-US" sz="2000" spc="-1" strike="noStrike">
                <a:solidFill>
                  <a:srgbClr val="898989"/>
                </a:solidFill>
                <a:latin typeface="Calibri"/>
              </a:rPr>
              <a:t>Hanan Habib &amp; Dr.Ali Somi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Department of Path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KKUH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ergy &amp; Anaphylax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1.gstatic.com/images?q=tbn:qVixmTjN81DSXM:http://cornellbiochem.wikispaces.com/file/view/Amoxicillin_rash_11_hours_after_17th_dose.jpg/104620279/Amoxicillin_rash_11_hours_after_17th_do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34936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1.gstatic.com/images?q=tbn:YTqlLAzL3zcW6M:http://www.back2life.co.uk/images/anaphylaxis.jpg"/>
          <p:cNvPicPr/>
          <p:nvPr/>
        </p:nvPicPr>
        <p:blipFill>
          <a:blip r:embed="rId3"/>
          <a:stretch/>
        </p:blipFill>
        <p:spPr>
          <a:xfrm>
            <a:off x="5292720" y="2349360"/>
            <a:ext cx="230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8"/>
          <p:cNvSpPr/>
          <p:nvPr/>
        </p:nvSpPr>
        <p:spPr>
          <a:xfrm>
            <a:off x="5334120" y="42670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29" descr="~AUT0001"/>
          <p:cNvPicPr/>
          <p:nvPr/>
        </p:nvPicPr>
        <p:blipFill>
          <a:blip r:embed="rId1"/>
          <a:stretch/>
        </p:blipFill>
        <p:spPr>
          <a:xfrm>
            <a:off x="1908000" y="0"/>
            <a:ext cx="503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enicill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Benzyl penicillin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ly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Gram positive bacteria, examp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enicillin V ,Procaine penicillin &amp; Benzathine pen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Isoxazolyl penicilli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loxacillin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effectiv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phylococcus aure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Amino-penicillins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picil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effectiv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erobacte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Acylaminopenicilli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iperacil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zlocillin-effective 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mon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6761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First  Generation</a:t>
            </a:r>
            <a:r>
              <a:rPr b="1" i="1" lang="en-US" sz="22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phradi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ohale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Second gene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efurox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ephamycin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(Cefoxit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Third generation</a:t>
            </a:r>
            <a:r>
              <a:rPr b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expanded spectr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9810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eg. of third generation:     Ceftriax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tazid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Fourth gene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ep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exim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ycopeptides, inhibit cell wall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cidal . Acts on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Gram positive bacteria only ( </a:t>
            </a: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narrow spectrum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by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methicillin resistant </a:t>
            </a:r>
            <a:r>
              <a:rPr b="0" i="1" lang="en-US" sz="2400" spc="-1" strike="noStrike">
                <a:solidFill>
                  <a:srgbClr val="800080"/>
                </a:solidFill>
                <a:latin typeface="Calibri"/>
              </a:rPr>
              <a:t>S.aureus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systemic infections (MRSA) ,  emperical treatment of Gram positive infections &amp; pseudomembranous col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Side eff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man syndrome , phlebitis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phrotoxic &amp; ototox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16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olymyxin 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: 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ly used </a:t>
            </a:r>
            <a:r>
              <a:rPr b="1" i="1" lang="en-US" sz="2400" spc="-1" strike="noStrike">
                <a:solidFill>
                  <a:srgbClr val="800080"/>
                </a:solidFill>
                <a:latin typeface="Calibri"/>
              </a:rPr>
              <a:t>local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ue to serious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nephrotoxic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used systemic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Colis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sed for the treatment of multi-resistant organisms (MRO) such as ;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inetobac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INOGLYCOS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TRACY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AMPHENI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Calibri"/>
              </a:rPr>
              <a:t>AMINOGLYCOSIDES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160" y="12949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Gram negative bacteria( </a:t>
            </a:r>
            <a:r>
              <a:rPr b="0" i="1" lang="en-US" sz="3200" spc="-1" strike="noStrike">
                <a:solidFill>
                  <a:srgbClr val="ff3399"/>
                </a:solidFill>
                <a:latin typeface="Calibri"/>
              </a:rPr>
              <a:t>narrow spectrum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Gentamicin ,Amikacin , Neomyci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Side effects :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- dose re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Calibri"/>
              </a:rPr>
              <a:t>TETRACYCLINE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 spectrum , bacteriostatic, not used for children under 8 yrs. or pregnant women. Oral absor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for 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so for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alibri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acting: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acting: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Minocycline , Doxycyclin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good CSF penetra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tracycline :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Tigycyclin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( covers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anent teeth discoloration , GIT disturb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spectrum &amp; 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de effects : it affects bone marrow cells and cause aplas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only for severe infections not responding to treatment by other antimicrobials , also for the treatment of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also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topic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ye and ear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ntique Olive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by microorganism  which inhibit the growth of other microorganism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ogether ar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2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716280"/>
            <a:ext cx="158436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1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716280"/>
            <a:ext cx="1441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MACROL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Erythromycin &amp; Clindamyc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ost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Good activity on :Legionella, Camylobacter, Gram negative and positive infections for patients allergic to Penicillins and Cephalospori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ndamycin acts on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naerob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de effects : GIT disturbance,  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Pseudomembraneous colitis (mainly </a:t>
            </a:r>
            <a:r>
              <a:rPr b="0" i="1" lang="en-US" sz="2000" spc="-1" strike="noStrike">
                <a:solidFill>
                  <a:srgbClr val="800080"/>
                </a:solidFill>
                <a:latin typeface="Calibri"/>
              </a:rPr>
              <a:t>clindamycin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w Macrolid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Azithromycin &amp; Clarithromycin 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. Less side effects , better penetration  and longer half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phoebe01"/>
          <p:cNvPicPr/>
          <p:nvPr/>
        </p:nvPicPr>
        <p:blipFill>
          <a:blip r:embed="rId1"/>
          <a:stretch/>
        </p:blipFill>
        <p:spPr>
          <a:xfrm>
            <a:off x="4067280" y="1773360"/>
            <a:ext cx="3960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RIFAMPI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Side 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Causes discoloration of body fluids &amp; hepatotox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QUINOL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ic, bactericidal, inhibit DN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yr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tion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first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locally a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. 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de effects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s cartilage (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&amp;  he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523880" y="15238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~AUT0003"/>
          <p:cNvPicPr/>
          <p:nvPr/>
        </p:nvPicPr>
        <p:blipFill>
          <a:blip r:embed="rId1"/>
          <a:stretch/>
        </p:blipFill>
        <p:spPr>
          <a:xfrm>
            <a:off x="1295280" y="76320"/>
            <a:ext cx="693432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32767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anaerobic bacteria and also parasit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 DNA break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Used for the treatment of infections due to :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B.fragilis , Trichomonas vaginalis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and also for  amoebiasis and giardiasis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ANTIMETABOLITES ( folate inhibi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1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methoprim-Sulfamethoxazole ( TMP-SM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Combination of TMP-SMX called 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:  Bactrim / Sept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lock sequential steps in folic acid syn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 of infections caused by </a:t>
            </a:r>
            <a:r>
              <a:rPr b="1" i="1" lang="en-US" sz="2000" spc="-1" strike="noStrike">
                <a:solidFill>
                  <a:srgbClr val="ff3399"/>
                </a:solidFill>
                <a:latin typeface="Calibri"/>
              </a:rPr>
              <a:t>:Nocardia, Chlamydia, Protozoa &amp; Pneumocystis carani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d for the treatment of upper &amp; lower respiratory tract infections , otitis media, sinusitis &amp; infectious diarrh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Side effects:   GIT, hepatitis , bone marrow depression&amp; hypersensi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orld-drugs.net/generic_bactrim_ds_sulphamethoxazole_tmp_clip_image002.gif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ti-tuberculosis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First line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oniazid ( IN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yrazin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A combination of 4 drugs used for 6 month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eg. INH+ Rifampicin + Ethambutol for 2 months then continue INH+ Rfampicin for 4 month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econd line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rpto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 amino salicylic acid (PA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close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reo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Used for resistant cases or cases not responding to first line dru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soniazid (IN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ects mycobacteria at different sites of the lung tis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d for the treatment  and prophylaxis of tubercul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de effec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peripheral neuritis &amp;liver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LECTIVE TOX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kill or inhibit the growth of a microorganism without harming the hos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Prokaryotic Cell Structure"/>
          <p:cNvPicPr/>
          <p:nvPr/>
        </p:nvPicPr>
        <p:blipFill>
          <a:blip r:embed="rId1"/>
          <a:stretch/>
        </p:blipFill>
        <p:spPr>
          <a:xfrm>
            <a:off x="1547640" y="3068640"/>
            <a:ext cx="55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thambut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ntrated in the phagolysosomes of alve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tic neu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on acid environment of macroph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epatitis and arthral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BIOTIC RESISTANCE IN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INDISCRIMINATE USE OF ANTIMICROB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SELECTIVE ADVANTAGE OF ANTIBIO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TYPES OF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Inn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reptococc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&amp; anaerobes are naturally resistant to gentamic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BIOTIC RESISTANCE IN BACTERIA </a:t>
            </a:r>
            <a:r>
              <a:rPr b="1" lang="en-US" sz="1600" spc="-1" strike="noStrike">
                <a:solidFill>
                  <a:srgbClr val="800080"/>
                </a:solidFill>
                <a:latin typeface="Calibri"/>
              </a:rPr>
              <a:t>(Continue</a:t>
            </a:r>
            <a:r>
              <a:rPr b="1" lang="en-US" sz="1600" spc="-1" strike="noStrike" u="sng">
                <a:solidFill>
                  <a:srgbClr val="800080"/>
                </a:solidFill>
                <a:uFillTx/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cquired resistance ,due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Calibri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ycobacterium  tuberculos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istant to streptomyc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Calibri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Cross resistanc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erythromy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Dissociate resistanc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gentami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oes not confer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tobrami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6560" y="1700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eability chan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Modification of site of action, eg. </a:t>
            </a:r>
            <a:r>
              <a:rPr b="1" lang="en-US" sz="2800" spc="-1" strike="noStrike">
                <a:solidFill>
                  <a:srgbClr val="ff3399"/>
                </a:solidFill>
                <a:latin typeface="Calibri"/>
              </a:rPr>
              <a:t>Mu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Inactivation by enzymes . eg.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Passing blocked metabolic reaction eg.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ABA ( para amino benzoic aci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folic acid , and is plasmid medi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ight Arrow 4"/>
          <p:cNvSpPr/>
          <p:nvPr/>
        </p:nvSpPr>
        <p:spPr>
          <a:xfrm>
            <a:off x="5292720" y="53006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RINCIPLES OF ANTIMICROBIAL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ND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OICE OF DRU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ROU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OSA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U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ISTRIB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CRE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OXIC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BINATION USE AS IN TUBERCULO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ROPHYLAXI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9807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Prophylaxis</a:t>
            </a:r>
            <a:r>
              <a:rPr b="1" lang="en-US" sz="1500" spc="-1" strike="noStrike" u="sng">
                <a:solidFill>
                  <a:srgbClr val="ff3399"/>
                </a:solidFill>
                <a:uFillTx/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SHORT TERM</a:t>
            </a:r>
            <a:r>
              <a:rPr b="1" lang="en-US" sz="1500" spc="-1" strike="noStrike">
                <a:solidFill>
                  <a:srgbClr val="ffff99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ENINGIT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LONG TERM</a:t>
            </a:r>
            <a:r>
              <a:rPr b="1" lang="en-US" sz="1500" spc="-1" strike="noStrike">
                <a:solidFill>
                  <a:srgbClr val="ffff99"/>
                </a:solidFill>
                <a:latin typeface="Calibri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uberculosis, Recurrent urinary tract infections , Rheumatic fev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riteria for ideal antimicrobial ag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uses no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enetrate tissues quick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sistance does not develop quick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no effect of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oad spect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biotics can do harm ,develop resistance so must be used judicious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tibiotics potentiate the function of human immune system to fight microb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We must know the toxicity , pharmacokinetics, spectrum of activity of antimicrobials to make best guess of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http://t0.gstatic.com/images?q=tbn:FNNQPFHKffJp1M:http://www.gibbons.de/main3/03cartoons/1999-08-take_home.jpg"/>
          <p:cNvPicPr/>
          <p:nvPr/>
        </p:nvPicPr>
        <p:blipFill>
          <a:blip r:embed="rId1"/>
          <a:stretch/>
        </p:blipFill>
        <p:spPr>
          <a:xfrm>
            <a:off x="7093080" y="333360"/>
            <a:ext cx="14191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BACTERICID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BACTERIOSTATIC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s multi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affects 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Narrow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affects selected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RAPEUTIC INDEX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oxic dose to human / Therapeutic dose against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High , is good to hu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Aminoglycosides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lymyxi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  the lowest, is toxic to huma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hibition of cell wall synthe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 Alteration of cell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 Inhibition of protei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 Inhibition of nucleic acid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-metabolite OR competitive antagon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Calibri"/>
              </a:rPr>
              <a:t>ANTIMICROBIALS THAT  INHIBIT CELL WALL SYNTHESI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1- Beta –Lactam antimicrobial agents</a:t>
            </a:r>
            <a:r>
              <a:rPr b="0" lang="en-US" sz="2400" spc="-1" strike="noStrike">
                <a:solidFill>
                  <a:srgbClr val="cc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2-  Vancomyc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Teicoplanin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~AUT0000"/>
          <p:cNvPicPr/>
          <p:nvPr/>
        </p:nvPicPr>
        <p:blipFill>
          <a:blip r:embed="rId1"/>
          <a:stretch/>
        </p:blipFill>
        <p:spPr>
          <a:xfrm>
            <a:off x="1676520" y="307800"/>
            <a:ext cx="6476760" cy="5864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335268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- LACTAM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ed of :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Beta- Lactam 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amp; Organic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 to penicillin binding prote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PBP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interfere with trans-peptidation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xicit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inly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ergy ,comm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rrhe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4120" y="42670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0:14:19Z</dcterms:created>
  <dc:creator>kkuh</dc:creator>
  <dc:description/>
  <dc:language>en-US</dc:language>
  <cp:lastModifiedBy>DRSUMAILI</cp:lastModifiedBy>
  <dcterms:modified xsi:type="dcterms:W3CDTF">2013-10-30T20:14:01Z</dcterms:modified>
  <cp:revision>78</cp:revision>
  <dc:subject/>
  <dc:title>ANTIMICROBIAL AGENTS</dc:title>
</cp:coreProperties>
</file>