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6BD8-971A-43E0-A187-A766A3882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317D-C58B-4135-B3F0-72DF5C730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1A12-B9C4-400C-95BD-6EEC438B0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3BA0-0756-4240-8C57-6E3B2E725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D9D9-7359-4F37-818E-0A62D842E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D1DC-AC11-4A15-91C1-9C6FF0F38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EE14-E39D-4F63-932B-15E25C960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CAB1-7E45-4FFB-A2A3-AC8A39DC1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1687-7353-4FE2-A2A6-7218F9CB7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6D4C-6637-4EA5-B5E6-E9E3B091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641A-B4EA-48F6-8BF5-8BBEEB4A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0E4F-EE12-4F0F-AC01-068E891C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5D8F4B-D840-42A1-827F-234AC9C5BC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06668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bfbfbf"/>
                </a:solidFill>
                <a:latin typeface="Footlight MT Light"/>
              </a:rPr>
              <a:t>Lecturer name: </a:t>
            </a:r>
            <a:r>
              <a:rPr b="0" i="1" lang="en-US" sz="3200" spc="-1" strike="noStrike">
                <a:solidFill>
                  <a:srgbClr val="e46c0a"/>
                </a:solidFill>
                <a:latin typeface="Footlight MT Light"/>
              </a:rPr>
              <a:t>Prof Hanan Habib &amp; </a:t>
            </a:r>
            <a:r>
              <a:rPr b="1" i="1" lang="en-US" sz="3200" spc="-1" strike="noStrike">
                <a:solidFill>
                  <a:srgbClr val="e46c0a"/>
                </a:solidFill>
                <a:latin typeface="Footlight MT Light"/>
              </a:rPr>
              <a:t>Prof. A.M. Kamb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Footlight MT Light"/>
              </a:rPr>
              <a:t>Department of  Pathology, Microbiology Un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itle 1"/>
          <p:cNvSpPr/>
          <p:nvPr/>
        </p:nvSpPr>
        <p:spPr>
          <a:xfrm>
            <a:off x="304920" y="838080"/>
            <a:ext cx="92962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600" spc="-1" strike="noStrike">
                <a:solidFill>
                  <a:srgbClr val="dce6f2"/>
                </a:solidFill>
                <a:latin typeface="Footlight MT Light"/>
                <a:ea typeface="Century Gothic"/>
              </a:rPr>
              <a:t>Lecture Title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ootlight MT Light"/>
              </a:rPr>
              <a:t>NORMAL  FLOR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4114800" y="27432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Footlight MT Light"/>
                <a:ea typeface="Century Gothic"/>
              </a:rPr>
              <a:t>(Foundation Block, Microbiolog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ootlight MT Light"/>
              </a:rPr>
              <a:t>Areas of the body with normal fl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152280" y="182880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Footlight MT Light"/>
              </a:rPr>
              <a:t>GIT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:  mouth &amp; large col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Footlight MT Light"/>
              </a:rPr>
              <a:t>Urogenital tract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: vagina &amp; distal 1/3 of the ureth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Footlight MT Light"/>
              </a:rPr>
              <a:t>Sk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1981080" y="228600"/>
            <a:ext cx="5327640" cy="6381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S17"/>
          <p:cNvPicPr/>
          <p:nvPr/>
        </p:nvPicPr>
        <p:blipFill>
          <a:blip r:embed="rId2"/>
          <a:stretch/>
        </p:blipFill>
        <p:spPr>
          <a:xfrm>
            <a:off x="685800" y="762120"/>
            <a:ext cx="7201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Footlight MT Light"/>
              </a:rPr>
              <a:t>Normal flora of the respiratory tra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304920" y="19810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Upper resp.tract colonizes by flora as in mouth &amp; nasophary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Lower respiratory tract  is ster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NOSE:   - </a:t>
            </a:r>
            <a:r>
              <a:rPr b="0" i="1" lang="en-US" sz="3200" spc="-1" strike="noStrike">
                <a:solidFill>
                  <a:srgbClr val="f2f2f2"/>
                </a:solidFill>
                <a:latin typeface="Footlight MT Light"/>
              </a:rPr>
              <a:t>Staph. epidermid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2f2f2"/>
                </a:solidFill>
                <a:latin typeface="Footlight MT Light"/>
              </a:rPr>
              <a:t>              </a:t>
            </a:r>
            <a:r>
              <a:rPr b="0" i="1" lang="en-US" sz="3200" spc="-1" strike="noStrike">
                <a:solidFill>
                  <a:srgbClr val="f2f2f2"/>
                </a:solidFill>
                <a:latin typeface="Footlight MT Light"/>
              </a:rPr>
              <a:t>- Staph. aur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2f2f2"/>
                </a:solidFill>
                <a:latin typeface="Footlight MT Light"/>
              </a:rPr>
              <a:t>              </a:t>
            </a:r>
            <a:r>
              <a:rPr b="0" i="1" lang="en-US" sz="3200" spc="-1" strike="noStrike">
                <a:solidFill>
                  <a:srgbClr val="f2f2f2"/>
                </a:solidFill>
                <a:latin typeface="Footlight MT Light"/>
              </a:rPr>
              <a:t>-Coryne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1900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Footlight MT Light"/>
              </a:rPr>
              <a:t>Oropharynx fl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304920" y="179064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Footlight MT Light"/>
              </a:rPr>
              <a:t>Viridance streptococ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Footlight MT Light"/>
              </a:rPr>
              <a:t>Commensal neisseri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Footlight MT Light"/>
              </a:rPr>
              <a:t>Corynebac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Footlight MT Light"/>
              </a:rPr>
              <a:t>Bactero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Footlight MT Light"/>
              </a:rPr>
              <a:t>Fusobacteria , Veillonella, actinomyces, spirochae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Footlight MT Light"/>
              </a:rPr>
              <a:t>Heamophilus inflenzea &amp; Pneumcoccus are potential pathoge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Footlight MT Light"/>
              </a:rPr>
              <a:t>Less common: </a:t>
            </a:r>
            <a:r>
              <a:rPr b="0" i="1" lang="en-US" sz="2400" spc="-1" strike="noStrike">
                <a:solidFill>
                  <a:srgbClr val="f2f2f2"/>
                </a:solidFill>
                <a:latin typeface="Footlight MT Light"/>
              </a:rPr>
              <a:t>S.pyogenes ,N.meningiti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1900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Footlight MT Light"/>
              </a:rPr>
              <a:t>Gastrointestinal tract fl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304920" y="179064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Saliva contains 10</a:t>
            </a:r>
            <a:r>
              <a:rPr b="0" lang="en-US" sz="3200" spc="-1" strike="noStrike" baseline="30000">
                <a:solidFill>
                  <a:srgbClr val="f2f2f2"/>
                </a:solidFill>
                <a:latin typeface="Footlight MT Light"/>
              </a:rPr>
              <a:t>8</a:t>
            </a: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 bact/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Gingival margin debris &amp;dent. Plaque contiually  colonized by bacte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Oesophagus flora as pharyngeal flo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Empty stomach sterile due to gastric ac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Duodenum, jejunum&amp;upper ielum have scanty fl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Large intestine heavily colonized by bacte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Footlight MT Light"/>
              </a:rPr>
              <a:t>Fae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19810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1/3 of faeces wt. is bacteria , mainly dea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Living bacteria ~ 10</a:t>
            </a:r>
            <a:r>
              <a:rPr b="0" lang="en-US" sz="3200" spc="-1" strike="noStrike" baseline="30000">
                <a:solidFill>
                  <a:srgbClr val="f2f2f2"/>
                </a:solidFill>
                <a:latin typeface="Footlight MT Light"/>
              </a:rPr>
              <a:t>10</a:t>
            </a: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/g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99% anaero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Anaerobic environment maintained by aerobic bacteria utilizing free O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Bacteroides fragilis group the dominant anaerobes, bifidobact. Lactobacilli…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Less common: E.coli ,Proteus,….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1900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Footlight MT Light"/>
              </a:rPr>
              <a:t>Genital tract fl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457200" y="1790640"/>
            <a:ext cx="83059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Female genital tract heavily colonized , why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10</a:t>
            </a:r>
            <a:r>
              <a:rPr b="0" lang="en-US" sz="3200" spc="-1" strike="noStrike" baseline="30000">
                <a:solidFill>
                  <a:srgbClr val="f2f2f2"/>
                </a:solidFill>
                <a:latin typeface="Footlight MT Light"/>
              </a:rPr>
              <a:t>8</a:t>
            </a: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/ml  in normal vaginal secre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In both sexes Mycob. Smegmatis (AFB) in secretions which contaminate urine-leads to confusion /misdiagno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M &amp; F distal urethra: - S.epidermidis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                                      </a:t>
            </a: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- coryne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                                      </a:t>
            </a: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-Mycoplas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1900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Footlight MT Light"/>
              </a:rPr>
              <a:t>Female Vulv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304920" y="179064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Footlight MT Light"/>
              </a:rPr>
              <a:t>S. epidermidis , corynebacteria, E.coli and othe coliforms  &amp; St. faecal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Footlight MT Light"/>
              </a:rPr>
              <a:t>Vagina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Footlight MT Light"/>
              </a:rPr>
              <a:t>-lactobacilli (Doderlein’s bacill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Footlight MT Light"/>
              </a:rPr>
              <a:t>- Bacteroides melaninogeni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Footlight MT Light"/>
              </a:rPr>
              <a:t>-S.faeca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Footlight MT Light"/>
              </a:rPr>
              <a:t>- corynebac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Footlight MT Light"/>
              </a:rPr>
              <a:t>-Mycoplas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Footlight MT Light"/>
              </a:rPr>
              <a:t>- Yea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1900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Footlight MT Light"/>
              </a:rPr>
              <a:t>Normal Skin Fl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28600" y="179064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Skin has rich resident bacterial flora(10</a:t>
            </a:r>
            <a:r>
              <a:rPr b="0" lang="en-US" sz="3200" spc="-1" strike="noStrike" baseline="30000">
                <a:solidFill>
                  <a:srgbClr val="f2f2f2"/>
                </a:solidFill>
                <a:latin typeface="Footlight MT Light"/>
              </a:rPr>
              <a:t>4</a:t>
            </a: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/cm</a:t>
            </a:r>
            <a:r>
              <a:rPr b="0" lang="en-US" sz="3200" spc="-1" strike="noStrike" baseline="30000">
                <a:solidFill>
                  <a:srgbClr val="f2f2f2"/>
                </a:solidFill>
                <a:latin typeface="Footlight MT Light"/>
              </a:rPr>
              <a:t>2</a:t>
            </a: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Exist as microcolon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Ano2 organisms predomonate in aeras with sebaceous gl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Moist skin ,often colonized by colifo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itle 1"/>
          <p:cNvSpPr/>
          <p:nvPr/>
        </p:nvSpPr>
        <p:spPr>
          <a:xfrm>
            <a:off x="38088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bfbfbf"/>
                </a:solidFill>
                <a:latin typeface="Footlight MT Light"/>
                <a:ea typeface="Century Gothic"/>
              </a:rPr>
              <a:t>Lecture Objectives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itle 1"/>
          <p:cNvSpPr/>
          <p:nvPr/>
        </p:nvSpPr>
        <p:spPr>
          <a:xfrm>
            <a:off x="380880" y="3505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Footlight MT Light"/>
              </a:rPr>
              <a:t>By the end of this lecture the student is expected to be able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2f2f2"/>
              </a:buClr>
              <a:buFont typeface="Footlight MT Light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Footlight MT Light"/>
              </a:rPr>
              <a:t>Define the terms: </a:t>
            </a:r>
            <a:r>
              <a:rPr b="0" i="1" lang="en-US" sz="2000" spc="-1" strike="noStrike">
                <a:solidFill>
                  <a:srgbClr val="f2f2f2"/>
                </a:solidFill>
                <a:latin typeface="Footlight MT Light"/>
              </a:rPr>
              <a:t>Normal Flora, Resident flora, Transient flora</a:t>
            </a:r>
            <a:r>
              <a:rPr b="0" lang="en-US" sz="2000" spc="-1" strike="noStrike">
                <a:solidFill>
                  <a:srgbClr val="f2f2f2"/>
                </a:solidFill>
                <a:latin typeface="Footlight MT Light"/>
              </a:rPr>
              <a:t> and carrier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2f2f2"/>
              </a:buClr>
              <a:buFont typeface="Footlight MT Light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Footlight MT Light"/>
              </a:rPr>
              <a:t>Know the origin of normal flo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2f2f2"/>
              </a:buClr>
              <a:buFont typeface="Footlight MT Light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Footlight MT Light"/>
              </a:rPr>
              <a:t>Know the importance of normal flora with examples, including importance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2f2f2"/>
              </a:buClr>
              <a:buFont typeface="Footlight MT Light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Footlight MT Light"/>
              </a:rPr>
              <a:t>Source of opportunistic inf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2f2f2"/>
              </a:buClr>
              <a:buFont typeface="Footlight MT Light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Footlight MT Light"/>
              </a:rPr>
              <a:t>Immunostimu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2f2f2"/>
              </a:buClr>
              <a:buFont typeface="Footlight MT Light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Footlight MT Light"/>
              </a:rPr>
              <a:t>Nutrition: Vitamins produ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2f2f2"/>
              </a:buClr>
              <a:buFont typeface="Footlight MT Light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Footlight MT Light"/>
              </a:rPr>
              <a:t>Production of Carcinoge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2f2f2"/>
              </a:buClr>
              <a:buFont typeface="Footlight MT Light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Footlight MT Light"/>
              </a:rPr>
              <a:t>Protection against external invad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2f2f2"/>
              </a:buClr>
              <a:buFont typeface="Footlight MT Light"/>
              <a:buAutoNum type="arabicPeriod" startAt="4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Footlight MT Light"/>
              </a:rPr>
              <a:t>Know areas of the body with normal flora (GIT, Urogenital tract, and skin) and most common types of organism in these areas and relation to pathogenicity of these organi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2f2f2"/>
              </a:buClr>
              <a:buFont typeface="Footlight MT Light"/>
              <a:buAutoNum type="arabicPeriod" startAt="4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Footlight MT Light"/>
              </a:rPr>
              <a:t>Know sites of the body with no normal flora e.g. sterile body sites and the importance of this fact in relation to interpretation of culture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Footlight MT Light"/>
              </a:rPr>
              <a:t>Main Skin Fl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304920" y="19810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Propionibacterium ac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Anaerobic coc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S. epidermi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Coryne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S. aureus  (less common, potential pathog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Coli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1900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ootlight MT Light"/>
              </a:rPr>
              <a:t>External auditory meatu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228600" y="179064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S. epidermi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Coryne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AFB occasionally in wa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Footlight MT Light"/>
              </a:rPr>
              <a:t>CONJUNCTIVAL SAC FL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-Corynebacterium xer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- S.epidrmi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eeece1"/>
                </a:solidFill>
                <a:latin typeface="Footlight MT Light"/>
                <a:ea typeface="Century Gothic"/>
              </a:rPr>
              <a:t>Reference book and the relevant page numbers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761760" y="18288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SHERRIS MEDICAL MICROBIOLOGY, AN INTRODUCTION TO INFECTIOUS DISEASES. KENNETH RYAN /GEORGE RAY. LATEST EDITION. PUBLISHER MC GRW HI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CHAPTER 9,PAGE 141-14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350532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e46c0a"/>
                </a:solidFill>
                <a:latin typeface="Footlight MT Light"/>
              </a:rPr>
              <a:t>Prof Hanan Habib &amp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e46c0a"/>
                </a:solidFill>
                <a:latin typeface="Footlight MT Light"/>
              </a:rPr>
              <a:t>Prof. A.M. Kamb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4114800" y="27432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eeece1"/>
                </a:solidFill>
                <a:latin typeface="Century Gothic"/>
                <a:ea typeface="Century Gothic"/>
              </a:rPr>
              <a:t>(Foundation Block, Microbiolog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-990720" y="761760"/>
            <a:ext cx="929664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500" spc="-1" strike="noStrike" u="sng">
                <a:solidFill>
                  <a:srgbClr val="eeece1"/>
                </a:solidFill>
                <a:uFillTx/>
                <a:latin typeface="Century Gothic"/>
                <a:ea typeface="Century Gothic"/>
              </a:rPr>
              <a:t>T</a:t>
            </a:r>
            <a:r>
              <a:rPr b="1" lang="en-US" sz="6600" spc="-1" strike="noStrike">
                <a:solidFill>
                  <a:srgbClr val="eeece1"/>
                </a:solidFill>
                <a:latin typeface="Century Gothic"/>
                <a:ea typeface="Century Gothic"/>
              </a:rPr>
              <a:t>hank You </a:t>
            </a:r>
            <a:r>
              <a:rPr b="1" lang="en-US" sz="6600" spc="-1" strike="noStrike">
                <a:solidFill>
                  <a:srgbClr val="eeece1"/>
                </a:solidFill>
                <a:latin typeface="Wingdings"/>
                <a:ea typeface="Wingdings"/>
              </a:rPr>
              <a:t>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1900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ootlight MT Light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80880" y="179064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Normal flora  are microorganisms that are frequently found in a particular site in normal healthy individu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Some are found in association with humans / animals only. </a:t>
            </a:r>
            <a:r>
              <a:rPr b="0" lang="en-US" sz="3200" spc="-1" strike="noStrike">
                <a:solidFill>
                  <a:srgbClr val="ff00ff"/>
                </a:solidFill>
                <a:latin typeface="Footlight MT Light"/>
              </a:rPr>
              <a:t>The Majority are bacteria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Footlight MT Light"/>
              </a:rPr>
              <a:t>Symbolic relationship with the h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Subject to constant chan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Altered by antimicrobial ag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ootlight MT Light"/>
              </a:rPr>
              <a:t>Types of Normal Fl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457200" y="19810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cc0099"/>
                </a:solidFill>
                <a:latin typeface="Footlight MT Light"/>
              </a:rPr>
              <a:t>Commensals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:   natural relationship with h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cc0099"/>
                </a:solidFill>
                <a:latin typeface="Footlight MT Light"/>
              </a:rPr>
              <a:t>Residen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Footlight MT Light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  present for invariable period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cc0099"/>
                </a:solidFill>
                <a:latin typeface="Footlight MT Light"/>
              </a:rPr>
              <a:t>Transients</a:t>
            </a:r>
            <a:r>
              <a:rPr b="0" lang="en-US" sz="3200" spc="-1" strike="noStrike">
                <a:solidFill>
                  <a:srgbClr val="cc0099"/>
                </a:solidFill>
                <a:latin typeface="Footlight MT Ligh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: establish itself briefly , excluded by host defence or competition from resid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cc0099"/>
                </a:solidFill>
                <a:latin typeface="Footlight MT Light"/>
              </a:rPr>
              <a:t>Carrier state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 : potentially pathogenic , eg. S.pneumoniae,  N. meningetidis in throat of healthy individu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7000" y="1900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ootlight MT Light"/>
              </a:rPr>
              <a:t>Origin of Normal Fl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387360" y="179064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Newborn sterile in ut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After birth ,exposed to flora of mother’s genital tract,skin, respiratory tract flora of those handling him ,and organisms in the enviro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pe01682_"/>
          <p:cNvPicPr/>
          <p:nvPr/>
        </p:nvPicPr>
        <p:blipFill>
          <a:blip r:embed="rId2"/>
          <a:stretch/>
        </p:blipFill>
        <p:spPr>
          <a:xfrm>
            <a:off x="5410080" y="3809880"/>
            <a:ext cx="315936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ootlight MT Light"/>
              </a:rPr>
              <a:t>Beneficial effects  of normal fl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0" y="19810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1- </a:t>
            </a:r>
            <a:r>
              <a:rPr b="0" lang="en-US" sz="3200" spc="-1" strike="noStrike">
                <a:solidFill>
                  <a:srgbClr val="ff0000"/>
                </a:solidFill>
                <a:latin typeface="Footlight MT Light"/>
              </a:rPr>
              <a:t>Immunostimulation 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 (antibody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2- </a:t>
            </a:r>
            <a:r>
              <a:rPr b="0" lang="en-US" sz="3200" spc="-1" strike="noStrike">
                <a:solidFill>
                  <a:srgbClr val="ff0000"/>
                </a:solidFill>
                <a:latin typeface="Footlight MT Light"/>
              </a:rPr>
              <a:t>Exclusionary effect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 (vacuum effect ) and protection from external invaders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Footlight MT Light"/>
              </a:rPr>
              <a:t>3-Production of essential nutrients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 (vit. </a:t>
            </a:r>
            <a:r>
              <a:rPr b="0" lang="en-US" sz="3200" spc="-1" strike="noStrike">
                <a:solidFill>
                  <a:srgbClr val="ff00ff"/>
                </a:solidFill>
                <a:latin typeface="Footlight MT Light"/>
              </a:rPr>
              <a:t>K &amp; B</a:t>
            </a:r>
            <a:r>
              <a:rPr b="0" lang="en-US" sz="3200" spc="-1" strike="noStrike">
                <a:solidFill>
                  <a:srgbClr val="eeece1"/>
                </a:solidFill>
                <a:latin typeface="Footlight MT Light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 by some normal intestinal flora eg. </a:t>
            </a:r>
            <a:r>
              <a:rPr b="0" i="1" lang="en-US" sz="3200" spc="-1" strike="noStrike">
                <a:solidFill>
                  <a:srgbClr val="000000"/>
                </a:solidFill>
                <a:latin typeface="Footlight MT Light"/>
              </a:rPr>
              <a:t>E.coli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ootlight MT Light"/>
              </a:rPr>
              <a:t>Other facts regarding normal fl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0" y="19810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Footlight MT Light"/>
              </a:rPr>
              <a:t>May be a source of opportunistic infections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. eg . In patients with impaired defense mechanisms. eg </a:t>
            </a:r>
            <a:r>
              <a:rPr b="0" i="1" lang="en-US" sz="3200" spc="-1" strike="noStrike">
                <a:solidFill>
                  <a:srgbClr val="000000"/>
                </a:solidFill>
                <a:latin typeface="Footlight MT Light"/>
              </a:rPr>
              <a:t>S.epidermidis, E.coli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Footlight MT Light"/>
              </a:rPr>
              <a:t>Some may cross react with normal tissue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Footlight MT Light"/>
              </a:rPr>
              <a:t>components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,eg, antibodies to various ABO group arise because of cross reaction between intestinal flora and the antigens of A &amp;B blood substa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160" y="1900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ootlight MT Light"/>
              </a:rPr>
              <a:t>Continu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533520" y="179064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Footlight MT Light"/>
              </a:rPr>
              <a:t>Production of carcinogens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Some normal flora may modify through their enzymes chemicals in our diets into carcinogens. eg. artificial sweeteners may be enzymatically modified into bladder carcinoge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1900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ootlight MT Light"/>
              </a:rPr>
              <a:t>Distribution of normal fl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380880" y="179064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Footlight MT Light"/>
              </a:rPr>
              <a:t>Internal organs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 (except alimentary tract) are sterile at heal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Footlight MT Light"/>
              </a:rPr>
              <a:t>Sterility maintained by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- local defence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- chemical substances in serum &amp; tissues eg. Complement , antibod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-phagocytic activity of P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4T17:07:28Z</dcterms:created>
  <dc:creator>JERICA</dc:creator>
  <dc:description/>
  <dc:language>en-US</dc:language>
  <cp:lastModifiedBy>aboo alde</cp:lastModifiedBy>
  <dcterms:modified xsi:type="dcterms:W3CDTF">2015-09-15T11:26:49Z</dcterms:modified>
  <cp:revision>13</cp:revision>
  <dc:subject/>
  <dc:title>Slide 1</dc:title>
</cp:coreProperties>
</file>