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6F72-0181-4362-A1AE-81D743C0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BAB-B51E-488A-9C49-6E27728C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B3B6-4838-4504-94EE-5CCACE2A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4D1-AB02-49F6-8E95-B89B20ED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CAF-F3D2-46FD-8D31-C7C574B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799-6331-4B08-8172-9A18B8C8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845-1BA6-4288-A181-CAF8A5FC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D2E-7DEE-468A-8C31-147E664B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237-2109-49EF-BFA9-4DADF0E3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3A9B-60DA-4F45-A5A5-B56E604A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E67-AFDA-4F75-BDC2-034569D2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30B-535B-4D48-8584-5C77B66B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6B58E-50AB-4521-A88F-301CA0874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</a:t>
            </a: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304920" y="838080"/>
            <a:ext cx="9296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dce6f2"/>
                </a:solidFill>
                <a:latin typeface="Footlight MT Light"/>
                <a:ea typeface="Century Gothic"/>
              </a:rPr>
              <a:t>Lecture Titl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ootlight MT Light"/>
              </a:rPr>
              <a:t>NORMAL  FLO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Areas of the body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GI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mouth &amp; large co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Urogenital tra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vagina &amp; distal 1/3 of the ureth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1981080" y="228600"/>
            <a:ext cx="532764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S17"/>
          <p:cNvPicPr/>
          <p:nvPr/>
        </p:nvPicPr>
        <p:blipFill>
          <a:blip r:embed="rId2"/>
          <a:stretch/>
        </p:blipFill>
        <p:spPr>
          <a:xfrm>
            <a:off x="685800" y="762120"/>
            <a:ext cx="7201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Upper resp.tract colonizes by flora as in mouth &amp; nasophary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ower respiratory tract  is ster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NOSE:   -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              </a:t>
            </a:r>
            <a:r>
              <a:rPr b="0" i="1" lang="en-US" sz="3200" spc="-1" strike="noStrike">
                <a:solidFill>
                  <a:srgbClr val="f2f2f2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Oropharynx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iridance streptoco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mmensal neisser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Bactero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Fusobacteria , Veillonella, actinomyces, spirocha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Heamophilus inflenzea &amp; Pneumcoccus are potential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Less common: </a:t>
            </a:r>
            <a:r>
              <a:rPr b="0" i="1" lang="en-US" sz="2400" spc="-1" strike="noStrike">
                <a:solidFill>
                  <a:srgbClr val="f2f2f2"/>
                </a:solidFill>
                <a:latin typeface="Footlight MT Light"/>
              </a:rPr>
              <a:t>S.pyogenes ,N.meningiti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astrointestin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bact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Gingival margin debris &amp;dent. Plaque contiually 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Oesophagus flora as pharyngeal flo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Duodenum, jejunum&amp;upper ielum have scanty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arge intestine heavily colonized by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ae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/3 of faeces wt. is bacteria , mainly dea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iving bacteria ~ 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99% anae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Bacteroides fragilis group the dominant anaerobes, bifidobact. Lactobacilli…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Less common: E.coli ,Proteus,….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Genital tract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79064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ml  in normal vaginal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In both sexes Mycob. Smegmatis (AFB) in secretions which contaminate urine-leads to confusion /misdiagn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 &amp; F distal urethra: - 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                                      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-Mycoplas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Female Vul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S. epidermidis , corynebacteria, E.coli and othe coliforms  &amp; St. faecal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Vagina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lactobacilli (Doderlein’s bacil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Bacteroides melaninogen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S.faec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coryne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Myco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Footlight MT Light"/>
              </a:rPr>
              <a:t>- Yea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Normal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kin has rich resident bacterial flora(10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4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/cm</a:t>
            </a:r>
            <a:r>
              <a:rPr b="0" lang="en-US" sz="3200" spc="-1" strike="noStrike" baseline="30000">
                <a:solidFill>
                  <a:srgbClr val="f2f2f2"/>
                </a:solidFill>
                <a:latin typeface="Footlight MT Light"/>
              </a:rPr>
              <a:t>2</a:t>
            </a: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o2 organisms predomonate in aeras with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Moist skin ,often colonized by coli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itle 1"/>
          <p:cNvSpPr/>
          <p:nvPr/>
        </p:nvSpPr>
        <p:spPr>
          <a:xfrm>
            <a:off x="38088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bfbfbf"/>
                </a:solidFill>
                <a:latin typeface="Footlight MT Light"/>
                <a:ea typeface="Century Gothic"/>
              </a:rPr>
              <a:t>Lecture Objectives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380880" y="3505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Footlight MT Light"/>
              </a:rPr>
              <a:t>By the end of this lecture the student is expected to be a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Define the terms: </a:t>
            </a:r>
            <a:r>
              <a:rPr b="0" i="1" lang="en-US" sz="2000" spc="-1" strike="noStrike">
                <a:solidFill>
                  <a:srgbClr val="f2f2f2"/>
                </a:solidFill>
                <a:latin typeface="Footlight MT Light"/>
              </a:rPr>
              <a:t>Normal Flora, Resident flora, Transient flora</a:t>
            </a: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 and carri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origin of normal fl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Source of opportunistic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Immunost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Nutrition: Vitamins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duction of Carcino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Protection against external inva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areas of the body with normal flora (GIT, Urogenital tract, and skin) and most common types of organism in these areas and relation to pathogenicity of these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Footlight MT Light"/>
              <a:buAutoNum type="arabicPeriod" startAt="4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Footlight MT Light"/>
              </a:rPr>
              <a:t>Main Skin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0492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. aureus  (less common, potential pathog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External auditory meat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2860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B occasionally in w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Footlight MT Light"/>
              </a:rPr>
              <a:t>CONJUNCTIVAL SAC FL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Corynebacterium xer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S.epidrmi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eece1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17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SHERRIS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Footlight MT Light"/>
              </a:rPr>
              <a:t>CHAPTER 9,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350532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e46c0a"/>
                </a:solidFill>
                <a:latin typeface="Footlight MT Light"/>
              </a:rPr>
              <a:t>Prof Hanan Habib &amp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e46c0a"/>
                </a:solidFill>
                <a:latin typeface="Footlight MT Light"/>
              </a:rPr>
              <a:t>Prof. A.M. Kamb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114800" y="27432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(Foundation Block, Microbiolog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-990720" y="761760"/>
            <a:ext cx="92966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500" spc="-1" strike="noStrike" u="sng">
                <a:solidFill>
                  <a:srgbClr val="eeece1"/>
                </a:solidFill>
                <a:uFillTx/>
                <a:latin typeface="Century Gothic"/>
                <a:ea typeface="Century Gothic"/>
              </a:rPr>
              <a:t>T</a:t>
            </a:r>
            <a:r>
              <a:rPr b="1" lang="en-US" sz="6600" spc="-1" strike="noStrike">
                <a:solidFill>
                  <a:srgbClr val="eeece1"/>
                </a:solidFill>
                <a:latin typeface="Century Gothic"/>
                <a:ea typeface="Century Gothic"/>
              </a:rPr>
              <a:t>hank You </a:t>
            </a:r>
            <a:r>
              <a:rPr b="1" lang="en-US" sz="6600" spc="-1" strike="noStrike">
                <a:solidFill>
                  <a:srgbClr val="eeece1"/>
                </a:solidFill>
                <a:latin typeface="Wingdings"/>
                <a:ea typeface="Wingdings"/>
              </a:rPr>
              <a:t>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ormal flora  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are found in association with humans / animals only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The Majority are bacteria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ymbolic relationship with the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Type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ommensal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  natural relationship with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Residen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 present for invariable perio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cc0099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 establish itself briefly , excluded by host defence or competition from resi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c0099"/>
                </a:solidFill>
                <a:latin typeface="Footlight MT Light"/>
              </a:rPr>
              <a:t>Carrier stat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 potentially pathogenic , eg. S.pneumoniae,  N. meningetidis in throat of healthy individ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700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38736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Newborn sterile in ut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After birth ,exposed to flora of mother’s genital tract,skin, respiratory tract flora of those handling him ,and organisms in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e01682_"/>
          <p:cNvPicPr/>
          <p:nvPr/>
        </p:nvPicPr>
        <p:blipFill>
          <a:blip r:embed="rId2"/>
          <a:stretch/>
        </p:blipFill>
        <p:spPr>
          <a:xfrm>
            <a:off x="5410080" y="3809880"/>
            <a:ext cx="3159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Beneficial effects 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1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Immunostimulation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antibody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2-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Exclusionary effect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3-Production of essential nutri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vit. </a:t>
            </a: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K &amp; B</a:t>
            </a: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by some normal intestinal flora eg.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Other facts regarding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May be a source of opportunistic infectio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 eg . In patients with impaired defense mechanisms. eg </a:t>
            </a:r>
            <a:r>
              <a:rPr b="0" i="1" lang="en-US" sz="3200" spc="-1" strike="noStrike">
                <a:solidFill>
                  <a:srgbClr val="000000"/>
                </a:solidFill>
                <a:latin typeface="Footlight MT Light"/>
              </a:rPr>
              <a:t>S.epidermidis, E.coli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Some may cross react with normal tissue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component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,eg, antibodies to various ABO group arise because of cross reaction between intestinal flora and the antigens of A &amp;B blood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Contin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53352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Footlight MT Light"/>
              </a:rPr>
              <a:t>Production of carcinoge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Some normal flora may modify through their enzymes chemicals in our diets into carcinogens. eg. artificial sweeteners may be enzymatically modified into bladder carcino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1900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otlight MT Light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179064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Footlight MT Light"/>
              </a:rPr>
              <a:t>Internal organs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(except alimentary tract) are sterile at heal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Footlight MT Light"/>
              </a:rPr>
              <a:t>Sterility maintained by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local def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-phagocytic activity of P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>JERICA</dc:creator>
  <dc:description/>
  <dc:language>en-US</dc:language>
  <cp:lastModifiedBy>aboo alde</cp:lastModifiedBy>
  <dcterms:modified xsi:type="dcterms:W3CDTF">2015-09-15T11:26:49Z</dcterms:modified>
  <cp:revision>13</cp:revision>
  <dc:subject/>
  <dc:title>Slide 1</dc:title>
</cp:coreProperties>
</file>