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C49-3DD7-4E85-B9C4-BE9C3E50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BC3-1B49-40F4-8B07-6106F567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42B-007A-4490-BF0F-E0FAB4BC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FE8-6768-4A3E-BC68-8321AFC1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240C-0816-47D3-A90F-561B91D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2C9-BB60-46F9-9F2E-9C8C7B97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6C9F-C1D9-4D12-A99E-7502A4CD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B06-6ACA-4625-A85D-EED8E7B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965-0165-49CC-BD78-BE557A0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E17A-1778-4BE8-83B6-1C38C215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8F2E-5C41-43CE-9C58-190F083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E37-2BD9-424C-82C1-BCD78DC6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258D-D128-4A17-AB84-DCDC953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C6D-034A-4D56-8CF3-F9B4CF4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C78-BF40-47A6-8C9F-C9E4BDA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D9A-7EA8-4858-B5DD-EAEA28F0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AF3B-8362-43BD-91C8-012DAA7F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16E-72ED-4236-B0A6-D5B785F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1FD-2C29-4443-A380-28B3FC7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97D-E771-4D7D-9AC5-1CA44B4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6C4-C37D-4867-8EEF-C46C5583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725-79C0-4C15-9903-FF59A7B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D7A-2E52-4C8E-9505-CD408D0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228-3F7A-4432-869D-DB08AAA5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F58-96B5-4313-A818-FD4B10A09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155-71A5-4214-9858-30A96C31EAB0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0F1C-1852-487C-8BC3-9AF39C9A7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Prof . AM Kambal &amp; 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8C2-E530-4EEC-B9D1-E10C328208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059-5DD2-4D28-A439-5F0D32E6D9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AD0-321F-47E4-9E4F-30B6789AD8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BBC-B8BA-4A62-8B54-7BAE0B74EF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0B1-9A44-4F6F-8A4F-74572E0ACF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3DD1-FA2F-4592-AC69-6E7C6CF857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34E8-7A22-4B48-8F3F-0EB5D94D1D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7B7-E97D-4B5C-AE6B-6D46300FA6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645-0BEB-42AF-9F15-8723D346A6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1D11-8F43-4CB3-8446-12E0E3ED3B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F21-E8B7-4929-8A6F-CC9A8C901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C3A6-D8DF-4875-9854-B9D0061E0F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D9C-AC4D-4A2E-A737-BA374D6EC9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93A-7D91-4468-9911-C8557C3090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9E9-08D5-492A-AFAE-836C6AB15D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3E1-B9F1-499E-94A8-67DB224703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E81-9D2D-436C-8889-0DB69F3DC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55E-786E-4C4A-A679-236F886AB7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3422</cp:lastModifiedBy>
  <cp:lastPrinted>2002-01-26T13:51:29Z</cp:lastPrinted>
  <dcterms:modified xsi:type="dcterms:W3CDTF">2015-10-04T11:07:25Z</dcterms:modified>
  <cp:revision>292</cp:revision>
  <dc:subject/>
  <dc:title>Streptococci</dc:title>
</cp:coreProperties>
</file>