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0C15-2BDC-4BFC-9577-DA635B67D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9710-ED4A-4DB3-847D-0E60C5AC50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C3E-5B04-4CAE-855F-AD397B3A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2BA-B7F0-4471-B4F7-D5D43677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A50-8273-4738-A3B5-9974B980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65D-AA06-48C6-8B0F-98209E79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A995-0797-40DA-B705-45BB34AA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9217-8A6C-4A91-BCF2-A18EE812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21FF-E50E-4D8D-A490-D43FB016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8A95-902B-418E-8679-019216E9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4BB5-E843-4E88-9F0C-8AB3BDA4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0E97-D0BA-4870-95CB-544DCBE8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47BB-AE1B-4C92-B336-2191EE31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887-64A0-4AF8-BF09-410DBF27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9568-EA1D-42A8-8C67-8E80A0FA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5F0D-9103-428A-84CC-687051E5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0CE7-DF72-4C55-A1A2-3526BAEC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2E61-5F7A-418F-A133-F853110E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5DD7-714D-452F-973F-5DD190CA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40F-4CE8-4762-965A-5E168897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90D-648C-4349-B3A4-824FD8BF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325-B571-4602-A0A4-E504C2E8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F43-40C2-4AA8-87EF-38340980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DC7-8740-434E-B540-6762A0FF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D68-040B-48F7-9C42-51CCFA89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4F1-E817-4399-BDB7-3161C8E8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8596-7281-4F81-B6B1-57C794F885F0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F9E5-514B-4B4A-8054-333C2CC07A44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duckol.com/uploadFiles/upimg26/Microfiltration-Membrane-Filters.jpg&amp;imgrefurl=http://www.duckol.com/Wholesale_m/Membrane-Switch-56036.htm&amp;usg=__P9oH-z4D-qmRCGcHk5qq7IUjNPo=&amp;h=360&amp;w=360&amp;sz=25&amp;hl=en&amp;start=4&amp;zoom=1&amp;tbnid=Fo27iUeAdcieTM:&amp;tbnh=121&amp;tbnw=121&amp;prev=/images%3Fq%3DMEMBRANE%2BFILTERS%26hl%3Den%26safe%3Dactive%26gbv%3D2%26tbs%3Disch:1&amp;itbs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images2.opticsplanet.com/640-640/opplanet-whatman-filter-holders-for-nuclepore-membrane-filters-whatman-420200.jpg&amp;imgrefurl=http://www.opticsplanet.net/printable-whatman-filter-holders-for-nuclepore-membrane-filters-whatman-420200.html&amp;usg=__-6h4s7ngtXvhow07wJ4VzDwj0eI=&amp;h=246&amp;w=246&amp;sz=24&amp;hl=en&amp;start=12&amp;zoom=1&amp;tbnid=35FVmUfK3cURBM:&amp;tbnh=110&amp;tbnw=110&amp;prev=/images%3Fq%3DMEMBRANE%2BFILTERS%26hl%3Den%26safe%3Dactive%26gbv%3D2%26tbs%3Disch:1&amp;itbs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/imgres?imgurl=http://www.trinityfiltration.in/images/membrane-filters.jpg&amp;imgrefurl=http://www.trinityfiltration.in/membrane-filters-for-critical-pharmaceutical-application.html&amp;usg=__ju5fCM1xbUqgnl_IIEG9Ms-2xRU=&amp;h=231&amp;w=230&amp;sz=10&amp;hl=en&amp;start=9&amp;zoom=0&amp;tbnid=4ZGd9vK2iMgHGM:&amp;tbnh=108&amp;tbnw=108&amp;prev=/images%3Fq%3DMEMBRANE%2BFILTERS%26hl%3Den%26safe%3Dactive%26gbv%3D2%26tbs%3Disch:1&amp;itbs=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com/imgres?imgurl=http://imghost1.indiamart.com/data2/YY/NJ/MY-1857873/membrane_pic-500x500-250x250.jpg&amp;imgrefurl=http://www.indiamart.com/nishotechsystems/seperation-technologies.html&amp;usg=__wLfYWbndq_7fMhxtAoepepofDXs=&amp;h=250&amp;w=250&amp;sz=9&amp;hl=en&amp;start=15&amp;zoom=1&amp;tbnid=wionk_8EKOMzXM:&amp;tbnh=111&amp;tbnw=111&amp;prev=/images%3Fq%3DMEMBRANE%2BFILTERS%26hl%3Den%26safe%3Dactive%26gbv%3D2%26tbs%3Disch:1&amp;itbs=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home.netvigator.com/~pdsuter/pic/machine003.jpg&amp;imgrefurl=http://home.netvigator.com/~pdsuter/bread_machine.html&amp;usg=__v9wMu_0Z2pmqH75VnAHeYV4MUP4=&amp;h=388&amp;w=350&amp;sz=34&amp;hl=en&amp;start=10&amp;zoom=1&amp;tbnid=Ebw2yJKQ-mhOjM:&amp;tbnh=123&amp;tbnw=111&amp;prev=/images%3Fq%3DHOT%2BAIR%2BOVEN%26hl%3Den%26safe%3Dactive%26sa%3DG%26gbv%3D2%26tbs%3Disch:1&amp;itbs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upplierlist.com/photo_images/70930/12L_Simple_Autoclave.jpg&amp;imgrefurl=http://www.supplierlist.com/made_in_china/products/p0/Autoclave/30857_manufacturers.htm&amp;usg=__YqlPiu14UAuPwYA_m16-WaOHIVo=&amp;h=336&amp;w=336&amp;sz=24&amp;hl=en&amp;start=3&amp;zoom=1&amp;tbnid=_7dcwyvnfhz3jM:&amp;tbnh=119&amp;tbnw=119&amp;prev=/images%3Fq%3DAUTOCLAVES%26hl%3Den%26safe%3Dactive%26sa%3DG%26gbv%3D2%26tbs%3Disch:1&amp;itbs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com/imgres?imgurl=http://img.directindustry.com/images_di/photo-g/laboratory-autoclave-with-hydraulic-door-305058.jpg&amp;imgrefurl=http://www.directindustry.com/prod/priorclave/laboratory-autoclave-with-hydraulic-door-23066-305058.html&amp;usg=__Uwvdy60hxYHVPFf4gSCwRaE2wTE=&amp;h=651&amp;w=831&amp;sz=211&amp;hl=en&amp;start=2&amp;zoom=1&amp;tbnid=y8mNYJ04N1XtxM:&amp;tbnh=113&amp;tbnw=144&amp;prev=/images%3Fq%3DAUTOCLAVES%26hl%3Den%26safe%3Dactive%26sa%3DG%26gbv%3D2%26tbs%3Disch:1&amp;itbs=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google.com/imgres?imgurl=http://www.lifelinemedical.net/_images/manautoclave-01b.jpg&amp;imgrefurl=http://www.lifelinemedical.net/manual_autoclaves.html&amp;usg=__8-pYakhkqCkQjbaX5N5Fs5AgwsM=&amp;h=308&amp;w=424&amp;sz=95&amp;hl=en&amp;start=4&amp;zoom=1&amp;tbnid=dNI8EWwQs12WjM:&amp;tbnh=92&amp;tbnw=126&amp;prev=/images%3Fq%3DAUTOCLAVES%26hl%3Den%26safe%3Dactive%26sa%3DG%26gbv%3D2%26tbs%3Disch:1&amp;itbs=1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rds.yahoo.com/_ylt=A0WTb_o.XLlMVCwA0yWJzbkF;_ylu=X3oDMTBqY2pzbGhoBHBvcwMxMQRzZWMDc3IEdnRpZAM-/SIG=1k7ejdo7v/EXP=1287302590/**http%3A//images.search.yahoo.com/images/view%3Fback=http%253A%252F%252Fimages.search.yahoo.com%252Fsearch%252Fimages%253Fp%253Dschematic%252Bdiagram%252Bof%252Bautoclaves%2526ei%253Dutf-8%2526y%253DSearch%2526fr%253Dyfp-t-701%26w=293%26h=238%26imgurl=www.swingstargroup.com%252Fimages%252Fbattery_rectifier.jpg%26rurl=http%253A%252F%252Fwww.swingstargroup.com%252Flha_construction.htm%26size=25KB%26name=Sterilizers%252C%2BAut...%26p=schematic%2Bdiagram%2Bof%2Bautoclaves%26oid=8d9ca6ae4b539bb97990611433d12e95%26fr2=%26spell_query=schematic%2B%2Bof%2Bautoclaves%26no=11%26tt=15%26sigr=11i55tua3%26sigi=11jftar63%26sigb=13dlv8kor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tradevv.com/2009/07/24/newera1_432969_450/autoclave-tape.jpg&amp;imgrefurl=http://www.tradevv.com/chinasuppliers/newera1_p_69b49/china-Autoclave-Tape.html&amp;usg=__xaBaz_SzR_6eF8p_RD4qJ-2ZIB4=&amp;h=450&amp;w=450&amp;sz=27&amp;hl=en&amp;start=2&amp;zoom=1&amp;tbnid=-fl8eKyMIEsIRM:&amp;tbnh=127&amp;tbnw=127&amp;prev=/images%3Fq%3DAUTOCLAVE%2B%2BTAPE%26hl%3Den%26safe%3Dactive%26sa%3DG%26gbv%3D2%26tbs%3Disch:1&amp;itbs=1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google.com/imgres?imgurl=http://www.appletonwoods.co.uk/acatalog/GC471.jpg&amp;imgrefurl=http://www.appletonwoods.co.uk/acatalog/Autoclave_Indicator_Tubes.html&amp;usg=__88qBwPivzadrsB_XUNeHuOtGhK4=&amp;h=220&amp;w=260&amp;sz=14&amp;hl=en&amp;start=14&amp;zoom=1&amp;tbnid=ULCXGhvYA4_e_M:&amp;tbnh=95&amp;tbnw=112&amp;prev=/images%3Fq%3DBROWNE%2527S%2BTUBES%26hl%3Den%26safe%3Dactive%26sa%3DG%26gbv%3D2%26tbs%3Disch:1&amp;itbs=1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rlog.org/10383255-chemical-disinfectants.jpg&amp;imgrefurl=http://www.prlog.org/10383255-use-of-chemical-disinfectants.html&amp;usg=__LFbaZGdUee78g07KL8kRLuVFDds=&amp;h=250&amp;w=163&amp;sz=11&amp;hl=en&amp;start=3&amp;zoom=1&amp;tbnid=HzalTD8j-GR8PM:&amp;tbnh=111&amp;tbnw=72&amp;prev=/images%3Fq%3DCHEMICAL%2BDISINFECTANTS%26hl%3Den%26safe%3Dactive%26sa%3DG%26gbv%3D2%26tbs%3Disch:1&amp;itbs=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com/imgres?imgurl=http://www.chemistryland.com/CHM130W/06-Nomenclature/NomenclatureHealth/Chlorates.jpg&amp;imgrefurl=http://www.chemistryland.com/CHM130W/06-Nomenclature/NomenclatureHealth/NomenHealth.htm&amp;usg=__4P8nVvpOT2a6-qgAjtsBuJ2r6ts=&amp;h=560&amp;w=512&amp;sz=66&amp;hl=en&amp;start=8&amp;zoom=1&amp;tbnid=Ef73UlvzVqfq-M:&amp;tbnh=133&amp;tbnw=122&amp;prev=/images%3Fq%3DSYMBOL%2BSTERILIZATION%2BAND%2BDISINFECTION%26hl%3Den%26safe%3Dactive%26gbv%3D2%26tbs%3Disch:1&amp;itbs=1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shutterstock.com/display_pic_with_logo/388663/388663,1245079056,31/stock-vector-hand-washing-32072236.jpg&amp;imgrefurl=http://www.shutterstock.com/pic-32072236/stock-vector-hand-washing.html&amp;usg=__3gjTJdu9k_PX_XEjtg7zBOPU-r4=&amp;h=470&amp;w=447&amp;sz=74&amp;hl=en&amp;start=17&amp;zoom=1&amp;tbnid=fd2MPtPi-CXbJM:&amp;tbnh=129&amp;tbnw=123&amp;prev=/images%3Fq%3Dsymbol%2Bhand%2Bwashing%26hl%3Den%26safe%3Dactive%26sa%3DG%26gbv%3D2%26tbs%3Disch:1&amp;itbs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Sterilization &amp; Disinfe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f. Hanan Habib &amp; Dr. AbdulAziz Al-khataf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ege Of Medicine-K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t3.gstatic.com/images?q=tbn:Fo27iUeAdcieTM:http://www.duckol.com/uploadFiles/upimg26/Microfiltration-Membrane-Filt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620640"/>
            <a:ext cx="2735280" cy="3168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t1.gstatic.com/images?q=tbn:35FVmUfK3cURBM:http://images2.opticsplanet.com/640-640/opplanet-whatman-filter-holders-for-nuclepore-membrane-filters-whatman-4202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620640"/>
            <a:ext cx="2447640" cy="302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t1.gstatic.com/images?q=tbn:4ZGd9vK2iMgHGM:http://www.trinityfiltration.in/images/membrane-filter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4149720"/>
            <a:ext cx="2737080" cy="223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http://t3.gstatic.com/images?q=tbn:wionk_8EKOMzXM:http://imghost1.indiamart.com/data2/YY/NJ/MY-1857873/membrane_pic-500x500-250x25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4221000"/>
            <a:ext cx="266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Sterilization by Hea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Common methods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Dry Hea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Dry Heat- kills microorganisms by destroying their oxidative proces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Simplest method is exposing item to be sterilized to the naked flame e.g. Bunsen burner- for sterilizing bacteriological loops, knives, blad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Hot air oven </a:t>
            </a:r>
            <a:r>
              <a:rPr b="1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expose items to 160 °C for 1 hou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Has electric element in chamber as source of heat plus a fan to circulate air for even distribution of heat in chamber. Oven without fan is dangerous. Used for items that are lacking water such 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Me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Glassw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Ointment / Oils/ Waxes /Pow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2" descr="http://t2.gstatic.com/images?q=tbn:Ebw2yJKQ-mhOjM:http://home.netvigator.com/~pdsuter/pic/machine0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653000"/>
            <a:ext cx="194328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Moist He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s hot water. Moist heat kills microorganisms by 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  <a:ea typeface="SimSun"/>
              </a:rPr>
              <a:t>denaturating protei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Autoclav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standard sterilization method in hospit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equipment is calle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Autocla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nd it works under the same principle as the pressure cooker whe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water boil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at increased atmosphere pressure i.e. because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increase pressur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boiling point of water is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&gt;100 °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autoclave is a tough double walled chamber in which air is replaced by pure saturated steam under pressur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t0.gstatic.com/images?q=tbn:_7dcwyvnfhz3jM:http://www.supplierlist.com/photo_images/70930/12L_Simple_Autocla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933720"/>
            <a:ext cx="2160720" cy="201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t1.gstatic.com/images?q=tbn:y8mNYJ04N1XtxM:http://img.directindustry.com/images_di/photo-g/laboratory-autoclave-with-hydraulic-door-30505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549360"/>
            <a:ext cx="3748320" cy="4680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t0.gstatic.com/images?q=tbn:dNI8EWwQs12WjM:http://www.lifelinemedical.net/_images/manautoclave-01b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93080" y="393372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Go to full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620640"/>
            <a:ext cx="3097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Advantages of Autoclav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emp. &gt; 100 C therefo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spores kill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Condensation of steam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gener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extra he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he condensation also allows the steam to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  <a:ea typeface="SimSun"/>
              </a:rPr>
              <a:t>penetrate</a:t>
            </a:r>
            <a:r>
              <a:rPr b="0" lang="en-US" sz="2800" spc="-1" strike="noStrike">
                <a:solidFill>
                  <a:srgbClr val="c2ebff"/>
                </a:solidFill>
                <a:latin typeface="Tahoma"/>
                <a:ea typeface="SimSu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rapidly into porous materi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Note: for all invasive procedures at operating room or clinics, autoclavable equipments should be us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ai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in the chamber is evacuated and filled with saturated steam. The chamber is closed tightly the steam keeps on filling into it and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pressure gradually increa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The items to be sterilized get completely surrounded by saturated steam (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  <a:ea typeface="SimSun"/>
              </a:rPr>
              <a:t>moist he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) which on contact with the surface of material to be sterilized condenses to release it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latent hea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of condensation which adds to already raised temperature of steam so that eventually all the microorganisms in what ever form are kill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The usual temperature achieved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121 °C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 , exposure time of onl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15 mins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Monitoring of Autoclave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Physical method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 of thermocouple to measure accurately the tempera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Chemical method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it consists of heat sensitive chemical that changes color at the right temperature and exposure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e.g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.    a)-  Autoclave ta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b)- Browne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  <a:ea typeface="SimSun"/>
              </a:rPr>
              <a:t>’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s tub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Biolog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meth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 where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spo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-bearing organism is added during the sterilization process and then cultured later to ensure that it has been kille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t0.gstatic.com/images?q=tbn:-fl8eKyMIEsIRM:http://image.tradevv.com/2009/07/24/newera1_432969_450/autoclave-tap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33360"/>
            <a:ext cx="3382920" cy="3313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http://t3.gstatic.com/images?q=tbn:ULCXGhvYA4_e_M:http://www.appletonwoods.co.uk/acatalog/GC47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407664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http://t1.gstatic.com/images?q=tbn:ANd9GcRYNqbj5I97mYRGojmkfPMHnK5f-yc_EJaj5Gn1BD7vL9fshDg5tg"/>
          <p:cNvPicPr/>
          <p:nvPr/>
        </p:nvPicPr>
        <p:blipFill>
          <a:blip r:embed="rId5"/>
          <a:stretch/>
        </p:blipFill>
        <p:spPr>
          <a:xfrm>
            <a:off x="1116000" y="3716280"/>
            <a:ext cx="4103640" cy="182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t3.gstatic.com/images?q=tbn:ANd9GcSLKIW2EebW_NisJ5BnG5uC6dgr2XSY7vL1e2fZycNJQd-EWWi4"/>
          <p:cNvPicPr/>
          <p:nvPr/>
        </p:nvPicPr>
        <p:blipFill>
          <a:blip r:embed="rId6"/>
          <a:stretch/>
        </p:blipFill>
        <p:spPr>
          <a:xfrm>
            <a:off x="1187280" y="620640"/>
            <a:ext cx="3384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pore test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( biological indicator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Picture 2" descr="http://t3.gstatic.com/images?q=tbn:ANd9GcSdboxK-R_6CWjC3sgi7dGMAGcDSgah81KIauTKkKMHBTiQiVaN"/>
          <p:cNvPicPr/>
          <p:nvPr/>
        </p:nvPicPr>
        <p:blipFill>
          <a:blip r:embed="rId1"/>
          <a:stretch/>
        </p:blipFill>
        <p:spPr>
          <a:xfrm>
            <a:off x="2340000" y="2060640"/>
            <a:ext cx="4032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Moist heat: Other Applic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Pasteuriz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d heat at temperatures sufficient to inactivate harmful  organism in </a:t>
            </a:r>
            <a:r>
              <a:rPr b="0" lang="en-US" sz="2400" spc="-1" strike="noStrike">
                <a:solidFill>
                  <a:srgbClr val="c2ebff"/>
                </a:solidFill>
                <a:latin typeface="Tahoma"/>
                <a:ea typeface="SimSun"/>
              </a:rPr>
              <a:t>mil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  The temperatures  of sterilization is not  achiev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emperature may be 74°C,  for 3-5 seconds. (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Flash  metho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 or 62°C for 30 minutes. (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Conventional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Boil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quite common  especially in domestic circumsta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1- Define the terms sterilization, disinfectant and antisept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2- Classify the different methods of sterilization (physical and chemical method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3- Know and realizes that heat is the most important method of sterilization and its application in medical pract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teurization of mil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event diseases lik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hoid 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rucel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ubercu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Q 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Sterilization by Chem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Useful for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SimSun"/>
              </a:rPr>
              <a:t>heat sensitive materia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.g. plastics and lensed endoscopes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1. 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  <a:ea typeface="SimSun"/>
              </a:rPr>
              <a:t>Ethylene Oxide Chamb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thylene oxide alkylates DNA molecules and thereby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inactivates microorganis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thylenes oxide may caus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SimSun"/>
              </a:rPr>
              <a:t>explos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if used pure so it is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mixed with an inert gas .Requires high humidity (50-60% ) .Temperature : </a:t>
            </a:r>
            <a:r>
              <a:rPr b="0" lang="en-US" sz="1800" spc="-1" strike="noStrike">
                <a:solidFill>
                  <a:srgbClr val="00b0f0"/>
                </a:solidFill>
                <a:latin typeface="Tahoma"/>
                <a:ea typeface="SimSun"/>
              </a:rPr>
              <a:t>55-60°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and exposure period </a:t>
            </a:r>
            <a:r>
              <a:rPr b="0" lang="en-US" sz="1800" spc="-1" strike="noStrike">
                <a:solidFill>
                  <a:srgbClr val="92d050"/>
                </a:solidFill>
                <a:latin typeface="Tahoma"/>
                <a:ea typeface="SimSun"/>
              </a:rPr>
              <a:t>4-6 hou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2.   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  <a:ea typeface="SimSun"/>
              </a:rPr>
              <a:t>Activated alkaline Gluteraldehyde 2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Immerse item in solution for about 20 mins.  If 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Mycobacterium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tuberculosis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or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spor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present then immersion period 2-3 hou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Chem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Some strong chemical substances may be used to achieve sterilization ( kill spores) e.g.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Gluteraldehy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thylene oxide.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Used for heat sensitive equip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Disinfectants /Antisep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eg. phenolics, chlorhexidine, alcohol, etc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infectants /Antisept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600200"/>
          <a:ext cx="7859880" cy="4619520"/>
        </p:xfrm>
        <a:graphic>
          <a:graphicData uri="http://schemas.openxmlformats.org/drawingml/2006/table">
            <a:tbl>
              <a:tblPr/>
              <a:tblGrid>
                <a:gridCol w="1549440"/>
                <a:gridCol w="790560"/>
                <a:gridCol w="1020600"/>
                <a:gridCol w="801720"/>
                <a:gridCol w="603360"/>
                <a:gridCol w="831960"/>
                <a:gridCol w="701640"/>
                <a:gridCol w="156060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Disinfecta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P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ctivity again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T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nactivated b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orros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N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po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rote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o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henol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ud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Iz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olub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henolic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e.g. clears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o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hlor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ompou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or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 +</a:t>
                      </a: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buffered Solutio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Lodoph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Slow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Chlorhexid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(Hibitan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70°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lcoh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ctr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Formaldehy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(slow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ctr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Glutaraldehy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(Cide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Factors influencing activity of disinfect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1. Activity directly proportional t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2. Directly proportional t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up to a poi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optimum concentration.  After this level no advantage in further increases in concen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http://t1.gstatic.com/images?q=tbn:HzalTD8j-GR8PM:http://www.prlog.org/10383255-chemical-disinfectan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5229360"/>
            <a:ext cx="1152360" cy="1295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://t3.gstatic.com/images?q=tbn:Ef73UlvzVqfq-M:http://www.chemistryland.com/CHM130W/06-Nomenclature/NomenclatureHealth/Chlorate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5157720"/>
            <a:ext cx="1368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Factors influencing activity of disinfect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3. Disinfectants may be inactivated by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Di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Organic matter : Proteins, Pus, Blood, Mucus and F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Non organic: Cork, Hard  water and Some plastic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4.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: Disinfectants need time to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5.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Range of 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Disinfectants not equally effective against the whole spectrum of microbes.  e.g.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Chlorhexid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less active against Gram negative bacteria than Gram positive cocc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Hypochlorit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Gluteraldehy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re more active against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hepatitis virus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an most other disinfectant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ospital disinfection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rticl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isinfec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oors, walls                 Phenolics fluids 1-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faces tables            Hypochlorite, Alcoho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k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ge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nds            Chlorhexidine, I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tient skin                  70% Alcohol, I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ahoma"/>
              </a:rPr>
              <a:t>Endoscop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Gluteraldehyde 2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Cidex), subatmospheric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ahoma"/>
              </a:rPr>
              <a:t>Thermometer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70% Alcohol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ortant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instrument or item used for sterile body site should be ster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instrument or item used for non-sterile body site  can be disinf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 washing is the most important to prevent hospital acquired inf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://t0.gstatic.com/images?q=tbn:fd2MPtPi-CXbJM:http://image.shutterstock.com/display_pic_with_logo/388663/388663,1245079056,31/stock-vector-hand-washing-3207223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573360"/>
            <a:ext cx="5256360" cy="273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t0.gstatic.com/images?q=tbn:8O4k7tUPUvJS_M:http://www.justbathroomsigns.com/img/lg/S/Hand-Wash-Hygiene-Sign-S-4871.gif"/>
          <p:cNvPicPr/>
          <p:nvPr/>
        </p:nvPicPr>
        <p:blipFill>
          <a:blip r:embed="rId3"/>
          <a:stretch/>
        </p:blipFill>
        <p:spPr>
          <a:xfrm>
            <a:off x="5940360" y="620640"/>
            <a:ext cx="2376720" cy="259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://t2.gstatic.com/images?q=tbn:Mw9mdRi1ZDUo-M:http://www.defendingfoodsafety.com/uploads/image/Hand%2520Washing.jpg"/>
          <p:cNvPicPr/>
          <p:nvPr/>
        </p:nvPicPr>
        <p:blipFill>
          <a:blip r:embed="rId4"/>
          <a:stretch/>
        </p:blipFill>
        <p:spPr>
          <a:xfrm>
            <a:off x="1908000" y="692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-cont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5- Know dry heat as applied in hot air oven and moist heat as applied in autocl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7- Know the principles of autoclave function and monitoring methods of sterilization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8- Know the importance of non heat sterilization methods and their use for sterilization of heat sensitive obje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-cont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9-Know the difference between antiseptics and disinfect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10- Classify the disinfectants and antiseptics and know factors affecting their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11- Know different applications for different disinfections and antiseptic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fini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Sterilization: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complete killing of all forms of microorganisms, including bacterial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sp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Disinfection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 killing or removing of harmful vegetative microorgani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Disinfectant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chemical substance used to achieve disinfe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Antiseptic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disinfectant that can be safely used on living tiss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Methods of Steril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  <a:ea typeface="SimSun"/>
              </a:rPr>
              <a:t>Physical method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Heat ( dry heat &amp; moist hea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U.V. L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Ionizing Rad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Filtra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2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  <a:ea typeface="SimSun"/>
              </a:rPr>
              <a:t>Chemical metho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(used for heat sensitive equipmen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Ethylene Oxid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Gluteraldehyd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PHYS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HEAT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: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Most important should be used whenever possi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,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SimSun"/>
              </a:rPr>
              <a:t> typ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-Dry heat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t temperature of 160˚C for one h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- Moist hea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eg.  Autocla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t 121 or 134 C for 10 or 15 minu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Other physical methods :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Radi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SimSun"/>
              </a:rPr>
              <a:t>U.V. ligh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Has limited sterilizing power because of poor penetration into most materials. Generally used in irradiation of air in certain areas such as operating rooms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tuberculos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la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SimSun"/>
              </a:rPr>
              <a:t>Ionizing radiation-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e.g.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Gamma rad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has greater energy than U.V. light, therefore more effective. Used mainly in industrial facilities e.g.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sterilization of disposable plastic syringes, gloves, specimens containers and Petri dish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Other physical methods :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Filtr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May be done under either negative or positive pressure. Example ; </a:t>
            </a:r>
            <a:r>
              <a:rPr b="1" i="1" lang="en-US" sz="2800" spc="-1" strike="noStrike">
                <a:solidFill>
                  <a:srgbClr val="00b0f0"/>
                </a:solidFill>
                <a:latin typeface="Tahoma"/>
                <a:ea typeface="SimSun"/>
              </a:rPr>
              <a:t>membrane filt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made of cellulose acetate. Generally removes most bacteria but viruses and some small bacteria e.g.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  <a:ea typeface="SimSun"/>
              </a:rPr>
              <a:t>Chlamyd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&amp;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  <a:ea typeface="SimSun"/>
              </a:rPr>
              <a:t>Mycoplasm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may pass through. Thus filtration does not technically sterilize items but is adequate for circumstances under which is u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Main use</a:t>
            </a:r>
            <a:r>
              <a:rPr b="0" lang="en-US" sz="2800" spc="-1" strike="noStrike">
                <a:solidFill>
                  <a:srgbClr val="c2ebff"/>
                </a:solidFill>
                <a:latin typeface="Tahoma"/>
                <a:ea typeface="SimSun"/>
              </a:rPr>
              <a:t>: for heat labile substances e.g. sera, antibio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7:27:43Z</dcterms:created>
  <dc:creator>Prof.Kambal</dc:creator>
  <dc:description/>
  <dc:language>en-US</dc:language>
  <cp:lastModifiedBy>aboo alde</cp:lastModifiedBy>
  <dcterms:modified xsi:type="dcterms:W3CDTF">2015-09-03T14:31:51Z</dcterms:modified>
  <cp:revision>58</cp:revision>
  <dc:subject/>
  <dc:title>Sterilization &amp; Disinfection</dc:title>
</cp:coreProperties>
</file>