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6981-95E0-490B-8263-F021D7B35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AB27-6796-49C0-8AC7-8D5A7C1F9D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93B-7587-4AE8-A7D7-74A13DF09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DE5-F9F8-46AF-AFE7-E9554FC5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70B-B865-4768-84E4-F43FD2FF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B3F-7852-4B15-A266-3D632CA5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834A-F9B6-4F8D-AAAA-8E614D9D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C23D-1675-4775-AA68-1AB77747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09CE-B103-4A2B-B736-1B347E56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0FAA-A5CC-401C-93C1-1414C66C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ACBB-145A-44C3-A610-02FE0EDE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5B4E-748A-4F11-A9B5-849BD939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7904-0D7D-4C40-A81A-B35CCB07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DA09-2105-4D72-A632-463A1B33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71BD-B31A-4F02-B33E-470B8C5E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4A6D-DD44-48F0-9525-7EC81C2C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E78E-B279-4D1B-A1D8-19DCD3DD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9577-9A86-435E-AF77-FEE8D611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4568-15D7-4EDD-927B-C6245EB4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569C-AE55-44C8-B566-8DFC931E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C2F-8F57-459A-B9A9-E6DDABBA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B1B-A626-4843-923D-756CD72D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0168-5697-472F-85F3-3BB97E2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2716-5F91-4E29-9D83-86AC6E39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BDB2-614B-4072-B3EB-80E345C9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9E6-A42F-4780-A097-267A2081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650D-833A-494D-A142-D709AA4E793F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40E8-A19E-43F6-923C-E7D2CA8C9113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uckol.com/uploadFiles/upimg26/Microfiltration-Membrane-Filters.jpg&amp;imgrefurl=http://www.duckol.com/Wholesale_m/Membrane-Switch-56036.htm&amp;usg=__P9oH-z4D-qmRCGcHk5qq7IUjNPo=&amp;h=360&amp;w=360&amp;sz=25&amp;hl=en&amp;start=4&amp;zoom=1&amp;tbnid=Fo27iUeAdcieTM:&amp;tbnh=121&amp;tbnw=121&amp;prev=/images%3Fq%3DMEMBRANE%2BFILTERS%26hl%3Den%26safe%3Dactive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google.com/imgres?imgurl=http://images2.opticsplanet.com/640-640/opplanet-whatman-filter-holders-for-nuclepore-membrane-filters-whatman-420200.jpg&amp;imgrefurl=http://www.opticsplanet.net/printable-whatman-filter-holders-for-nuclepore-membrane-filters-whatman-420200.html&amp;usg=__-6h4s7ngtXvhow07wJ4VzDwj0eI=&amp;h=246&amp;w=246&amp;sz=24&amp;hl=en&amp;start=12&amp;zoom=1&amp;tbnid=35FVmUfK3cURBM:&amp;tbnh=110&amp;tbnw=110&amp;prev=/images%3Fq%3DMEMBRANE%2BFILTERS%26hl%3Den%26safe%3Dactive%26gbv%3D2%26tbs%3Disch:1&amp;itbs=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com/imgres?imgurl=http://www.trinityfiltration.in/images/membrane-filters.jpg&amp;imgrefurl=http://www.trinityfiltration.in/membrane-filters-for-critical-pharmaceutical-application.html&amp;usg=__ju5fCM1xbUqgnl_IIEG9Ms-2xRU=&amp;h=231&amp;w=230&amp;sz=10&amp;hl=en&amp;start=9&amp;zoom=0&amp;tbnid=4ZGd9vK2iMgHGM:&amp;tbnh=108&amp;tbnw=108&amp;prev=/images%3Fq%3DMEMBRANE%2BFILTERS%26hl%3Den%26safe%3Dactive%26gbv%3D2%26tbs%3Disch:1&amp;itbs=1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google.com/imgres?imgurl=http://imghost1.indiamart.com/data2/YY/NJ/MY-1857873/membrane_pic-500x500-250x250.jpg&amp;imgrefurl=http://www.indiamart.com/nishotechsystems/seperation-technologies.html&amp;usg=__wLfYWbndq_7fMhxtAoepepofDXs=&amp;h=250&amp;w=250&amp;sz=9&amp;hl=en&amp;start=15&amp;zoom=1&amp;tbnid=wionk_8EKOMzXM:&amp;tbnh=111&amp;tbnw=111&amp;prev=/images%3Fq%3DMEMBRANE%2BFILTERS%26hl%3Den%26safe%3Dactive%26gbv%3D2%26tbs%3Disch:1&amp;itbs=1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home.netvigator.com/~pdsuter/pic/machine003.jpg&amp;imgrefurl=http://home.netvigator.com/~pdsuter/bread_machine.html&amp;usg=__v9wMu_0Z2pmqH75VnAHeYV4MUP4=&amp;h=388&amp;w=350&amp;sz=34&amp;hl=en&amp;start=10&amp;zoom=1&amp;tbnid=Ebw2yJKQ-mhOjM:&amp;tbnh=123&amp;tbnw=111&amp;prev=/images%3Fq%3DHOT%2BAIR%2BOVEN%26hl%3Den%26safe%3Dactive%26sa%3DG%26gbv%3D2%26tbs%3Disch:1&amp;itbs=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upplierlist.com/photo_images/70930/12L_Simple_Autoclave.jpg&amp;imgrefurl=http://www.supplierlist.com/made_in_china/products/p0/Autoclave/30857_manufacturers.htm&amp;usg=__YqlPiu14UAuPwYA_m16-WaOHIVo=&amp;h=336&amp;w=336&amp;sz=24&amp;hl=en&amp;start=3&amp;zoom=1&amp;tbnid=_7dcwyvnfhz3jM:&amp;tbnh=119&amp;tbnw=119&amp;prev=/images%3Fq%3DAUTOCLAVES%26hl%3Den%26safe%3Dactive%26sa%3DG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img.directindustry.com/images_di/photo-g/laboratory-autoclave-with-hydraulic-door-305058.jpg&amp;imgrefurl=http://www.directindustry.com/prod/priorclave/laboratory-autoclave-with-hydraulic-door-23066-305058.html&amp;usg=__Uwvdy60hxYHVPFf4gSCwRaE2wTE=&amp;h=651&amp;w=831&amp;sz=211&amp;hl=en&amp;start=2&amp;zoom=1&amp;tbnid=y8mNYJ04N1XtxM:&amp;tbnh=113&amp;tbnw=144&amp;prev=/images%3Fq%3DAUTOCLAVES%26hl%3Den%26safe%3Dactive%26sa%3DG%26gbv%3D2%26tbs%3Disch:1&amp;itbs=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www.google.com/imgres?imgurl=http://www.lifelinemedical.net/_images/manautoclave-01b.jpg&amp;imgrefurl=http://www.lifelinemedical.net/manual_autoclaves.html&amp;usg=__8-pYakhkqCkQjbaX5N5Fs5AgwsM=&amp;h=308&amp;w=424&amp;sz=95&amp;hl=en&amp;start=4&amp;zoom=1&amp;tbnid=dNI8EWwQs12WjM:&amp;tbnh=92&amp;tbnw=126&amp;prev=/images%3Fq%3DAUTOCLAVES%26hl%3Den%26safe%3Dactive%26sa%3DG%26gbv%3D2%26tbs%3Disch:1&amp;itbs=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rds.yahoo.com/_ylt=A0WTb_o.XLlMVCwA0yWJzbkF;_ylu=X3oDMTBqY2pzbGhoBHBvcwMxMQRzZWMDc3IEdnRpZAM-/SIG=1k7ejdo7v/EXP=1287302590/**http%3A//images.search.yahoo.com/images/view%3Fback=http%253A%252F%252Fimages.search.yahoo.com%252Fsearch%252Fimages%253Fp%253Dschematic%252Bdiagram%252Bof%252Bautoclaves%2526ei%253Dutf-8%2526y%253DSearch%2526fr%253Dyfp-t-701%26w=293%26h=238%26imgurl=www.swingstargroup.com%252Fimages%252Fbattery_rectifier.jpg%26rurl=http%253A%252F%252Fwww.swingstargroup.com%252Flha_construction.htm%26size=25KB%26name=Sterilizers%252C%2BAut...%26p=schematic%2Bdiagram%2Bof%2Bautoclaves%26oid=8d9ca6ae4b539bb97990611433d12e95%26fr2=%26spell_query=schematic%2B%2Bof%2Bautoclaves%26no=11%26tt=15%26sigr=11i55tua3%26sigi=11jftar63%26sigb=13dlv8kor" TargetMode="External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tradevv.com/2009/07/24/newera1_432969_450/autoclave-tape.jpg&amp;imgrefurl=http://www.tradevv.com/chinasuppliers/newera1_p_69b49/china-Autoclave-Tape.html&amp;usg=__xaBaz_SzR_6eF8p_RD4qJ-2ZIB4=&amp;h=450&amp;w=450&amp;sz=27&amp;hl=en&amp;start=2&amp;zoom=1&amp;tbnid=-fl8eKyMIEsIRM:&amp;tbnh=127&amp;tbnw=127&amp;prev=/images%3Fq%3DAUTOCLAVE%2B%2BTAPE%26hl%3Den%26safe%3Dactive%26sa%3DG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google.com/imgres?imgurl=http://www.appletonwoods.co.uk/acatalog/GC471.jpg&amp;imgrefurl=http://www.appletonwoods.co.uk/acatalog/Autoclave_Indicator_Tubes.html&amp;usg=__88qBwPivzadrsB_XUNeHuOtGhK4=&amp;h=220&amp;w=260&amp;sz=14&amp;hl=en&amp;start=14&amp;zoom=1&amp;tbnid=ULCXGhvYA4_e_M:&amp;tbnh=95&amp;tbnw=112&amp;prev=/images%3Fq%3DBROWNE%2527S%2BTUBES%26hl%3Den%26safe%3Dactive%26sa%3DG%26gbv%3D2%26tbs%3Disch:1&amp;itbs=1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rlog.org/10383255-chemical-disinfectants.jpg&amp;imgrefurl=http://www.prlog.org/10383255-use-of-chemical-disinfectants.html&amp;usg=__LFbaZGdUee78g07KL8kRLuVFDds=&amp;h=250&amp;w=163&amp;sz=11&amp;hl=en&amp;start=3&amp;zoom=1&amp;tbnid=HzalTD8j-GR8PM:&amp;tbnh=111&amp;tbnw=72&amp;prev=/images%3Fq%3DCHEMICAL%2BDISINFECTANTS%26hl%3Den%26safe%3Dactive%26sa%3DG%26gbv%3D2%26tbs%3Disch:1&amp;itbs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m/imgres?imgurl=http://www.chemistryland.com/CHM130W/06-Nomenclature/NomenclatureHealth/Chlorates.jpg&amp;imgrefurl=http://www.chemistryland.com/CHM130W/06-Nomenclature/NomenclatureHealth/NomenHealth.htm&amp;usg=__4P8nVvpOT2a6-qgAjtsBuJ2r6ts=&amp;h=560&amp;w=512&amp;sz=66&amp;hl=en&amp;start=8&amp;zoom=1&amp;tbnid=Ef73UlvzVqfq-M:&amp;tbnh=133&amp;tbnw=122&amp;prev=/images%3Fq%3DSYMBOL%2BSTERILIZATION%2BAND%2BDISINFECTION%26hl%3Den%26safe%3Dactive%26gbv%3D2%26tbs%3Disch:1&amp;itbs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388663/388663,1245079056,31/stock-vector-hand-washing-32072236.jpg&amp;imgrefurl=http://www.shutterstock.com/pic-32072236/stock-vector-hand-washing.html&amp;usg=__3gjTJdu9k_PX_XEjtg7zBOPU-r4=&amp;h=470&amp;w=447&amp;sz=74&amp;hl=en&amp;start=17&amp;zoom=1&amp;tbnid=fd2MPtPi-CXbJM:&amp;tbnh=129&amp;tbnw=123&amp;prev=/images%3Fq%3Dsymbol%2Bhand%2Bwashing%26hl%3Den%26safe%3Dactive%26sa%3DG%26gbv%3D2%26tbs%3Disch:1&amp;itbs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&amp; Disinfe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f. Hanan Habib &amp; Dr. AbdulAziz Al-khata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ege Of Medicine-K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ttp://t3.gstatic.com/images?q=tbn:Fo27iUeAdcieTM:http://www.duckol.com/uploadFiles/upimg26/Microfiltration-Membrane-Filt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62064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http://t1.gstatic.com/images?q=tbn:35FVmUfK3cURBM:http://images2.opticsplanet.com/640-640/opplanet-whatman-filter-holders-for-nuclepore-membrane-filters-whatman-420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620640"/>
            <a:ext cx="2447640" cy="30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http://t1.gstatic.com/images?q=tbn:4ZGd9vK2iMgHGM:http://www.trinityfiltration.in/images/membrane-filte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49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http://t3.gstatic.com/images?q=tbn:wionk_8EKOMzXM:http://imghost1.indiamart.com/data2/YY/NJ/MY-1857873/membrane_pic-500x500-250x25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422100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terilization by Hea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Common methods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Dry He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Dry Heat- kills microorganisms by destroying their oxidative proce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Simplest method is exposing item to be sterilized to the naked flame e.g. Bunsen burner- for sterilizing bacteriological loops, knives, bla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Hot air oven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expose items to 160 °C for 1 ho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electric element in chamber as source of heat plus a fan to circulate air for even distribution of heat in chamber. Oven without fan is dangerous. Used for items that are lacking water such 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Me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Glass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Ointment / Oils/ Waxes /Pow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http://t2.gstatic.com/images?q=tbn:Ebw2yJKQ-mhOjM:http://home.netvigator.com/~pdsuter/pic/machine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653000"/>
            <a:ext cx="19432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Moist He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s hot water. Moist heat kills microorganisms by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denaturating prote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standard sterilization method in hospi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equipment is calle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it works under the same principle as the pressure cooker whe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water boil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at increased atmosphere pressure i.e. because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increase pressur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boiling point of water is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&gt;100 °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autoclave is a tough double walled chamber in which air is replaced by pure saturated steam under pressur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http://t0.gstatic.com/images?q=tbn:_7dcwyvnfhz3jM:http://www.supplierlist.com/photo_images/70930/12L_Simple_Autocl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t1.gstatic.com/images?q=tbn:y8mNYJ04N1XtxM:http://img.directindustry.com/images_di/photo-g/laboratory-autoclave-with-hydraulic-door-30505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3748320" cy="4680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t0.gstatic.com/images?q=tbn:dNI8EWwQs12WjM:http://www.lifelinemedical.net/_images/manautoclave-01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93080" y="3933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62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Advantages of Autoclav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. &gt; 100 C therefo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 ki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ndensation of steam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gene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extra h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condensation also allows the steam 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SimSun"/>
              </a:rPr>
              <a:t>penetrate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rapidly into porous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Note: for all invasive procedures at operating room or clinics, autoclavable equipments should be us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n the chamber is evacuated and filled with saturated steam. The chamber is closed tightly the steam keeps on filling into it and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pressure gradually incre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The items to be sterilized get completely surrounded by saturated steam (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oist h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) which on contact with the surface of material to be sterilized condenses to release it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tent hea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of condensation which adds to already raised temperature of steam so that eventually all the microorganisms in what ever form are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The usual temperature achieved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21 °C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, exposure time of onl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5 mins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Monitoring of Autoclav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Physical method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 of thermocouple to measure accurately the temper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Chemical metho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t consists of heat sensitive chemical that changes color at the right temperature and exposure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.    a)-  Autoclave t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b)- Browne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  <a:ea typeface="SimSun"/>
              </a:rPr>
              <a:t>’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 tu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Biolog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meth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 where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spo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bearing organism is added during the sterilization process and then cultured later to ensure that it has been kill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http://t0.gstatic.com/images?q=tbn:-fl8eKyMIEsIRM:http://image.tradevv.com/2009/07/24/newera1_432969_450/autoclave-ta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33360"/>
            <a:ext cx="3382920" cy="3313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http://t3.gstatic.com/images?q=tbn:ULCXGhvYA4_e_M:http://www.appletonwoods.co.uk/acatalog/GC47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407664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http://t1.gstatic.com/images?q=tbn:ANd9GcRYNqbj5I97mYRGojmkfPMHnK5f-yc_EJaj5Gn1BD7vL9fshDg5tg"/>
          <p:cNvPicPr/>
          <p:nvPr/>
        </p:nvPicPr>
        <p:blipFill>
          <a:blip r:embed="rId5"/>
          <a:stretch/>
        </p:blipFill>
        <p:spPr>
          <a:xfrm>
            <a:off x="1116000" y="3716280"/>
            <a:ext cx="4103640" cy="182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http://t3.gstatic.com/images?q=tbn:ANd9GcSLKIW2EebW_NisJ5BnG5uC6dgr2XSY7vL1e2fZycNJQd-EWWi4"/>
          <p:cNvPicPr/>
          <p:nvPr/>
        </p:nvPicPr>
        <p:blipFill>
          <a:blip r:embed="rId6"/>
          <a:stretch/>
        </p:blipFill>
        <p:spPr>
          <a:xfrm>
            <a:off x="1187280" y="620640"/>
            <a:ext cx="338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ore test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( biological indicator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2" descr="http://t3.gstatic.com/images?q=tbn:ANd9GcSdboxK-R_6CWjC3sgi7dGMAGcDSgah81KIauTKkKMHBTiQiVaN"/>
          <p:cNvPicPr/>
          <p:nvPr/>
        </p:nvPicPr>
        <p:blipFill>
          <a:blip r:embed="rId1"/>
          <a:stretch/>
        </p:blipFill>
        <p:spPr>
          <a:xfrm>
            <a:off x="2340000" y="2060640"/>
            <a:ext cx="4032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oist heat: Other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Pasteur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heat at temperatures sufficient to inactivate harmful  organism in </a:t>
            </a:r>
            <a:r>
              <a:rPr b="0" lang="en-US" sz="2400" spc="-1" strike="noStrike">
                <a:solidFill>
                  <a:srgbClr val="c2ebff"/>
                </a:solidFill>
                <a:latin typeface="Tahoma"/>
                <a:ea typeface="SimSun"/>
              </a:rPr>
              <a:t>mi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  The temperatures  of sterilization is not  achie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erature may be 74°C,  for 3-5 second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Flash  metho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or 62°C for 30 minute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Conventional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Boil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quite common  especially in domestic circum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1- Define the terms sterilization, disinfectant and antisept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2- Classify the different methods of sterilization (physical and chemical method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3- Know and realizes that heat is the most important method of sterilization and its application in medical pract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teurization of mil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diseases lik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hoid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rucel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Q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Sterilization by 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Useful for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heat sensitive materi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.g. plastics and lensed endoscope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1.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Ethylene Oxide Chamb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 oxide alkylates DNA molecules and thereb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nactivates microorganis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s oxide may caus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explo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if used pure so it is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mixed with an inert gas .Requires high humidity (50-60% ) .Temperature : </a:t>
            </a:r>
            <a:r>
              <a:rPr b="0" lang="en-US" sz="1800" spc="-1" strike="noStrike">
                <a:solidFill>
                  <a:srgbClr val="00b0f0"/>
                </a:solidFill>
                <a:latin typeface="Tahoma"/>
                <a:ea typeface="SimSun"/>
              </a:rPr>
              <a:t>55-60°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and exposure period 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  <a:ea typeface="SimSun"/>
              </a:rPr>
              <a:t>4-6 hou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2.  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Activated alkaline Gluteraldehyde 2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mmerse item in solution for about 20 mins.  If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Mycobacterium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tuberculosis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or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spor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present then immersion period 2-3 ho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ome strong chemical substances may be used to achieve sterilization ( kill spores) e.g.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thylene oxide.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Used for heat sensitive equip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Disinfectants /Antisep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phenolics, chlorhexidine, alcohol, etc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infectants /Antisept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00200"/>
          <a:ext cx="7859880" cy="4619520"/>
        </p:xfrm>
        <a:graphic>
          <a:graphicData uri="http://schemas.openxmlformats.org/drawingml/2006/table">
            <a:tbl>
              <a:tblPr/>
              <a:tblGrid>
                <a:gridCol w="1549440"/>
                <a:gridCol w="790560"/>
                <a:gridCol w="1020600"/>
                <a:gridCol w="801720"/>
                <a:gridCol w="603360"/>
                <a:gridCol w="831960"/>
                <a:gridCol w="701640"/>
                <a:gridCol w="15606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Disinfect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vity again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T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nactivated 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rros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N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p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ud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Iz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lu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e.g. clears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hlor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mp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r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+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buffered Solutio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Lodoph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Chlorhexid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Hibitan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70°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coh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Form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Glutar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Cide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1. Activity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up to a poi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optimum concentration.  After this level no advantage in further increases in concen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http://t1.gstatic.com/images?q=tbn:HzalTD8j-GR8PM:http://www.prlog.org/10383255-chemical-disinfecta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t3.gstatic.com/images?q=tbn:Ef73UlvzVqfq-M:http://www.chemistryland.com/CHM130W/06-Nomenclature/NomenclatureHealth/Chlora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515772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3. Disinfectants may be inactivated by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Di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Organic matter : Proteins, Pus, Blood, Mucus and F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Non organic: Cork, Hard  water and Some plast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4.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: Disinfectants need time to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5.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Range of 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Disinfectants not equally effective against the whole spectrum of microbes.  e.g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Chlorhexid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ess active against Gram negative bacteria than Gram positive coc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ypochlorit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re more active against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epatitis virus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an most other disinfectan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spital disinfection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tic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sinfec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rs, walls                 Phenolics fluids 1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faces tables            Hypochlorite, Alcoh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k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ge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nds            Chlorhexidine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ient skin                  70% Alcohol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ahoma"/>
              </a:rPr>
              <a:t>Endoscop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Gluteraldehyde 2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idex), subatmospheri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Thermometer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70% Alcohol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rtant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sterile body site should be ster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non-sterile body site  can be disinf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 washing is the most important to prevent hospital acquired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t0.gstatic.com/images?q=tbn:fd2MPtPi-CXbJM:http://image.shutterstock.com/display_pic_with_logo/388663/388663,1245079056,31/stock-vector-hand-washing-32072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573360"/>
            <a:ext cx="525636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t0.gstatic.com/images?q=tbn:8O4k7tUPUvJS_M:http://www.justbathroomsigns.com/img/lg/S/Hand-Wash-Hygiene-Sign-S-4871.gif"/>
          <p:cNvPicPr/>
          <p:nvPr/>
        </p:nvPicPr>
        <p:blipFill>
          <a:blip r:embed="rId3"/>
          <a:stretch/>
        </p:blipFill>
        <p:spPr>
          <a:xfrm>
            <a:off x="5940360" y="62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t2.gstatic.com/images?q=tbn:Mw9mdRi1ZDUo-M:http://www.defendingfoodsafety.com/uploads/image/Hand%2520Washing.jpg"/>
          <p:cNvPicPr/>
          <p:nvPr/>
        </p:nvPicPr>
        <p:blipFill>
          <a:blip r:embed="rId4"/>
          <a:stretch/>
        </p:blipFill>
        <p:spPr>
          <a:xfrm>
            <a:off x="1908000" y="692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5- Know dry heat as applied in hot air oven and moist heat as applied in autoc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7- Know the principles of autoclave function and monitoring methods of sterilization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8- Know the importance of non heat sterilization methods and their use for sterilization of heat sensitive obje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9-Know the difference between antiseptics and disinfec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0- Classify the disinfectants and antiseptics and know factors affecting their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1- Know different applications for different disinfections and antiseptic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Sterilization: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mplete killing of all forms of microorganisms, including bacteri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ion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killing or removing of harmful vegetative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an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hemical substance used to achieve disinf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Antiseptic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isinfectant that can be safely used on living t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ethods of Ster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Physical method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Heat ( dry heat &amp; moist hea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U.V. L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Filtr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Chemical meth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(used for heat sensitive equipme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Ethylene Ox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Gluteraldehyd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PHYS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HEAT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Most important should be used whenever pos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,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 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Dry heat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temperature of 160˚C for one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 Moist he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 Autocla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121 or 134 C for 10 or 15 minu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Other physical methods :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U.V. ligh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limited sterilizing power because of poor penetration into most materials. Generally used in irradiation of air in certain areas such as operating rooms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tubercul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a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.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Gamma rad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has greater energy than U.V. light, therefore more effective. Used mainly in industrial facilities e.g.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terilization of disposable plastic syringes, gloves, specimens containers and Petri dish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Other physical methods :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ilt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y be done under either negative or positive pressure. Example ; </a:t>
            </a:r>
            <a:r>
              <a:rPr b="1" i="1" lang="en-US" sz="2800" spc="-1" strike="noStrike">
                <a:solidFill>
                  <a:srgbClr val="00b0f0"/>
                </a:solidFill>
                <a:latin typeface="Tahoma"/>
                <a:ea typeface="SimSun"/>
              </a:rPr>
              <a:t>membrane fil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de of cellulose acetate. Generally removes most bacteria but viruses and some small bacteria e.g.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Chlamyd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&amp;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Mycoplas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may pass through. Thus filtration does not technically sterilize items but is adequate for circumstances under which is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Main use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: for heat labile substances e.g. sera, antibio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43Z</dcterms:created>
  <dc:creator>Prof.Kambal</dc:creator>
  <dc:description/>
  <dc:language>en-US</dc:language>
  <cp:lastModifiedBy>aboo alde</cp:lastModifiedBy>
  <dcterms:modified xsi:type="dcterms:W3CDTF">2015-09-03T14:31:51Z</dcterms:modified>
  <cp:revision>58</cp:revision>
  <dc:subject/>
  <dc:title>Sterilization &amp; Disinfection</dc:title>
</cp:coreProperties>
</file>