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F9F-6B9E-462E-A127-0B2701F7E9D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18F-6375-4A38-9F50-92211D230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B548-58CD-44A1-9CE9-29C18241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49F-FA95-42B7-A392-CEB49819767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D74C-2038-481C-84F6-CEB2C7D9CCA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5B6-3DA4-4F4C-8D5A-AF527D17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1F7-FB70-4D8F-8F1F-9F2CD44C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41B-CD75-4016-980B-4EFED806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F18-6F9C-471C-8F5C-3C6040CB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F23-7A6C-40F1-8A2E-F1D43400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200-1B74-4351-A0D1-ADE7084B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950-ACFD-4890-A1E7-819495A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F9A-6CA5-429C-AD3A-1D26DAD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A15-3520-470C-9EC9-3234E22C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C4F6-2DB7-47C1-8937-18E363D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032-E773-42E4-9E66-48CAE89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6A7-3E2D-4443-8846-E54D1E21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B99-B5FD-4A6C-8BDD-C3443235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78F2-7575-4D90-ABBF-730E660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5F3-8FEC-4EE8-B564-20E846A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C61-AC0E-4F30-8FA9-6ABAAB1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3338-69D8-4542-A46D-2C985246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09A-A0B8-4087-9854-652D6CC5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C92D-351B-4C64-A49A-41CFB0AE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246A-1B50-4228-8070-9E38437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1BF4-D1C1-46BF-9B71-6CF5E56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694C-0FB0-4E3F-BDA9-91DEA7EF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EC9B-86D8-40F3-A491-A36CD57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8C6-9039-42E4-9DCC-0DBEAAA3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47A3-BBF8-46EB-B85E-11D8B86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DFE2-BBB3-4D33-AE52-C3ACE5C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A71C-F38C-40AB-A7F7-E433EDB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912D-6D11-4AE6-AD18-9F52584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15BF-F0DD-435F-9539-01F46A0A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45DC-5F27-4394-84F2-0EBCF5EB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8406-B001-4023-A50D-5EE4FFE6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3ED-713F-491F-9839-614BBF93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464-AFC7-4273-84DB-A1145B96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8FC-B423-44AC-A750-4A3E6F3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E09-D670-4FBB-A5F6-DCDDB3D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2CF-D7A6-42CA-AB2E-2ECDC88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856-19D8-4448-BF7C-E6982B7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DCA-5766-4A24-A3CF-4DC030933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4A86-2350-4891-98C1-34DADD97F6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D3B-A71E-4AF5-BAB0-AC97727899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Foundation B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05120" y="3019320"/>
            <a:ext cx="5535360" cy="206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of Physiolog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KUH, 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FBC3-4322-48B5-B5CC-E29674F8D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rimary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1676520"/>
            <a:ext cx="7391520" cy="4495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OUR MAJOR TYPES OF TISSUES IN THE HUMAN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vers body surfaces and lines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NE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ds and supports bod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C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body parts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RV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s to stimuli and transmits impulses from one body par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5B4-67CA-482C-BAF2-19A5B350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solidFill>
            <a:srgbClr val="ed9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978440" y="25146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25B-5DB6-4AB3-AFA4-479B93BB90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62040" y="708120"/>
            <a:ext cx="7696080" cy="81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1680" y="1981080"/>
            <a:ext cx="2895480" cy="4114800"/>
          </a:xfrm>
          <a:prstGeom prst="rect">
            <a:avLst/>
          </a:prstGeom>
          <a:solidFill>
            <a:srgbClr val="ffb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s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Funct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nd structure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ll up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support an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ore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662280" y="1981080"/>
            <a:ext cx="4795920" cy="403884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31E-45C4-49F3-939B-3C47E75A5D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cle Tissues: Contract for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330642440" y="2147484240"/>
            <a:ext cx="2147484240" cy="21474828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B02-A76D-401C-B58F-54C5A260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3"/>
          <p:cNvGrpSpPr/>
          <p:nvPr/>
        </p:nvGrpSpPr>
        <p:grpSpPr>
          <a:xfrm>
            <a:off x="838080" y="2438280"/>
            <a:ext cx="7315200" cy="1769760"/>
            <a:chOff x="838080" y="2438280"/>
            <a:chExt cx="7315200" cy="1769760"/>
          </a:xfrm>
        </p:grpSpPr>
        <p:sp>
          <p:nvSpPr>
            <p:cNvPr id="227" name="TextBox 15"/>
            <p:cNvSpPr/>
            <p:nvPr/>
          </p:nvSpPr>
          <p:spPr>
            <a:xfrm>
              <a:off x="838080" y="2438280"/>
              <a:ext cx="1795320" cy="143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6"/>
            <p:cNvSpPr/>
            <p:nvPr/>
          </p:nvSpPr>
          <p:spPr>
            <a:xfrm>
              <a:off x="3232080" y="2438280"/>
              <a:ext cx="1795320" cy="1769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7"/>
            <p:cNvSpPr/>
            <p:nvPr/>
          </p:nvSpPr>
          <p:spPr>
            <a:xfrm>
              <a:off x="6224760" y="2716920"/>
              <a:ext cx="1928520" cy="143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330642440" y="2147484240"/>
            <a:ext cx="2147484240" cy="214748280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4" descr=""/>
          <p:cNvPicPr/>
          <p:nvPr/>
        </p:nvPicPr>
        <p:blipFill>
          <a:blip r:embed="rId3"/>
          <a:srcRect l="0" t="0" r="0" b="33714"/>
          <a:stretch/>
        </p:blipFill>
        <p:spPr>
          <a:xfrm>
            <a:off x="608040" y="2438280"/>
            <a:ext cx="7850160" cy="117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2120" y="2097000"/>
          <a:ext cx="7543800" cy="36943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SKELETAL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SMOOTH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CARDIAC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2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ated (altern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and dark bands)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ched to bon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for m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contr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ontract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strongly but 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 in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ria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ntary contro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in walls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org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e, stoma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vessel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s more slowl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can contract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period of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ated, involuntar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heart musc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only in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ontract quickl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beats your w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thr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637-4A18-4FA1-9C2E-CE0F2A66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11430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rvous Tissues: Conduct Electrochemical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tissue that 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electrical &amp; chemical messages along special cell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Composed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duct messag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 body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nd messag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cell bo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13046"/>
          <a:stretch/>
        </p:blipFill>
        <p:spPr>
          <a:xfrm>
            <a:off x="2438280" y="4495680"/>
            <a:ext cx="4572000" cy="16765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C7B2-CC07-4508-803E-3195F8F02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G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57200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single cell, or a collection of cells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mic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.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Exocrine gland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the gall bladder is an exocrine gland because it secretes bile in a duct.  Sweat glands are exocrine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Endocrine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gland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 chemicals (especi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odstr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pituitary gland, pancreas secretes insulin into the blo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7997-382E-4133-9032-AB452066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7238880" cy="25146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Glial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C91-931B-4C9F-AB41-E1E118068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371600"/>
          </a:xfrm>
          <a:prstGeom prst="rect">
            <a:avLst/>
          </a:prstGeom>
          <a:solidFill>
            <a:srgbClr val="ed9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: Tissues working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4648320" cy="220968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suall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791320" y="2579760"/>
            <a:ext cx="2590560" cy="222084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245-77D1-48BE-B8BC-4F35BC9370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: Tissues working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876560" cy="426744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K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lso an example of an organ.  It is the largest organ, and has several tissue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ody surfaces, gi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water loss and invasion by microorganisms, contai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e org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helps to regulate body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5688000" y="2209680"/>
            <a:ext cx="2846520" cy="281952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1BD6-84B0-4289-8784-929C3E0A77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ysiology Lectures in Foundation 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3048120"/>
          <a:ext cx="6858000" cy="2728800"/>
        </p:xfrm>
        <a:graphic>
          <a:graphicData uri="http://schemas.openxmlformats.org/drawingml/2006/table">
            <a:tbl>
              <a:tblPr/>
              <a:tblGrid>
                <a:gridCol w="4763880"/>
                <a:gridCol w="2094120"/>
              </a:tblGrid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</a:tbl>
          </a:graphicData>
        </a:graphic>
      </p:graphicFrame>
      <p:sp>
        <p:nvSpPr>
          <p:cNvPr id="1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C35D-19F7-4C1C-A429-768E8DFAB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Organ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ocated in specific location, with specific functions. (e.g. digestive sy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ternal organ systems enclosed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avity within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s contribute to maintaining a stable internal environ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e.g. Temp, pH, glucose,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6E6-F5E5-4789-B6B1-D13BDD1C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rcRect l="58566" t="11457" r="11568" b="6250"/>
          <a:stretch/>
        </p:blipFill>
        <p:spPr>
          <a:xfrm>
            <a:off x="1905120" y="608040"/>
            <a:ext cx="5105160" cy="5656320"/>
          </a:xfrm>
          <a:prstGeom prst="rect">
            <a:avLst/>
          </a:prstGeom>
          <a:ln w="0">
            <a:noFill/>
          </a:ln>
        </p:spPr>
      </p:pic>
      <p:sp>
        <p:nvSpPr>
          <p:cNvPr id="2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2547-1E5F-48D0-83E5-29A5A8BB4B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6"/>
          <p:cNvSpPr/>
          <p:nvPr/>
        </p:nvSpPr>
        <p:spPr>
          <a:xfrm>
            <a:off x="3962520" y="2666880"/>
            <a:ext cx="43434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990720" y="596880"/>
          <a:ext cx="228600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96880"/>
                    <a:ext cx="22860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0686-D1BA-4EE0-AEA5-99042034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086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rigin of Nutrients in the Extracellular Fl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2640" y="2209320"/>
            <a:ext cx="7010280" cy="342900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system: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r and other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skelet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53C-ABC0-43D2-92DC-9DF25A32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010280" cy="121896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moval of Metabolic End–Produ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18960" y="2742840"/>
            <a:ext cx="6933960" cy="205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, uric acid, excess water and ions (kidn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5EB-47C1-4D5B-8C40-ABF3BD28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Physiology – defin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874520"/>
            <a:ext cx="769608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cipline of Physiology investigates how the systems operate at different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se systems integrate to form a fully functional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FB7-2E0F-4AB9-8E74-15AC70CB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227-C494-4A09-B7F5-AE7CED0B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286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level of bod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nguish the primary tissues and their su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ze the regulation of extracellular fluid transport and mix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BFA-CFF2-4221-9116-85DE2CAE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6B0-112F-4A9A-983B-DB07E722A20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77760" y="882720"/>
            <a:ext cx="725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Physiology - defini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820800" y="2349360"/>
            <a:ext cx="7408800" cy="24703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y is the Science of the Norm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henomena of Living Th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xford English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477120" y="6153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19E-07F8-406C-A853-0A0B8F7C390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rcRect l="0" t="0" r="0" b="4266"/>
          <a:stretch/>
        </p:blipFill>
        <p:spPr>
          <a:xfrm>
            <a:off x="990720" y="576360"/>
            <a:ext cx="4610160" cy="5884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/>
          <p:cNvSpPr/>
          <p:nvPr/>
        </p:nvSpPr>
        <p:spPr>
          <a:xfrm rot="21375000">
            <a:off x="990720" y="441360"/>
            <a:ext cx="4495680" cy="4191120"/>
          </a:xfrm>
          <a:custGeom>
            <a:avLst/>
            <a:gdLst>
              <a:gd name="textAreaLeft" fmla="*/ 1026360 w 4495680"/>
              <a:gd name="textAreaRight" fmla="*/ 3469320 w 4495680"/>
              <a:gd name="textAreaTop" fmla="*/ 956520 h 4191120"/>
              <a:gd name="textAreaBottom" fmla="*/ 323460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6"/>
          <p:cNvSpPr/>
          <p:nvPr/>
        </p:nvSpPr>
        <p:spPr>
          <a:xfrm flipV="1">
            <a:off x="2743200" y="4479840"/>
            <a:ext cx="228600" cy="137160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371600"/>
              <a:gd name="textAreaBottom" fmla="*/ 1372320 h 1371600"/>
            </a:gdLst>
            <a:ahLst/>
            <a:rect l="textAreaLeft" t="textAreaTop" r="textAreaRight" b="textAreaBottom"/>
            <a:pathLst>
              <a:path fill="none" w="21600" h="20662">
                <a:moveTo>
                  <a:pt x="6295" y="-1"/>
                </a:moveTo>
                <a:cubicBezTo>
                  <a:pt x="15387" y="2769"/>
                  <a:pt x="21600" y="11157"/>
                  <a:pt x="21600" y="20662"/>
                </a:cubicBezTo>
              </a:path>
              <a:path stroke="0" w="21600" h="20662">
                <a:moveTo>
                  <a:pt x="6295" y="-1"/>
                </a:moveTo>
                <a:cubicBezTo>
                  <a:pt x="15387" y="2769"/>
                  <a:pt x="21600" y="11157"/>
                  <a:pt x="21600" y="20662"/>
                </a:cubicBezTo>
                <a:lnTo>
                  <a:pt x="0" y="20662"/>
                </a:lnTo>
                <a:lnTo>
                  <a:pt x="6295" y="-1"/>
                </a:lnTo>
                <a:close/>
              </a:path>
            </a:pathLst>
          </a:custGeom>
          <a:noFill/>
          <a:ln w="9360">
            <a:solidFill>
              <a:srgbClr val="9d6f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7"/>
          <p:cNvSpPr/>
          <p:nvPr/>
        </p:nvSpPr>
        <p:spPr>
          <a:xfrm flipH="1" flipV="1">
            <a:off x="3504600" y="4470480"/>
            <a:ext cx="228600" cy="1226880"/>
          </a:xfrm>
          <a:custGeom>
            <a:avLst/>
            <a:gdLst>
              <a:gd name="textAreaLeft" fmla="*/ -360 w 228600"/>
              <a:gd name="textAreaRight" fmla="*/ 228600 w 228600"/>
              <a:gd name="textAreaTop" fmla="*/ 360 h 1226880"/>
              <a:gd name="textAreaBottom" fmla="*/ 1227600 h 1226880"/>
            </a:gdLst>
            <a:ahLst/>
            <a:rect l="textAreaLeft" t="textAreaTop" r="textAreaRight" b="textAreaBottom"/>
            <a:pathLst>
              <a:path fill="none" w="21600" h="21612">
                <a:moveTo>
                  <a:pt x="2387" y="-1"/>
                </a:moveTo>
                <a:cubicBezTo>
                  <a:pt x="13325" y="1215"/>
                  <a:pt x="21600" y="10461"/>
                  <a:pt x="21600" y="21467"/>
                </a:cubicBezTo>
                <a:cubicBezTo>
                  <a:pt x="21600" y="21515"/>
                  <a:pt x="21599" y="21563"/>
                  <a:pt x="21599" y="21612"/>
                </a:cubicBezTo>
              </a:path>
              <a:path stroke="0" w="21600" h="21612">
                <a:moveTo>
                  <a:pt x="2387" y="-1"/>
                </a:moveTo>
                <a:cubicBezTo>
                  <a:pt x="13325" y="1215"/>
                  <a:pt x="21600" y="10461"/>
                  <a:pt x="21600" y="21467"/>
                </a:cubicBezTo>
                <a:cubicBezTo>
                  <a:pt x="21600" y="21515"/>
                  <a:pt x="21599" y="21563"/>
                  <a:pt x="21599" y="21612"/>
                </a:cubicBezTo>
                <a:lnTo>
                  <a:pt x="0" y="21467"/>
                </a:lnTo>
                <a:lnTo>
                  <a:pt x="2387" y="-1"/>
                </a:lnTo>
                <a:close/>
              </a:path>
            </a:pathLst>
          </a:custGeom>
          <a:noFill/>
          <a:ln w="9360">
            <a:solidFill>
              <a:srgbClr val="9d6f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446640" y="5992920"/>
            <a:ext cx="5331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514600" y="5972040"/>
            <a:ext cx="6094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95520" y="5622840"/>
            <a:ext cx="6858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316320" y="5616720"/>
            <a:ext cx="762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268360" y="1481040"/>
            <a:ext cx="19051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and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638680" y="1604880"/>
            <a:ext cx="2819520" cy="350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 of the 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iomedic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eleven different bod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990720" y="441360"/>
            <a:ext cx="4495680" cy="4191120"/>
          </a:xfrm>
          <a:custGeom>
            <a:avLst/>
            <a:gdLst>
              <a:gd name="textAreaLeft" fmla="*/ 1026360 w 4495680"/>
              <a:gd name="textAreaRight" fmla="*/ 3469320 w 4495680"/>
              <a:gd name="textAreaTop" fmla="*/ 956520 h 4191120"/>
              <a:gd name="textAreaBottom" fmla="*/ 323460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332000" y="205740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886200" y="303228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3419640" y="2489040"/>
            <a:ext cx="76176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211640" y="2057400"/>
            <a:ext cx="7621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523880" y="3032280"/>
            <a:ext cx="106704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dio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195640" y="248904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r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1219320" y="2498760"/>
            <a:ext cx="83808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2743200" y="303228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3581280" y="3946680"/>
            <a:ext cx="129564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1905120" y="3946680"/>
            <a:ext cx="106668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Phys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2813040" y="4294080"/>
            <a:ext cx="91440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2700360" y="205740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2781360" y="348948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419720" y="2498760"/>
            <a:ext cx="106668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um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rcRect l="39240" t="21875" r="24451" b="6250"/>
          <a:stretch/>
        </p:blipFill>
        <p:spPr>
          <a:xfrm>
            <a:off x="2819520" y="600120"/>
            <a:ext cx="3809880" cy="4581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396252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1BC-4938-4E5C-A5CB-D5314AAB3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762120" y="2362320"/>
            <a:ext cx="754380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471-2B44-49E1-A309-65C21267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12073" t="0" r="2905" b="3406"/>
          <a:stretch/>
        </p:blipFill>
        <p:spPr>
          <a:xfrm>
            <a:off x="811080" y="358920"/>
            <a:ext cx="7507440" cy="5734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4521240" y="2035080"/>
            <a:ext cx="19731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4280040" y="2079720"/>
            <a:ext cx="230040" cy="185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927000" y="1444680"/>
            <a:ext cx="228600" cy="18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457200" y="3195720"/>
            <a:ext cx="233280" cy="189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003320" y="5573880"/>
            <a:ext cx="231840" cy="185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155600" y="1386000"/>
            <a:ext cx="261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63480" y="3164040"/>
            <a:ext cx="1946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4194000" y="5781600"/>
            <a:ext cx="230400" cy="189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381560" y="5738760"/>
            <a:ext cx="3875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231920" y="5540400"/>
            <a:ext cx="267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6478560" y="4886280"/>
            <a:ext cx="231840" cy="18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6715080" y="4778280"/>
            <a:ext cx="20606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 flipV="1">
            <a:off x="2994120" y="4183200"/>
            <a:ext cx="15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 flipH="1" flipV="1">
            <a:off x="4203720" y="3486240"/>
            <a:ext cx="147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4084560" y="15825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3305160" y="104472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1231920" y="816120"/>
            <a:ext cx="19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2908440" y="2508120"/>
            <a:ext cx="95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2462040" y="4930920"/>
            <a:ext cx="1244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998800" y="4403880"/>
            <a:ext cx="10494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3143160" y="4016520"/>
            <a:ext cx="1244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4381560" y="4444920"/>
            <a:ext cx="85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5"/>
          <p:cNvSpPr/>
          <p:nvPr/>
        </p:nvSpPr>
        <p:spPr>
          <a:xfrm flipH="1" flipV="1">
            <a:off x="2825640" y="4519080"/>
            <a:ext cx="198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6"/>
          <p:cNvSpPr/>
          <p:nvPr/>
        </p:nvSpPr>
        <p:spPr>
          <a:xfrm flipH="1" flipV="1">
            <a:off x="2076480" y="5032440"/>
            <a:ext cx="420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 rot="10800000">
            <a:off x="4332240" y="3066840"/>
            <a:ext cx="109440" cy="825480"/>
          </a:xfrm>
          <a:custGeom>
            <a:avLst/>
            <a:gdLst>
              <a:gd name="textAreaLeft" fmla="*/ 0 w 109440"/>
              <a:gd name="textAreaRight" fmla="*/ 76680 w 109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176720" y="4024440"/>
            <a:ext cx="138240" cy="1395360"/>
          </a:xfrm>
          <a:custGeom>
            <a:avLst/>
            <a:gdLst>
              <a:gd name="textAreaLeft" fmla="*/ 0 w 138240"/>
              <a:gd name="textAreaRight" fmla="*/ 97200 w 138240"/>
              <a:gd name="textAreaTop" fmla="*/ 0 h 1395360"/>
              <a:gd name="textAreaBottom" fmla="*/ 1395360 h 13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9"/>
          <p:cNvSpPr/>
          <p:nvPr/>
        </p:nvSpPr>
        <p:spPr>
          <a:xfrm flipH="1" flipV="1">
            <a:off x="4293720" y="4734000"/>
            <a:ext cx="133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4352760" y="30574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4346640" y="3510000"/>
            <a:ext cx="8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2603520" y="3330720"/>
            <a:ext cx="16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3"/>
          <p:cNvSpPr/>
          <p:nvPr/>
        </p:nvSpPr>
        <p:spPr>
          <a:xfrm flipH="1" flipV="1">
            <a:off x="4914720" y="3195360"/>
            <a:ext cx="7110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4"/>
          <p:cNvSpPr/>
          <p:nvPr/>
        </p:nvSpPr>
        <p:spPr>
          <a:xfrm flipH="1">
            <a:off x="4967280" y="3652920"/>
            <a:ext cx="293760" cy="52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5"/>
          <p:cNvSpPr/>
          <p:nvPr/>
        </p:nvSpPr>
        <p:spPr>
          <a:xfrm flipH="1" flipV="1">
            <a:off x="4989240" y="3703320"/>
            <a:ext cx="320760" cy="4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2679840" y="2468520"/>
            <a:ext cx="147600" cy="660600"/>
          </a:xfrm>
          <a:custGeom>
            <a:avLst/>
            <a:gdLst>
              <a:gd name="textAreaLeft" fmla="*/ 0 w 147600"/>
              <a:gd name="textAreaRight" fmla="*/ 103680 w 1476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7"/>
          <p:cNvSpPr/>
          <p:nvPr/>
        </p:nvSpPr>
        <p:spPr>
          <a:xfrm>
            <a:off x="2832120" y="2820960"/>
            <a:ext cx="122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818-9398-41E5-8414-40344FD46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360" y="914400"/>
            <a:ext cx="7086600" cy="502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s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6B0E-E274-4F69-BEC9-4C9DE8A6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AD</cp:lastModifiedBy>
  <dcterms:modified xsi:type="dcterms:W3CDTF">2015-08-24T04:52:58Z</dcterms:modified>
  <cp:revision>1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