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media/image12.png" ContentType="image/pn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C28-2206-477F-93DB-BB4BB91A915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0828-F7EF-4F82-A49E-ED6C0386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9FE6-3E17-4CF3-8D04-1575FA3B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7F34-5EB8-4B3B-A671-8A2709EBD9C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5C67-BA4E-4D25-9652-0E50CD44EAD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B329-4A4E-45BA-9A02-BF148676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4DE-EBB8-4B80-97FE-EE87B629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248-1D8D-4F76-92C2-A6F49106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25E9-134F-44A2-8C1C-47B787D1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D0FF-85ED-4E24-B4B4-FC945ED5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06E4-A708-4C23-ACD9-5CE32729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CD42-65F6-4523-9715-3E00076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4FDD-4398-49E3-A7FE-0AF0BE30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E01F-732F-4496-945E-3F94ABB8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BCBC-128C-4001-8BF6-0554FCAC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3202-6569-4A0B-847E-A151DEB1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4464-44CB-49CE-8AF5-5088223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A92-CCEE-48BF-83D6-2FC5061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E2C5-E611-468D-B8A3-C8C07CF3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6FBC-6A81-448A-B73B-FD1922DF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F2F2-A26D-4B90-BA4A-61885C53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4244-6CDC-405F-9AEB-5C22CA92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FE29-2BD8-4089-AEC3-1C11075D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F6F1-39EB-461C-ACAA-D2977DDA0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EFEB-1A18-4887-B932-5E881DD8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18B2-0847-474A-81E4-9DD8C78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B13B8-A4D2-4A5E-B4CB-ADDF5E93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4DEE2-E24A-4394-A789-7BFEB17C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35B-1E27-4D16-B81C-B0A71BFA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559C5-081C-4809-9A80-025756C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0784-98DE-47A4-BF04-4923C78E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003CF-2017-43D7-BE45-F9B7B32A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1E214-E5F1-45D5-8496-E407EE4C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88096-B511-4294-8985-E4326811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E556-DC85-4F22-9A4B-36257DE7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F129-478E-4387-A673-6AC38483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FA0A-8882-4070-AE46-40B9835E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12A-B720-4F1C-8BA8-313863BC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9AB4-601D-4E29-A931-3253A474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34B-AEB8-477E-A1FB-9963AA9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580-A931-4A5D-8B30-B705BB6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A49-1B9A-4BDC-9B76-E94CF3D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5708-15D8-4F9E-A5DB-7EE4E8530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93E-962B-4B67-A6BD-260E6ECD359B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6B34-D51D-4704-94C9-539D9520B34D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Foundation B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ation of the Huma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05120" y="3019320"/>
            <a:ext cx="5535360" cy="2068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of Physiolog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KUH, K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26FE-44D6-4A56-B622-9860099B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685800"/>
            <a:ext cx="7391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Primary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1676520"/>
            <a:ext cx="7391520" cy="4495680"/>
          </a:xfrm>
          <a:prstGeom prst="rect">
            <a:avLst/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OUR MAJOR TYPES OF TISSUES IN THE HUMAN BO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PITHE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vers body surfaces and lines bod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NE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nds and supports body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CUL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body parts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RV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s to stimuli and transmits impulses from one body part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47D-7752-42DE-9960-7459C372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848720" cy="1066680"/>
          </a:xfrm>
          <a:prstGeom prst="rect">
            <a:avLst/>
          </a:prstGeom>
          <a:solidFill>
            <a:srgbClr val="ed9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thelial T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entire body surface and most of the body's inner ca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epidermis (skin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s from inju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ying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epidermal tissue, on internal surfaces protects, secretes mucus (e.g. along digestive tr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Epithelial%20Tissue%20A%20copy"/>
          <p:cNvPicPr/>
          <p:nvPr/>
        </p:nvPicPr>
        <p:blipFill>
          <a:blip r:embed="rId1"/>
          <a:stretch/>
        </p:blipFill>
        <p:spPr>
          <a:xfrm>
            <a:off x="4978440" y="2514600"/>
            <a:ext cx="3556080" cy="2666880"/>
          </a:xfrm>
          <a:prstGeom prst="rect">
            <a:avLst/>
          </a:prstGeom>
          <a:ln w="0">
            <a:noFill/>
          </a:ln>
        </p:spPr>
      </p:pic>
      <p:sp>
        <p:nvSpPr>
          <p:cNvPr id="2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248-D6DA-41D7-8ACC-9F7611B65F45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62040" y="708120"/>
            <a:ext cx="7696080" cy="81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ve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61680" y="1981080"/>
            <a:ext cx="2895480" cy="4114800"/>
          </a:xfrm>
          <a:prstGeom prst="rect">
            <a:avLst/>
          </a:prstGeom>
          <a:solidFill>
            <a:srgbClr val="ffb4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s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Funct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nd structures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ll up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support an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ore 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3" descr="c40x2connective-tissues"/>
          <p:cNvPicPr/>
          <p:nvPr/>
        </p:nvPicPr>
        <p:blipFill>
          <a:blip r:embed="rId1"/>
          <a:stretch/>
        </p:blipFill>
        <p:spPr>
          <a:xfrm>
            <a:off x="3662280" y="1981080"/>
            <a:ext cx="4795920" cy="4038840"/>
          </a:xfrm>
          <a:prstGeom prst="rect">
            <a:avLst/>
          </a:prstGeom>
          <a:ln w="0">
            <a:noFill/>
          </a:ln>
        </p:spPr>
      </p:pic>
      <p:sp>
        <p:nvSpPr>
          <p:cNvPr id="2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539-32E9-4D6D-9DEE-1ECE49C459B6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29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cle Tissues: Contract for Mo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1330642440" y="2147484240"/>
            <a:ext cx="2147484240" cy="214748280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DDC-27E0-4110-B2E3-684C377BE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3"/>
          <p:cNvGrpSpPr/>
          <p:nvPr/>
        </p:nvGrpSpPr>
        <p:grpSpPr>
          <a:xfrm>
            <a:off x="838080" y="2438280"/>
            <a:ext cx="7315200" cy="1769760"/>
            <a:chOff x="838080" y="2438280"/>
            <a:chExt cx="7315200" cy="1769760"/>
          </a:xfrm>
        </p:grpSpPr>
        <p:sp>
          <p:nvSpPr>
            <p:cNvPr id="227" name="TextBox 15"/>
            <p:cNvSpPr/>
            <p:nvPr/>
          </p:nvSpPr>
          <p:spPr>
            <a:xfrm>
              <a:off x="838080" y="2438280"/>
              <a:ext cx="1795320" cy="143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keletal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6"/>
            <p:cNvSpPr/>
            <p:nvPr/>
          </p:nvSpPr>
          <p:spPr>
            <a:xfrm>
              <a:off x="3232080" y="2438280"/>
              <a:ext cx="1795320" cy="1769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mooth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Non-striated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17"/>
            <p:cNvSpPr/>
            <p:nvPr/>
          </p:nvSpPr>
          <p:spPr>
            <a:xfrm>
              <a:off x="6224760" y="2716920"/>
              <a:ext cx="1928520" cy="14346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Cardiac Musc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Striate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200" spc="-1" strike="noStrike">
                  <a:solidFill>
                    <a:srgbClr val="000000"/>
                  </a:solidFill>
                  <a:latin typeface="Arial"/>
                </a:rPr>
                <a:t>Involuntary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1330642440" y="2147484240"/>
            <a:ext cx="2147484240" cy="2147482800"/>
          </a:xfrm>
          <a:prstGeom prst="rect">
            <a:avLst/>
          </a:prstGeom>
          <a:ln w="0">
            <a:noFill/>
          </a:ln>
        </p:spPr>
      </p:pic>
      <p:pic>
        <p:nvPicPr>
          <p:cNvPr id="231" name="Content Placeholder 4" descr=""/>
          <p:cNvPicPr/>
          <p:nvPr/>
        </p:nvPicPr>
        <p:blipFill>
          <a:blip r:embed="rId3"/>
          <a:srcRect l="0" t="0" r="0" b="33714"/>
          <a:stretch/>
        </p:blipFill>
        <p:spPr>
          <a:xfrm>
            <a:off x="608040" y="2438280"/>
            <a:ext cx="7850160" cy="1176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75438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T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762120" y="2097000"/>
          <a:ext cx="7543800" cy="369432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SKELETAL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SMOOTH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70c0"/>
                          </a:solidFill>
                          <a:uFillTx/>
                          <a:latin typeface="Arial"/>
                        </a:rPr>
                        <a:t>CARDIAC MUSCLE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: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2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ated (alterna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ght and dark bands)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ched to bon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for m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contr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ontract quick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strongly but 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tigue in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triated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oluntary control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in walls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organ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e, stomach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vessel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cts more slowl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can contract 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er period of ti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ated, involuntar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s heart musc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 only in t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rt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contract quickl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beats your w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throug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09480" indent="-6094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2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9B4C-98CD-46C2-A909-D86B6CED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620120" cy="11430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rvous Tissues: Conduct Electrochemical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981080"/>
            <a:ext cx="7696080" cy="243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tissue that form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electrical &amp; chemical messages along special cell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ur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Composed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ll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ndr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duct messag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 body)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x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nd messag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cell bod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rcRect l="0" t="0" r="0" b="13046"/>
          <a:stretch/>
        </p:blipFill>
        <p:spPr>
          <a:xfrm>
            <a:off x="2438280" y="4495680"/>
            <a:ext cx="4572000" cy="16765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81C2-9BE2-4EF3-B9E9-D53BE403B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G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57200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 single cell, or a collection of cells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mic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.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Exocrine gland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the gall bladder is an exocrine gland because it secretes bile in a duct.  Sweat glands are exocrine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Endocrine</a:t>
            </a:r>
            <a:r>
              <a:rPr b="0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glands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e chemicals (especiall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m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loodstre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pituitary gland, pancreas secretes insulin into the blo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1964-6989-4A1A-8139-F285C0D8A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90720" y="2133360"/>
            <a:ext cx="7238880" cy="25146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lls are cells that surround nerve cells.  They help to support, protect, and nourish nerve cells.  They provide nutrients to the neurons and help keep the tissue free of debr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914400" y="761760"/>
            <a:ext cx="7315200" cy="99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Glial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DE1E-82B8-45DF-910F-92618BB9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1371600"/>
          </a:xfrm>
          <a:prstGeom prst="rect">
            <a:avLst/>
          </a:prstGeom>
          <a:solidFill>
            <a:srgbClr val="ed91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: Tissues working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4648320" cy="220968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s (e.g. the heart) are made up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or more types of tiss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sually m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791320" y="2579760"/>
            <a:ext cx="2590560" cy="2220840"/>
          </a:xfrm>
          <a:prstGeom prst="rect">
            <a:avLst/>
          </a:prstGeom>
          <a:ln w="0">
            <a:noFill/>
          </a:ln>
        </p:spPr>
      </p:pic>
      <p:sp>
        <p:nvSpPr>
          <p:cNvPr id="2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10D-61A6-4CFE-B8AE-5F963BC6573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GANS: Tissues working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4876560" cy="426744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K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lso an example of an organ.  It is the largest organ, and has several tissue lay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ve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ody surfaces, give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om water loss and invasion by microorganisms, contain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e orga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helps to regulate body temper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1"/>
          <a:stretch/>
        </p:blipFill>
        <p:spPr>
          <a:xfrm>
            <a:off x="5688000" y="2209680"/>
            <a:ext cx="2846520" cy="281952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639-EAF1-4E66-BA45-D8A5963BE1D0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47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hysiology Lectures in Foundation Bl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3048120"/>
          <a:ext cx="6858000" cy="2728800"/>
        </p:xfrm>
        <a:graphic>
          <a:graphicData uri="http://schemas.openxmlformats.org/drawingml/2006/table">
            <a:tbl>
              <a:tblPr/>
              <a:tblGrid>
                <a:gridCol w="4763880"/>
                <a:gridCol w="2094120"/>
              </a:tblGrid>
              <a:tr h="1096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roduction, body fluids, cell membrane structure and homeostasi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nomic nervous system I &amp; I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lood Physiolog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  <a:tr h="54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 u="sng">
                          <a:solidFill>
                            <a:srgbClr val="0000cc"/>
                          </a:solidFill>
                          <a:uFillTx/>
                          <a:latin typeface="Arial"/>
                        </a:rPr>
                        <a:t>13 lectu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597a0"/>
                    </a:solidFill>
                  </a:tcPr>
                </a:tc>
              </a:tr>
            </a:tbl>
          </a:graphicData>
        </a:graphic>
      </p:graphicFrame>
      <p:sp>
        <p:nvSpPr>
          <p:cNvPr id="13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C4F4-5002-4813-A189-03BC0F530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114300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Organ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located in specific location, with specific functions. (e.g. digestive syst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ternal organ systems enclosed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l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cavity within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 systems contribute to maintaining a stable internal environment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 e.g. Temp, pH, glucose, blood pre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3E3A-F769-4C55-9E6D-668362C92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" descr=""/>
          <p:cNvPicPr/>
          <p:nvPr/>
        </p:nvPicPr>
        <p:blipFill>
          <a:blip r:embed="rId1"/>
          <a:srcRect l="58566" t="11457" r="11568" b="6250"/>
          <a:stretch/>
        </p:blipFill>
        <p:spPr>
          <a:xfrm>
            <a:off x="1905120" y="608040"/>
            <a:ext cx="5105160" cy="5656320"/>
          </a:xfrm>
          <a:prstGeom prst="rect">
            <a:avLst/>
          </a:prstGeom>
          <a:ln w="0">
            <a:noFill/>
          </a:ln>
        </p:spPr>
      </p:pic>
      <p:sp>
        <p:nvSpPr>
          <p:cNvPr id="25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7461-23D2-422C-AE8B-11D163D65D67}" type="slidenum">
              <a:rPr b="0" lang="en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6"/>
          <p:cNvSpPr/>
          <p:nvPr/>
        </p:nvSpPr>
        <p:spPr>
          <a:xfrm>
            <a:off x="3962520" y="2666880"/>
            <a:ext cx="43434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f the Circulatory 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990720" y="596880"/>
          <a:ext cx="2286000" cy="56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96880"/>
                    <a:ext cx="2286000" cy="56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3F39-F555-4C13-A123-8C41B239C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086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rigin of Nutrients in the Extracellular Fl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42640" y="2209320"/>
            <a:ext cx="7010280" cy="342900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system: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tr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ty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r and other org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skeletal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75F2-8B09-4AC5-B6AC-F79E58E1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2640" y="990720"/>
            <a:ext cx="7010280" cy="121896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moval of Metabolic End–Produ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218960" y="2742840"/>
            <a:ext cx="6933960" cy="205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y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ea, uric acid, excess water and ions (kidne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C685-1BDD-4616-904F-454F036CE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11430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Physiology – defin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62120" y="1874520"/>
            <a:ext cx="7696080" cy="429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cipline of Physiology investigates how the systems operate at different leve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se systems integrate to form a fully functional human bod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E77-E7C9-4CED-94EB-9C3E8B07C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87BF-EAB4-4532-A228-85B72E3D7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716292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7720" y="22860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rstand the level of body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inguish the primary tissues and their sub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gnize the regulation of extracellular fluid transport and mix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2126-937A-483B-A1E6-C6D6D9D9E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2F9-52B2-435E-8920-91CD308114C3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977760" y="882720"/>
            <a:ext cx="725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Physiology - defini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820800" y="2349360"/>
            <a:ext cx="7408800" cy="24703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ology is the Science of the Norm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henomena of Living Thing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xford English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477120" y="6153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CD3F-51F6-44FA-8129-5C3A269B84D1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rcRect l="0" t="0" r="0" b="4266"/>
          <a:stretch/>
        </p:blipFill>
        <p:spPr>
          <a:xfrm>
            <a:off x="990720" y="576360"/>
            <a:ext cx="4610160" cy="588492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"/>
          <p:cNvSpPr/>
          <p:nvPr/>
        </p:nvSpPr>
        <p:spPr>
          <a:xfrm rot="21375000">
            <a:off x="990720" y="441360"/>
            <a:ext cx="4495680" cy="4191120"/>
          </a:xfrm>
          <a:custGeom>
            <a:avLst/>
            <a:gdLst>
              <a:gd name="textAreaLeft" fmla="*/ 1026360 w 4495680"/>
              <a:gd name="textAreaRight" fmla="*/ 3469320 w 4495680"/>
              <a:gd name="textAreaTop" fmla="*/ 956520 h 4191120"/>
              <a:gd name="textAreaBottom" fmla="*/ 323460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6"/>
          <p:cNvSpPr/>
          <p:nvPr/>
        </p:nvSpPr>
        <p:spPr>
          <a:xfrm flipV="1">
            <a:off x="2743200" y="4479840"/>
            <a:ext cx="228600" cy="1371600"/>
          </a:xfrm>
          <a:custGeom>
            <a:avLst/>
            <a:gdLst>
              <a:gd name="textAreaLeft" fmla="*/ 0 w 228600"/>
              <a:gd name="textAreaRight" fmla="*/ 228960 w 228600"/>
              <a:gd name="textAreaTop" fmla="*/ 360 h 1371600"/>
              <a:gd name="textAreaBottom" fmla="*/ 1372320 h 1371600"/>
            </a:gdLst>
            <a:ahLst/>
            <a:rect l="textAreaLeft" t="textAreaTop" r="textAreaRight" b="textAreaBottom"/>
            <a:pathLst>
              <a:path fill="none" w="21600" h="20662">
                <a:moveTo>
                  <a:pt x="6295" y="-1"/>
                </a:moveTo>
                <a:cubicBezTo>
                  <a:pt x="15387" y="2769"/>
                  <a:pt x="21600" y="11157"/>
                  <a:pt x="21600" y="20662"/>
                </a:cubicBezTo>
              </a:path>
              <a:path stroke="0" w="21600" h="20662">
                <a:moveTo>
                  <a:pt x="6295" y="-1"/>
                </a:moveTo>
                <a:cubicBezTo>
                  <a:pt x="15387" y="2769"/>
                  <a:pt x="21600" y="11157"/>
                  <a:pt x="21600" y="20662"/>
                </a:cubicBezTo>
                <a:lnTo>
                  <a:pt x="0" y="20662"/>
                </a:lnTo>
                <a:lnTo>
                  <a:pt x="6295" y="-1"/>
                </a:lnTo>
                <a:close/>
              </a:path>
            </a:pathLst>
          </a:custGeom>
          <a:noFill/>
          <a:ln w="9360">
            <a:solidFill>
              <a:srgbClr val="9d6f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rc 7"/>
          <p:cNvSpPr/>
          <p:nvPr/>
        </p:nvSpPr>
        <p:spPr>
          <a:xfrm flipH="1" flipV="1">
            <a:off x="3504600" y="4470480"/>
            <a:ext cx="228600" cy="1226880"/>
          </a:xfrm>
          <a:custGeom>
            <a:avLst/>
            <a:gdLst>
              <a:gd name="textAreaLeft" fmla="*/ -360 w 228600"/>
              <a:gd name="textAreaRight" fmla="*/ 228600 w 228600"/>
              <a:gd name="textAreaTop" fmla="*/ 360 h 1226880"/>
              <a:gd name="textAreaBottom" fmla="*/ 1227600 h 1226880"/>
            </a:gdLst>
            <a:ahLst/>
            <a:rect l="textAreaLeft" t="textAreaTop" r="textAreaRight" b="textAreaBottom"/>
            <a:pathLst>
              <a:path fill="none" w="21600" h="21612">
                <a:moveTo>
                  <a:pt x="2387" y="-1"/>
                </a:moveTo>
                <a:cubicBezTo>
                  <a:pt x="13325" y="1215"/>
                  <a:pt x="21600" y="10461"/>
                  <a:pt x="21600" y="21467"/>
                </a:cubicBezTo>
                <a:cubicBezTo>
                  <a:pt x="21600" y="21515"/>
                  <a:pt x="21599" y="21563"/>
                  <a:pt x="21599" y="21612"/>
                </a:cubicBezTo>
              </a:path>
              <a:path stroke="0" w="21600" h="21612">
                <a:moveTo>
                  <a:pt x="2387" y="-1"/>
                </a:moveTo>
                <a:cubicBezTo>
                  <a:pt x="13325" y="1215"/>
                  <a:pt x="21600" y="10461"/>
                  <a:pt x="21600" y="21467"/>
                </a:cubicBezTo>
                <a:cubicBezTo>
                  <a:pt x="21600" y="21515"/>
                  <a:pt x="21599" y="21563"/>
                  <a:pt x="21599" y="21612"/>
                </a:cubicBezTo>
                <a:lnTo>
                  <a:pt x="0" y="21467"/>
                </a:lnTo>
                <a:lnTo>
                  <a:pt x="2387" y="-1"/>
                </a:lnTo>
                <a:close/>
              </a:path>
            </a:pathLst>
          </a:custGeom>
          <a:noFill/>
          <a:ln w="9360">
            <a:solidFill>
              <a:srgbClr val="9d6f2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3446640" y="5992920"/>
            <a:ext cx="53316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514600" y="5972040"/>
            <a:ext cx="60948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495520" y="5622840"/>
            <a:ext cx="6858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316320" y="5616720"/>
            <a:ext cx="762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2268360" y="1481040"/>
            <a:ext cx="190512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and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638680" y="1604880"/>
            <a:ext cx="2819520" cy="350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nk of the tre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iomedical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of eleven different bod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990720" y="441360"/>
            <a:ext cx="4495680" cy="4191120"/>
          </a:xfrm>
          <a:custGeom>
            <a:avLst/>
            <a:gdLst>
              <a:gd name="textAreaLeft" fmla="*/ 1026360 w 4495680"/>
              <a:gd name="textAreaRight" fmla="*/ 3469320 w 4495680"/>
              <a:gd name="textAreaTop" fmla="*/ 956520 h 4191120"/>
              <a:gd name="textAreaBottom" fmla="*/ 3234600 h 4191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332000" y="205740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886200" y="303228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3419640" y="2489040"/>
            <a:ext cx="76176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4211640" y="2057400"/>
            <a:ext cx="7621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523880" y="3032280"/>
            <a:ext cx="106704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dio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195640" y="248904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ur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1219320" y="2498760"/>
            <a:ext cx="83808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3"/>
          <p:cNvSpPr/>
          <p:nvPr/>
        </p:nvSpPr>
        <p:spPr>
          <a:xfrm>
            <a:off x="2743200" y="303228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4"/>
          <p:cNvSpPr/>
          <p:nvPr/>
        </p:nvSpPr>
        <p:spPr>
          <a:xfrm>
            <a:off x="3581280" y="3946680"/>
            <a:ext cx="129564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5"/>
          <p:cNvSpPr/>
          <p:nvPr/>
        </p:nvSpPr>
        <p:spPr>
          <a:xfrm>
            <a:off x="1905120" y="3946680"/>
            <a:ext cx="106668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Phys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2813040" y="4294080"/>
            <a:ext cx="914400" cy="228600"/>
          </a:xfrm>
          <a:prstGeom prst="rect">
            <a:avLst/>
          </a:prstGeom>
          <a:solidFill>
            <a:srgbClr val="51ff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2700360" y="2057400"/>
            <a:ext cx="99072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2781360" y="3489480"/>
            <a:ext cx="91440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419720" y="2498760"/>
            <a:ext cx="1066680" cy="228600"/>
          </a:xfrm>
          <a:prstGeom prst="rect">
            <a:avLst/>
          </a:prstGeom>
          <a:solidFill>
            <a:srgbClr val="ff0a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umen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rcRect l="39240" t="21875" r="24451" b="6250"/>
          <a:stretch/>
        </p:blipFill>
        <p:spPr>
          <a:xfrm>
            <a:off x="2819520" y="600120"/>
            <a:ext cx="3809880" cy="45813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4"/>
          <p:cNvSpPr/>
          <p:nvPr/>
        </p:nvSpPr>
        <p:spPr>
          <a:xfrm>
            <a:off x="3962520" y="52578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5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E001-591B-4CE0-BBF8-E927C0330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762120" y="2362320"/>
            <a:ext cx="7543800" cy="1218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al Organization of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CD4-B826-43BD-8A8A-FD51E7B7C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rcRect l="12073" t="0" r="2905" b="3406"/>
          <a:stretch/>
        </p:blipFill>
        <p:spPr>
          <a:xfrm>
            <a:off x="811080" y="358920"/>
            <a:ext cx="7507440" cy="5734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4521240" y="2035080"/>
            <a:ext cx="19731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Chemic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 combine to form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4280040" y="2079720"/>
            <a:ext cx="230040" cy="18576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"/>
          <p:cNvSpPr/>
          <p:nvPr/>
        </p:nvSpPr>
        <p:spPr>
          <a:xfrm>
            <a:off x="927000" y="1444680"/>
            <a:ext cx="228600" cy="18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6"/>
          <p:cNvSpPr/>
          <p:nvPr/>
        </p:nvSpPr>
        <p:spPr>
          <a:xfrm>
            <a:off x="457200" y="3195720"/>
            <a:ext cx="233280" cy="189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7"/>
          <p:cNvSpPr/>
          <p:nvPr/>
        </p:nvSpPr>
        <p:spPr>
          <a:xfrm>
            <a:off x="1003320" y="5573880"/>
            <a:ext cx="231840" cy="185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155600" y="1386000"/>
            <a:ext cx="2617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Cellular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s are made up of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63480" y="3164040"/>
            <a:ext cx="1946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Tissue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ssues consist of similar types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0"/>
          <p:cNvSpPr/>
          <p:nvPr/>
        </p:nvSpPr>
        <p:spPr>
          <a:xfrm>
            <a:off x="4194000" y="5781600"/>
            <a:ext cx="230400" cy="1890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4381560" y="5738760"/>
            <a:ext cx="38750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 system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 systems consist of different organs that work together 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231920" y="5540400"/>
            <a:ext cx="267336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 are made up of different types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3"/>
          <p:cNvSpPr/>
          <p:nvPr/>
        </p:nvSpPr>
        <p:spPr>
          <a:xfrm>
            <a:off x="6478560" y="4886280"/>
            <a:ext cx="231840" cy="1872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6715080" y="4778280"/>
            <a:ext cx="20606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e0606"/>
                </a:solidFill>
                <a:latin typeface="Arial"/>
              </a:rPr>
              <a:t>Organismal leve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human organism is made up of many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5"/>
          <p:cNvSpPr/>
          <p:nvPr/>
        </p:nvSpPr>
        <p:spPr>
          <a:xfrm flipH="1" flipV="1">
            <a:off x="2994120" y="4183200"/>
            <a:ext cx="156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6"/>
          <p:cNvSpPr/>
          <p:nvPr/>
        </p:nvSpPr>
        <p:spPr>
          <a:xfrm flipH="1" flipV="1">
            <a:off x="4203720" y="3486240"/>
            <a:ext cx="147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4084560" y="15825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8"/>
          <p:cNvSpPr/>
          <p:nvPr/>
        </p:nvSpPr>
        <p:spPr>
          <a:xfrm>
            <a:off x="3305160" y="104472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1231920" y="816120"/>
            <a:ext cx="19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2908440" y="2508120"/>
            <a:ext cx="952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2462040" y="4930920"/>
            <a:ext cx="1244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iv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2"/>
          <p:cNvSpPr/>
          <p:nvPr/>
        </p:nvSpPr>
        <p:spPr>
          <a:xfrm>
            <a:off x="2998800" y="4403880"/>
            <a:ext cx="10494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ooth muscl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3"/>
          <p:cNvSpPr/>
          <p:nvPr/>
        </p:nvSpPr>
        <p:spPr>
          <a:xfrm>
            <a:off x="3143160" y="4016520"/>
            <a:ext cx="1244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pitheli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4"/>
          <p:cNvSpPr/>
          <p:nvPr/>
        </p:nvSpPr>
        <p:spPr>
          <a:xfrm>
            <a:off x="4381560" y="4444920"/>
            <a:ext cx="85860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 (org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5"/>
          <p:cNvSpPr/>
          <p:nvPr/>
        </p:nvSpPr>
        <p:spPr>
          <a:xfrm flipH="1" flipV="1">
            <a:off x="2825640" y="4519080"/>
            <a:ext cx="1987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6"/>
          <p:cNvSpPr/>
          <p:nvPr/>
        </p:nvSpPr>
        <p:spPr>
          <a:xfrm flipH="1" flipV="1">
            <a:off x="2076480" y="5032440"/>
            <a:ext cx="4204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7"/>
          <p:cNvSpPr/>
          <p:nvPr/>
        </p:nvSpPr>
        <p:spPr>
          <a:xfrm rot="10800000">
            <a:off x="4332240" y="3066840"/>
            <a:ext cx="109440" cy="825480"/>
          </a:xfrm>
          <a:custGeom>
            <a:avLst/>
            <a:gdLst>
              <a:gd name="textAreaLeft" fmla="*/ 0 w 109440"/>
              <a:gd name="textAreaRight" fmla="*/ 76680 w 109440"/>
              <a:gd name="textAreaTop" fmla="*/ 0 h 825480"/>
              <a:gd name="textAreaBottom" fmla="*/ 825840 h 82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8"/>
          <p:cNvSpPr/>
          <p:nvPr/>
        </p:nvSpPr>
        <p:spPr>
          <a:xfrm>
            <a:off x="4176720" y="4024440"/>
            <a:ext cx="138240" cy="1395360"/>
          </a:xfrm>
          <a:custGeom>
            <a:avLst/>
            <a:gdLst>
              <a:gd name="textAreaLeft" fmla="*/ 0 w 138240"/>
              <a:gd name="textAreaRight" fmla="*/ 97200 w 138240"/>
              <a:gd name="textAreaTop" fmla="*/ 0 h 1395360"/>
              <a:gd name="textAreaBottom" fmla="*/ 1395360 h 13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9"/>
          <p:cNvSpPr/>
          <p:nvPr/>
        </p:nvSpPr>
        <p:spPr>
          <a:xfrm flipH="1" flipV="1">
            <a:off x="4293720" y="4734000"/>
            <a:ext cx="133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0"/>
          <p:cNvSpPr/>
          <p:nvPr/>
        </p:nvSpPr>
        <p:spPr>
          <a:xfrm>
            <a:off x="4352760" y="305748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1"/>
          <p:cNvSpPr/>
          <p:nvPr/>
        </p:nvSpPr>
        <p:spPr>
          <a:xfrm>
            <a:off x="4346640" y="3510000"/>
            <a:ext cx="88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2"/>
          <p:cNvSpPr/>
          <p:nvPr/>
        </p:nvSpPr>
        <p:spPr>
          <a:xfrm>
            <a:off x="2603520" y="3330720"/>
            <a:ext cx="16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diova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3"/>
          <p:cNvSpPr/>
          <p:nvPr/>
        </p:nvSpPr>
        <p:spPr>
          <a:xfrm flipH="1" flipV="1">
            <a:off x="4914720" y="3195360"/>
            <a:ext cx="711000" cy="244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4"/>
          <p:cNvSpPr/>
          <p:nvPr/>
        </p:nvSpPr>
        <p:spPr>
          <a:xfrm flipH="1">
            <a:off x="4967280" y="3652920"/>
            <a:ext cx="293760" cy="52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5"/>
          <p:cNvSpPr/>
          <p:nvPr/>
        </p:nvSpPr>
        <p:spPr>
          <a:xfrm flipH="1" flipV="1">
            <a:off x="4989240" y="3703320"/>
            <a:ext cx="320760" cy="44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6"/>
          <p:cNvSpPr/>
          <p:nvPr/>
        </p:nvSpPr>
        <p:spPr>
          <a:xfrm>
            <a:off x="2679840" y="2468520"/>
            <a:ext cx="147600" cy="660600"/>
          </a:xfrm>
          <a:custGeom>
            <a:avLst/>
            <a:gdLst>
              <a:gd name="textAreaLeft" fmla="*/ 0 w 147600"/>
              <a:gd name="textAreaRight" fmla="*/ 103680 w 147600"/>
              <a:gd name="textAreaTop" fmla="*/ 0 h 660600"/>
              <a:gd name="textAreaBottom" fmla="*/ 660960 h 66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0"/>
                  <a:pt x="21600" y="0"/>
                </a:cubicBezTo>
                <a:lnTo>
                  <a:pt x="21600" y="21600"/>
                </a:lnTo>
                <a:cubicBezTo>
                  <a:pt x="21600" y="21600"/>
                  <a:pt x="108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7"/>
          <p:cNvSpPr/>
          <p:nvPr/>
        </p:nvSpPr>
        <p:spPr>
          <a:xfrm>
            <a:off x="2832120" y="2820960"/>
            <a:ext cx="122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3F31-9412-4626-AC89-3AEC77C7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990360" y="914400"/>
            <a:ext cx="7086600" cy="502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Cell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asic structural and functional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~ 100 tr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issue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muscles, epithelial, nervous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s: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kidneys, heart, liver, pancre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Organ system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.g. cardiovascular, respiratory, urin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A575-FDAB-4C35-95AE-3AE39425B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AHMAD</cp:lastModifiedBy>
  <dcterms:modified xsi:type="dcterms:W3CDTF">2015-08-24T04:52:58Z</dcterms:modified>
  <cp:revision>1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