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C0A-645A-4201-AEC3-BF32F5A6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049-8BA8-4754-9299-F580F269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098-5454-4E96-8F98-9726FCB6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BD6-D666-464A-ACFB-B923A90D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6B4-9724-4172-A062-318022DB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6C7-C880-46F5-8C9F-D7874BD5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283-E663-4C06-9F05-58B978EF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915-EFB4-417F-A447-9F5C9D01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FF0-F5B1-42E4-821A-71676511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AFA-AE08-466B-B81D-75579D1C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F98-9112-4BB9-9B4B-DBFAE926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BF7-0BC7-4920-906A-5F777F5E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BF4C-639A-4454-B98A-50A69333E3E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DB70-E2F1-4A9B-8038-6B9A9F841F3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ahmeda@ksu.edu.sa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16280"/>
            <a:ext cx="7956720" cy="108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  <a:ea typeface="Arial"/>
              </a:rPr>
              <a:t>Body Fluids and Electroly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732760" y="3825720"/>
            <a:ext cx="34038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By 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50"/>
                </a:solidFill>
                <a:latin typeface="Arial"/>
                <a:ea typeface="Arial"/>
              </a:rPr>
              <a:t>  </a:t>
            </a: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d0d0d"/>
                </a:solidFill>
                <a:latin typeface="Arial"/>
                <a:ea typeface="Arial"/>
              </a:rPr>
              <a:t>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476360" y="42372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d0d0d"/>
                </a:solidFill>
                <a:latin typeface="Arial"/>
                <a:ea typeface="Arial"/>
              </a:rPr>
              <a:t>(Foundation Bloc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6F25-3D4E-4360-9FD9-D761F4B531A1}" type="slidenum">
              <a:rPr b="0" lang="fr-C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Extracellular fluid (EC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ECF compartments has several subcompartm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Plasm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, the fluid portion of the blood, represents approximately 25% of the EC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Blood volume, approximately 80 ml/kg of body weight (8%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2391-2EF5-4EEF-81FB-9480A5C92A2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Extracellular fluid (EC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07144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Interstitial fluid (ISF),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is contained in a gel-like extracellular matr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ISF sourrounds all cells except blood cells and includes Lymph (2-3%) of total body w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ISF represent approximately 15% of the total body weight and 75% of the EC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5E4F-5901-4637-8110-19D0DA3BB79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Extracellular fluid (EC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76040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Transcellular fluid volum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, is about 1 L, occupies approximately 15 ml/kg of body weight (1.5%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*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Represents fluid in the lumen of structures lined by epithelium and includes digestive secretions, sweat, CSF, pleural, peritoneal, synovial, intraocular, pericardial fluids, bile, thyroid, and cochl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E33B-FB35-4431-897C-5E0FBDC4032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nstitutes of extracellular and intracellular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1224000" y="1844640"/>
            <a:ext cx="6588000" cy="492300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07D8-2DB9-4CA0-BB9A-FE569FAA0AA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The major body fluid compartment and membranes separate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S02401-025-f001"/>
          <p:cNvPicPr/>
          <p:nvPr/>
        </p:nvPicPr>
        <p:blipFill>
          <a:blip r:embed="rId2"/>
          <a:stretch/>
        </p:blipFill>
        <p:spPr>
          <a:xfrm>
            <a:off x="1403280" y="1844640"/>
            <a:ext cx="5923080" cy="475632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C467-24A6-466B-862C-52D9AF60215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2359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plasma and interstitial fluid are separated only by highly permeable capillary membranes, their ionic composition is similar but protein is higher in the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intracellular fluid is separated from extracellular fluid by a cell membrane that is highly permeable to water but not to most of the electrolytes in the b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BFD3-DB3D-45B3-85F9-A25BBE3CB5E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ute Overview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Intracellular vs. Extra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2204640"/>
            <a:ext cx="332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sition very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onic concentration very 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smotic concentrations virtually iden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S02401-025-f002"/>
          <p:cNvPicPr/>
          <p:nvPr/>
        </p:nvPicPr>
        <p:blipFill>
          <a:blip r:embed="rId2"/>
          <a:stretch/>
        </p:blipFill>
        <p:spPr>
          <a:xfrm>
            <a:off x="3635280" y="1916280"/>
            <a:ext cx="5400720" cy="451800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9749-42E8-4768-9F95-5F492BA7858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ater Steady St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2641680" y="1630440"/>
            <a:ext cx="6610320" cy="49561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0" y="2498760"/>
            <a:ext cx="370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ingested = amount elimin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ological  l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blee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E0AE-A578-4D03-927B-35E85C0247D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Factors That Affect TB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833480"/>
            <a:ext cx="4114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Physiological fac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f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8B5D-679D-4F20-B9BA-DB06E13215B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contenu 2"/>
          <p:cNvSpPr/>
          <p:nvPr/>
        </p:nvSpPr>
        <p:spPr>
          <a:xfrm>
            <a:off x="4778280" y="1833480"/>
            <a:ext cx="411480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Pathological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rr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ases with excessive loss of water (DM, excessive sweating,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7640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Arial"/>
                <a:ea typeface="Arial"/>
              </a:rPr>
              <a:t>Volum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the general clinical terms for volume abnormalities are dehydration and overhydration. Both conditions are associated with a change in ECF vol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Arial"/>
                <a:ea typeface="Arial"/>
              </a:rPr>
              <a:t>Concentration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Osmolarity refers to the number of solute particles per liter of solution, and Osmolality refers to the number of solute particles per kilogram of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onicity:</a:t>
            </a:r>
            <a:r>
              <a:rPr b="0" lang="fr-CA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ffect of a solution on the osmotic movement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14AB-A941-485F-8B63-E92EA6ED8C7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and describe daily intake and output of water and maintenance of water balan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st and describe of body fluid compartments as intra‐cellular fluid (ICF), Extra‐cellular fluid (ECF), interstitial fluid, trans‐cellular fluid, and total body water (TBW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be the composition of each fluid compartment, in terms of volume and ions and represent them in graphic for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be the physiological and pathological factors influencing the body flui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4A7B-A842-4B29-ACE6-7465967FFC4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on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76040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o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l tension to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s will not gain or los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otonic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low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hemoly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er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high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cren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FE95-F671-4564-A96E-336DA50996A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02401-025-f005"/>
          <p:cNvPicPr/>
          <p:nvPr/>
        </p:nvPicPr>
        <p:blipFill>
          <a:blip r:embed="rId2"/>
          <a:stretch/>
        </p:blipFill>
        <p:spPr>
          <a:xfrm>
            <a:off x="826920" y="1770120"/>
            <a:ext cx="6932880" cy="497196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3660-CDE4-48F0-9466-2D64F4212FC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ulation of fluids and electroly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2060640"/>
            <a:ext cx="8435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meostatic mechanisms respond to changes in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receptors directly monitor fluid or electrolyte ba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 to changes in plasma volume or osmotic concentr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water moves passively in response to osmotic gradi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content of watar or electrolytes rises if intake exceeds outfl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8F16-EAD5-49F9-A90C-3A602EDE9D7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mary regulatory horm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4760"/>
            <a:ext cx="82296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diuretic hormone (AD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water conservation and the thirst 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concentration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doster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s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sorption and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ss along the D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volume of body fluid compar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riuretic pepti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 thirst and block the release of ADH and aldoster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2039-F464-4B34-863E-0443856CA44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2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dium bal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1204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e of sodium uptake across digestive tract directly proportional to dietary int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losses occur through urine and perspi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ifts in sodium balance result in expansion or contraction of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variations corrected by homeostatic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low, ADH / aldosterone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, ANP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43A9-EB13-40FE-B0B8-27761554B10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otassium bal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tassium ion concentrations in ECF are 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closely regulated as sodiu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assium ion excretion increases 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F concentrations 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dosterone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assium retention occurs when pH f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3340-ECCE-4599-8B54-297EE87B64A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2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ody Wat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human body made mainly of water, which consistutes about 60% of body weight in the adult, however the amount of water varies with 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8640720" cy="2930760"/>
          </a:xfrm>
          <a:prstGeom prst="rect">
            <a:avLst/>
          </a:prstGeom>
          <a:ln w="0">
            <a:noFill/>
          </a:ln>
        </p:spPr>
      </p:pic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CF9D-06EB-4F20-A614-74163104172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te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s the second largest component in the human body, largest amount found in skeletal mus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hird largest component in lean individual. It is found in adipose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EC94-0731-42B8-92F4-E3334259884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, present in the human body in relatively small quantities with the exception of calcium. (Found in bon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 and electrolytes are found in the body fluids in minute concentrations, which are closely regulated to maintain the composition of the inte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5C68-9C36-4285-B530-C74E4818643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tal body water (TBW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sititutes 55-60% of the body weight in young men and 45-50% in young w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fr-CA" sz="2400" spc="-1" strike="noStrike">
                <a:solidFill>
                  <a:srgbClr val="00ff00"/>
                </a:solidFill>
                <a:latin typeface="Calibri"/>
              </a:rPr>
              <a:t>Why the percentage is lower in wom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BW is distribut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uscle (5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kin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ther organs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lood (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95E3-06AF-438B-9A78-1B7D7BCFE24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fa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ve </a:t>
            </a: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low body fat, low bone m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are 73% or more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water content declines throughout lif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y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a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abou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60% wa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healthy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fema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aroun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ifference reflects females’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body f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er amount of skeletal mus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ld 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nly about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5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body weight is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9C11-F2CE-43AF-B55E-A074B861247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water content of the body is divided into two compart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1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In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cell, represent approximately 67% of the total body water, 40% of total body we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2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Ex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vessels of the cardiovascular system, is the remaining 33% of the total body water, about 20 % of total body weigh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AA6D-E1E4-4988-8A4E-B3CC60200D9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71280" y="2421000"/>
            <a:ext cx="896472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57240" y="328680"/>
            <a:ext cx="8762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omposition of the Human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6409-16A4-4868-9060-2067EB722B1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22:20:53Z</dcterms:created>
  <dc:creator>Éric Vadeboncoeur</dc:creator>
  <dc:description/>
  <dc:language>en-US</dc:language>
  <cp:lastModifiedBy>aboo alde</cp:lastModifiedBy>
  <dcterms:modified xsi:type="dcterms:W3CDTF">2015-08-27T14:18:02Z</dcterms:modified>
  <cp:revision>233</cp:revision>
  <dc:subject/>
  <dc:title>PRESENTATION  NAME</dc:title>
</cp:coreProperties>
</file>