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CA1-D5A3-4B70-9A63-66A16B959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44D-4B73-4F73-A803-EA0E5107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7DEA-DBC7-40B5-AA34-48F90ADF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408-C35C-45B7-A4EF-5AB4EDD1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D01C-10C7-4E03-88B6-43EFE30B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59BC-A622-4EA3-86E5-0EB9AD30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93E-5665-4F63-8C91-D65D8ABA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FB9-8A2E-4932-A126-CB405981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EF6-561D-4696-856C-90C123F7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707-D8A3-4727-A55F-B2E85036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A65-3368-4316-A308-0C6B783D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4AF-D97C-43FB-BF7E-5EC1E31C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493-3031-43F9-B28B-C909BBBC8F3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6420-0568-456E-9BAE-F9920F3C05C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aahmeda@ksu.edu.sa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16280"/>
            <a:ext cx="7956720" cy="108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Arial"/>
                <a:ea typeface="Arial"/>
              </a:rPr>
              <a:t>Body Fluids and Electroly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732760" y="3825720"/>
            <a:ext cx="3403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  <a:ea typeface="Arial"/>
              </a:rPr>
              <a:t>  </a:t>
            </a:r>
            <a:r>
              <a:rPr b="0" lang="en-IE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d0d0d"/>
                </a:solidFill>
                <a:latin typeface="Arial"/>
                <a:ea typeface="Arial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476360" y="4237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d0d0d"/>
                </a:solidFill>
                <a:latin typeface="Arial"/>
                <a:ea typeface="Arial"/>
              </a:rPr>
              <a:t>(Foundation Blo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50BD-02DF-42CC-9621-4AC40810C69E}" type="slidenum">
              <a:rPr b="0" lang="fr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Extracellular fluid (EC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ECF compartments has several subcompartm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Plasma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, the fluid portion of the blood, represents approximately 25% of the EC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Blood volume, approximately 80 ml/kg of body weight (8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9FABF-6E56-4DA1-BDE2-AB2CA4D3D62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Extracellular fluid (EC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071440"/>
            <a:ext cx="82296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erstitial fluid (ISF),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is contained in a gel-like extracellular matr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ISF sourrounds all cells except blood cells and includes Lymph (2-3%) of total body 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SF represent approximately 15% of the total body weight and 75% of the EC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1535-2DF3-43D3-A867-CD3A1A4E508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Extracellular fluid (EC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Transcellular fluid volum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, is about 1 L, occupies approximately 15 ml/kg of body weight (1.5%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*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Represents fluid in the lumen of structures lined by epithelium and includes digestive secretions, sweat, CSF, pleural, peritoneal, synovial, intraocular, pericardial fluids, bile, thyroid, and cochle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244C-8E8D-4146-BEE3-8653241E54F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nstitutes of extracellular and intracellular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1224000" y="1844640"/>
            <a:ext cx="6588000" cy="4923000"/>
          </a:xfrm>
          <a:prstGeom prst="rect">
            <a:avLst/>
          </a:prstGeom>
          <a:ln w="0">
            <a:noFill/>
          </a:ln>
        </p:spPr>
      </p:pic>
      <p:sp>
        <p:nvSpPr>
          <p:cNvPr id="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8208-883A-4876-A888-67CB43DDE88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DD99-021F-4622-879B-86E457A8CB94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23590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DC3B-F86E-4263-9A51-490E80F8369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A67-E210-4A18-9AD4-025D845C1FC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0" y="2498760"/>
            <a:ext cx="370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610F-CC07-46AD-96F2-D0FE97C4613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Factors That Affect TB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833480"/>
            <a:ext cx="4114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hysiologica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f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3F48-33CA-4D7F-8E3B-BC9B91BA8247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contenu 2"/>
          <p:cNvSpPr/>
          <p:nvPr/>
        </p:nvSpPr>
        <p:spPr>
          <a:xfrm>
            <a:off x="4778280" y="1833480"/>
            <a:ext cx="4114800" cy="47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Pathological fact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s with excessive loss of water (DM, excessive sweating,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  <a:ea typeface="Arial"/>
              </a:rPr>
              <a:t>Volume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ff"/>
                </a:solidFill>
                <a:latin typeface="Arial"/>
                <a:ea typeface="Arial"/>
              </a:rPr>
              <a:t>Concentration: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20D0-CE20-4ECB-83E2-927D0B6978F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Learning Objectiv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entify and describe daily intake and output of water and maintenance of water balanc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st and describe of body fluid compartments as intra‐cellular fluid (ICF), Extra‐cellular fluid (ECF), interstitial fluid, trans‐cellular fluid, and total body water (TBW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composition of each fluid compartment, in terms of volume and ions and represent them in graphic form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cribe the physiological and pathological factors influencing the body flui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1C89-1997-45F5-A515-0A712F9A5CC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174B-3471-49DC-BF41-7A6A2A3FC03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3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  <p:sp>
        <p:nvSpPr>
          <p:cNvPr id="106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C232-9055-43C2-BBED-6E8DFDD13D6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5772-5FA3-4901-B7EB-A53BA74C8C8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9172-B7A9-48D3-9853-1876C69ED68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9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9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ow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D674-7E75-45BF-8B60-DA1C23039CA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otass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assium ion concentrations in ECF are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closely regulated as sodiu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ion excretion increases 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F concentrations 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r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assium retention occurs when pH f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8473-8376-4BB0-AE19-B7544E7BBC7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2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0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9BF-BCDD-4619-A1BB-92EC7D7EA2D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9420-7662-483E-AC0D-99E18C20C0C9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C19D-5AA6-4126-898D-B77175DE7DA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238-AFD8-4F2E-8EEA-FB43ABC054C3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fan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ave </a:t>
            </a:r>
            <a:r>
              <a:rPr b="1" lang="en-US" sz="2400" spc="-1" strike="noStrike">
                <a:solidFill>
                  <a:srgbClr val="00ff00"/>
                </a:solidFill>
                <a:latin typeface="Calibri"/>
              </a:rPr>
              <a:t>low body fat, low bone mas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are 73% or more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water content declines throughout lif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a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abou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60% wat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healthy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ema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re aroun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difference reflects females’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body fa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aller amount of skeletal musc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ld 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only abou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5%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body weight is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606C-810E-420E-A500-229FDC472171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804-AC34-4587-92ED-71647CE5152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6EE1-98A2-4331-BE72-7AD69D62E52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aboo alde</cp:lastModifiedBy>
  <dcterms:modified xsi:type="dcterms:W3CDTF">2015-08-27T14:18:02Z</dcterms:modified>
  <cp:revision>233</cp:revision>
  <dc:subject/>
  <dc:title>PRESENTATION  NAME</dc:title>
</cp:coreProperties>
</file>