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C23F-7F42-412E-B984-8F1E3C5CEC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5E4C-CB4F-4766-973A-81FCC82D5E9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1AAD-6A5C-4ECF-924E-55B0E87E8A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ycoprotei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proteins that contain oligosaccharide chains (glycans) covalently attached to polypeptide side-chains. The carbohydrate is attached to the protein in a cotranslational or posttranslational modification. This process is known as glycosylation. Secreted extracellular proteins are often glycosy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teoglyca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proteins that are heavily glycosylated. The basi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teoglyc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nit consists of a "core protein" with one or more covalently attached glycosaminoglycan (GAG) chain(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D6EA-F27B-4358-91ED-93AC1A52B60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8C7-D558-4130-B414-029C3CFD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72C8-E713-4535-BD4B-DFC07256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84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154-CEEC-4CAA-B5DA-AA61AF59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56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396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56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396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7FF-079B-4927-B2B5-1E95872E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DDD5-B248-462D-BCA5-0547D0CE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A369-B53D-43A8-9FEB-CEEFC368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5829-7AC5-4CF4-BA37-5E604683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602C-D4A5-4A3C-895A-2BD4B8EC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9D98-8C92-4F3A-BE58-B1D5930B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105840"/>
            <a:ext cx="80010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A66A-6557-4CA5-A2D1-7F5BCC1A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9796-E96E-4D30-B399-4CC5A054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6F0D-4ADD-47D2-AEBA-454818C3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284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C882-136C-4E4F-81B5-DB7D5C4D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91EB-A182-45EC-B7C0-392B390A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327F-4785-4ACC-8506-2DC082A7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284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79F9-AF36-486B-B41A-A0C57052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56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396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56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396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78B4-84A9-459F-9D12-A424A453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EFE-C5C7-48E0-A7D0-3007A782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5A2-56E2-4C46-B04B-CF36B881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C06-466C-496D-9C4B-9CFEE09D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105840"/>
            <a:ext cx="80010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778-3D60-45ED-BC1C-2239C4AD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45A-41CB-468F-BB2C-BB7E3125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84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E3D-6EC3-4B2B-B951-55C90C81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884-9172-4731-A182-B0DAAF1E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093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6216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D7AE-D988-408F-BCD8-B4A84F680EC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99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900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943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FD85-6819-46B6-A45B-6DBAA57C220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video" Target="file:///F:\sodium_potassium_exchange_pump-wmv.WMV" TargetMode="External"/><Relationship Id="rId2" Type="http://schemas.microsoft.com/office/2007/relationships/media" Target="file:///F:\sodium_potassium_exchange_pump-wmv.WMV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1131840" y="1463760"/>
            <a:ext cx="6924600" cy="125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Foundation Bloc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905120" y="3376440"/>
            <a:ext cx="5535360" cy="133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Times New Roman"/>
              </a:rPr>
              <a:t>By Ahmad Ahme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IE" sz="24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aahmeda@ksu.edu.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b050"/>
                </a:solidFill>
                <a:latin typeface="Times New Roman"/>
              </a:rPr>
              <a:t>05363134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2543-6591-4869-966A-60B950C0F8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09480" y="129528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 in membranes in varying amou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rols much of the fluidity of the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s membrane 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FLEXIBILITY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3"/>
          <p:cNvSpPr/>
          <p:nvPr/>
        </p:nvSpPr>
        <p:spPr>
          <a:xfrm>
            <a:off x="907920" y="4344840"/>
            <a:ext cx="18432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1092240" y="43448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1278000" y="4344840"/>
            <a:ext cx="1839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6"/>
          <p:cNvSpPr/>
          <p:nvPr/>
        </p:nvSpPr>
        <p:spPr>
          <a:xfrm>
            <a:off x="1461960" y="43448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2638440" y="4371840"/>
            <a:ext cx="1839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2822400" y="43718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3008160" y="4371840"/>
            <a:ext cx="18432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3192480" y="43718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3378240" y="4371840"/>
            <a:ext cx="1839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12"/>
          <p:cNvSpPr/>
          <p:nvPr/>
        </p:nvSpPr>
        <p:spPr>
          <a:xfrm>
            <a:off x="4044960" y="438624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13"/>
          <p:cNvSpPr/>
          <p:nvPr/>
        </p:nvSpPr>
        <p:spPr>
          <a:xfrm>
            <a:off x="4230720" y="4386240"/>
            <a:ext cx="1839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4414680" y="438624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4600440" y="4386240"/>
            <a:ext cx="18432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16"/>
          <p:cNvSpPr/>
          <p:nvPr/>
        </p:nvSpPr>
        <p:spPr>
          <a:xfrm>
            <a:off x="4784760" y="438624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7"/>
          <p:cNvSpPr/>
          <p:nvPr/>
        </p:nvSpPr>
        <p:spPr>
          <a:xfrm>
            <a:off x="5962680" y="4371840"/>
            <a:ext cx="1839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18"/>
          <p:cNvSpPr/>
          <p:nvPr/>
        </p:nvSpPr>
        <p:spPr>
          <a:xfrm>
            <a:off x="6146640" y="43718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19"/>
          <p:cNvSpPr/>
          <p:nvPr/>
        </p:nvSpPr>
        <p:spPr>
          <a:xfrm>
            <a:off x="6332400" y="4371840"/>
            <a:ext cx="18432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20"/>
          <p:cNvSpPr/>
          <p:nvPr/>
        </p:nvSpPr>
        <p:spPr>
          <a:xfrm>
            <a:off x="6516720" y="43718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21"/>
          <p:cNvSpPr/>
          <p:nvPr/>
        </p:nvSpPr>
        <p:spPr>
          <a:xfrm>
            <a:off x="6702480" y="4371840"/>
            <a:ext cx="1839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22"/>
          <p:cNvSpPr/>
          <p:nvPr/>
        </p:nvSpPr>
        <p:spPr>
          <a:xfrm>
            <a:off x="6873840" y="43718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23"/>
          <p:cNvSpPr/>
          <p:nvPr/>
        </p:nvSpPr>
        <p:spPr>
          <a:xfrm>
            <a:off x="7059600" y="4371840"/>
            <a:ext cx="18432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24"/>
          <p:cNvSpPr/>
          <p:nvPr/>
        </p:nvSpPr>
        <p:spPr>
          <a:xfrm>
            <a:off x="7243920" y="43718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5"/>
          <p:cNvSpPr/>
          <p:nvPr/>
        </p:nvSpPr>
        <p:spPr>
          <a:xfrm>
            <a:off x="7429680" y="4371840"/>
            <a:ext cx="1839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6"/>
          <p:cNvSpPr/>
          <p:nvPr/>
        </p:nvSpPr>
        <p:spPr>
          <a:xfrm>
            <a:off x="7613640" y="43718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7"/>
          <p:cNvSpPr/>
          <p:nvPr/>
        </p:nvSpPr>
        <p:spPr>
          <a:xfrm>
            <a:off x="7799400" y="4371840"/>
            <a:ext cx="1839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8"/>
          <p:cNvSpPr/>
          <p:nvPr/>
        </p:nvSpPr>
        <p:spPr>
          <a:xfrm>
            <a:off x="7983360" y="43718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9"/>
          <p:cNvSpPr/>
          <p:nvPr/>
        </p:nvSpPr>
        <p:spPr>
          <a:xfrm>
            <a:off x="8169120" y="4371840"/>
            <a:ext cx="18432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Group 30"/>
          <p:cNvGrpSpPr/>
          <p:nvPr/>
        </p:nvGrpSpPr>
        <p:grpSpPr>
          <a:xfrm>
            <a:off x="969840" y="4570560"/>
            <a:ext cx="123480" cy="541080"/>
            <a:chOff x="969840" y="4570560"/>
            <a:chExt cx="123480" cy="541080"/>
          </a:xfrm>
        </p:grpSpPr>
        <p:sp>
          <p:nvSpPr>
            <p:cNvPr id="164" name="Freeform 31"/>
            <p:cNvSpPr/>
            <p:nvPr/>
          </p:nvSpPr>
          <p:spPr>
            <a:xfrm>
              <a:off x="1033920" y="4570560"/>
              <a:ext cx="59400" cy="5410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41080"/>
                <a:gd name="textAreaBottom" fmla="*/ 541440 h 54108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32"/>
            <p:cNvSpPr/>
            <p:nvPr/>
          </p:nvSpPr>
          <p:spPr>
            <a:xfrm>
              <a:off x="969840" y="4570560"/>
              <a:ext cx="64080" cy="3380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Group 33"/>
          <p:cNvGrpSpPr/>
          <p:nvPr/>
        </p:nvGrpSpPr>
        <p:grpSpPr>
          <a:xfrm>
            <a:off x="1503360" y="4570560"/>
            <a:ext cx="123480" cy="541080"/>
            <a:chOff x="1503360" y="4570560"/>
            <a:chExt cx="123480" cy="541080"/>
          </a:xfrm>
        </p:grpSpPr>
        <p:sp>
          <p:nvSpPr>
            <p:cNvPr id="167" name="Freeform 34"/>
            <p:cNvSpPr/>
            <p:nvPr/>
          </p:nvSpPr>
          <p:spPr>
            <a:xfrm>
              <a:off x="1567440" y="4570560"/>
              <a:ext cx="59400" cy="5410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41080"/>
                <a:gd name="textAreaBottom" fmla="*/ 541440 h 54108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35"/>
            <p:cNvSpPr/>
            <p:nvPr/>
          </p:nvSpPr>
          <p:spPr>
            <a:xfrm>
              <a:off x="1503360" y="4570560"/>
              <a:ext cx="64080" cy="3380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Group 36"/>
          <p:cNvGrpSpPr/>
          <p:nvPr/>
        </p:nvGrpSpPr>
        <p:grpSpPr>
          <a:xfrm>
            <a:off x="1123920" y="4570560"/>
            <a:ext cx="123480" cy="496800"/>
            <a:chOff x="1123920" y="4570560"/>
            <a:chExt cx="123480" cy="496800"/>
          </a:xfrm>
        </p:grpSpPr>
        <p:sp>
          <p:nvSpPr>
            <p:cNvPr id="170" name="Freeform 37"/>
            <p:cNvSpPr/>
            <p:nvPr/>
          </p:nvSpPr>
          <p:spPr>
            <a:xfrm>
              <a:off x="1202040" y="4570560"/>
              <a:ext cx="45360" cy="496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38"/>
            <p:cNvSpPr/>
            <p:nvPr/>
          </p:nvSpPr>
          <p:spPr>
            <a:xfrm>
              <a:off x="1123920" y="4570560"/>
              <a:ext cx="39240" cy="4514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Group 39"/>
          <p:cNvGrpSpPr/>
          <p:nvPr/>
        </p:nvGrpSpPr>
        <p:grpSpPr>
          <a:xfrm>
            <a:off x="2670120" y="4610160"/>
            <a:ext cx="123480" cy="496800"/>
            <a:chOff x="2670120" y="4610160"/>
            <a:chExt cx="123480" cy="496800"/>
          </a:xfrm>
        </p:grpSpPr>
        <p:sp>
          <p:nvSpPr>
            <p:cNvPr id="173" name="Freeform 40"/>
            <p:cNvSpPr/>
            <p:nvPr/>
          </p:nvSpPr>
          <p:spPr>
            <a:xfrm>
              <a:off x="2748240" y="4610160"/>
              <a:ext cx="45360" cy="496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41"/>
            <p:cNvSpPr/>
            <p:nvPr/>
          </p:nvSpPr>
          <p:spPr>
            <a:xfrm>
              <a:off x="2670120" y="4610160"/>
              <a:ext cx="39240" cy="4514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Group 42"/>
          <p:cNvGrpSpPr/>
          <p:nvPr/>
        </p:nvGrpSpPr>
        <p:grpSpPr>
          <a:xfrm>
            <a:off x="1287360" y="4570560"/>
            <a:ext cx="193320" cy="524880"/>
            <a:chOff x="1287360" y="4570560"/>
            <a:chExt cx="193320" cy="524880"/>
          </a:xfrm>
        </p:grpSpPr>
        <p:sp>
          <p:nvSpPr>
            <p:cNvPr id="176" name="Freeform 43"/>
            <p:cNvSpPr/>
            <p:nvPr/>
          </p:nvSpPr>
          <p:spPr>
            <a:xfrm>
              <a:off x="1287360" y="4570560"/>
              <a:ext cx="66600" cy="463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44"/>
            <p:cNvSpPr/>
            <p:nvPr/>
          </p:nvSpPr>
          <p:spPr>
            <a:xfrm>
              <a:off x="1392480" y="4578840"/>
              <a:ext cx="88200" cy="5166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Group 45"/>
          <p:cNvGrpSpPr/>
          <p:nvPr/>
        </p:nvGrpSpPr>
        <p:grpSpPr>
          <a:xfrm>
            <a:off x="2833560" y="4602240"/>
            <a:ext cx="193320" cy="524880"/>
            <a:chOff x="2833560" y="4602240"/>
            <a:chExt cx="193320" cy="524880"/>
          </a:xfrm>
        </p:grpSpPr>
        <p:sp>
          <p:nvSpPr>
            <p:cNvPr id="179" name="Freeform 46"/>
            <p:cNvSpPr/>
            <p:nvPr/>
          </p:nvSpPr>
          <p:spPr>
            <a:xfrm>
              <a:off x="2833560" y="4602240"/>
              <a:ext cx="66600" cy="463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47"/>
            <p:cNvSpPr/>
            <p:nvPr/>
          </p:nvSpPr>
          <p:spPr>
            <a:xfrm>
              <a:off x="2938680" y="4610520"/>
              <a:ext cx="88200" cy="5166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Freeform 48"/>
          <p:cNvSpPr/>
          <p:nvPr/>
        </p:nvSpPr>
        <p:spPr>
          <a:xfrm>
            <a:off x="3130560" y="4595760"/>
            <a:ext cx="58680" cy="541440"/>
          </a:xfrm>
          <a:custGeom>
            <a:avLst/>
            <a:gdLst>
              <a:gd name="textAreaLeft" fmla="*/ 0 w 58680"/>
              <a:gd name="textAreaRight" fmla="*/ 59040 w 5868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104" h="768">
                <a:moveTo>
                  <a:pt x="0" y="0"/>
                </a:moveTo>
                <a:cubicBezTo>
                  <a:pt x="44" y="116"/>
                  <a:pt x="88" y="232"/>
                  <a:pt x="96" y="336"/>
                </a:cubicBezTo>
                <a:cubicBezTo>
                  <a:pt x="104" y="440"/>
                  <a:pt x="48" y="552"/>
                  <a:pt x="48" y="624"/>
                </a:cubicBezTo>
                <a:cubicBezTo>
                  <a:pt x="48" y="696"/>
                  <a:pt x="72" y="732"/>
                  <a:pt x="96" y="76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reeform 49"/>
          <p:cNvSpPr/>
          <p:nvPr/>
        </p:nvSpPr>
        <p:spPr>
          <a:xfrm>
            <a:off x="3065400" y="4595760"/>
            <a:ext cx="65160" cy="338040"/>
          </a:xfrm>
          <a:custGeom>
            <a:avLst/>
            <a:gdLst>
              <a:gd name="textAreaLeft" fmla="*/ 0 w 65160"/>
              <a:gd name="textAreaRight" fmla="*/ 65520 w 6516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104" h="480">
                <a:moveTo>
                  <a:pt x="56" y="0"/>
                </a:moveTo>
                <a:cubicBezTo>
                  <a:pt x="28" y="104"/>
                  <a:pt x="0" y="208"/>
                  <a:pt x="8" y="288"/>
                </a:cubicBezTo>
                <a:cubicBezTo>
                  <a:pt x="16" y="368"/>
                  <a:pt x="60" y="424"/>
                  <a:pt x="104" y="48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Freeform 50"/>
          <p:cNvSpPr/>
          <p:nvPr/>
        </p:nvSpPr>
        <p:spPr>
          <a:xfrm>
            <a:off x="4146480" y="4622760"/>
            <a:ext cx="58680" cy="541440"/>
          </a:xfrm>
          <a:custGeom>
            <a:avLst/>
            <a:gdLst>
              <a:gd name="textAreaLeft" fmla="*/ 0 w 58680"/>
              <a:gd name="textAreaRight" fmla="*/ 59040 w 5868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104" h="768">
                <a:moveTo>
                  <a:pt x="0" y="0"/>
                </a:moveTo>
                <a:cubicBezTo>
                  <a:pt x="44" y="116"/>
                  <a:pt x="88" y="232"/>
                  <a:pt x="96" y="336"/>
                </a:cubicBezTo>
                <a:cubicBezTo>
                  <a:pt x="104" y="440"/>
                  <a:pt x="48" y="552"/>
                  <a:pt x="48" y="624"/>
                </a:cubicBezTo>
                <a:cubicBezTo>
                  <a:pt x="48" y="696"/>
                  <a:pt x="72" y="732"/>
                  <a:pt x="96" y="76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Freeform 51"/>
          <p:cNvSpPr/>
          <p:nvPr/>
        </p:nvSpPr>
        <p:spPr>
          <a:xfrm>
            <a:off x="4081320" y="4622760"/>
            <a:ext cx="65160" cy="338040"/>
          </a:xfrm>
          <a:custGeom>
            <a:avLst/>
            <a:gdLst>
              <a:gd name="textAreaLeft" fmla="*/ 0 w 65160"/>
              <a:gd name="textAreaRight" fmla="*/ 65520 w 6516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104" h="480">
                <a:moveTo>
                  <a:pt x="56" y="0"/>
                </a:moveTo>
                <a:cubicBezTo>
                  <a:pt x="28" y="104"/>
                  <a:pt x="0" y="208"/>
                  <a:pt x="8" y="288"/>
                </a:cubicBezTo>
                <a:cubicBezTo>
                  <a:pt x="16" y="368"/>
                  <a:pt x="60" y="424"/>
                  <a:pt x="104" y="48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Freeform 52"/>
          <p:cNvSpPr/>
          <p:nvPr/>
        </p:nvSpPr>
        <p:spPr>
          <a:xfrm>
            <a:off x="3297240" y="4595760"/>
            <a:ext cx="46080" cy="496800"/>
          </a:xfrm>
          <a:custGeom>
            <a:avLst/>
            <a:gdLst>
              <a:gd name="textAreaLeft" fmla="*/ 0 w 46080"/>
              <a:gd name="textAreaRight" fmla="*/ 46440 w 4608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56" h="528">
                <a:moveTo>
                  <a:pt x="0" y="0"/>
                </a:moveTo>
                <a:cubicBezTo>
                  <a:pt x="20" y="124"/>
                  <a:pt x="40" y="248"/>
                  <a:pt x="48" y="336"/>
                </a:cubicBezTo>
                <a:cubicBezTo>
                  <a:pt x="56" y="424"/>
                  <a:pt x="48" y="496"/>
                  <a:pt x="48" y="5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Freeform 53"/>
          <p:cNvSpPr/>
          <p:nvPr/>
        </p:nvSpPr>
        <p:spPr>
          <a:xfrm>
            <a:off x="3219480" y="4595760"/>
            <a:ext cx="39600" cy="452520"/>
          </a:xfrm>
          <a:custGeom>
            <a:avLst/>
            <a:gdLst>
              <a:gd name="textAreaLeft" fmla="*/ 0 w 39600"/>
              <a:gd name="textAreaRight" fmla="*/ 39960 w 3960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48" h="480">
                <a:moveTo>
                  <a:pt x="48" y="0"/>
                </a:moveTo>
                <a:cubicBezTo>
                  <a:pt x="24" y="128"/>
                  <a:pt x="0" y="256"/>
                  <a:pt x="0" y="336"/>
                </a:cubicBezTo>
                <a:cubicBezTo>
                  <a:pt x="0" y="416"/>
                  <a:pt x="24" y="448"/>
                  <a:pt x="48" y="48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Freeform 54"/>
          <p:cNvSpPr/>
          <p:nvPr/>
        </p:nvSpPr>
        <p:spPr>
          <a:xfrm>
            <a:off x="4335480" y="4635360"/>
            <a:ext cx="46080" cy="497160"/>
          </a:xfrm>
          <a:custGeom>
            <a:avLst/>
            <a:gdLst>
              <a:gd name="textAreaLeft" fmla="*/ 0 w 46080"/>
              <a:gd name="textAreaRight" fmla="*/ 46440 w 46080"/>
              <a:gd name="textAreaTop" fmla="*/ 0 h 497160"/>
              <a:gd name="textAreaBottom" fmla="*/ 497520 h 497160"/>
            </a:gdLst>
            <a:ahLst/>
            <a:rect l="textAreaLeft" t="textAreaTop" r="textAreaRight" b="textAreaBottom"/>
            <a:pathLst>
              <a:path w="56" h="528">
                <a:moveTo>
                  <a:pt x="0" y="0"/>
                </a:moveTo>
                <a:cubicBezTo>
                  <a:pt x="20" y="124"/>
                  <a:pt x="40" y="248"/>
                  <a:pt x="48" y="336"/>
                </a:cubicBezTo>
                <a:cubicBezTo>
                  <a:pt x="56" y="424"/>
                  <a:pt x="48" y="496"/>
                  <a:pt x="48" y="5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55"/>
          <p:cNvSpPr/>
          <p:nvPr/>
        </p:nvSpPr>
        <p:spPr>
          <a:xfrm>
            <a:off x="4257720" y="4635360"/>
            <a:ext cx="39600" cy="452520"/>
          </a:xfrm>
          <a:custGeom>
            <a:avLst/>
            <a:gdLst>
              <a:gd name="textAreaLeft" fmla="*/ 0 w 39600"/>
              <a:gd name="textAreaRight" fmla="*/ 39960 w 3960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48" h="480">
                <a:moveTo>
                  <a:pt x="48" y="0"/>
                </a:moveTo>
                <a:cubicBezTo>
                  <a:pt x="24" y="128"/>
                  <a:pt x="0" y="256"/>
                  <a:pt x="0" y="336"/>
                </a:cubicBezTo>
                <a:cubicBezTo>
                  <a:pt x="0" y="416"/>
                  <a:pt x="24" y="448"/>
                  <a:pt x="48" y="48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Freeform 56"/>
          <p:cNvSpPr/>
          <p:nvPr/>
        </p:nvSpPr>
        <p:spPr>
          <a:xfrm>
            <a:off x="3382920" y="4595760"/>
            <a:ext cx="66600" cy="463680"/>
          </a:xfrm>
          <a:custGeom>
            <a:avLst/>
            <a:gdLst>
              <a:gd name="textAreaLeft" fmla="*/ 0 w 66600"/>
              <a:gd name="textAreaRight" fmla="*/ 66960 w 6660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52" h="493">
                <a:moveTo>
                  <a:pt x="36" y="0"/>
                </a:moveTo>
                <a:cubicBezTo>
                  <a:pt x="18" y="160"/>
                  <a:pt x="0" y="321"/>
                  <a:pt x="3" y="403"/>
                </a:cubicBezTo>
                <a:cubicBezTo>
                  <a:pt x="6" y="485"/>
                  <a:pt x="43" y="477"/>
                  <a:pt x="52" y="49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Freeform 57"/>
          <p:cNvSpPr/>
          <p:nvPr/>
        </p:nvSpPr>
        <p:spPr>
          <a:xfrm>
            <a:off x="3487680" y="4603680"/>
            <a:ext cx="88920" cy="517680"/>
          </a:xfrm>
          <a:custGeom>
            <a:avLst/>
            <a:gdLst>
              <a:gd name="textAreaLeft" fmla="*/ 0 w 88920"/>
              <a:gd name="textAreaRight" fmla="*/ 89280 w 8892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69" h="550">
                <a:moveTo>
                  <a:pt x="3" y="0"/>
                </a:moveTo>
                <a:cubicBezTo>
                  <a:pt x="1" y="97"/>
                  <a:pt x="0" y="195"/>
                  <a:pt x="11" y="287"/>
                </a:cubicBezTo>
                <a:cubicBezTo>
                  <a:pt x="22" y="379"/>
                  <a:pt x="45" y="464"/>
                  <a:pt x="69" y="55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Freeform 58"/>
          <p:cNvSpPr/>
          <p:nvPr/>
        </p:nvSpPr>
        <p:spPr>
          <a:xfrm>
            <a:off x="4421160" y="4627440"/>
            <a:ext cx="66600" cy="463680"/>
          </a:xfrm>
          <a:custGeom>
            <a:avLst/>
            <a:gdLst>
              <a:gd name="textAreaLeft" fmla="*/ 0 w 66600"/>
              <a:gd name="textAreaRight" fmla="*/ 66960 w 6660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52" h="493">
                <a:moveTo>
                  <a:pt x="36" y="0"/>
                </a:moveTo>
                <a:cubicBezTo>
                  <a:pt x="18" y="160"/>
                  <a:pt x="0" y="321"/>
                  <a:pt x="3" y="403"/>
                </a:cubicBezTo>
                <a:cubicBezTo>
                  <a:pt x="6" y="485"/>
                  <a:pt x="43" y="477"/>
                  <a:pt x="52" y="49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Freeform 59"/>
          <p:cNvSpPr/>
          <p:nvPr/>
        </p:nvSpPr>
        <p:spPr>
          <a:xfrm>
            <a:off x="4525920" y="4635360"/>
            <a:ext cx="88920" cy="517680"/>
          </a:xfrm>
          <a:custGeom>
            <a:avLst/>
            <a:gdLst>
              <a:gd name="textAreaLeft" fmla="*/ 0 w 88920"/>
              <a:gd name="textAreaRight" fmla="*/ 89280 w 8892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69" h="550">
                <a:moveTo>
                  <a:pt x="3" y="0"/>
                </a:moveTo>
                <a:cubicBezTo>
                  <a:pt x="1" y="97"/>
                  <a:pt x="0" y="195"/>
                  <a:pt x="11" y="287"/>
                </a:cubicBezTo>
                <a:cubicBezTo>
                  <a:pt x="22" y="379"/>
                  <a:pt x="45" y="464"/>
                  <a:pt x="69" y="55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60"/>
          <p:cNvGrpSpPr/>
          <p:nvPr/>
        </p:nvGrpSpPr>
        <p:grpSpPr>
          <a:xfrm>
            <a:off x="4641840" y="4629240"/>
            <a:ext cx="123480" cy="541080"/>
            <a:chOff x="4641840" y="4629240"/>
            <a:chExt cx="123480" cy="541080"/>
          </a:xfrm>
        </p:grpSpPr>
        <p:sp>
          <p:nvSpPr>
            <p:cNvPr id="194" name="Freeform 61"/>
            <p:cNvSpPr/>
            <p:nvPr/>
          </p:nvSpPr>
          <p:spPr>
            <a:xfrm>
              <a:off x="4705920" y="4629240"/>
              <a:ext cx="59400" cy="5410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41080"/>
                <a:gd name="textAreaBottom" fmla="*/ 541440 h 54108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62"/>
            <p:cNvSpPr/>
            <p:nvPr/>
          </p:nvSpPr>
          <p:spPr>
            <a:xfrm>
              <a:off x="4641840" y="4629240"/>
              <a:ext cx="64080" cy="3380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Group 63"/>
          <p:cNvGrpSpPr/>
          <p:nvPr/>
        </p:nvGrpSpPr>
        <p:grpSpPr>
          <a:xfrm>
            <a:off x="6167520" y="4614840"/>
            <a:ext cx="123480" cy="541440"/>
            <a:chOff x="6167520" y="4614840"/>
            <a:chExt cx="123480" cy="541440"/>
          </a:xfrm>
        </p:grpSpPr>
        <p:sp>
          <p:nvSpPr>
            <p:cNvPr id="197" name="Freeform 64"/>
            <p:cNvSpPr/>
            <p:nvPr/>
          </p:nvSpPr>
          <p:spPr>
            <a:xfrm>
              <a:off x="6231600" y="4614840"/>
              <a:ext cx="59400" cy="5414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65"/>
            <p:cNvSpPr/>
            <p:nvPr/>
          </p:nvSpPr>
          <p:spPr>
            <a:xfrm>
              <a:off x="6167520" y="4614840"/>
              <a:ext cx="64080" cy="3384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Group 66"/>
          <p:cNvGrpSpPr/>
          <p:nvPr/>
        </p:nvGrpSpPr>
        <p:grpSpPr>
          <a:xfrm>
            <a:off x="4795920" y="4629240"/>
            <a:ext cx="123480" cy="496800"/>
            <a:chOff x="4795920" y="4629240"/>
            <a:chExt cx="123480" cy="496800"/>
          </a:xfrm>
        </p:grpSpPr>
        <p:sp>
          <p:nvSpPr>
            <p:cNvPr id="200" name="Freeform 67"/>
            <p:cNvSpPr/>
            <p:nvPr/>
          </p:nvSpPr>
          <p:spPr>
            <a:xfrm>
              <a:off x="4874040" y="4629240"/>
              <a:ext cx="45360" cy="496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68"/>
            <p:cNvSpPr/>
            <p:nvPr/>
          </p:nvSpPr>
          <p:spPr>
            <a:xfrm>
              <a:off x="4795920" y="4629240"/>
              <a:ext cx="39240" cy="4514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Group 69"/>
          <p:cNvGrpSpPr/>
          <p:nvPr/>
        </p:nvGrpSpPr>
        <p:grpSpPr>
          <a:xfrm>
            <a:off x="6343560" y="4627440"/>
            <a:ext cx="123480" cy="497160"/>
            <a:chOff x="6343560" y="4627440"/>
            <a:chExt cx="123480" cy="497160"/>
          </a:xfrm>
        </p:grpSpPr>
        <p:sp>
          <p:nvSpPr>
            <p:cNvPr id="203" name="Freeform 70"/>
            <p:cNvSpPr/>
            <p:nvPr/>
          </p:nvSpPr>
          <p:spPr>
            <a:xfrm>
              <a:off x="6421680" y="4627440"/>
              <a:ext cx="45360" cy="4971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71"/>
            <p:cNvSpPr/>
            <p:nvPr/>
          </p:nvSpPr>
          <p:spPr>
            <a:xfrm>
              <a:off x="6343560" y="4627440"/>
              <a:ext cx="39240" cy="4518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Group 72"/>
          <p:cNvGrpSpPr/>
          <p:nvPr/>
        </p:nvGrpSpPr>
        <p:grpSpPr>
          <a:xfrm>
            <a:off x="5951520" y="4614840"/>
            <a:ext cx="193320" cy="525240"/>
            <a:chOff x="5951520" y="4614840"/>
            <a:chExt cx="193320" cy="525240"/>
          </a:xfrm>
        </p:grpSpPr>
        <p:sp>
          <p:nvSpPr>
            <p:cNvPr id="206" name="Freeform 73"/>
            <p:cNvSpPr/>
            <p:nvPr/>
          </p:nvSpPr>
          <p:spPr>
            <a:xfrm>
              <a:off x="5951520" y="4614840"/>
              <a:ext cx="66600" cy="463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74"/>
            <p:cNvSpPr/>
            <p:nvPr/>
          </p:nvSpPr>
          <p:spPr>
            <a:xfrm>
              <a:off x="6056640" y="4623120"/>
              <a:ext cx="88200" cy="5169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Group 75"/>
          <p:cNvGrpSpPr/>
          <p:nvPr/>
        </p:nvGrpSpPr>
        <p:grpSpPr>
          <a:xfrm>
            <a:off x="6507000" y="4619520"/>
            <a:ext cx="193320" cy="525240"/>
            <a:chOff x="6507000" y="4619520"/>
            <a:chExt cx="193320" cy="525240"/>
          </a:xfrm>
        </p:grpSpPr>
        <p:sp>
          <p:nvSpPr>
            <p:cNvPr id="209" name="Freeform 76"/>
            <p:cNvSpPr/>
            <p:nvPr/>
          </p:nvSpPr>
          <p:spPr>
            <a:xfrm>
              <a:off x="6507000" y="4619520"/>
              <a:ext cx="66600" cy="463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77"/>
            <p:cNvSpPr/>
            <p:nvPr/>
          </p:nvSpPr>
          <p:spPr>
            <a:xfrm>
              <a:off x="6612120" y="4627800"/>
              <a:ext cx="88200" cy="5169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Group 78"/>
          <p:cNvGrpSpPr/>
          <p:nvPr/>
        </p:nvGrpSpPr>
        <p:grpSpPr>
          <a:xfrm>
            <a:off x="6732720" y="4606920"/>
            <a:ext cx="123480" cy="541440"/>
            <a:chOff x="6732720" y="4606920"/>
            <a:chExt cx="123480" cy="541440"/>
          </a:xfrm>
        </p:grpSpPr>
        <p:sp>
          <p:nvSpPr>
            <p:cNvPr id="212" name="Freeform 79"/>
            <p:cNvSpPr/>
            <p:nvPr/>
          </p:nvSpPr>
          <p:spPr>
            <a:xfrm>
              <a:off x="6796800" y="4606920"/>
              <a:ext cx="59400" cy="5414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80"/>
            <p:cNvSpPr/>
            <p:nvPr/>
          </p:nvSpPr>
          <p:spPr>
            <a:xfrm>
              <a:off x="6732720" y="4606920"/>
              <a:ext cx="64080" cy="3384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Group 81"/>
          <p:cNvGrpSpPr/>
          <p:nvPr/>
        </p:nvGrpSpPr>
        <p:grpSpPr>
          <a:xfrm>
            <a:off x="7253280" y="4606920"/>
            <a:ext cx="123480" cy="541440"/>
            <a:chOff x="7253280" y="4606920"/>
            <a:chExt cx="123480" cy="541440"/>
          </a:xfrm>
        </p:grpSpPr>
        <p:sp>
          <p:nvSpPr>
            <p:cNvPr id="215" name="Freeform 82"/>
            <p:cNvSpPr/>
            <p:nvPr/>
          </p:nvSpPr>
          <p:spPr>
            <a:xfrm>
              <a:off x="7317360" y="4606920"/>
              <a:ext cx="59400" cy="5414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83"/>
            <p:cNvSpPr/>
            <p:nvPr/>
          </p:nvSpPr>
          <p:spPr>
            <a:xfrm>
              <a:off x="7253280" y="4606920"/>
              <a:ext cx="64080" cy="3384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Group 84"/>
          <p:cNvGrpSpPr/>
          <p:nvPr/>
        </p:nvGrpSpPr>
        <p:grpSpPr>
          <a:xfrm>
            <a:off x="6886440" y="4606920"/>
            <a:ext cx="123480" cy="496800"/>
            <a:chOff x="6886440" y="4606920"/>
            <a:chExt cx="123480" cy="496800"/>
          </a:xfrm>
        </p:grpSpPr>
        <p:sp>
          <p:nvSpPr>
            <p:cNvPr id="218" name="Freeform 85"/>
            <p:cNvSpPr/>
            <p:nvPr/>
          </p:nvSpPr>
          <p:spPr>
            <a:xfrm>
              <a:off x="6964560" y="4606920"/>
              <a:ext cx="45360" cy="496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86"/>
            <p:cNvSpPr/>
            <p:nvPr/>
          </p:nvSpPr>
          <p:spPr>
            <a:xfrm>
              <a:off x="6886440" y="4606920"/>
              <a:ext cx="39240" cy="4514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Group 87"/>
          <p:cNvGrpSpPr/>
          <p:nvPr/>
        </p:nvGrpSpPr>
        <p:grpSpPr>
          <a:xfrm>
            <a:off x="7429680" y="4619520"/>
            <a:ext cx="123120" cy="497160"/>
            <a:chOff x="7429680" y="4619520"/>
            <a:chExt cx="123120" cy="497160"/>
          </a:xfrm>
        </p:grpSpPr>
        <p:sp>
          <p:nvSpPr>
            <p:cNvPr id="221" name="Freeform 88"/>
            <p:cNvSpPr/>
            <p:nvPr/>
          </p:nvSpPr>
          <p:spPr>
            <a:xfrm>
              <a:off x="7507440" y="4619520"/>
              <a:ext cx="45360" cy="4971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89"/>
            <p:cNvSpPr/>
            <p:nvPr/>
          </p:nvSpPr>
          <p:spPr>
            <a:xfrm>
              <a:off x="7429680" y="4619520"/>
              <a:ext cx="38880" cy="4518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Group 90"/>
          <p:cNvGrpSpPr/>
          <p:nvPr/>
        </p:nvGrpSpPr>
        <p:grpSpPr>
          <a:xfrm>
            <a:off x="7037280" y="4606920"/>
            <a:ext cx="193320" cy="525240"/>
            <a:chOff x="7037280" y="4606920"/>
            <a:chExt cx="193320" cy="525240"/>
          </a:xfrm>
        </p:grpSpPr>
        <p:sp>
          <p:nvSpPr>
            <p:cNvPr id="224" name="Freeform 91"/>
            <p:cNvSpPr/>
            <p:nvPr/>
          </p:nvSpPr>
          <p:spPr>
            <a:xfrm>
              <a:off x="7037280" y="4606920"/>
              <a:ext cx="66600" cy="463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92"/>
            <p:cNvSpPr/>
            <p:nvPr/>
          </p:nvSpPr>
          <p:spPr>
            <a:xfrm>
              <a:off x="7142400" y="4615200"/>
              <a:ext cx="88200" cy="5169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Group 93"/>
          <p:cNvGrpSpPr/>
          <p:nvPr/>
        </p:nvGrpSpPr>
        <p:grpSpPr>
          <a:xfrm>
            <a:off x="7593120" y="4611600"/>
            <a:ext cx="193320" cy="525240"/>
            <a:chOff x="7593120" y="4611600"/>
            <a:chExt cx="193320" cy="525240"/>
          </a:xfrm>
        </p:grpSpPr>
        <p:sp>
          <p:nvSpPr>
            <p:cNvPr id="227" name="Freeform 94"/>
            <p:cNvSpPr/>
            <p:nvPr/>
          </p:nvSpPr>
          <p:spPr>
            <a:xfrm>
              <a:off x="7593120" y="4611600"/>
              <a:ext cx="66600" cy="463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95"/>
            <p:cNvSpPr/>
            <p:nvPr/>
          </p:nvSpPr>
          <p:spPr>
            <a:xfrm>
              <a:off x="7698240" y="4619880"/>
              <a:ext cx="88200" cy="5169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Freeform 96"/>
          <p:cNvSpPr/>
          <p:nvPr/>
        </p:nvSpPr>
        <p:spPr>
          <a:xfrm>
            <a:off x="7891560" y="4606920"/>
            <a:ext cx="58680" cy="541440"/>
          </a:xfrm>
          <a:custGeom>
            <a:avLst/>
            <a:gdLst>
              <a:gd name="textAreaLeft" fmla="*/ 0 w 58680"/>
              <a:gd name="textAreaRight" fmla="*/ 59040 w 5868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104" h="768">
                <a:moveTo>
                  <a:pt x="0" y="0"/>
                </a:moveTo>
                <a:cubicBezTo>
                  <a:pt x="44" y="116"/>
                  <a:pt x="88" y="232"/>
                  <a:pt x="96" y="336"/>
                </a:cubicBezTo>
                <a:cubicBezTo>
                  <a:pt x="104" y="440"/>
                  <a:pt x="48" y="552"/>
                  <a:pt x="48" y="624"/>
                </a:cubicBezTo>
                <a:cubicBezTo>
                  <a:pt x="48" y="696"/>
                  <a:pt x="72" y="732"/>
                  <a:pt x="96" y="76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97"/>
          <p:cNvSpPr/>
          <p:nvPr/>
        </p:nvSpPr>
        <p:spPr>
          <a:xfrm>
            <a:off x="7826400" y="4606920"/>
            <a:ext cx="65160" cy="338040"/>
          </a:xfrm>
          <a:custGeom>
            <a:avLst/>
            <a:gdLst>
              <a:gd name="textAreaLeft" fmla="*/ 0 w 65160"/>
              <a:gd name="textAreaRight" fmla="*/ 65520 w 6516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104" h="480">
                <a:moveTo>
                  <a:pt x="56" y="0"/>
                </a:moveTo>
                <a:cubicBezTo>
                  <a:pt x="28" y="104"/>
                  <a:pt x="0" y="208"/>
                  <a:pt x="8" y="288"/>
                </a:cubicBezTo>
                <a:cubicBezTo>
                  <a:pt x="16" y="368"/>
                  <a:pt x="60" y="424"/>
                  <a:pt x="104" y="48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98"/>
          <p:cNvSpPr/>
          <p:nvPr/>
        </p:nvSpPr>
        <p:spPr>
          <a:xfrm>
            <a:off x="8058240" y="4606920"/>
            <a:ext cx="46080" cy="496800"/>
          </a:xfrm>
          <a:custGeom>
            <a:avLst/>
            <a:gdLst>
              <a:gd name="textAreaLeft" fmla="*/ 0 w 46080"/>
              <a:gd name="textAreaRight" fmla="*/ 46440 w 4608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56" h="528">
                <a:moveTo>
                  <a:pt x="0" y="0"/>
                </a:moveTo>
                <a:cubicBezTo>
                  <a:pt x="20" y="124"/>
                  <a:pt x="40" y="248"/>
                  <a:pt x="48" y="336"/>
                </a:cubicBezTo>
                <a:cubicBezTo>
                  <a:pt x="56" y="424"/>
                  <a:pt x="48" y="496"/>
                  <a:pt x="48" y="5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Freeform 99"/>
          <p:cNvSpPr/>
          <p:nvPr/>
        </p:nvSpPr>
        <p:spPr>
          <a:xfrm>
            <a:off x="7980480" y="4606920"/>
            <a:ext cx="39600" cy="452520"/>
          </a:xfrm>
          <a:custGeom>
            <a:avLst/>
            <a:gdLst>
              <a:gd name="textAreaLeft" fmla="*/ 0 w 39600"/>
              <a:gd name="textAreaRight" fmla="*/ 39960 w 3960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48" h="480">
                <a:moveTo>
                  <a:pt x="48" y="0"/>
                </a:moveTo>
                <a:cubicBezTo>
                  <a:pt x="24" y="128"/>
                  <a:pt x="0" y="256"/>
                  <a:pt x="0" y="336"/>
                </a:cubicBezTo>
                <a:cubicBezTo>
                  <a:pt x="0" y="416"/>
                  <a:pt x="24" y="448"/>
                  <a:pt x="48" y="48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Freeform 100"/>
          <p:cNvSpPr/>
          <p:nvPr/>
        </p:nvSpPr>
        <p:spPr>
          <a:xfrm>
            <a:off x="8143920" y="4606920"/>
            <a:ext cx="66600" cy="463680"/>
          </a:xfrm>
          <a:custGeom>
            <a:avLst/>
            <a:gdLst>
              <a:gd name="textAreaLeft" fmla="*/ 0 w 66600"/>
              <a:gd name="textAreaRight" fmla="*/ 66960 w 6660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52" h="493">
                <a:moveTo>
                  <a:pt x="36" y="0"/>
                </a:moveTo>
                <a:cubicBezTo>
                  <a:pt x="18" y="160"/>
                  <a:pt x="0" y="321"/>
                  <a:pt x="3" y="403"/>
                </a:cubicBezTo>
                <a:cubicBezTo>
                  <a:pt x="6" y="485"/>
                  <a:pt x="43" y="477"/>
                  <a:pt x="52" y="49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reeform 101"/>
          <p:cNvSpPr/>
          <p:nvPr/>
        </p:nvSpPr>
        <p:spPr>
          <a:xfrm>
            <a:off x="8248680" y="4614840"/>
            <a:ext cx="88920" cy="517680"/>
          </a:xfrm>
          <a:custGeom>
            <a:avLst/>
            <a:gdLst>
              <a:gd name="textAreaLeft" fmla="*/ 0 w 88920"/>
              <a:gd name="textAreaRight" fmla="*/ 89280 w 8892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69" h="550">
                <a:moveTo>
                  <a:pt x="3" y="0"/>
                </a:moveTo>
                <a:cubicBezTo>
                  <a:pt x="1" y="97"/>
                  <a:pt x="0" y="195"/>
                  <a:pt x="11" y="287"/>
                </a:cubicBezTo>
                <a:cubicBezTo>
                  <a:pt x="22" y="379"/>
                  <a:pt x="45" y="464"/>
                  <a:pt x="69" y="55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02"/>
          <p:cNvSpPr/>
          <p:nvPr/>
        </p:nvSpPr>
        <p:spPr>
          <a:xfrm flipH="1" flipV="1">
            <a:off x="8199360" y="5616720"/>
            <a:ext cx="18432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03"/>
          <p:cNvSpPr/>
          <p:nvPr/>
        </p:nvSpPr>
        <p:spPr>
          <a:xfrm flipH="1" flipV="1">
            <a:off x="8013600" y="561672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104"/>
          <p:cNvSpPr/>
          <p:nvPr/>
        </p:nvSpPr>
        <p:spPr>
          <a:xfrm flipH="1" flipV="1">
            <a:off x="7828920" y="5616720"/>
            <a:ext cx="1839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105"/>
          <p:cNvSpPr/>
          <p:nvPr/>
        </p:nvSpPr>
        <p:spPr>
          <a:xfrm flipH="1" flipV="1">
            <a:off x="7643880" y="561672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06"/>
          <p:cNvSpPr/>
          <p:nvPr/>
        </p:nvSpPr>
        <p:spPr>
          <a:xfrm flipH="1" flipV="1">
            <a:off x="7459560" y="5616720"/>
            <a:ext cx="18432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07"/>
          <p:cNvSpPr/>
          <p:nvPr/>
        </p:nvSpPr>
        <p:spPr>
          <a:xfrm flipH="1" flipV="1">
            <a:off x="7273800" y="561672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08"/>
          <p:cNvSpPr/>
          <p:nvPr/>
        </p:nvSpPr>
        <p:spPr>
          <a:xfrm flipH="1" flipV="1">
            <a:off x="7089120" y="5616720"/>
            <a:ext cx="1839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109"/>
          <p:cNvSpPr/>
          <p:nvPr/>
        </p:nvSpPr>
        <p:spPr>
          <a:xfrm flipH="1" flipV="1">
            <a:off x="6904080" y="561672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110"/>
          <p:cNvSpPr/>
          <p:nvPr/>
        </p:nvSpPr>
        <p:spPr>
          <a:xfrm flipH="1" flipV="1">
            <a:off x="5792760" y="5668920"/>
            <a:ext cx="18432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111"/>
          <p:cNvSpPr/>
          <p:nvPr/>
        </p:nvSpPr>
        <p:spPr>
          <a:xfrm flipH="1" flipV="1">
            <a:off x="5594400" y="565776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112"/>
          <p:cNvSpPr/>
          <p:nvPr/>
        </p:nvSpPr>
        <p:spPr>
          <a:xfrm flipH="1" flipV="1">
            <a:off x="5410080" y="5657760"/>
            <a:ext cx="18432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113"/>
          <p:cNvSpPr/>
          <p:nvPr/>
        </p:nvSpPr>
        <p:spPr>
          <a:xfrm flipH="1" flipV="1">
            <a:off x="5224320" y="565776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14"/>
          <p:cNvSpPr/>
          <p:nvPr/>
        </p:nvSpPr>
        <p:spPr>
          <a:xfrm flipH="1" flipV="1">
            <a:off x="5039640" y="5657760"/>
            <a:ext cx="1839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115"/>
          <p:cNvSpPr/>
          <p:nvPr/>
        </p:nvSpPr>
        <p:spPr>
          <a:xfrm flipH="1" flipV="1">
            <a:off x="4879800" y="565776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116"/>
          <p:cNvSpPr/>
          <p:nvPr/>
        </p:nvSpPr>
        <p:spPr>
          <a:xfrm flipH="1" flipV="1">
            <a:off x="4681440" y="5645160"/>
            <a:ext cx="18432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Oval 117"/>
          <p:cNvSpPr/>
          <p:nvPr/>
        </p:nvSpPr>
        <p:spPr>
          <a:xfrm flipH="1" flipV="1">
            <a:off x="4495680" y="564516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118"/>
          <p:cNvSpPr/>
          <p:nvPr/>
        </p:nvSpPr>
        <p:spPr>
          <a:xfrm flipH="1" flipV="1">
            <a:off x="4311000" y="5645160"/>
            <a:ext cx="1839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Oval 119"/>
          <p:cNvSpPr/>
          <p:nvPr/>
        </p:nvSpPr>
        <p:spPr>
          <a:xfrm flipH="1" flipV="1">
            <a:off x="4125960" y="564516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120"/>
          <p:cNvSpPr/>
          <p:nvPr/>
        </p:nvSpPr>
        <p:spPr>
          <a:xfrm flipH="1" flipV="1">
            <a:off x="3458520" y="5603040"/>
            <a:ext cx="1839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Oval 121"/>
          <p:cNvSpPr/>
          <p:nvPr/>
        </p:nvSpPr>
        <p:spPr>
          <a:xfrm flipH="1" flipV="1">
            <a:off x="3273480" y="56030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Oval 122"/>
          <p:cNvSpPr/>
          <p:nvPr/>
        </p:nvSpPr>
        <p:spPr>
          <a:xfrm flipH="1" flipV="1">
            <a:off x="3089160" y="5603040"/>
            <a:ext cx="18432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Oval 123"/>
          <p:cNvSpPr/>
          <p:nvPr/>
        </p:nvSpPr>
        <p:spPr>
          <a:xfrm flipH="1" flipV="1">
            <a:off x="2903400" y="56030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124"/>
          <p:cNvSpPr/>
          <p:nvPr/>
        </p:nvSpPr>
        <p:spPr>
          <a:xfrm flipH="1" flipV="1">
            <a:off x="2718720" y="5603040"/>
            <a:ext cx="1839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Oval 125"/>
          <p:cNvSpPr/>
          <p:nvPr/>
        </p:nvSpPr>
        <p:spPr>
          <a:xfrm flipH="1" flipV="1">
            <a:off x="1542960" y="55760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126"/>
          <p:cNvSpPr/>
          <p:nvPr/>
        </p:nvSpPr>
        <p:spPr>
          <a:xfrm flipH="1" flipV="1">
            <a:off x="1358280" y="5576040"/>
            <a:ext cx="1839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127"/>
          <p:cNvSpPr/>
          <p:nvPr/>
        </p:nvSpPr>
        <p:spPr>
          <a:xfrm flipH="1" flipV="1">
            <a:off x="1173240" y="55760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128"/>
          <p:cNvSpPr/>
          <p:nvPr/>
        </p:nvSpPr>
        <p:spPr>
          <a:xfrm flipH="1" flipV="1">
            <a:off x="988920" y="5576040"/>
            <a:ext cx="18432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29"/>
          <p:cNvGrpSpPr/>
          <p:nvPr/>
        </p:nvGrpSpPr>
        <p:grpSpPr>
          <a:xfrm>
            <a:off x="8223480" y="5075280"/>
            <a:ext cx="123480" cy="541440"/>
            <a:chOff x="8223480" y="5075280"/>
            <a:chExt cx="123480" cy="541440"/>
          </a:xfrm>
        </p:grpSpPr>
        <p:sp>
          <p:nvSpPr>
            <p:cNvPr id="263" name="Freeform 130"/>
            <p:cNvSpPr/>
            <p:nvPr/>
          </p:nvSpPr>
          <p:spPr>
            <a:xfrm flipH="1" flipV="1">
              <a:off x="8223120" y="5075280"/>
              <a:ext cx="59400" cy="54144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360 h 541440"/>
                <a:gd name="textAreaBottom" fmla="*/ 542160 h 54144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31"/>
            <p:cNvSpPr/>
            <p:nvPr/>
          </p:nvSpPr>
          <p:spPr>
            <a:xfrm flipH="1" flipV="1">
              <a:off x="8282880" y="5278320"/>
              <a:ext cx="64080" cy="33840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360 h 338400"/>
                <a:gd name="textAreaBottom" fmla="*/ 339120 h 33840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132"/>
          <p:cNvGrpSpPr/>
          <p:nvPr/>
        </p:nvGrpSpPr>
        <p:grpSpPr>
          <a:xfrm>
            <a:off x="7690320" y="5075280"/>
            <a:ext cx="123480" cy="541440"/>
            <a:chOff x="7690320" y="5075280"/>
            <a:chExt cx="123480" cy="541440"/>
          </a:xfrm>
        </p:grpSpPr>
        <p:sp>
          <p:nvSpPr>
            <p:cNvPr id="266" name="Freeform 133"/>
            <p:cNvSpPr/>
            <p:nvPr/>
          </p:nvSpPr>
          <p:spPr>
            <a:xfrm flipH="1" flipV="1">
              <a:off x="7689960" y="5075280"/>
              <a:ext cx="59400" cy="54144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360 h 541440"/>
                <a:gd name="textAreaBottom" fmla="*/ 542160 h 54144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34"/>
            <p:cNvSpPr/>
            <p:nvPr/>
          </p:nvSpPr>
          <p:spPr>
            <a:xfrm flipH="1" flipV="1">
              <a:off x="7749720" y="5278320"/>
              <a:ext cx="64080" cy="33840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360 h 338400"/>
                <a:gd name="textAreaBottom" fmla="*/ 339120 h 33840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Group 135"/>
          <p:cNvGrpSpPr/>
          <p:nvPr/>
        </p:nvGrpSpPr>
        <p:grpSpPr>
          <a:xfrm>
            <a:off x="8069760" y="5119200"/>
            <a:ext cx="123480" cy="497160"/>
            <a:chOff x="8069760" y="5119200"/>
            <a:chExt cx="123480" cy="497160"/>
          </a:xfrm>
        </p:grpSpPr>
        <p:sp>
          <p:nvSpPr>
            <p:cNvPr id="269" name="Freeform 136"/>
            <p:cNvSpPr/>
            <p:nvPr/>
          </p:nvSpPr>
          <p:spPr>
            <a:xfrm flipH="1" flipV="1">
              <a:off x="8069760" y="5118840"/>
              <a:ext cx="45360" cy="497160"/>
            </a:xfrm>
            <a:custGeom>
              <a:avLst/>
              <a:gdLst>
                <a:gd name="textAreaLeft" fmla="*/ 360 w 45360"/>
                <a:gd name="textAreaRight" fmla="*/ 46080 w 45360"/>
                <a:gd name="textAreaTop" fmla="*/ -360 h 497160"/>
                <a:gd name="textAreaBottom" fmla="*/ 497160 h 49716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37"/>
            <p:cNvSpPr/>
            <p:nvPr/>
          </p:nvSpPr>
          <p:spPr>
            <a:xfrm flipH="1" flipV="1">
              <a:off x="8153640" y="5164200"/>
              <a:ext cx="39240" cy="45180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-360 h 451800"/>
                <a:gd name="textAreaBottom" fmla="*/ 451800 h 45180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Group 138"/>
          <p:cNvGrpSpPr/>
          <p:nvPr/>
        </p:nvGrpSpPr>
        <p:grpSpPr>
          <a:xfrm>
            <a:off x="7513920" y="5106960"/>
            <a:ext cx="123480" cy="496800"/>
            <a:chOff x="7513920" y="5106960"/>
            <a:chExt cx="123480" cy="496800"/>
          </a:xfrm>
        </p:grpSpPr>
        <p:sp>
          <p:nvSpPr>
            <p:cNvPr id="272" name="Freeform 139"/>
            <p:cNvSpPr/>
            <p:nvPr/>
          </p:nvSpPr>
          <p:spPr>
            <a:xfrm flipH="1" flipV="1">
              <a:off x="7513920" y="5106960"/>
              <a:ext cx="45360" cy="496800"/>
            </a:xfrm>
            <a:custGeom>
              <a:avLst/>
              <a:gdLst>
                <a:gd name="textAreaLeft" fmla="*/ 360 w 45360"/>
                <a:gd name="textAreaRight" fmla="*/ 46080 w 45360"/>
                <a:gd name="textAreaTop" fmla="*/ 360 h 496800"/>
                <a:gd name="textAreaBottom" fmla="*/ 497520 h 49680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140"/>
            <p:cNvSpPr/>
            <p:nvPr/>
          </p:nvSpPr>
          <p:spPr>
            <a:xfrm flipH="1" flipV="1">
              <a:off x="7597800" y="5152320"/>
              <a:ext cx="39240" cy="45144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360 h 451440"/>
                <a:gd name="textAreaBottom" fmla="*/ 452160 h 45144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Group 141"/>
          <p:cNvGrpSpPr/>
          <p:nvPr/>
        </p:nvGrpSpPr>
        <p:grpSpPr>
          <a:xfrm>
            <a:off x="7836120" y="5091480"/>
            <a:ext cx="193320" cy="525240"/>
            <a:chOff x="7836120" y="5091480"/>
            <a:chExt cx="193320" cy="525240"/>
          </a:xfrm>
        </p:grpSpPr>
        <p:sp>
          <p:nvSpPr>
            <p:cNvPr id="275" name="Freeform 142"/>
            <p:cNvSpPr/>
            <p:nvPr/>
          </p:nvSpPr>
          <p:spPr>
            <a:xfrm flipH="1" flipV="1">
              <a:off x="7962480" y="5153040"/>
              <a:ext cx="66600" cy="46368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360 h 463680"/>
                <a:gd name="textAreaBottom" fmla="*/ 464400 h 46368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43"/>
            <p:cNvSpPr/>
            <p:nvPr/>
          </p:nvSpPr>
          <p:spPr>
            <a:xfrm flipH="1" flipV="1">
              <a:off x="7835760" y="5091480"/>
              <a:ext cx="88200" cy="516960"/>
            </a:xfrm>
            <a:custGeom>
              <a:avLst/>
              <a:gdLst>
                <a:gd name="textAreaLeft" fmla="*/ -360 w 88200"/>
                <a:gd name="textAreaRight" fmla="*/ 88200 w 88200"/>
                <a:gd name="textAreaTop" fmla="*/ 360 h 516960"/>
                <a:gd name="textAreaBottom" fmla="*/ 517680 h 51696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Group 144"/>
          <p:cNvGrpSpPr/>
          <p:nvPr/>
        </p:nvGrpSpPr>
        <p:grpSpPr>
          <a:xfrm>
            <a:off x="7280640" y="5086440"/>
            <a:ext cx="193320" cy="524880"/>
            <a:chOff x="7280640" y="5086440"/>
            <a:chExt cx="193320" cy="524880"/>
          </a:xfrm>
        </p:grpSpPr>
        <p:sp>
          <p:nvSpPr>
            <p:cNvPr id="278" name="Freeform 145"/>
            <p:cNvSpPr/>
            <p:nvPr/>
          </p:nvSpPr>
          <p:spPr>
            <a:xfrm flipH="1" flipV="1">
              <a:off x="7407000" y="5147640"/>
              <a:ext cx="66600" cy="46332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-360 h 463320"/>
                <a:gd name="textAreaBottom" fmla="*/ 463320 h 46332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46"/>
            <p:cNvSpPr/>
            <p:nvPr/>
          </p:nvSpPr>
          <p:spPr>
            <a:xfrm flipH="1" flipV="1">
              <a:off x="7280280" y="5086080"/>
              <a:ext cx="88200" cy="516600"/>
            </a:xfrm>
            <a:custGeom>
              <a:avLst/>
              <a:gdLst>
                <a:gd name="textAreaLeft" fmla="*/ -360 w 88200"/>
                <a:gd name="textAreaRight" fmla="*/ 88200 w 88200"/>
                <a:gd name="textAreaTop" fmla="*/ -360 h 516600"/>
                <a:gd name="textAreaBottom" fmla="*/ 516600 h 51660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Group 147"/>
          <p:cNvGrpSpPr/>
          <p:nvPr/>
        </p:nvGrpSpPr>
        <p:grpSpPr>
          <a:xfrm>
            <a:off x="7118640" y="5076720"/>
            <a:ext cx="123480" cy="541440"/>
            <a:chOff x="7118640" y="5076720"/>
            <a:chExt cx="123480" cy="541440"/>
          </a:xfrm>
        </p:grpSpPr>
        <p:sp>
          <p:nvSpPr>
            <p:cNvPr id="281" name="Freeform 148"/>
            <p:cNvSpPr/>
            <p:nvPr/>
          </p:nvSpPr>
          <p:spPr>
            <a:xfrm flipH="1" flipV="1">
              <a:off x="7118280" y="5076720"/>
              <a:ext cx="59400" cy="54144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360 h 541440"/>
                <a:gd name="textAreaBottom" fmla="*/ 542160 h 54144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149"/>
            <p:cNvSpPr/>
            <p:nvPr/>
          </p:nvSpPr>
          <p:spPr>
            <a:xfrm flipH="1" flipV="1">
              <a:off x="7178040" y="5279760"/>
              <a:ext cx="64080" cy="33840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360 h 338400"/>
                <a:gd name="textAreaBottom" fmla="*/ 339120 h 33840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Group 150"/>
          <p:cNvGrpSpPr/>
          <p:nvPr/>
        </p:nvGrpSpPr>
        <p:grpSpPr>
          <a:xfrm>
            <a:off x="5619960" y="5103720"/>
            <a:ext cx="123480" cy="541440"/>
            <a:chOff x="5619960" y="5103720"/>
            <a:chExt cx="123480" cy="541440"/>
          </a:xfrm>
        </p:grpSpPr>
        <p:sp>
          <p:nvSpPr>
            <p:cNvPr id="284" name="Freeform 151"/>
            <p:cNvSpPr/>
            <p:nvPr/>
          </p:nvSpPr>
          <p:spPr>
            <a:xfrm flipH="1" flipV="1">
              <a:off x="5619600" y="5103720"/>
              <a:ext cx="59400" cy="54144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360 h 541440"/>
                <a:gd name="textAreaBottom" fmla="*/ 542160 h 54144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52"/>
            <p:cNvSpPr/>
            <p:nvPr/>
          </p:nvSpPr>
          <p:spPr>
            <a:xfrm flipH="1" flipV="1">
              <a:off x="5679360" y="5306760"/>
              <a:ext cx="64080" cy="33840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360 h 338400"/>
                <a:gd name="textAreaBottom" fmla="*/ 339120 h 33840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Group 153"/>
          <p:cNvGrpSpPr/>
          <p:nvPr/>
        </p:nvGrpSpPr>
        <p:grpSpPr>
          <a:xfrm>
            <a:off x="6964560" y="5121360"/>
            <a:ext cx="123480" cy="496800"/>
            <a:chOff x="6964560" y="5121360"/>
            <a:chExt cx="123480" cy="496800"/>
          </a:xfrm>
        </p:grpSpPr>
        <p:sp>
          <p:nvSpPr>
            <p:cNvPr id="287" name="Freeform 154"/>
            <p:cNvSpPr/>
            <p:nvPr/>
          </p:nvSpPr>
          <p:spPr>
            <a:xfrm flipH="1" flipV="1">
              <a:off x="6964560" y="5121360"/>
              <a:ext cx="45360" cy="496800"/>
            </a:xfrm>
            <a:custGeom>
              <a:avLst/>
              <a:gdLst>
                <a:gd name="textAreaLeft" fmla="*/ 360 w 45360"/>
                <a:gd name="textAreaRight" fmla="*/ 46080 w 45360"/>
                <a:gd name="textAreaTop" fmla="*/ 360 h 496800"/>
                <a:gd name="textAreaBottom" fmla="*/ 497520 h 49680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55"/>
            <p:cNvSpPr/>
            <p:nvPr/>
          </p:nvSpPr>
          <p:spPr>
            <a:xfrm flipH="1" flipV="1">
              <a:off x="7048440" y="5166720"/>
              <a:ext cx="39240" cy="45144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360 h 451440"/>
                <a:gd name="textAreaBottom" fmla="*/ 452160 h 45144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156"/>
          <p:cNvGrpSpPr/>
          <p:nvPr/>
        </p:nvGrpSpPr>
        <p:grpSpPr>
          <a:xfrm>
            <a:off x="5443920" y="5135040"/>
            <a:ext cx="123480" cy="497160"/>
            <a:chOff x="5443920" y="5135040"/>
            <a:chExt cx="123480" cy="497160"/>
          </a:xfrm>
        </p:grpSpPr>
        <p:sp>
          <p:nvSpPr>
            <p:cNvPr id="290" name="Freeform 157"/>
            <p:cNvSpPr/>
            <p:nvPr/>
          </p:nvSpPr>
          <p:spPr>
            <a:xfrm flipH="1" flipV="1">
              <a:off x="5443920" y="5134680"/>
              <a:ext cx="45360" cy="497160"/>
            </a:xfrm>
            <a:custGeom>
              <a:avLst/>
              <a:gdLst>
                <a:gd name="textAreaLeft" fmla="*/ 360 w 45360"/>
                <a:gd name="textAreaRight" fmla="*/ 46080 w 45360"/>
                <a:gd name="textAreaTop" fmla="*/ -360 h 497160"/>
                <a:gd name="textAreaBottom" fmla="*/ 497160 h 49716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58"/>
            <p:cNvSpPr/>
            <p:nvPr/>
          </p:nvSpPr>
          <p:spPr>
            <a:xfrm flipH="1" flipV="1">
              <a:off x="5527800" y="5180040"/>
              <a:ext cx="39240" cy="45180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-360 h 451800"/>
                <a:gd name="textAreaBottom" fmla="*/ 451800 h 45180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Group 159"/>
          <p:cNvGrpSpPr/>
          <p:nvPr/>
        </p:nvGrpSpPr>
        <p:grpSpPr>
          <a:xfrm>
            <a:off x="5766120" y="5119920"/>
            <a:ext cx="193320" cy="525240"/>
            <a:chOff x="5766120" y="5119920"/>
            <a:chExt cx="193320" cy="525240"/>
          </a:xfrm>
        </p:grpSpPr>
        <p:sp>
          <p:nvSpPr>
            <p:cNvPr id="293" name="Freeform 160"/>
            <p:cNvSpPr/>
            <p:nvPr/>
          </p:nvSpPr>
          <p:spPr>
            <a:xfrm flipH="1" flipV="1">
              <a:off x="5892480" y="5181480"/>
              <a:ext cx="66600" cy="46368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360 h 463680"/>
                <a:gd name="textAreaBottom" fmla="*/ 464400 h 46368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61"/>
            <p:cNvSpPr/>
            <p:nvPr/>
          </p:nvSpPr>
          <p:spPr>
            <a:xfrm flipH="1" flipV="1">
              <a:off x="5765760" y="5119920"/>
              <a:ext cx="88200" cy="516960"/>
            </a:xfrm>
            <a:custGeom>
              <a:avLst/>
              <a:gdLst>
                <a:gd name="textAreaLeft" fmla="*/ -360 w 88200"/>
                <a:gd name="textAreaRight" fmla="*/ 88200 w 88200"/>
                <a:gd name="textAreaTop" fmla="*/ 360 h 516960"/>
                <a:gd name="textAreaBottom" fmla="*/ 517680 h 51696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Group 162"/>
          <p:cNvGrpSpPr/>
          <p:nvPr/>
        </p:nvGrpSpPr>
        <p:grpSpPr>
          <a:xfrm>
            <a:off x="5210640" y="5115240"/>
            <a:ext cx="193320" cy="525240"/>
            <a:chOff x="5210640" y="5115240"/>
            <a:chExt cx="193320" cy="525240"/>
          </a:xfrm>
        </p:grpSpPr>
        <p:sp>
          <p:nvSpPr>
            <p:cNvPr id="296" name="Freeform 163"/>
            <p:cNvSpPr/>
            <p:nvPr/>
          </p:nvSpPr>
          <p:spPr>
            <a:xfrm flipH="1" flipV="1">
              <a:off x="5337000" y="5176800"/>
              <a:ext cx="66600" cy="46368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360 h 463680"/>
                <a:gd name="textAreaBottom" fmla="*/ 464400 h 46368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64"/>
            <p:cNvSpPr/>
            <p:nvPr/>
          </p:nvSpPr>
          <p:spPr>
            <a:xfrm flipH="1" flipV="1">
              <a:off x="5210280" y="5115240"/>
              <a:ext cx="88200" cy="516960"/>
            </a:xfrm>
            <a:custGeom>
              <a:avLst/>
              <a:gdLst>
                <a:gd name="textAreaLeft" fmla="*/ -360 w 88200"/>
                <a:gd name="textAreaRight" fmla="*/ 88200 w 88200"/>
                <a:gd name="textAreaTop" fmla="*/ 360 h 516960"/>
                <a:gd name="textAreaBottom" fmla="*/ 517680 h 51696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Group 165"/>
          <p:cNvGrpSpPr/>
          <p:nvPr/>
        </p:nvGrpSpPr>
        <p:grpSpPr>
          <a:xfrm>
            <a:off x="5059800" y="5097240"/>
            <a:ext cx="123480" cy="541080"/>
            <a:chOff x="5059800" y="5097240"/>
            <a:chExt cx="123480" cy="541080"/>
          </a:xfrm>
        </p:grpSpPr>
        <p:sp>
          <p:nvSpPr>
            <p:cNvPr id="299" name="Freeform 166"/>
            <p:cNvSpPr/>
            <p:nvPr/>
          </p:nvSpPr>
          <p:spPr>
            <a:xfrm flipH="1" flipV="1">
              <a:off x="5059440" y="5096880"/>
              <a:ext cx="59400" cy="54108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-360 h 541080"/>
                <a:gd name="textAreaBottom" fmla="*/ 541080 h 54108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167"/>
            <p:cNvSpPr/>
            <p:nvPr/>
          </p:nvSpPr>
          <p:spPr>
            <a:xfrm flipH="1" flipV="1">
              <a:off x="5119200" y="5299920"/>
              <a:ext cx="64080" cy="33804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-360 h 338040"/>
                <a:gd name="textAreaBottom" fmla="*/ 338040 h 33804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Group 168"/>
          <p:cNvGrpSpPr/>
          <p:nvPr/>
        </p:nvGrpSpPr>
        <p:grpSpPr>
          <a:xfrm>
            <a:off x="4511880" y="5084640"/>
            <a:ext cx="123480" cy="541440"/>
            <a:chOff x="4511880" y="5084640"/>
            <a:chExt cx="123480" cy="541440"/>
          </a:xfrm>
        </p:grpSpPr>
        <p:sp>
          <p:nvSpPr>
            <p:cNvPr id="302" name="Freeform 169"/>
            <p:cNvSpPr/>
            <p:nvPr/>
          </p:nvSpPr>
          <p:spPr>
            <a:xfrm flipH="1" flipV="1">
              <a:off x="4511520" y="5084640"/>
              <a:ext cx="59400" cy="54144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360 h 541440"/>
                <a:gd name="textAreaBottom" fmla="*/ 542160 h 54144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170"/>
            <p:cNvSpPr/>
            <p:nvPr/>
          </p:nvSpPr>
          <p:spPr>
            <a:xfrm flipH="1" flipV="1">
              <a:off x="4571280" y="5287680"/>
              <a:ext cx="64080" cy="33840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360 h 338400"/>
                <a:gd name="textAreaBottom" fmla="*/ 339120 h 33840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Group 171"/>
          <p:cNvGrpSpPr/>
          <p:nvPr/>
        </p:nvGrpSpPr>
        <p:grpSpPr>
          <a:xfrm>
            <a:off x="4905720" y="5141880"/>
            <a:ext cx="123480" cy="496800"/>
            <a:chOff x="4905720" y="5141880"/>
            <a:chExt cx="123480" cy="496800"/>
          </a:xfrm>
        </p:grpSpPr>
        <p:sp>
          <p:nvSpPr>
            <p:cNvPr id="305" name="Freeform 172"/>
            <p:cNvSpPr/>
            <p:nvPr/>
          </p:nvSpPr>
          <p:spPr>
            <a:xfrm flipH="1" flipV="1">
              <a:off x="4905720" y="5141880"/>
              <a:ext cx="45360" cy="496800"/>
            </a:xfrm>
            <a:custGeom>
              <a:avLst/>
              <a:gdLst>
                <a:gd name="textAreaLeft" fmla="*/ 360 w 45360"/>
                <a:gd name="textAreaRight" fmla="*/ 46080 w 45360"/>
                <a:gd name="textAreaTop" fmla="*/ 360 h 496800"/>
                <a:gd name="textAreaBottom" fmla="*/ 497520 h 49680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73"/>
            <p:cNvSpPr/>
            <p:nvPr/>
          </p:nvSpPr>
          <p:spPr>
            <a:xfrm flipH="1" flipV="1">
              <a:off x="4989600" y="5187240"/>
              <a:ext cx="39240" cy="45144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360 h 451440"/>
                <a:gd name="textAreaBottom" fmla="*/ 452160 h 45144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Group 174"/>
          <p:cNvGrpSpPr/>
          <p:nvPr/>
        </p:nvGrpSpPr>
        <p:grpSpPr>
          <a:xfrm>
            <a:off x="4335840" y="5116680"/>
            <a:ext cx="123480" cy="496800"/>
            <a:chOff x="4335840" y="5116680"/>
            <a:chExt cx="123480" cy="496800"/>
          </a:xfrm>
        </p:grpSpPr>
        <p:sp>
          <p:nvSpPr>
            <p:cNvPr id="308" name="Freeform 175"/>
            <p:cNvSpPr/>
            <p:nvPr/>
          </p:nvSpPr>
          <p:spPr>
            <a:xfrm flipH="1" flipV="1">
              <a:off x="4335840" y="5116680"/>
              <a:ext cx="45360" cy="496800"/>
            </a:xfrm>
            <a:custGeom>
              <a:avLst/>
              <a:gdLst>
                <a:gd name="textAreaLeft" fmla="*/ 360 w 45360"/>
                <a:gd name="textAreaRight" fmla="*/ 46080 w 45360"/>
                <a:gd name="textAreaTop" fmla="*/ 360 h 496800"/>
                <a:gd name="textAreaBottom" fmla="*/ 497520 h 49680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176"/>
            <p:cNvSpPr/>
            <p:nvPr/>
          </p:nvSpPr>
          <p:spPr>
            <a:xfrm flipH="1" flipV="1">
              <a:off x="4419720" y="5162040"/>
              <a:ext cx="39240" cy="45144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360 h 451440"/>
                <a:gd name="textAreaBottom" fmla="*/ 452160 h 45144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Group 177"/>
          <p:cNvGrpSpPr/>
          <p:nvPr/>
        </p:nvGrpSpPr>
        <p:grpSpPr>
          <a:xfrm>
            <a:off x="4658040" y="5100840"/>
            <a:ext cx="193320" cy="525240"/>
            <a:chOff x="4658040" y="5100840"/>
            <a:chExt cx="193320" cy="525240"/>
          </a:xfrm>
        </p:grpSpPr>
        <p:sp>
          <p:nvSpPr>
            <p:cNvPr id="311" name="Freeform 178"/>
            <p:cNvSpPr/>
            <p:nvPr/>
          </p:nvSpPr>
          <p:spPr>
            <a:xfrm flipH="1" flipV="1">
              <a:off x="4784400" y="5162400"/>
              <a:ext cx="66600" cy="46368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360 h 463680"/>
                <a:gd name="textAreaBottom" fmla="*/ 464400 h 46368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79"/>
            <p:cNvSpPr/>
            <p:nvPr/>
          </p:nvSpPr>
          <p:spPr>
            <a:xfrm flipH="1" flipV="1">
              <a:off x="4657680" y="5100840"/>
              <a:ext cx="88200" cy="516960"/>
            </a:xfrm>
            <a:custGeom>
              <a:avLst/>
              <a:gdLst>
                <a:gd name="textAreaLeft" fmla="*/ -360 w 88200"/>
                <a:gd name="textAreaRight" fmla="*/ 88200 w 88200"/>
                <a:gd name="textAreaTop" fmla="*/ 360 h 516960"/>
                <a:gd name="textAreaBottom" fmla="*/ 517680 h 51696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" name="Group 180"/>
          <p:cNvGrpSpPr/>
          <p:nvPr/>
        </p:nvGrpSpPr>
        <p:grpSpPr>
          <a:xfrm>
            <a:off x="4102560" y="5096160"/>
            <a:ext cx="193320" cy="525240"/>
            <a:chOff x="4102560" y="5096160"/>
            <a:chExt cx="193320" cy="525240"/>
          </a:xfrm>
        </p:grpSpPr>
        <p:sp>
          <p:nvSpPr>
            <p:cNvPr id="314" name="Freeform 181"/>
            <p:cNvSpPr/>
            <p:nvPr/>
          </p:nvSpPr>
          <p:spPr>
            <a:xfrm flipH="1" flipV="1">
              <a:off x="4228920" y="5157720"/>
              <a:ext cx="66600" cy="46368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360 h 463680"/>
                <a:gd name="textAreaBottom" fmla="*/ 464400 h 46368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82"/>
            <p:cNvSpPr/>
            <p:nvPr/>
          </p:nvSpPr>
          <p:spPr>
            <a:xfrm flipH="1" flipV="1">
              <a:off x="4102200" y="5096160"/>
              <a:ext cx="88200" cy="516960"/>
            </a:xfrm>
            <a:custGeom>
              <a:avLst/>
              <a:gdLst>
                <a:gd name="textAreaLeft" fmla="*/ -360 w 88200"/>
                <a:gd name="textAreaRight" fmla="*/ 88200 w 88200"/>
                <a:gd name="textAreaTop" fmla="*/ 360 h 516960"/>
                <a:gd name="textAreaBottom" fmla="*/ 517680 h 51696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Group 183"/>
          <p:cNvGrpSpPr/>
          <p:nvPr/>
        </p:nvGrpSpPr>
        <p:grpSpPr>
          <a:xfrm>
            <a:off x="3464280" y="5065560"/>
            <a:ext cx="123480" cy="541440"/>
            <a:chOff x="3464280" y="5065560"/>
            <a:chExt cx="123480" cy="541440"/>
          </a:xfrm>
        </p:grpSpPr>
        <p:sp>
          <p:nvSpPr>
            <p:cNvPr id="317" name="Freeform 184"/>
            <p:cNvSpPr/>
            <p:nvPr/>
          </p:nvSpPr>
          <p:spPr>
            <a:xfrm flipH="1" flipV="1">
              <a:off x="3463920" y="5065560"/>
              <a:ext cx="59400" cy="54144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360 h 541440"/>
                <a:gd name="textAreaBottom" fmla="*/ 542160 h 54144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85"/>
            <p:cNvSpPr/>
            <p:nvPr/>
          </p:nvSpPr>
          <p:spPr>
            <a:xfrm flipH="1" flipV="1">
              <a:off x="3523680" y="5268600"/>
              <a:ext cx="64080" cy="33840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360 h 338400"/>
                <a:gd name="textAreaBottom" fmla="*/ 339120 h 33840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186"/>
          <p:cNvGrpSpPr/>
          <p:nvPr/>
        </p:nvGrpSpPr>
        <p:grpSpPr>
          <a:xfrm>
            <a:off x="2930760" y="5065560"/>
            <a:ext cx="123480" cy="541440"/>
            <a:chOff x="2930760" y="5065560"/>
            <a:chExt cx="123480" cy="541440"/>
          </a:xfrm>
        </p:grpSpPr>
        <p:sp>
          <p:nvSpPr>
            <p:cNvPr id="320" name="Freeform 187"/>
            <p:cNvSpPr/>
            <p:nvPr/>
          </p:nvSpPr>
          <p:spPr>
            <a:xfrm flipH="1" flipV="1">
              <a:off x="2930400" y="5065560"/>
              <a:ext cx="59400" cy="54144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360 h 541440"/>
                <a:gd name="textAreaBottom" fmla="*/ 542160 h 54144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88"/>
            <p:cNvSpPr/>
            <p:nvPr/>
          </p:nvSpPr>
          <p:spPr>
            <a:xfrm flipH="1" flipV="1">
              <a:off x="2990160" y="5268600"/>
              <a:ext cx="64080" cy="33840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360 h 338400"/>
                <a:gd name="textAreaBottom" fmla="*/ 339120 h 33840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Group 189"/>
          <p:cNvGrpSpPr/>
          <p:nvPr/>
        </p:nvGrpSpPr>
        <p:grpSpPr>
          <a:xfrm>
            <a:off x="3310200" y="5110200"/>
            <a:ext cx="123480" cy="496800"/>
            <a:chOff x="3310200" y="5110200"/>
            <a:chExt cx="123480" cy="496800"/>
          </a:xfrm>
        </p:grpSpPr>
        <p:sp>
          <p:nvSpPr>
            <p:cNvPr id="323" name="Freeform 190"/>
            <p:cNvSpPr/>
            <p:nvPr/>
          </p:nvSpPr>
          <p:spPr>
            <a:xfrm flipH="1" flipV="1">
              <a:off x="3310200" y="5110200"/>
              <a:ext cx="45360" cy="496800"/>
            </a:xfrm>
            <a:custGeom>
              <a:avLst/>
              <a:gdLst>
                <a:gd name="textAreaLeft" fmla="*/ 360 w 45360"/>
                <a:gd name="textAreaRight" fmla="*/ 46080 w 45360"/>
                <a:gd name="textAreaTop" fmla="*/ 360 h 496800"/>
                <a:gd name="textAreaBottom" fmla="*/ 497520 h 49680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91"/>
            <p:cNvSpPr/>
            <p:nvPr/>
          </p:nvSpPr>
          <p:spPr>
            <a:xfrm flipH="1" flipV="1">
              <a:off x="3394080" y="5155560"/>
              <a:ext cx="39240" cy="45144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360 h 451440"/>
                <a:gd name="textAreaBottom" fmla="*/ 452160 h 45144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Group 192"/>
          <p:cNvGrpSpPr/>
          <p:nvPr/>
        </p:nvGrpSpPr>
        <p:grpSpPr>
          <a:xfrm>
            <a:off x="2754720" y="5097600"/>
            <a:ext cx="123480" cy="496800"/>
            <a:chOff x="2754720" y="5097600"/>
            <a:chExt cx="123480" cy="496800"/>
          </a:xfrm>
        </p:grpSpPr>
        <p:sp>
          <p:nvSpPr>
            <p:cNvPr id="326" name="Freeform 193"/>
            <p:cNvSpPr/>
            <p:nvPr/>
          </p:nvSpPr>
          <p:spPr>
            <a:xfrm flipH="1" flipV="1">
              <a:off x="2754720" y="5097600"/>
              <a:ext cx="45360" cy="496800"/>
            </a:xfrm>
            <a:custGeom>
              <a:avLst/>
              <a:gdLst>
                <a:gd name="textAreaLeft" fmla="*/ 360 w 45360"/>
                <a:gd name="textAreaRight" fmla="*/ 46080 w 45360"/>
                <a:gd name="textAreaTop" fmla="*/ 360 h 496800"/>
                <a:gd name="textAreaBottom" fmla="*/ 497520 h 49680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94"/>
            <p:cNvSpPr/>
            <p:nvPr/>
          </p:nvSpPr>
          <p:spPr>
            <a:xfrm flipH="1" flipV="1">
              <a:off x="2838600" y="5142960"/>
              <a:ext cx="39240" cy="45144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360 h 451440"/>
                <a:gd name="textAreaBottom" fmla="*/ 452160 h 45144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Group 195"/>
          <p:cNvGrpSpPr/>
          <p:nvPr/>
        </p:nvGrpSpPr>
        <p:grpSpPr>
          <a:xfrm>
            <a:off x="3076920" y="5081760"/>
            <a:ext cx="193320" cy="524880"/>
            <a:chOff x="3076920" y="5081760"/>
            <a:chExt cx="193320" cy="524880"/>
          </a:xfrm>
        </p:grpSpPr>
        <p:sp>
          <p:nvSpPr>
            <p:cNvPr id="329" name="Freeform 196"/>
            <p:cNvSpPr/>
            <p:nvPr/>
          </p:nvSpPr>
          <p:spPr>
            <a:xfrm flipH="1" flipV="1">
              <a:off x="3203280" y="5142960"/>
              <a:ext cx="66600" cy="46332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-360 h 463320"/>
                <a:gd name="textAreaBottom" fmla="*/ 463320 h 46332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97"/>
            <p:cNvSpPr/>
            <p:nvPr/>
          </p:nvSpPr>
          <p:spPr>
            <a:xfrm flipH="1" flipV="1">
              <a:off x="3076560" y="5081400"/>
              <a:ext cx="88200" cy="516600"/>
            </a:xfrm>
            <a:custGeom>
              <a:avLst/>
              <a:gdLst>
                <a:gd name="textAreaLeft" fmla="*/ -360 w 88200"/>
                <a:gd name="textAreaRight" fmla="*/ 88200 w 88200"/>
                <a:gd name="textAreaTop" fmla="*/ -360 h 516600"/>
                <a:gd name="textAreaBottom" fmla="*/ 516600 h 51660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Group 198"/>
          <p:cNvGrpSpPr/>
          <p:nvPr/>
        </p:nvGrpSpPr>
        <p:grpSpPr>
          <a:xfrm>
            <a:off x="1530720" y="5050080"/>
            <a:ext cx="193320" cy="525240"/>
            <a:chOff x="1530720" y="5050080"/>
            <a:chExt cx="193320" cy="525240"/>
          </a:xfrm>
        </p:grpSpPr>
        <p:sp>
          <p:nvSpPr>
            <p:cNvPr id="332" name="Freeform 199"/>
            <p:cNvSpPr/>
            <p:nvPr/>
          </p:nvSpPr>
          <p:spPr>
            <a:xfrm flipH="1" flipV="1">
              <a:off x="1657080" y="5111640"/>
              <a:ext cx="66600" cy="46368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360 h 463680"/>
                <a:gd name="textAreaBottom" fmla="*/ 464400 h 46368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200"/>
            <p:cNvSpPr/>
            <p:nvPr/>
          </p:nvSpPr>
          <p:spPr>
            <a:xfrm flipH="1" flipV="1">
              <a:off x="1530360" y="5050080"/>
              <a:ext cx="88200" cy="516960"/>
            </a:xfrm>
            <a:custGeom>
              <a:avLst/>
              <a:gdLst>
                <a:gd name="textAreaLeft" fmla="*/ -360 w 88200"/>
                <a:gd name="textAreaRight" fmla="*/ 88200 w 88200"/>
                <a:gd name="textAreaTop" fmla="*/ 360 h 516960"/>
                <a:gd name="textAreaBottom" fmla="*/ 517680 h 51696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" name="Freeform 201"/>
          <p:cNvSpPr/>
          <p:nvPr/>
        </p:nvSpPr>
        <p:spPr>
          <a:xfrm flipH="1" flipV="1">
            <a:off x="1366200" y="5038560"/>
            <a:ext cx="58680" cy="541440"/>
          </a:xfrm>
          <a:custGeom>
            <a:avLst/>
            <a:gdLst>
              <a:gd name="textAreaLeft" fmla="*/ -360 w 58680"/>
              <a:gd name="textAreaRight" fmla="*/ 58680 w 58680"/>
              <a:gd name="textAreaTop" fmla="*/ 360 h 541440"/>
              <a:gd name="textAreaBottom" fmla="*/ 542160 h 541440"/>
            </a:gdLst>
            <a:ahLst/>
            <a:rect l="textAreaLeft" t="textAreaTop" r="textAreaRight" b="textAreaBottom"/>
            <a:pathLst>
              <a:path w="104" h="768">
                <a:moveTo>
                  <a:pt x="0" y="0"/>
                </a:moveTo>
                <a:cubicBezTo>
                  <a:pt x="44" y="116"/>
                  <a:pt x="88" y="232"/>
                  <a:pt x="96" y="336"/>
                </a:cubicBezTo>
                <a:cubicBezTo>
                  <a:pt x="104" y="440"/>
                  <a:pt x="48" y="552"/>
                  <a:pt x="48" y="624"/>
                </a:cubicBezTo>
                <a:cubicBezTo>
                  <a:pt x="48" y="696"/>
                  <a:pt x="72" y="732"/>
                  <a:pt x="96" y="76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Freeform 202"/>
          <p:cNvSpPr/>
          <p:nvPr/>
        </p:nvSpPr>
        <p:spPr>
          <a:xfrm flipH="1" flipV="1">
            <a:off x="1424880" y="5241240"/>
            <a:ext cx="65160" cy="338040"/>
          </a:xfrm>
          <a:custGeom>
            <a:avLst/>
            <a:gdLst>
              <a:gd name="textAreaLeft" fmla="*/ -360 w 65160"/>
              <a:gd name="textAreaRight" fmla="*/ 65160 w 65160"/>
              <a:gd name="textAreaTop" fmla="*/ -360 h 338040"/>
              <a:gd name="textAreaBottom" fmla="*/ 338040 h 338040"/>
            </a:gdLst>
            <a:ahLst/>
            <a:rect l="textAreaLeft" t="textAreaTop" r="textAreaRight" b="textAreaBottom"/>
            <a:pathLst>
              <a:path w="104" h="480">
                <a:moveTo>
                  <a:pt x="56" y="0"/>
                </a:moveTo>
                <a:cubicBezTo>
                  <a:pt x="28" y="104"/>
                  <a:pt x="0" y="208"/>
                  <a:pt x="8" y="288"/>
                </a:cubicBezTo>
                <a:cubicBezTo>
                  <a:pt x="16" y="368"/>
                  <a:pt x="60" y="424"/>
                  <a:pt x="104" y="48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Freeform 203"/>
          <p:cNvSpPr/>
          <p:nvPr/>
        </p:nvSpPr>
        <p:spPr>
          <a:xfrm flipH="1" flipV="1">
            <a:off x="1212840" y="5083200"/>
            <a:ext cx="46080" cy="496800"/>
          </a:xfrm>
          <a:custGeom>
            <a:avLst/>
            <a:gdLst>
              <a:gd name="textAreaLeft" fmla="*/ 360 w 46080"/>
              <a:gd name="textAreaRight" fmla="*/ 46800 w 46080"/>
              <a:gd name="textAreaTop" fmla="*/ 360 h 496800"/>
              <a:gd name="textAreaBottom" fmla="*/ 497520 h 496800"/>
            </a:gdLst>
            <a:ahLst/>
            <a:rect l="textAreaLeft" t="textAreaTop" r="textAreaRight" b="textAreaBottom"/>
            <a:pathLst>
              <a:path w="56" h="528">
                <a:moveTo>
                  <a:pt x="0" y="0"/>
                </a:moveTo>
                <a:cubicBezTo>
                  <a:pt x="20" y="124"/>
                  <a:pt x="40" y="248"/>
                  <a:pt x="48" y="336"/>
                </a:cubicBezTo>
                <a:cubicBezTo>
                  <a:pt x="56" y="424"/>
                  <a:pt x="48" y="496"/>
                  <a:pt x="48" y="5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Freeform 204"/>
          <p:cNvSpPr/>
          <p:nvPr/>
        </p:nvSpPr>
        <p:spPr>
          <a:xfrm flipH="1" flipV="1">
            <a:off x="1297080" y="5126760"/>
            <a:ext cx="39600" cy="452520"/>
          </a:xfrm>
          <a:custGeom>
            <a:avLst/>
            <a:gdLst>
              <a:gd name="textAreaLeft" fmla="*/ 360 w 39600"/>
              <a:gd name="textAreaRight" fmla="*/ 40320 w 39600"/>
              <a:gd name="textAreaTop" fmla="*/ -360 h 452520"/>
              <a:gd name="textAreaBottom" fmla="*/ 452520 h 452520"/>
            </a:gdLst>
            <a:ahLst/>
            <a:rect l="textAreaLeft" t="textAreaTop" r="textAreaRight" b="textAreaBottom"/>
            <a:pathLst>
              <a:path w="48" h="480">
                <a:moveTo>
                  <a:pt x="48" y="0"/>
                </a:moveTo>
                <a:cubicBezTo>
                  <a:pt x="24" y="128"/>
                  <a:pt x="0" y="256"/>
                  <a:pt x="0" y="336"/>
                </a:cubicBezTo>
                <a:cubicBezTo>
                  <a:pt x="0" y="416"/>
                  <a:pt x="24" y="448"/>
                  <a:pt x="48" y="48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Freeform 205"/>
          <p:cNvSpPr/>
          <p:nvPr/>
        </p:nvSpPr>
        <p:spPr>
          <a:xfrm flipH="1" flipV="1">
            <a:off x="1105920" y="5115960"/>
            <a:ext cx="66600" cy="463320"/>
          </a:xfrm>
          <a:custGeom>
            <a:avLst/>
            <a:gdLst>
              <a:gd name="textAreaLeft" fmla="*/ -360 w 66600"/>
              <a:gd name="textAreaRight" fmla="*/ 66600 w 6660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w="52" h="493">
                <a:moveTo>
                  <a:pt x="36" y="0"/>
                </a:moveTo>
                <a:cubicBezTo>
                  <a:pt x="18" y="160"/>
                  <a:pt x="0" y="321"/>
                  <a:pt x="3" y="403"/>
                </a:cubicBezTo>
                <a:cubicBezTo>
                  <a:pt x="6" y="485"/>
                  <a:pt x="43" y="477"/>
                  <a:pt x="52" y="49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Freeform 206"/>
          <p:cNvSpPr/>
          <p:nvPr/>
        </p:nvSpPr>
        <p:spPr>
          <a:xfrm flipH="1" flipV="1">
            <a:off x="978840" y="5054040"/>
            <a:ext cx="88920" cy="517320"/>
          </a:xfrm>
          <a:custGeom>
            <a:avLst/>
            <a:gdLst>
              <a:gd name="textAreaLeft" fmla="*/ -360 w 88920"/>
              <a:gd name="textAreaRight" fmla="*/ 88920 w 88920"/>
              <a:gd name="textAreaTop" fmla="*/ -360 h 517320"/>
              <a:gd name="textAreaBottom" fmla="*/ 517320 h 517320"/>
            </a:gdLst>
            <a:ahLst/>
            <a:rect l="textAreaLeft" t="textAreaTop" r="textAreaRight" b="textAreaBottom"/>
            <a:pathLst>
              <a:path w="69" h="550">
                <a:moveTo>
                  <a:pt x="3" y="0"/>
                </a:moveTo>
                <a:cubicBezTo>
                  <a:pt x="1" y="97"/>
                  <a:pt x="0" y="195"/>
                  <a:pt x="11" y="287"/>
                </a:cubicBezTo>
                <a:cubicBezTo>
                  <a:pt x="22" y="379"/>
                  <a:pt x="45" y="464"/>
                  <a:pt x="69" y="55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Group 207"/>
          <p:cNvGrpSpPr/>
          <p:nvPr/>
        </p:nvGrpSpPr>
        <p:grpSpPr>
          <a:xfrm>
            <a:off x="1641600" y="4148280"/>
            <a:ext cx="1123920" cy="1830240"/>
            <a:chOff x="1641600" y="4148280"/>
            <a:chExt cx="1123920" cy="1830240"/>
          </a:xfrm>
        </p:grpSpPr>
        <p:sp>
          <p:nvSpPr>
            <p:cNvPr id="341" name="Freeform 208"/>
            <p:cNvSpPr/>
            <p:nvPr/>
          </p:nvSpPr>
          <p:spPr>
            <a:xfrm>
              <a:off x="1641600" y="4162320"/>
              <a:ext cx="614160" cy="177480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w="452" h="1118">
                  <a:moveTo>
                    <a:pt x="156" y="0"/>
                  </a:moveTo>
                  <a:cubicBezTo>
                    <a:pt x="92" y="9"/>
                    <a:pt x="83" y="8"/>
                    <a:pt x="41" y="50"/>
                  </a:cubicBezTo>
                  <a:cubicBezTo>
                    <a:pt x="36" y="66"/>
                    <a:pt x="30" y="83"/>
                    <a:pt x="25" y="99"/>
                  </a:cubicBezTo>
                  <a:cubicBezTo>
                    <a:pt x="22" y="107"/>
                    <a:pt x="17" y="124"/>
                    <a:pt x="17" y="124"/>
                  </a:cubicBezTo>
                  <a:cubicBezTo>
                    <a:pt x="20" y="258"/>
                    <a:pt x="0" y="391"/>
                    <a:pt x="41" y="518"/>
                  </a:cubicBezTo>
                  <a:cubicBezTo>
                    <a:pt x="55" y="623"/>
                    <a:pt x="67" y="727"/>
                    <a:pt x="33" y="830"/>
                  </a:cubicBezTo>
                  <a:cubicBezTo>
                    <a:pt x="24" y="885"/>
                    <a:pt x="8" y="1011"/>
                    <a:pt x="41" y="1044"/>
                  </a:cubicBezTo>
                  <a:cubicBezTo>
                    <a:pt x="65" y="1068"/>
                    <a:pt x="118" y="1099"/>
                    <a:pt x="148" y="1118"/>
                  </a:cubicBezTo>
                  <a:cubicBezTo>
                    <a:pt x="261" y="1108"/>
                    <a:pt x="214" y="1109"/>
                    <a:pt x="288" y="1085"/>
                  </a:cubicBezTo>
                  <a:cubicBezTo>
                    <a:pt x="318" y="1040"/>
                    <a:pt x="321" y="1027"/>
                    <a:pt x="337" y="978"/>
                  </a:cubicBezTo>
                  <a:cubicBezTo>
                    <a:pt x="331" y="914"/>
                    <a:pt x="333" y="858"/>
                    <a:pt x="296" y="806"/>
                  </a:cubicBezTo>
                  <a:cubicBezTo>
                    <a:pt x="280" y="756"/>
                    <a:pt x="264" y="710"/>
                    <a:pt x="255" y="658"/>
                  </a:cubicBezTo>
                  <a:cubicBezTo>
                    <a:pt x="261" y="578"/>
                    <a:pt x="241" y="556"/>
                    <a:pt x="304" y="535"/>
                  </a:cubicBezTo>
                  <a:cubicBezTo>
                    <a:pt x="327" y="512"/>
                    <a:pt x="331" y="495"/>
                    <a:pt x="362" y="485"/>
                  </a:cubicBezTo>
                  <a:cubicBezTo>
                    <a:pt x="407" y="455"/>
                    <a:pt x="434" y="440"/>
                    <a:pt x="452" y="387"/>
                  </a:cubicBezTo>
                  <a:cubicBezTo>
                    <a:pt x="443" y="343"/>
                    <a:pt x="444" y="334"/>
                    <a:pt x="403" y="321"/>
                  </a:cubicBezTo>
                  <a:cubicBezTo>
                    <a:pt x="364" y="324"/>
                    <a:pt x="321" y="317"/>
                    <a:pt x="288" y="337"/>
                  </a:cubicBezTo>
                  <a:cubicBezTo>
                    <a:pt x="254" y="357"/>
                    <a:pt x="255" y="390"/>
                    <a:pt x="214" y="403"/>
                  </a:cubicBezTo>
                  <a:cubicBezTo>
                    <a:pt x="194" y="341"/>
                    <a:pt x="189" y="253"/>
                    <a:pt x="239" y="206"/>
                  </a:cubicBezTo>
                  <a:cubicBezTo>
                    <a:pt x="259" y="125"/>
                    <a:pt x="264" y="78"/>
                    <a:pt x="197" y="33"/>
                  </a:cubicBezTo>
                  <a:cubicBezTo>
                    <a:pt x="192" y="25"/>
                    <a:pt x="188" y="15"/>
                    <a:pt x="181" y="9"/>
                  </a:cubicBezTo>
                  <a:cubicBezTo>
                    <a:pt x="174" y="3"/>
                    <a:pt x="156" y="0"/>
                    <a:pt x="156" y="0"/>
                  </a:cubicBez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09"/>
            <p:cNvSpPr/>
            <p:nvPr/>
          </p:nvSpPr>
          <p:spPr>
            <a:xfrm>
              <a:off x="2286000" y="4148280"/>
              <a:ext cx="479520" cy="183024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1830240"/>
                <a:gd name="textAreaBottom" fmla="*/ 1830600 h 1830240"/>
              </a:gdLst>
              <a:ahLst/>
              <a:rect l="textAreaLeft" t="textAreaTop" r="textAreaRight" b="textAreaBottom"/>
              <a:pathLst>
                <a:path w="344" h="1211">
                  <a:moveTo>
                    <a:pt x="170" y="18"/>
                  </a:moveTo>
                  <a:cubicBezTo>
                    <a:pt x="114" y="0"/>
                    <a:pt x="83" y="30"/>
                    <a:pt x="47" y="68"/>
                  </a:cubicBezTo>
                  <a:cubicBezTo>
                    <a:pt x="27" y="125"/>
                    <a:pt x="35" y="101"/>
                    <a:pt x="22" y="142"/>
                  </a:cubicBezTo>
                  <a:cubicBezTo>
                    <a:pt x="25" y="235"/>
                    <a:pt x="23" y="328"/>
                    <a:pt x="30" y="421"/>
                  </a:cubicBezTo>
                  <a:cubicBezTo>
                    <a:pt x="32" y="447"/>
                    <a:pt x="47" y="470"/>
                    <a:pt x="55" y="495"/>
                  </a:cubicBezTo>
                  <a:cubicBezTo>
                    <a:pt x="60" y="511"/>
                    <a:pt x="71" y="544"/>
                    <a:pt x="71" y="544"/>
                  </a:cubicBezTo>
                  <a:cubicBezTo>
                    <a:pt x="66" y="684"/>
                    <a:pt x="58" y="811"/>
                    <a:pt x="39" y="947"/>
                  </a:cubicBezTo>
                  <a:cubicBezTo>
                    <a:pt x="49" y="1211"/>
                    <a:pt x="0" y="1172"/>
                    <a:pt x="252" y="1161"/>
                  </a:cubicBezTo>
                  <a:cubicBezTo>
                    <a:pt x="295" y="1118"/>
                    <a:pt x="296" y="1118"/>
                    <a:pt x="310" y="1062"/>
                  </a:cubicBezTo>
                  <a:cubicBezTo>
                    <a:pt x="307" y="996"/>
                    <a:pt x="309" y="930"/>
                    <a:pt x="302" y="865"/>
                  </a:cubicBezTo>
                  <a:cubicBezTo>
                    <a:pt x="297" y="819"/>
                    <a:pt x="267" y="763"/>
                    <a:pt x="252" y="717"/>
                  </a:cubicBezTo>
                  <a:cubicBezTo>
                    <a:pt x="256" y="572"/>
                    <a:pt x="215" y="469"/>
                    <a:pt x="285" y="364"/>
                  </a:cubicBezTo>
                  <a:cubicBezTo>
                    <a:pt x="303" y="308"/>
                    <a:pt x="281" y="376"/>
                    <a:pt x="310" y="290"/>
                  </a:cubicBezTo>
                  <a:cubicBezTo>
                    <a:pt x="313" y="282"/>
                    <a:pt x="318" y="265"/>
                    <a:pt x="318" y="265"/>
                  </a:cubicBezTo>
                  <a:cubicBezTo>
                    <a:pt x="304" y="0"/>
                    <a:pt x="344" y="164"/>
                    <a:pt x="269" y="84"/>
                  </a:cubicBezTo>
                  <a:cubicBezTo>
                    <a:pt x="253" y="40"/>
                    <a:pt x="268" y="65"/>
                    <a:pt x="211" y="27"/>
                  </a:cubicBezTo>
                  <a:cubicBezTo>
                    <a:pt x="203" y="21"/>
                    <a:pt x="186" y="10"/>
                    <a:pt x="186" y="10"/>
                  </a:cubicBezTo>
                  <a:cubicBezTo>
                    <a:pt x="159" y="19"/>
                    <a:pt x="154" y="18"/>
                    <a:pt x="170" y="18"/>
                  </a:cubicBez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Freeform 210"/>
          <p:cNvSpPr/>
          <p:nvPr/>
        </p:nvSpPr>
        <p:spPr>
          <a:xfrm>
            <a:off x="3532320" y="4176720"/>
            <a:ext cx="588960" cy="1822320"/>
          </a:xfrm>
          <a:custGeom>
            <a:avLst/>
            <a:gdLst>
              <a:gd name="textAreaLeft" fmla="*/ 0 w 588960"/>
              <a:gd name="textAreaRight" fmla="*/ 589320 w 588960"/>
              <a:gd name="textAreaTop" fmla="*/ 0 h 1822320"/>
              <a:gd name="textAreaBottom" fmla="*/ 1822680 h 1822320"/>
            </a:gdLst>
            <a:ahLst/>
            <a:rect l="textAreaLeft" t="textAreaTop" r="textAreaRight" b="textAreaBottom"/>
            <a:pathLst>
              <a:path w="454" h="1148">
                <a:moveTo>
                  <a:pt x="132" y="16"/>
                </a:moveTo>
                <a:cubicBezTo>
                  <a:pt x="96" y="25"/>
                  <a:pt x="92" y="33"/>
                  <a:pt x="66" y="57"/>
                </a:cubicBezTo>
                <a:cubicBezTo>
                  <a:pt x="63" y="68"/>
                  <a:pt x="63" y="80"/>
                  <a:pt x="58" y="90"/>
                </a:cubicBezTo>
                <a:cubicBezTo>
                  <a:pt x="54" y="97"/>
                  <a:pt x="44" y="99"/>
                  <a:pt x="41" y="106"/>
                </a:cubicBezTo>
                <a:cubicBezTo>
                  <a:pt x="22" y="143"/>
                  <a:pt x="14" y="190"/>
                  <a:pt x="0" y="230"/>
                </a:cubicBezTo>
                <a:cubicBezTo>
                  <a:pt x="3" y="320"/>
                  <a:pt x="4" y="411"/>
                  <a:pt x="9" y="501"/>
                </a:cubicBezTo>
                <a:cubicBezTo>
                  <a:pt x="10" y="515"/>
                  <a:pt x="15" y="528"/>
                  <a:pt x="17" y="542"/>
                </a:cubicBezTo>
                <a:cubicBezTo>
                  <a:pt x="23" y="586"/>
                  <a:pt x="33" y="673"/>
                  <a:pt x="33" y="673"/>
                </a:cubicBezTo>
                <a:cubicBezTo>
                  <a:pt x="36" y="728"/>
                  <a:pt x="36" y="783"/>
                  <a:pt x="41" y="838"/>
                </a:cubicBezTo>
                <a:cubicBezTo>
                  <a:pt x="42" y="852"/>
                  <a:pt x="49" y="865"/>
                  <a:pt x="50" y="879"/>
                </a:cubicBezTo>
                <a:cubicBezTo>
                  <a:pt x="52" y="903"/>
                  <a:pt x="38" y="1068"/>
                  <a:pt x="99" y="1093"/>
                </a:cubicBezTo>
                <a:cubicBezTo>
                  <a:pt x="120" y="1101"/>
                  <a:pt x="143" y="1104"/>
                  <a:pt x="165" y="1109"/>
                </a:cubicBezTo>
                <a:cubicBezTo>
                  <a:pt x="223" y="1148"/>
                  <a:pt x="192" y="1134"/>
                  <a:pt x="321" y="1117"/>
                </a:cubicBezTo>
                <a:cubicBezTo>
                  <a:pt x="338" y="1115"/>
                  <a:pt x="370" y="1101"/>
                  <a:pt x="370" y="1101"/>
                </a:cubicBezTo>
                <a:cubicBezTo>
                  <a:pt x="390" y="1081"/>
                  <a:pt x="409" y="1065"/>
                  <a:pt x="419" y="1035"/>
                </a:cubicBezTo>
                <a:cubicBezTo>
                  <a:pt x="425" y="1019"/>
                  <a:pt x="430" y="1002"/>
                  <a:pt x="436" y="986"/>
                </a:cubicBezTo>
                <a:cubicBezTo>
                  <a:pt x="439" y="978"/>
                  <a:pt x="444" y="961"/>
                  <a:pt x="444" y="961"/>
                </a:cubicBezTo>
                <a:cubicBezTo>
                  <a:pt x="439" y="724"/>
                  <a:pt x="454" y="626"/>
                  <a:pt x="395" y="443"/>
                </a:cubicBezTo>
                <a:cubicBezTo>
                  <a:pt x="392" y="424"/>
                  <a:pt x="388" y="405"/>
                  <a:pt x="387" y="386"/>
                </a:cubicBezTo>
                <a:cubicBezTo>
                  <a:pt x="386" y="364"/>
                  <a:pt x="404" y="84"/>
                  <a:pt x="321" y="57"/>
                </a:cubicBezTo>
                <a:cubicBezTo>
                  <a:pt x="271" y="10"/>
                  <a:pt x="222" y="7"/>
                  <a:pt x="156" y="0"/>
                </a:cubicBezTo>
                <a:cubicBezTo>
                  <a:pt x="145" y="3"/>
                  <a:pt x="68" y="37"/>
                  <a:pt x="132" y="16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211"/>
          <p:cNvSpPr/>
          <p:nvPr/>
        </p:nvSpPr>
        <p:spPr>
          <a:xfrm>
            <a:off x="3949560" y="5881680"/>
            <a:ext cx="1103400" cy="598320"/>
          </a:xfrm>
          <a:custGeom>
            <a:avLst/>
            <a:gdLst>
              <a:gd name="textAreaLeft" fmla="*/ 0 w 1103400"/>
              <a:gd name="textAreaRight" fmla="*/ 1103760 w 110340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670" h="492">
                <a:moveTo>
                  <a:pt x="329" y="20"/>
                </a:moveTo>
                <a:cubicBezTo>
                  <a:pt x="131" y="28"/>
                  <a:pt x="161" y="0"/>
                  <a:pt x="58" y="69"/>
                </a:cubicBezTo>
                <a:cubicBezTo>
                  <a:pt x="55" y="77"/>
                  <a:pt x="54" y="86"/>
                  <a:pt x="50" y="94"/>
                </a:cubicBezTo>
                <a:cubicBezTo>
                  <a:pt x="46" y="103"/>
                  <a:pt x="37" y="109"/>
                  <a:pt x="33" y="118"/>
                </a:cubicBezTo>
                <a:cubicBezTo>
                  <a:pt x="20" y="147"/>
                  <a:pt x="10" y="186"/>
                  <a:pt x="0" y="217"/>
                </a:cubicBezTo>
                <a:cubicBezTo>
                  <a:pt x="3" y="264"/>
                  <a:pt x="1" y="311"/>
                  <a:pt x="8" y="357"/>
                </a:cubicBezTo>
                <a:cubicBezTo>
                  <a:pt x="11" y="377"/>
                  <a:pt x="52" y="391"/>
                  <a:pt x="66" y="398"/>
                </a:cubicBezTo>
                <a:cubicBezTo>
                  <a:pt x="110" y="419"/>
                  <a:pt x="150" y="427"/>
                  <a:pt x="198" y="439"/>
                </a:cubicBezTo>
                <a:cubicBezTo>
                  <a:pt x="554" y="431"/>
                  <a:pt x="487" y="492"/>
                  <a:pt x="641" y="390"/>
                </a:cubicBezTo>
                <a:cubicBezTo>
                  <a:pt x="670" y="308"/>
                  <a:pt x="661" y="266"/>
                  <a:pt x="600" y="209"/>
                </a:cubicBezTo>
                <a:cubicBezTo>
                  <a:pt x="578" y="142"/>
                  <a:pt x="593" y="167"/>
                  <a:pt x="543" y="127"/>
                </a:cubicBezTo>
                <a:cubicBezTo>
                  <a:pt x="511" y="101"/>
                  <a:pt x="544" y="116"/>
                  <a:pt x="502" y="102"/>
                </a:cubicBezTo>
                <a:cubicBezTo>
                  <a:pt x="446" y="46"/>
                  <a:pt x="414" y="20"/>
                  <a:pt x="329" y="20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Freeform 212"/>
          <p:cNvSpPr/>
          <p:nvPr/>
        </p:nvSpPr>
        <p:spPr>
          <a:xfrm>
            <a:off x="4911840" y="4214880"/>
            <a:ext cx="1046160" cy="904680"/>
          </a:xfrm>
          <a:custGeom>
            <a:avLst/>
            <a:gdLst>
              <a:gd name="textAreaLeft" fmla="*/ 0 w 1046160"/>
              <a:gd name="textAreaRight" fmla="*/ 1046520 w 104616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659" h="570">
                <a:moveTo>
                  <a:pt x="27" y="41"/>
                </a:moveTo>
                <a:cubicBezTo>
                  <a:pt x="24" y="82"/>
                  <a:pt x="23" y="123"/>
                  <a:pt x="18" y="164"/>
                </a:cubicBezTo>
                <a:cubicBezTo>
                  <a:pt x="17" y="173"/>
                  <a:pt x="10" y="180"/>
                  <a:pt x="10" y="189"/>
                </a:cubicBezTo>
                <a:cubicBezTo>
                  <a:pt x="10" y="247"/>
                  <a:pt x="13" y="304"/>
                  <a:pt x="18" y="362"/>
                </a:cubicBezTo>
                <a:cubicBezTo>
                  <a:pt x="29" y="501"/>
                  <a:pt x="149" y="526"/>
                  <a:pt x="265" y="542"/>
                </a:cubicBezTo>
                <a:cubicBezTo>
                  <a:pt x="297" y="554"/>
                  <a:pt x="331" y="559"/>
                  <a:pt x="364" y="567"/>
                </a:cubicBezTo>
                <a:cubicBezTo>
                  <a:pt x="508" y="556"/>
                  <a:pt x="429" y="570"/>
                  <a:pt x="495" y="551"/>
                </a:cubicBezTo>
                <a:cubicBezTo>
                  <a:pt x="522" y="543"/>
                  <a:pt x="577" y="526"/>
                  <a:pt x="577" y="526"/>
                </a:cubicBezTo>
                <a:cubicBezTo>
                  <a:pt x="630" y="490"/>
                  <a:pt x="620" y="524"/>
                  <a:pt x="643" y="452"/>
                </a:cubicBezTo>
                <a:cubicBezTo>
                  <a:pt x="648" y="436"/>
                  <a:pt x="659" y="403"/>
                  <a:pt x="659" y="403"/>
                </a:cubicBezTo>
                <a:cubicBezTo>
                  <a:pt x="656" y="334"/>
                  <a:pt x="654" y="266"/>
                  <a:pt x="651" y="197"/>
                </a:cubicBezTo>
                <a:cubicBezTo>
                  <a:pt x="649" y="150"/>
                  <a:pt x="658" y="101"/>
                  <a:pt x="643" y="57"/>
                </a:cubicBezTo>
                <a:cubicBezTo>
                  <a:pt x="637" y="38"/>
                  <a:pt x="590" y="23"/>
                  <a:pt x="569" y="16"/>
                </a:cubicBezTo>
                <a:cubicBezTo>
                  <a:pt x="552" y="18"/>
                  <a:pt x="471" y="9"/>
                  <a:pt x="446" y="41"/>
                </a:cubicBezTo>
                <a:cubicBezTo>
                  <a:pt x="379" y="126"/>
                  <a:pt x="494" y="13"/>
                  <a:pt x="421" y="82"/>
                </a:cubicBezTo>
                <a:cubicBezTo>
                  <a:pt x="414" y="144"/>
                  <a:pt x="415" y="208"/>
                  <a:pt x="347" y="230"/>
                </a:cubicBezTo>
                <a:cubicBezTo>
                  <a:pt x="298" y="222"/>
                  <a:pt x="288" y="226"/>
                  <a:pt x="273" y="181"/>
                </a:cubicBezTo>
                <a:cubicBezTo>
                  <a:pt x="270" y="145"/>
                  <a:pt x="269" y="110"/>
                  <a:pt x="265" y="74"/>
                </a:cubicBezTo>
                <a:cubicBezTo>
                  <a:pt x="258" y="19"/>
                  <a:pt x="169" y="11"/>
                  <a:pt x="125" y="0"/>
                </a:cubicBezTo>
                <a:cubicBezTo>
                  <a:pt x="100" y="3"/>
                  <a:pt x="75" y="1"/>
                  <a:pt x="51" y="8"/>
                </a:cubicBezTo>
                <a:cubicBezTo>
                  <a:pt x="51" y="8"/>
                  <a:pt x="0" y="41"/>
                  <a:pt x="27" y="41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Freeform 213"/>
          <p:cNvSpPr/>
          <p:nvPr/>
        </p:nvSpPr>
        <p:spPr>
          <a:xfrm flipV="1">
            <a:off x="5940360" y="5058720"/>
            <a:ext cx="1046160" cy="904680"/>
          </a:xfrm>
          <a:custGeom>
            <a:avLst/>
            <a:gdLst>
              <a:gd name="textAreaLeft" fmla="*/ 0 w 1046160"/>
              <a:gd name="textAreaRight" fmla="*/ 1046520 w 1046160"/>
              <a:gd name="textAreaTop" fmla="*/ -360 h 904680"/>
              <a:gd name="textAreaBottom" fmla="*/ 904680 h 904680"/>
            </a:gdLst>
            <a:ahLst/>
            <a:rect l="textAreaLeft" t="textAreaTop" r="textAreaRight" b="textAreaBottom"/>
            <a:pathLst>
              <a:path w="659" h="570">
                <a:moveTo>
                  <a:pt x="27" y="41"/>
                </a:moveTo>
                <a:cubicBezTo>
                  <a:pt x="24" y="82"/>
                  <a:pt x="23" y="123"/>
                  <a:pt x="18" y="164"/>
                </a:cubicBezTo>
                <a:cubicBezTo>
                  <a:pt x="17" y="173"/>
                  <a:pt x="10" y="180"/>
                  <a:pt x="10" y="189"/>
                </a:cubicBezTo>
                <a:cubicBezTo>
                  <a:pt x="10" y="247"/>
                  <a:pt x="13" y="304"/>
                  <a:pt x="18" y="362"/>
                </a:cubicBezTo>
                <a:cubicBezTo>
                  <a:pt x="29" y="501"/>
                  <a:pt x="149" y="526"/>
                  <a:pt x="265" y="542"/>
                </a:cubicBezTo>
                <a:cubicBezTo>
                  <a:pt x="297" y="554"/>
                  <a:pt x="331" y="559"/>
                  <a:pt x="364" y="567"/>
                </a:cubicBezTo>
                <a:cubicBezTo>
                  <a:pt x="508" y="556"/>
                  <a:pt x="429" y="570"/>
                  <a:pt x="495" y="551"/>
                </a:cubicBezTo>
                <a:cubicBezTo>
                  <a:pt x="522" y="543"/>
                  <a:pt x="577" y="526"/>
                  <a:pt x="577" y="526"/>
                </a:cubicBezTo>
                <a:cubicBezTo>
                  <a:pt x="630" y="490"/>
                  <a:pt x="620" y="524"/>
                  <a:pt x="643" y="452"/>
                </a:cubicBezTo>
                <a:cubicBezTo>
                  <a:pt x="648" y="436"/>
                  <a:pt x="659" y="403"/>
                  <a:pt x="659" y="403"/>
                </a:cubicBezTo>
                <a:cubicBezTo>
                  <a:pt x="656" y="334"/>
                  <a:pt x="654" y="266"/>
                  <a:pt x="651" y="197"/>
                </a:cubicBezTo>
                <a:cubicBezTo>
                  <a:pt x="649" y="150"/>
                  <a:pt x="658" y="101"/>
                  <a:pt x="643" y="57"/>
                </a:cubicBezTo>
                <a:cubicBezTo>
                  <a:pt x="637" y="38"/>
                  <a:pt x="590" y="23"/>
                  <a:pt x="569" y="16"/>
                </a:cubicBezTo>
                <a:cubicBezTo>
                  <a:pt x="552" y="18"/>
                  <a:pt x="471" y="9"/>
                  <a:pt x="446" y="41"/>
                </a:cubicBezTo>
                <a:cubicBezTo>
                  <a:pt x="379" y="126"/>
                  <a:pt x="494" y="13"/>
                  <a:pt x="421" y="82"/>
                </a:cubicBezTo>
                <a:cubicBezTo>
                  <a:pt x="414" y="144"/>
                  <a:pt x="415" y="208"/>
                  <a:pt x="347" y="230"/>
                </a:cubicBezTo>
                <a:cubicBezTo>
                  <a:pt x="298" y="222"/>
                  <a:pt x="288" y="226"/>
                  <a:pt x="273" y="181"/>
                </a:cubicBezTo>
                <a:cubicBezTo>
                  <a:pt x="270" y="145"/>
                  <a:pt x="269" y="110"/>
                  <a:pt x="265" y="74"/>
                </a:cubicBezTo>
                <a:cubicBezTo>
                  <a:pt x="258" y="19"/>
                  <a:pt x="169" y="11"/>
                  <a:pt x="125" y="0"/>
                </a:cubicBezTo>
                <a:cubicBezTo>
                  <a:pt x="100" y="3"/>
                  <a:pt x="75" y="1"/>
                  <a:pt x="51" y="8"/>
                </a:cubicBezTo>
                <a:cubicBezTo>
                  <a:pt x="51" y="8"/>
                  <a:pt x="0" y="41"/>
                  <a:pt x="27" y="41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7" name="Group 214"/>
          <p:cNvGrpSpPr/>
          <p:nvPr/>
        </p:nvGrpSpPr>
        <p:grpSpPr>
          <a:xfrm>
            <a:off x="3659040" y="3274200"/>
            <a:ext cx="655920" cy="923400"/>
            <a:chOff x="3659040" y="3274200"/>
            <a:chExt cx="655920" cy="923400"/>
          </a:xfrm>
        </p:grpSpPr>
        <p:sp>
          <p:nvSpPr>
            <p:cNvPr id="348" name="AutoShape 215"/>
            <p:cNvSpPr/>
            <p:nvPr/>
          </p:nvSpPr>
          <p:spPr>
            <a:xfrm rot="241800">
              <a:off x="3847320" y="3736440"/>
              <a:ext cx="221760" cy="220680"/>
            </a:xfrm>
            <a:prstGeom prst="hexagon">
              <a:avLst>
                <a:gd name="adj" fmla="val 25122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AutoShape 216"/>
            <p:cNvSpPr/>
            <p:nvPr/>
          </p:nvSpPr>
          <p:spPr>
            <a:xfrm rot="241800">
              <a:off x="3728880" y="3969000"/>
              <a:ext cx="222120" cy="220680"/>
            </a:xfrm>
            <a:prstGeom prst="hexagon">
              <a:avLst>
                <a:gd name="adj" fmla="val 25163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AutoShape 217"/>
            <p:cNvSpPr/>
            <p:nvPr/>
          </p:nvSpPr>
          <p:spPr>
            <a:xfrm rot="241800">
              <a:off x="3666240" y="3281400"/>
              <a:ext cx="221760" cy="220680"/>
            </a:xfrm>
            <a:prstGeom prst="hexagon">
              <a:avLst>
                <a:gd name="adj" fmla="val 25122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AutoShape 218"/>
            <p:cNvSpPr/>
            <p:nvPr/>
          </p:nvSpPr>
          <p:spPr>
            <a:xfrm rot="241800">
              <a:off x="3760200" y="3510360"/>
              <a:ext cx="221760" cy="220680"/>
            </a:xfrm>
            <a:prstGeom prst="hexagon">
              <a:avLst>
                <a:gd name="adj" fmla="val 25122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AutoShape 219"/>
            <p:cNvSpPr/>
            <p:nvPr/>
          </p:nvSpPr>
          <p:spPr>
            <a:xfrm rot="241800">
              <a:off x="4085280" y="3731040"/>
              <a:ext cx="222120" cy="220680"/>
            </a:xfrm>
            <a:prstGeom prst="hexagon">
              <a:avLst>
                <a:gd name="adj" fmla="val 25163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Group 220"/>
          <p:cNvGrpSpPr/>
          <p:nvPr/>
        </p:nvGrpSpPr>
        <p:grpSpPr>
          <a:xfrm>
            <a:off x="2730960" y="3417120"/>
            <a:ext cx="667080" cy="957240"/>
            <a:chOff x="2730960" y="3417120"/>
            <a:chExt cx="667080" cy="957240"/>
          </a:xfrm>
        </p:grpSpPr>
        <p:sp>
          <p:nvSpPr>
            <p:cNvPr id="354" name="AutoShape 221"/>
            <p:cNvSpPr/>
            <p:nvPr/>
          </p:nvSpPr>
          <p:spPr>
            <a:xfrm flipV="1" rot="20706600">
              <a:off x="2916000" y="3648240"/>
              <a:ext cx="222120" cy="220320"/>
            </a:xfrm>
            <a:prstGeom prst="hexagon">
              <a:avLst>
                <a:gd name="adj" fmla="val 25204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AutoShape 222"/>
            <p:cNvSpPr/>
            <p:nvPr/>
          </p:nvSpPr>
          <p:spPr>
            <a:xfrm flipV="1" rot="20706600">
              <a:off x="2755440" y="3441960"/>
              <a:ext cx="222480" cy="220320"/>
            </a:xfrm>
            <a:prstGeom prst="hexagon">
              <a:avLst>
                <a:gd name="adj" fmla="val 25245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AutoShape 223"/>
            <p:cNvSpPr/>
            <p:nvPr/>
          </p:nvSpPr>
          <p:spPr>
            <a:xfrm flipV="1" rot="20706600">
              <a:off x="2823840" y="4129200"/>
              <a:ext cx="222120" cy="220320"/>
            </a:xfrm>
            <a:prstGeom prst="hexagon">
              <a:avLst>
                <a:gd name="adj" fmla="val 25204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AutoShape 224"/>
            <p:cNvSpPr/>
            <p:nvPr/>
          </p:nvSpPr>
          <p:spPr>
            <a:xfrm flipV="1" rot="20706600">
              <a:off x="2873160" y="3886560"/>
              <a:ext cx="222120" cy="220320"/>
            </a:xfrm>
            <a:prstGeom prst="hexagon">
              <a:avLst>
                <a:gd name="adj" fmla="val 25204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AutoShape 225"/>
            <p:cNvSpPr/>
            <p:nvPr/>
          </p:nvSpPr>
          <p:spPr>
            <a:xfrm flipV="1" rot="20706600">
              <a:off x="3150720" y="3608640"/>
              <a:ext cx="222480" cy="220320"/>
            </a:xfrm>
            <a:prstGeom prst="hexagon">
              <a:avLst>
                <a:gd name="adj" fmla="val 25245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Group 226"/>
          <p:cNvGrpSpPr/>
          <p:nvPr/>
        </p:nvGrpSpPr>
        <p:grpSpPr>
          <a:xfrm>
            <a:off x="7563600" y="3675960"/>
            <a:ext cx="686880" cy="709560"/>
            <a:chOff x="7563600" y="3675960"/>
            <a:chExt cx="686880" cy="709560"/>
          </a:xfrm>
        </p:grpSpPr>
        <p:sp>
          <p:nvSpPr>
            <p:cNvPr id="360" name="AutoShape 227"/>
            <p:cNvSpPr/>
            <p:nvPr/>
          </p:nvSpPr>
          <p:spPr>
            <a:xfrm rot="20081400">
              <a:off x="7786440" y="3866760"/>
              <a:ext cx="222480" cy="220320"/>
            </a:xfrm>
            <a:prstGeom prst="hexagon">
              <a:avLst>
                <a:gd name="adj" fmla="val 25245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AutoShape 228"/>
            <p:cNvSpPr/>
            <p:nvPr/>
          </p:nvSpPr>
          <p:spPr>
            <a:xfrm rot="20081400">
              <a:off x="7797240" y="4127760"/>
              <a:ext cx="222120" cy="220680"/>
            </a:xfrm>
            <a:prstGeom prst="hexagon">
              <a:avLst>
                <a:gd name="adj" fmla="val 25163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AutoShape 229"/>
            <p:cNvSpPr/>
            <p:nvPr/>
          </p:nvSpPr>
          <p:spPr>
            <a:xfrm rot="20081400">
              <a:off x="7599960" y="3712680"/>
              <a:ext cx="222480" cy="220680"/>
            </a:xfrm>
            <a:prstGeom prst="hexagon">
              <a:avLst>
                <a:gd name="adj" fmla="val 25204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AutoShape 230"/>
            <p:cNvSpPr/>
            <p:nvPr/>
          </p:nvSpPr>
          <p:spPr>
            <a:xfrm rot="20081400">
              <a:off x="7991640" y="3745440"/>
              <a:ext cx="222120" cy="220680"/>
            </a:xfrm>
            <a:prstGeom prst="hexagon">
              <a:avLst>
                <a:gd name="adj" fmla="val 25163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Group 231"/>
          <p:cNvGrpSpPr/>
          <p:nvPr/>
        </p:nvGrpSpPr>
        <p:grpSpPr>
          <a:xfrm>
            <a:off x="5906880" y="3272400"/>
            <a:ext cx="1539360" cy="941040"/>
            <a:chOff x="5906880" y="3272400"/>
            <a:chExt cx="1539360" cy="941040"/>
          </a:xfrm>
        </p:grpSpPr>
        <p:grpSp>
          <p:nvGrpSpPr>
            <p:cNvPr id="365" name="Group 232"/>
            <p:cNvGrpSpPr/>
            <p:nvPr/>
          </p:nvGrpSpPr>
          <p:grpSpPr>
            <a:xfrm>
              <a:off x="5906880" y="3472560"/>
              <a:ext cx="682200" cy="740880"/>
              <a:chOff x="5906880" y="3472560"/>
              <a:chExt cx="682200" cy="740880"/>
            </a:xfrm>
          </p:grpSpPr>
          <p:sp>
            <p:nvSpPr>
              <p:cNvPr id="366" name="AutoShape 233"/>
              <p:cNvSpPr/>
              <p:nvPr/>
            </p:nvSpPr>
            <p:spPr>
              <a:xfrm flipV="1" rot="13767000">
                <a:off x="6088680" y="3711240"/>
                <a:ext cx="222120" cy="220680"/>
              </a:xfrm>
              <a:prstGeom prst="hexagon">
                <a:avLst>
                  <a:gd name="adj" fmla="val 25163"/>
                  <a:gd name="vf" fmla="val 115470"/>
                </a:avLst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AutoShape 234"/>
              <p:cNvSpPr/>
              <p:nvPr/>
            </p:nvSpPr>
            <p:spPr>
              <a:xfrm flipV="1" rot="13767000">
                <a:off x="5972760" y="3946320"/>
                <a:ext cx="222120" cy="220680"/>
              </a:xfrm>
              <a:prstGeom prst="hexagon">
                <a:avLst>
                  <a:gd name="adj" fmla="val 25163"/>
                  <a:gd name="vf" fmla="val 115470"/>
                </a:avLst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AutoShape 235"/>
              <p:cNvSpPr/>
              <p:nvPr/>
            </p:nvSpPr>
            <p:spPr>
              <a:xfrm flipV="1" rot="13767000">
                <a:off x="6321600" y="3647880"/>
                <a:ext cx="222480" cy="220680"/>
              </a:xfrm>
              <a:prstGeom prst="hexagon">
                <a:avLst>
                  <a:gd name="adj" fmla="val 25204"/>
                  <a:gd name="vf" fmla="val 115470"/>
                </a:avLst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AutoShape 236"/>
              <p:cNvSpPr/>
              <p:nvPr/>
            </p:nvSpPr>
            <p:spPr>
              <a:xfrm flipV="1" rot="13767000">
                <a:off x="5951880" y="3517560"/>
                <a:ext cx="222120" cy="220680"/>
              </a:xfrm>
              <a:prstGeom prst="hexagon">
                <a:avLst>
                  <a:gd name="adj" fmla="val 25163"/>
                  <a:gd name="vf" fmla="val 115470"/>
                </a:avLst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" name="Oval 237"/>
            <p:cNvSpPr/>
            <p:nvPr/>
          </p:nvSpPr>
          <p:spPr>
            <a:xfrm>
              <a:off x="6519960" y="3728880"/>
              <a:ext cx="287280" cy="27468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" name="Group 238"/>
            <p:cNvGrpSpPr/>
            <p:nvPr/>
          </p:nvGrpSpPr>
          <p:grpSpPr>
            <a:xfrm>
              <a:off x="6764760" y="3272400"/>
              <a:ext cx="681480" cy="740880"/>
              <a:chOff x="6764760" y="3272400"/>
              <a:chExt cx="681480" cy="740880"/>
            </a:xfrm>
          </p:grpSpPr>
          <p:sp>
            <p:nvSpPr>
              <p:cNvPr id="372" name="AutoShape 239"/>
              <p:cNvSpPr/>
              <p:nvPr/>
            </p:nvSpPr>
            <p:spPr>
              <a:xfrm flipV="1" rot="13767000">
                <a:off x="6945840" y="3511440"/>
                <a:ext cx="222120" cy="220320"/>
              </a:xfrm>
              <a:prstGeom prst="hexagon">
                <a:avLst>
                  <a:gd name="adj" fmla="val 25204"/>
                  <a:gd name="vf" fmla="val 115470"/>
                </a:avLst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AutoShape 240"/>
              <p:cNvSpPr/>
              <p:nvPr/>
            </p:nvSpPr>
            <p:spPr>
              <a:xfrm flipV="1" rot="13767000">
                <a:off x="6829920" y="3746520"/>
                <a:ext cx="222120" cy="220320"/>
              </a:xfrm>
              <a:prstGeom prst="hexagon">
                <a:avLst>
                  <a:gd name="adj" fmla="val 25204"/>
                  <a:gd name="vf" fmla="val 115470"/>
                </a:avLst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AutoShape 241"/>
              <p:cNvSpPr/>
              <p:nvPr/>
            </p:nvSpPr>
            <p:spPr>
              <a:xfrm flipV="1" rot="13767000">
                <a:off x="7178760" y="3447720"/>
                <a:ext cx="222480" cy="220320"/>
              </a:xfrm>
              <a:prstGeom prst="hexagon">
                <a:avLst>
                  <a:gd name="adj" fmla="val 25245"/>
                  <a:gd name="vf" fmla="val 115470"/>
                </a:avLst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AutoShape 242"/>
              <p:cNvSpPr/>
              <p:nvPr/>
            </p:nvSpPr>
            <p:spPr>
              <a:xfrm flipV="1" rot="13767000">
                <a:off x="6809400" y="3317760"/>
                <a:ext cx="222120" cy="220320"/>
              </a:xfrm>
              <a:prstGeom prst="hexagon">
                <a:avLst>
                  <a:gd name="adj" fmla="val 25204"/>
                  <a:gd name="vf" fmla="val 115470"/>
                </a:avLst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6" name="Text Box 243"/>
          <p:cNvSpPr/>
          <p:nvPr/>
        </p:nvSpPr>
        <p:spPr>
          <a:xfrm>
            <a:off x="3056040" y="3075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(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44"/>
          <p:cNvSpPr/>
          <p:nvPr/>
        </p:nvSpPr>
        <p:spPr>
          <a:xfrm>
            <a:off x="3963960" y="3154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(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45"/>
          <p:cNvSpPr/>
          <p:nvPr/>
        </p:nvSpPr>
        <p:spPr>
          <a:xfrm>
            <a:off x="6178680" y="300024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(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246"/>
          <p:cNvSpPr/>
          <p:nvPr/>
        </p:nvSpPr>
        <p:spPr>
          <a:xfrm>
            <a:off x="7773840" y="3117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(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247"/>
          <p:cNvSpPr/>
          <p:nvPr/>
        </p:nvSpPr>
        <p:spPr>
          <a:xfrm>
            <a:off x="7099200" y="2948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(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248"/>
          <p:cNvSpPr/>
          <p:nvPr/>
        </p:nvSpPr>
        <p:spPr>
          <a:xfrm>
            <a:off x="4359240" y="3657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(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49"/>
          <p:cNvSpPr/>
          <p:nvPr/>
        </p:nvSpPr>
        <p:spPr>
          <a:xfrm>
            <a:off x="5537160" y="3432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(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250"/>
          <p:cNvSpPr/>
          <p:nvPr/>
        </p:nvSpPr>
        <p:spPr>
          <a:xfrm>
            <a:off x="457200" y="304920"/>
            <a:ext cx="8218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Cholesterol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reeform 251"/>
          <p:cNvSpPr/>
          <p:nvPr/>
        </p:nvSpPr>
        <p:spPr>
          <a:xfrm>
            <a:off x="4356000" y="4568760"/>
            <a:ext cx="268560" cy="623880"/>
          </a:xfrm>
          <a:custGeom>
            <a:avLst/>
            <a:gdLst>
              <a:gd name="textAreaLeft" fmla="*/ 0 w 268560"/>
              <a:gd name="textAreaRight" fmla="*/ 268920 w 26856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Freeform 252"/>
          <p:cNvSpPr/>
          <p:nvPr/>
        </p:nvSpPr>
        <p:spPr>
          <a:xfrm>
            <a:off x="4730760" y="4538520"/>
            <a:ext cx="268200" cy="623880"/>
          </a:xfrm>
          <a:custGeom>
            <a:avLst/>
            <a:gdLst>
              <a:gd name="textAreaLeft" fmla="*/ 0 w 268200"/>
              <a:gd name="textAreaRight" fmla="*/ 268560 w 268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Freeform 253"/>
          <p:cNvSpPr/>
          <p:nvPr/>
        </p:nvSpPr>
        <p:spPr>
          <a:xfrm>
            <a:off x="3278160" y="4521240"/>
            <a:ext cx="268200" cy="623880"/>
          </a:xfrm>
          <a:custGeom>
            <a:avLst/>
            <a:gdLst>
              <a:gd name="textAreaLeft" fmla="*/ 0 w 268200"/>
              <a:gd name="textAreaRight" fmla="*/ 268560 w 268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Freeform 254"/>
          <p:cNvSpPr/>
          <p:nvPr/>
        </p:nvSpPr>
        <p:spPr>
          <a:xfrm>
            <a:off x="6091200" y="4503600"/>
            <a:ext cx="268200" cy="623880"/>
          </a:xfrm>
          <a:custGeom>
            <a:avLst/>
            <a:gdLst>
              <a:gd name="textAreaLeft" fmla="*/ 0 w 268200"/>
              <a:gd name="textAreaRight" fmla="*/ 268560 w 268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Freeform 255"/>
          <p:cNvSpPr/>
          <p:nvPr/>
        </p:nvSpPr>
        <p:spPr>
          <a:xfrm>
            <a:off x="2955960" y="4525920"/>
            <a:ext cx="268200" cy="623880"/>
          </a:xfrm>
          <a:custGeom>
            <a:avLst/>
            <a:gdLst>
              <a:gd name="textAreaLeft" fmla="*/ 0 w 268200"/>
              <a:gd name="textAreaRight" fmla="*/ 268560 w 268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Freeform 256"/>
          <p:cNvSpPr/>
          <p:nvPr/>
        </p:nvSpPr>
        <p:spPr>
          <a:xfrm>
            <a:off x="7896240" y="4533840"/>
            <a:ext cx="268200" cy="623880"/>
          </a:xfrm>
          <a:custGeom>
            <a:avLst/>
            <a:gdLst>
              <a:gd name="textAreaLeft" fmla="*/ 0 w 268200"/>
              <a:gd name="textAreaRight" fmla="*/ 268560 w 268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257"/>
          <p:cNvSpPr/>
          <p:nvPr/>
        </p:nvSpPr>
        <p:spPr>
          <a:xfrm>
            <a:off x="7370640" y="4570560"/>
            <a:ext cx="268560" cy="623880"/>
          </a:xfrm>
          <a:custGeom>
            <a:avLst/>
            <a:gdLst>
              <a:gd name="textAreaLeft" fmla="*/ 0 w 268560"/>
              <a:gd name="textAreaRight" fmla="*/ 268920 w 26856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258"/>
          <p:cNvSpPr/>
          <p:nvPr/>
        </p:nvSpPr>
        <p:spPr>
          <a:xfrm>
            <a:off x="6935760" y="4551480"/>
            <a:ext cx="268200" cy="623880"/>
          </a:xfrm>
          <a:custGeom>
            <a:avLst/>
            <a:gdLst>
              <a:gd name="textAreaLeft" fmla="*/ 0 w 268200"/>
              <a:gd name="textAreaRight" fmla="*/ 268560 w 268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259"/>
          <p:cNvSpPr/>
          <p:nvPr/>
        </p:nvSpPr>
        <p:spPr>
          <a:xfrm>
            <a:off x="1217520" y="4522680"/>
            <a:ext cx="268560" cy="623880"/>
          </a:xfrm>
          <a:custGeom>
            <a:avLst/>
            <a:gdLst>
              <a:gd name="textAreaLeft" fmla="*/ 0 w 268560"/>
              <a:gd name="textAreaRight" fmla="*/ 268920 w 26856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reeform 260"/>
          <p:cNvSpPr/>
          <p:nvPr/>
        </p:nvSpPr>
        <p:spPr>
          <a:xfrm>
            <a:off x="1407960" y="4543560"/>
            <a:ext cx="268560" cy="623880"/>
          </a:xfrm>
          <a:custGeom>
            <a:avLst/>
            <a:gdLst>
              <a:gd name="textAreaLeft" fmla="*/ 0 w 268560"/>
              <a:gd name="textAreaRight" fmla="*/ 268920 w 26856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reeform 261"/>
          <p:cNvSpPr/>
          <p:nvPr/>
        </p:nvSpPr>
        <p:spPr>
          <a:xfrm rot="10835400">
            <a:off x="7295400" y="5081400"/>
            <a:ext cx="268200" cy="623880"/>
          </a:xfrm>
          <a:custGeom>
            <a:avLst/>
            <a:gdLst>
              <a:gd name="textAreaLeft" fmla="*/ 0 w 268200"/>
              <a:gd name="textAreaRight" fmla="*/ 268560 w 268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Freeform 262"/>
          <p:cNvSpPr/>
          <p:nvPr/>
        </p:nvSpPr>
        <p:spPr>
          <a:xfrm rot="10835400">
            <a:off x="4747680" y="5076360"/>
            <a:ext cx="268560" cy="623880"/>
          </a:xfrm>
          <a:custGeom>
            <a:avLst/>
            <a:gdLst>
              <a:gd name="textAreaLeft" fmla="*/ 0 w 268560"/>
              <a:gd name="textAreaRight" fmla="*/ 268920 w 26856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Freeform 263"/>
          <p:cNvSpPr/>
          <p:nvPr/>
        </p:nvSpPr>
        <p:spPr>
          <a:xfrm rot="10835400">
            <a:off x="4129920" y="5063760"/>
            <a:ext cx="268200" cy="623880"/>
          </a:xfrm>
          <a:custGeom>
            <a:avLst/>
            <a:gdLst>
              <a:gd name="textAreaLeft" fmla="*/ 0 w 268200"/>
              <a:gd name="textAreaRight" fmla="*/ 268560 w 268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reeform 264"/>
          <p:cNvSpPr/>
          <p:nvPr/>
        </p:nvSpPr>
        <p:spPr>
          <a:xfrm rot="10835400">
            <a:off x="2707560" y="5078160"/>
            <a:ext cx="268200" cy="623880"/>
          </a:xfrm>
          <a:custGeom>
            <a:avLst/>
            <a:gdLst>
              <a:gd name="textAreaLeft" fmla="*/ 0 w 268200"/>
              <a:gd name="textAreaRight" fmla="*/ 268560 w 268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Freeform 265"/>
          <p:cNvSpPr/>
          <p:nvPr/>
        </p:nvSpPr>
        <p:spPr>
          <a:xfrm rot="10835400">
            <a:off x="7620840" y="5082840"/>
            <a:ext cx="268200" cy="623880"/>
          </a:xfrm>
          <a:custGeom>
            <a:avLst/>
            <a:gdLst>
              <a:gd name="textAreaLeft" fmla="*/ 0 w 268200"/>
              <a:gd name="textAreaRight" fmla="*/ 268560 w 268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5960" y="188640"/>
            <a:ext cx="88167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port through the cell membra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52280" y="1371600"/>
            <a:ext cx="876312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ell membrane is selectively perme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rough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tein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water –soluble substances e.g. ions, gluco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Directly through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pid bi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fat – soluble substance (O2, CO2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alcoho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5" descr="fluid mosaic model of plasma membrane-fig 001-f002"/>
          <p:cNvPicPr/>
          <p:nvPr/>
        </p:nvPicPr>
        <p:blipFill>
          <a:blip r:embed="rId1"/>
          <a:stretch/>
        </p:blipFill>
        <p:spPr>
          <a:xfrm>
            <a:off x="971640" y="3798720"/>
            <a:ext cx="6696000" cy="287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370080" y="79200"/>
            <a:ext cx="87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701"/>
                </a:solidFill>
                <a:latin typeface="Arial"/>
              </a:rPr>
              <a:t>Solute Movement Across Plasma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508680" y="2060640"/>
            <a:ext cx="39420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Four principal mechanis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i) Simple Diffu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ii) Facilitated Diffu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(+ Osmos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iii) Active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IE" sz="2200" spc="-1" strike="noStrike">
                <a:solidFill>
                  <a:srgbClr val="c0c0c0"/>
                </a:solidFill>
                <a:latin typeface="Arial"/>
              </a:rPr>
              <a:t>iv) Bulk (Vesicular)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Group 17"/>
          <p:cNvGrpSpPr/>
          <p:nvPr/>
        </p:nvGrpSpPr>
        <p:grpSpPr>
          <a:xfrm>
            <a:off x="3780000" y="2639880"/>
            <a:ext cx="4614840" cy="1052280"/>
            <a:chOff x="3780000" y="2639880"/>
            <a:chExt cx="4614840" cy="1052280"/>
          </a:xfrm>
        </p:grpSpPr>
        <p:sp>
          <p:nvSpPr>
            <p:cNvPr id="405" name="AutoShape 7"/>
            <p:cNvSpPr/>
            <p:nvPr/>
          </p:nvSpPr>
          <p:spPr>
            <a:xfrm>
              <a:off x="3780000" y="2639880"/>
              <a:ext cx="125280" cy="1052280"/>
            </a:xfrm>
            <a:custGeom>
              <a:avLst/>
              <a:gdLst>
                <a:gd name="textAreaLeft" fmla="*/ 0 w 125280"/>
                <a:gd name="textAreaRight" fmla="*/ 45360 w 125280"/>
                <a:gd name="textAreaTop" fmla="*/ 27360 h 1052280"/>
                <a:gd name="textAreaBottom" fmla="*/ 1024920 h 10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8"/>
            <p:cNvSpPr/>
            <p:nvPr/>
          </p:nvSpPr>
          <p:spPr>
            <a:xfrm>
              <a:off x="3882960" y="2707920"/>
              <a:ext cx="4511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Arial"/>
                </a:rPr>
                <a:t>Movement </a:t>
              </a:r>
              <a:r>
                <a:rPr b="0" lang="en-IE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with</a:t>
              </a:r>
              <a:r>
                <a:rPr b="0" lang="en-IE" sz="1800" spc="-1" strike="noStrike">
                  <a:solidFill>
                    <a:srgbClr val="ffffff"/>
                  </a:solidFill>
                  <a:latin typeface="Arial"/>
                </a:rPr>
                <a:t> a </a:t>
              </a:r>
              <a:r>
                <a:rPr b="1" lang="en-IE" sz="1800" spc="-1" strike="noStrike">
                  <a:solidFill>
                    <a:srgbClr val="ffffff"/>
                  </a:solidFill>
                  <a:latin typeface="Arial"/>
                </a:rPr>
                <a:t>concentration gradient</a:t>
              </a:r>
              <a:r>
                <a:rPr b="0" lang="en-IE" sz="18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IE" sz="1800" spc="-1" strike="noStrike">
                  <a:solidFill>
                    <a:srgbClr val="ffffff"/>
                  </a:solidFill>
                  <a:latin typeface="Arial"/>
                </a:rPr>
                <a:t>e.g.</a:t>
              </a:r>
              <a:r>
                <a:rPr b="0" lang="en-IE" sz="1800" spc="-1" strike="noStrike">
                  <a:solidFill>
                    <a:srgbClr val="ffffff"/>
                  </a:solidFill>
                  <a:latin typeface="Arial"/>
                </a:rPr>
                <a:t> high to low concentration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no metabolic energy</a:t>
              </a:r>
              <a:r>
                <a:rPr b="0" lang="en-IE" sz="1800" spc="-1" strike="noStrike">
                  <a:solidFill>
                    <a:srgbClr val="ffffff"/>
                  </a:solidFill>
                  <a:latin typeface="Arial"/>
                </a:rPr>
                <a:t> requir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7" name="Group 23"/>
          <p:cNvGrpSpPr/>
          <p:nvPr/>
        </p:nvGrpSpPr>
        <p:grpSpPr>
          <a:xfrm>
            <a:off x="3430440" y="4097160"/>
            <a:ext cx="4866840" cy="916920"/>
            <a:chOff x="3430440" y="4097160"/>
            <a:chExt cx="4866840" cy="916920"/>
          </a:xfrm>
        </p:grpSpPr>
        <p:sp>
          <p:nvSpPr>
            <p:cNvPr id="408" name="Text Box 9"/>
            <p:cNvSpPr/>
            <p:nvPr/>
          </p:nvSpPr>
          <p:spPr>
            <a:xfrm>
              <a:off x="3678840" y="4097160"/>
              <a:ext cx="4618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Arial"/>
                </a:rPr>
                <a:t>Movement </a:t>
              </a:r>
              <a:r>
                <a:rPr b="0" lang="en-IE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gainst</a:t>
              </a:r>
              <a:r>
                <a:rPr b="0" lang="en-IE" sz="1800" spc="-1" strike="noStrike">
                  <a:solidFill>
                    <a:srgbClr val="ffffff"/>
                  </a:solidFill>
                  <a:latin typeface="Arial"/>
                </a:rPr>
                <a:t> a concentration gradient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IE" sz="1800" spc="-1" strike="noStrike">
                  <a:solidFill>
                    <a:srgbClr val="ffffff"/>
                  </a:solidFill>
                  <a:latin typeface="Arial"/>
                </a:rPr>
                <a:t>e.g.</a:t>
              </a:r>
              <a:r>
                <a:rPr b="0" lang="en-IE" sz="1800" spc="-1" strike="noStrike">
                  <a:solidFill>
                    <a:srgbClr val="ffffff"/>
                  </a:solidFill>
                  <a:latin typeface="Arial"/>
                </a:rPr>
                <a:t> low to high concentration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requires</a:t>
              </a:r>
              <a:r>
                <a:rPr b="0" lang="en-IE" sz="1800" spc="-1" strike="noStrike">
                  <a:solidFill>
                    <a:srgbClr val="ffffff"/>
                  </a:solidFill>
                  <a:latin typeface="Arial"/>
                </a:rPr>
                <a:t> metabolic energy (ATP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AutoShape 10"/>
            <p:cNvSpPr/>
            <p:nvPr/>
          </p:nvSpPr>
          <p:spPr>
            <a:xfrm>
              <a:off x="3430440" y="4359240"/>
              <a:ext cx="152640" cy="398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0080 h 398160"/>
                <a:gd name="textAreaBottom" fmla="*/ 388080 h 39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0" name="Text Box 19"/>
          <p:cNvSpPr/>
          <p:nvPr/>
        </p:nvSpPr>
        <p:spPr>
          <a:xfrm>
            <a:off x="508320" y="938160"/>
            <a:ext cx="793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For cell viability, nutrients must continually enter the cell 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waste products must exi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22"/>
          <p:cNvGrpSpPr/>
          <p:nvPr/>
        </p:nvGrpSpPr>
        <p:grpSpPr>
          <a:xfrm>
            <a:off x="4376880" y="5381640"/>
            <a:ext cx="4051440" cy="368280"/>
            <a:chOff x="4376880" y="5381640"/>
            <a:chExt cx="4051440" cy="368280"/>
          </a:xfrm>
        </p:grpSpPr>
        <p:sp>
          <p:nvSpPr>
            <p:cNvPr id="412" name="Text Box 20"/>
            <p:cNvSpPr/>
            <p:nvPr/>
          </p:nvSpPr>
          <p:spPr>
            <a:xfrm>
              <a:off x="4493880" y="5381640"/>
              <a:ext cx="39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c0c0c0"/>
                  </a:solidFill>
                  <a:latin typeface="Arial"/>
                </a:rPr>
                <a:t>Large quantity transport of molec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AutoShape 21"/>
            <p:cNvSpPr/>
            <p:nvPr/>
          </p:nvSpPr>
          <p:spPr>
            <a:xfrm>
              <a:off x="4376880" y="5448600"/>
              <a:ext cx="133200" cy="249120"/>
            </a:xfrm>
            <a:custGeom>
              <a:avLst/>
              <a:gdLst>
                <a:gd name="textAreaLeft" fmla="*/ 0 w 133200"/>
                <a:gd name="textAreaRight" fmla="*/ 47880 w 133200"/>
                <a:gd name="textAreaTop" fmla="*/ 6480 h 249120"/>
                <a:gd name="textAreaBottom" fmla="*/ 242640 h 24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Slide Number Placeholder 1"/>
          <p:cNvSpPr/>
          <p:nvPr/>
        </p:nvSpPr>
        <p:spPr>
          <a:xfrm>
            <a:off x="6659640" y="5924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4B4B-578D-47B0-A7FB-16938258885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4"/>
          <p:cNvSpPr/>
          <p:nvPr/>
        </p:nvSpPr>
        <p:spPr>
          <a:xfrm>
            <a:off x="2947680" y="27000"/>
            <a:ext cx="37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e701"/>
                </a:solidFill>
                <a:latin typeface="Arial"/>
              </a:rPr>
              <a:t>Simple Diffu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820440" y="736560"/>
            <a:ext cx="71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IE" sz="2200" spc="-1" strike="noStrike" u="sng">
                <a:solidFill>
                  <a:srgbClr val="ffffff"/>
                </a:solidFill>
                <a:uFillTx/>
                <a:latin typeface="Arial"/>
              </a:rPr>
              <a:t>mall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IE" sz="2200" spc="-1" strike="noStrike" u="sng">
                <a:solidFill>
                  <a:srgbClr val="ffffff"/>
                </a:solidFill>
                <a:uFillTx/>
                <a:latin typeface="Arial"/>
              </a:rPr>
              <a:t>uncharged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substances cross the membrane b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200" spc="-1" strike="noStrike">
                <a:solidFill>
                  <a:srgbClr val="ffffff"/>
                </a:solidFill>
                <a:latin typeface="Showcard Gothic"/>
              </a:rPr>
              <a:t>simple diffusion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(by dissolving in PM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IE" sz="22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gases, alcohol, steroids and general anaesthe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2"/>
          <p:cNvSpPr/>
          <p:nvPr/>
        </p:nvSpPr>
        <p:spPr>
          <a:xfrm>
            <a:off x="360360" y="522936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n carrier mediated transport down an electrochemical grad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8" name="Object 38"/>
          <p:cNvGraphicFramePr/>
          <p:nvPr/>
        </p:nvGraphicFramePr>
        <p:xfrm>
          <a:off x="1042920" y="2104920"/>
          <a:ext cx="6829560" cy="28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104920"/>
                    <a:ext cx="682956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C03D-66DF-4566-B009-429E733C59B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5"/>
          <p:cNvSpPr/>
          <p:nvPr/>
        </p:nvSpPr>
        <p:spPr>
          <a:xfrm>
            <a:off x="614160" y="115920"/>
            <a:ext cx="801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Showcard Gothic"/>
              </a:rPr>
              <a:t>Question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: How do larger and  / or lipid-insoluble substanc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(charged molecules, ions) cross the lipid bilayer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616680" y="4294080"/>
            <a:ext cx="728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They require transport (carrier) proteins -  these are al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IE" sz="2200" spc="-1" strike="noStrike">
                <a:solidFill>
                  <a:srgbClr val="ff0000"/>
                </a:solidFill>
                <a:latin typeface="Arial"/>
              </a:rPr>
              <a:t>INTEGRAL (TRANSMEMBRANE) PROTE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7" descr="lodish004"/>
          <p:cNvPicPr/>
          <p:nvPr/>
        </p:nvPicPr>
        <p:blipFill>
          <a:blip r:embed="rId1"/>
          <a:srcRect l="3888" t="35803" r="2610" b="21927"/>
          <a:stretch/>
        </p:blipFill>
        <p:spPr>
          <a:xfrm>
            <a:off x="1763640" y="1117440"/>
            <a:ext cx="5184720" cy="289116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8"/>
          <p:cNvSpPr/>
          <p:nvPr/>
        </p:nvSpPr>
        <p:spPr>
          <a:xfrm>
            <a:off x="619200" y="5187960"/>
            <a:ext cx="82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Responsible for allowing transport of the majority of molecu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(and all ions) across biomembranes (in &amp; ou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615240" y="6097680"/>
            <a:ext cx="646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Rate of diffusion </a:t>
            </a:r>
            <a:r>
              <a:rPr b="0" lang="en-IE" sz="2200" spc="-1" strike="noStrike" u="sng">
                <a:solidFill>
                  <a:srgbClr val="ffffff"/>
                </a:solidFill>
                <a:uFillTx/>
                <a:latin typeface="Arial"/>
              </a:rPr>
              <a:t>far higher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than simple diffus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689840" y="3827520"/>
            <a:ext cx="118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Lodish et al., 6</a:t>
            </a:r>
            <a:r>
              <a:rPr b="0" lang="en-IE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 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313E-7F46-4131-83E5-5FBF4F55180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504720" y="1511280"/>
            <a:ext cx="8028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1‐ Amount of substance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2‐ The number and sizes of opening in the membrane for the substance (selective gating system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3‐ Chemical concentration differe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4‐ Electrical potential differe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5‐ Molecular size of the subst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6‐ Lipid solubi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7‐ Temper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260280"/>
            <a:ext cx="8659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  <a:ea typeface="Arial"/>
              </a:rPr>
              <a:t>Rate of simple diffusion depends on: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p:transition>
    <p:fade thruBlk="true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4"/>
          <p:cNvSpPr/>
          <p:nvPr/>
        </p:nvSpPr>
        <p:spPr>
          <a:xfrm>
            <a:off x="512640" y="463680"/>
            <a:ext cx="598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Two types of protein-mediated transpor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1" lang="en-IE" sz="2400" spc="-1" strike="noStrike">
                <a:solidFill>
                  <a:srgbClr val="0099ff"/>
                </a:solidFill>
                <a:latin typeface="Arial"/>
              </a:rPr>
              <a:t>Facilitated Diffusio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&amp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i) </a:t>
            </a:r>
            <a:r>
              <a:rPr b="1" lang="en-IE" sz="2400" spc="-1" strike="noStrike">
                <a:solidFill>
                  <a:srgbClr val="ff33cc"/>
                </a:solidFill>
                <a:latin typeface="Arial"/>
              </a:rPr>
              <a:t>Active Tran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1899360" y="-9684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e701"/>
                </a:solidFill>
                <a:latin typeface="Arial"/>
              </a:rPr>
              <a:t>Protein-Mediated Trans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2585880" y="1650960"/>
            <a:ext cx="45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e701"/>
                </a:solidFill>
                <a:latin typeface="Arial"/>
              </a:rPr>
              <a:t>Facilitated Diffu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526320" y="2278080"/>
            <a:ext cx="807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Facilitated diffusion is a </a:t>
            </a:r>
            <a:r>
              <a:rPr b="0" lang="en-IE" sz="2200" spc="-1" strike="noStrike">
                <a:solidFill>
                  <a:srgbClr val="66ff33"/>
                </a:solidFill>
                <a:latin typeface="Showcard Gothic"/>
              </a:rPr>
              <a:t>passive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process </a:t>
            </a:r>
            <a:r>
              <a:rPr b="0" i="1" lang="en-IE" sz="2200" spc="-1" strike="noStrike">
                <a:solidFill>
                  <a:srgbClr val="ffffff"/>
                </a:solidFill>
                <a:latin typeface="Arial"/>
              </a:rPr>
              <a:t>i.e.,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movement 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IE" sz="2200" spc="-1" strike="noStrike" u="sng">
                <a:solidFill>
                  <a:srgbClr val="ff0000"/>
                </a:solidFill>
                <a:uFillTx/>
                <a:latin typeface="Arial"/>
              </a:rPr>
              <a:t>DOWN</a:t>
            </a:r>
            <a:r>
              <a:rPr b="0" lang="en-I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a concentration gradient and does </a:t>
            </a:r>
            <a:r>
              <a:rPr b="1" lang="en-IE" sz="22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require ATP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525600" y="3070080"/>
            <a:ext cx="75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There are two principal types of membrane prote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that mediate facilitated diffusion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597600" y="4370400"/>
            <a:ext cx="265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) Channel Prote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1"/>
          <p:cNvSpPr/>
          <p:nvPr/>
        </p:nvSpPr>
        <p:spPr>
          <a:xfrm>
            <a:off x="628560" y="6066000"/>
            <a:ext cx="2463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) Carrier Prote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5"/>
          <p:cNvSpPr/>
          <p:nvPr/>
        </p:nvSpPr>
        <p:spPr>
          <a:xfrm>
            <a:off x="4193640" y="3782880"/>
            <a:ext cx="44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GATED CHANN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on channels (</a:t>
            </a:r>
            <a:r>
              <a:rPr b="0" i="1" lang="en-IE" sz="18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, Na</a:t>
            </a:r>
            <a:r>
              <a:rPr b="0" lang="en-IE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, K</a:t>
            </a:r>
            <a:r>
              <a:rPr b="0" lang="en-IE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, Cl</a:t>
            </a:r>
            <a:r>
              <a:rPr b="0" lang="en-IE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&amp; Ca</a:t>
            </a:r>
            <a:r>
              <a:rPr b="0" lang="en-IE" sz="1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7"/>
          <p:cNvSpPr/>
          <p:nvPr/>
        </p:nvSpPr>
        <p:spPr>
          <a:xfrm>
            <a:off x="4170240" y="4743360"/>
            <a:ext cx="39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OPEN CHANN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quaporin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water &amp; small solu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12"/>
          <p:cNvSpPr/>
          <p:nvPr/>
        </p:nvSpPr>
        <p:spPr>
          <a:xfrm flipV="1">
            <a:off x="3236760" y="4111560"/>
            <a:ext cx="90648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18"/>
          <p:cNvSpPr/>
          <p:nvPr/>
        </p:nvSpPr>
        <p:spPr>
          <a:xfrm>
            <a:off x="3252960" y="4616280"/>
            <a:ext cx="90612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0"/>
          <p:cNvSpPr/>
          <p:nvPr/>
        </p:nvSpPr>
        <p:spPr>
          <a:xfrm>
            <a:off x="3232080" y="630864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24"/>
          <p:cNvSpPr/>
          <p:nvPr/>
        </p:nvSpPr>
        <p:spPr>
          <a:xfrm>
            <a:off x="4440240" y="5983200"/>
            <a:ext cx="311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UNIPORTER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lucose &amp; amino acids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39F1-8F3F-43DA-9406-4F49BE84182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6" descr="figure 5-9 - aquaporin - amended 2"/>
          <p:cNvPicPr/>
          <p:nvPr/>
        </p:nvPicPr>
        <p:blipFill>
          <a:blip r:embed="rId1"/>
          <a:srcRect l="6929" t="6579" r="8871" b="10778"/>
          <a:stretch/>
        </p:blipFill>
        <p:spPr>
          <a:xfrm>
            <a:off x="496800" y="2127240"/>
            <a:ext cx="2633760" cy="19382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18"/>
          <p:cNvSpPr/>
          <p:nvPr/>
        </p:nvSpPr>
        <p:spPr>
          <a:xfrm>
            <a:off x="2585880" y="-44280"/>
            <a:ext cx="45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e701"/>
                </a:solidFill>
                <a:latin typeface="Arial"/>
              </a:rPr>
              <a:t>Facilitated Diffu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9"/>
          <p:cNvSpPr/>
          <p:nvPr/>
        </p:nvSpPr>
        <p:spPr>
          <a:xfrm>
            <a:off x="826920" y="5799240"/>
            <a:ext cx="83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Processes are </a:t>
            </a:r>
            <a:r>
              <a:rPr b="1" i="1" lang="en-IE" sz="2800" spc="-1" strike="noStrike" u="sng">
                <a:solidFill>
                  <a:srgbClr val="ff0000"/>
                </a:solidFill>
                <a:uFillTx/>
                <a:latin typeface="Arial"/>
              </a:rPr>
              <a:t>SPECIFIC</a:t>
            </a: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IE" sz="2800" spc="-1" strike="noStrike" u="sng">
                <a:solidFill>
                  <a:srgbClr val="66ff33"/>
                </a:solidFill>
                <a:uFillTx/>
                <a:latin typeface="Arial"/>
              </a:rPr>
              <a:t>SATURABLE</a:t>
            </a: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IE" sz="2800" spc="-1" strike="noStrike" u="sng">
                <a:solidFill>
                  <a:srgbClr val="ffff00"/>
                </a:solidFill>
                <a:uFillTx/>
                <a:latin typeface="Arial"/>
              </a:rPr>
              <a:t>COMPETITIVE</a:t>
            </a: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20"/>
          <p:cNvSpPr/>
          <p:nvPr/>
        </p:nvSpPr>
        <p:spPr>
          <a:xfrm>
            <a:off x="1928880" y="60480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hanne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21"/>
          <p:cNvSpPr/>
          <p:nvPr/>
        </p:nvSpPr>
        <p:spPr>
          <a:xfrm>
            <a:off x="6477120" y="600120"/>
            <a:ext cx="19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22"/>
          <p:cNvSpPr/>
          <p:nvPr/>
        </p:nvSpPr>
        <p:spPr>
          <a:xfrm flipH="1">
            <a:off x="1979280" y="1227240"/>
            <a:ext cx="6476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Line 23"/>
          <p:cNvSpPr/>
          <p:nvPr/>
        </p:nvSpPr>
        <p:spPr>
          <a:xfrm>
            <a:off x="3421080" y="1154160"/>
            <a:ext cx="21420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Group 36"/>
          <p:cNvGrpSpPr/>
          <p:nvPr/>
        </p:nvGrpSpPr>
        <p:grpSpPr>
          <a:xfrm>
            <a:off x="3162240" y="1697040"/>
            <a:ext cx="2530440" cy="2376360"/>
            <a:chOff x="3162240" y="1697040"/>
            <a:chExt cx="2530440" cy="2376360"/>
          </a:xfrm>
        </p:grpSpPr>
        <p:pic>
          <p:nvPicPr>
            <p:cNvPr id="452" name="Picture 14" descr="FIGURE 5-11 - ION CHANNEL-amended 2"/>
            <p:cNvPicPr/>
            <p:nvPr/>
          </p:nvPicPr>
          <p:blipFill>
            <a:blip r:embed="rId2"/>
            <a:srcRect l="17480" t="5249" r="17480" b="10778"/>
            <a:stretch/>
          </p:blipFill>
          <p:spPr>
            <a:xfrm>
              <a:off x="3162240" y="1697040"/>
              <a:ext cx="245448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Text Box 24"/>
            <p:cNvSpPr/>
            <p:nvPr/>
          </p:nvSpPr>
          <p:spPr>
            <a:xfrm>
              <a:off x="4317480" y="2144880"/>
              <a:ext cx="1375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(10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– 10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ions/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4" name="Group 34"/>
          <p:cNvGrpSpPr/>
          <p:nvPr/>
        </p:nvGrpSpPr>
        <p:grpSpPr>
          <a:xfrm>
            <a:off x="5977080" y="1654200"/>
            <a:ext cx="3132000" cy="3100320"/>
            <a:chOff x="5977080" y="1654200"/>
            <a:chExt cx="3132000" cy="3100320"/>
          </a:xfrm>
        </p:grpSpPr>
        <p:pic>
          <p:nvPicPr>
            <p:cNvPr id="455" name="Picture 17" descr="figure 5-9 - carrier - amended"/>
            <p:cNvPicPr/>
            <p:nvPr/>
          </p:nvPicPr>
          <p:blipFill>
            <a:blip r:embed="rId3"/>
            <a:srcRect l="23727" t="24846" r="25879" b="66076"/>
            <a:stretch/>
          </p:blipFill>
          <p:spPr>
            <a:xfrm>
              <a:off x="5977080" y="1654200"/>
              <a:ext cx="3130560" cy="424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6" name="Group 33"/>
            <p:cNvGrpSpPr/>
            <p:nvPr/>
          </p:nvGrpSpPr>
          <p:grpSpPr>
            <a:xfrm>
              <a:off x="5977080" y="2065320"/>
              <a:ext cx="3132000" cy="2689200"/>
              <a:chOff x="5977080" y="2065320"/>
              <a:chExt cx="3132000" cy="2689200"/>
            </a:xfrm>
          </p:grpSpPr>
          <p:pic>
            <p:nvPicPr>
              <p:cNvPr id="457" name="Picture 27" descr="05-13faciltddiffusion_b_l"/>
              <p:cNvPicPr/>
              <p:nvPr/>
            </p:nvPicPr>
            <p:blipFill>
              <a:blip r:embed="rId4"/>
              <a:srcRect l="0" t="3344" r="0" b="6893"/>
              <a:stretch/>
            </p:blipFill>
            <p:spPr>
              <a:xfrm>
                <a:off x="5977080" y="2065320"/>
                <a:ext cx="3132000" cy="268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Text Box 26"/>
              <p:cNvSpPr/>
              <p:nvPr/>
            </p:nvSpPr>
            <p:spPr>
              <a:xfrm>
                <a:off x="7980120" y="3981600"/>
                <a:ext cx="1107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(10</a:t>
                </a:r>
                <a:r>
                  <a:rPr b="1" lang="en-GB" sz="12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 – 5 x10</a:t>
                </a:r>
                <a:r>
                  <a:rPr b="1" lang="en-GB" sz="1200" spc="-1" strike="noStrike" baseline="30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molecules/s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Rectangle 31"/>
            <p:cNvSpPr/>
            <p:nvPr/>
          </p:nvSpPr>
          <p:spPr>
            <a:xfrm>
              <a:off x="6029280" y="2068560"/>
              <a:ext cx="2160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0" name="Rectangle 35"/>
          <p:cNvSpPr/>
          <p:nvPr/>
        </p:nvSpPr>
        <p:spPr>
          <a:xfrm>
            <a:off x="826920" y="4923000"/>
            <a:ext cx="831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Diffusion continues until </a:t>
            </a:r>
            <a:r>
              <a:rPr b="0" lang="en-IE" sz="2800" spc="-1" strike="noStrike" u="sng">
                <a:solidFill>
                  <a:srgbClr val="ffffff"/>
                </a:solidFill>
                <a:uFillTx/>
                <a:latin typeface="Arial"/>
              </a:rPr>
              <a:t>equilibrium is reac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IE" sz="1800" spc="-1" strike="noStrike">
                <a:solidFill>
                  <a:srgbClr val="ffffff"/>
                </a:solidFill>
                <a:latin typeface="Arial"/>
              </a:rPr>
              <a:t>(or otherwise terminat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9"/>
          <p:cNvSpPr/>
          <p:nvPr/>
        </p:nvSpPr>
        <p:spPr>
          <a:xfrm>
            <a:off x="3711240" y="4021200"/>
            <a:ext cx="137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ions/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40"/>
          <p:cNvSpPr/>
          <p:nvPr/>
        </p:nvSpPr>
        <p:spPr>
          <a:xfrm>
            <a:off x="1094040" y="3716280"/>
            <a:ext cx="167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2 x 10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molecules/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41"/>
          <p:cNvSpPr/>
          <p:nvPr/>
        </p:nvSpPr>
        <p:spPr>
          <a:xfrm>
            <a:off x="7427880" y="472428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Adapted from Silverthorn, 4</a:t>
            </a:r>
            <a:r>
              <a:rPr b="0" lang="en-IE" sz="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Ed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2C8A-5360-4E8C-9EE7-5243BEC5B65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838080" y="3381480"/>
            <a:ext cx="42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TP-powered pumps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Pases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1873440" y="1295280"/>
            <a:ext cx="56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e701"/>
                </a:solidFill>
                <a:latin typeface="Arial"/>
              </a:rPr>
              <a:t>Primary Active Trans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524160" y="2008080"/>
            <a:ext cx="842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Primary active transport enables net transport of a solut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IE" sz="2200" spc="-1" strike="noStrike" u="sng">
                <a:solidFill>
                  <a:srgbClr val="ff0000"/>
                </a:solidFill>
                <a:uFillTx/>
                <a:latin typeface="Arial"/>
              </a:rPr>
              <a:t>AGAINST</a:t>
            </a:r>
            <a:r>
              <a:rPr b="0" lang="en-I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its concentration gradient that </a:t>
            </a:r>
            <a:r>
              <a:rPr b="1" lang="en-IE" sz="2200" spc="-1" strike="noStrike" u="sng">
                <a:solidFill>
                  <a:srgbClr val="ff0000"/>
                </a:solidFill>
                <a:uFillTx/>
                <a:latin typeface="Arial"/>
              </a:rPr>
              <a:t>REQUIRES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hydrolys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1" lang="en-IE" sz="22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as energy sourc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19" descr="figure 11-03 part 1 - ATP powered pumps"/>
          <p:cNvPicPr/>
          <p:nvPr/>
        </p:nvPicPr>
        <p:blipFill>
          <a:blip r:embed="rId1"/>
          <a:srcRect l="0" t="11420" r="0" b="0"/>
          <a:stretch/>
        </p:blipFill>
        <p:spPr>
          <a:xfrm>
            <a:off x="5915160" y="2882880"/>
            <a:ext cx="2909880" cy="327816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24"/>
          <p:cNvSpPr/>
          <p:nvPr/>
        </p:nvSpPr>
        <p:spPr>
          <a:xfrm>
            <a:off x="614160" y="34920"/>
            <a:ext cx="801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Showcard Gothic"/>
              </a:rPr>
              <a:t>Question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: How do larger and  / or lipid-insoluble substanc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(charged molecules, ions) cross the lipid bilayer </a:t>
            </a:r>
            <a:r>
              <a:rPr b="0" lang="en-IE" sz="2200" spc="-1" strike="noStrike">
                <a:solidFill>
                  <a:srgbClr val="ff0000"/>
                </a:solidFill>
                <a:latin typeface="Showcard Gothic"/>
              </a:rPr>
              <a:t>against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the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concentration gradient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5"/>
          <p:cNvSpPr/>
          <p:nvPr/>
        </p:nvSpPr>
        <p:spPr>
          <a:xfrm>
            <a:off x="838080" y="4600440"/>
            <a:ext cx="45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Primary examples ar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/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TP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/ K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TP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1" lang="en-GB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/ K</a:t>
            </a:r>
            <a:r>
              <a:rPr b="1" lang="en-GB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ATP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5CB3-0561-4308-B3BE-0217A155D57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687400" y="127080"/>
            <a:ext cx="371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e701"/>
                </a:solidFill>
                <a:latin typeface="Arial"/>
              </a:rPr>
              <a:t>Na</a:t>
            </a:r>
            <a:r>
              <a:rPr b="1" lang="en-GB" sz="3600" spc="-1" strike="noStrike" baseline="30000">
                <a:solidFill>
                  <a:srgbClr val="ffe701"/>
                </a:solidFill>
                <a:latin typeface="Arial"/>
              </a:rPr>
              <a:t>+</a:t>
            </a:r>
            <a:r>
              <a:rPr b="1" lang="en-GB" sz="3600" spc="-1" strike="noStrike">
                <a:solidFill>
                  <a:srgbClr val="ffe701"/>
                </a:solidFill>
                <a:latin typeface="Arial"/>
              </a:rPr>
              <a:t> / K</a:t>
            </a:r>
            <a:r>
              <a:rPr b="1" lang="en-GB" sz="3600" spc="-1" strike="noStrike" baseline="30000">
                <a:solidFill>
                  <a:srgbClr val="ffe701"/>
                </a:solidFill>
                <a:latin typeface="Arial"/>
              </a:rPr>
              <a:t>+</a:t>
            </a:r>
            <a:r>
              <a:rPr b="1" lang="en-GB" sz="3600" spc="-1" strike="noStrike">
                <a:solidFill>
                  <a:srgbClr val="ffe701"/>
                </a:solidFill>
                <a:latin typeface="Arial"/>
              </a:rPr>
              <a:t> ATPa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509400" y="735120"/>
            <a:ext cx="857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/ K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TPases most prevalent example of primary active transpor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vital for cell volume maintenance &amp; neuronal cellular excitabilit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514440" y="3171960"/>
            <a:ext cx="463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rries three N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ons out of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exchange for two inward K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ons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‘</a:t>
            </a:r>
            <a:r>
              <a:rPr b="0" lang="en-GB" sz="2000" spc="-1" strike="noStrike">
                <a:solidFill>
                  <a:srgbClr val="ffffff"/>
                </a:solidFill>
                <a:latin typeface="Showcard Gothic"/>
              </a:rPr>
              <a:t>electrogenic pum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39640" y="4286160"/>
            <a:ext cx="463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‐K pump act a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rrier protein and binding site for Na inside the cell also binding site for K outside the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0"/>
          <p:cNvSpPr/>
          <p:nvPr/>
        </p:nvSpPr>
        <p:spPr>
          <a:xfrm>
            <a:off x="508320" y="1623960"/>
            <a:ext cx="436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some cells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neurones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ergy needed to move these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70%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all ATP production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el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520560" y="5373720"/>
            <a:ext cx="786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 Maintaining Na and K concentration differe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. I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 the basis of nerve signal transmi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. Maintaining –Ve potential inside the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003640" y="1484280"/>
            <a:ext cx="4643640" cy="3483000"/>
          </a:xfrm>
          <a:prstGeom prst="rect">
            <a:avLst/>
          </a:prstGeom>
          <a:ln w="0">
            <a:noFill/>
          </a:ln>
        </p:spPr>
      </p:pic>
      <p:sp>
        <p:nvSpPr>
          <p:cNvPr id="479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5A0E-145A-4811-873C-5F929750C18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324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7" dur="1" fill="hold"/>
                                        <p:tgtEl>
                                          <p:spTgt spid="4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2202480" y="334800"/>
            <a:ext cx="47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e701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55640" y="1844640"/>
            <a:ext cx="69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ribe the model of membrane structure and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permeability and list factors influencing perme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dentify and describe carried‐mediated transport processes: Primary active transport,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econdary active transport, facilitated diffu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2656-EA43-4957-8C05-D054D265CD4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178920" y="1196640"/>
            <a:ext cx="8820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imary active transport of calcium (Ca ²+ ATP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‐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rcoplasmic reticulum (S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‐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‐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some cell membr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unction: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taining a low Ca²+ concentration inside the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imary active transport of hydrogen ions (H+‐K ATP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‐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om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‐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dn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‐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mps to the l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‐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+‐K ATPase inhibitors (treat ulcer disease). (omepraz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1600" y="260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  <a:ea typeface="Arial"/>
              </a:rPr>
              <a:t>Active transpor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p:transition>
    <p:fade thruBlk="true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0" y="112536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ransport of one or more solutes against an electrochemical gradient, coupled to the transport of another solute down an electrochemical gradient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ownhill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’’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solute is N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ergy is supplied indirectly form primary transpor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9966"/>
                </a:solidFill>
                <a:latin typeface="Arial"/>
              </a:rPr>
              <a:t>Co transport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- All solutes move in the s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rection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inside cell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’’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. e.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Na ‐ glucose Co transpor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Na – amino acid Co trans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n the intestinal tract kidne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  <a:ea typeface="Arial"/>
              </a:rPr>
              <a:t>Secondary active transpor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484" name="Picture 3" descr=""/>
          <p:cNvPicPr/>
          <p:nvPr/>
        </p:nvPicPr>
        <p:blipFill>
          <a:blip r:embed="rId1"/>
          <a:srcRect l="24597" t="20832" r="40850" b="36462"/>
          <a:stretch/>
        </p:blipFill>
        <p:spPr>
          <a:xfrm>
            <a:off x="4859280" y="3789360"/>
            <a:ext cx="4249800" cy="2664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0" descr="tat78135_03_09"/>
          <p:cNvPicPr/>
          <p:nvPr/>
        </p:nvPicPr>
        <p:blipFill>
          <a:blip r:embed="rId1"/>
          <a:stretch/>
        </p:blipFill>
        <p:spPr>
          <a:xfrm>
            <a:off x="203040" y="1989000"/>
            <a:ext cx="3972240" cy="363852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12"/>
          <p:cNvSpPr/>
          <p:nvPr/>
        </p:nvSpPr>
        <p:spPr>
          <a:xfrm>
            <a:off x="1829160" y="179280"/>
            <a:ext cx="632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e701"/>
                </a:solidFill>
                <a:latin typeface="Arial"/>
              </a:rPr>
              <a:t>The Na</a:t>
            </a:r>
            <a:r>
              <a:rPr b="1" lang="en-GB" sz="3600" spc="-1" strike="noStrike" baseline="30000">
                <a:solidFill>
                  <a:srgbClr val="ffe701"/>
                </a:solidFill>
                <a:latin typeface="Arial"/>
              </a:rPr>
              <a:t>+</a:t>
            </a:r>
            <a:r>
              <a:rPr b="1" lang="en-GB" sz="3600" spc="-1" strike="noStrike">
                <a:solidFill>
                  <a:srgbClr val="ffe701"/>
                </a:solidFill>
                <a:latin typeface="Arial"/>
              </a:rPr>
              <a:t> / glucose sympor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e701"/>
                </a:solidFill>
                <a:latin typeface="Arial"/>
              </a:rPr>
              <a:t>(Secondary Active Transpo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Picture 20" descr="analogy_second_act_cu_la_735"/>
          <p:cNvPicPr/>
          <p:nvPr/>
        </p:nvPicPr>
        <p:blipFill>
          <a:blip r:embed="rId2"/>
          <a:stretch/>
        </p:blipFill>
        <p:spPr>
          <a:xfrm>
            <a:off x="4427640" y="1289160"/>
            <a:ext cx="4465440" cy="2427120"/>
          </a:xfrm>
          <a:prstGeom prst="rect">
            <a:avLst/>
          </a:prstGeom>
          <a:ln w="0">
            <a:noFill/>
          </a:ln>
        </p:spPr>
      </p:pic>
      <p:sp>
        <p:nvSpPr>
          <p:cNvPr id="488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C4A8-9079-4640-8609-06EB1BC291F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9" name="Picture 31" descr=""/>
          <p:cNvPicPr/>
          <p:nvPr/>
        </p:nvPicPr>
        <p:blipFill>
          <a:blip r:embed="rId3"/>
          <a:stretch/>
        </p:blipFill>
        <p:spPr>
          <a:xfrm>
            <a:off x="4427640" y="3886200"/>
            <a:ext cx="4465440" cy="2638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76320" y="1268280"/>
            <a:ext cx="9067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66"/>
                </a:solidFill>
                <a:latin typeface="Arial"/>
              </a:rPr>
              <a:t>Counter transpor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Na is moving to the interior causing other substance to move ou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a²+ ‐ Na+ exchanger (present in many cell membran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Na –H+ exchanger in the kidne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5960" y="260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  <a:ea typeface="Arial"/>
              </a:rPr>
              <a:t>Active transpor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rcRect l="53882" t="21875" r="5124" b="38543"/>
          <a:stretch/>
        </p:blipFill>
        <p:spPr>
          <a:xfrm>
            <a:off x="2743200" y="3789360"/>
            <a:ext cx="594360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WordArt 5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4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2911-DAD7-4506-868E-FC2C130F5B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030040" y="98280"/>
            <a:ext cx="56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e701"/>
                </a:solidFill>
                <a:latin typeface="Arial"/>
              </a:rPr>
              <a:t>Eukaryotic Cell 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479520" y="907920"/>
            <a:ext cx="848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The cell is basic unit of structure and function within the body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(~100 trillion cells in body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7" descr="eukaryotic cell - fig 002-f002"/>
          <p:cNvPicPr/>
          <p:nvPr/>
        </p:nvPicPr>
        <p:blipFill>
          <a:blip r:embed="rId1"/>
          <a:stretch/>
        </p:blipFill>
        <p:spPr>
          <a:xfrm>
            <a:off x="4959360" y="1700280"/>
            <a:ext cx="4100400" cy="4465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471240" y="2781360"/>
            <a:ext cx="44276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Comprises three principal part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) Plasma (cell)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i) Cytoplasm &amp; orga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ii) Nucle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41E8-7BC8-46E3-B38C-79EC2477B49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78E3-32E5-41F2-BE49-E44C7FB3222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76320" y="1371600"/>
            <a:ext cx="8991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vers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is a fluid and not sol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is 7-10 nanometer thi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is also referred to as the plasma membra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rcRect l="35726" t="37500" r="20937" b="11462"/>
          <a:stretch/>
        </p:blipFill>
        <p:spPr>
          <a:xfrm>
            <a:off x="3048120" y="3657600"/>
            <a:ext cx="5638680" cy="3124080"/>
          </a:xfrm>
          <a:prstGeom prst="rect">
            <a:avLst/>
          </a:prstGeom>
          <a:ln w="0">
            <a:noFill/>
          </a:ln>
        </p:spPr>
      </p:pic>
      <p:sp>
        <p:nvSpPr>
          <p:cNvPr id="103" name="Title 1"/>
          <p:cNvSpPr/>
          <p:nvPr/>
        </p:nvSpPr>
        <p:spPr>
          <a:xfrm>
            <a:off x="304920" y="260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861200" y="-4680"/>
            <a:ext cx="51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e701"/>
                </a:solidFill>
                <a:latin typeface="Arial"/>
              </a:rPr>
              <a:t>The Plasma Membra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49080" y="620640"/>
            <a:ext cx="81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ain constituents of plasma membrane are </a:t>
            </a:r>
            <a:r>
              <a:rPr b="0" lang="en-IE" sz="2000" spc="-1" strike="noStrike">
                <a:solidFill>
                  <a:srgbClr val="ffffff"/>
                </a:solidFill>
                <a:latin typeface="Showcard Gothic"/>
              </a:rPr>
              <a:t>phospholipi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9"/>
          <p:cNvGrpSpPr/>
          <p:nvPr/>
        </p:nvGrpSpPr>
        <p:grpSpPr>
          <a:xfrm>
            <a:off x="4863960" y="1627200"/>
            <a:ext cx="4066920" cy="3457080"/>
            <a:chOff x="4863960" y="1627200"/>
            <a:chExt cx="4066920" cy="3457080"/>
          </a:xfrm>
        </p:grpSpPr>
        <p:graphicFrame>
          <p:nvGraphicFramePr>
            <p:cNvPr id="107" name="Object 10"/>
            <p:cNvGraphicFramePr/>
            <p:nvPr/>
          </p:nvGraphicFramePr>
          <p:xfrm>
            <a:off x="4863960" y="1627200"/>
            <a:ext cx="4066920" cy="345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63960" y="1627200"/>
                      <a:ext cx="4066920" cy="34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Line 11"/>
            <p:cNvSpPr/>
            <p:nvPr/>
          </p:nvSpPr>
          <p:spPr>
            <a:xfrm flipV="1">
              <a:off x="5718960" y="3833640"/>
              <a:ext cx="400680" cy="84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V="1">
              <a:off x="5718960" y="3517920"/>
              <a:ext cx="298800" cy="115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13"/>
            <p:cNvSpPr/>
            <p:nvPr/>
          </p:nvSpPr>
          <p:spPr>
            <a:xfrm flipV="1">
              <a:off x="8029080" y="4150080"/>
              <a:ext cx="101880" cy="52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 flipH="1" flipV="1">
              <a:off x="7727760" y="4361400"/>
              <a:ext cx="300600" cy="31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Line 25"/>
          <p:cNvSpPr/>
          <p:nvPr/>
        </p:nvSpPr>
        <p:spPr>
          <a:xfrm>
            <a:off x="3816360" y="30448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Group 30"/>
          <p:cNvGrpSpPr/>
          <p:nvPr/>
        </p:nvGrpSpPr>
        <p:grpSpPr>
          <a:xfrm>
            <a:off x="684360" y="1486080"/>
            <a:ext cx="4149720" cy="3887640"/>
            <a:chOff x="684360" y="1486080"/>
            <a:chExt cx="4149720" cy="3887640"/>
          </a:xfrm>
        </p:grpSpPr>
        <p:pic>
          <p:nvPicPr>
            <p:cNvPr id="115" name="Picture 8" descr=""/>
            <p:cNvPicPr/>
            <p:nvPr/>
          </p:nvPicPr>
          <p:blipFill>
            <a:blip r:embed="rId3"/>
            <a:srcRect l="6132" t="0" r="0" b="0"/>
            <a:stretch/>
          </p:blipFill>
          <p:spPr>
            <a:xfrm>
              <a:off x="684360" y="1486080"/>
              <a:ext cx="216216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5"/>
            <p:cNvSpPr/>
            <p:nvPr/>
          </p:nvSpPr>
          <p:spPr>
            <a:xfrm>
              <a:off x="2964240" y="2124000"/>
              <a:ext cx="168480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Hydrophili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ffffff"/>
                  </a:solidFill>
                  <a:latin typeface="Arial"/>
                </a:rPr>
                <a:t>(polar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2944800" y="3848040"/>
              <a:ext cx="18892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Hydrophobi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ffffff"/>
                  </a:solidFill>
                  <a:latin typeface="Arial"/>
                </a:rPr>
                <a:t>(non-polar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28"/>
            <p:cNvSpPr/>
            <p:nvPr/>
          </p:nvSpPr>
          <p:spPr>
            <a:xfrm>
              <a:off x="2781360" y="1844640"/>
              <a:ext cx="187200" cy="1008000"/>
            </a:xfrm>
            <a:custGeom>
              <a:avLst/>
              <a:gdLst>
                <a:gd name="textAreaLeft" fmla="*/ 0 w 187200"/>
                <a:gd name="textAreaRight" fmla="*/ 67680 w 1872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AutoShape 29"/>
            <p:cNvSpPr/>
            <p:nvPr/>
          </p:nvSpPr>
          <p:spPr>
            <a:xfrm>
              <a:off x="2743200" y="3068640"/>
              <a:ext cx="220680" cy="2089080"/>
            </a:xfrm>
            <a:custGeom>
              <a:avLst/>
              <a:gdLst>
                <a:gd name="textAreaLeft" fmla="*/ 0 w 220680"/>
                <a:gd name="textAreaRight" fmla="*/ 79560 w 220680"/>
                <a:gd name="textAreaTop" fmla="*/ 54360 h 2089080"/>
                <a:gd name="textAreaBottom" fmla="*/ 2034720 h 20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5D1E-D674-4B62-A79D-0865CE815D7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ell membrane structur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3D59-CFDC-4340-94CE-A393205977A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12640" y="1341360"/>
            <a:ext cx="794700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Organized in a bilayer of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Arial"/>
              </a:rPr>
              <a:t>phospholipid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molecu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1. Glycerol head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(hydrophilic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2. Two fatty acid 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ails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’’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(hydrophobic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eads (hydrophilic) facing ICF and ECF and tails (hydrophobic) face each other in the interior of the bilayer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(Amphipathi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957320" y="-12600"/>
            <a:ext cx="538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e701"/>
                </a:solidFill>
                <a:latin typeface="Arial"/>
              </a:rPr>
              <a:t>Cell Membrane Prote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762840" y="700200"/>
            <a:ext cx="82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Proteins integrated into phospholipid bilayer separated into 2 group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Periph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ii)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Integral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 (intimately attached to 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9" descr="classes of membrane proteins -fig 002-f005"/>
          <p:cNvPicPr/>
          <p:nvPr/>
        </p:nvPicPr>
        <p:blipFill>
          <a:blip r:embed="rId1"/>
          <a:stretch/>
        </p:blipFill>
        <p:spPr>
          <a:xfrm>
            <a:off x="2190600" y="1800360"/>
            <a:ext cx="4757760" cy="2844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0"/>
          <p:cNvSpPr/>
          <p:nvPr/>
        </p:nvSpPr>
        <p:spPr>
          <a:xfrm>
            <a:off x="609480" y="4730760"/>
            <a:ext cx="791856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Showcard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Showcard Gothic"/>
              </a:rPr>
              <a:t>Integral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 protein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 the membrane (Proteins provide structural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channel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po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Showcard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Showcard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Showcard Gothic"/>
              </a:rPr>
              <a:t>Peripheral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 proteins (carrier) can participate in intracellular signalling, present in one side, work as cell membrane receptor and cell surface antig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609A-99A1-484B-8F11-148A430F791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089000" y="20520"/>
            <a:ext cx="71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cell membrane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carbohydr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fluid mosaic model of plasma membrane-fig 001-f002"/>
          <p:cNvPicPr/>
          <p:nvPr/>
        </p:nvPicPr>
        <p:blipFill>
          <a:blip r:embed="rId1"/>
          <a:stretch/>
        </p:blipFill>
        <p:spPr>
          <a:xfrm>
            <a:off x="971640" y="773280"/>
            <a:ext cx="7372440" cy="3160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385920" y="3898800"/>
            <a:ext cx="850716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Glycoprotein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most of it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Glycolipid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1/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Proteoglycan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mainly carbohydrate substance bound together by protei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Glycocalyx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loose coat of carbohydra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AF65-DE6C-439D-9928-EAE14595F20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560" y="18288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unction of carbohydra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aches cell to each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t as receptors substances (help ligand to recognize its receptor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enter into immune re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ive most of cells overall –ve surf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45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The cell membrane 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carbohydrat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13:03:23Z</dcterms:created>
  <dc:creator>Gordon Reid</dc:creator>
  <dc:description/>
  <dc:language>en-US</dc:language>
  <cp:lastModifiedBy>aboo alde</cp:lastModifiedBy>
  <dcterms:modified xsi:type="dcterms:W3CDTF">2015-08-26T12:05:36Z</dcterms:modified>
  <cp:revision>137</cp:revision>
  <dc:subject/>
  <dc:title>PowerPoint Presentation</dc:title>
</cp:coreProperties>
</file>