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7F6C-5C53-44A8-8DF8-46AAD4002B2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0F8F-60FB-4EDA-AF8D-69BEBF942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F749-E6A0-416D-82EA-956957473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ED8E-54F5-4BB5-93A5-DBA5C0A8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C204-A158-410D-8621-067B13C8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2486-5D5F-4B10-A53E-AA0CA075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E746-8190-4A4C-AE63-824946B5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8045-F350-4211-8A35-09A47E81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4A09-2E74-4A63-BC19-27BE7DA91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E1B-D952-473D-A98F-D6693363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A988-3673-4817-82AD-A5F37D8B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41B0-293C-427A-A13D-8C10F914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150-E704-4B1A-B541-8F5CC79D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259-60ED-499B-9F2A-9DBDD0E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4D7-8C2B-4BEB-B606-504AC3EB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3C3-4101-461D-B765-B7F9690A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6F7-0488-40CB-9F27-0ADF9BDC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381-923C-47EC-BAF0-D79DCB5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A46-FA98-488A-95B6-3FCC68EA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EF7-6B0A-4BF5-9CAB-6E04D2C0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DE2-2915-42DD-87CC-8A5AA7B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649-D9DD-44ED-B6C8-B3A14CED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EC3-15D6-4C93-968F-A3571F5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9CE-D6F4-4514-8104-B563D15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35AA-2ADE-41DD-A0DC-750F7594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31840" y="110664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Foundation Block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Homeosta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05120" y="3019320"/>
            <a:ext cx="5535360" cy="133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48B-DEFE-488F-A64F-44CF274E7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0" r="0" b="3666"/>
          <a:stretch/>
        </p:blipFill>
        <p:spPr>
          <a:xfrm>
            <a:off x="887400" y="457200"/>
            <a:ext cx="7435800" cy="5850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036800" y="4175280"/>
            <a:ext cx="1110960" cy="877680"/>
          </a:xfrm>
          <a:prstGeom prst="rect">
            <a:avLst/>
          </a:prstGeom>
          <a:solidFill>
            <a:srgbClr val="bbe0e3"/>
          </a:solidFill>
          <a:ln w="151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781200" y="4254480"/>
            <a:ext cx="193680" cy="19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1127160" y="2732040"/>
            <a:ext cx="193680" cy="19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463760" y="577800"/>
            <a:ext cx="191880" cy="195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271520" y="2700360"/>
            <a:ext cx="101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1620720" y="546120"/>
            <a:ext cx="107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780240" y="3660840"/>
            <a:ext cx="192240" cy="19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6937920" y="3629160"/>
            <a:ext cx="1428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to influ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itude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3088440" y="5011920"/>
            <a:ext cx="2341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(in homeostas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 rot="1420200">
            <a:off x="2666160" y="4461120"/>
            <a:ext cx="1052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 rot="1420200">
            <a:off x="4972680" y="5524560"/>
            <a:ext cx="1052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596960" y="1925640"/>
            <a:ext cx="1662120" cy="351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110120" y="506520"/>
            <a:ext cx="853920" cy="419040"/>
          </a:xfrm>
          <a:prstGeom prst="rect">
            <a:avLst/>
          </a:prstGeom>
          <a:solidFill>
            <a:srgbClr val="ffcc66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6130800" y="617400"/>
            <a:ext cx="192240" cy="195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6278760" y="587520"/>
            <a:ext cx="13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5837400" y="1859040"/>
            <a:ext cx="1170000" cy="350640"/>
          </a:xfrm>
          <a:prstGeom prst="rect">
            <a:avLst/>
          </a:prstGeom>
          <a:solidFill>
            <a:srgbClr val="ffcccc"/>
          </a:soli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2852640"/>
            <a:ext cx="4572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ostatic Control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E567-B46B-413A-85AA-C20377B8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figure_01_03_labeled"/>
          <p:cNvPicPr/>
          <p:nvPr/>
        </p:nvPicPr>
        <p:blipFill>
          <a:blip r:embed="rId1"/>
          <a:srcRect l="0" t="0" r="0" b="2335"/>
          <a:stretch/>
        </p:blipFill>
        <p:spPr>
          <a:xfrm>
            <a:off x="1523880" y="1446120"/>
            <a:ext cx="6172200" cy="480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trol of Room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34BF-B697-4F2B-B97A-981A940C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39152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ostatic Contro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90720" y="1762200"/>
            <a:ext cx="7238880" cy="411480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- refers to responses made after change has been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ypes of feedback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osi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4A41-498B-4B44-B7B4-DC917B583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Loops: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62120" y="1905120"/>
            <a:ext cx="7696080" cy="41148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ative feedback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original stimulus revers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most feedback systems in the body ar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used for conditions that need frequent adjus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ve feedback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original stimulus intens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seen during normal child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7D2-4086-4202-B25C-F3804BC34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76520"/>
            <a:ext cx="7696080" cy="44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ype of homeostatic control system that maintains the variable within a normal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ing action in the opposite direction of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 most processes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 maintained within a normal level, it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ctuates around the se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imulus increases, homeostatic control system activated to cause a decrease in the stimul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imulus decreases, homeostatic control system activated to cause an increase in the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19F-A9BD-4A1D-B200-4D85D409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1752120"/>
            <a:ext cx="7772400" cy="444996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temperature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y receptors detect this and signal the hypothalamus (component of the b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alamus alerts nerve impulses in blood vessels in the skin to decrease the inside opening of the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ecreases amount of amount of blood circulating to the surface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heat is released through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impulses are sent to skeletal muscles, causing shiv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impulses are sent to smooth muscles of hair follicles, causing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oosebum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0537-7D27-486F-86FB-C06E008D8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9" descr=""/>
          <p:cNvPicPr/>
          <p:nvPr/>
        </p:nvPicPr>
        <p:blipFill>
          <a:blip r:embed="rId1"/>
          <a:srcRect l="2057" t="4221" r="29619" b="2578"/>
          <a:stretch/>
        </p:blipFill>
        <p:spPr>
          <a:xfrm>
            <a:off x="2244600" y="582480"/>
            <a:ext cx="4537080" cy="569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1828800"/>
            <a:ext cx="7619760" cy="419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reg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emperature 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receptors detect this and signal the hypothal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alamus alerts nerve impulses in blood vessels in the skin to increase the inside opening of the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reases the amount of blood circulating to the body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heat is released through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28B-0035-4FB9-BB03-2070F33D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7" descr=""/>
          <p:cNvPicPr/>
          <p:nvPr/>
        </p:nvPicPr>
        <p:blipFill>
          <a:blip r:embed="rId1"/>
          <a:srcRect l="3037" t="4940" r="28098" b="3796"/>
          <a:stretch/>
        </p:blipFill>
        <p:spPr>
          <a:xfrm>
            <a:off x="2149560" y="609480"/>
            <a:ext cx="463212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1722600"/>
            <a:ext cx="7696080" cy="44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amples of homeostatic 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drawal reflex in response to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heart rate and blood pressure during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reathing rate in response to increase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thyroid hormone release in response to decreased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insulin by the pancreas in response to increased blood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5610-62BE-4BDC-85D7-ED9C0E065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2057400"/>
            <a:ext cx="7467840" cy="403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components of a homeostatic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recognize each of the components in representativ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negative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homeostatic mechanisms regulated by negative feedback detect and respond to environment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positive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actions of a positive feedback lo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88B4-52AE-4E95-8806-269E3273B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Posi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722600"/>
            <a:ext cx="7772400" cy="44496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feedback during breastfee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ory detectors detect baby suck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is transmitted to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alamus signals posterior pituitary to release the hormone oxytoc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xytocin stimulates the mammary gland to eject breast m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ycle repeats as long as the baby suck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examples of positive feedb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d clotting casc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erine contractions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56CC-FDAF-4FCD-B2C8-A9643CB57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0" descr=""/>
          <p:cNvPicPr/>
          <p:nvPr/>
        </p:nvPicPr>
        <p:blipFill>
          <a:blip r:embed="rId1"/>
          <a:srcRect l="0" t="0" r="0" b="8551"/>
          <a:stretch/>
        </p:blipFill>
        <p:spPr>
          <a:xfrm>
            <a:off x="609480" y="1222200"/>
            <a:ext cx="7925040" cy="450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20720"/>
            <a:ext cx="7772400" cy="103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Feedback during Child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5800" y="2130480"/>
            <a:ext cx="7772400" cy="3508200"/>
          </a:xfrm>
          <a:prstGeom prst="rect">
            <a:avLst/>
          </a:prstGeom>
          <a:solidFill>
            <a:srgbClr val="ffb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 receptors in walls of uterus send signals to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induces release of hormone (oxytocin) into blood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rine smooth muscle contracts more forc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retch, more hormone, more contractio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ends with birth of the baby &amp; decrease in str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A605-27BA-43EC-8217-4E8BB394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4464000" cy="1265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ostasis of Blood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85800" y="2082960"/>
            <a:ext cx="4419720" cy="393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receptors in walls of blood vessels detect an increase in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receives input and signals from blood vessels and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vessels dilate,  HR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70259"/>
          <p:cNvPicPr/>
          <p:nvPr/>
        </p:nvPicPr>
        <p:blipFill>
          <a:blip r:embed="rId1"/>
          <a:srcRect l="0" t="0" r="0" b="4000"/>
          <a:stretch/>
        </p:blipFill>
        <p:spPr>
          <a:xfrm>
            <a:off x="5354640" y="41400"/>
            <a:ext cx="3249720" cy="68166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C709-7607-4A1E-9062-9E13E8A8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1FBF-BB30-4D70-BB9D-A85E13D3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1752120"/>
            <a:ext cx="7619760" cy="441972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sis is the ability to maintain a relatively stable internal environment in an ever-changing outsid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endency toward intern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, thermal, and neural factors interact to maintain homeost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51EF-CDAE-49DC-A0B8-4FFC7CC92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16040"/>
            <a:ext cx="777240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ept of Home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ternal environment of the body (ECF) is in a dynamic state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ifferent body systems operate in harmony to provide 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dysfunction leads to death; moderate dysfunction leads to sic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79F-206B-45E7-87CF-3532E563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Homeostat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maintains homeostasis by using homeostatic control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mponents associated with each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that detects changes in a variable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a change i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sensory n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B096-042A-4669-A182-4D93053A0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Homeostat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76520"/>
            <a:ext cx="7772400" cy="452592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that interprets input from the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s changes through the 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ion of the nervous system or an endocrin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that brings about change to alter the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bod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uscles or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B129-6140-4801-9F38-20D487B3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ad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tenance of Home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and coordinates bodily activities that require rapi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s and initiates reactions to changes in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regulation of blood pressure upon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ing glands of endocrine regulate activities that require duration rather tha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arathyroid hormone regulating calcium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BEF5-3255-4FC7-88B4-DD2B209A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696080" cy="8082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Homeostatically Regul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nutrient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water, salt, and other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mmHg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0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= 7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volume 4-6 L and pressure 120/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= 3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DCC5-8814-4329-BB53-29E648BE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295280"/>
            <a:ext cx="7467840" cy="4525920"/>
          </a:xfrm>
          <a:prstGeom prst="rect">
            <a:avLst/>
          </a:prstGeom>
          <a:solidFill>
            <a:srgbClr val="d4d9b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of a homeostatic system occurs through a feedback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stimulus by a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relayed to the 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the input by control center and initiation of change through eff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f homeostasis by the actions of eff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0094-99E9-4EA2-AD64-835B8A11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dullah AlDeghaither</dc:creator>
  <dc:description/>
  <dc:language>en-US</dc:language>
  <cp:lastModifiedBy>aboo alde</cp:lastModifiedBy>
  <dcterms:modified xsi:type="dcterms:W3CDTF">2015-08-27T14:19:47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