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86C6-8771-4025-B34A-62DFDB01CBB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7D2A-275F-44DC-A108-00B64566D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3C09-FB2E-4E32-A972-A96ED0238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CFF9-875E-4526-B8C8-DF2939589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98E2-4645-483C-9E75-E7CFF0981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C068-F8A2-40ED-96BB-4038FA2D9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C522-89A5-4BF2-B63C-B18B346BF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C166-6FB0-4703-BA03-727B58B2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7415-FC01-4C08-9DBE-843711A1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8BAE-ED05-475A-9CB5-63EC8338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831D-55DC-470F-8B4F-2D75549B9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6560-EFF8-4363-95BC-839C20099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0DE4-02FB-4230-87DE-AD49B340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5E4-2ED6-480B-8BFE-F695806F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989-0C19-4D4C-8096-A621B31F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890-09C6-45CA-B785-DE811037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1ED-A4BF-427D-A35B-9EFB84DA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10D-899F-438F-8932-D95CD046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438-3135-4A06-BAA6-5683ED5D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958-8CE4-4BA1-AE38-0DAAEE71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BD1-303B-4247-8C13-22022E09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27C-F45D-4F06-B5DC-9496FAD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6DA8-B755-40AD-9455-584CE1FD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970-3DE1-4832-9251-DF7BF790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3E77-82B5-4A34-852C-B36D9E74A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131840" y="1106640"/>
            <a:ext cx="6924600" cy="125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Foundation Block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Homeostas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905120" y="3019320"/>
            <a:ext cx="5535360" cy="133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By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Arial"/>
              </a:rPr>
              <a:t>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FC07-BED7-4F81-830A-AC1A80310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0" t="0" r="0" b="3666"/>
          <a:stretch/>
        </p:blipFill>
        <p:spPr>
          <a:xfrm>
            <a:off x="887400" y="457200"/>
            <a:ext cx="7435800" cy="5850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036800" y="4175280"/>
            <a:ext cx="1110960" cy="877680"/>
          </a:xfrm>
          <a:prstGeom prst="rect">
            <a:avLst/>
          </a:prstGeom>
          <a:solidFill>
            <a:srgbClr val="bbe0e3"/>
          </a:solidFill>
          <a:ln w="151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781200" y="4254480"/>
            <a:ext cx="193680" cy="193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1127160" y="2732040"/>
            <a:ext cx="193680" cy="193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/>
          <p:cNvSpPr/>
          <p:nvPr/>
        </p:nvSpPr>
        <p:spPr>
          <a:xfrm>
            <a:off x="1463760" y="577800"/>
            <a:ext cx="191880" cy="1954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271520" y="2700360"/>
            <a:ext cx="101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g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ct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1620720" y="546120"/>
            <a:ext cx="1079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t alo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6780240" y="3660840"/>
            <a:ext cx="192240" cy="193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6937920" y="3629160"/>
            <a:ext cx="1428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 of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 fee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 to influenc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gnitude of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imulus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tur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to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3088440" y="5011920"/>
            <a:ext cx="23418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 (in homeostas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 rot="1420200">
            <a:off x="2666160" y="4461120"/>
            <a:ext cx="1052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 rot="1420200">
            <a:off x="4972680" y="5524560"/>
            <a:ext cx="1052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ba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1596960" y="1925640"/>
            <a:ext cx="1662120" cy="351000"/>
          </a:xfrm>
          <a:prstGeom prst="rect">
            <a:avLst/>
          </a:prstGeom>
          <a:solidFill>
            <a:srgbClr val="bbe0e3"/>
          </a:solidFill>
          <a:ln w="158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eptor (sens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4110120" y="506520"/>
            <a:ext cx="853920" cy="419040"/>
          </a:xfrm>
          <a:prstGeom prst="rect">
            <a:avLst/>
          </a:prstGeom>
          <a:solidFill>
            <a:srgbClr val="ffcc66"/>
          </a:solidFill>
          <a:ln w="158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6130800" y="617400"/>
            <a:ext cx="192240" cy="1954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7"/>
          <p:cNvSpPr/>
          <p:nvPr/>
        </p:nvSpPr>
        <p:spPr>
          <a:xfrm>
            <a:off x="6278760" y="587520"/>
            <a:ext cx="13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s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ong effer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hwa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5837400" y="1859040"/>
            <a:ext cx="1170000" cy="350640"/>
          </a:xfrm>
          <a:prstGeom prst="rect">
            <a:avLst/>
          </a:prstGeom>
          <a:solidFill>
            <a:srgbClr val="ffcccc"/>
          </a:solidFill>
          <a:ln w="158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2852640"/>
            <a:ext cx="45720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ostatic Control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484E-ED46-4AE4-B359-8F2EB26E3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figure_01_03_labeled"/>
          <p:cNvPicPr/>
          <p:nvPr/>
        </p:nvPicPr>
        <p:blipFill>
          <a:blip r:embed="rId1"/>
          <a:srcRect l="0" t="0" r="0" b="2335"/>
          <a:stretch/>
        </p:blipFill>
        <p:spPr>
          <a:xfrm>
            <a:off x="1523880" y="1446120"/>
            <a:ext cx="6172200" cy="480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5438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trol of Room Temper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3647-4050-4F0D-A57B-DACC51312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685800"/>
            <a:ext cx="739152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ostatic Contro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990720" y="1762200"/>
            <a:ext cx="7238880" cy="4114800"/>
          </a:xfrm>
          <a:prstGeom prst="rect">
            <a:avLst/>
          </a:prstGeom>
          <a:solidFill>
            <a:srgbClr val="e9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- refers to responses made after change has been det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ypes of feedback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Posi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A924-92AB-4B3D-B0C2-2C250F2B4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Loops: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762120" y="1905120"/>
            <a:ext cx="7696080" cy="41148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gative feedback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original stimulus revers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most feedback systems in the body ar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used for conditions that need frequent adjus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ve feedback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original stimulus intens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seen during normal childbir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9C21-2496-4384-A76C-7209FBC36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tic Systems Regulated by Nega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76520"/>
            <a:ext cx="7696080" cy="444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feedb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ype of homeostatic control system that maintains the variable within a normal 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ulting action in the opposite direction of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s most processes in the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iable maintained within a normal level, it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ctuates around the set poi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timulus increases, homeostatic control system activated to cause a decrease in the stimulu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timulus decreases, homeostatic control system activated to cause an increase in the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3AD7-C49C-4BB1-9EFA-730E5BEB0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1752120"/>
            <a:ext cx="7772400" cy="444996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temperature d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y receptors detect this and signal the hypothalamus (component of the b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alamus alerts nerve impulses in blood vessels in the skin to decrease the inside opening of the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decreases amount of amount of blood circulating to the surface of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heat is released through sk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 impulses are sent to skeletal muscles, causing shiv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ve impulses are sent to smooth muscles of hair follicles, causing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goosebum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tic Systems Regulated by Nega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4FCC-B70D-4B45-8B41-941977AEE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9" descr=""/>
          <p:cNvPicPr/>
          <p:nvPr/>
        </p:nvPicPr>
        <p:blipFill>
          <a:blip r:embed="rId1"/>
          <a:srcRect l="2057" t="4221" r="29619" b="2578"/>
          <a:stretch/>
        </p:blipFill>
        <p:spPr>
          <a:xfrm>
            <a:off x="2244600" y="582480"/>
            <a:ext cx="4537080" cy="5693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62120" y="1828800"/>
            <a:ext cx="7619760" cy="4191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 regul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emperature 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y receptors detect this and signal the hypothal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alamus alerts nerve impulses in blood vessels in the skin to increase the inside opening of the ve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creases the amount of blood circulating to the body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heat is released through 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F287-A605-4B4C-9950-2D2FE6217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tic Systems Regulated by Nega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7" descr=""/>
          <p:cNvPicPr/>
          <p:nvPr/>
        </p:nvPicPr>
        <p:blipFill>
          <a:blip r:embed="rId1"/>
          <a:srcRect l="3037" t="4940" r="28098" b="3796"/>
          <a:stretch/>
        </p:blipFill>
        <p:spPr>
          <a:xfrm>
            <a:off x="2149560" y="609480"/>
            <a:ext cx="463212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1722600"/>
            <a:ext cx="7696080" cy="444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xamples of homeostatic reg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drawal reflex in response to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ing heart rate and blood pressure during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breathing rate in response to increase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thyroid hormone release in response to decreased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ease of insulin by the pancreas in response to increased blood 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54C6-9EA9-4C8F-831E-FF080E7A4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tic Systems Regulated by Nega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2057400"/>
            <a:ext cx="7467840" cy="4038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components of a homeostatic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ble to recognize each of the components in representative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negative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homeostatic mechanisms regulated by negative feedback detect and respond to environmental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positive feed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actions of a positive feedback loo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B487-BE4B-4EC7-A4DC-4DC029A85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tic Systems Regulated by Positive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722600"/>
            <a:ext cx="7772400" cy="44496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feedback during breastfee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ory detectors detect baby suck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sage is transmitted to the hypothala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pothalamus signals posterior pituitary to release the hormone oxytoc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xytocin stimulates the mammary gland to eject breast m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ycle repeats as long as the baby suck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examples of positive feedba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od clotting casc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erine contractions of lab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ECE8-E47D-4CD7-8581-CFD7A952C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0" descr=""/>
          <p:cNvPicPr/>
          <p:nvPr/>
        </p:nvPicPr>
        <p:blipFill>
          <a:blip r:embed="rId1"/>
          <a:srcRect l="0" t="0" r="0" b="8551"/>
          <a:stretch/>
        </p:blipFill>
        <p:spPr>
          <a:xfrm>
            <a:off x="609480" y="1222200"/>
            <a:ext cx="7925040" cy="4500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20720"/>
            <a:ext cx="7772400" cy="1031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ve Feedback during Childb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685800" y="2130480"/>
            <a:ext cx="7772400" cy="3508200"/>
          </a:xfrm>
          <a:prstGeom prst="rect">
            <a:avLst/>
          </a:prstGeom>
          <a:solidFill>
            <a:srgbClr val="ffb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 receptors in walls of uterus send signals to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induces release of hormone (oxytocin) into blood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erine smooth muscle contracts more forc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retch, more hormone, more contractio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 ends with birth of the baby &amp; decrease in str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8F54-8D9D-40BA-837C-76B7D3ABE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4464000" cy="12654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ostasis of Blood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85800" y="2082960"/>
            <a:ext cx="4419720" cy="393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oreceptors in walls of blood vessels detect an increase in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receives input and signals from blood vessels and he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vessels dilate,  HR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170259"/>
          <p:cNvPicPr/>
          <p:nvPr/>
        </p:nvPicPr>
        <p:blipFill>
          <a:blip r:embed="rId1"/>
          <a:srcRect l="0" t="0" r="0" b="4000"/>
          <a:stretch/>
        </p:blipFill>
        <p:spPr>
          <a:xfrm>
            <a:off x="5354640" y="41400"/>
            <a:ext cx="3249720" cy="68166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51A2-BAC3-456D-80AE-1B6C59E65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5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012F-8D4C-4615-A182-D0C885384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1752120"/>
            <a:ext cx="7619760" cy="441972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eostasis is the ability to maintain a relatively stable internal environment in an ever-changing outsid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tendency toward internal bal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, thermal, and neural factors interact to maintain homeosta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69C7-E871-4A66-AD8A-7031C9D3D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16040"/>
            <a:ext cx="7772400" cy="884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cept of Home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828800"/>
            <a:ext cx="7696080" cy="4114800"/>
          </a:xfrm>
          <a:prstGeom prst="rect">
            <a:avLst/>
          </a:prstGeom>
          <a:solidFill>
            <a:srgbClr val="cecee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internal environment of the body (ECF) is in a dynamic state of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different body systems operate in harmony to provide homeost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reme dysfunction leads to death; moderate dysfunction leads to sick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D322-16CA-40ED-B777-4DCCBDE27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19760" cy="8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Homeostatic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5720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maintains homeostasis by using homeostatic control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components associated with each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that detects changes in a variable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a change i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sensory n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851C-86A7-4E1A-9D79-0726EFD3C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s of Homeostatic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76520"/>
            <a:ext cx="7772400" cy="452592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that interprets input from the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s changes through the ef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ion of the nervous system or an endocrine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ucture that brings about change to alter the 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body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muscles or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7030-741F-4E06-89F9-5386A65C1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solidFill>
            <a:srgbClr val="ffadc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tenance of Homeost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s and coordinates bodily activities that require rapid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s and initiates reactions to changes in external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regulation of blood pressure upon 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cri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ing glands of endocrine regulate activities that require duration rather than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parathyroid hormone regulating calcium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48AF-7860-41C7-8DB7-0E9929523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39360"/>
            <a:ext cx="7696080" cy="808200"/>
          </a:xfrm>
          <a:prstGeom prst="rect">
            <a:avLst/>
          </a:prstGeom>
          <a:solidFill>
            <a:srgbClr val="c1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s Homeostatically Regul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nutrient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water, salt, and other electrol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was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mmHg and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0 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= 7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volume 4-6 L and pressure 120/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= 3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52DA-76C9-4F3F-A353-93A5C6807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38080" y="1295280"/>
            <a:ext cx="7467840" cy="4525920"/>
          </a:xfrm>
          <a:prstGeom prst="rect">
            <a:avLst/>
          </a:prstGeom>
          <a:solidFill>
            <a:srgbClr val="d4d9b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of a homeostatic system occurs through a feedback lo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stimulus by a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relayed to the control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the input by control center and initiation of change through eff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f homeostasis by the actions of eff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B8D3-DA77-45D4-A64B-BA7070636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dullah AlDeghaither</dc:creator>
  <dc:description/>
  <dc:language>en-US</dc:language>
  <cp:lastModifiedBy>aboo alde</cp:lastModifiedBy>
  <dcterms:modified xsi:type="dcterms:W3CDTF">2015-08-27T14:19:47Z</dcterms:modified>
  <cp:revision>2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