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20.jpeg" ContentType="image/jpeg"/>
  <Override PartName="/ppt/media/image19.wmf" ContentType="image/x-wmf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18.wmf" ContentType="image/x-wmf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7EA-E897-4DB6-8B17-72BE45B7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4D6-FBE4-45A1-A17D-164ADA04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B7C-7053-4F42-8435-70E3D40E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C98-A72F-4F03-B395-4BD86162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D715-4683-4442-B3DA-534EF662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95E1-514A-40CD-9D17-97483FA7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F575-104D-4B41-AB69-2707A40D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FEFB-B078-45E4-8DBA-0DA64267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2CF4-475B-4968-96D1-74A5CDB4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60F9-2087-4E87-9946-3FD57AC5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E41E-FC9F-4FFE-AFDA-33C37F1F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E81-7E1D-4320-BFB9-45810596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3909-8D68-4CD8-82C6-01CE61DF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DE3B-1757-436F-AB31-FFEA0D8C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79EA-FA63-4D64-95F6-D171F3AB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FBCE-EB9E-44D8-A845-7FE0F385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2341-604E-4EAF-B00C-106E7757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558-6466-4D97-ADC4-29AA8F14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DFB-7722-464A-A103-A631DBE0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D3D-32D9-411A-801E-68EEEC3C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1E17-03ED-4B40-97D9-9DA5C5E7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2FA-2B0A-4B5F-8669-93E190DC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BB0-A535-4163-8D26-E0AD6E88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82D7-0949-49AE-8691-4917DBD4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A2A3-823A-4F7C-8393-8EEB6F416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14C2-95FE-4EF5-B874-C15DF79A9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ahmeda@ksu.edu.sa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2/Oedema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1131840" y="1106640"/>
            <a:ext cx="6924600" cy="1256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f0066"/>
                </a:solidFill>
                <a:latin typeface="Arial"/>
              </a:rPr>
              <a:t>(Foundation Block 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Homeostas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905120" y="3019320"/>
            <a:ext cx="5535360" cy="133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By Ahmad Ahm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0" lang="en-I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ahmeda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b050"/>
                </a:solidFill>
                <a:latin typeface="Arial"/>
              </a:rPr>
              <a:t>05363134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9AE0-54EB-403B-909F-837C0A2F8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19760" cy="76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lume contrac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607760"/>
            <a:ext cx="7619760" cy="4259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osmolarity of fluid lost ≈ osmolarity of ECF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loss of isosmotic flui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  volume in EC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   arterial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Arrow Connector 6"/>
          <p:cNvCxnSpPr/>
          <p:nvPr/>
        </p:nvCxnSpPr>
        <p:spPr>
          <a:xfrm>
            <a:off x="3504960" y="4114800"/>
            <a:ext cx="1080" cy="5342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19" name="Straight Arrow Connector 8"/>
          <p:cNvCxnSpPr/>
          <p:nvPr/>
        </p:nvCxnSpPr>
        <p:spPr>
          <a:xfrm>
            <a:off x="3504960" y="5029200"/>
            <a:ext cx="1080" cy="53424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1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E60A-289D-4898-80CD-80DDF25A8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001"/>
          <p:cNvPicPr/>
          <p:nvPr/>
        </p:nvPicPr>
        <p:blipFill>
          <a:blip r:embed="rId1"/>
          <a:srcRect l="25003" t="2222" r="26669" b="37778"/>
          <a:stretch/>
        </p:blipFill>
        <p:spPr>
          <a:xfrm>
            <a:off x="3554280" y="1089000"/>
            <a:ext cx="4903920" cy="44686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2"/>
          <p:cNvSpPr/>
          <p:nvPr/>
        </p:nvSpPr>
        <p:spPr>
          <a:xfrm>
            <a:off x="762120" y="1219320"/>
            <a:ext cx="4044960" cy="1373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Loss of hypotonic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Water  depr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4724280" y="53737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perosmotic dehyd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3"/>
          <p:cNvSpPr/>
          <p:nvPr/>
        </p:nvSpPr>
        <p:spPr>
          <a:xfrm>
            <a:off x="3733920" y="3048120"/>
            <a:ext cx="4724280" cy="2971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6CCF-8A48-4EE8-8CCB-E54ACE33C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440" y="1268280"/>
            <a:ext cx="762012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ter  depriv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smolarity and volume will chang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Osmolarity in both ECF and IC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Volume in both ECF and IC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traight Arrow Connector 5"/>
          <p:cNvCxnSpPr/>
          <p:nvPr/>
        </p:nvCxnSpPr>
        <p:spPr>
          <a:xfrm flipV="1">
            <a:off x="2665800" y="3657240"/>
            <a:ext cx="2520" cy="4579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28" name="Straight Arrow Connector 7"/>
          <p:cNvCxnSpPr/>
          <p:nvPr/>
        </p:nvCxnSpPr>
        <p:spPr>
          <a:xfrm flipH="1">
            <a:off x="2666160" y="4647960"/>
            <a:ext cx="2520" cy="5338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1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D86B-1CF8-4A64-A209-026661BB1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001"/>
          <p:cNvPicPr/>
          <p:nvPr/>
        </p:nvPicPr>
        <p:blipFill>
          <a:blip r:embed="rId1"/>
          <a:srcRect l="39052" t="2222" r="38040" b="71592"/>
          <a:stretch/>
        </p:blipFill>
        <p:spPr>
          <a:xfrm>
            <a:off x="2971800" y="990720"/>
            <a:ext cx="3048120" cy="26128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533520" y="49356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- Loss of hypertonic sol. e.g. Adrenal insuffici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001"/>
          <p:cNvPicPr/>
          <p:nvPr/>
        </p:nvPicPr>
        <p:blipFill>
          <a:blip r:embed="rId2"/>
          <a:srcRect l="73100" t="32779" r="3332" b="40164"/>
          <a:stretch/>
        </p:blipFill>
        <p:spPr>
          <a:xfrm>
            <a:off x="2120760" y="3284640"/>
            <a:ext cx="3441960" cy="296388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5" descr=""/>
          <p:cNvPicPr/>
          <p:nvPr/>
        </p:nvPicPr>
        <p:blipFill>
          <a:blip r:embed="rId3"/>
          <a:stretch/>
        </p:blipFill>
        <p:spPr>
          <a:xfrm>
            <a:off x="1908000" y="4479840"/>
            <a:ext cx="506520" cy="139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Unfortunately we are unable to provide accessible alternative text for this. If you require assistance to access this image, please contact help@nature.com or the author"/>
          <p:cNvPicPr/>
          <p:nvPr/>
        </p:nvPicPr>
        <p:blipFill>
          <a:blip r:embed="rId4"/>
          <a:srcRect l="0" t="0" r="0" b="16523"/>
          <a:stretch/>
        </p:blipFill>
        <p:spPr>
          <a:xfrm>
            <a:off x="6019920" y="1066680"/>
            <a:ext cx="2430360" cy="16002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5486400" y="52578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ypo-osmotic dehyd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6"/>
          <p:cNvSpPr/>
          <p:nvPr/>
        </p:nvSpPr>
        <p:spPr>
          <a:xfrm>
            <a:off x="1600200" y="3200400"/>
            <a:ext cx="6019920" cy="3124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6981-49F1-4786-989A-31FA51EB0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6934320" cy="4651560"/>
          </a:xfrm>
          <a:prstGeom prst="rect">
            <a:avLst/>
          </a:prstGeom>
          <a:solidFill>
            <a:srgbClr val="ffe5d2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Loss of hypertonic solution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e.g. Adrenal insufficiency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.e. Aldosterone deficienc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Na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n the EC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 osmolarity in both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  in ECF volu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  in ICF volu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2286000" y="48006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286000" y="373392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2286000" y="434340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2286000" y="5334120"/>
            <a:ext cx="0" cy="3045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AA28-E487-4A3A-9561-38B680C8D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001"/>
          <p:cNvPicPr/>
          <p:nvPr/>
        </p:nvPicPr>
        <p:blipFill>
          <a:blip r:embed="rId1"/>
          <a:srcRect l="2502" t="2222" r="2502" b="37778"/>
          <a:stretch/>
        </p:blipFill>
        <p:spPr>
          <a:xfrm>
            <a:off x="228600" y="228600"/>
            <a:ext cx="8381880" cy="601992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2"/>
          <p:cNvSpPr/>
          <p:nvPr/>
        </p:nvSpPr>
        <p:spPr>
          <a:xfrm>
            <a:off x="3429000" y="2971800"/>
            <a:ext cx="2057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5EFD-B85E-4972-B045-50F324688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2666520"/>
            <a:ext cx="67816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olume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1940-DD7F-4095-A08E-4B8FBE494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add saline.jpg"/>
          <p:cNvPicPr/>
          <p:nvPr/>
        </p:nvPicPr>
        <p:blipFill>
          <a:blip r:embed="rId1"/>
          <a:srcRect l="3558" t="4391" r="3872" b="47349"/>
          <a:stretch/>
        </p:blipFill>
        <p:spPr>
          <a:xfrm>
            <a:off x="609480" y="685800"/>
            <a:ext cx="7925040" cy="3352680"/>
          </a:xfrm>
          <a:prstGeom prst="rect">
            <a:avLst/>
          </a:prstGeom>
          <a:ln w="0">
            <a:noFill/>
          </a:ln>
        </p:spPr>
      </p:pic>
      <p:sp>
        <p:nvSpPr>
          <p:cNvPr id="150" name="Rounded Rectangle 2"/>
          <p:cNvSpPr/>
          <p:nvPr/>
        </p:nvSpPr>
        <p:spPr>
          <a:xfrm>
            <a:off x="5272200" y="1311120"/>
            <a:ext cx="3012840" cy="243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58880" y="4651200"/>
            <a:ext cx="456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Adding of isotonic Na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8DF5-F6B7-41F1-98C3-24C12769F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0866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olume Expans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6933960" cy="43434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usion of isotonic Na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in ECF volu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 change in osmola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omotic expan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8"/>
          <p:cNvCxnSpPr/>
          <p:nvPr/>
        </p:nvCxnSpPr>
        <p:spPr>
          <a:xfrm flipV="1">
            <a:off x="1980720" y="2133000"/>
            <a:ext cx="1080" cy="533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2E09-CCD9-4A63-A151-9D6EEEB00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add saline.jpg"/>
          <p:cNvPicPr/>
          <p:nvPr/>
        </p:nvPicPr>
        <p:blipFill>
          <a:blip r:embed="rId1"/>
          <a:srcRect l="3626" t="4036" r="4312" b="9072"/>
          <a:stretch/>
        </p:blipFill>
        <p:spPr>
          <a:xfrm>
            <a:off x="907920" y="609480"/>
            <a:ext cx="7398000" cy="5666040"/>
          </a:xfrm>
          <a:prstGeom prst="rect">
            <a:avLst/>
          </a:prstGeom>
          <a:ln w="0">
            <a:noFill/>
          </a:ln>
        </p:spPr>
      </p:pic>
      <p:sp>
        <p:nvSpPr>
          <p:cNvPr id="158" name="Rounded Rectangle 2"/>
          <p:cNvSpPr/>
          <p:nvPr/>
        </p:nvSpPr>
        <p:spPr>
          <a:xfrm>
            <a:off x="1046160" y="3859200"/>
            <a:ext cx="3581280" cy="220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ounded Rectangle 3"/>
          <p:cNvSpPr/>
          <p:nvPr/>
        </p:nvSpPr>
        <p:spPr>
          <a:xfrm>
            <a:off x="5146560" y="1260360"/>
            <a:ext cx="2895840" cy="2362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ounded Rectangle 4"/>
          <p:cNvSpPr/>
          <p:nvPr/>
        </p:nvSpPr>
        <p:spPr>
          <a:xfrm>
            <a:off x="4994280" y="3774960"/>
            <a:ext cx="31590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747360" y="4917960"/>
            <a:ext cx="463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2- High NaCl int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57A8-3C54-4202-AE65-E950B39BD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8520" y="761760"/>
            <a:ext cx="6895800" cy="78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uid Compart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0" t="0" r="0" b="4412"/>
          <a:stretch/>
        </p:blipFill>
        <p:spPr>
          <a:xfrm>
            <a:off x="914400" y="1549440"/>
            <a:ext cx="7238880" cy="469908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72C5-9AD8-4B35-8D23-16E82C1F4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61760" y="1160280"/>
            <a:ext cx="7543800" cy="455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NaCl int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eat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osmolarity in bo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volume of ICF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 volume of ECF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erosmotic volume expa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"/>
          <p:cNvSpPr/>
          <p:nvPr/>
        </p:nvSpPr>
        <p:spPr>
          <a:xfrm flipV="1">
            <a:off x="1676520" y="2470320"/>
            <a:ext cx="0" cy="3808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1676520" y="3581280"/>
            <a:ext cx="0" cy="3812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1752480" y="3994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1676520" y="3003120"/>
            <a:ext cx="0" cy="3812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Arrow Connector 7"/>
          <p:cNvCxnSpPr/>
          <p:nvPr/>
        </p:nvCxnSpPr>
        <p:spPr>
          <a:xfrm flipV="1">
            <a:off x="1673640" y="4147560"/>
            <a:ext cx="2520" cy="4561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16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373C-3BFC-4F1B-8F20-AB031D286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8" descr="add saline.jpg"/>
          <p:cNvPicPr/>
          <p:nvPr/>
        </p:nvPicPr>
        <p:blipFill>
          <a:blip r:embed="rId1"/>
          <a:srcRect l="4527" t="52741" r="50003" b="9001"/>
          <a:stretch/>
        </p:blipFill>
        <p:spPr>
          <a:xfrm>
            <a:off x="2114640" y="3581280"/>
            <a:ext cx="3905280" cy="26672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ng hypotonic solution e.g. Syndrome of inappropriate antidiurtic hormone (SIAD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mo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 flipV="1">
            <a:off x="1066680" y="2057400"/>
            <a:ext cx="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1066680" y="2666880"/>
            <a:ext cx="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add saline.jpg"/>
          <p:cNvPicPr/>
          <p:nvPr/>
        </p:nvPicPr>
        <p:blipFill>
          <a:blip r:embed="rId2"/>
          <a:srcRect l="5638" t="13101" r="54970" b="47272"/>
          <a:stretch/>
        </p:blipFill>
        <p:spPr>
          <a:xfrm>
            <a:off x="5175360" y="1600200"/>
            <a:ext cx="3359160" cy="2743200"/>
          </a:xfrm>
          <a:prstGeom prst="rect">
            <a:avLst/>
          </a:prstGeom>
          <a:ln w="0">
            <a:noFill/>
          </a:ln>
        </p:spPr>
      </p:pic>
      <p:sp>
        <p:nvSpPr>
          <p:cNvPr id="175" name="Rounded Rectangle 7"/>
          <p:cNvSpPr/>
          <p:nvPr/>
        </p:nvSpPr>
        <p:spPr>
          <a:xfrm>
            <a:off x="2057400" y="3733920"/>
            <a:ext cx="37339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1B8E-BDF4-4FDB-ADF4-B623602DF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2"/>
          <p:cNvSpPr/>
          <p:nvPr/>
        </p:nvSpPr>
        <p:spPr>
          <a:xfrm>
            <a:off x="3505320" y="1905120"/>
            <a:ext cx="2057400" cy="533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3"/>
          <p:cNvSpPr/>
          <p:nvPr/>
        </p:nvSpPr>
        <p:spPr>
          <a:xfrm>
            <a:off x="3657600" y="4267080"/>
            <a:ext cx="2057400" cy="53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883E-3F35-4DED-9DF6-E51883CF2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Arial"/>
              </a:rPr>
              <a:t>Ede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0080" y="1714680"/>
            <a:ext cx="7229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 flipH="1">
            <a:off x="2286000" y="2286000"/>
            <a:ext cx="228600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>
            <a:off x="4572000" y="2286000"/>
            <a:ext cx="190512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Diagram 5" descr=""/>
          <p:cNvPicPr/>
          <p:nvPr/>
        </p:nvPicPr>
        <p:blipFill>
          <a:blip r:embed="rId1"/>
          <a:stretch/>
        </p:blipFill>
        <p:spPr>
          <a:xfrm>
            <a:off x="1054080" y="841320"/>
            <a:ext cx="6730920" cy="48531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609480" y="56386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ma occurs mainly in the ECF compar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own Arrow 7"/>
          <p:cNvSpPr/>
          <p:nvPr/>
        </p:nvSpPr>
        <p:spPr>
          <a:xfrm rot="1881000">
            <a:off x="7889760" y="2755440"/>
            <a:ext cx="370080" cy="1143000"/>
          </a:xfrm>
          <a:prstGeom prst="downArrow">
            <a:avLst>
              <a:gd name="adj1" fmla="val 50000"/>
              <a:gd name="adj2" fmla="val 51061"/>
            </a:avLst>
          </a:prstGeom>
          <a:solidFill>
            <a:srgbClr val="7030a0"/>
          </a:solidFill>
          <a:ln w="255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05C4-4A45-4EFD-8E28-BAF3B651B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File:Oedema.jpg">
            <a:hlinkClick r:id="rId1"/>
          </p:cNvPr>
          <p:cNvPicPr/>
          <p:nvPr/>
        </p:nvPicPr>
        <p:blipFill>
          <a:blip r:embed="rId2"/>
          <a:srcRect l="0" t="7992" r="15010" b="29331"/>
          <a:stretch/>
        </p:blipFill>
        <p:spPr>
          <a:xfrm>
            <a:off x="457200" y="380880"/>
            <a:ext cx="3886200" cy="3581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http://www.fgf.uk.com/phpThumb/phpThumb.php?src=/images/images/530.jpg"/>
          <p:cNvPicPr/>
          <p:nvPr/>
        </p:nvPicPr>
        <p:blipFill>
          <a:blip r:embed="rId3"/>
          <a:stretch/>
        </p:blipFill>
        <p:spPr>
          <a:xfrm>
            <a:off x="4343400" y="431640"/>
            <a:ext cx="4235400" cy="28195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http://subcutaneous.net/wp-content/uploads/2011/05/Subcutaneous-Oedema.jpg"/>
          <p:cNvPicPr/>
          <p:nvPr/>
        </p:nvPicPr>
        <p:blipFill>
          <a:blip r:embed="rId4"/>
          <a:srcRect l="14763" t="14430" r="12002" b="16101"/>
          <a:stretch/>
        </p:blipFill>
        <p:spPr>
          <a:xfrm>
            <a:off x="4343400" y="3289320"/>
            <a:ext cx="4267080" cy="3035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5"/>
          <a:stretch/>
        </p:blipFill>
        <p:spPr>
          <a:xfrm>
            <a:off x="2633760" y="4114800"/>
            <a:ext cx="1595520" cy="2200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6"/>
          <a:stretch/>
        </p:blipFill>
        <p:spPr>
          <a:xfrm>
            <a:off x="609480" y="4114800"/>
            <a:ext cx="1876680" cy="2200320"/>
          </a:xfrm>
          <a:prstGeom prst="rect">
            <a:avLst/>
          </a:prstGeom>
          <a:ln w="0">
            <a:noFill/>
          </a:ln>
        </p:spPr>
      </p:pic>
      <p:sp>
        <p:nvSpPr>
          <p:cNvPr id="19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EC54B-D9EE-4321-99A1-687A12501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428480" y="1357200"/>
            <a:ext cx="64292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"/>
          <p:cNvSpPr/>
          <p:nvPr/>
        </p:nvSpPr>
        <p:spPr>
          <a:xfrm>
            <a:off x="3200400" y="228600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 flipV="1">
            <a:off x="1752480" y="28195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3200400" y="32767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 flipV="1">
            <a:off x="1828800" y="373392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3200400" y="4343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3200400" y="53341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69608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Extracellular Ede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Diagram 10" descr=""/>
          <p:cNvPicPr/>
          <p:nvPr/>
        </p:nvPicPr>
        <p:blipFill>
          <a:blip r:embed="rId1"/>
          <a:stretch/>
        </p:blipFill>
        <p:spPr>
          <a:xfrm>
            <a:off x="2077920" y="2004840"/>
            <a:ext cx="5675400" cy="4170600"/>
          </a:xfrm>
          <a:prstGeom prst="rect">
            <a:avLst/>
          </a:prstGeom>
          <a:ln w="0">
            <a:noFill/>
          </a:ln>
        </p:spPr>
      </p:pic>
      <p:cxnSp>
        <p:nvCxnSpPr>
          <p:cNvPr id="204" name="Straight Arrow Connector 12"/>
          <p:cNvCxnSpPr/>
          <p:nvPr/>
        </p:nvCxnSpPr>
        <p:spPr>
          <a:xfrm flipV="1">
            <a:off x="3273840" y="3351960"/>
            <a:ext cx="252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5" name="Straight Arrow Connector 15"/>
          <p:cNvCxnSpPr/>
          <p:nvPr/>
        </p:nvCxnSpPr>
        <p:spPr>
          <a:xfrm flipV="1">
            <a:off x="3808440" y="4419360"/>
            <a:ext cx="2160" cy="38160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206" name="Rectangle 16"/>
          <p:cNvSpPr/>
          <p:nvPr/>
        </p:nvSpPr>
        <p:spPr>
          <a:xfrm>
            <a:off x="609480" y="685800"/>
            <a:ext cx="8001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clinical cause is excessive capillary fluid fil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7E20-BB2A-44BC-8251-ECA09E9D3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http://nottinghamchildhealth.org.uk/CAL/inotropes/Capillary%20bed.gif"/>
          <p:cNvPicPr/>
          <p:nvPr/>
        </p:nvPicPr>
        <p:blipFill>
          <a:blip r:embed="rId2"/>
          <a:stretch/>
        </p:blipFill>
        <p:spPr>
          <a:xfrm>
            <a:off x="1523880" y="1981080"/>
            <a:ext cx="6096240" cy="4199040"/>
          </a:xfrm>
          <a:prstGeom prst="rect">
            <a:avLst/>
          </a:prstGeom>
          <a:ln w="76320">
            <a:solidFill>
              <a:srgbClr val="0d0d0d"/>
            </a:solidFill>
            <a:miter/>
          </a:ln>
        </p:spPr>
      </p:pic>
    </p:spTree>
  </p:cSld>
  <p:transition>
    <p:blinds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428480" y="1066680"/>
            <a:ext cx="64292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3200400" y="199548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"/>
          <p:cNvSpPr/>
          <p:nvPr/>
        </p:nvSpPr>
        <p:spPr>
          <a:xfrm flipV="1">
            <a:off x="1752480" y="25290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3200400" y="2986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 flipV="1">
            <a:off x="1828800" y="34434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3200400" y="405288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3200400" y="504360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23888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acellular Edem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Diagram 10" descr=""/>
          <p:cNvPicPr/>
          <p:nvPr/>
        </p:nvPicPr>
        <p:blipFill>
          <a:blip r:embed="rId1"/>
          <a:stretch/>
        </p:blipFill>
        <p:spPr>
          <a:xfrm>
            <a:off x="1463760" y="1390680"/>
            <a:ext cx="6192720" cy="498636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2"/>
          <p:cNvCxnSpPr/>
          <p:nvPr/>
        </p:nvCxnSpPr>
        <p:spPr>
          <a:xfrm flipV="1">
            <a:off x="2057040" y="2604600"/>
            <a:ext cx="1080" cy="4579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21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D59E-DAED-4A0C-A7EB-932C360A1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943D-FA14-457B-90A6-1B2F6EE7B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5181840" cy="5639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273C-B56C-4545-960C-A6C2A0E70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5639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5"/>
          <p:cNvSpPr txBox="1"/>
          <p:nvPr/>
        </p:nvSpPr>
        <p:spPr>
          <a:xfrm>
            <a:off x="2057400" y="1371600"/>
            <a:ext cx="54864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hank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1932-63E8-48BA-8EE8-14B36345E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762120" y="1353960"/>
            <a:ext cx="7619760" cy="484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fluxes are restricted and move selectively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trans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ents, respiratory gases, and wastes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irection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is the only fluid that circulates throug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dy and links external and 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molalities of all body fluids are equal;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lute concentrations are quickly follow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motic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762120" y="649440"/>
            <a:ext cx="7696080" cy="61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xtracellular and Intracellular Flui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42DF-8AD1-4E95-B05E-4D28FB4C2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849320" y="685800"/>
            <a:ext cx="531360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600120" y="5649840"/>
            <a:ext cx="42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exchange of Body Flu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BCED-7298-4E86-8B98-CB3DFA473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8040"/>
            <a:ext cx="7162920" cy="534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rcRect l="0" t="756" r="0" b="3879"/>
          <a:stretch/>
        </p:blipFill>
        <p:spPr>
          <a:xfrm>
            <a:off x="1371600" y="1371600"/>
            <a:ext cx="6477120" cy="491508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9AED-77BC-4689-8880-7DF93B791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0488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mes And Osmolarities of ECF and ICF 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In Abnormal 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factors can cause the ch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hyd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travenous infusion (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bnormal swe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tc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A3FA-7EA6-4D04-8FBE-B69D09D14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868320"/>
            <a:ext cx="662940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Changes in  volume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me contr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ume expa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14B4-78E6-43C1-B68E-C7307F70E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ounded Rectangle 5"/>
          <p:cNvSpPr/>
          <p:nvPr/>
        </p:nvSpPr>
        <p:spPr>
          <a:xfrm>
            <a:off x="1523880" y="2286000"/>
            <a:ext cx="2057400" cy="533520"/>
          </a:xfrm>
          <a:prstGeom prst="roundRect">
            <a:avLst>
              <a:gd name="adj" fmla="val 16667"/>
            </a:avLst>
          </a:prstGeom>
          <a:solidFill>
            <a:srgbClr val="9999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4"/>
          <p:cNvSpPr/>
          <p:nvPr/>
        </p:nvSpPr>
        <p:spPr>
          <a:xfrm>
            <a:off x="5943600" y="22096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39360"/>
            <a:ext cx="7620120" cy="80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nges in  volu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olume con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moving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4953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olume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Arial"/>
              </a:rPr>
              <a:t>Adding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6"/>
          <p:cNvSpPr/>
          <p:nvPr/>
        </p:nvSpPr>
        <p:spPr>
          <a:xfrm>
            <a:off x="685800" y="1523880"/>
            <a:ext cx="3809880" cy="4724640"/>
          </a:xfrm>
          <a:custGeom>
            <a:avLst/>
            <a:gdLst>
              <a:gd name="textAreaLeft" fmla="*/ 185760 w 3809880"/>
              <a:gd name="textAreaRight" fmla="*/ 3624120 w 3809880"/>
              <a:gd name="textAreaTop" fmla="*/ 185760 h 4724640"/>
              <a:gd name="textAreaBottom" fmla="*/ 4538880 h 4724640"/>
            </a:gdLst>
            <a:ahLst/>
            <a:rect l="textAreaLeft" t="textAreaTop" r="textAreaRight" b="textAreaBottom"/>
            <a:pathLst>
              <a:path w="21600" h="26786">
                <a:moveTo>
                  <a:pt x="3600" y="0"/>
                </a:moveTo>
                <a:arcTo wR="3600" hR="3600" stAng="16200000" swAng="-5400000"/>
                <a:lnTo>
                  <a:pt x="0" y="23186"/>
                </a:lnTo>
                <a:arcTo wR="3600" hR="3600" stAng="10800000" swAng="-5400000"/>
                <a:lnTo>
                  <a:pt x="18000" y="26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7"/>
          <p:cNvSpPr/>
          <p:nvPr/>
        </p:nvSpPr>
        <p:spPr>
          <a:xfrm>
            <a:off x="4572000" y="1523880"/>
            <a:ext cx="3886200" cy="4724640"/>
          </a:xfrm>
          <a:custGeom>
            <a:avLst/>
            <a:gdLst>
              <a:gd name="textAreaLeft" fmla="*/ 189720 w 3886200"/>
              <a:gd name="textAreaRight" fmla="*/ 3696480 w 3886200"/>
              <a:gd name="textAreaTop" fmla="*/ 189720 h 4724640"/>
              <a:gd name="textAreaBottom" fmla="*/ 4534920 h 4724640"/>
            </a:gdLst>
            <a:ahLst/>
            <a:rect l="textAreaLeft" t="textAreaTop" r="textAreaRight" b="textAreaBottom"/>
            <a:pathLst>
              <a:path w="21600" h="26260">
                <a:moveTo>
                  <a:pt x="3600" y="0"/>
                </a:moveTo>
                <a:arcTo wR="3600" hR="3600" stAng="16200000" swAng="-5400000"/>
                <a:lnTo>
                  <a:pt x="0" y="22660"/>
                </a:lnTo>
                <a:arcTo wR="3600" hR="3600" stAng="10800000" swAng="-5400000"/>
                <a:lnTo>
                  <a:pt x="18000" y="262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0581-3C81-4B9F-95B2-13822DAE6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001"/>
          <p:cNvPicPr/>
          <p:nvPr/>
        </p:nvPicPr>
        <p:blipFill>
          <a:blip r:embed="rId1"/>
          <a:srcRect l="0" t="2892" r="38750" b="37778"/>
          <a:stretch/>
        </p:blipFill>
        <p:spPr>
          <a:xfrm>
            <a:off x="692280" y="706320"/>
            <a:ext cx="7772400" cy="5542200"/>
          </a:xfrm>
          <a:prstGeom prst="rect">
            <a:avLst/>
          </a:prstGeom>
          <a:ln w="25560">
            <a:solidFill>
              <a:srgbClr val="2d2d8a"/>
            </a:solidFill>
            <a:miter/>
          </a:ln>
        </p:spPr>
      </p:pic>
      <p:sp>
        <p:nvSpPr>
          <p:cNvPr id="112" name="Rounded Rectangle 2"/>
          <p:cNvSpPr/>
          <p:nvPr/>
        </p:nvSpPr>
        <p:spPr>
          <a:xfrm>
            <a:off x="5257800" y="3328920"/>
            <a:ext cx="3116160" cy="2684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927000" y="792000"/>
            <a:ext cx="463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- Loss of iso-osmotic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Diarrh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4"/>
          <p:cNvSpPr/>
          <p:nvPr/>
        </p:nvSpPr>
        <p:spPr>
          <a:xfrm>
            <a:off x="851040" y="3740040"/>
            <a:ext cx="3263760" cy="221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3D2A-F794-48A5-A62A-0B2109B62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bdullah AlDeghaither</dc:creator>
  <dc:description/>
  <dc:language>en-US</dc:language>
  <cp:lastModifiedBy>aboo alde</cp:lastModifiedBy>
  <dcterms:modified xsi:type="dcterms:W3CDTF">2015-08-31T12:07:51Z</dcterms:modified>
  <cp:revision>2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