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20.jpeg" ContentType="image/jpeg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8.wmf" ContentType="image/x-wmf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A46-B9DB-4BD8-9CE3-2228390C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200-9AEF-42D5-B0BC-BF786F4C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7AA-657B-4E7C-BA26-D7C69EFB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7EA-36F3-4B52-8FD4-8A269277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DD2-5703-4F0A-8C5A-A801961D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ADC-7B6D-4E72-A896-B39968F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84FE-119E-43E7-872E-53406EA1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F046-32B4-469C-9E84-3AD98B5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771E-FD94-4EA5-A04D-39B713D3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E8A0-51FB-43E4-A508-1BC28E8B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461E-E771-4A15-BB6A-F7696A9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502-F48D-42E2-942F-C511EDA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9759-86DE-430E-87C7-B51F2D9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669B-C2F6-49EE-A673-35C0AB6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DDDE-FD65-40EC-89EE-86487247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A98F-6BC8-4EBE-913B-BECB4F7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7C9-17FC-40C1-959B-F9BB52B1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C15-82AB-4130-9BE2-38FD70B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B71-43A4-41C0-8CFF-2DAEB9B2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9A0-D404-4210-A88D-D37D1AC6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57B-BF63-45BD-A306-03FFA9D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46D-9646-40F0-BABC-0EE960D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8EB-AE13-458D-ADC0-A2FB478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04A-119E-44BA-B8DB-C9C1962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B230-E4E0-48FA-8EC8-BE7D0035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0E5-0D19-4F67-9A72-E04E260D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Foundation Block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Homeosta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05120" y="301932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C13-5E6D-49AB-A248-289F29FA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76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lume contr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7760"/>
            <a:ext cx="7619760" cy="4259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osmolarity of fluid lost ≈ osmolarity of EC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oss of isosmotic flu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 volume in E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  arterial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>
            <a:off x="3504960" y="4114800"/>
            <a:ext cx="1080" cy="53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19" name="Straight Arrow Connector 8"/>
          <p:cNvCxnSpPr/>
          <p:nvPr/>
        </p:nvCxnSpPr>
        <p:spPr>
          <a:xfrm>
            <a:off x="3504960" y="5029200"/>
            <a:ext cx="1080" cy="53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0966-6584-4799-BFFB-C1B393FC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3554280" y="1089000"/>
            <a:ext cx="4903920" cy="4468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62120" y="1219320"/>
            <a:ext cx="4044960" cy="1373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oss of 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Water 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724280" y="5373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per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"/>
          <p:cNvSpPr/>
          <p:nvPr/>
        </p:nvSpPr>
        <p:spPr>
          <a:xfrm>
            <a:off x="3733920" y="3048120"/>
            <a:ext cx="4724280" cy="29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DDE-5357-4F69-8B5B-2A1EF25E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268280"/>
            <a:ext cx="762012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  depriv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5"/>
          <p:cNvCxnSpPr/>
          <p:nvPr/>
        </p:nvCxnSpPr>
        <p:spPr>
          <a:xfrm flipV="1">
            <a:off x="2665800" y="3657240"/>
            <a:ext cx="252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8" name="Straight Arrow Connector 7"/>
          <p:cNvCxnSpPr/>
          <p:nvPr/>
        </p:nvCxnSpPr>
        <p:spPr>
          <a:xfrm flipH="1">
            <a:off x="2666160" y="4647960"/>
            <a:ext cx="2520" cy="5338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ECDF-1E56-4B4A-98E9-B782F4159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01"/>
          <p:cNvPicPr/>
          <p:nvPr/>
        </p:nvPicPr>
        <p:blipFill>
          <a:blip r:embed="rId1"/>
          <a:srcRect l="39052" t="2222" r="38040" b="71592"/>
          <a:stretch/>
        </p:blipFill>
        <p:spPr>
          <a:xfrm>
            <a:off x="2971800" y="990720"/>
            <a:ext cx="3048120" cy="2612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533520" y="493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Loss of hypertonic sol. e.g. Adrenal insu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001"/>
          <p:cNvPicPr/>
          <p:nvPr/>
        </p:nvPicPr>
        <p:blipFill>
          <a:blip r:embed="rId2"/>
          <a:srcRect l="73100" t="32779" r="3332" b="40164"/>
          <a:stretch/>
        </p:blipFill>
        <p:spPr>
          <a:xfrm>
            <a:off x="2120760" y="3284640"/>
            <a:ext cx="3441960" cy="296388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5" descr=""/>
          <p:cNvPicPr/>
          <p:nvPr/>
        </p:nvPicPr>
        <p:blipFill>
          <a:blip r:embed="rId3"/>
          <a:stretch/>
        </p:blipFill>
        <p:spPr>
          <a:xfrm>
            <a:off x="1908000" y="4479840"/>
            <a:ext cx="506520" cy="139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4"/>
          <a:srcRect l="0" t="0" r="0" b="16523"/>
          <a:stretch/>
        </p:blipFill>
        <p:spPr>
          <a:xfrm>
            <a:off x="6019920" y="1066680"/>
            <a:ext cx="2430360" cy="1600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5486400" y="5257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6"/>
          <p:cNvSpPr/>
          <p:nvPr/>
        </p:nvSpPr>
        <p:spPr>
          <a:xfrm>
            <a:off x="1600200" y="3200400"/>
            <a:ext cx="6019920" cy="312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086F-CB50-40FA-B7EE-46C277A9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6934320" cy="465156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ss of hypertonic solutio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e.g. Adrenal insufficiency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.e. Aldosterone defici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 the EC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osmolarity in both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 in ECF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 in ICF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286000" y="37339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286000" y="43434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2286000" y="5334120"/>
            <a:ext cx="0" cy="304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80D-7600-4532-A87F-E1261D0C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2"/>
          <p:cNvSpPr/>
          <p:nvPr/>
        </p:nvSpPr>
        <p:spPr>
          <a:xfrm>
            <a:off x="3429000" y="2971800"/>
            <a:ext cx="2057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2AA-0A0E-4616-9836-FE5C824CA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67816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9CA5-DC98-4316-ADB6-7F798B4FB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609480" y="685800"/>
            <a:ext cx="792504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le 2"/>
          <p:cNvSpPr/>
          <p:nvPr/>
        </p:nvSpPr>
        <p:spPr>
          <a:xfrm>
            <a:off x="5272200" y="1311120"/>
            <a:ext cx="3012840" cy="243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58880" y="4651200"/>
            <a:ext cx="456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2EC-C102-4E12-9BBA-F406827F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866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34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8"/>
          <p:cNvCxnSpPr/>
          <p:nvPr/>
        </p:nvCxnSpPr>
        <p:spPr>
          <a:xfrm flipV="1">
            <a:off x="1980720" y="2133000"/>
            <a:ext cx="108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094-133C-449B-8E25-7615FC70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add saline.jpg"/>
          <p:cNvPicPr/>
          <p:nvPr/>
        </p:nvPicPr>
        <p:blipFill>
          <a:blip r:embed="rId1"/>
          <a:srcRect l="3626" t="4036" r="4312" b="9072"/>
          <a:stretch/>
        </p:blipFill>
        <p:spPr>
          <a:xfrm>
            <a:off x="907920" y="609480"/>
            <a:ext cx="7398000" cy="566604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le 2"/>
          <p:cNvSpPr/>
          <p:nvPr/>
        </p:nvSpPr>
        <p:spPr>
          <a:xfrm>
            <a:off x="1046160" y="3859200"/>
            <a:ext cx="3581280" cy="220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3"/>
          <p:cNvSpPr/>
          <p:nvPr/>
        </p:nvSpPr>
        <p:spPr>
          <a:xfrm>
            <a:off x="5146560" y="1260360"/>
            <a:ext cx="289584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4994280" y="3774960"/>
            <a:ext cx="31590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47360" y="4917960"/>
            <a:ext cx="46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- High NaCl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4A1-1F6E-47CD-BC5A-AB7A41B0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8520" y="761760"/>
            <a:ext cx="6895800" cy="78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id Compar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914400" y="1549440"/>
            <a:ext cx="7238880" cy="469908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2A51-1132-4D66-86EA-702D4A7F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1760" y="1160280"/>
            <a:ext cx="754380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 flipV="1">
            <a:off x="1676520" y="24703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1676520" y="3581280"/>
            <a:ext cx="0" cy="3812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752480" y="3994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676520" y="3003120"/>
            <a:ext cx="0" cy="3812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7"/>
          <p:cNvCxnSpPr/>
          <p:nvPr/>
        </p:nvCxnSpPr>
        <p:spPr>
          <a:xfrm flipV="1">
            <a:off x="1673640" y="4147560"/>
            <a:ext cx="2520" cy="4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B23-473E-43BA-954B-00C809CA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add saline.jpg"/>
          <p:cNvPicPr/>
          <p:nvPr/>
        </p:nvPicPr>
        <p:blipFill>
          <a:blip r:embed="rId1"/>
          <a:srcRect l="4527" t="52741" r="50003" b="9001"/>
          <a:stretch/>
        </p:blipFill>
        <p:spPr>
          <a:xfrm>
            <a:off x="2114640" y="3581280"/>
            <a:ext cx="3905280" cy="2667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hypotonic solution e.g. Syndrome of inappropriate antidiurtic hormone (SI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 flipV="1">
            <a:off x="1066680" y="205740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1066680" y="266688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add saline.jpg"/>
          <p:cNvPicPr/>
          <p:nvPr/>
        </p:nvPicPr>
        <p:blipFill>
          <a:blip r:embed="rId2"/>
          <a:srcRect l="5638" t="13101" r="54970" b="47272"/>
          <a:stretch/>
        </p:blipFill>
        <p:spPr>
          <a:xfrm>
            <a:off x="5175360" y="1600200"/>
            <a:ext cx="33591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Rounded Rectangle 7"/>
          <p:cNvSpPr/>
          <p:nvPr/>
        </p:nvSpPr>
        <p:spPr>
          <a:xfrm>
            <a:off x="2057400" y="3733920"/>
            <a:ext cx="37339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E4C-8EAC-4549-A87D-8B9B6CBB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2"/>
          <p:cNvSpPr/>
          <p:nvPr/>
        </p:nvSpPr>
        <p:spPr>
          <a:xfrm>
            <a:off x="3505320" y="1905120"/>
            <a:ext cx="2057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"/>
          <p:cNvSpPr/>
          <p:nvPr/>
        </p:nvSpPr>
        <p:spPr>
          <a:xfrm>
            <a:off x="3657600" y="4267080"/>
            <a:ext cx="2057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7A1E-9EC7-4B67-A9E8-6A6F3DA4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7229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 flipH="1">
            <a:off x="2286000" y="2286000"/>
            <a:ext cx="228600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4572000" y="2286000"/>
            <a:ext cx="19051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Diagram 5" descr=""/>
          <p:cNvPicPr/>
          <p:nvPr/>
        </p:nvPicPr>
        <p:blipFill>
          <a:blip r:embed="rId1"/>
          <a:stretch/>
        </p:blipFill>
        <p:spPr>
          <a:xfrm>
            <a:off x="1054080" y="841320"/>
            <a:ext cx="6730920" cy="4853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609480" y="56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own Arrow 7"/>
          <p:cNvSpPr/>
          <p:nvPr/>
        </p:nvSpPr>
        <p:spPr>
          <a:xfrm rot="1881000">
            <a:off x="7889760" y="2755440"/>
            <a:ext cx="370080" cy="1143000"/>
          </a:xfrm>
          <a:prstGeom prst="downArrow">
            <a:avLst>
              <a:gd name="adj1" fmla="val 50000"/>
              <a:gd name="adj2" fmla="val 51061"/>
            </a:avLst>
          </a:prstGeom>
          <a:solidFill>
            <a:srgbClr val="7030a0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611-A79A-401E-A453-631ABD43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457200" y="3808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343400" y="431640"/>
            <a:ext cx="4235400" cy="2819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subcutaneous.net/wp-content/uploads/2011/05/Subcutaneous-Oedema.jpg"/>
          <p:cNvPicPr/>
          <p:nvPr/>
        </p:nvPicPr>
        <p:blipFill>
          <a:blip r:embed="rId4"/>
          <a:srcRect l="14763" t="14430" r="12002" b="16101"/>
          <a:stretch/>
        </p:blipFill>
        <p:spPr>
          <a:xfrm>
            <a:off x="4343400" y="3289320"/>
            <a:ext cx="4267080" cy="30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5"/>
          <a:stretch/>
        </p:blipFill>
        <p:spPr>
          <a:xfrm>
            <a:off x="2633760" y="4114800"/>
            <a:ext cx="1595520" cy="2200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6"/>
          <a:stretch/>
        </p:blipFill>
        <p:spPr>
          <a:xfrm>
            <a:off x="609480" y="4114800"/>
            <a:ext cx="1876680" cy="22003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752-0A2B-4456-9F76-2AC5F1F8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 flipV="1">
            <a:off x="1752480" y="28195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200400" y="3276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 flipV="1">
            <a:off x="1828800" y="3733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3200400" y="43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3200400" y="5334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Diagram 10" descr=""/>
          <p:cNvPicPr/>
          <p:nvPr/>
        </p:nvPicPr>
        <p:blipFill>
          <a:blip r:embed="rId1"/>
          <a:stretch/>
        </p:blipFill>
        <p:spPr>
          <a:xfrm>
            <a:off x="2077920" y="2004840"/>
            <a:ext cx="5675400" cy="417060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12"/>
          <p:cNvCxnSpPr/>
          <p:nvPr/>
        </p:nvCxnSpPr>
        <p:spPr>
          <a:xfrm flipV="1">
            <a:off x="3273840" y="3351960"/>
            <a:ext cx="252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Straight Arrow Connector 15"/>
          <p:cNvCxnSpPr/>
          <p:nvPr/>
        </p:nvCxnSpPr>
        <p:spPr>
          <a:xfrm flipV="1">
            <a:off x="3808440" y="4419360"/>
            <a:ext cx="2160" cy="3816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06" name="Rectangle 16"/>
          <p:cNvSpPr/>
          <p:nvPr/>
        </p:nvSpPr>
        <p:spPr>
          <a:xfrm>
            <a:off x="609480" y="685800"/>
            <a:ext cx="8001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4D5-E8AD-4B4A-B867-C86CBE19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nottinghamchildhealth.org.uk/CAL/inotropes/Capillary%20bed.gif"/>
          <p:cNvPicPr/>
          <p:nvPr/>
        </p:nvPicPr>
        <p:blipFill>
          <a:blip r:embed="rId2"/>
          <a:stretch/>
        </p:blipFill>
        <p:spPr>
          <a:xfrm>
            <a:off x="1523880" y="1981080"/>
            <a:ext cx="6096240" cy="4199040"/>
          </a:xfrm>
          <a:prstGeom prst="rect">
            <a:avLst/>
          </a:prstGeom>
          <a:ln w="76320">
            <a:solidFill>
              <a:srgbClr val="0d0d0d"/>
            </a:solidFill>
            <a:miter/>
          </a:ln>
        </p:spPr>
      </p:pic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428480" y="106668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3200400" y="199548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 flipV="1">
            <a:off x="1752480" y="2529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3200400" y="29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 flipV="1">
            <a:off x="1828800" y="34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200400" y="40528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3200400" y="504360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Diagram 10" descr=""/>
          <p:cNvPicPr/>
          <p:nvPr/>
        </p:nvPicPr>
        <p:blipFill>
          <a:blip r:embed="rId1"/>
          <a:stretch/>
        </p:blipFill>
        <p:spPr>
          <a:xfrm>
            <a:off x="1463760" y="1390680"/>
            <a:ext cx="6192720" cy="49863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2"/>
          <p:cNvCxnSpPr/>
          <p:nvPr/>
        </p:nvCxnSpPr>
        <p:spPr>
          <a:xfrm flipV="1">
            <a:off x="2057040" y="2604600"/>
            <a:ext cx="108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0ADF-D982-4ECD-B3DC-053158D9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95B5-6D52-4FF6-AC7A-27DDA668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18184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054-9F3A-4979-BA20-D31675BBB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FEE-2E55-4CC4-B7DC-33E17741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762120" y="1353960"/>
            <a:ext cx="7619760" cy="484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luxes are restricted and move selectively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, respiratory gases, and waste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rect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is the only fluid that circulates throug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and links external and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molalities of all body fluids are equal;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lute concentrations are quickly follow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moti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62120" y="649440"/>
            <a:ext cx="769608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tracellular and Intracellular Flui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CA75-48C1-4FE7-8A60-E21CAE86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849320" y="685800"/>
            <a:ext cx="531360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00120" y="564984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CA9-0894-4177-A02C-E7FA774E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8040"/>
            <a:ext cx="716292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371600" y="1371600"/>
            <a:ext cx="6477120" cy="491508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4C32-7BDE-4B04-9E9A-9D315552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s And Osmolarities of ECF and ICF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n Abnormal 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actors can cause the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hyd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ravenous infusion (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bnormal sw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620-5E38-4BA5-924B-A0169709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868320"/>
            <a:ext cx="662940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CF35-72AF-44BE-96C3-ECD88C8BF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5"/>
          <p:cNvSpPr/>
          <p:nvPr/>
        </p:nvSpPr>
        <p:spPr>
          <a:xfrm>
            <a:off x="1523880" y="2286000"/>
            <a:ext cx="2057400" cy="53352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5943600" y="22096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in 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m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ovin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953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m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Addin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6"/>
          <p:cNvSpPr/>
          <p:nvPr/>
        </p:nvSpPr>
        <p:spPr>
          <a:xfrm>
            <a:off x="685800" y="1523880"/>
            <a:ext cx="3809880" cy="472464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4724640"/>
              <a:gd name="textAreaBottom" fmla="*/ 4538880 h 4724640"/>
            </a:gdLst>
            <a:ahLst/>
            <a:rect l="textAreaLeft" t="textAreaTop" r="textAreaRight" b="textAreaBottom"/>
            <a:pathLst>
              <a:path w="21600" h="26786">
                <a:moveTo>
                  <a:pt x="3600" y="0"/>
                </a:moveTo>
                <a:arcTo wR="3600" hR="3600" stAng="16200000" swAng="-5400000"/>
                <a:lnTo>
                  <a:pt x="0" y="23186"/>
                </a:lnTo>
                <a:arcTo wR="3600" hR="3600" stAng="10800000" swAng="-5400000"/>
                <a:lnTo>
                  <a:pt x="18000" y="26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4572000" y="1523880"/>
            <a:ext cx="3886200" cy="472464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724640"/>
              <a:gd name="textAreaBottom" fmla="*/ 4534920 h 4724640"/>
            </a:gdLst>
            <a:ahLst/>
            <a:rect l="textAreaLeft" t="textAreaTop" r="textAreaRight" b="textAreaBottom"/>
            <a:pathLst>
              <a:path w="21600" h="26260">
                <a:moveTo>
                  <a:pt x="3600" y="0"/>
                </a:moveTo>
                <a:arcTo wR="3600" hR="3600" stAng="16200000" swAng="-5400000"/>
                <a:lnTo>
                  <a:pt x="0" y="22660"/>
                </a:lnTo>
                <a:arcTo wR="3600" hR="3600" stAng="10800000" swAng="-5400000"/>
                <a:lnTo>
                  <a:pt x="18000" y="26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3D1-BDD6-479D-A862-66E40A38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692280" y="706320"/>
            <a:ext cx="7772400" cy="5542200"/>
          </a:xfrm>
          <a:prstGeom prst="rect">
            <a:avLst/>
          </a:prstGeom>
          <a:ln w="25560">
            <a:solidFill>
              <a:srgbClr val="2d2d8a"/>
            </a:solidFill>
            <a:miter/>
          </a:ln>
        </p:spPr>
      </p:pic>
      <p:sp>
        <p:nvSpPr>
          <p:cNvPr id="112" name="Rounded Rectangle 2"/>
          <p:cNvSpPr/>
          <p:nvPr/>
        </p:nvSpPr>
        <p:spPr>
          <a:xfrm>
            <a:off x="5257800" y="3328920"/>
            <a:ext cx="3116160" cy="2684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27000" y="792000"/>
            <a:ext cx="46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4"/>
          <p:cNvSpPr/>
          <p:nvPr/>
        </p:nvSpPr>
        <p:spPr>
          <a:xfrm>
            <a:off x="851040" y="3740040"/>
            <a:ext cx="3263760" cy="221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5E8-B6A6-4963-B4CF-C159FF1F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lah AlDeghaither</dc:creator>
  <dc:description/>
  <dc:language>en-US</dc:language>
  <cp:lastModifiedBy>aboo alde</cp:lastModifiedBy>
  <dcterms:modified xsi:type="dcterms:W3CDTF">2015-08-31T12:07:51Z</dcterms:modified>
  <cp:revision>2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