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CAC-6459-4024-A659-67AFB4489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F3C2-4B5C-4F35-8D23-5C95F58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185-0E09-4A1D-8D0E-C59DA456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FB9-DC73-4E67-965E-28F47E13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171E-1FDF-461A-97CE-3A3883F1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C05-1627-4696-AF28-BCB81B7C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481-4EFD-480A-B757-324B7DE2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171-538A-4AEE-B45B-CAA0FC36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B9C-8EF4-472B-BE25-14649D2F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AAA-87FE-4326-A15A-6BE06A8B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C8D-D461-45AC-B1E9-A00D9E60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870-35D5-4429-AFFB-9F0BA19A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FD1-C1D5-4571-80D8-09B294F03532}" type="slidenum">
              <a:rPr b="0" lang="ar-SA" sz="18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studentconsult.com/content/bookcontent.cfm?ID=HC002024&amp;channel=toc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studentconsult.com/content/bookcontent.cfm?ID=HC002024&amp;channel=toc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studentconsult.com/content/bookcontent.cfm?ID=HC002024&amp;channel=toc" TargetMode="External"/><Relationship Id="rId6" Type="http://schemas.openxmlformats.org/officeDocument/2006/relationships/image" Target="../media/image11.png"/><Relationship Id="rId7" Type="http://schemas.openxmlformats.org/officeDocument/2006/relationships/hyperlink" Target="http://www.studentconsult.com/content/bookcontent.cfm?ID=HC002024&amp;channel=toc" TargetMode="External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ohammed Alzoghaibi, Ph.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malzoghaibi@ksu.edu.s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zzoghaibi@gmail.co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0506338400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neurons release nor-epinephrine and the receptor is adreno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holinergic neurons release Ach and the receptor is cholinergic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1680" y="12193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perates continuously to modulate the functions of many organ systems e.g; heart, blood vessels, gastrointestinal tract, bronchi and sweat gland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tressful stimulation activates SNS leads to a response known as “fight or flight”: 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increased arterial pressure, blood flow, blood glucose, metabolic rate and mental activity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1224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1680" y="14479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preganglionic neurons originate from thoracolumbar spinal cord (T1-L3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NS ganglia are located near the spinal cord either in the paravertebral ganglia (sympathetic chain) or in the prevertebral ganglia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s are short and the post ganglionic neurons are long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06" name="Picture 3" descr="showimage.jpg"/>
          <p:cNvPicPr/>
          <p:nvPr/>
        </p:nvPicPr>
        <p:blipFill>
          <a:blip r:embed="rId1"/>
          <a:stretch/>
        </p:blipFill>
        <p:spPr>
          <a:xfrm>
            <a:off x="2286000" y="914400"/>
            <a:ext cx="4535640" cy="59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hysioMZ 006"/>
          <p:cNvPicPr/>
          <p:nvPr/>
        </p:nvPicPr>
        <p:blipFill>
          <a:blip r:embed="rId1"/>
          <a:srcRect l="72" t="88" r="0" b="3089"/>
          <a:stretch/>
        </p:blipFill>
        <p:spPr>
          <a:xfrm>
            <a:off x="990720" y="1676520"/>
            <a:ext cx="7162560" cy="4432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Sympathetic Nervous System (cont.)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s are always cholinerg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lease Ach, interacts with nicotinic receptors on the cell body of postganglionic neur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ganglionic neurons are adrenergic except in thermoregulatory sweat glands (muscranic, cholinergic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neurons affect adrenorecepters: alph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alph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, beta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fibers originate from cranial nuclei in brain stem (mid brain, pons, medulla) and in sacral segments (S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S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Garamond"/>
              </a:rPr>
              <a:t>4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) (Craniosacral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arasympathetic ganglia are located on or in the affected orga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reganglionic neuron has long axon and postganglionic neuron has short ax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5" name="Picture 3" descr="showimage.jpg"/>
          <p:cNvPicPr/>
          <p:nvPr/>
        </p:nvPicPr>
        <p:blipFill>
          <a:blip r:embed="rId1"/>
          <a:stretch/>
        </p:blipFill>
        <p:spPr>
          <a:xfrm>
            <a:off x="2341440" y="914400"/>
            <a:ext cx="4429080" cy="577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Learning Objectives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Nervous System (SNS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Nervous System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Neurotransmitters and types of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l preganglionic neurons are cholinergic, release Ach which interacts with nicot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ganglionic neurons are cholinergic, release Ach which interacts with muscrinic receptor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19" name="Picture 3" descr="showimage.jpg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81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olinorecptors</a:t>
            </a: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57240"/>
            <a:ext cx="8510400" cy="79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Adrenoreceptors</a:t>
            </a:r>
            <a:endParaRPr b="1" lang="en-US" sz="44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46160" y="723600"/>
            <a:ext cx="899784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ound in vascular smooth muscle, GI sphincters and bladder, radial muscle of iri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contraction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:  is fou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n the following tissue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.A node          heart rate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V node           conduction veloc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Ventricular muscle        contractility.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alivary gland        salivary secretions,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but  enzymes production)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receptor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found in vascular smooth muscle wall of bladder, and wall of GI. 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ctivation of </a:t>
            </a: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        relaxa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more sensitive to Epinephrine than Nor-epinephrine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048120" y="18352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 flipV="1">
            <a:off x="3581280" y="16045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43200" y="31237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2160720" y="32767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3505320" y="3733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2211480" y="27925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V="1">
            <a:off x="2743200" y="26395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3276720" y="403812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2743200" y="41911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Line 29"/>
          <p:cNvSpPr/>
          <p:nvPr/>
        </p:nvSpPr>
        <p:spPr>
          <a:xfrm flipV="1">
            <a:off x="4038480" y="347940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3048120" y="617220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receptor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6" name="Picture 3" descr="showimage.jpg"/>
          <p:cNvPicPr/>
          <p:nvPr/>
        </p:nvPicPr>
        <p:blipFill>
          <a:blip r:embed="rId1"/>
          <a:stretch/>
        </p:blipFill>
        <p:spPr>
          <a:xfrm>
            <a:off x="838080" y="861840"/>
            <a:ext cx="7518600" cy="57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l-GR" sz="36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l-GR" sz="40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recepto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38" name="Picture 3" descr="showimage.jpg"/>
          <p:cNvPicPr/>
          <p:nvPr/>
        </p:nvPicPr>
        <p:blipFill>
          <a:blip r:embed="rId1"/>
          <a:stretch/>
        </p:blipFill>
        <p:spPr>
          <a:xfrm>
            <a:off x="838080" y="1066680"/>
            <a:ext cx="762948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680" y="12189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Nicotinic receptor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an ion channel for Na+ and K+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in all postganglionic neurons, motor end plate at skeletal muscle and chromaffin cell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uscurinic Receptor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Works either like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adrenoreceptor via PKC, DAC and IP3 or via G protein which has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subunit that binds K+ channel and open it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physioMZ 007"/>
          <p:cNvPicPr/>
          <p:nvPr/>
        </p:nvPicPr>
        <p:blipFill>
          <a:blip r:embed="rId1"/>
          <a:srcRect l="0" t="0" r="0" b="1972"/>
          <a:stretch/>
        </p:blipFill>
        <p:spPr>
          <a:xfrm>
            <a:off x="228600" y="1447920"/>
            <a:ext cx="8686800" cy="4494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Cholinorecepter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ceptors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(in summary)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type of receptor and its mechanism of action determine the physiologic respons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g. </a:t>
            </a:r>
            <a:r>
              <a:rPr b="1" lang="el-GR" sz="3200" spc="-1" strike="noStrike">
                <a:solidFill>
                  <a:srgbClr val="ffff00"/>
                </a:solidFill>
                <a:latin typeface="Garamond"/>
              </a:rPr>
              <a:t>β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receptor in SA node and in ventricular muscle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A node: activation of SA node by the agonist (nor-epinephrine)           heart rate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ventricular muscles          contractility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V="1">
            <a:off x="5943600" y="4648320"/>
            <a:ext cx="0" cy="30456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4343400" y="5410080"/>
            <a:ext cx="457200" cy="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 flipV="1">
            <a:off x="4952880" y="5257440"/>
            <a:ext cx="0" cy="304920"/>
          </a:xfrm>
          <a:prstGeom prst="line">
            <a:avLst/>
          </a:prstGeom>
          <a:ln w="3816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totypes of Agonists and Antagonists to Autonomic Receptors</a:t>
            </a:r>
            <a:endParaRPr b="1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066680"/>
          <a:ext cx="8839440" cy="5748480"/>
        </p:xfrm>
        <a:graphic>
          <a:graphicData uri="http://schemas.openxmlformats.org/drawingml/2006/table">
            <a:tbl>
              <a:tblPr/>
              <a:tblGrid>
                <a:gridCol w="2946600"/>
                <a:gridCol w="2946240"/>
                <a:gridCol w="294660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cept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ntagonist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drenoreceptor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oxybenz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henyl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azosin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α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lonid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Yohimb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or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Metopr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β</a:t>
                      </a:r>
                      <a:r>
                        <a:rPr b="1" lang="en-US" sz="1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Epineph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ropranol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Isoproteren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toxam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Albuterol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holinoreceptors</a:t>
                      </a:r>
                      <a:endParaRPr b="0" lang="en-US" sz="20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icot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urar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Nicotine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</a:t>
                      </a: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examethonium (blocks ganglionic receptor but not neuromuscular junction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ic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Ch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Atrop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uscarin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Calibri"/>
                        </a:rPr>
                        <a:t>Carbachol 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1" descr="View drug inform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View drug informatio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View drug informatio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View drug informatio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0"/>
            <a:ext cx="8568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AND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The motor efferent nervous system has two components: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Somatic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- Autonom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Somatic Nervous System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a voluntary nervous system under conscious control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Garamond"/>
              </a:rPr>
              <a:t>consists of a single motoneuron and  skeletal muscle fibers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ympathetic and Parasympathetic Tone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role of them is to keep the stimulated organs in normal stag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xamples: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always keeps the blood vessel constricted ½ of its normal diameter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moval of vagus nerve       atony        loss of peristalsis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(contraction of small intestine)       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onstipation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7048440" y="55609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5410080" y="556092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7238880" y="4495680"/>
            <a:ext cx="38124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8082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 of loss of sympathetic and parasympathetic tone after denerva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1680" y="2663640"/>
            <a:ext cx="8540640" cy="29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Loss of sympathetic tone in blood vessel causes severe vasodilatation but after sometime, intrinsic tone increases by chemical adapta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Function of Adrenal Gland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timulation of sympathetic nerves causes large quantities of Epinephrine and Nor-epinephrine to be secreted in blood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effect of Epinephrine &amp; Nor-epinephrine lasts 5-10 times more than the ones which secreted from sympathetic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xamples of The Effects of Sympathetic and Parasympathetic 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10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Eyes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ympathetic stimulation contracts the meridional fibers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dilate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arasympathetic stimulation contracts the circular muscle of the iris to </a:t>
            </a: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constrict the pupil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ocusing of the lens is controlled by parasympathetic through contraction of ciliary muscle.</a:t>
            </a:r>
            <a:endParaRPr b="0" lang="en-US" sz="2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67" name="AutoShape 1037"/>
          <p:cNvSpPr/>
          <p:nvPr/>
        </p:nvSpPr>
        <p:spPr>
          <a:xfrm>
            <a:off x="155520" y="46080"/>
            <a:ext cx="5143680" cy="45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8" name="Picture 6" descr="Picture1.jpg"/>
          <p:cNvPicPr/>
          <p:nvPr/>
        </p:nvPicPr>
        <p:blipFill>
          <a:blip r:embed="rId1"/>
          <a:stretch/>
        </p:blipFill>
        <p:spPr>
          <a:xfrm>
            <a:off x="3070080" y="2892600"/>
            <a:ext cx="589608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Pupil Dilation and Constriction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0" name="Picture 5" descr="Picture3.jpg"/>
          <p:cNvPicPr/>
          <p:nvPr/>
        </p:nvPicPr>
        <p:blipFill>
          <a:blip r:embed="rId1"/>
          <a:stretch/>
        </p:blipFill>
        <p:spPr>
          <a:xfrm>
            <a:off x="217440" y="2432160"/>
            <a:ext cx="870912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Gland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Controlled by parasympathetic 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secretions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causes vasoconstriction      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ir rate of secreti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weat glands secretion: 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increased by sympathetic stimulation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617220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1066680" y="42663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1066680" y="30481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6934320" y="3809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78" name="Picture 4" descr="fig6-1"/>
          <p:cNvPicPr/>
          <p:nvPr/>
        </p:nvPicPr>
        <p:blipFill>
          <a:blip r:embed="rId1"/>
          <a:stretch/>
        </p:blipFill>
        <p:spPr>
          <a:xfrm>
            <a:off x="2438280" y="4572000"/>
            <a:ext cx="4370400" cy="2149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spcBef>
                <a:spcPts val="6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The Gastrointestinal tract (GI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Enteric nervous system</a:t>
            </a:r>
            <a:br>
              <a:rPr sz="2600"/>
            </a:b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Parasympathetic nervous system     the activity of GI tract (    peristaltic contraction, sphincter relaxation)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600" spc="-1" strike="noStrike">
                <a:solidFill>
                  <a:srgbClr val="ffff00"/>
                </a:solidFill>
                <a:latin typeface="Garamond"/>
              </a:rPr>
              <a:t>- Sympathetic           the activity of GI.</a:t>
            </a: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  <a:p>
            <a:pPr marL="222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3200400" y="411408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Line 10"/>
          <p:cNvSpPr/>
          <p:nvPr/>
        </p:nvSpPr>
        <p:spPr>
          <a:xfrm flipV="1">
            <a:off x="5410080" y="281952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2514600" y="4267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1905120" y="325296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3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28600" y="1904760"/>
            <a:ext cx="8763120" cy="442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he Heart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activity of the heart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arasympathetic stimulation doing the opposit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stemic Blood Vessel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Constricted by stimulation of sympathetic.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No effect of the parasympathetic except in certain areas, such as blushing of the face.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5181480" y="26668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 flipV="1">
            <a:off x="5791320" y="2468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4232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Effects of Sympathetic and Parasympathetic stimulation on specific organ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2282760"/>
            <a:ext cx="9144000" cy="442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rterial Pressure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Sympathetic stimulation         the cardiac output and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resistance to the blood flow and blood pressure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Parasympathetic         cardiac output and has no effect on blood vessels. 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3581280" y="510552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4267080" y="495216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 flipV="1">
            <a:off x="1600200" y="3428640"/>
            <a:ext cx="0" cy="30492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5638680" y="2905200"/>
            <a:ext cx="0" cy="30456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4952880" y="3124080"/>
            <a:ext cx="457200" cy="0"/>
          </a:xfrm>
          <a:prstGeom prst="line">
            <a:avLst/>
          </a:prstGeom>
          <a:ln w="57240">
            <a:solidFill>
              <a:srgbClr val="cecec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26" descr="physioMZ 005"/>
          <p:cNvPicPr/>
          <p:nvPr/>
        </p:nvPicPr>
        <p:blipFill>
          <a:blip r:embed="rId1"/>
          <a:stretch/>
        </p:blipFill>
        <p:spPr>
          <a:xfrm>
            <a:off x="762120" y="1600200"/>
            <a:ext cx="7423200" cy="4724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1680" y="121932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Most of the visceral functions of the body are regulated by autonomic reflex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ardiovascular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baroreceptor reflex: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t is stretch reflex in the main arteries such as carotid artery to detect the blood pressure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Gastrointestine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receptors in the nose and mouth send a signal to parasympathetic to notify the glands of mouth &amp; stomach to secrete the digestive juice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Urinary Bladder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Initiate the micturation by parasympathetic innervations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exual reflexes: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erection by parasympathetic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- ejaculation by sympathetic</a:t>
            </a:r>
            <a:endParaRPr b="0" lang="en-US" sz="24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Urinary Bladder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198" name="Picture 3" descr="showimage.jpg"/>
          <p:cNvPicPr/>
          <p:nvPr/>
        </p:nvPicPr>
        <p:blipFill>
          <a:blip r:embed="rId1"/>
          <a:stretch/>
        </p:blipFill>
        <p:spPr>
          <a:xfrm>
            <a:off x="380880" y="1585800"/>
            <a:ext cx="8382240" cy="40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Reflexes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1680" y="1142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 activation could occur in isolated portions such as: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heart regula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many sympathetic reflexes that regulate G.I. functio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parasympathetic usually causes specific localized response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- The effect of parasympathetic usually specifies to certain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organ</a:t>
            </a: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but sometimes there is a common effect of parasympathetic activity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by affecting the functions of some organs together such as rectal emptying and bladder emptying, salivary secretion and gastric secretion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00"/>
                </a:solidFill>
                <a:latin typeface="Garamond"/>
              </a:rPr>
              <a:t>The End</a:t>
            </a:r>
            <a:endParaRPr b="1" lang="en-US" sz="138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Picture1.jpg"/>
          <p:cNvPicPr/>
          <p:nvPr/>
        </p:nvPicPr>
        <p:blipFill>
          <a:blip r:embed="rId1"/>
          <a:stretch/>
        </p:blipFill>
        <p:spPr>
          <a:xfrm>
            <a:off x="1219320" y="1219320"/>
            <a:ext cx="6943680" cy="505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Somatic Nervous System 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of the Autonomic Nervous System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294920"/>
            <a:ext cx="51814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 involuntary nervous system that modulates and controls the function of visceral organ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utonomic nervous system (ANS) consists of two major divisions: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mpathetic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arasympathetic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S is activated by centers in spinal cord, brain stem and hypothalamus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S is operated by visceral reflex</a:t>
            </a:r>
            <a:endParaRPr b="0" lang="en-US" sz="2800" spc="-1" strike="noStrike">
              <a:solidFill>
                <a:srgbClr val="ffff00"/>
              </a:solidFill>
              <a:latin typeface="Garamond"/>
            </a:endParaRPr>
          </a:p>
        </p:txBody>
      </p:sp>
      <p:pic>
        <p:nvPicPr>
          <p:cNvPr id="91" name="Content Placeholder 5" descr="showimage.jpg"/>
          <p:cNvPicPr/>
          <p:nvPr/>
        </p:nvPicPr>
        <p:blipFill>
          <a:blip r:embed="rId1"/>
          <a:stretch/>
        </p:blipFill>
        <p:spPr>
          <a:xfrm>
            <a:off x="5029200" y="2112840"/>
            <a:ext cx="380988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302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447560"/>
            <a:ext cx="85406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rganization of autonomic nervous system  motor pathway consists of two neurons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reganglionic neuron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- Postganglionic neuron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Autonomic Nervous System (ANS)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ll preganglionic neurons release Acetylcholine (Ach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Post ganglionic neurons release either Ach, or norepinepherin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746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Terminology</a:t>
            </a:r>
            <a:endParaRPr b="1" lang="en-US" sz="40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1143000"/>
            <a:ext cx="854064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Sympathetic and parasympathetic are anatomic terms and refer to anatomic origin of preganglionic neurons in the centeral nervous system (CNS)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drenergic and Cholinergic terms are used to describe neurons of either division, according to which neurotransmitter they synthesize and release</a:t>
            </a:r>
            <a:endParaRPr b="0" lang="en-US" sz="3200" spc="-1" strike="noStrike">
              <a:solidFill>
                <a:srgbClr val="ffff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6:14:50Z</dcterms:created>
  <dc:creator>Abid Jaffery</dc:creator>
  <dc:description/>
  <dc:language>en-US</dc:language>
  <cp:lastModifiedBy>aboo alde</cp:lastModifiedBy>
  <dcterms:modified xsi:type="dcterms:W3CDTF">2015-09-01T11:58:55Z</dcterms:modified>
  <cp:revision>62</cp:revision>
  <dc:subject/>
  <dc:title>AUTONOMIC NERVOUS SYSTEM</dc:title>
</cp:coreProperties>
</file>