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863-B785-4486-B402-731A3392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AF6-268B-422B-BEC3-B9EECD5F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F14-4924-408F-BD8F-918CC163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18A-7498-498B-84EA-FDFD154A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491-C5BA-4883-932E-CBFD4B94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82A-A973-437F-85EB-74C4DFE6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330-CE03-47F2-8299-C05B25E5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12C-37A0-4CE1-BCAD-6ED9B89F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0CD-01F0-4273-A813-2B2A7E4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947-45A1-4093-A728-971DBF62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DFA-52C6-4EFD-95C1-D11091F5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1C8-222A-4C76-9E04-75AF3ED1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E19A-955C-4479-95D3-A5CF79F5FC01}" type="slidenum">
              <a:rPr b="0" lang="ar-SA" sz="18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tudentconsult.com/content/bookcontent.cfm?ID=HC002024&amp;channel=toc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studentconsult.com/content/bookcontent.cfm?ID=HC002024&amp;channel=toc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studentconsult.com/content/bookcontent.cfm?ID=HC002024&amp;channel=toc" TargetMode="External"/><Relationship Id="rId6" Type="http://schemas.openxmlformats.org/officeDocument/2006/relationships/image" Target="../media/image11.png"/><Relationship Id="rId7" Type="http://schemas.openxmlformats.org/officeDocument/2006/relationships/hyperlink" Target="http://www.studentconsult.com/content/bookcontent.cfm?ID=HC002024&amp;channel=toc" TargetMode="External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ohammed Alzoghaibi, Ph.D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alzoghaibi@ksu.edu.sa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zzoghaibi@gmail.com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0506338400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drenergic neurons release nor-epinephrine and the receptor is adrenoreceptor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holinergic neurons release Ach and the receptor is cholinergic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Sympathetic Nervous System (SNS)</a:t>
            </a:r>
            <a:endParaRPr b="1" lang="en-US" sz="4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224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Nervous System (S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680" y="12193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perates continuously to modulate the functions of many organ systems e.g; heart, blood vessels, gastrointestinal tract, bronchi and sweat gland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tressful stimulation activates SNS leads to a response known as “fight or flight”: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increased arterial pressure, blood flow, blood glucose, metabolic rate and mental activity 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1224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1680" y="14479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ympathetic preganglionic neurons originate from thoracolumbar spinal cord (T1-L3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NS ganglia are located near the spinal cord either in the paravertebral ganglia (sympathetic chain) or in the prevertebral ganglia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eganglionic neurons are short and the post ganglionic neurons are long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06" name="Picture 3" descr="showimage.jpg"/>
          <p:cNvPicPr/>
          <p:nvPr/>
        </p:nvPicPr>
        <p:blipFill>
          <a:blip r:embed="rId1"/>
          <a:stretch/>
        </p:blipFill>
        <p:spPr>
          <a:xfrm>
            <a:off x="2286000" y="914400"/>
            <a:ext cx="453564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hysioMZ 006"/>
          <p:cNvPicPr/>
          <p:nvPr/>
        </p:nvPicPr>
        <p:blipFill>
          <a:blip r:embed="rId1"/>
          <a:srcRect l="72" t="88" r="0" b="3089"/>
          <a:stretch/>
        </p:blipFill>
        <p:spPr>
          <a:xfrm>
            <a:off x="990720" y="1676520"/>
            <a:ext cx="7162560" cy="4432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Neurotransmitters and Types of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eganglionic neurons are always cholinerg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lease Ach, interacts with nicotinic receptors on the cell body of postganglionic neuro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ostganglionic neurons are adrenergic except in thermoregulatory sweat glands (muscranic, cholinergic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drenergic neurons affect adrenorecepters: alpha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alpha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beta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beta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4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eganglionic fibers originate from cranial nuclei in brain stem (mid brain, pons, medulla) and in sacral segments (S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S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) (Craniosacral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arasympathetic ganglia are located on or in the affected orga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eganglionic neuron has long axon and postganglionic neuron has short ax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15" name="Picture 3" descr="showimage.jpg"/>
          <p:cNvPicPr/>
          <p:nvPr/>
        </p:nvPicPr>
        <p:blipFill>
          <a:blip r:embed="rId1"/>
          <a:stretch/>
        </p:blipFill>
        <p:spPr>
          <a:xfrm>
            <a:off x="2341440" y="914400"/>
            <a:ext cx="4429080" cy="577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Learning Objectives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Terminology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ympathetic Nervous System (SNS)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eurotransmitters and Types of Receptors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utonomic Receptors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drenoreceptors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holinorecptors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ototypes of Agonists and Antagonists to Autonomic Receptors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ympathetic and Parasympathetic Tone 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unction of Adrenal Gland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Examples of The Effects of Sympathetic and Parasympathetic 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Neurotransmitters and types of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ll preganglionic neurons are cholinergic, release Ach which interacts with nicotinic receptor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ostganglionic neurons are cholinergic, release Ach which interacts with muscrinic receptor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endParaRPr b="1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19" name="Picture 3" descr="showimage.jpg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81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drenoreceptors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holinorecptors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57240"/>
            <a:ext cx="85104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drenoreceptors</a:t>
            </a:r>
            <a:endParaRPr b="1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6160" y="723600"/>
            <a:ext cx="89978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: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found in vascular smooth muscle, GI sphincters and bladder, radial muscle of iri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ctivation of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       contraction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l-GR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:  is found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n the following tissue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.A node          heart rate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V node           conduction velocity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Ventricular muscle        contractility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alivary gland        salivary secretions,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(but  enzymes production)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s: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found in vascular smooth muscle wall of bladder, and wall of GI. 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ctivation of </a:t>
            </a: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        relaxation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more sensitive to Epinephrine than Nor-epinephrine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048120" y="183528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 flipV="1">
            <a:off x="3581280" y="160452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 flipV="1">
            <a:off x="2743200" y="312372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>
            <a:off x="2160720" y="32767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3505320" y="37339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2211480" y="27925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V="1">
            <a:off x="2743200" y="263952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V="1">
            <a:off x="3276720" y="403812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2743200" y="41911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29"/>
          <p:cNvSpPr/>
          <p:nvPr/>
        </p:nvSpPr>
        <p:spPr>
          <a:xfrm flipV="1">
            <a:off x="4038480" y="347940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3048120" y="617220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receptor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36" name="Picture 3" descr="showimage.jpg"/>
          <p:cNvPicPr/>
          <p:nvPr/>
        </p:nvPicPr>
        <p:blipFill>
          <a:blip r:embed="rId1"/>
          <a:stretch/>
        </p:blipFill>
        <p:spPr>
          <a:xfrm>
            <a:off x="838080" y="861840"/>
            <a:ext cx="7518600" cy="57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l-GR" sz="36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lang="el-GR" sz="40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38" name="Picture 3" descr="showimage.jpg"/>
          <p:cNvPicPr/>
          <p:nvPr/>
        </p:nvPicPr>
        <p:blipFill>
          <a:blip r:embed="rId1"/>
          <a:stretch/>
        </p:blipFill>
        <p:spPr>
          <a:xfrm>
            <a:off x="838080" y="1066680"/>
            <a:ext cx="7629480" cy="55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holinorecepte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1680" y="12189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Nicotinic receptor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an ion channel for Na+ and K+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in all postganglionic neurons, motor end plate at skeletal muscle and chromaffin cell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uscurinic Recept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Works either like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adrenoreceptor via PKC, DAC and IP3 or via G protein which has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subunit that binds K+ channel and open i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physioMZ 007"/>
          <p:cNvPicPr/>
          <p:nvPr/>
        </p:nvPicPr>
        <p:blipFill>
          <a:blip r:embed="rId1"/>
          <a:srcRect l="0" t="0" r="0" b="1972"/>
          <a:stretch/>
        </p:blipFill>
        <p:spPr>
          <a:xfrm>
            <a:off x="228600" y="1447920"/>
            <a:ext cx="8686800" cy="4494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holinorecepte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ceptor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(in summary)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type of receptor and its mechanism of action determine the physiologic respons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g. </a:t>
            </a:r>
            <a:r>
              <a:rPr b="1" lang="el-GR" sz="32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receptor in SA node and in ventricular muscle: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A node: activation of SA node by the agonist (nor-epinephrine)           heart rate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ventricular muscles          contractility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 flipV="1">
            <a:off x="5943600" y="4648320"/>
            <a:ext cx="0" cy="30456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4343400" y="541008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 flipV="1">
            <a:off x="4952880" y="525744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ototypes of Agonists and Antagonists to Autonomic Receptors</a:t>
            </a:r>
            <a:endParaRPr b="1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066680"/>
          <a:ext cx="8839440" cy="574848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gonis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tagonis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drenoreceptor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repin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henoxybenzam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henyl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azosi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lonid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ohimb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repin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pran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soproteren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Metopr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Epin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pran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soproteren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toxam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Albuter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olinoreceptor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icotinic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rar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Nicotine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Carbachol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examethonium (blocks ganglionic receptor but not neuromuscular junction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uscarinic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trop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usca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Carbachol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1" name="Picture 1" descr="View drug inform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View drug informa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View drug informati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View drug informatio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OMATIC AND 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 motor efferent nervous system has two component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omatic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Autonom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omatic Nervous System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 voluntary nervous system under conscious contro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onsists of a single motoneuron and  skeletal muscle fibers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and Parasympathetic Tone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role of them is to keep the stimulated organs in normal stag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xamples: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ympathetic always keeps the blood vessel constricted ½ of its normal diameter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moval of vagus nerve       atony        loss of peristalsis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(contraction of small intestine)    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onstipation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7048440" y="556092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5410080" y="556092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7238880" y="44956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08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 of loss of sympathetic and parasympathetic tone after denervation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1680" y="2663640"/>
            <a:ext cx="8540640" cy="29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Loss of sympathetic tone in blood vessel causes severe vasodilatation but after sometime, intrinsic tone increases by chemical adaptati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Function of Adrenal Gland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timulation of sympathetic nerves causes large quantities of Epinephrine and Nor-epinephrine to be secreted in blood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effect of Epinephrine &amp; Nor-epinephrine lasts 5-10 times more than the ones which secreted from sympathet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xamples of The Effects of Sympathetic and Parasympathetic 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 Eyes: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ympathetic stimulation contracts the meridional fibers of the iris to </a:t>
            </a:r>
            <a:r>
              <a:rPr b="1" lang="en-US" sz="2000" spc="-1" strike="noStrike">
                <a:solidFill>
                  <a:srgbClr val="ffc000"/>
                </a:solidFill>
                <a:latin typeface="Garamond"/>
              </a:rPr>
              <a:t>dilate the pupil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arasympathetic stimulation contracts the circular muscle of the iris to </a:t>
            </a:r>
            <a:r>
              <a:rPr b="1" lang="en-US" sz="2000" spc="-1" strike="noStrike">
                <a:solidFill>
                  <a:srgbClr val="ffc000"/>
                </a:solidFill>
                <a:latin typeface="Garamond"/>
              </a:rPr>
              <a:t>constrict the pupil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ocusing of the lens is controlled by parasympathetic through contraction of ciliary muscle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7" name="AutoShape 1037"/>
          <p:cNvSpPr/>
          <p:nvPr/>
        </p:nvSpPr>
        <p:spPr>
          <a:xfrm>
            <a:off x="155520" y="46080"/>
            <a:ext cx="514368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8" name="Picture 6" descr="Picture1.jpg"/>
          <p:cNvPicPr/>
          <p:nvPr/>
        </p:nvPicPr>
        <p:blipFill>
          <a:blip r:embed="rId1"/>
          <a:stretch/>
        </p:blipFill>
        <p:spPr>
          <a:xfrm>
            <a:off x="3070080" y="2892600"/>
            <a:ext cx="589608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Pupil Dilation and Constriction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70" name="Picture 5" descr="Picture3.jpg"/>
          <p:cNvPicPr/>
          <p:nvPr/>
        </p:nvPicPr>
        <p:blipFill>
          <a:blip r:embed="rId1"/>
          <a:stretch/>
        </p:blipFill>
        <p:spPr>
          <a:xfrm>
            <a:off x="217440" y="2432160"/>
            <a:ext cx="8709120" cy="34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520" y="18284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Gland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Controlled by parasympathetic       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ir secretio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Sympathetic causes vasoconstriction      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ir rate of secreti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Sweat glands secretion: 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increased by sympathetic stimulatio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1066680" y="426636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1066680" y="30481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6934320" y="3809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78" name="Picture 4" descr="fig6-1"/>
          <p:cNvPicPr/>
          <p:nvPr/>
        </p:nvPicPr>
        <p:blipFill>
          <a:blip r:embed="rId1"/>
          <a:stretch/>
        </p:blipFill>
        <p:spPr>
          <a:xfrm>
            <a:off x="2438280" y="4572000"/>
            <a:ext cx="4370400" cy="2149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spcBef>
                <a:spcPts val="6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The Gastrointestinal tract (GI)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- Enteric nervous system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- Parasympathetic nervous system     the activity of GI tract (    peristaltic contraction, sphincter relaxation)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- Sympathetic           the activity of GI.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200400" y="411408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 flipV="1">
            <a:off x="5410080" y="28195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2514600" y="42670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 flipV="1">
            <a:off x="1905120" y="325296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510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600" y="1904760"/>
            <a:ext cx="8763120" cy="44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Heart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Sympathetic stimulation         activity of the heart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Parasympathetic stimulation doing the opposite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ystemic Blood Vessel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Constricted by stimulation of sympathetic.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No effect of the parasympathetic except in certain areas, such as blushing of the face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5181480" y="2666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 flipV="1">
            <a:off x="5791320" y="246816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2282760"/>
            <a:ext cx="9144000" cy="442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rterial Pressure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Sympathetic stimulation         the cardiac output and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sistance to the blood flow and blood pressure.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Parasympathetic         cardiac output and has no effect on blood vessels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4267080" y="495216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1600200" y="342864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5638680" y="290520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4952880" y="31240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26" descr="physioMZ 005"/>
          <p:cNvPicPr/>
          <p:nvPr/>
        </p:nvPicPr>
        <p:blipFill>
          <a:blip r:embed="rId1"/>
          <a:stretch/>
        </p:blipFill>
        <p:spPr>
          <a:xfrm>
            <a:off x="762120" y="1600200"/>
            <a:ext cx="7423200" cy="4724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flexe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1680" y="12193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ost of the visceral functions of the body are regulated by autonomic reflexe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ardiovascular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baroreceptor reflex: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t is stretch reflex in the main arteries such as carotid artery to detect the blood pressure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Gastrointestine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 receptors in the nose and mouth send a signal to parasympathetic to notify the glands of mouth &amp; stomach to secrete the digestive juice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Urinary Bladder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Initiate the micturation by parasympathetic innervation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exual reflexes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erection by parasympathetic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ejaculation by sympathetic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rinary Bladder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98" name="Picture 3" descr="showimage.jpg"/>
          <p:cNvPicPr/>
          <p:nvPr/>
        </p:nvPicPr>
        <p:blipFill>
          <a:blip r:embed="rId1"/>
          <a:stretch/>
        </p:blipFill>
        <p:spPr>
          <a:xfrm>
            <a:off x="380880" y="1585800"/>
            <a:ext cx="83822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flexe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1680" y="1142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ympathetic activation could occur in isolated portions such as: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heart regula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many sympathetic reflexes that regulate G.I. function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he parasympathetic usually causes specific localized response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The effect of parasympathetic usually specifies to certain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rgan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but sometimes there is a common effect of parasympathetic activity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by affecting the functions of some organs together such as rectal emptying and bladder emptying, salivary secretion and gastric secretion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00"/>
                </a:solidFill>
                <a:latin typeface="Garamond"/>
              </a:rPr>
              <a:t>The End</a:t>
            </a:r>
            <a:endParaRPr b="1" lang="en-US" sz="13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Picture1.jpg"/>
          <p:cNvPicPr/>
          <p:nvPr/>
        </p:nvPicPr>
        <p:blipFill>
          <a:blip r:embed="rId1"/>
          <a:stretch/>
        </p:blipFill>
        <p:spPr>
          <a:xfrm>
            <a:off x="1219320" y="1219320"/>
            <a:ext cx="6943680" cy="505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omatic Nervous System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12949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n involuntary nervous system that modulates and controls the function of visceral organ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utonomic nervous system (ANS) consists of two major division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ympathetic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arasympathetic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NS is activated by centers in spinal cord, brain stem and hypothalamu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NS is operated by visceral reflex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91" name="Content Placeholder 5" descr="showimage.jpg"/>
          <p:cNvPicPr/>
          <p:nvPr/>
        </p:nvPicPr>
        <p:blipFill>
          <a:blip r:embed="rId1"/>
          <a:stretch/>
        </p:blipFill>
        <p:spPr>
          <a:xfrm>
            <a:off x="5029200" y="2112840"/>
            <a:ext cx="380988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-302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 (A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4475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rganization of autonomic nervous system  motor pathway consists of two neuron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Preganglionic neuro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Postganglionic neur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 (A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ll preganglionic neurons release Acetylcholine (Ach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ost ganglionic neurons release either Ach, or norepinepherin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11430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ympathetic and parasympathetic are anatomic terms and refer to anatomic origin of preganglionic neurons in the centeral nervous system (CNS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drenergic and Cholinergic terms are used to describe neurons of either division, according to which neurotransmitter they synthesize and releas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6:14:50Z</dcterms:created>
  <dc:creator>Abid Jaffery</dc:creator>
  <dc:description/>
  <dc:language>en-US</dc:language>
  <cp:lastModifiedBy>aboo alde</cp:lastModifiedBy>
  <dcterms:modified xsi:type="dcterms:W3CDTF">2015-09-01T11:58:55Z</dcterms:modified>
  <cp:revision>62</cp:revision>
  <dc:subject/>
  <dc:title>AUTONOMIC NERVOUS SYSTEM</dc:title>
</cp:coreProperties>
</file>