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F98-034F-484C-BB10-9CA0E355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0FC-43E1-4189-AF65-9D269B76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00D-604A-46B0-879A-AE1CB578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5B9-5A2B-4B23-B75A-C2FA6317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ADD1-97FE-4ADE-B718-52386F5A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90B-C994-416B-AEE2-BFD52AF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40C8-EF26-4409-A26B-5E66C033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008F-7A64-4DAB-8CE7-361A8044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7FA0-F359-4154-AA26-3C80FF6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7ACC-2A9D-483E-A4F6-22BB5D7C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49DF-F3B0-44A6-BA3F-AE26D67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292-D673-427B-A881-8C5A03A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345-87C0-4038-AEE1-722802D9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D88D-3BF2-4175-B6FC-5941E3D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DEF-A795-489D-B108-DC94B55F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9971-2B5A-43D6-A34A-26645FC8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C539-1E90-44A2-9250-D8B7D169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3EB-D4DC-43F3-8256-7689F8B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F53-ACC6-4BFF-84AE-4B8105C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C36-75CC-445C-BFD8-E0DF6D6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666-DA6D-4A8E-AA6F-E1CB789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3C7-C61E-48E2-8ACE-4554F80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1EE-CB6F-43CE-80E0-20D03ED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630-C4F2-4D25-91C3-41C9DDC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 algn="r" rtl="1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 algn="r" rtl="1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C96A-2C13-4628-8EBA-55357BFBDAB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 algn="r" rtl="1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 algn="r" rtl="1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0D4F-5A9B-4DC9-9564-8B92C12B24F5}" type="slidenum">
              <a:rPr b="1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xqFQoTCI-xz6Gz58cCFYNtFAodX1ACog&amp;url=http%3A%2F%2Fwww.healthyyounaturally.com%2Fedu%2Fwater-dehydration-symptoms.htm&amp;psig=AFQjCNEzsKaP7u-uWMq7f4nxKEJ671Blkw&amp;ust=144180038650408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6200" y="2637000"/>
            <a:ext cx="4173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EHYDRATION</a:t>
            </a:r>
            <a:endParaRPr b="0" lang="en-US" sz="4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500040" y="4000680"/>
            <a:ext cx="8356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f. Sultan Ayoub M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BBS, M.Phil, Ph.D (Pak), M Med Ed (Dundee), FRCP (London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CP (Dublin), FRCP (Glasgow), FRCP (Edinburg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essor and Consultant, Department of Physiology and University Diabetes Centre, College of Medicin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Saud University, Riyadh, K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https://encrypted-tbn3.gstatic.com/images?q=tbn:ANd9GcRj7jlwetz3blNWLvTaZK4KDUtXhUmRy1a61tGfHKaQO4ChKROX">
            <a:hlinkClick r:id="rId1"/>
          </p:cNvPr>
          <p:cNvPicPr/>
          <p:nvPr/>
        </p:nvPicPr>
        <p:blipFill>
          <a:blip r:embed="rId2"/>
          <a:srcRect l="0" t="23043" r="0" b="0"/>
          <a:stretch/>
        </p:blipFill>
        <p:spPr>
          <a:xfrm>
            <a:off x="4929120" y="1143000"/>
            <a:ext cx="3716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67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3480" y="1934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control (aldoster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al (osmoreceptors, barorecep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apsubiology.org/anatomy/2020/2020_Exam_Reviews/Exam_4/thirst%20regulation%20figure.jpg"/>
          <p:cNvPicPr/>
          <p:nvPr/>
        </p:nvPicPr>
        <p:blipFill>
          <a:blip r:embed="rId1"/>
          <a:stretch/>
        </p:blipFill>
        <p:spPr>
          <a:xfrm>
            <a:off x="642960" y="1928880"/>
            <a:ext cx="8361360" cy="3786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: ADH Rol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5" name="Picture 2" descr="F:\JPG COPY\35 Kid.jpg"/>
          <p:cNvPicPr/>
          <p:nvPr/>
        </p:nvPicPr>
        <p:blipFill>
          <a:blip r:embed="rId1"/>
          <a:srcRect l="11364" t="4391" r="10511" b="4218"/>
          <a:stretch/>
        </p:blipFill>
        <p:spPr>
          <a:xfrm>
            <a:off x="2357280" y="1785960"/>
            <a:ext cx="4214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dh Kidney Function Thirst"/>
          <p:cNvPicPr/>
          <p:nvPr/>
        </p:nvPicPr>
        <p:blipFill>
          <a:blip r:embed="rId1"/>
          <a:stretch/>
        </p:blipFill>
        <p:spPr>
          <a:xfrm>
            <a:off x="1714680" y="1928880"/>
            <a:ext cx="5929200" cy="4584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austincc.edu/apreview/NursingPics/FluidPics/Picture8.jpg"/>
          <p:cNvPicPr/>
          <p:nvPr/>
        </p:nvPicPr>
        <p:blipFill>
          <a:blip r:embed="rId1"/>
          <a:stretch/>
        </p:blipFill>
        <p:spPr>
          <a:xfrm>
            <a:off x="457200" y="1676520"/>
            <a:ext cx="8064360" cy="4957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04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water from the bod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vomiting, diarrhea, sweating, &amp; poly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both ECF &amp; ICF vol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molarity in both ECF &amp; I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sig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ry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ss of skin elas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oft eyeballs (due to lowering of intraocular ten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od pressure (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-6L lo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b,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ct (packed cell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w fluid replacement (orally, or IV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56944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1692360" y="1860480"/>
            <a:ext cx="5113080" cy="4991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905800" cy="4722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5260680" cy="4424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08000" y="5776920"/>
            <a:ext cx="9172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ehydration occurs when body does not have as much water and fluids as it needs. 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Dehydration is classified as mild, moderate, or sev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20560" y="836640"/>
            <a:ext cx="41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EHYDR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595440" y="1844640"/>
            <a:ext cx="854856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Adverse Effect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746600" cy="541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Adverse Effect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Adverse Effect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8403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21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5788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Dehydration: Assessment and Management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425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5788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Dehydration: Assessment and Management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71680" y="22147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al rehydration salts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solution of glucose -based salt solution used in oral rehydration therapy. WHO and UNICEF recommend a single formulation of glucose-based ORS to treat or prevent de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RS solution contains 75 mEq/l of sodium and 75 mmol/l of glucose, and have a total osmolarity of 245 mOsm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0200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3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verage young adult m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28560" y="592200"/>
            <a:ext cx="7543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Body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1200" y="2589120"/>
          <a:ext cx="8175600" cy="3243240"/>
        </p:xfrm>
        <a:graphic>
          <a:graphicData uri="http://schemas.openxmlformats.org/drawingml/2006/table">
            <a:tbl>
              <a:tblPr/>
              <a:tblGrid>
                <a:gridCol w="4948200"/>
                <a:gridCol w="322740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of body 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in, &amp; related subst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austincc.edu/apreview/NursingPics/FluidPics/Picture1.jpg"/>
          <p:cNvPicPr/>
          <p:nvPr/>
        </p:nvPicPr>
        <p:blipFill>
          <a:blip r:embed="rId1"/>
          <a:stretch/>
        </p:blipFill>
        <p:spPr>
          <a:xfrm>
            <a:off x="214200" y="1571760"/>
            <a:ext cx="8875800" cy="4786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539640" y="9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8680" y="620280"/>
            <a:ext cx="5737320" cy="107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66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Fluid Compartments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60% of body weight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5080" y="2309760"/>
            <a:ext cx="2303280" cy="122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cellular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% of TB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20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724360" y="2305080"/>
            <a:ext cx="2160720" cy="152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cellular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% of T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40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482920" y="4462560"/>
            <a:ext cx="2089080" cy="885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stiti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75% of E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15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4000" y="4448160"/>
            <a:ext cx="2016000" cy="916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5% of E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5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589800" y="1773360"/>
            <a:ext cx="358560" cy="503280"/>
          </a:xfrm>
          <a:prstGeom prst="downArrow">
            <a:avLst>
              <a:gd name="adj1" fmla="val 50000"/>
              <a:gd name="adj2" fmla="val 3509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714920" y="4475160"/>
            <a:ext cx="223344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cellular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492200" y="4005360"/>
            <a:ext cx="3888000" cy="0"/>
          </a:xfrm>
          <a:prstGeom prst="line">
            <a:avLst/>
          </a:prstGeom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291280" y="4875120"/>
            <a:ext cx="1081080" cy="20120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rao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e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ito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icar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ov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estive secre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2411280" y="177336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2411280" y="356220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3276720" y="4005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5110200" y="4005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1403280" y="400536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austincc.edu/apreview/NursingPics/FluidPics/Picture5.jpg"/>
          <p:cNvPicPr/>
          <p:nvPr/>
        </p:nvPicPr>
        <p:blipFill>
          <a:blip r:embed="rId1"/>
          <a:stretch/>
        </p:blipFill>
        <p:spPr>
          <a:xfrm>
            <a:off x="1714680" y="1857240"/>
            <a:ext cx="5643360" cy="480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Body Fluids: Intake and Output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Factors affecting body fluid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intake &amp;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fant: 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lderly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dult male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dult female: 40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of physic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aus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622440" y="1844640"/>
            <a:ext cx="80643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drinking enough wat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e throat, mouth sores, difficulty swallowing, and/or a decreased thirst sensation (especially in older ad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ll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ausea, vomiting, diarrhea, fever, pain, b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heated indoor / outdoor ai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bil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get water: Ol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cessive urine outpu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ntrolled diabetes, diur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dication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xatives, sedatives/sleeping pills/anxiety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cessive exercise, heat, humid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7143840" cy="4560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1015920" y="107172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Dehydration: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9:38:46Z</dcterms:created>
  <dc:creator>Dr. Abeer</dc:creator>
  <dc:description/>
  <dc:language>en-US</dc:language>
  <cp:lastModifiedBy>user</cp:lastModifiedBy>
  <dcterms:modified xsi:type="dcterms:W3CDTF">2015-09-09T13:59:18Z</dcterms:modified>
  <cp:revision>789</cp:revision>
  <dc:subject/>
  <dc:title>Physiology Introduction: Cell and Body Fluids</dc:title>
</cp:coreProperties>
</file>