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6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0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15CC-EF51-450D-8FA5-CDC22F22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310-7EF6-4962-A412-6359E717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8E6-B043-4C9F-AFEA-091352725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668F-05A2-481B-9372-25F63AFB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7DF4-5849-46B6-87EB-D5325030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B877-85C7-4341-AB1A-E581B38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2302-B0AA-4190-B083-C118E49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4185-3BB2-41A7-949D-1AEBE3B7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7504-F5A8-457B-A518-3FA888A2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3F1C-1525-4DF0-BF11-77051BD8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B15-D0F5-4FB0-8A38-E08F6D6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19D2-D8C8-4B78-934D-74CB38C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75C4-6F5B-4EA8-B5BD-A27C0670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2C3-E338-4322-A626-306F9F7D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89C5-A62B-40FA-9BC6-BC3F70C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11E-CF2F-4A40-8273-ADCF7444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ED8D-2295-4AC7-B320-079704EE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93D0-5FF3-4330-93E3-845100AF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2AC4-D8BF-4FD4-8FC3-CCF977DC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E49-BAF2-47D3-9569-BC109B34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691-E016-4414-A245-EB01BC74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0B48-E675-4D5E-85B9-FAEE8764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26DF-AAD8-46C5-9446-A1AE096B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305-81B8-4028-B3C7-AFFBFF7B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 algn="r" rtl="1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 algn="r" rtl="1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A259-5D6A-4EBC-AAE2-E0FC87689477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 algn="r" rtl="1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 algn="r" rtl="1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 algn="r" rtl="1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21C5-F7C9-4504-BFF2-ED409B6EAFC5}" type="slidenum">
              <a:rPr b="1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xqFQoTCI-xz6Gz58cCFYNtFAodX1ACog&amp;url=http%3A%2F%2Fwww.healthyyounaturally.com%2Fedu%2Fwater-dehydration-symptoms.htm&amp;psig=AFQjCNEzsKaP7u-uWMq7f4nxKEJ671Blkw&amp;ust=144180038650408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6200" y="2637000"/>
            <a:ext cx="4173480" cy="58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EHYDRATION</a:t>
            </a:r>
            <a:endParaRPr b="0" lang="en-US" sz="41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500040" y="4000680"/>
            <a:ext cx="8356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rof. Sultan Ayoub M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BBS, M.Phil, Ph.D (Pak), M Med Ed (Dundee), FRCP (London)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CP (Dublin), FRCP (Glasgow), FRCP (Edinburg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essor and Consultant, Department of Physiology and University Diabetes Centre, College of Medicine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Saud University, Riyadh, K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https://encrypted-tbn3.gstatic.com/images?q=tbn:ANd9GcRj7jlwetz3blNWLvTaZK4KDUtXhUmRy1a61tGfHKaQO4ChKROX">
            <a:hlinkClick r:id="rId1"/>
          </p:cNvPr>
          <p:cNvPicPr/>
          <p:nvPr/>
        </p:nvPicPr>
        <p:blipFill>
          <a:blip r:embed="rId2"/>
          <a:srcRect l="0" t="23043" r="0" b="0"/>
          <a:stretch/>
        </p:blipFill>
        <p:spPr>
          <a:xfrm>
            <a:off x="4929120" y="1143000"/>
            <a:ext cx="37162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867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3480" y="193464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al control (aldoster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uronal (osmoreceptors, barorecepto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apsubiology.org/anatomy/2020/2020_Exam_Reviews/Exam_4/thirst%20regulation%20figure.jpg"/>
          <p:cNvPicPr/>
          <p:nvPr/>
        </p:nvPicPr>
        <p:blipFill>
          <a:blip r:embed="rId1"/>
          <a:stretch/>
        </p:blipFill>
        <p:spPr>
          <a:xfrm>
            <a:off x="642960" y="1928880"/>
            <a:ext cx="8361360" cy="3786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: ADH Rol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35" name="Picture 2" descr="F:\JPG COPY\35 Kid.jpg"/>
          <p:cNvPicPr/>
          <p:nvPr/>
        </p:nvPicPr>
        <p:blipFill>
          <a:blip r:embed="rId1"/>
          <a:srcRect l="11364" t="4391" r="10511" b="4218"/>
          <a:stretch/>
        </p:blipFill>
        <p:spPr>
          <a:xfrm>
            <a:off x="2357280" y="1785960"/>
            <a:ext cx="42148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dh Kidney Function Thirst"/>
          <p:cNvPicPr/>
          <p:nvPr/>
        </p:nvPicPr>
        <p:blipFill>
          <a:blip r:embed="rId1"/>
          <a:stretch/>
        </p:blipFill>
        <p:spPr>
          <a:xfrm>
            <a:off x="1714680" y="1928880"/>
            <a:ext cx="5929200" cy="4584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austincc.edu/apreview/NursingPics/FluidPics/Picture8.jpg"/>
          <p:cNvPicPr/>
          <p:nvPr/>
        </p:nvPicPr>
        <p:blipFill>
          <a:blip r:embed="rId1"/>
          <a:stretch/>
        </p:blipFill>
        <p:spPr>
          <a:xfrm>
            <a:off x="457200" y="1676520"/>
            <a:ext cx="8064360" cy="49575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Control of body fluid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04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of water from the bod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vomiting, diarrhea, sweating, &amp; poly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both ECF &amp; ICF vol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molarity in both ECF &amp; I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sig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ry tong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oss of skin elast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oft eyeballs (due to lowering of intraocular ten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lood pressure (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-6L los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b,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ct (packed cell volu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ed w fluid replacement (orally, or IV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569440" cy="453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1692360" y="1860480"/>
            <a:ext cx="511308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905800" cy="4722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571760" y="1500120"/>
            <a:ext cx="5260680" cy="442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108000" y="5776920"/>
            <a:ext cx="917244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Dehydration occurs when body does not have as much water and fluids as it needs.  </a:t>
            </a:r>
            <a:r>
              <a:rPr b="1" lang="en-US" sz="2000" spc="-1" strike="noStrike">
                <a:solidFill>
                  <a:srgbClr val="6600cc"/>
                </a:solidFill>
                <a:latin typeface="Verdana"/>
              </a:rPr>
              <a:t>Dehydration is classified as mild, moderate, or sev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20560" y="836640"/>
            <a:ext cx="417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Times New Roman"/>
              </a:rPr>
              <a:t>DEHYDRATION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595440" y="1844640"/>
            <a:ext cx="8548560" cy="3456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linical Featu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746600" cy="541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2296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Adverse Effects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684036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543640" cy="4621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8100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5788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Assessment and Management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84250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5920" y="836280"/>
            <a:ext cx="8578800" cy="69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Assessment and Management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571680" y="2214720"/>
            <a:ext cx="8001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al rehydration salts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R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solution of glucose -based salt solution used in oral rehydration therapy. WHO and UNICEF recommend a single formulation of glucose-based ORS to treat or prevent dehyd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RS solution contains 75 mEq/l of sodium and 75 mmol/l of glucose, and have a total osmolarity of 245 mOsm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02000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3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3120" cy="53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verage young adult m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28560" y="592200"/>
            <a:ext cx="75438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11200" y="2589120"/>
          <a:ext cx="8175600" cy="3243240"/>
        </p:xfrm>
        <a:graphic>
          <a:graphicData uri="http://schemas.openxmlformats.org/drawingml/2006/table">
            <a:tbl>
              <a:tblPr/>
              <a:tblGrid>
                <a:gridCol w="4948200"/>
                <a:gridCol w="3227400"/>
              </a:tblGrid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dy compos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of body 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, &amp; related substa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http://www.austincc.edu/apreview/NursingPics/FluidPics/Picture1.jpg"/>
          <p:cNvPicPr/>
          <p:nvPr/>
        </p:nvPicPr>
        <p:blipFill>
          <a:blip r:embed="rId1"/>
          <a:stretch/>
        </p:blipFill>
        <p:spPr>
          <a:xfrm>
            <a:off x="214200" y="1571760"/>
            <a:ext cx="8875800" cy="4786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"/>
          <p:cNvSpPr/>
          <p:nvPr/>
        </p:nvSpPr>
        <p:spPr>
          <a:xfrm>
            <a:off x="539640" y="90792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8680" y="620280"/>
            <a:ext cx="5737320" cy="1079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28440">
            <a:solidFill>
              <a:srgbClr val="66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Fluid Compartments</a:t>
            </a:r>
            <a:br>
              <a:rPr sz="3200"/>
            </a:br>
            <a:r>
              <a:rPr b="0" lang="en-US" sz="3200" spc="-1" strike="noStrike">
                <a:solidFill>
                  <a:srgbClr val="42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420000"/>
                </a:solidFill>
                <a:latin typeface="Times New Roman"/>
              </a:rPr>
              <a:t>60% of body weight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5080" y="2309760"/>
            <a:ext cx="2303280" cy="122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ra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% of TB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20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724360" y="2305080"/>
            <a:ext cx="2160720" cy="152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ra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/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7% of TB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40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2482920" y="4462560"/>
            <a:ext cx="2089080" cy="885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stitial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75% of E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15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24000" y="4448160"/>
            <a:ext cx="2016000" cy="916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25% of E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800000"/>
                </a:solidFill>
                <a:latin typeface="Tahoma"/>
              </a:rPr>
              <a:t>5% of body w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1"/>
          <p:cNvSpPr/>
          <p:nvPr/>
        </p:nvSpPr>
        <p:spPr>
          <a:xfrm>
            <a:off x="6589800" y="1773360"/>
            <a:ext cx="358560" cy="503280"/>
          </a:xfrm>
          <a:prstGeom prst="downArrow">
            <a:avLst>
              <a:gd name="adj1" fmla="val 50000"/>
              <a:gd name="adj2" fmla="val 3509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4714920" y="4475160"/>
            <a:ext cx="223344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cellular flu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1492200" y="4005360"/>
            <a:ext cx="3888000" cy="0"/>
          </a:xfrm>
          <a:prstGeom prst="line">
            <a:avLst/>
          </a:prstGeom>
          <a:ln w="1908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291280" y="4875120"/>
            <a:ext cx="1081080" cy="20120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S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raoc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leu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iton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icard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ov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gestive secre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7"/>
          <p:cNvSpPr/>
          <p:nvPr/>
        </p:nvSpPr>
        <p:spPr>
          <a:xfrm>
            <a:off x="2411280" y="1773360"/>
            <a:ext cx="358920" cy="503280"/>
          </a:xfrm>
          <a:prstGeom prst="downArrow">
            <a:avLst>
              <a:gd name="adj1" fmla="val 50000"/>
              <a:gd name="adj2" fmla="val 35055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8"/>
          <p:cNvSpPr/>
          <p:nvPr/>
        </p:nvSpPr>
        <p:spPr>
          <a:xfrm>
            <a:off x="2411280" y="3562200"/>
            <a:ext cx="358920" cy="432000"/>
          </a:xfrm>
          <a:prstGeom prst="downArrow">
            <a:avLst>
              <a:gd name="adj1" fmla="val 50000"/>
              <a:gd name="adj2" fmla="val 3009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9"/>
          <p:cNvSpPr/>
          <p:nvPr/>
        </p:nvSpPr>
        <p:spPr>
          <a:xfrm>
            <a:off x="3276720" y="4005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20"/>
          <p:cNvSpPr/>
          <p:nvPr/>
        </p:nvSpPr>
        <p:spPr>
          <a:xfrm>
            <a:off x="5110200" y="4005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21"/>
          <p:cNvSpPr/>
          <p:nvPr/>
        </p:nvSpPr>
        <p:spPr>
          <a:xfrm>
            <a:off x="1403280" y="4005360"/>
            <a:ext cx="358920" cy="431640"/>
          </a:xfrm>
          <a:prstGeom prst="downArrow">
            <a:avLst>
              <a:gd name="adj1" fmla="val 50000"/>
              <a:gd name="adj2" fmla="val 30065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www.austincc.edu/apreview/NursingPics/FluidPics/Picture5.jpg"/>
          <p:cNvPicPr/>
          <p:nvPr/>
        </p:nvPicPr>
        <p:blipFill>
          <a:blip r:embed="rId1"/>
          <a:stretch/>
        </p:blipFill>
        <p:spPr>
          <a:xfrm>
            <a:off x="1714680" y="1857240"/>
            <a:ext cx="5643360" cy="4805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Body Fluids: Intake and Output 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Factors affecting body fluid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7543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er intake &amp;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fant: 7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lderly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dult male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dult female: 40-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of physic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00"/>
                </a:solidFill>
                <a:latin typeface="Times New Roman"/>
              </a:rPr>
              <a:t>Dehydration: Caus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622440" y="1844640"/>
            <a:ext cx="806436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ot drinking enough wate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e throat, mouth sores, difficulty swallowing, and/or a decreased thirst sensation (especially in older adul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lln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Nausea, vomiting, diarrhea, fever, pain, b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heated indoor / outdoor ai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obilit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get water: Old 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cessive urine output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ontrolled diabetes, diure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dication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xatives, sedatives/sleeping pills/anxiety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xcessive exercise, heat, humid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000080" y="1928880"/>
            <a:ext cx="7143840" cy="45608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1015920" y="107172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00"/>
                </a:solidFill>
                <a:latin typeface="Times New Roman"/>
              </a:rPr>
              <a:t>Dehydration: Ca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9:38:46Z</dcterms:created>
  <dc:creator>Dr. Abeer</dc:creator>
  <dc:description/>
  <dc:language>en-US</dc:language>
  <cp:lastModifiedBy>user</cp:lastModifiedBy>
  <dcterms:modified xsi:type="dcterms:W3CDTF">2015-09-09T13:59:18Z</dcterms:modified>
  <cp:revision>789</cp:revision>
  <dc:subject/>
  <dc:title>Physiology Introduction: Cell and Body Fluids</dc:title>
</cp:coreProperties>
</file>