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25.gif" ContentType="image/gif"/>
  <Override PartName="/ppt/media/image5.jpeg" ContentType="image/jpeg"/>
  <Override PartName="/ppt/media/image26.jpeg" ContentType="image/jpeg"/>
  <Override PartName="/ppt/media/image27.wmf" ContentType="image/x-wmf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8554-7765-45A3-9D13-B74CDEFD319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AEE5-2FF7-434C-8B5D-D1565AF042E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4FDB-EB6C-4486-BC8A-1777343CA4D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D147-47C9-4ED7-8ACE-DDA1551B637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6688-8460-4E4E-AA43-90D96117CC3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CB74-9A84-4AE0-932F-5EBCF824EB4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4C4B-6A93-42CD-9CDF-DBEB5FB1FF2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6FB4-804A-4B2A-B05C-E75B5C1599C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EE91-E797-4DA6-884A-958C31CC882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B87F-8F0A-4A80-806A-6A277D4F158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C606-5EF9-43BD-B682-9F955909FFE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EEC8-8EDA-48DD-A2E8-40FFE4C52E7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3761-1CFE-4078-BFDF-D3BD1E4BA6C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51C2-35A8-4BBB-A0C5-CF78D7DB49F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72CA-F3B3-44A3-B412-06663966AD3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6099-8F44-4E3E-B3A4-39D9DE45C19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FE75-C96C-452B-BDAB-68E964FEC14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09F6-5C6F-4F99-89D2-22F9DD60F60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42B9-6B67-48B2-B8E7-76DD6676A2C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D4EA-DF74-422F-A6B5-3CF8B476487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8044-9C06-4884-B61E-7D859F67175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110F-7F34-463A-BFC2-8D3671DF725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F2A5-C4AB-4D8F-88E4-3B94491CBEF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676E-73D5-45A1-B0E3-5409097DC82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2020-EA99-428A-AE59-09EF474D156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0983-7BE1-44F0-955C-36182201B89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F074-1390-4EBA-8E88-026E9C4C3FC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5E6D-5C74-4E41-8F94-564F5210AF8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6F37-DF68-4936-9D1F-B62C1EAE1C9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EC3B-8AF2-4EFA-A5BE-DE7D3D03AF3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E11F-2DF8-40C8-88F6-891FB578BC8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57B3-78CC-46B9-9B66-11EFA70744E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E809-932E-486D-8137-D5D422E42C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7229-2E80-49B5-9559-8456588FEF2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ACA1-C659-4DC8-8E8E-607C0A189D5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4362-2806-44D4-9D12-C056F32B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A7DD-223D-4767-BAEC-898AB0D6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EB31-B774-4EEB-9BBB-FD67FF47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B3B2-FAF5-418C-B95E-91DEFAF0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0305-48B8-42DB-8CD7-FAB762F3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0EB7-EDC5-4DCC-B491-BAAEA4D7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8E8B-9F35-427E-9318-A5C07C90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9BD2-9AD9-4001-9E93-B7BDA45F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2E8F-4B3E-4D7A-91A8-F97E9C6B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7895-D2DF-489C-8366-747B70D3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89C1-41A5-45CF-81F3-0B305701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35F2-E3A6-44DB-A870-65ACB319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9FDD-0A5B-43D6-B5A4-579CB4A4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107E-71A8-4098-95E0-5E7FEE20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9C88-028E-41BD-AB0B-FAE2A7DB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7AAE-FEF6-4518-A87A-7697AD58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AE86-7FFD-4358-8042-DB77EA2D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EBFA8-9F5E-40CC-8848-E26632E4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CC5A0-FF05-4439-BC1B-C1C3975E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AD25A-8D90-4E54-BC98-F70CEDF2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945FF-E274-4275-9418-FBC5F613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BDADA-9C6B-442A-9121-DCA5FF7D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AAB2-33BB-427C-8DEB-AB57F1B1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8BB12-246B-464C-8622-C410BFAD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77B72-3C11-4C32-AF64-DB0AC35E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7787E-1467-4839-9B22-C9C6AB5B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9175A-0D39-4330-975D-CAE2E13F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BD38B-24DC-4BD2-85A3-44C932EC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7D3E3-70D4-44E9-9C4B-02F0878F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0EC55-A5E1-43F8-B6BE-8C6A459F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C586-B8F3-465A-938B-865FACD6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3FB6-E04C-49CA-A301-9415A3DF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B0AD-D3D2-43C5-BCF1-1A8FB392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60AB-7DC3-4116-936F-C3E368A0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0EEE-6DAD-4044-8D39-6F3E2E2B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6EC7-59E9-4F25-919B-9CD209E3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C26E-57A9-4126-B28F-9FE4553460BC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7622-A671-44BE-87F8-5F8E859C8460}" type="slidenum"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DCEE-BAC2-45F9-8CEE-A696646B9900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piperreport.com/archives/images/Capsules.jpg&amp;imgrefurl=http://www.al-yemen.org/vb/showthread.php%3Ft%3D248219&amp;usg=__HChCqwrKTkWCkTOpjbA5fxO5hao=&amp;h=600&amp;w=800&amp;sz=314&amp;hl=ar&amp;start=3&amp;tbnid=49tTu9l0FVt9TM:&amp;tbnh=107&amp;tbnw=143&amp;prev=/images%3Fq%3Dcapsules%26gbv%3D2%26hl%3Dar%26safe%3Dactive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.sa/imgres?imgurl=http://img.alibaba.com/photo/248484385/Paracetamoll_tablets_500mg_pharmaceutical_drugs.jpg&amp;imgrefurl=http://xierkangtai.en.alibaba.com/product/248484385-200681436/Paracetamoll_tablets_500mg_pharmaceutical_drugs.html&amp;usg=__Hwfk8LuB1mXjM4QkLpOITX__63k=&amp;h=980&amp;w=1306&amp;sz=174&amp;hl=ar&amp;start=1&amp;tbnid=CBPvQjm3WXWGkM:&amp;tbnh=113&amp;tbnw=150&amp;prev=/images%3Fq%3Ddrugs%2Btablet%26gbv%3D2%26hl%3Dar%26safe%3Dactive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.sa/imgres?imgurl=http://www.healthsquare.com/common/images/s/SB_35120_121115_5.JPG&amp;imgrefurl=http://www.healthsquare.com/drugs/121123.htm&amp;usg=__6X3Oc00KEiLFpVWnH1djZGthbEs=&amp;h=216&amp;w=288&amp;sz=34&amp;hl=ar&amp;start=8&amp;tbnid=NteYVoV5W05xtM:&amp;tbnh=86&amp;tbnw=115&amp;prev=/images%3Fq%3Dspansule%26gbv%3D2%26hl%3Dar%26safe%3Dactive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.sa/imgres?imgurl=http://imghost.indiamart.com/data/Q/G/MY-1386710/soft-gelatin-capsules_10757794_250x250.jpg&amp;imgrefurl=http://dir.indiamart.com/impcat/soft-gelatin-capsules.html&amp;usg=__ctbHQfPmJMQj0m0qYPO4PLbmaNE=&amp;h=250&amp;w=250&amp;sz=10&amp;hl=ar&amp;start=7&amp;tbnid=2J5d3wfgmKUbBM:&amp;tbnh=111&amp;tbnw=111&amp;prev=/images%3Fq%3Dsoft%2Bgelatin%2Bcapsule%26gbv%3D2%26hl%3Dar%26safe%3Dactive%26sa%3DG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www.google.com.sa/imgres?imgurl=http://kenoath.files.wordpress.com/2008/06/pd_cough_syrup_070816_ms.jpg&amp;imgrefurl=http://mortada8.maktoobblog.com/category/pharmaceutical-dosage-forms/&amp;usg=__tPLbdr3mzNnA2ZnO_bcynoQT7mQ=&amp;h=310&amp;w=413&amp;sz=22&amp;hl=ar&amp;start=8&amp;zoom=1&amp;itbs=1&amp;tbnid=087-zEfXAWRqsM:&amp;tbnh=94&amp;tbnw=125&amp;prev=/images%3Fq%3Ddrug%2Bas%2Bsuspensions%26hl%3Dar%26safe%3Dactive%26sa%3DG%26gbv%3D2%26tbs%3Disch:1" TargetMode="External"/><Relationship Id="rId10" Type="http://schemas.openxmlformats.org/officeDocument/2006/relationships/hyperlink" Target="http://www.google.com.sa/imgres?imgurl=http://kenoath.files.wordpress.com/2008/06/pd_cough_syrup_070816_ms.jpg&amp;imgrefurl=http://mortada8.maktoobblog.com/category/pharmaceutical-dosage-forms/&amp;usg=__tPLbdr3mzNnA2ZnO_bcynoQT7mQ=&amp;h=310&amp;w=413&amp;sz=22&amp;hl=ar&amp;start=8&amp;zoom=1&amp;itbs=1&amp;tbnid=087-zEfXAWRqsM:&amp;tbnh=94&amp;tbnw=125&amp;prev=/images%3Fq%3Ddrug%2Bas%2Bsuspensions%26hl%3Dar%26safe%3Dactive%26sa%3DG%26gbv%3D2%26tbs%3Disch:1" TargetMode="External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skinstep.com/product_images/acne-controle-fluid-ampoule-03494187001.jpg&amp;imgrefurl=http://www.skinstep.com/elene/&amp;usg=__1MZFGMaJK3hwVCZ5N8wtLZCXpXk=&amp;h=350&amp;w=350&amp;sz=61&amp;hl=ar&amp;start=7&amp;tbnid=nxrySF-bPv4NNM:&amp;tbnh=120&amp;tbnw=120&amp;prev=/images%3Fq%3Dampoule%26gbv%3D2%26hl%3Dar%26safe%3Dactive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053"/>
          <p:cNvSpPr/>
          <p:nvPr/>
        </p:nvSpPr>
        <p:spPr>
          <a:xfrm>
            <a:off x="324000" y="836640"/>
            <a:ext cx="8424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kinetics I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administration and absor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rof. Hanan Hag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Dr Ishfaq Bukha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harmacology Depar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497800" cy="54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teral via gastrointestinal tract (GIT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Or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ubling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ect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enteral administration = inj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pical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ha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3"/>
          <p:cNvSpPr txBox="1"/>
          <p:nvPr/>
        </p:nvSpPr>
        <p:spPr>
          <a:xfrm>
            <a:off x="1187280" y="260280"/>
            <a:ext cx="6553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outes of drug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50920" y="765000"/>
          <a:ext cx="8785080" cy="5950080"/>
        </p:xfrm>
        <a:graphic>
          <a:graphicData uri="http://schemas.openxmlformats.org/drawingml/2006/table">
            <a:tbl>
              <a:tblPr/>
              <a:tblGrid>
                <a:gridCol w="3089160"/>
                <a:gridCol w="5695920"/>
              </a:tblGrid>
              <a:tr h="630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9720">
                <a:tc>
                  <a:txBody>
                    <a:bodyPr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m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Eas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f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nven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che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No need for steril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low effec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IT irri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struction by pH &amp; enzy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ood - drug inter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g-drug inter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irst pass 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 complete absor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w bioavaila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Not suitable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fo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omiting &amp; unconscious pat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mergency &amp; bad taste dru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8" name="WordArt 14"/>
          <p:cNvSpPr txBox="1"/>
          <p:nvPr/>
        </p:nvSpPr>
        <p:spPr>
          <a:xfrm>
            <a:off x="1332000" y="189000"/>
            <a:ext cx="612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r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7640" y="189000"/>
            <a:ext cx="46083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First pass eff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ugs given orally are first taken to the liver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(via portal circulation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 they are metabolized before reaching to the blood to be distributed to all other body compart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Picture 004"/>
          <p:cNvPicPr/>
          <p:nvPr/>
        </p:nvPicPr>
        <p:blipFill>
          <a:blip r:embed="rId1"/>
          <a:srcRect l="0" t="0" r="8522" b="5357"/>
          <a:stretch/>
        </p:blipFill>
        <p:spPr>
          <a:xfrm>
            <a:off x="4716360" y="189000"/>
            <a:ext cx="4105440" cy="648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7892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Where does it occu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850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850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T wal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850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lum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rst pass metabolism results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bioavailabilit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ow conc. of drug in bloo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duration of action (t 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with high first pass effect should not be given orally but parenter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AutoShape 2" descr=""/>
          <p:cNvPicPr/>
          <p:nvPr/>
        </p:nvPicPr>
        <p:blipFill>
          <a:blip r:embed="rId1"/>
          <a:stretch/>
        </p:blipFill>
        <p:spPr>
          <a:xfrm>
            <a:off x="871560" y="-311040"/>
            <a:ext cx="7924680" cy="136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408720"/>
          </a:xfrm>
          <a:prstGeom prst="rect">
            <a:avLst/>
          </a:prstGeom>
          <a:ln w="31680">
            <a:solidFill>
              <a:srgbClr val="000000"/>
            </a:solidFill>
            <a:round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285480"/>
            <a:ext cx="843588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Oral Dosage Forms (oral formula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609840">
              <a:lnSpc>
                <a:spcPct val="100000"/>
              </a:lnSpc>
              <a:spcBef>
                <a:spcPts val="11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ated table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ugar-coated to mask bad tas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609840">
              <a:lnSpc>
                <a:spcPct val="100000"/>
              </a:lnSpc>
              <a:spcBef>
                <a:spcPts val="11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teric coated table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issolve only 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s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609840">
              <a:lnSpc>
                <a:spcPct val="100000"/>
              </a:lnSpc>
              <a:spcBef>
                <a:spcPts val="11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rd gelatin capsules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ain pow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609840">
              <a:lnSpc>
                <a:spcPct val="100000"/>
              </a:lnSpc>
              <a:spcBef>
                <a:spcPts val="11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ft gelatin capsules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ain liqu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rup (e.g. Cough syru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ension (mixture of solid in liquids e.g. antibiotic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apsul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221000"/>
            <a:ext cx="2376720" cy="1873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Paracetamoll_tablets_500mg_pharmaceutical_drug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907920"/>
            <a:ext cx="2376720" cy="2017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SB_35120_121115_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08720" y="907920"/>
            <a:ext cx="2303280" cy="1800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soft-gelatin-capsules_10757794_250x25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148360" y="4292640"/>
            <a:ext cx="2736720" cy="18003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395280" y="2602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250920" y="306864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rd- gelatin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5364000" y="260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n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4788000" y="2997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ft- gelatin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4">
            <a:hlinkClick r:id="rId9"/>
          </p:cNvPr>
          <p:cNvSpPr/>
          <p:nvPr/>
        </p:nvSpPr>
        <p:spPr>
          <a:xfrm>
            <a:off x="3976560" y="2981160"/>
            <a:ext cx="119088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6">
            <a:hlinkClick r:id="rId10"/>
          </p:cNvPr>
          <p:cNvSpPr/>
          <p:nvPr/>
        </p:nvSpPr>
        <p:spPr>
          <a:xfrm>
            <a:off x="3976560" y="2981160"/>
            <a:ext cx="119088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50920" y="907920"/>
          <a:ext cx="8642160" cy="5473800"/>
        </p:xfrm>
        <a:graphic>
          <a:graphicData uri="http://schemas.openxmlformats.org/drawingml/2006/table">
            <a:tbl>
              <a:tblPr/>
              <a:tblGrid>
                <a:gridCol w="5545080"/>
                <a:gridCol w="309708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pid effect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be used in emergenc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bioavailabil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first pass effect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GIT irrit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food drug – interac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osage form: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friable tablet (easily breaks and dissolves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not suitable for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rritant drug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equent 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7" name="WordArt 14"/>
          <p:cNvSpPr txBox="1"/>
          <p:nvPr/>
        </p:nvSpPr>
        <p:spPr>
          <a:xfrm>
            <a:off x="1332000" y="189000"/>
            <a:ext cx="6121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ublingual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14200" y="1000080"/>
          <a:ext cx="8713800" cy="5440320"/>
        </p:xfrm>
        <a:graphic>
          <a:graphicData uri="http://schemas.openxmlformats.org/drawingml/2006/table">
            <a:tbl>
              <a:tblPr/>
              <a:tblGrid>
                <a:gridCol w="5280120"/>
                <a:gridCol w="343368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6072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itable f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dren, vomiting,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conscious patien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ritant &amp; bad taste drug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s first pass metabolism  (50%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osage form: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ppository or enem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ritation of rectal mucos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regular absorption &amp; bioavailabil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0" name="WordArt 14"/>
          <p:cNvSpPr txBox="1"/>
          <p:nvPr/>
        </p:nvSpPr>
        <p:spPr>
          <a:xfrm>
            <a:off x="1357200" y="353880"/>
            <a:ext cx="6121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ct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569080" cy="5473800"/>
          </a:xfrm>
          <a:prstGeom prst="rect">
            <a:avLst/>
          </a:prstGeom>
          <a:noFill/>
          <a:ln w="9360">
            <a:solidFill>
              <a:srgbClr val="ec1edd"/>
            </a:solidFill>
            <a:miter/>
          </a:ln>
        </p:spPr>
        <p:txBody>
          <a:bodyPr anchor="t">
            <a:normAutofit/>
          </a:bodyPr>
          <a:p>
            <a:pPr indent="0" algn="just">
              <a:spcBef>
                <a:spcPts val="850"/>
              </a:spcBef>
              <a:buNone/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Intradermal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D.)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(into skin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ubcutaneous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S.C.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under sk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muscular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M.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into muscl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venous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V.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into vei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-arterial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A.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into arter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thecal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T.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cerebrospinal fluids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peritoneal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P.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peritoneal cavit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 - articular (Synovial fluid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3"/>
          <p:cNvSpPr txBox="1"/>
          <p:nvPr/>
        </p:nvSpPr>
        <p:spPr>
          <a:xfrm>
            <a:off x="1403280" y="260280"/>
            <a:ext cx="5545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renter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640" y="213840"/>
            <a:ext cx="8569080" cy="6239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the end of this lecture, the student should be able to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meaning of pharmacology and its bran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the different routes of drug admin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advantages and disadvantages of various routes of drug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various mechanisms of drug 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different factors affecting drug 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bioavailability and factors affect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3640" y="-360"/>
            <a:ext cx="8569080" cy="6381720"/>
          </a:xfrm>
          <a:prstGeom prst="rect">
            <a:avLst/>
          </a:prstGeom>
          <a:noFill/>
          <a:ln w="9360">
            <a:solidFill>
              <a:srgbClr val="ec1edd"/>
            </a:solidFill>
            <a:miter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dvantages of inj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gastric irri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food-drug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drug-drug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first pas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availability than 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sadvant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n, tissue necrosis or abscess (I.M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phylactic reaction (I.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3"/>
          <p:cNvSpPr txBox="1"/>
          <p:nvPr/>
        </p:nvSpPr>
        <p:spPr>
          <a:xfrm>
            <a:off x="1619280" y="0"/>
            <a:ext cx="5545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renter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79280" y="214200"/>
          <a:ext cx="8785440" cy="3070440"/>
        </p:xfrm>
        <a:graphic>
          <a:graphicData uri="http://schemas.openxmlformats.org/drawingml/2006/table">
            <a:tbl>
              <a:tblPr/>
              <a:tblGrid>
                <a:gridCol w="5699160"/>
                <a:gridCol w="3086280"/>
              </a:tblGrid>
              <a:tr h="5796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Intradermal administr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0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ute volume of drug (0.1 ml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vaccination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sitivity tes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t suitable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for large volum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79280" y="3032280"/>
          <a:ext cx="8785440" cy="3597120"/>
        </p:xfrm>
        <a:graphic>
          <a:graphicData uri="http://schemas.openxmlformats.org/drawingml/2006/table">
            <a:tbl>
              <a:tblPr/>
              <a:tblGrid>
                <a:gridCol w="5608800"/>
                <a:gridCol w="3176640"/>
              </a:tblGrid>
              <a:tr h="5792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Subcutaneous administr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23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er volume (0.1 ml – 1 ml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d for sustained release effec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</a:t>
                      </a:r>
                      <a:r>
                        <a:rPr b="1" lang="en-US" sz="3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oorly soluble suspensions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.g. insulin zinc prepara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t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itable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for large volum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79280" y="214200"/>
          <a:ext cx="8964720" cy="6000840"/>
        </p:xfrm>
        <a:graphic>
          <a:graphicData uri="http://schemas.openxmlformats.org/drawingml/2006/table">
            <a:tbl>
              <a:tblPr/>
              <a:tblGrid>
                <a:gridCol w="5267520"/>
                <a:gridCol w="3697200"/>
              </a:tblGrid>
              <a:tr h="650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Intramuscular administr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ate volumes (3-5 ml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longed duration of actio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ily preparations or poorly  soluble substances can be us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t suitable f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ritant drug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n, abscess, tissue necrosis may happ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79280" y="765000"/>
          <a:ext cx="8785440" cy="5753160"/>
        </p:xfrm>
        <a:graphic>
          <a:graphicData uri="http://schemas.openxmlformats.org/drawingml/2006/table">
            <a:tbl>
              <a:tblPr/>
              <a:tblGrid>
                <a:gridCol w="5329440"/>
                <a:gridCol w="3456000"/>
              </a:tblGrid>
              <a:tr h="587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e volume (500ml can be given by infusio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pid action </a:t>
                      </a: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emergenc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 bioavailabilit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food-drug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first pass metabol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gastric irrita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itable f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3b812f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miting &amp;unconsci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3b812f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ritant &amp; bad taste drug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used only for water soluble dru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phylax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eril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t suitable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oily solutions or poorly soluble substan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2" name="Rectangle 4"/>
          <p:cNvSpPr/>
          <p:nvPr/>
        </p:nvSpPr>
        <p:spPr>
          <a:xfrm>
            <a:off x="1357200" y="71280"/>
            <a:ext cx="5577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Intravenous administr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mpoule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acne-controle-fluid-ampoule-03494187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1720"/>
            <a:ext cx="3024360" cy="259092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pic>
        <p:nvPicPr>
          <p:cNvPr id="205" name="Picture 4" descr="Internal_Standard_Ampoule"/>
          <p:cNvPicPr/>
          <p:nvPr/>
        </p:nvPicPr>
        <p:blipFill>
          <a:blip r:embed="rId3"/>
          <a:stretch/>
        </p:blipFill>
        <p:spPr>
          <a:xfrm>
            <a:off x="1042920" y="1700280"/>
            <a:ext cx="3024360" cy="25938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206" name="Text Box 5"/>
          <p:cNvSpPr/>
          <p:nvPr/>
        </p:nvSpPr>
        <p:spPr>
          <a:xfrm>
            <a:off x="1042920" y="981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Single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5003640" y="105264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Repeated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08000" y="115920"/>
          <a:ext cx="8785080" cy="6570720"/>
        </p:xfrm>
        <a:graphic>
          <a:graphicData uri="http://schemas.openxmlformats.org/drawingml/2006/table">
            <a:tbl>
              <a:tblPr/>
              <a:tblGrid>
                <a:gridCol w="1800000"/>
                <a:gridCol w="3456000"/>
                <a:gridCol w="3529080"/>
              </a:tblGrid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njec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ute volume (0.1 m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vaccin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amp; sensitivity 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itable for large volu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ume (0.1 ml – 1 ml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poorly soluble suspensions and for instillation of slow-release implants e.g. insulin zinc prepa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itable for large volu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5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moderate volumes 3-5 ml, for oily solutions or poorly soluble substa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itable for irritant dru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scess- necrosis may happ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4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V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large volumes and for irritating substa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00 ml can be given by infusion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itable for oily solutions or poorly soluble substa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st inject solutions slowly as a rule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rugs are mainly applied topically to produce local effects. They are applied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kin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percutaneous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.g. allergy test, topical antibacterial and steroids and  local anesthetic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ucous membrane of respiratory tract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Inhalation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.g. asth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ye drops e.g. conjunctivit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ar drops e.g. otitis exter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nasal e.g. decongestant nasal spr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WordArt 3"/>
          <p:cNvSpPr txBox="1"/>
          <p:nvPr/>
        </p:nvSpPr>
        <p:spPr>
          <a:xfrm>
            <a:off x="2411280" y="404640"/>
            <a:ext cx="48006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pical applic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33280" y="752400"/>
          <a:ext cx="8712360" cy="6105600"/>
        </p:xfrm>
        <a:graphic>
          <a:graphicData uri="http://schemas.openxmlformats.org/drawingml/2006/table">
            <a:tbl>
              <a:tblPr/>
              <a:tblGrid>
                <a:gridCol w="5614920"/>
                <a:gridCol w="309744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272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apid absorp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(due to large surface are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itable for emerg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vide local action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imited systemic 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ss side 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 first pass ef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Dosage form: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olatile gases  e.g. anesthe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iquids given by aerosol, nebulizer/inhaler for asthma treat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suitable for irritant dru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few drugs can be u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4" name="WordArt 14"/>
          <p:cNvSpPr txBox="1"/>
          <p:nvPr/>
        </p:nvSpPr>
        <p:spPr>
          <a:xfrm>
            <a:off x="1928880" y="189000"/>
            <a:ext cx="5572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hal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85480" y="907560"/>
            <a:ext cx="8643960" cy="57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medicated adhesive patch applied to skin to provide systemic effect  (prolonged drug action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the nicotine patche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quit smok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Scopolamin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vestibular depressant, antiemetic for motion sicknes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patch"/>
          <p:cNvPicPr/>
          <p:nvPr/>
        </p:nvPicPr>
        <p:blipFill>
          <a:blip r:embed="rId1"/>
          <a:stretch/>
        </p:blipFill>
        <p:spPr>
          <a:xfrm>
            <a:off x="6215040" y="4143240"/>
            <a:ext cx="2664000" cy="2305080"/>
          </a:xfrm>
          <a:prstGeom prst="rect">
            <a:avLst/>
          </a:prstGeom>
          <a:ln w="0">
            <a:noFill/>
          </a:ln>
        </p:spPr>
      </p:pic>
      <p:sp>
        <p:nvSpPr>
          <p:cNvPr id="217" name="WordArt 4"/>
          <p:cNvSpPr txBox="1"/>
          <p:nvPr/>
        </p:nvSpPr>
        <p:spPr>
          <a:xfrm>
            <a:off x="1428840" y="214200"/>
            <a:ext cx="578304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ansdermal patch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nebulizer"/>
          <p:cNvPicPr/>
          <p:nvPr/>
        </p:nvPicPr>
        <p:blipFill>
          <a:blip r:embed="rId1"/>
          <a:stretch/>
        </p:blipFill>
        <p:spPr>
          <a:xfrm>
            <a:off x="1042920" y="1052640"/>
            <a:ext cx="2521080" cy="2305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flixotide-fluticasone-propionate"/>
          <p:cNvPicPr/>
          <p:nvPr/>
        </p:nvPicPr>
        <p:blipFill>
          <a:blip r:embed="rId2"/>
          <a:stretch/>
        </p:blipFill>
        <p:spPr>
          <a:xfrm>
            <a:off x="5076720" y="1052640"/>
            <a:ext cx="2592360" cy="230508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220" name="Text Box 4"/>
          <p:cNvSpPr/>
          <p:nvPr/>
        </p:nvSpPr>
        <p:spPr>
          <a:xfrm>
            <a:off x="539640" y="33336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800" spc="-1" strike="noStrike">
                <a:solidFill>
                  <a:srgbClr val="000000"/>
                </a:solidFill>
                <a:latin typeface="Arial"/>
              </a:rPr>
              <a:t>Nebulizer                               Atom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nebulizer"/>
          <p:cNvPicPr/>
          <p:nvPr/>
        </p:nvPicPr>
        <p:blipFill>
          <a:blip r:embed="rId3"/>
          <a:stretch/>
        </p:blipFill>
        <p:spPr>
          <a:xfrm>
            <a:off x="428760" y="3571920"/>
            <a:ext cx="4176720" cy="28814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commended book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pincott’s illustrated reviews (Pharmacology)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Howland and Myce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and Clinical Pharmacology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Katzu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passage of drug from its site of administration to site of action across cell membra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WordArt 3"/>
          <p:cNvSpPr txBox="1"/>
          <p:nvPr/>
        </p:nvSpPr>
        <p:spPr>
          <a:xfrm>
            <a:off x="2195640" y="333360"/>
            <a:ext cx="415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ug absorpt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539640" y="3645000"/>
            <a:ext cx="3095640" cy="12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4211640" y="3213000"/>
            <a:ext cx="216000" cy="2592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861080" y="3645000"/>
            <a:ext cx="302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3708360" y="407664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3708360" y="465300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3059280" y="2637000"/>
            <a:ext cx="2592360" cy="4597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membra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85480" y="1213920"/>
            <a:ext cx="8638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 for intravenous administration, all routes of drug administration require that the drug be absorbed from the site of administration into the systemic circulation (bloo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I.V. administration requires no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WordArt 7"/>
          <p:cNvSpPr txBox="1"/>
          <p:nvPr/>
        </p:nvSpPr>
        <p:spPr>
          <a:xfrm>
            <a:off x="2195640" y="333360"/>
            <a:ext cx="415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ug absorpt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34" name="Rectangle 4"/>
          <p:cNvSpPr/>
          <p:nvPr/>
        </p:nvSpPr>
        <p:spPr>
          <a:xfrm>
            <a:off x="179280" y="189000"/>
            <a:ext cx="1871640" cy="718920"/>
          </a:xfrm>
          <a:prstGeom prst="rect">
            <a:avLst/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698920" y="117360"/>
            <a:ext cx="3960720" cy="719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orption &amp;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093080" y="117360"/>
            <a:ext cx="1871640" cy="719280"/>
          </a:xfrm>
          <a:prstGeom prst="rect">
            <a:avLst/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14200" y="1341360"/>
            <a:ext cx="8715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nsport of drugs across cell membrane occurs through one or more of the following proces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spcBef>
                <a:spcPts val="7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e diffusion = passive diff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spcBef>
                <a:spcPts val="7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e trans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spcBef>
                <a:spcPts val="7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ilitated diff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spcBef>
                <a:spcPts val="7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nocytosis (Endocytos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3"/>
          <p:cNvSpPr txBox="1"/>
          <p:nvPr/>
        </p:nvSpPr>
        <p:spPr>
          <a:xfrm>
            <a:off x="1071720" y="333360"/>
            <a:ext cx="6929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chanisms of drug absorpt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CellMembrane"/>
          <p:cNvPicPr/>
          <p:nvPr/>
        </p:nvPicPr>
        <p:blipFill>
          <a:blip r:embed="rId1"/>
          <a:stretch/>
        </p:blipFill>
        <p:spPr>
          <a:xfrm>
            <a:off x="324000" y="907920"/>
            <a:ext cx="8569080" cy="576108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sp>
        <p:nvSpPr>
          <p:cNvPr id="240" name="WordArt 4"/>
          <p:cNvSpPr txBox="1"/>
          <p:nvPr/>
        </p:nvSpPr>
        <p:spPr>
          <a:xfrm>
            <a:off x="2195640" y="189000"/>
            <a:ext cx="4019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ell membra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7" descr="Cell membrane in detail"/>
          <p:cNvPicPr/>
          <p:nvPr/>
        </p:nvPicPr>
        <p:blipFill>
          <a:blip r:embed="rId1"/>
          <a:stretch/>
        </p:blipFill>
        <p:spPr>
          <a:xfrm>
            <a:off x="395280" y="836640"/>
            <a:ext cx="8280360" cy="511344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640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876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imes New Roman"/>
              </a:rPr>
              <a:t>Aqueous diffusion: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low molecular weight and water soluble drugs can diffuse through aqueous channels or pores in cell membrane 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filtration)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876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imes New Roman"/>
              </a:rPr>
              <a:t>Lipid diffusion: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low molecular weight and lipid soluble drugs are absorbed via diffusion through lipid cell membrane itself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WordArt 3"/>
          <p:cNvSpPr txBox="1"/>
          <p:nvPr/>
        </p:nvSpPr>
        <p:spPr>
          <a:xfrm>
            <a:off x="1357200" y="285840"/>
            <a:ext cx="61437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ypes of passiv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424720" cy="5904000"/>
          </a:xfrm>
          <a:prstGeom prst="rect">
            <a:avLst/>
          </a:prstGeom>
          <a:ln w="31680">
            <a:solidFill>
              <a:srgbClr val="5f5f5f"/>
            </a:solidFill>
            <a:round/>
          </a:ln>
        </p:spPr>
      </p:pic>
      <p:sp>
        <p:nvSpPr>
          <p:cNvPr id="245" name="WordArt 3"/>
          <p:cNvSpPr txBox="1"/>
          <p:nvPr/>
        </p:nvSpPr>
        <p:spPr>
          <a:xfrm>
            <a:off x="1187280" y="189000"/>
            <a:ext cx="6840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7273800" cy="6408720"/>
          </a:xfrm>
          <a:prstGeom prst="rect">
            <a:avLst/>
          </a:prstGeom>
          <a:ln w="31680">
            <a:solidFill>
              <a:srgbClr val="5f5f5f"/>
            </a:solidFill>
            <a:miter/>
          </a:ln>
        </p:spPr>
      </p:pic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285840" y="785880"/>
            <a:ext cx="88581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harac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ith or along concentration gradi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sel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at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s on lipid solu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s on pka of drug - pH of the environment (it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can be fluid of the cell body, blood, urin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971640" y="7650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WordArt 7"/>
          <p:cNvSpPr txBox="1"/>
          <p:nvPr/>
        </p:nvSpPr>
        <p:spPr>
          <a:xfrm>
            <a:off x="357120" y="260280"/>
            <a:ext cx="500076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What is Pharmacology?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the Greek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harmak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drug)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legei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to speak or discus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ly defined as the study of how  chemical agents affect living proces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 Hormones, Neurotransmitters and dru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diffusion2"/>
          <p:cNvPicPr/>
          <p:nvPr/>
        </p:nvPicPr>
        <p:blipFill>
          <a:blip r:embed="rId1">
            <a:lum contrast="-2000"/>
          </a:blip>
          <a:srcRect l="0" t="0" r="0" b="29921"/>
          <a:stretch/>
        </p:blipFill>
        <p:spPr>
          <a:xfrm>
            <a:off x="468360" y="1701720"/>
            <a:ext cx="8280360" cy="5040360"/>
          </a:xfrm>
          <a:prstGeom prst="rect">
            <a:avLst/>
          </a:prstGeom>
          <a:ln w="0">
            <a:noFill/>
          </a:ln>
        </p:spPr>
      </p:pic>
      <p:sp>
        <p:nvSpPr>
          <p:cNvPr id="251" name="WordArt 6"/>
          <p:cNvSpPr txBox="1"/>
          <p:nvPr/>
        </p:nvSpPr>
        <p:spPr>
          <a:xfrm>
            <a:off x="2627280" y="117360"/>
            <a:ext cx="401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2" name="WordArt 7"/>
          <p:cNvSpPr txBox="1"/>
          <p:nvPr/>
        </p:nvSpPr>
        <p:spPr>
          <a:xfrm>
            <a:off x="826920" y="1125360"/>
            <a:ext cx="324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igh con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3" name="WordArt 8"/>
          <p:cNvSpPr txBox="1"/>
          <p:nvPr/>
        </p:nvSpPr>
        <p:spPr>
          <a:xfrm>
            <a:off x="5076720" y="1052640"/>
            <a:ext cx="324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ow con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42560" y="856800"/>
            <a:ext cx="8929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1080" indent="2196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st drugs are weak acids or weak b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080" indent="2196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ugs can exist in two forms ionized (water soluble) &amp; unionized forms (lipid soluble) in equilibrium.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080" indent="2196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unionized for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absorb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080" indent="2196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onization of drugs reduce passage of drugs across cell membra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080" indent="2196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degree of ionization of drugs is determined by their pKa and pH of the surrou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WordArt 1028"/>
          <p:cNvSpPr txBox="1"/>
          <p:nvPr/>
        </p:nvSpPr>
        <p:spPr>
          <a:xfrm>
            <a:off x="357120" y="214200"/>
            <a:ext cx="4286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 Effec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79280" y="285480"/>
            <a:ext cx="864072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Water soluble drug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ionized = polar = charged are difficult to permeate cell membra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Lipid soluble drugs 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ionized = non polar = uncharged are easy to permeate cell membr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WordArt 3"/>
          <p:cNvSpPr txBox="1"/>
          <p:nvPr/>
        </p:nvSpPr>
        <p:spPr>
          <a:xfrm>
            <a:off x="357120" y="214200"/>
            <a:ext cx="502308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member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2" descr=""/>
          <p:cNvPicPr/>
          <p:nvPr/>
        </p:nvPicPr>
        <p:blipFill>
          <a:blip r:embed="rId1"/>
          <a:stretch/>
        </p:blipFill>
        <p:spPr>
          <a:xfrm>
            <a:off x="201600" y="262080"/>
            <a:ext cx="8693280" cy="6333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42920" y="285840"/>
            <a:ext cx="8786880" cy="60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Ka of the dr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Dissociation or ionization constant): pH at which half of the substance is ionized &amp; half is unioniz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ower the pKa value (pKa &lt; 6) of the acidic drug, the stronger the acid e.g aspirin         (Pka= 3.0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higher the pKa value (pKa &gt;8) of a basic drug, the stronger the base e.g propranolol          ( pKa= 9.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Which one of the following drugs will be best absorbed in stomach (pH=1-2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spirin              pka=3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ranolol     pka= 9.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07640" y="980640"/>
            <a:ext cx="8785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tively uncomm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curs </a:t>
            </a:r>
            <a:r>
              <a:rPr b="0" lang="en-US" sz="3000" spc="-1" strike="noStrike" u="sng">
                <a:solidFill>
                  <a:srgbClr val="c00000"/>
                </a:solidFill>
                <a:uFillTx/>
                <a:latin typeface="Arial"/>
              </a:rPr>
              <a:t>against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ntration gradi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3000" spc="-1" strike="noStrike" u="sng">
                <a:solidFill>
                  <a:srgbClr val="c00000"/>
                </a:solidFill>
                <a:uFillTx/>
                <a:latin typeface="Arial"/>
              </a:rPr>
              <a:t>carri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000" spc="-1" strike="noStrike" u="sng">
                <a:solidFill>
                  <a:srgbClr val="c00000"/>
                </a:solidFill>
                <a:uFillTx/>
                <a:latin typeface="Arial"/>
              </a:rPr>
              <a:t>energy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fic or selec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ur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51"/>
              </a:spcBef>
              <a:buNone/>
              <a:tabLst>
                <a:tab algn="l" pos="0"/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sorption of sugar, amino aci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take of levodopa by br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vodopa is used in treatment of parkinson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1028"/>
          <p:cNvSpPr txBox="1"/>
          <p:nvPr/>
        </p:nvSpPr>
        <p:spPr>
          <a:xfrm>
            <a:off x="399960" y="333360"/>
            <a:ext cx="417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ctive Transpor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5" descr="passive_active_transport"/>
          <p:cNvPicPr/>
          <p:nvPr/>
        </p:nvPicPr>
        <p:blipFill>
          <a:blip r:embed="rId1"/>
          <a:srcRect l="51826" t="9213" r="3887" b="0"/>
          <a:stretch/>
        </p:blipFill>
        <p:spPr>
          <a:xfrm>
            <a:off x="4716360" y="260280"/>
            <a:ext cx="4176720" cy="626436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  <p:pic>
        <p:nvPicPr>
          <p:cNvPr id="264" name="Picture 6" descr="passive_active_transport"/>
          <p:cNvPicPr/>
          <p:nvPr/>
        </p:nvPicPr>
        <p:blipFill>
          <a:blip r:embed="rId2"/>
          <a:srcRect l="0" t="9213" r="55713" b="0"/>
          <a:stretch/>
        </p:blipFill>
        <p:spPr>
          <a:xfrm>
            <a:off x="250920" y="260280"/>
            <a:ext cx="4363920" cy="626436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</p:spTree>
  </p:cSld>
  <p:transition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87280" y="1341360"/>
            <a:ext cx="8569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</a:t>
            </a:r>
            <a:r>
              <a:rPr b="0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al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ntration grad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nergy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c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sele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Sat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entry of glucose into musc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WordArt 5"/>
          <p:cNvSpPr txBox="1"/>
          <p:nvPr/>
        </p:nvSpPr>
        <p:spPr>
          <a:xfrm>
            <a:off x="1835280" y="26028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rrier-mediated Facilitated Diffus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facilitatedDiffusion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31680">
            <a:solidFill>
              <a:srgbClr val="3366ff"/>
            </a:solidFill>
            <a:miter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What is Pharmacolog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7892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8571f"/>
                </a:solidFill>
                <a:latin typeface="Arial"/>
              </a:rPr>
              <a:t>Pharmacology studies the effects of drugs and  how they exert their eff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a3664"/>
                </a:solidFill>
                <a:latin typeface="Arial"/>
              </a:rPr>
              <a:t>Acetylsalicylic acid (ASA) or Aspirin can redu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a3664"/>
                </a:solidFill>
                <a:latin typeface="Arial"/>
              </a:rPr>
              <a:t>inflammation, , pain and fe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a3664"/>
                </a:solidFill>
                <a:latin typeface="Arial"/>
              </a:rPr>
              <a:t>It inhibit the action of a human cell membrane  enzyme known as cyclooxygen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Penicillin cures certain bacterial infections disrupt the synthesis of cell walls in susceptib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bacterial strains by inhibiting a key enzy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250560" y="1052280"/>
            <a:ext cx="8893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ocytosis:</a:t>
            </a: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uptake of membrane-bound partic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ocytosis:</a:t>
            </a: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expulsion of membrane-bound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cytosis occ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r high molecular weight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molecules such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p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igh polar substa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uch as vitamin B12 &amp; i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 B12 combines with intrinsic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on combines with transferr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WordArt 4"/>
          <p:cNvSpPr txBox="1"/>
          <p:nvPr/>
        </p:nvSpPr>
        <p:spPr>
          <a:xfrm>
            <a:off x="1042920" y="260280"/>
            <a:ext cx="5905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agocytosis (Endocytosis &amp; Exocytosis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endocytosisAnimated"/>
          <p:cNvPicPr/>
          <p:nvPr/>
        </p:nvPicPr>
        <p:blipFill>
          <a:blip r:embed="rId1"/>
          <a:stretch/>
        </p:blipFill>
        <p:spPr>
          <a:xfrm>
            <a:off x="539640" y="1716120"/>
            <a:ext cx="3881520" cy="3441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exocytosisAnimated"/>
          <p:cNvPicPr/>
          <p:nvPr/>
        </p:nvPicPr>
        <p:blipFill>
          <a:blip r:embed="rId2"/>
          <a:stretch/>
        </p:blipFill>
        <p:spPr>
          <a:xfrm>
            <a:off x="4572000" y="1700280"/>
            <a:ext cx="3816360" cy="34574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7"/>
          <p:cNvSpPr/>
          <p:nvPr/>
        </p:nvSpPr>
        <p:spPr>
          <a:xfrm>
            <a:off x="684360" y="333360"/>
            <a:ext cx="158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WordArt 8"/>
          <p:cNvSpPr txBox="1"/>
          <p:nvPr/>
        </p:nvSpPr>
        <p:spPr>
          <a:xfrm>
            <a:off x="1042920" y="836640"/>
            <a:ext cx="27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(Endocytosis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4" name="WordArt 10"/>
          <p:cNvSpPr txBox="1"/>
          <p:nvPr/>
        </p:nvSpPr>
        <p:spPr>
          <a:xfrm>
            <a:off x="5148360" y="765000"/>
            <a:ext cx="2736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(Exocytosis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6732720" y="393372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4"/>
          <p:cNvSpPr/>
          <p:nvPr/>
        </p:nvSpPr>
        <p:spPr>
          <a:xfrm>
            <a:off x="7956720" y="37101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5724360" y="3710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755640" y="3860640"/>
            <a:ext cx="86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108000" y="3645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1692360" y="3645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Transport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5183280"/>
          </a:xfrm>
          <a:prstGeom prst="rect">
            <a:avLst/>
          </a:prstGeom>
          <a:ln w="0">
            <a:noFill/>
          </a:ln>
        </p:spPr>
      </p:pic>
      <p:sp>
        <p:nvSpPr>
          <p:cNvPr id="282" name="WordArt 5"/>
          <p:cNvSpPr txBox="1"/>
          <p:nvPr/>
        </p:nvSpPr>
        <p:spPr>
          <a:xfrm>
            <a:off x="1332000" y="404640"/>
            <a:ext cx="6696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chanisms of drug absorp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42560" y="260280"/>
            <a:ext cx="8893080" cy="640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Factors affecting absorp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of adminis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age form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pending on particle size and disintegration, ease of dissolu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(solution &gt; suspension &gt; capsule &gt; tabl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42560" y="260280"/>
            <a:ext cx="8893080" cy="640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ar weight of dr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 of i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solubility (aqueous preparation better than oily, suspension prepar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instability in gastric p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(Penicillin &amp; insuli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42920" y="260280"/>
            <a:ext cx="8786880" cy="640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Factors affecting absorp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face area available for absor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intestine has large surface area than stomach due to intestinal microvil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flow to absorptive s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eat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flow increases bio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stine has greater blood flow than 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stinal motility (transit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rrhea reduce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"/>
          <p:cNvSpPr/>
          <p:nvPr/>
        </p:nvSpPr>
        <p:spPr>
          <a:xfrm>
            <a:off x="4572000" y="3933720"/>
            <a:ext cx="936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191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ric empty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9640" indent="-3088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that increase gastric emptying enhances absorption (metoclopramid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lo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ric empty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ly slow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tracycline, aspirin, penicillin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atty me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the absorption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 soluble antifungal drug  (e.g. griseofulvi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47600" y="189000"/>
          <a:ext cx="8745480" cy="6480000"/>
        </p:xfrm>
        <a:graphic>
          <a:graphicData uri="http://schemas.openxmlformats.org/drawingml/2006/table">
            <a:tbl>
              <a:tblPr/>
              <a:tblGrid>
                <a:gridCol w="4222800"/>
                <a:gridCol w="4522680"/>
              </a:tblGrid>
              <a:tr h="1025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Passive transpor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Active transpor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1120">
                <a:tc>
                  <a:txBody>
                    <a:bodyPr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ong concentration gradie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(From high to low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gainst concentration gradie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(From low to high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eds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saturabl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turabl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selectiv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ectiv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energ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nergy is require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50920" y="209520"/>
          <a:ext cx="8713800" cy="5862600"/>
        </p:xfrm>
        <a:graphic>
          <a:graphicData uri="http://schemas.openxmlformats.org/drawingml/2006/table">
            <a:tbl>
              <a:tblPr/>
              <a:tblGrid>
                <a:gridCol w="4152960"/>
                <a:gridCol w="4560840"/>
              </a:tblGrid>
              <a:tr h="118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Active transpor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Carrier-mediated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facilitated diffus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9120"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gainst concentration gradi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From low to high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ong concentration gradi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From high to low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eds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eds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turab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turab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ecti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ecti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ergy is require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No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energy is requir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routes of administration ar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eral administration is the suitable route to provide rapid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I.V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ed in emergency and provide high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 administration is best avoided during emergency or when severe first pass metabolism may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may cross any cell membrane by simple diffusion, active transport, facilitated diffusion, and pinocyt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50560" y="213840"/>
            <a:ext cx="8435880" cy="6239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18252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harmacolog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s the science that deals with the drugs regarding clasification, pharmacokinetics, pharmacodynamics, side effects and therapeutic u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QUESTION"/>
          <p:cNvPicPr/>
          <p:nvPr/>
        </p:nvPicPr>
        <p:blipFill>
          <a:blip r:embed="rId1"/>
          <a:stretch/>
        </p:blipFill>
        <p:spPr>
          <a:xfrm>
            <a:off x="5940360" y="981000"/>
            <a:ext cx="2376720" cy="4103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j0078711"/>
          <p:cNvPicPr/>
          <p:nvPr/>
        </p:nvPicPr>
        <p:blipFill>
          <a:blip r:embed="rId2"/>
          <a:stretch/>
        </p:blipFill>
        <p:spPr>
          <a:xfrm>
            <a:off x="1476360" y="1916280"/>
            <a:ext cx="2057400" cy="39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14200" y="214200"/>
            <a:ext cx="87487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Pharmacokinetic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re studies of the absorption, distributio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tabolism &amp; excretion of dru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what the body does to a drug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Pharmacodynamic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re studies of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Mechanisms of drug a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Pharmacological effects of dru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what the drug does to the body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20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18252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Pharmacokinetics of drug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e studies of drugs regarding </a:t>
            </a: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ADM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spcBef>
                <a:spcPts val="850"/>
              </a:spcBef>
              <a:buClr>
                <a:srgbClr val="ff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bsorp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spcBef>
                <a:spcPts val="850"/>
              </a:spcBef>
              <a:buClr>
                <a:srgbClr val="ff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stribu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spcBef>
                <a:spcPts val="850"/>
              </a:spcBef>
              <a:buClr>
                <a:srgbClr val="ff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tabolism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spcBef>
                <a:spcPts val="850"/>
              </a:spcBef>
              <a:buClr>
                <a:srgbClr val="ff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xcre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3"/>
          <p:cNvSpPr txBox="1"/>
          <p:nvPr/>
        </p:nvSpPr>
        <p:spPr>
          <a:xfrm>
            <a:off x="2195640" y="333360"/>
            <a:ext cx="415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armacokinetics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79280" y="2060640"/>
            <a:ext cx="2519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780000" y="2060640"/>
            <a:ext cx="1944360" cy="23050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2771640" y="4149720"/>
            <a:ext cx="10083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250920" y="3716280"/>
            <a:ext cx="273528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2340000" y="5516640"/>
            <a:ext cx="259236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6516720" y="1987560"/>
            <a:ext cx="24462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6659640" y="476280"/>
            <a:ext cx="230328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x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5"/>
          <p:cNvSpPr/>
          <p:nvPr/>
        </p:nvSpPr>
        <p:spPr>
          <a:xfrm>
            <a:off x="826920" y="2997360"/>
            <a:ext cx="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8"/>
          <p:cNvSpPr/>
          <p:nvPr/>
        </p:nvSpPr>
        <p:spPr>
          <a:xfrm flipV="1">
            <a:off x="7451640" y="2997360"/>
            <a:ext cx="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5076720" y="616572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 flipV="1">
            <a:off x="7380360" y="4725720"/>
            <a:ext cx="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6154560" y="5445000"/>
            <a:ext cx="28814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organs 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4"/>
          <p:cNvSpPr/>
          <p:nvPr/>
        </p:nvSpPr>
        <p:spPr>
          <a:xfrm>
            <a:off x="684360" y="907920"/>
            <a:ext cx="0" cy="936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5"/>
          <p:cNvSpPr/>
          <p:nvPr/>
        </p:nvSpPr>
        <p:spPr>
          <a:xfrm>
            <a:off x="539640" y="333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6227640" y="3645000"/>
            <a:ext cx="24465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 of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7"/>
          <p:cNvSpPr/>
          <p:nvPr/>
        </p:nvSpPr>
        <p:spPr>
          <a:xfrm>
            <a:off x="4427640" y="4506840"/>
            <a:ext cx="0" cy="1009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8"/>
          <p:cNvSpPr/>
          <p:nvPr/>
        </p:nvSpPr>
        <p:spPr>
          <a:xfrm flipV="1">
            <a:off x="7524720" y="1267920"/>
            <a:ext cx="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9"/>
          <p:cNvSpPr/>
          <p:nvPr/>
        </p:nvSpPr>
        <p:spPr>
          <a:xfrm>
            <a:off x="5435640" y="4437000"/>
            <a:ext cx="72072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aboo alde</cp:lastModifiedBy>
  <dcterms:modified xsi:type="dcterms:W3CDTF">2015-09-08T11:28:52Z</dcterms:modified>
  <cp:revision>289</cp:revision>
  <dc:subject/>
  <dc:title>GENERAL PHARMACOLOGY</dc:title>
</cp:coreProperties>
</file>