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3.png" ContentType="image/png"/>
  <Override PartName="/ppt/media/image8.png" ContentType="image/png"/>
  <Override PartName="/ppt/media/image6.jpeg" ContentType="image/jpeg"/>
  <Override PartName="/ppt/media/image10.jpeg" ContentType="image/jpeg"/>
  <Override PartName="/ppt/media/image25.gif" ContentType="image/gif"/>
  <Override PartName="/ppt/media/image5.jpeg" ContentType="image/jpeg"/>
  <Override PartName="/ppt/media/image26.jpeg" ContentType="image/jpeg"/>
  <Override PartName="/ppt/media/image27.wmf" ContentType="image/x-wmf"/>
  <Override PartName="/ppt/media/image1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3.png" ContentType="image/png"/>
  <Override PartName="/ppt/media/image4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A83EA-44D3-4AD3-9D1A-72E6D60E33AD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57F1B-3BDF-46FA-9D8A-3C0FD4FE6CD2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506D0-C83C-4EA6-B298-5D6098128E14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5D299-AA96-4AFD-AD73-CCC5A7943D8B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69602-E31F-4562-865C-C3194CF25F5B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72750-91E9-4DF5-8461-4E2486C4B18E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5B328-7593-4EF0-B22E-D35AC7841949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A5845-5B41-4FB9-985F-620FF3764E5A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4E3ED-9F25-482B-ACB8-AE95F8D50277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1E060-5208-471B-B50A-A64226210AC1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90C99-CD87-452E-AF72-665EF80423EC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7D0B5-D5A6-4F67-9586-8FE6EDBCC0AF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6CF16-8735-4587-AB0B-47F94ACB36C5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49CC0-0248-4099-957E-08EC8EC616D3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66B06-F3E1-49F7-A010-910A6145A547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29CF9-1E3B-4A96-8327-AB658998ADFE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F0A2E-4310-4286-AFE1-1C763EA73BFF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C6D65-0AA0-4271-9EB8-4B1F8ABB2B49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1CCE9-567D-44FD-ACC5-25F07467FCDD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BF3C0-865E-495B-883E-32D99C516974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482EB-7199-4DFF-81E1-242981FC97C7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3AC04-2AE9-4A8B-A92E-60245C59D491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2E0C9-7A4F-4064-A497-B3D839139C1B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82855-850E-430F-BCB8-81D07A99841C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6C046-C2E6-48A5-BF69-889024FA1477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AD0F7-5B5B-48F4-BCE0-9FF60A57D3F4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6BFA9-8519-4F56-8BA9-2869848E7846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5D57F-8AEB-4C37-BB7C-E6F11126C9C3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18C5E-56D5-4A46-9726-A801D95E3C92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AB314-55F7-4E89-AE5E-DE5699643AD7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13710-290C-4DF8-84E0-C583AF5E804F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1A70B-5F36-4453-B028-7FC601E539ED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2E2CA-32A8-489B-AEEC-EF82A9934AA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9273D-E8AB-4075-8D61-2CAE897C7B47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CF01D-39AB-4CCB-93A9-B06C59F3CB7C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6EF49-4F75-464D-8B58-9D218FF78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A1481-C390-4994-B053-C03DC012C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9C94D-412E-4B7C-BDC9-0B9713916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DBC02-686D-4D3E-9431-99F2A94A6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D601C-027C-44F9-AD98-FA1D7ADE8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BE4C9-89C8-4C3B-812D-EAB4AB5FA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72CAE-24FB-4CDC-99DF-B6B85AF17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5CC46-74FB-463D-A604-673B2F72D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FD7DB-78E8-4320-887A-E47548955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9C3CE-0946-4C8D-A151-403B1ABC2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6E512-18B4-4DF5-8015-150B61496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91BE8-335B-46ED-B0C2-9488CB4D6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FB830-E92D-4940-86BF-51A9DDD91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F8619-E666-4877-94E5-1330EE861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982D1-D69C-44E4-8402-476A4D6AA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57728-82B6-4D61-A4C8-040774652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A7DF5-942D-4543-AFE2-7D22C5AFF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639ABC-BC0B-4C41-BAAA-51DAA869C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E09596-7577-4180-B9C8-AAE06DABF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216771-2231-40B0-AA86-467FCD268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BC90BE-1962-4E12-A594-107633A7B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04B57F-DD0E-4F86-A8C1-BABEE53D2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A21CA-866E-4E84-A696-1E0183E04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707CD9-071E-4883-9464-C6CD61499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CDC70B-808D-4518-B6CF-138148E73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FD64E4-4722-47A5-A457-CC8D68C5A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A9FCF7-E104-4C17-81F7-1AC6490BF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1DB79C-2779-4AEE-84C5-45A060943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982361-5F4A-4DF6-9E37-C9FF53764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23CD64-54E0-45F1-8A61-39DA03BAD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64BEC-E592-45F3-982B-16AA26F7A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A6BD5-D8A8-4BA9-A537-FB422152F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266BB-345A-4FA0-AFC6-4ECDF2C77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7F7BF-4EB3-492E-9001-58A48FB23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FB646-1E60-46BB-A100-79A7E8C08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0689E-79BB-4340-932F-BE87EA5BB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  <a:ea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21DD6-FC37-4A07-B8C3-2C9A07E79A11}" type="slidenum">
              <a:rPr b="0" lang="en-US" sz="1200" spc="-1" strike="noStrike">
                <a:solidFill>
                  <a:srgbClr val="000000"/>
                </a:solidFill>
                <a:latin typeface="Garamond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3EAFE-0DD5-4B68-9A7A-219E0C673492}" type="slidenum"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  <a:ea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4B10A-4662-4676-A249-60A556858938}" type="slidenum">
              <a:rPr b="0" lang="en-US" sz="1200" spc="-1" strike="noStrike">
                <a:solidFill>
                  <a:srgbClr val="000000"/>
                </a:solidFill>
                <a:latin typeface="Garamond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images.google.com.sa/imgres?imgurl=http://www.piperreport.com/archives/images/Capsules.jpg&amp;imgrefurl=http://www.al-yemen.org/vb/showthread.php%3Ft%3D248219&amp;usg=__HChCqwrKTkWCkTOpjbA5fxO5hao=&amp;h=600&amp;w=800&amp;sz=314&amp;hl=ar&amp;start=3&amp;tbnid=49tTu9l0FVt9TM:&amp;tbnh=107&amp;tbnw=143&amp;prev=/images%3Fq%3Dcapsules%26gbv%3D2%26hl%3Dar%26safe%3Dactive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images.google.com.sa/imgres?imgurl=http://img.alibaba.com/photo/248484385/Paracetamoll_tablets_500mg_pharmaceutical_drugs.jpg&amp;imgrefurl=http://xierkangtai.en.alibaba.com/product/248484385-200681436/Paracetamoll_tablets_500mg_pharmaceutical_drugs.html&amp;usg=__Hwfk8LuB1mXjM4QkLpOITX__63k=&amp;h=980&amp;w=1306&amp;sz=174&amp;hl=ar&amp;start=1&amp;tbnid=CBPvQjm3WXWGkM:&amp;tbnh=113&amp;tbnw=150&amp;prev=/images%3Fq%3Ddrugs%2Btablet%26gbv%3D2%26hl%3Dar%26safe%3Dactive" TargetMode="External"/><Relationship Id="rId4" Type="http://schemas.openxmlformats.org/officeDocument/2006/relationships/image" Target="../media/image5.jpeg"/><Relationship Id="rId5" Type="http://schemas.openxmlformats.org/officeDocument/2006/relationships/hyperlink" Target="http://images.google.com.sa/imgres?imgurl=http://www.healthsquare.com/common/images/s/SB_35120_121115_5.JPG&amp;imgrefurl=http://www.healthsquare.com/drugs/121123.htm&amp;usg=__6X3Oc00KEiLFpVWnH1djZGthbEs=&amp;h=216&amp;w=288&amp;sz=34&amp;hl=ar&amp;start=8&amp;tbnid=NteYVoV5W05xtM:&amp;tbnh=86&amp;tbnw=115&amp;prev=/images%3Fq%3Dspansule%26gbv%3D2%26hl%3Dar%26safe%3Dactive" TargetMode="External"/><Relationship Id="rId6" Type="http://schemas.openxmlformats.org/officeDocument/2006/relationships/image" Target="../media/image6.jpeg"/><Relationship Id="rId7" Type="http://schemas.openxmlformats.org/officeDocument/2006/relationships/hyperlink" Target="http://images.google.com.sa/imgres?imgurl=http://imghost.indiamart.com/data/Q/G/MY-1386710/soft-gelatin-capsules_10757794_250x250.jpg&amp;imgrefurl=http://dir.indiamart.com/impcat/soft-gelatin-capsules.html&amp;usg=__ctbHQfPmJMQj0m0qYPO4PLbmaNE=&amp;h=250&amp;w=250&amp;sz=10&amp;hl=ar&amp;start=7&amp;tbnid=2J5d3wfgmKUbBM:&amp;tbnh=111&amp;tbnw=111&amp;prev=/images%3Fq%3Dsoft%2Bgelatin%2Bcapsule%26gbv%3D2%26hl%3Dar%26safe%3Dactive%26sa%3DG" TargetMode="External"/><Relationship Id="rId8" Type="http://schemas.openxmlformats.org/officeDocument/2006/relationships/image" Target="../media/image7.jpeg"/><Relationship Id="rId9" Type="http://schemas.openxmlformats.org/officeDocument/2006/relationships/hyperlink" Target="http://www.google.com.sa/imgres?imgurl=http://kenoath.files.wordpress.com/2008/06/pd_cough_syrup_070816_ms.jpg&amp;imgrefurl=http://mortada8.maktoobblog.com/category/pharmaceutical-dosage-forms/&amp;usg=__tPLbdr3mzNnA2ZnO_bcynoQT7mQ=&amp;h=310&amp;w=413&amp;sz=22&amp;hl=ar&amp;start=8&amp;zoom=1&amp;itbs=1&amp;tbnid=087-zEfXAWRqsM:&amp;tbnh=94&amp;tbnw=125&amp;prev=/images%3Fq%3Ddrug%2Bas%2Bsuspensions%26hl%3Dar%26safe%3Dactive%26sa%3DG%26gbv%3D2%26tbs%3Disch:1" TargetMode="External"/><Relationship Id="rId10" Type="http://schemas.openxmlformats.org/officeDocument/2006/relationships/hyperlink" Target="http://www.google.com.sa/imgres?imgurl=http://kenoath.files.wordpress.com/2008/06/pd_cough_syrup_070816_ms.jpg&amp;imgrefurl=http://mortada8.maktoobblog.com/category/pharmaceutical-dosage-forms/&amp;usg=__tPLbdr3mzNnA2ZnO_bcynoQT7mQ=&amp;h=310&amp;w=413&amp;sz=22&amp;hl=ar&amp;start=8&amp;zoom=1&amp;itbs=1&amp;tbnid=087-zEfXAWRqsM:&amp;tbnh=94&amp;tbnw=125&amp;prev=/images%3Fq%3Ddrug%2Bas%2Bsuspensions%26hl%3Dar%26safe%3Dactive%26sa%3DG%26gbv%3D2%26tbs%3Disch:1" TargetMode="External"/><Relationship Id="rId1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images.google.com.sa/imgres?imgurl=http://www.skinstep.com/product_images/acne-controle-fluid-ampoule-03494187001.jpg&amp;imgrefurl=http://www.skinstep.com/elene/&amp;usg=__1MZFGMaJK3hwVCZ5N8wtLZCXpXk=&amp;h=350&amp;w=350&amp;sz=61&amp;hl=ar&amp;start=7&amp;tbnid=nxrySF-bPv4NNM:&amp;tbnh=120&amp;tbnw=120&amp;prev=/images%3Fq%3Dampoule%26gbv%3D2%26hl%3Dar%26safe%3Dactive" TargetMode="External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2053"/>
          <p:cNvSpPr/>
          <p:nvPr/>
        </p:nvSpPr>
        <p:spPr>
          <a:xfrm>
            <a:off x="324000" y="836640"/>
            <a:ext cx="842472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armacokinetics I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ug administration and absorp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Prof. Hanan Hag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Dr Ishfaq Bukhar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Pharmacology Depart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394920" y="907920"/>
            <a:ext cx="8497800" cy="54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nteral via gastrointestinal tract (GIT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Oral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ublingu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Rectal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renteral administration = injection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pical applic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hal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WordArt 3"/>
          <p:cNvSpPr txBox="1"/>
          <p:nvPr/>
        </p:nvSpPr>
        <p:spPr>
          <a:xfrm>
            <a:off x="1187280" y="260280"/>
            <a:ext cx="655344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Routes of drug administration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2"/>
          <p:cNvSpPr/>
          <p:nvPr/>
        </p:nvSpPr>
        <p:spPr>
          <a:xfrm>
            <a:off x="611280" y="333360"/>
            <a:ext cx="795636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250920" y="765000"/>
          <a:ext cx="8785080" cy="5950080"/>
        </p:xfrm>
        <a:graphic>
          <a:graphicData uri="http://schemas.openxmlformats.org/drawingml/2006/table">
            <a:tbl>
              <a:tblPr/>
              <a:tblGrid>
                <a:gridCol w="3089160"/>
                <a:gridCol w="5695920"/>
              </a:tblGrid>
              <a:tr h="63036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dvantages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isadvantages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19720">
                <a:tc>
                  <a:txBody>
                    <a:bodyPr tIns="46800" bIns="46800" anchor="t">
                      <a:noAutofit/>
                    </a:bodyPr>
                    <a:p>
                      <a:pPr lvl="1" marL="457200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-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Common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- Eas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3b812f"/>
                        </a:buClr>
                        <a:buSzPct val="60000"/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Self u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3b812f"/>
                        </a:buClr>
                        <a:buSzPct val="60000"/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conveni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- chea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- No need for steriliz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lvl="1" marL="914400" indent="-457200">
                        <a:lnSpc>
                          <a:spcPct val="85000"/>
                        </a:lnSpc>
                        <a:spcBef>
                          <a:spcPts val="700"/>
                        </a:spcBef>
                        <a:buClr>
                          <a:srgbClr val="3b812f"/>
                        </a:buClr>
                        <a:buSzPct val="60000"/>
                        <a:buFont typeface="Times New Roman"/>
                        <a:buChar char="-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Slow effect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,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GIT irrit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914400" indent="-457200">
                        <a:lnSpc>
                          <a:spcPct val="85000"/>
                        </a:lnSpc>
                        <a:spcBef>
                          <a:spcPts val="700"/>
                        </a:spcBef>
                        <a:buClr>
                          <a:srgbClr val="3b812f"/>
                        </a:buClr>
                        <a:buSzPct val="60000"/>
                        <a:buFont typeface="Times New Roman"/>
                        <a:buChar char="-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Destruction by pH &amp; enzym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914400" indent="-457200">
                        <a:lnSpc>
                          <a:spcPct val="85000"/>
                        </a:lnSpc>
                        <a:spcBef>
                          <a:spcPts val="700"/>
                        </a:spcBef>
                        <a:buClr>
                          <a:srgbClr val="3b812f"/>
                        </a:buClr>
                        <a:buSzPct val="60000"/>
                        <a:buFont typeface="Times New Roman"/>
                        <a:buChar char="-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Food - drug interactio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914400" indent="-457200">
                        <a:lnSpc>
                          <a:spcPct val="85000"/>
                        </a:lnSpc>
                        <a:spcBef>
                          <a:spcPts val="700"/>
                        </a:spcBef>
                        <a:buClr>
                          <a:srgbClr val="3b812f"/>
                        </a:buClr>
                        <a:buSzPct val="60000"/>
                        <a:buFont typeface="Times New Roman"/>
                        <a:buChar char="-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Drug-drug interactio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914400" indent="-457200">
                        <a:lnSpc>
                          <a:spcPct val="85000"/>
                        </a:lnSpc>
                        <a:spcBef>
                          <a:spcPts val="700"/>
                        </a:spcBef>
                        <a:buClr>
                          <a:srgbClr val="3b812f"/>
                        </a:buClr>
                        <a:buSzPct val="60000"/>
                        <a:buFont typeface="Times New Roman"/>
                        <a:buChar char="-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First pass effec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914400" indent="-457200">
                        <a:lnSpc>
                          <a:spcPct val="85000"/>
                        </a:lnSpc>
                        <a:spcBef>
                          <a:spcPts val="700"/>
                        </a:spcBef>
                        <a:buClr>
                          <a:srgbClr val="3b812f"/>
                        </a:buClr>
                        <a:buSzPct val="60000"/>
                        <a:buFont typeface="Times New Roman"/>
                        <a:buChar char="-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o complete absorp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914400" indent="-457200">
                        <a:lnSpc>
                          <a:spcPct val="85000"/>
                        </a:lnSpc>
                        <a:spcBef>
                          <a:spcPts val="700"/>
                        </a:spcBef>
                        <a:buClr>
                          <a:srgbClr val="3b812f"/>
                        </a:buClr>
                        <a:buSzPct val="60000"/>
                        <a:buFont typeface="Times New Roman"/>
                        <a:buChar char="-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Low bioavailabil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914400" indent="-457200">
                        <a:lnSpc>
                          <a:spcPct val="85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914400" indent="-457200">
                        <a:lnSpc>
                          <a:spcPct val="8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Arial"/>
                        </a:rPr>
                        <a:t>Not suitable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for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914400" indent="-457200">
                        <a:lnSpc>
                          <a:spcPct val="85000"/>
                        </a:lnSpc>
                        <a:spcBef>
                          <a:spcPts val="700"/>
                        </a:spcBef>
                        <a:buClr>
                          <a:srgbClr val="ff0000"/>
                        </a:buClr>
                        <a:buSzPct val="60000"/>
                        <a:buFont typeface="Wingdings" charset="2"/>
                        <a:buChar char="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vomiting &amp; unconscious pati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914400" indent="-457200">
                        <a:lnSpc>
                          <a:spcPct val="85000"/>
                        </a:lnSpc>
                        <a:spcBef>
                          <a:spcPts val="700"/>
                        </a:spcBef>
                        <a:buClr>
                          <a:srgbClr val="ff0000"/>
                        </a:buClr>
                        <a:buSzPct val="60000"/>
                        <a:buFont typeface="Wingdings" charset="2"/>
                        <a:buChar char="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emergency &amp; bad taste drug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8" name="WordArt 14"/>
          <p:cNvSpPr txBox="1"/>
          <p:nvPr/>
        </p:nvSpPr>
        <p:spPr>
          <a:xfrm>
            <a:off x="1332000" y="189000"/>
            <a:ext cx="612144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Oral administration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randomBa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107640" y="189000"/>
            <a:ext cx="460836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First pass effec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rugs given orally are first taken to the liver 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(via portal circulation),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ere they are metabolized before reaching to the blood to be distributed to all other body compartm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3" descr="Picture 004"/>
          <p:cNvPicPr/>
          <p:nvPr/>
        </p:nvPicPr>
        <p:blipFill>
          <a:blip r:embed="rId1"/>
          <a:srcRect l="0" t="0" r="8522" b="5357"/>
          <a:stretch/>
        </p:blipFill>
        <p:spPr>
          <a:xfrm>
            <a:off x="4716360" y="189000"/>
            <a:ext cx="4105440" cy="6480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178920" y="1197000"/>
            <a:ext cx="87138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Where does it occur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80000"/>
              </a:lnSpc>
              <a:spcBef>
                <a:spcPts val="850"/>
              </a:spcBef>
              <a:buClr>
                <a:srgbClr val="ff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ver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80000"/>
              </a:lnSpc>
              <a:spcBef>
                <a:spcPts val="850"/>
              </a:spcBef>
              <a:buClr>
                <a:srgbClr val="ff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T wal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80000"/>
              </a:lnSpc>
              <a:spcBef>
                <a:spcPts val="850"/>
              </a:spcBef>
              <a:buClr>
                <a:srgbClr val="ff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lume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First pass metabolism results i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 bioavailability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low conc. of drug in blood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ort duration of action (t ½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ugs with high first pass effect should not be given orally but parenteral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AutoShape 2" descr=""/>
          <p:cNvPicPr/>
          <p:nvPr/>
        </p:nvPicPr>
        <p:blipFill>
          <a:blip r:embed="rId1"/>
          <a:stretch/>
        </p:blipFill>
        <p:spPr>
          <a:xfrm>
            <a:off x="871560" y="-311040"/>
            <a:ext cx="7924680" cy="13651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8642160" cy="6408720"/>
          </a:xfrm>
          <a:prstGeom prst="rect">
            <a:avLst/>
          </a:prstGeom>
          <a:ln w="31680">
            <a:solidFill>
              <a:srgbClr val="000000"/>
            </a:solidFill>
            <a:round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250560" y="285480"/>
            <a:ext cx="8435880" cy="61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Oral Dosage Forms (oral formulation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ble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36720" indent="-609840">
              <a:lnSpc>
                <a:spcPct val="100000"/>
              </a:lnSpc>
              <a:spcBef>
                <a:spcPts val="11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oated tablet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ugar-coated to mask bad tast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36720" indent="-609840">
              <a:lnSpc>
                <a:spcPct val="100000"/>
              </a:lnSpc>
              <a:spcBef>
                <a:spcPts val="11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nteric coated tablet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dissolve only in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ntest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psul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36720" indent="-609840">
              <a:lnSpc>
                <a:spcPct val="100000"/>
              </a:lnSpc>
              <a:spcBef>
                <a:spcPts val="11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ard gelatin capsules: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ontain powd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36720" indent="-609840">
              <a:lnSpc>
                <a:spcPct val="100000"/>
              </a:lnSpc>
              <a:spcBef>
                <a:spcPts val="11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oft gelatin capsules: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ontain liqui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rup (e.g. Cough syrup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spension (mixture of solid in liquids e.g. antibiotic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Capsule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9640" y="4221000"/>
            <a:ext cx="2376720" cy="187344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3" descr="Paracetamoll_tablets_500mg_pharmaceutical_drugs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39640" y="907920"/>
            <a:ext cx="2376720" cy="201780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4" descr="SB_35120_121115_5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508720" y="907920"/>
            <a:ext cx="2303280" cy="18003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soft-gelatin-capsules_10757794_250x250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5148360" y="4292640"/>
            <a:ext cx="2736720" cy="180036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6"/>
          <p:cNvSpPr/>
          <p:nvPr/>
        </p:nvSpPr>
        <p:spPr>
          <a:xfrm>
            <a:off x="395280" y="260280"/>
            <a:ext cx="20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28584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abl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7"/>
          <p:cNvSpPr/>
          <p:nvPr/>
        </p:nvSpPr>
        <p:spPr>
          <a:xfrm>
            <a:off x="250920" y="3068640"/>
            <a:ext cx="3095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28584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ard- gelatin capsu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8"/>
          <p:cNvSpPr/>
          <p:nvPr/>
        </p:nvSpPr>
        <p:spPr>
          <a:xfrm>
            <a:off x="5364000" y="260280"/>
            <a:ext cx="20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28584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pansu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9"/>
          <p:cNvSpPr/>
          <p:nvPr/>
        </p:nvSpPr>
        <p:spPr>
          <a:xfrm>
            <a:off x="4788000" y="2997360"/>
            <a:ext cx="3095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28584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oft- gelatin capsu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14">
            <a:hlinkClick r:id="rId9"/>
          </p:cNvPr>
          <p:cNvSpPr/>
          <p:nvPr/>
        </p:nvSpPr>
        <p:spPr>
          <a:xfrm>
            <a:off x="3976560" y="2981160"/>
            <a:ext cx="1190880" cy="8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16">
            <a:hlinkClick r:id="rId10"/>
          </p:cNvPr>
          <p:cNvSpPr/>
          <p:nvPr/>
        </p:nvSpPr>
        <p:spPr>
          <a:xfrm>
            <a:off x="3976560" y="2981160"/>
            <a:ext cx="1190880" cy="8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2"/>
          <p:cNvSpPr/>
          <p:nvPr/>
        </p:nvSpPr>
        <p:spPr>
          <a:xfrm>
            <a:off x="611280" y="333360"/>
            <a:ext cx="795636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250920" y="907920"/>
          <a:ext cx="8642160" cy="5473800"/>
        </p:xfrm>
        <a:graphic>
          <a:graphicData uri="http://schemas.openxmlformats.org/drawingml/2006/table">
            <a:tbl>
              <a:tblPr/>
              <a:tblGrid>
                <a:gridCol w="5545080"/>
                <a:gridCol w="3097080"/>
              </a:tblGrid>
              <a:tr h="730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dvantages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isadvantages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74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cc9900"/>
                        </a:buClr>
                        <a:buSzPct val="6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apid effect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cc9900"/>
                        </a:buClr>
                        <a:buSzPct val="6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be used in emergency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cc9900"/>
                        </a:buClr>
                        <a:buSzPct val="6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igh bioavailability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cc9900"/>
                        </a:buClr>
                        <a:buSzPct val="6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 first pass effect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cc9900"/>
                        </a:buClr>
                        <a:buSzPct val="6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 GIT irritation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cc9900"/>
                        </a:buClr>
                        <a:buSzPct val="6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 food drug – interaction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cc9900"/>
                        </a:buClr>
                        <a:buSzPct val="6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Dosage form: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friable tablet (easily breaks and dissolves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0000"/>
                          </a:solidFill>
                          <a:latin typeface="Times New Roman"/>
                          <a:ea typeface="Arial"/>
                        </a:rPr>
                        <a:t>not suitable for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Irritant drug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Frequent us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2" marL="914400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7" name="WordArt 14"/>
          <p:cNvSpPr txBox="1"/>
          <p:nvPr/>
        </p:nvSpPr>
        <p:spPr>
          <a:xfrm>
            <a:off x="1332000" y="189000"/>
            <a:ext cx="612144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Sublingual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randomBar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2"/>
          <p:cNvSpPr/>
          <p:nvPr/>
        </p:nvSpPr>
        <p:spPr>
          <a:xfrm>
            <a:off x="611280" y="333360"/>
            <a:ext cx="795636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214200" y="1000080"/>
          <a:ext cx="8713800" cy="5440320"/>
        </p:xfrm>
        <a:graphic>
          <a:graphicData uri="http://schemas.openxmlformats.org/drawingml/2006/table">
            <a:tbl>
              <a:tblPr/>
              <a:tblGrid>
                <a:gridCol w="5280120"/>
                <a:gridCol w="3433680"/>
              </a:tblGrid>
              <a:tr h="579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dvantag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isadvantag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60720">
                <a:tc>
                  <a:txBody>
                    <a:bodyPr lIns="90000" rIns="90000" anchor="t">
                      <a:noAutofit/>
                    </a:bodyPr>
                    <a:p>
                      <a:pPr lvl="1" marL="45720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Suitable for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c9900"/>
                        </a:buClr>
                        <a:buSzPct val="6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hildren, vomiting, 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nconscious patient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c9900"/>
                        </a:buClr>
                        <a:buSzPct val="6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rritant &amp; bad taste drug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c9900"/>
                        </a:buClr>
                        <a:buSzPct val="6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ess first pass metabolism  (50%)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c9900"/>
                        </a:buClr>
                        <a:buSzPct val="6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Dosage form: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suppository or enema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lvl="1" marL="45720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c9900"/>
                        </a:buClr>
                        <a:buSzPct val="6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rritation of rectal mucosa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c9900"/>
                        </a:buClr>
                        <a:buSzPct val="6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rregular absorption &amp; bioavailability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c9900"/>
                        </a:buClr>
                        <a:buSzPct val="6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0" name="WordArt 14"/>
          <p:cNvSpPr txBox="1"/>
          <p:nvPr/>
        </p:nvSpPr>
        <p:spPr>
          <a:xfrm>
            <a:off x="1357200" y="353880"/>
            <a:ext cx="612144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Rectal administration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randomBar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323640" y="907560"/>
            <a:ext cx="8569080" cy="5473800"/>
          </a:xfrm>
          <a:prstGeom prst="rect">
            <a:avLst/>
          </a:prstGeom>
          <a:noFill/>
          <a:ln w="9360">
            <a:solidFill>
              <a:srgbClr val="ec1edd"/>
            </a:solidFill>
            <a:miter/>
          </a:ln>
        </p:spPr>
        <p:txBody>
          <a:bodyPr anchor="t">
            <a:normAutofit/>
          </a:bodyPr>
          <a:p>
            <a:pPr indent="0" algn="just">
              <a:spcBef>
                <a:spcPts val="850"/>
              </a:spcBef>
              <a:buNone/>
              <a:tabLst>
                <a:tab algn="l" pos="0"/>
                <a:tab algn="l" pos="365040"/>
                <a:tab algn="l" pos="730080"/>
                <a:tab algn="l" pos="1095480"/>
                <a:tab algn="l" pos="1460520"/>
                <a:tab algn="l" pos="1825560"/>
                <a:tab algn="l" pos="2190600"/>
                <a:tab algn="l" pos="2556000"/>
                <a:tab algn="l" pos="2921040"/>
                <a:tab algn="l" pos="3286080"/>
                <a:tab algn="l" pos="3651120"/>
                <a:tab algn="l" pos="4016520"/>
                <a:tab algn="l" pos="4381560"/>
                <a:tab algn="l" pos="4746600"/>
                <a:tab algn="l" pos="5111640"/>
                <a:tab algn="l" pos="5477040"/>
                <a:tab algn="l" pos="5842080"/>
                <a:tab algn="l" pos="6207120"/>
                <a:tab algn="l" pos="6572160"/>
                <a:tab algn="l" pos="6937200"/>
                <a:tab algn="l" pos="73026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Intradermal </a:t>
            </a:r>
            <a:r>
              <a:rPr b="1" lang="en-US" sz="3400" spc="-1" strike="noStrike">
                <a:solidFill>
                  <a:srgbClr val="ff0000"/>
                </a:solidFill>
                <a:latin typeface="Times New Roman"/>
              </a:rPr>
              <a:t>(I.D.)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 (into skin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54936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730080"/>
                <a:tab algn="l" pos="1095480"/>
                <a:tab algn="l" pos="1460520"/>
                <a:tab algn="l" pos="1825560"/>
                <a:tab algn="l" pos="2190600"/>
                <a:tab algn="l" pos="2556000"/>
                <a:tab algn="l" pos="2921040"/>
                <a:tab algn="l" pos="3286080"/>
                <a:tab algn="l" pos="3651120"/>
                <a:tab algn="l" pos="4016520"/>
                <a:tab algn="l" pos="4381560"/>
                <a:tab algn="l" pos="4746600"/>
                <a:tab algn="l" pos="5111640"/>
                <a:tab algn="l" pos="5477040"/>
                <a:tab algn="l" pos="5842080"/>
                <a:tab algn="l" pos="6207120"/>
                <a:tab algn="l" pos="6572160"/>
                <a:tab algn="l" pos="6937200"/>
                <a:tab algn="l" pos="7302600"/>
                <a:tab algn="l" pos="766764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Subcutaneous </a:t>
            </a:r>
            <a:r>
              <a:rPr b="1" lang="en-US" sz="3400" spc="-1" strike="noStrike">
                <a:solidFill>
                  <a:srgbClr val="ff0000"/>
                </a:solidFill>
                <a:latin typeface="Times New Roman"/>
              </a:rPr>
              <a:t>(S.C.)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(under sk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4936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730080"/>
                <a:tab algn="l" pos="1095480"/>
                <a:tab algn="l" pos="1460520"/>
                <a:tab algn="l" pos="1825560"/>
                <a:tab algn="l" pos="2190600"/>
                <a:tab algn="l" pos="2556000"/>
                <a:tab algn="l" pos="2921040"/>
                <a:tab algn="l" pos="3286080"/>
                <a:tab algn="l" pos="3651120"/>
                <a:tab algn="l" pos="4016520"/>
                <a:tab algn="l" pos="4381560"/>
                <a:tab algn="l" pos="4746600"/>
                <a:tab algn="l" pos="5111640"/>
                <a:tab algn="l" pos="5477040"/>
                <a:tab algn="l" pos="5842080"/>
                <a:tab algn="l" pos="6207120"/>
                <a:tab algn="l" pos="6572160"/>
                <a:tab algn="l" pos="6937200"/>
                <a:tab algn="l" pos="7302600"/>
                <a:tab algn="l" pos="766764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ntramuscular </a:t>
            </a:r>
            <a:r>
              <a:rPr b="1" lang="en-US" sz="3400" spc="-1" strike="noStrike">
                <a:solidFill>
                  <a:srgbClr val="ff0000"/>
                </a:solidFill>
                <a:latin typeface="Times New Roman"/>
              </a:rPr>
              <a:t>(I.M.)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(into muscle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4936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730080"/>
                <a:tab algn="l" pos="1095480"/>
                <a:tab algn="l" pos="1460520"/>
                <a:tab algn="l" pos="1825560"/>
                <a:tab algn="l" pos="2190600"/>
                <a:tab algn="l" pos="2556000"/>
                <a:tab algn="l" pos="2921040"/>
                <a:tab algn="l" pos="3286080"/>
                <a:tab algn="l" pos="3651120"/>
                <a:tab algn="l" pos="4016520"/>
                <a:tab algn="l" pos="4381560"/>
                <a:tab algn="l" pos="4746600"/>
                <a:tab algn="l" pos="5111640"/>
                <a:tab algn="l" pos="5477040"/>
                <a:tab algn="l" pos="5842080"/>
                <a:tab algn="l" pos="6207120"/>
                <a:tab algn="l" pos="6572160"/>
                <a:tab algn="l" pos="6937200"/>
                <a:tab algn="l" pos="7302600"/>
                <a:tab algn="l" pos="766764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ntravenous </a:t>
            </a:r>
            <a:r>
              <a:rPr b="1" lang="en-US" sz="3400" spc="-1" strike="noStrike">
                <a:solidFill>
                  <a:srgbClr val="ff0000"/>
                </a:solidFill>
                <a:latin typeface="Times New Roman"/>
              </a:rPr>
              <a:t>(I.V.)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(into vein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4936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730080"/>
                <a:tab algn="l" pos="1095480"/>
                <a:tab algn="l" pos="1460520"/>
                <a:tab algn="l" pos="1825560"/>
                <a:tab algn="l" pos="2190600"/>
                <a:tab algn="l" pos="2556000"/>
                <a:tab algn="l" pos="2921040"/>
                <a:tab algn="l" pos="3286080"/>
                <a:tab algn="l" pos="3651120"/>
                <a:tab algn="l" pos="4016520"/>
                <a:tab algn="l" pos="4381560"/>
                <a:tab algn="l" pos="4746600"/>
                <a:tab algn="l" pos="5111640"/>
                <a:tab algn="l" pos="5477040"/>
                <a:tab algn="l" pos="5842080"/>
                <a:tab algn="l" pos="6207120"/>
                <a:tab algn="l" pos="6572160"/>
                <a:tab algn="l" pos="6937200"/>
                <a:tab algn="l" pos="7302600"/>
                <a:tab algn="l" pos="766764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ntra-arterial </a:t>
            </a:r>
            <a:r>
              <a:rPr b="1" lang="en-US" sz="3400" spc="-1" strike="noStrike">
                <a:solidFill>
                  <a:srgbClr val="ff0000"/>
                </a:solidFill>
                <a:latin typeface="Times New Roman"/>
              </a:rPr>
              <a:t>(I.A.)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(into arterie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4936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730080"/>
                <a:tab algn="l" pos="1095480"/>
                <a:tab algn="l" pos="1460520"/>
                <a:tab algn="l" pos="1825560"/>
                <a:tab algn="l" pos="2190600"/>
                <a:tab algn="l" pos="2556000"/>
                <a:tab algn="l" pos="2921040"/>
                <a:tab algn="l" pos="3286080"/>
                <a:tab algn="l" pos="3651120"/>
                <a:tab algn="l" pos="4016520"/>
                <a:tab algn="l" pos="4381560"/>
                <a:tab algn="l" pos="4746600"/>
                <a:tab algn="l" pos="5111640"/>
                <a:tab algn="l" pos="5477040"/>
                <a:tab algn="l" pos="5842080"/>
                <a:tab algn="l" pos="6207120"/>
                <a:tab algn="l" pos="6572160"/>
                <a:tab algn="l" pos="6937200"/>
                <a:tab algn="l" pos="7302600"/>
                <a:tab algn="l" pos="766764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ntrathecal </a:t>
            </a:r>
            <a:r>
              <a:rPr b="1" lang="en-US" sz="3400" spc="-1" strike="noStrike">
                <a:solidFill>
                  <a:srgbClr val="ff0000"/>
                </a:solidFill>
                <a:latin typeface="Times New Roman"/>
              </a:rPr>
              <a:t>(I.T.)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(cerebrospinal fluids 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4936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730080"/>
                <a:tab algn="l" pos="1095480"/>
                <a:tab algn="l" pos="1460520"/>
                <a:tab algn="l" pos="1825560"/>
                <a:tab algn="l" pos="2190600"/>
                <a:tab algn="l" pos="2556000"/>
                <a:tab algn="l" pos="2921040"/>
                <a:tab algn="l" pos="3286080"/>
                <a:tab algn="l" pos="3651120"/>
                <a:tab algn="l" pos="4016520"/>
                <a:tab algn="l" pos="4381560"/>
                <a:tab algn="l" pos="4746600"/>
                <a:tab algn="l" pos="5111640"/>
                <a:tab algn="l" pos="5477040"/>
                <a:tab algn="l" pos="5842080"/>
                <a:tab algn="l" pos="6207120"/>
                <a:tab algn="l" pos="6572160"/>
                <a:tab algn="l" pos="6937200"/>
                <a:tab algn="l" pos="7302600"/>
                <a:tab algn="l" pos="766764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ntraperitoneal </a:t>
            </a:r>
            <a:r>
              <a:rPr b="1" lang="en-US" sz="3400" spc="-1" strike="noStrike">
                <a:solidFill>
                  <a:srgbClr val="ff0000"/>
                </a:solidFill>
                <a:latin typeface="Times New Roman"/>
              </a:rPr>
              <a:t>(I.P.)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(peritoneal cavity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4936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730080"/>
                <a:tab algn="l" pos="1095480"/>
                <a:tab algn="l" pos="1460520"/>
                <a:tab algn="l" pos="1825560"/>
                <a:tab algn="l" pos="2190600"/>
                <a:tab algn="l" pos="2556000"/>
                <a:tab algn="l" pos="2921040"/>
                <a:tab algn="l" pos="3286080"/>
                <a:tab algn="l" pos="3651120"/>
                <a:tab algn="l" pos="4016520"/>
                <a:tab algn="l" pos="4381560"/>
                <a:tab algn="l" pos="4746600"/>
                <a:tab algn="l" pos="5111640"/>
                <a:tab algn="l" pos="5477040"/>
                <a:tab algn="l" pos="5842080"/>
                <a:tab algn="l" pos="6207120"/>
                <a:tab algn="l" pos="6572160"/>
                <a:tab algn="l" pos="6937200"/>
                <a:tab algn="l" pos="7302600"/>
                <a:tab algn="l" pos="766764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ntra - articular (Synovial fluid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WordArt 3"/>
          <p:cNvSpPr txBox="1"/>
          <p:nvPr/>
        </p:nvSpPr>
        <p:spPr>
          <a:xfrm>
            <a:off x="1403280" y="260280"/>
            <a:ext cx="554508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Parenteral administration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323640" y="213840"/>
            <a:ext cx="8569080" cy="623916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y the end of this lecture, the student should be able to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c1ed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now the meaning of pharmacology and its branch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c1ed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cuss the different routes of drug admin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c1ed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entify the advantages and disadvantages of various routes of drug administ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c1ed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now the various mechanisms of drug absor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c1ed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 different factors affecting drug absor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c1ed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 bioavailability and factors affecting 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323640" y="-360"/>
            <a:ext cx="8569080" cy="6381720"/>
          </a:xfrm>
          <a:prstGeom prst="rect">
            <a:avLst/>
          </a:prstGeom>
          <a:noFill/>
          <a:ln w="9360">
            <a:solidFill>
              <a:srgbClr val="ec1edd"/>
            </a:solidFill>
            <a:miter/>
          </a:ln>
        </p:spPr>
        <p:txBody>
          <a:bodyPr anchor="t">
            <a:normAutofit fontScale="93000"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Advantages of inj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gastric irri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food-drug inter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drug-drug inter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first pass metabol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er availability than o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Disadvantag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ski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in, tissue necrosis or abscess (I.M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aphylactic reaction (I.V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WordArt 3"/>
          <p:cNvSpPr txBox="1"/>
          <p:nvPr/>
        </p:nvSpPr>
        <p:spPr>
          <a:xfrm>
            <a:off x="1619280" y="0"/>
            <a:ext cx="554508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Parenteral administration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wedge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2"/>
          <p:cNvSpPr/>
          <p:nvPr/>
        </p:nvSpPr>
        <p:spPr>
          <a:xfrm>
            <a:off x="611280" y="333360"/>
            <a:ext cx="795636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179280" y="214200"/>
          <a:ext cx="8785440" cy="3070440"/>
        </p:xfrm>
        <a:graphic>
          <a:graphicData uri="http://schemas.openxmlformats.org/drawingml/2006/table">
            <a:tbl>
              <a:tblPr/>
              <a:tblGrid>
                <a:gridCol w="5699160"/>
                <a:gridCol w="3086280"/>
              </a:tblGrid>
              <a:tr h="579600"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3366ff"/>
                          </a:solidFill>
                          <a:latin typeface="Times New Roman"/>
                          <a:ea typeface="Times New Roman"/>
                        </a:rPr>
                        <a:t>Intradermal administration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9084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751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inute volume of drug (0.1 ml)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751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uitable for vaccinations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751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nsitivity test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lvl="1" marL="457200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not suitable</a:t>
                      </a: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for large volumes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97" name=""/>
          <p:cNvGraphicFramePr/>
          <p:nvPr/>
        </p:nvGraphicFramePr>
        <p:xfrm>
          <a:off x="179280" y="3032280"/>
          <a:ext cx="8785440" cy="3597120"/>
        </p:xfrm>
        <a:graphic>
          <a:graphicData uri="http://schemas.openxmlformats.org/drawingml/2006/table">
            <a:tbl>
              <a:tblPr/>
              <a:tblGrid>
                <a:gridCol w="5608800"/>
                <a:gridCol w="3176640"/>
              </a:tblGrid>
              <a:tr h="579240"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3366ff"/>
                          </a:solidFill>
                          <a:latin typeface="Times New Roman"/>
                          <a:ea typeface="Times New Roman"/>
                        </a:rPr>
                        <a:t>Subcutaneous administration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23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rger volume (0.1 ml – 1 ml)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sed for sustained release effect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uitable for </a:t>
                      </a:r>
                      <a:r>
                        <a:rPr b="1" lang="en-US" sz="3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poorly soluble suspensions</a:t>
                      </a: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e.g. insulin zinc preparation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lvl="1" marL="457200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Not</a:t>
                      </a: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i="1" lang="en-US" sz="3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suitable</a:t>
                      </a: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for large volumes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>
    <p:randomBar dir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2"/>
          <p:cNvSpPr/>
          <p:nvPr/>
        </p:nvSpPr>
        <p:spPr>
          <a:xfrm>
            <a:off x="611280" y="333360"/>
            <a:ext cx="795636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179280" y="214200"/>
          <a:ext cx="8964720" cy="6000840"/>
        </p:xfrm>
        <a:graphic>
          <a:graphicData uri="http://schemas.openxmlformats.org/drawingml/2006/table">
            <a:tbl>
              <a:tblPr/>
              <a:tblGrid>
                <a:gridCol w="5267520"/>
                <a:gridCol w="3697200"/>
              </a:tblGrid>
              <a:tr h="650880"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3366ff"/>
                          </a:solidFill>
                          <a:latin typeface="Times New Roman"/>
                          <a:ea typeface="Times New Roman"/>
                        </a:rPr>
                        <a:t>Intramuscular administration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349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derate volumes (3-5 ml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longed duration of action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ily preparations or poorly  soluble substances can be used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lvl="1" marL="457200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Not suitable for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rritant drug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in, abscess, tissue necrosis may happen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>
    <p:randomBar dir="horz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2"/>
          <p:cNvSpPr/>
          <p:nvPr/>
        </p:nvSpPr>
        <p:spPr>
          <a:xfrm>
            <a:off x="611280" y="333360"/>
            <a:ext cx="795636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179280" y="765000"/>
          <a:ext cx="8785440" cy="5753160"/>
        </p:xfrm>
        <a:graphic>
          <a:graphicData uri="http://schemas.openxmlformats.org/drawingml/2006/table">
            <a:tbl>
              <a:tblPr/>
              <a:tblGrid>
                <a:gridCol w="5329440"/>
                <a:gridCol w="3456000"/>
              </a:tblGrid>
              <a:tr h="587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Advantages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Disadvantages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65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c9900"/>
                        </a:buClr>
                        <a:buSzPct val="6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rge volume (500ml can be given by infusion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c9900"/>
                        </a:buClr>
                        <a:buSzPct val="6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apid action </a:t>
                      </a: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(emergency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c9900"/>
                        </a:buClr>
                        <a:buSzPct val="6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igh bioavailability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c9900"/>
                        </a:buClr>
                        <a:buSzPct val="6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 food-drug interac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c9900"/>
                        </a:buClr>
                        <a:buSzPct val="6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 first pass metabolis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c9900"/>
                        </a:buClr>
                        <a:buSzPct val="6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 gastric irritation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Suitable fo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buClr>
                          <a:srgbClr val="3b812f"/>
                        </a:buClr>
                        <a:buSzPct val="6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omiting &amp;unconscio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buClr>
                          <a:srgbClr val="3b812f"/>
                        </a:buClr>
                        <a:buSzPct val="6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rritant &amp; bad taste drugs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c9900"/>
                        </a:buClr>
                        <a:buSzPct val="6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33cc"/>
                          </a:solidFill>
                          <a:latin typeface="Times New Roman"/>
                          <a:ea typeface="Times New Roman"/>
                        </a:rPr>
                        <a:t>used only for water soluble drug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c9900"/>
                        </a:buClr>
                        <a:buSzPct val="6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fec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c9900"/>
                        </a:buClr>
                        <a:buSzPct val="6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naphylaxi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c9900"/>
                        </a:buClr>
                        <a:buSzPct val="6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eriliz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c9900"/>
                        </a:buClr>
                        <a:buSzPct val="6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xpensiv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Not suitable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or oily solutions or poorly soluble substance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02" name="Rectangle 4"/>
          <p:cNvSpPr/>
          <p:nvPr/>
        </p:nvSpPr>
        <p:spPr>
          <a:xfrm>
            <a:off x="1357200" y="71280"/>
            <a:ext cx="55771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Intravenous administratio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229600" cy="58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mpoule        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               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Vi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3" descr="acne-controle-fluid-ampoule-0349418700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219640" y="1701720"/>
            <a:ext cx="3024360" cy="2590920"/>
          </a:xfrm>
          <a:prstGeom prst="rect">
            <a:avLst/>
          </a:prstGeom>
          <a:ln w="31680">
            <a:solidFill>
              <a:srgbClr val="000000"/>
            </a:solidFill>
            <a:miter/>
          </a:ln>
        </p:spPr>
      </p:pic>
      <p:pic>
        <p:nvPicPr>
          <p:cNvPr id="205" name="Picture 4" descr="Internal_Standard_Ampoule"/>
          <p:cNvPicPr/>
          <p:nvPr/>
        </p:nvPicPr>
        <p:blipFill>
          <a:blip r:embed="rId3"/>
          <a:stretch/>
        </p:blipFill>
        <p:spPr>
          <a:xfrm>
            <a:off x="1042920" y="1700280"/>
            <a:ext cx="3024360" cy="2593800"/>
          </a:xfrm>
          <a:prstGeom prst="rect">
            <a:avLst/>
          </a:prstGeom>
          <a:ln w="31680">
            <a:solidFill>
              <a:srgbClr val="000000"/>
            </a:solidFill>
            <a:miter/>
          </a:ln>
        </p:spPr>
      </p:pic>
      <p:sp>
        <p:nvSpPr>
          <p:cNvPr id="206" name="Text Box 5"/>
          <p:cNvSpPr/>
          <p:nvPr/>
        </p:nvSpPr>
        <p:spPr>
          <a:xfrm>
            <a:off x="1042920" y="981000"/>
            <a:ext cx="38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28584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33"/>
                </a:solidFill>
                <a:latin typeface="Arial"/>
              </a:rPr>
              <a:t>Single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6"/>
          <p:cNvSpPr/>
          <p:nvPr/>
        </p:nvSpPr>
        <p:spPr>
          <a:xfrm>
            <a:off x="5003640" y="1052640"/>
            <a:ext cx="352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28584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33"/>
                </a:solidFill>
                <a:latin typeface="Arial"/>
              </a:rPr>
              <a:t>Repeated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2"/>
          <p:cNvSpPr/>
          <p:nvPr/>
        </p:nvSpPr>
        <p:spPr>
          <a:xfrm>
            <a:off x="611280" y="333360"/>
            <a:ext cx="795636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108000" y="115920"/>
          <a:ext cx="8785080" cy="6570720"/>
        </p:xfrm>
        <a:graphic>
          <a:graphicData uri="http://schemas.openxmlformats.org/drawingml/2006/table">
            <a:tbl>
              <a:tblPr/>
              <a:tblGrid>
                <a:gridCol w="1800000"/>
                <a:gridCol w="3456000"/>
                <a:gridCol w="3529080"/>
              </a:tblGrid>
              <a:tr h="599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Injection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Advantag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Disadvantag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170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.D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inute volume (0.1 ml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uitable for vaccinatio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amp; sensitivity te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t suitable for large volum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986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.C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olume (0.1 ml – 1 ml 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uitable for poorly soluble suspensions and for instillation of slow-release implants e.g. insulin zinc prepar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t suitable for large volume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59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.M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uitable for moderate volumes 3-5 ml, for oily solutions or poorly soluble substanc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t suitable for irritant drug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bscess- necrosis may happ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45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.V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uitable for large volumes and for irritating substanc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500 ml can be given by infusion)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t suitable for oily solutions or poorly soluble substanc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ust inject solutions slowly as a rule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</a:tbl>
          </a:graphicData>
        </a:graphic>
      </p:graphicFrame>
    </p:spTree>
  </p:cSld>
  <p:transition>
    <p:randomBar dir="horz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250560" y="260280"/>
            <a:ext cx="87138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rugs are mainly applied topically to produce local effects. They are applied t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Skin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(percutaneous)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.g. allergy test, topical antibacterial and steroids and  local anesthetic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Mucous membrane of respiratory tract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(Inhalation)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.g. asthm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ye drops e.g. conjunctivit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ar drops e.g. otitis extern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ntranasal e.g. decongestant nasal spra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WordArt 3"/>
          <p:cNvSpPr txBox="1"/>
          <p:nvPr/>
        </p:nvSpPr>
        <p:spPr>
          <a:xfrm>
            <a:off x="2411280" y="404640"/>
            <a:ext cx="480060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Topical application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wedge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2"/>
          <p:cNvSpPr/>
          <p:nvPr/>
        </p:nvSpPr>
        <p:spPr>
          <a:xfrm>
            <a:off x="611280" y="333360"/>
            <a:ext cx="795636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233280" y="752400"/>
          <a:ext cx="8712360" cy="6105600"/>
        </p:xfrm>
        <a:graphic>
          <a:graphicData uri="http://schemas.openxmlformats.org/drawingml/2006/table">
            <a:tbl>
              <a:tblPr/>
              <a:tblGrid>
                <a:gridCol w="5614920"/>
                <a:gridCol w="3097440"/>
              </a:tblGrid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Advantages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Disadvantages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562720">
                <a:tc>
                  <a:txBody>
                    <a:bodyPr anchor="t">
                      <a:noAutofit/>
                    </a:bodyPr>
                    <a:p>
                      <a:pPr lvl="1" marL="457200">
                        <a:lnSpc>
                          <a:spcPct val="85000"/>
                        </a:lnSpc>
                        <a:spcBef>
                          <a:spcPts val="700"/>
                        </a:spcBef>
                        <a:buClr>
                          <a:srgbClr val="cc9900"/>
                        </a:buClr>
                        <a:buSzPct val="6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rapid absorption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8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Arial"/>
                        </a:rPr>
                        <a:t>   </a:t>
                      </a:r>
                      <a:r>
                        <a:rPr b="1" i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Arial"/>
                        </a:rPr>
                        <a:t>(due to large surface area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85000"/>
                        </a:lnSpc>
                        <a:spcBef>
                          <a:spcPts val="700"/>
                        </a:spcBef>
                        <a:buClr>
                          <a:srgbClr val="cc9900"/>
                        </a:buClr>
                        <a:buSzPct val="6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suitable for emerg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85000"/>
                        </a:lnSpc>
                        <a:spcBef>
                          <a:spcPts val="700"/>
                        </a:spcBef>
                        <a:buClr>
                          <a:srgbClr val="cc9900"/>
                        </a:buClr>
                        <a:buSzPct val="6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provide local action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85000"/>
                        </a:lnSpc>
                        <a:spcBef>
                          <a:spcPts val="700"/>
                        </a:spcBef>
                        <a:buClr>
                          <a:srgbClr val="cc9900"/>
                        </a:buClr>
                        <a:buSzPct val="6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limited systemic effec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85000"/>
                        </a:lnSpc>
                        <a:spcBef>
                          <a:spcPts val="700"/>
                        </a:spcBef>
                        <a:buClr>
                          <a:srgbClr val="cc9900"/>
                        </a:buClr>
                        <a:buSzPct val="6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less side effec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85000"/>
                        </a:lnSpc>
                        <a:spcBef>
                          <a:spcPts val="700"/>
                        </a:spcBef>
                        <a:buClr>
                          <a:srgbClr val="cc9900"/>
                        </a:buClr>
                        <a:buSzPct val="6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o first pass effect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Arial"/>
                        </a:rPr>
                        <a:t>Dosage form: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SzPct val="6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volatile gases  e.g. anesthetic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SzPct val="6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liquids given by aerosol, nebulizer/inhaler for asthma treatm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lvl="1" marL="457200"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ot suitable for irritant drug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nly few drugs can be us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14" name="WordArt 14"/>
          <p:cNvSpPr txBox="1"/>
          <p:nvPr/>
        </p:nvSpPr>
        <p:spPr>
          <a:xfrm>
            <a:off x="1928880" y="189000"/>
            <a:ext cx="557208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Inhalation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randomBar dir="horz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285480" y="907560"/>
            <a:ext cx="8643960" cy="573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re medicated adhesive patch applied to skin to provide systemic effect  (prolonged drug action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.g. the nicotine patches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(quit smoking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.g. Scopolamine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(vestibular depressant, antiemetic for motion sickness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3" descr="patch"/>
          <p:cNvPicPr/>
          <p:nvPr/>
        </p:nvPicPr>
        <p:blipFill>
          <a:blip r:embed="rId1"/>
          <a:stretch/>
        </p:blipFill>
        <p:spPr>
          <a:xfrm>
            <a:off x="6215040" y="4143240"/>
            <a:ext cx="2664000" cy="2305080"/>
          </a:xfrm>
          <a:prstGeom prst="rect">
            <a:avLst/>
          </a:prstGeom>
          <a:ln w="0">
            <a:noFill/>
          </a:ln>
        </p:spPr>
      </p:pic>
      <p:sp>
        <p:nvSpPr>
          <p:cNvPr id="217" name="WordArt 4"/>
          <p:cNvSpPr txBox="1"/>
          <p:nvPr/>
        </p:nvSpPr>
        <p:spPr>
          <a:xfrm>
            <a:off x="1428840" y="214200"/>
            <a:ext cx="5783040" cy="69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Transdermal patch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wedg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2" descr="nebulizer"/>
          <p:cNvPicPr/>
          <p:nvPr/>
        </p:nvPicPr>
        <p:blipFill>
          <a:blip r:embed="rId1"/>
          <a:stretch/>
        </p:blipFill>
        <p:spPr>
          <a:xfrm>
            <a:off x="1042920" y="1052640"/>
            <a:ext cx="2521080" cy="23050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3" descr="flixotide-fluticasone-propionate"/>
          <p:cNvPicPr/>
          <p:nvPr/>
        </p:nvPicPr>
        <p:blipFill>
          <a:blip r:embed="rId2"/>
          <a:stretch/>
        </p:blipFill>
        <p:spPr>
          <a:xfrm>
            <a:off x="5076720" y="1052640"/>
            <a:ext cx="2592360" cy="2305080"/>
          </a:xfrm>
          <a:prstGeom prst="rect">
            <a:avLst/>
          </a:prstGeom>
          <a:ln w="31680">
            <a:solidFill>
              <a:srgbClr val="000000"/>
            </a:solidFill>
            <a:miter/>
          </a:ln>
        </p:spPr>
      </p:pic>
      <p:sp>
        <p:nvSpPr>
          <p:cNvPr id="220" name="Text Box 4"/>
          <p:cNvSpPr/>
          <p:nvPr/>
        </p:nvSpPr>
        <p:spPr>
          <a:xfrm>
            <a:off x="539640" y="333360"/>
            <a:ext cx="770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28584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f-ZA" sz="2800" spc="-1" strike="noStrike">
                <a:solidFill>
                  <a:srgbClr val="000000"/>
                </a:solidFill>
                <a:latin typeface="Arial"/>
              </a:rPr>
              <a:t>Nebulizer                               Atomiz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5" descr="nebulizer"/>
          <p:cNvPicPr/>
          <p:nvPr/>
        </p:nvPicPr>
        <p:blipFill>
          <a:blip r:embed="rId3"/>
          <a:stretch/>
        </p:blipFill>
        <p:spPr>
          <a:xfrm>
            <a:off x="428760" y="3571920"/>
            <a:ext cx="4176720" cy="2881440"/>
          </a:xfrm>
          <a:prstGeom prst="rect">
            <a:avLst/>
          </a:prstGeom>
          <a:ln w="31680">
            <a:solidFill>
              <a:srgbClr val="000000"/>
            </a:solidFill>
            <a:miter/>
          </a:ln>
        </p:spPr>
      </p:pic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Recommended books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1471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ppincott’s illustrated reviews (Pharmacology) </a:t>
            </a:r>
            <a:r>
              <a:rPr b="1" i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 Howland and Mycek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and Clinical Pharmacology</a:t>
            </a:r>
            <a:r>
              <a:rPr b="1" i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y Katzung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468360" y="1052280"/>
            <a:ext cx="842472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the passage of drug from its site of administration to site of action across cell membran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WordArt 3"/>
          <p:cNvSpPr txBox="1"/>
          <p:nvPr/>
        </p:nvSpPr>
        <p:spPr>
          <a:xfrm>
            <a:off x="2195640" y="333360"/>
            <a:ext cx="41576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Drug absorption</a:t>
            </a:r>
            <a:endParaRPr b="0" lang="en-US" sz="3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24" name="Rectangle 4"/>
          <p:cNvSpPr/>
          <p:nvPr/>
        </p:nvSpPr>
        <p:spPr>
          <a:xfrm>
            <a:off x="539640" y="3645000"/>
            <a:ext cx="3095640" cy="129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tes of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ministr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5"/>
          <p:cNvSpPr/>
          <p:nvPr/>
        </p:nvSpPr>
        <p:spPr>
          <a:xfrm>
            <a:off x="4211640" y="3213000"/>
            <a:ext cx="216000" cy="25923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6"/>
          <p:cNvSpPr/>
          <p:nvPr/>
        </p:nvSpPr>
        <p:spPr>
          <a:xfrm>
            <a:off x="4861080" y="3645000"/>
            <a:ext cx="3024000" cy="115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tes of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7"/>
          <p:cNvSpPr/>
          <p:nvPr/>
        </p:nvSpPr>
        <p:spPr>
          <a:xfrm>
            <a:off x="3708360" y="4076640"/>
            <a:ext cx="100800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8"/>
          <p:cNvSpPr/>
          <p:nvPr/>
        </p:nvSpPr>
        <p:spPr>
          <a:xfrm>
            <a:off x="3708360" y="4653000"/>
            <a:ext cx="100800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9"/>
          <p:cNvSpPr/>
          <p:nvPr/>
        </p:nvSpPr>
        <p:spPr>
          <a:xfrm>
            <a:off x="3059280" y="2637000"/>
            <a:ext cx="2592360" cy="45972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ll membran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8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8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8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8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49" dur="3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4" dur="3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285480" y="1213920"/>
            <a:ext cx="863892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cept for intravenous administration, all routes of drug administration require that the drug be absorbed from the site of administration into the systemic circulation (blood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Arial"/>
              </a:rPr>
              <a:t>I.V. administration requires no absor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WordArt 7"/>
          <p:cNvSpPr txBox="1"/>
          <p:nvPr/>
        </p:nvSpPr>
        <p:spPr>
          <a:xfrm>
            <a:off x="2195640" y="333360"/>
            <a:ext cx="41576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Drug absorption</a:t>
            </a:r>
            <a:endParaRPr b="0" lang="en-US" sz="3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wedg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3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8785440" cy="64087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234" name="Rectangle 4"/>
          <p:cNvSpPr/>
          <p:nvPr/>
        </p:nvSpPr>
        <p:spPr>
          <a:xfrm>
            <a:off x="179280" y="189000"/>
            <a:ext cx="1871640" cy="718920"/>
          </a:xfrm>
          <a:prstGeom prst="rect">
            <a:avLst/>
          </a:prstGeom>
          <a:solidFill>
            <a:srgbClr val="3b812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tes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minis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5"/>
          <p:cNvSpPr/>
          <p:nvPr/>
        </p:nvSpPr>
        <p:spPr>
          <a:xfrm>
            <a:off x="2698920" y="117360"/>
            <a:ext cx="3960720" cy="7192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bsorption &amp; dis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6"/>
          <p:cNvSpPr/>
          <p:nvPr/>
        </p:nvSpPr>
        <p:spPr>
          <a:xfrm>
            <a:off x="7093080" y="117360"/>
            <a:ext cx="1871640" cy="719280"/>
          </a:xfrm>
          <a:prstGeom prst="rect">
            <a:avLst/>
          </a:prstGeom>
          <a:solidFill>
            <a:srgbClr val="3b812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limin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214200" y="1341360"/>
            <a:ext cx="871560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transport of drugs across cell membrane occurs through one or more of the following process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77840" indent="0"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1077840" indent="-533160">
              <a:spcBef>
                <a:spcPts val="799"/>
              </a:spcBef>
              <a:buClr>
                <a:srgbClr val="3b812f"/>
              </a:buClr>
              <a:buSzPct val="6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mple diffusion = passive diffus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77840" indent="-533160">
              <a:spcBef>
                <a:spcPts val="799"/>
              </a:spcBef>
              <a:buClr>
                <a:srgbClr val="3b812f"/>
              </a:buClr>
              <a:buSzPct val="6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ctive transp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77840" indent="-533160">
              <a:spcBef>
                <a:spcPts val="799"/>
              </a:spcBef>
              <a:buClr>
                <a:srgbClr val="3b812f"/>
              </a:buClr>
              <a:buSzPct val="6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acilitated diffus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77840" indent="-533160">
              <a:spcBef>
                <a:spcPts val="799"/>
              </a:spcBef>
              <a:buClr>
                <a:srgbClr val="3b812f"/>
              </a:buClr>
              <a:buSzPct val="6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inocytosis (Endocytosi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WordArt 3"/>
          <p:cNvSpPr txBox="1"/>
          <p:nvPr/>
        </p:nvSpPr>
        <p:spPr>
          <a:xfrm>
            <a:off x="1071720" y="333360"/>
            <a:ext cx="69292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Mechanisms of drug absorption</a:t>
            </a:r>
            <a:endParaRPr b="0" lang="en-US" sz="3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wedg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3" descr="CellMembrane"/>
          <p:cNvPicPr/>
          <p:nvPr/>
        </p:nvPicPr>
        <p:blipFill>
          <a:blip r:embed="rId1"/>
          <a:stretch/>
        </p:blipFill>
        <p:spPr>
          <a:xfrm>
            <a:off x="324000" y="907920"/>
            <a:ext cx="8569080" cy="5761080"/>
          </a:xfrm>
          <a:prstGeom prst="rect">
            <a:avLst/>
          </a:prstGeom>
          <a:ln w="31680">
            <a:solidFill>
              <a:srgbClr val="0000ff"/>
            </a:solidFill>
            <a:miter/>
          </a:ln>
        </p:spPr>
      </p:pic>
      <p:sp>
        <p:nvSpPr>
          <p:cNvPr id="240" name="WordArt 4"/>
          <p:cNvSpPr txBox="1"/>
          <p:nvPr/>
        </p:nvSpPr>
        <p:spPr>
          <a:xfrm>
            <a:off x="2195640" y="189000"/>
            <a:ext cx="401940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Cell membrane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wedg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7" descr="Cell membrane in detail"/>
          <p:cNvPicPr/>
          <p:nvPr/>
        </p:nvPicPr>
        <p:blipFill>
          <a:blip r:embed="rId1"/>
          <a:stretch/>
        </p:blipFill>
        <p:spPr>
          <a:xfrm>
            <a:off x="395280" y="836640"/>
            <a:ext cx="8280360" cy="5113440"/>
          </a:xfrm>
          <a:prstGeom prst="rect">
            <a:avLst/>
          </a:prstGeom>
          <a:ln w="31680">
            <a:solidFill>
              <a:srgbClr val="0000ff"/>
            </a:solidFill>
            <a:miter/>
          </a:ln>
        </p:spPr>
      </p:pic>
    </p:spTree>
  </p:cSld>
  <p:transition>
    <p:wedg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179280" y="404280"/>
            <a:ext cx="864072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699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876"/>
              </a:spcBef>
              <a:buClr>
                <a:srgbClr val="996600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ff"/>
                </a:solidFill>
                <a:latin typeface="Times New Roman"/>
              </a:rPr>
              <a:t>Aqueous diffusion: </a:t>
            </a:r>
            <a:r>
              <a:rPr b="1" lang="en-US" sz="3500" spc="-1" strike="noStrike">
                <a:solidFill>
                  <a:srgbClr val="000000"/>
                </a:solidFill>
                <a:latin typeface="Times New Roman"/>
              </a:rPr>
              <a:t>low molecular weight and water soluble drugs can diffuse through aqueous channels or pores in cell membrane </a:t>
            </a:r>
            <a:r>
              <a:rPr b="1" lang="en-US" sz="3500" spc="-1" strike="noStrike">
                <a:solidFill>
                  <a:srgbClr val="ff0000"/>
                </a:solidFill>
                <a:latin typeface="Times New Roman"/>
              </a:rPr>
              <a:t>(filtration)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876"/>
              </a:spcBef>
              <a:buClr>
                <a:srgbClr val="996600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ff"/>
                </a:solidFill>
                <a:latin typeface="Times New Roman"/>
              </a:rPr>
              <a:t>Lipid diffusion: </a:t>
            </a:r>
            <a:r>
              <a:rPr b="1" lang="en-US" sz="3500" spc="-1" strike="noStrike">
                <a:solidFill>
                  <a:srgbClr val="000000"/>
                </a:solidFill>
                <a:latin typeface="Times New Roman"/>
              </a:rPr>
              <a:t>low molecular weight and lipid soluble drugs are absorbed via diffusion through lipid cell membrane itself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WordArt 3"/>
          <p:cNvSpPr txBox="1"/>
          <p:nvPr/>
        </p:nvSpPr>
        <p:spPr>
          <a:xfrm>
            <a:off x="1357200" y="285840"/>
            <a:ext cx="6143760" cy="71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Types of passive diffusion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wedge/>
  </p:transition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2" descr=""/>
          <p:cNvPicPr/>
          <p:nvPr/>
        </p:nvPicPr>
        <p:blipFill>
          <a:blip r:embed="rId1"/>
          <a:stretch/>
        </p:blipFill>
        <p:spPr>
          <a:xfrm>
            <a:off x="324000" y="765000"/>
            <a:ext cx="8424720" cy="5904000"/>
          </a:xfrm>
          <a:prstGeom prst="rect">
            <a:avLst/>
          </a:prstGeom>
          <a:ln w="31680">
            <a:solidFill>
              <a:srgbClr val="5f5f5f"/>
            </a:solidFill>
            <a:round/>
          </a:ln>
        </p:spPr>
      </p:pic>
      <p:sp>
        <p:nvSpPr>
          <p:cNvPr id="245" name="WordArt 3"/>
          <p:cNvSpPr txBox="1"/>
          <p:nvPr/>
        </p:nvSpPr>
        <p:spPr>
          <a:xfrm>
            <a:off x="1187280" y="189000"/>
            <a:ext cx="684072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Simple diffusion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wedg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2" descr=""/>
          <p:cNvPicPr/>
          <p:nvPr/>
        </p:nvPicPr>
        <p:blipFill>
          <a:blip r:embed="rId1"/>
          <a:stretch/>
        </p:blipFill>
        <p:spPr>
          <a:xfrm>
            <a:off x="971640" y="189000"/>
            <a:ext cx="7273800" cy="6408720"/>
          </a:xfrm>
          <a:prstGeom prst="rect">
            <a:avLst/>
          </a:prstGeom>
          <a:ln w="31680">
            <a:solidFill>
              <a:srgbClr val="5f5f5f"/>
            </a:solidFill>
            <a:miter/>
          </a:ln>
        </p:spPr>
      </p:pic>
    </p:spTree>
  </p:cSld>
  <p:transition>
    <p:wedg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285840" y="785880"/>
            <a:ext cx="885816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Charact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ccurs with or along concentration gradie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ener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carr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n selec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 satur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pends on lipid solubil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pends on pka of drug - pH of the environment (it </a:t>
            </a:r>
            <a:r>
              <a:rPr b="1" lang="en-US" sz="3200" spc="-1" strike="noStrike">
                <a:solidFill>
                  <a:srgbClr val="7030a0"/>
                </a:solidFill>
                <a:latin typeface="Times New Roman"/>
              </a:rPr>
              <a:t>can be fluid of the cell body, blood, urine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6"/>
          <p:cNvSpPr/>
          <p:nvPr/>
        </p:nvSpPr>
        <p:spPr>
          <a:xfrm>
            <a:off x="971640" y="765000"/>
            <a:ext cx="360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WordArt 7"/>
          <p:cNvSpPr txBox="1"/>
          <p:nvPr/>
        </p:nvSpPr>
        <p:spPr>
          <a:xfrm>
            <a:off x="357120" y="260280"/>
            <a:ext cx="5000760" cy="45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Simple diffusion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What is Pharmacology?</a:t>
            </a:r>
            <a:br>
              <a:rPr sz="38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rom the Greek 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pharmako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(drug)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legei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(to speak or discus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roadly defined as the study of how  chemical agents affect living process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.g Hormones, Neurotransmitters and drug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4" descr="diffusion2"/>
          <p:cNvPicPr/>
          <p:nvPr/>
        </p:nvPicPr>
        <p:blipFill>
          <a:blip r:embed="rId1">
            <a:lum contrast="-2000"/>
          </a:blip>
          <a:srcRect l="0" t="0" r="0" b="29921"/>
          <a:stretch/>
        </p:blipFill>
        <p:spPr>
          <a:xfrm>
            <a:off x="468360" y="1701720"/>
            <a:ext cx="8280360" cy="5040360"/>
          </a:xfrm>
          <a:prstGeom prst="rect">
            <a:avLst/>
          </a:prstGeom>
          <a:ln w="0">
            <a:noFill/>
          </a:ln>
        </p:spPr>
      </p:pic>
      <p:sp>
        <p:nvSpPr>
          <p:cNvPr id="251" name="WordArt 6"/>
          <p:cNvSpPr txBox="1"/>
          <p:nvPr/>
        </p:nvSpPr>
        <p:spPr>
          <a:xfrm>
            <a:off x="2627280" y="117360"/>
            <a:ext cx="40197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Simple diffusion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52" name="WordArt 7"/>
          <p:cNvSpPr txBox="1"/>
          <p:nvPr/>
        </p:nvSpPr>
        <p:spPr>
          <a:xfrm>
            <a:off x="826920" y="1125360"/>
            <a:ext cx="32403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High conc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53" name="WordArt 8"/>
          <p:cNvSpPr txBox="1"/>
          <p:nvPr/>
        </p:nvSpPr>
        <p:spPr>
          <a:xfrm>
            <a:off x="5076720" y="1052640"/>
            <a:ext cx="3240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Low conc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wedg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/>
          </p:nvPr>
        </p:nvSpPr>
        <p:spPr>
          <a:xfrm>
            <a:off x="142560" y="856800"/>
            <a:ext cx="89298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91080" indent="21960">
              <a:lnSpc>
                <a:spcPct val="100000"/>
              </a:lnSpc>
              <a:spcBef>
                <a:spcPts val="1199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ost drugs are weak acids or weak ba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080" indent="21960">
              <a:lnSpc>
                <a:spcPct val="100000"/>
              </a:lnSpc>
              <a:spcBef>
                <a:spcPts val="1199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rugs can exist in two forms ionized (water soluble) &amp; unionized forms (lipid soluble) in equilibrium.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080" indent="21960">
              <a:lnSpc>
                <a:spcPct val="100000"/>
              </a:lnSpc>
              <a:spcBef>
                <a:spcPts val="1199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nly 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</a:rPr>
              <a:t>unionized form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s absorb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080" indent="21960">
              <a:lnSpc>
                <a:spcPct val="100000"/>
              </a:lnSpc>
              <a:spcBef>
                <a:spcPts val="1199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onization of drugs reduce passage of drugs across cell membran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080" indent="21960">
              <a:lnSpc>
                <a:spcPct val="100000"/>
              </a:lnSpc>
              <a:spcBef>
                <a:spcPts val="1199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degree of ionization of drugs is determined by their pKa and pH of the surroun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WordArt 1028"/>
          <p:cNvSpPr txBox="1"/>
          <p:nvPr/>
        </p:nvSpPr>
        <p:spPr>
          <a:xfrm>
            <a:off x="357120" y="214200"/>
            <a:ext cx="42861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pH Effect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wedg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/>
          </p:nvPr>
        </p:nvSpPr>
        <p:spPr>
          <a:xfrm>
            <a:off x="179280" y="285480"/>
            <a:ext cx="8640720" cy="63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699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66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imes New Roman"/>
              </a:rPr>
              <a:t>Water soluble drugs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ionized = polar = charged are difficult to permeate cell membran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66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imes New Roman"/>
              </a:rPr>
              <a:t>Lipid soluble drugs =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unionized = non polar = uncharged are easy to permeate cell membra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WordArt 3"/>
          <p:cNvSpPr txBox="1"/>
          <p:nvPr/>
        </p:nvSpPr>
        <p:spPr>
          <a:xfrm>
            <a:off x="357120" y="214200"/>
            <a:ext cx="5023080" cy="59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Remember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wedge/>
  </p:transition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Rectangle 2" descr=""/>
          <p:cNvPicPr/>
          <p:nvPr/>
        </p:nvPicPr>
        <p:blipFill>
          <a:blip r:embed="rId1"/>
          <a:stretch/>
        </p:blipFill>
        <p:spPr>
          <a:xfrm>
            <a:off x="201600" y="262080"/>
            <a:ext cx="8693280" cy="63338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/>
          </p:nvPr>
        </p:nvSpPr>
        <p:spPr>
          <a:xfrm>
            <a:off x="142920" y="285840"/>
            <a:ext cx="8786880" cy="605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PKa of the dru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(Dissociation or ionization constant): pH at which half of the substance is ionized &amp; half is unioniz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lower the pKa value (pKa &lt; 6) of the acidic drug, the stronger the acid e.g aspirin         (Pka= 3.0)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higher the pKa value (pKa &gt;8) of a basic drug, the stronger the base e.g propranolol          ( pKa= 9.4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/>
          </p:nvPr>
        </p:nvSpPr>
        <p:spPr>
          <a:xfrm>
            <a:off x="250920" y="333360"/>
            <a:ext cx="864216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Which one of the following drugs will be best absorbed in stomach (pH=1-2)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Aspirin              pka=3.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Propranolol     pka= 9.4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/>
          </p:nvPr>
        </p:nvSpPr>
        <p:spPr>
          <a:xfrm>
            <a:off x="107640" y="980640"/>
            <a:ext cx="878508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69960" indent="-325440">
              <a:spcBef>
                <a:spcPts val="75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2220840"/>
                <a:tab algn="l" pos="4441680"/>
                <a:tab algn="l" pos="6662880"/>
                <a:tab algn="l" pos="88837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latively uncommo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2220840"/>
                <a:tab algn="l" pos="4441680"/>
                <a:tab algn="l" pos="6662880"/>
                <a:tab algn="l" pos="88837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ccurs </a:t>
            </a:r>
            <a:r>
              <a:rPr b="0" lang="en-US" sz="3000" spc="-1" strike="noStrike" u="sng">
                <a:solidFill>
                  <a:srgbClr val="c00000"/>
                </a:solidFill>
                <a:uFillTx/>
                <a:latin typeface="Arial"/>
              </a:rPr>
              <a:t>against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centration gradien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2220840"/>
                <a:tab algn="l" pos="4441680"/>
                <a:tab algn="l" pos="6662880"/>
                <a:tab algn="l" pos="88837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quires </a:t>
            </a:r>
            <a:r>
              <a:rPr b="0" lang="en-US" sz="3000" spc="-1" strike="noStrike" u="sng">
                <a:solidFill>
                  <a:srgbClr val="c00000"/>
                </a:solidFill>
                <a:uFillTx/>
                <a:latin typeface="Arial"/>
              </a:rPr>
              <a:t>carrier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3000" spc="-1" strike="noStrike" u="sng">
                <a:solidFill>
                  <a:srgbClr val="c00000"/>
                </a:solidFill>
                <a:uFillTx/>
                <a:latin typeface="Arial"/>
              </a:rPr>
              <a:t>energy</a:t>
            </a:r>
            <a:r>
              <a:rPr b="0" lang="en-US" sz="3000" spc="-1" strike="noStrike">
                <a:solidFill>
                  <a:srgbClr val="c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2220840"/>
                <a:tab algn="l" pos="4441680"/>
                <a:tab algn="l" pos="6662880"/>
                <a:tab algn="l" pos="88837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pecific or selectiv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2220840"/>
                <a:tab algn="l" pos="4441680"/>
                <a:tab algn="l" pos="6662880"/>
                <a:tab algn="l" pos="88837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aturab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751"/>
              </a:spcBef>
              <a:buNone/>
              <a:tabLst>
                <a:tab algn="l" pos="0"/>
                <a:tab algn="l" pos="2220840"/>
                <a:tab algn="l" pos="4441680"/>
                <a:tab algn="l" pos="6662880"/>
                <a:tab algn="l" pos="88837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.g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2220840"/>
                <a:tab algn="l" pos="4441680"/>
                <a:tab algn="l" pos="6662880"/>
                <a:tab algn="l" pos="88837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bsorption of sugar, amino acid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2220840"/>
                <a:tab algn="l" pos="4441680"/>
                <a:tab algn="l" pos="6662880"/>
                <a:tab algn="l" pos="88837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ptake of levodopa by brai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2220840"/>
                <a:tab algn="l" pos="4441680"/>
                <a:tab algn="l" pos="6662880"/>
                <a:tab algn="l" pos="88837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evodopa is used in treatment of parkinsonis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WordArt 1028"/>
          <p:cNvSpPr txBox="1"/>
          <p:nvPr/>
        </p:nvSpPr>
        <p:spPr>
          <a:xfrm>
            <a:off x="399960" y="333360"/>
            <a:ext cx="41720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Active Transport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wedge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Picture 5" descr="passive_active_transport"/>
          <p:cNvPicPr/>
          <p:nvPr/>
        </p:nvPicPr>
        <p:blipFill>
          <a:blip r:embed="rId1"/>
          <a:srcRect l="51826" t="9213" r="3887" b="0"/>
          <a:stretch/>
        </p:blipFill>
        <p:spPr>
          <a:xfrm>
            <a:off x="4716360" y="260280"/>
            <a:ext cx="4176720" cy="6264360"/>
          </a:xfrm>
          <a:prstGeom prst="rect">
            <a:avLst/>
          </a:prstGeom>
          <a:ln w="31680">
            <a:solidFill>
              <a:srgbClr val="000080"/>
            </a:solidFill>
            <a:miter/>
          </a:ln>
        </p:spPr>
      </p:pic>
      <p:pic>
        <p:nvPicPr>
          <p:cNvPr id="264" name="Picture 6" descr="passive_active_transport"/>
          <p:cNvPicPr/>
          <p:nvPr/>
        </p:nvPicPr>
        <p:blipFill>
          <a:blip r:embed="rId2"/>
          <a:srcRect l="0" t="9213" r="55713" b="0"/>
          <a:stretch/>
        </p:blipFill>
        <p:spPr>
          <a:xfrm>
            <a:off x="250920" y="260280"/>
            <a:ext cx="4363920" cy="6264360"/>
          </a:xfrm>
          <a:prstGeom prst="rect">
            <a:avLst/>
          </a:prstGeom>
          <a:ln w="31680">
            <a:solidFill>
              <a:srgbClr val="000080"/>
            </a:solidFill>
            <a:miter/>
          </a:ln>
        </p:spPr>
      </p:pic>
    </p:spTree>
  </p:cSld>
  <p:transition>
    <p:wedge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287280" y="1341360"/>
            <a:ext cx="856944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-6462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ccurs </a:t>
            </a:r>
            <a:r>
              <a:rPr b="0" lang="en-US" sz="3200" spc="-1" strike="noStrike" u="sng">
                <a:solidFill>
                  <a:srgbClr val="c00000"/>
                </a:solidFill>
                <a:uFillTx/>
                <a:latin typeface="Arial"/>
              </a:rPr>
              <a:t>alo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centration gradi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6462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energy is requi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6462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s </a:t>
            </a:r>
            <a:r>
              <a:rPr b="0" lang="en-US" sz="3200" spc="-1" strike="noStrike" u="sng">
                <a:solidFill>
                  <a:srgbClr val="c00000"/>
                </a:solidFill>
                <a:uFillTx/>
                <a:latin typeface="Arial"/>
              </a:rPr>
              <a:t>carri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6462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00000"/>
                </a:solidFill>
                <a:uFillTx/>
                <a:latin typeface="Arial"/>
              </a:rPr>
              <a:t>selectiv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6462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00000"/>
                </a:solidFill>
                <a:uFillTx/>
                <a:latin typeface="Arial"/>
              </a:rPr>
              <a:t>Satur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6462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ilar to entry of glucose into muscl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WordArt 5"/>
          <p:cNvSpPr txBox="1"/>
          <p:nvPr/>
        </p:nvSpPr>
        <p:spPr>
          <a:xfrm>
            <a:off x="1835280" y="260280"/>
            <a:ext cx="61214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Carrier-mediated Facilitated Diffusion</a:t>
            </a:r>
            <a:endParaRPr b="0" lang="en-US" sz="3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wedge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Picture 4" descr="facilitatedDiffusion"/>
          <p:cNvPicPr/>
          <p:nvPr/>
        </p:nvPicPr>
        <p:blipFill>
          <a:blip r:embed="rId1"/>
          <a:stretch/>
        </p:blipFill>
        <p:spPr>
          <a:xfrm>
            <a:off x="179280" y="189000"/>
            <a:ext cx="8785440" cy="6480000"/>
          </a:xfrm>
          <a:prstGeom prst="rect">
            <a:avLst/>
          </a:prstGeom>
          <a:ln w="31680">
            <a:solidFill>
              <a:srgbClr val="3366ff"/>
            </a:solidFill>
            <a:miter/>
          </a:ln>
        </p:spPr>
      </p:pic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What is Pharmacology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78920" y="1197000"/>
            <a:ext cx="87138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8571f"/>
                </a:solidFill>
                <a:latin typeface="Arial"/>
              </a:rPr>
              <a:t>Pharmacology studies the effects of drugs and  how they exert their effect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a3664"/>
                </a:solidFill>
                <a:latin typeface="Arial"/>
              </a:rPr>
              <a:t>Acetylsalicylic acid (ASA) or Aspirin can reduc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a3664"/>
                </a:solidFill>
                <a:latin typeface="Arial"/>
              </a:rPr>
              <a:t>inflammation, , pain and fev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a3664"/>
                </a:solidFill>
                <a:latin typeface="Arial"/>
              </a:rPr>
              <a:t>It inhibit the action of a human cell membrane  enzyme known as cyclooxygen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b050"/>
                </a:solidFill>
                <a:latin typeface="Arial"/>
              </a:rPr>
              <a:t>Penicillin cures certain bacterial infections disrupt the synthesis of cell walls in susceptibl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b050"/>
                </a:solidFill>
                <a:latin typeface="Arial"/>
              </a:rPr>
              <a:t>bacterial strains by inhibiting a key enzym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/>
          </p:nvPr>
        </p:nvSpPr>
        <p:spPr>
          <a:xfrm>
            <a:off x="250560" y="1052280"/>
            <a:ext cx="889308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Endocytosis:</a:t>
            </a:r>
            <a:r>
              <a:rPr b="1" lang="en-US" sz="3200" spc="-1" strike="noStrike">
                <a:solidFill>
                  <a:srgbClr val="006633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Times New Roman"/>
                <a:ea typeface="Times New Roman"/>
              </a:rPr>
              <a:t>uptake of membrane-bound particl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Exocytosis:</a:t>
            </a:r>
            <a:r>
              <a:rPr b="1" lang="en-US" sz="3200" spc="-1" strike="noStrike">
                <a:solidFill>
                  <a:srgbClr val="006633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Times New Roman"/>
                <a:ea typeface="Times New Roman"/>
              </a:rPr>
              <a:t>expulsion of membrane-bound partic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docytosis occu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for high molecular weight drug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e molecules such a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pti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high polar substanc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such as vitamin B12 &amp; ir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tamin B12 combines with intrinsic fact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ron combines with transferr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WordArt 4"/>
          <p:cNvSpPr txBox="1"/>
          <p:nvPr/>
        </p:nvSpPr>
        <p:spPr>
          <a:xfrm>
            <a:off x="1042920" y="260280"/>
            <a:ext cx="59054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Phagocytosis (Endocytosis &amp; Exocytosis)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wedge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4" descr="endocytosisAnimated"/>
          <p:cNvPicPr/>
          <p:nvPr/>
        </p:nvPicPr>
        <p:blipFill>
          <a:blip r:embed="rId1"/>
          <a:stretch/>
        </p:blipFill>
        <p:spPr>
          <a:xfrm>
            <a:off x="539640" y="1716120"/>
            <a:ext cx="3881520" cy="344160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5" descr="exocytosisAnimated"/>
          <p:cNvPicPr/>
          <p:nvPr/>
        </p:nvPicPr>
        <p:blipFill>
          <a:blip r:embed="rId2"/>
          <a:stretch/>
        </p:blipFill>
        <p:spPr>
          <a:xfrm>
            <a:off x="4572000" y="1700280"/>
            <a:ext cx="3816360" cy="3457440"/>
          </a:xfrm>
          <a:prstGeom prst="rect">
            <a:avLst/>
          </a:prstGeom>
          <a:ln w="0">
            <a:noFill/>
          </a:ln>
        </p:spPr>
      </p:pic>
      <p:sp>
        <p:nvSpPr>
          <p:cNvPr id="272" name="Text Box 7"/>
          <p:cNvSpPr/>
          <p:nvPr/>
        </p:nvSpPr>
        <p:spPr>
          <a:xfrm>
            <a:off x="684360" y="333360"/>
            <a:ext cx="1584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28584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WordArt 8"/>
          <p:cNvSpPr txBox="1"/>
          <p:nvPr/>
        </p:nvSpPr>
        <p:spPr>
          <a:xfrm>
            <a:off x="1042920" y="836640"/>
            <a:ext cx="27370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(Endocytosis)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74" name="WordArt 10"/>
          <p:cNvSpPr txBox="1"/>
          <p:nvPr/>
        </p:nvSpPr>
        <p:spPr>
          <a:xfrm>
            <a:off x="5148360" y="765000"/>
            <a:ext cx="27367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(Exocytosis)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75" name="Line 13"/>
          <p:cNvSpPr/>
          <p:nvPr/>
        </p:nvSpPr>
        <p:spPr>
          <a:xfrm>
            <a:off x="6732720" y="3933720"/>
            <a:ext cx="1152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14"/>
          <p:cNvSpPr/>
          <p:nvPr/>
        </p:nvSpPr>
        <p:spPr>
          <a:xfrm>
            <a:off x="7956720" y="371016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15"/>
          <p:cNvSpPr/>
          <p:nvPr/>
        </p:nvSpPr>
        <p:spPr>
          <a:xfrm>
            <a:off x="5724360" y="371016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16"/>
          <p:cNvSpPr/>
          <p:nvPr/>
        </p:nvSpPr>
        <p:spPr>
          <a:xfrm>
            <a:off x="755640" y="3860640"/>
            <a:ext cx="865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17"/>
          <p:cNvSpPr/>
          <p:nvPr/>
        </p:nvSpPr>
        <p:spPr>
          <a:xfrm>
            <a:off x="108000" y="364500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18"/>
          <p:cNvSpPr/>
          <p:nvPr/>
        </p:nvSpPr>
        <p:spPr>
          <a:xfrm>
            <a:off x="1692360" y="364500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Picture 4" descr="Transport"/>
          <p:cNvPicPr/>
          <p:nvPr/>
        </p:nvPicPr>
        <p:blipFill>
          <a:blip r:embed="rId1"/>
          <a:stretch/>
        </p:blipFill>
        <p:spPr>
          <a:xfrm>
            <a:off x="395280" y="1341360"/>
            <a:ext cx="8424720" cy="5183280"/>
          </a:xfrm>
          <a:prstGeom prst="rect">
            <a:avLst/>
          </a:prstGeom>
          <a:ln w="0">
            <a:noFill/>
          </a:ln>
        </p:spPr>
      </p:pic>
      <p:sp>
        <p:nvSpPr>
          <p:cNvPr id="282" name="WordArt 5"/>
          <p:cNvSpPr txBox="1"/>
          <p:nvPr/>
        </p:nvSpPr>
        <p:spPr>
          <a:xfrm>
            <a:off x="1332000" y="404640"/>
            <a:ext cx="6696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Mechanisms of drug absorption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wedge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/>
          </p:nvPr>
        </p:nvSpPr>
        <p:spPr>
          <a:xfrm>
            <a:off x="142560" y="260280"/>
            <a:ext cx="8893080" cy="64087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Factors affecting absorption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50000"/>
              </a:lnSpc>
              <a:buClr>
                <a:srgbClr val="9966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ute of administr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50000"/>
              </a:lnSpc>
              <a:buClr>
                <a:srgbClr val="9966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sage form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depending on particle size and disintegration, ease of dissolution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66ff"/>
                </a:solidFill>
                <a:latin typeface="Times New Roman"/>
              </a:rPr>
              <a:t>(solution &gt; suspension &gt; capsule &gt; table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/>
          </p:nvPr>
        </p:nvSpPr>
        <p:spPr>
          <a:xfrm>
            <a:off x="142560" y="260280"/>
            <a:ext cx="8893080" cy="64087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anchor="t">
            <a:normAutofit/>
          </a:bodyPr>
          <a:p>
            <a:pPr lvl="1" marL="669960" indent="-325440">
              <a:lnSpc>
                <a:spcPct val="150000"/>
              </a:lnSpc>
              <a:buClr>
                <a:srgbClr val="9966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lecular weight of dru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50000"/>
              </a:lnSpc>
              <a:buClr>
                <a:srgbClr val="9966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pid solu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50000"/>
              </a:lnSpc>
              <a:buClr>
                <a:srgbClr val="9966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gree of ion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50000"/>
              </a:lnSpc>
              <a:buClr>
                <a:srgbClr val="9966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ug solubility (aqueous preparation better than oily, suspension preparation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50000"/>
              </a:lnSpc>
              <a:buClr>
                <a:srgbClr val="9966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mical instability in gastric p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3366ff"/>
                </a:solidFill>
                <a:latin typeface="Times New Roman"/>
              </a:rPr>
              <a:t>(Penicillin &amp; insulin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/>
          </p:nvPr>
        </p:nvSpPr>
        <p:spPr>
          <a:xfrm>
            <a:off x="142920" y="260280"/>
            <a:ext cx="8786880" cy="64087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Factors affecting absorption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rface area available for absor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799"/>
              </a:spcBef>
              <a:buClr>
                <a:srgbClr val="9966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mall intestine has large surface area than stomach due to intestinal microvill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lood flow to absorptive si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100000"/>
              </a:lnSpc>
              <a:spcBef>
                <a:spcPts val="799"/>
              </a:spcBef>
              <a:buClr>
                <a:srgbClr val="9966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greater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lood flow increases bioavail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100000"/>
              </a:lnSpc>
              <a:spcBef>
                <a:spcPts val="799"/>
              </a:spcBef>
              <a:buClr>
                <a:srgbClr val="9966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stine has greater blood flow than stom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stinal motility (transit tim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100000"/>
              </a:lnSpc>
              <a:spcBef>
                <a:spcPts val="799"/>
              </a:spcBef>
              <a:buClr>
                <a:srgbClr val="9966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arrhea reduce absor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Line 3"/>
          <p:cNvSpPr/>
          <p:nvPr/>
        </p:nvSpPr>
        <p:spPr>
          <a:xfrm>
            <a:off x="4572000" y="3933720"/>
            <a:ext cx="9367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/>
          </p:nvPr>
        </p:nvSpPr>
        <p:spPr>
          <a:xfrm>
            <a:off x="250920" y="260280"/>
            <a:ext cx="8642160" cy="6191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99"/>
              </a:spcBef>
              <a:buClr>
                <a:srgbClr val="9966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astric empty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99640" indent="-308880">
              <a:lnSpc>
                <a:spcPct val="100000"/>
              </a:lnSpc>
              <a:spcBef>
                <a:spcPts val="799"/>
              </a:spcBef>
              <a:buClr>
                <a:srgbClr val="9966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ugs that increase gastric emptying enhances absorption (metoclopramide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799"/>
              </a:spcBef>
              <a:buClr>
                <a:srgbClr val="9966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ug intera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799"/>
              </a:spcBef>
              <a:buClr>
                <a:srgbClr val="9966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89320" indent="-286200">
              <a:lnSpc>
                <a:spcPct val="100000"/>
              </a:lnSpc>
              <a:spcBef>
                <a:spcPts val="799"/>
              </a:spcBef>
              <a:buClr>
                <a:srgbClr val="9966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low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astric empty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89320" indent="-286200">
              <a:lnSpc>
                <a:spcPct val="100000"/>
              </a:lnSpc>
              <a:spcBef>
                <a:spcPts val="799"/>
              </a:spcBef>
              <a:buClr>
                <a:srgbClr val="9966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lly slow absor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89320" indent="-286200">
              <a:lnSpc>
                <a:spcPct val="100000"/>
              </a:lnSpc>
              <a:spcBef>
                <a:spcPts val="799"/>
              </a:spcBef>
              <a:buClr>
                <a:srgbClr val="9966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tracycline, aspirin, penicillin 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89320" indent="-286200">
              <a:lnSpc>
                <a:spcPct val="100000"/>
              </a:lnSpc>
              <a:spcBef>
                <a:spcPts val="799"/>
              </a:spcBef>
              <a:buClr>
                <a:srgbClr val="9966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fatty meal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the absorption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893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t soluble antifungal drug  (e.g. griseofulvin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893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2"/>
          <p:cNvSpPr/>
          <p:nvPr/>
        </p:nvSpPr>
        <p:spPr>
          <a:xfrm>
            <a:off x="611280" y="333360"/>
            <a:ext cx="795636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9" name=""/>
          <p:cNvGraphicFramePr/>
          <p:nvPr/>
        </p:nvGraphicFramePr>
        <p:xfrm>
          <a:off x="147600" y="189000"/>
          <a:ext cx="8745480" cy="6480000"/>
        </p:xfrm>
        <a:graphic>
          <a:graphicData uri="http://schemas.openxmlformats.org/drawingml/2006/table">
            <a:tbl>
              <a:tblPr/>
              <a:tblGrid>
                <a:gridCol w="4222800"/>
                <a:gridCol w="4522680"/>
              </a:tblGrid>
              <a:tr h="102528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3366ff"/>
                          </a:solidFill>
                          <a:latin typeface="Times New Roman"/>
                          <a:ea typeface="Times New Roman"/>
                        </a:rPr>
                        <a:t>Passive transport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3366ff"/>
                          </a:solidFill>
                          <a:latin typeface="Times New Roman"/>
                          <a:ea typeface="Times New Roman"/>
                        </a:rPr>
                        <a:t>Active transport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21120">
                <a:tc>
                  <a:txBody>
                    <a:bodyPr tIns="46800" bIns="46800" anchor="t">
                      <a:noAutofit/>
                    </a:bodyPr>
                    <a:p>
                      <a:pPr lvl="1" marL="457200" indent="-112680"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along concentration gradient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 indent="-112680"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ff0000"/>
                          </a:solidFill>
                          <a:latin typeface="Times New Roman"/>
                          <a:ea typeface="Arial"/>
                        </a:rPr>
                        <a:t>(From high to low)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lvl="1" marL="457200" indent="-112680"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against concentration gradient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 indent="-112680"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ff0000"/>
                          </a:solidFill>
                          <a:latin typeface="Times New Roman"/>
                          <a:ea typeface="Arial"/>
                        </a:rPr>
                        <a:t>(From low to high)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772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 carriers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eds carriers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016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t saturable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turable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2640">
                <a:tc>
                  <a:txBody>
                    <a:bodyPr tIns="46800" bIns="46800" anchor="t">
                      <a:noAutofit/>
                    </a:bodyPr>
                    <a:p>
                      <a:pPr lvl="1" marL="457200" indent="-112680"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ot selective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lvl="1" marL="457200" indent="-112680"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Selective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308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 energy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lvl="1" marL="457200" indent="-112680"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energy is required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randomBar dir="horz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2"/>
          <p:cNvSpPr/>
          <p:nvPr/>
        </p:nvSpPr>
        <p:spPr>
          <a:xfrm>
            <a:off x="611280" y="333360"/>
            <a:ext cx="795636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1" name=""/>
          <p:cNvGraphicFramePr/>
          <p:nvPr/>
        </p:nvGraphicFramePr>
        <p:xfrm>
          <a:off x="250920" y="209520"/>
          <a:ext cx="8713800" cy="5862600"/>
        </p:xfrm>
        <a:graphic>
          <a:graphicData uri="http://schemas.openxmlformats.org/drawingml/2006/table">
            <a:tbl>
              <a:tblPr/>
              <a:tblGrid>
                <a:gridCol w="4152960"/>
                <a:gridCol w="4560840"/>
              </a:tblGrid>
              <a:tr h="1187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3366ff"/>
                          </a:solidFill>
                          <a:latin typeface="Times New Roman"/>
                          <a:ea typeface="Times New Roman"/>
                        </a:rPr>
                        <a:t>Active transport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3366ff"/>
                          </a:solidFill>
                          <a:latin typeface="Times New Roman"/>
                          <a:ea typeface="Times New Roman"/>
                        </a:rPr>
                        <a:t>Carrier-mediated 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3366ff"/>
                          </a:solidFill>
                          <a:latin typeface="Times New Roman"/>
                          <a:ea typeface="Times New Roman"/>
                        </a:rPr>
                        <a:t>facilitated diffusion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19120">
                <a:tc>
                  <a:txBody>
                    <a:bodyPr lIns="90000" rIns="90000" anchor="t">
                      <a:noAutofit/>
                    </a:bodyPr>
                    <a:p>
                      <a:pPr lvl="1" marL="457200" indent="-112680"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Against concentration gradient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 indent="-112680"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(</a:t>
                      </a:r>
                      <a:r>
                        <a:rPr b="1" lang="en-US" sz="2600" spc="-1" strike="noStrike">
                          <a:solidFill>
                            <a:srgbClr val="ff0000"/>
                          </a:solidFill>
                          <a:latin typeface="Times New Roman"/>
                          <a:ea typeface="Arial"/>
                        </a:rPr>
                        <a:t>From low to high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)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lvl="1" marL="457200" indent="-112680"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along concentration gradient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 indent="-112680"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(</a:t>
                      </a:r>
                      <a:r>
                        <a:rPr b="1" lang="en-US" sz="2600" spc="-1" strike="noStrike">
                          <a:solidFill>
                            <a:srgbClr val="ff0000"/>
                          </a:solidFill>
                          <a:latin typeface="Times New Roman"/>
                          <a:ea typeface="Arial"/>
                        </a:rPr>
                        <a:t>From high to low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)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eds carriers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eds carriers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 lvl="1" marL="457200" indent="-112680"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saturable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 indent="-112680"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lvl="1" marL="457200" indent="-112680"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Saturable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9400">
                <a:tc>
                  <a:txBody>
                    <a:bodyPr lIns="90000" rIns="90000" anchor="t">
                      <a:noAutofit/>
                    </a:bodyPr>
                    <a:p>
                      <a:pPr lvl="1" marL="457200" indent="-112680"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Selective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lvl="1" marL="457200" indent="-112680"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Selective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ergy is required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lvl="1" marL="457200" indent="-112680"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0000"/>
                          </a:solidFill>
                          <a:latin typeface="Times New Roman"/>
                          <a:ea typeface="Arial"/>
                        </a:rPr>
                        <a:t>No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 energy is required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 indent="-112680"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randomBar dir="horz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0000"/>
                </a:solidFill>
                <a:latin typeface="Garamond"/>
              </a:rPr>
              <a:t>Summary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5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routes of administration are avail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5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enteral administration is the suitable route to provide rapid effe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5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I.V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used in emergency and provide high avail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5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al administration is best avoided during emergency or when severe first pass metabolism may occ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5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ugs may cross any cell membrane by simple diffusion, active transport, facilitated diffusion, and pinocytos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250560" y="213840"/>
            <a:ext cx="8435880" cy="623916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anchor="t">
            <a:normAutofit/>
          </a:bodyPr>
          <a:p>
            <a:pPr marL="18252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11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Pharmacology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is the science that deals with the drugs regarding clasification, pharmacokinetics, pharmacodynamics, side effects and therapeutic us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2520" indent="0" algn="r">
              <a:lnSpc>
                <a:spcPct val="11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57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Picture 3" descr="QUESTION"/>
          <p:cNvPicPr/>
          <p:nvPr/>
        </p:nvPicPr>
        <p:blipFill>
          <a:blip r:embed="rId1"/>
          <a:stretch/>
        </p:blipFill>
        <p:spPr>
          <a:xfrm>
            <a:off x="5940360" y="981000"/>
            <a:ext cx="2376720" cy="410364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4" descr="j0078711"/>
          <p:cNvPicPr/>
          <p:nvPr/>
        </p:nvPicPr>
        <p:blipFill>
          <a:blip r:embed="rId2"/>
          <a:stretch/>
        </p:blipFill>
        <p:spPr>
          <a:xfrm>
            <a:off x="1476360" y="1916280"/>
            <a:ext cx="2057400" cy="39337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214200" y="214200"/>
            <a:ext cx="874872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ff"/>
                </a:solidFill>
                <a:latin typeface="Arial"/>
              </a:rPr>
              <a:t>Pharmacokinetics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re studies of the absorption, distribution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etabolism &amp; excretion of drug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3000" spc="-1" strike="noStrike">
                <a:solidFill>
                  <a:srgbClr val="00b050"/>
                </a:solidFill>
                <a:latin typeface="Arial"/>
              </a:rPr>
              <a:t>what the body does to a drug?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ff"/>
                </a:solidFill>
                <a:latin typeface="Arial"/>
              </a:rPr>
              <a:t>Pharmacodynamic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re studies of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- Mechanisms of drug actio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- Pharmacological effects of drug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3000" spc="-1" strike="noStrike">
                <a:solidFill>
                  <a:srgbClr val="00b050"/>
                </a:solidFill>
                <a:latin typeface="Arial"/>
              </a:rPr>
              <a:t>what the drug does to the body?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250560" y="333360"/>
            <a:ext cx="8435880" cy="61200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anchor="t">
            <a:normAutofit/>
          </a:bodyPr>
          <a:p>
            <a:pPr marL="182520"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ff"/>
                </a:solidFill>
                <a:latin typeface="Arial"/>
              </a:rPr>
              <a:t>Pharmacokinetics of drugs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Are studies of drugs regarding </a:t>
            </a:r>
            <a:r>
              <a:rPr b="1" lang="en-US" sz="3400" spc="-1" strike="noStrike">
                <a:solidFill>
                  <a:srgbClr val="ff0000"/>
                </a:solidFill>
                <a:latin typeface="Arial"/>
              </a:rPr>
              <a:t>ADME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82520">
              <a:spcBef>
                <a:spcPts val="850"/>
              </a:spcBef>
              <a:buClr>
                <a:srgbClr val="ff0066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400" spc="-1" strike="noStrike">
                <a:solidFill>
                  <a:srgbClr val="0000ff"/>
                </a:solidFill>
                <a:latin typeface="Arial"/>
              </a:rPr>
              <a:t>A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bsorptio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182520">
              <a:spcBef>
                <a:spcPts val="850"/>
              </a:spcBef>
              <a:buClr>
                <a:srgbClr val="ff0066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400" spc="-1" strike="noStrike">
                <a:solidFill>
                  <a:srgbClr val="0000ff"/>
                </a:solidFill>
                <a:latin typeface="Arial"/>
              </a:rPr>
              <a:t>D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istributio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182520">
              <a:spcBef>
                <a:spcPts val="850"/>
              </a:spcBef>
              <a:buClr>
                <a:srgbClr val="ff0066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400" spc="-1" strike="noStrike">
                <a:solidFill>
                  <a:srgbClr val="0000ff"/>
                </a:solidFill>
                <a:latin typeface="Arial"/>
              </a:rPr>
              <a:t>M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etabolism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182520">
              <a:spcBef>
                <a:spcPts val="850"/>
              </a:spcBef>
              <a:buClr>
                <a:srgbClr val="ff0066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400" spc="-1" strike="noStrike">
                <a:solidFill>
                  <a:srgbClr val="0000ff"/>
                </a:solidFill>
                <a:latin typeface="Arial"/>
              </a:rPr>
              <a:t>E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xcretio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WordArt 3"/>
          <p:cNvSpPr txBox="1"/>
          <p:nvPr/>
        </p:nvSpPr>
        <p:spPr>
          <a:xfrm>
            <a:off x="2195640" y="333360"/>
            <a:ext cx="41576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Pharmacokinetics</a:t>
            </a:r>
            <a:endParaRPr b="0" lang="en-US" sz="3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46" name="Rectangle 4"/>
          <p:cNvSpPr/>
          <p:nvPr/>
        </p:nvSpPr>
        <p:spPr>
          <a:xfrm>
            <a:off x="179280" y="2060640"/>
            <a:ext cx="2519640" cy="79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minist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6"/>
          <p:cNvSpPr/>
          <p:nvPr/>
        </p:nvSpPr>
        <p:spPr>
          <a:xfrm>
            <a:off x="3780000" y="2060640"/>
            <a:ext cx="1944360" cy="2305080"/>
          </a:xfrm>
          <a:prstGeom prst="rect">
            <a:avLst/>
          </a:prstGeom>
          <a:solidFill>
            <a:srgbClr val="ffffff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loo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7"/>
          <p:cNvSpPr/>
          <p:nvPr/>
        </p:nvSpPr>
        <p:spPr>
          <a:xfrm>
            <a:off x="2771640" y="4149720"/>
            <a:ext cx="100836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10"/>
          <p:cNvSpPr/>
          <p:nvPr/>
        </p:nvSpPr>
        <p:spPr>
          <a:xfrm>
            <a:off x="250920" y="3716280"/>
            <a:ext cx="2735280" cy="79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Absor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11"/>
          <p:cNvSpPr/>
          <p:nvPr/>
        </p:nvSpPr>
        <p:spPr>
          <a:xfrm>
            <a:off x="2340000" y="5516640"/>
            <a:ext cx="2592360" cy="100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2"/>
          <p:cNvSpPr/>
          <p:nvPr/>
        </p:nvSpPr>
        <p:spPr>
          <a:xfrm>
            <a:off x="6516720" y="1987560"/>
            <a:ext cx="2446200" cy="93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Metabol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3"/>
          <p:cNvSpPr/>
          <p:nvPr/>
        </p:nvSpPr>
        <p:spPr>
          <a:xfrm>
            <a:off x="6659640" y="476280"/>
            <a:ext cx="2303280" cy="719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Excre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15"/>
          <p:cNvSpPr/>
          <p:nvPr/>
        </p:nvSpPr>
        <p:spPr>
          <a:xfrm>
            <a:off x="826920" y="2997360"/>
            <a:ext cx="0" cy="6476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18"/>
          <p:cNvSpPr/>
          <p:nvPr/>
        </p:nvSpPr>
        <p:spPr>
          <a:xfrm flipV="1">
            <a:off x="7451640" y="2997360"/>
            <a:ext cx="0" cy="576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21"/>
          <p:cNvSpPr/>
          <p:nvPr/>
        </p:nvSpPr>
        <p:spPr>
          <a:xfrm>
            <a:off x="5076720" y="6165720"/>
            <a:ext cx="100800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22"/>
          <p:cNvSpPr/>
          <p:nvPr/>
        </p:nvSpPr>
        <p:spPr>
          <a:xfrm flipV="1">
            <a:off x="7380360" y="4725720"/>
            <a:ext cx="0" cy="6476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23"/>
          <p:cNvSpPr/>
          <p:nvPr/>
        </p:nvSpPr>
        <p:spPr>
          <a:xfrm>
            <a:off x="6154560" y="5445000"/>
            <a:ext cx="2881440" cy="93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organs &amp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24"/>
          <p:cNvSpPr/>
          <p:nvPr/>
        </p:nvSpPr>
        <p:spPr>
          <a:xfrm>
            <a:off x="684360" y="907920"/>
            <a:ext cx="0" cy="936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25"/>
          <p:cNvSpPr/>
          <p:nvPr/>
        </p:nvSpPr>
        <p:spPr>
          <a:xfrm>
            <a:off x="539640" y="33336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u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26"/>
          <p:cNvSpPr/>
          <p:nvPr/>
        </p:nvSpPr>
        <p:spPr>
          <a:xfrm>
            <a:off x="6227640" y="3645000"/>
            <a:ext cx="2446560" cy="93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te of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27"/>
          <p:cNvSpPr/>
          <p:nvPr/>
        </p:nvSpPr>
        <p:spPr>
          <a:xfrm>
            <a:off x="4427640" y="4506840"/>
            <a:ext cx="0" cy="10098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28"/>
          <p:cNvSpPr/>
          <p:nvPr/>
        </p:nvSpPr>
        <p:spPr>
          <a:xfrm flipV="1">
            <a:off x="7524720" y="1267920"/>
            <a:ext cx="0" cy="576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29"/>
          <p:cNvSpPr/>
          <p:nvPr/>
        </p:nvSpPr>
        <p:spPr>
          <a:xfrm>
            <a:off x="5435640" y="4437000"/>
            <a:ext cx="720720" cy="1008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6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4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9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8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8T08:21:56Z</dcterms:created>
  <dc:creator>administrator</dc:creator>
  <dc:description/>
  <dc:language>en-US</dc:language>
  <cp:lastModifiedBy>aboo alde</cp:lastModifiedBy>
  <dcterms:modified xsi:type="dcterms:W3CDTF">2015-09-08T11:28:52Z</dcterms:modified>
  <cp:revision>289</cp:revision>
  <dc:subject/>
  <dc:title>GENERAL PHARMACOLOGY</dc:title>
</cp:coreProperties>
</file>