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8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12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  <p:sldId id="295" r:id="rId62"/>
    <p:sldId id="29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slide" Target="slides/slide40.xml"/><Relationship Id="rId63" Type="http://schemas.openxmlformats.org/officeDocument/2006/relationships/slide" Target="slides/slide41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dt" idx="6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ftr" idx="6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 type="sldNum" idx="6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154E-1346-4917-8EB6-5C19EACA98B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34CB-4BAE-4D6D-99E8-E8C03638555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4FB3-7BC6-4D31-9D19-F7E1B3F1FDD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4637-F887-4A21-8063-B5EDC802797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4484-A441-4D63-9B2D-928F2592B6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1A06-649A-4370-85CF-F5D3A4B36D0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F1B-96DE-4FCF-A8DF-16836BB8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0A8-A0AB-4801-BD1B-75BF51BE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D4145-CE5C-437F-9CB5-DEDDCECE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F57B4-A9F6-407F-9723-3B27DB45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F1A90-4466-44D0-8638-FCEC6803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F5FE5-E0C4-45E9-A488-6D44C9BC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6445F-8C5C-49A4-BF43-737428E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7A557-DE74-44E4-A7E5-5910C58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DA7AF-8721-41D0-BA72-DDF06DF7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22B9F-8F98-464E-8650-F12D0DB2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267B4-0105-48BB-AA2D-D0CF429C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E846B-54C1-48C2-8C4B-1EDAF4FE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310-4508-4152-B685-DE5BA150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6073C-F1A1-4C2C-89BA-E45D2427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CB045-46CD-4A5F-9205-925F4005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C456E-F48D-449F-842C-18145784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E47C1-3D7B-422D-9682-BEF2BD48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BCB1B-8151-4FAC-AC2C-578842F8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AC80D-9D68-4ABF-AB02-62481D7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40333-6F12-438F-A93A-8F3AC53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CAFD1-129A-4675-AEAF-3664A019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A106B-8A42-4665-A170-8DBA7803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A90BA-D4A7-4B4C-A5B9-3A8F1135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4B0-7E04-4EF6-92A8-500BD37F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22BF6-8FBA-4187-BA75-CDCDBD88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91D40-0FF1-4897-A6F0-8ED9ACAF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BB3F5-8870-41D9-9209-C519247D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69CE3-0AD9-4410-AB81-8D5A67C9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F650F-8041-4286-ABEB-EF0A7C58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38BB1-E833-4455-AB47-BECC88E8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F2E72-EFAD-4293-A4B5-591B6E4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52E25-949E-44E1-B806-A8679FF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B2DD6-8D13-4B8F-BA69-EAD85FE2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8D50-9037-405A-A742-80F599DC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39DA-63FA-4FA2-B42A-95EE8E89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D3F6C-1816-427F-80FB-91B168A8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2C955-CA5B-4F04-973D-C2ABB515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A696A-09B1-48CD-966D-67AD16E8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E5B80-CD9D-4189-A625-1BE943FE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6826B-B9B3-474B-ADCF-FB8245BC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EE29A-BCD2-4895-AEE5-A19708C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96AED-955D-40EF-8D14-02A5BE45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14E47-0989-481C-9F53-3BAD80B0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38646-9BA2-4E7F-8BB0-DA84A969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7A023-6826-4594-8714-77265871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B996-5A5B-43D9-8D24-DCFC97A1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B33D8-A780-4D9C-BCDF-819941E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632D8-70DB-490A-A481-F7354E3B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6EBB4-767F-4F0C-8BC9-A0A79090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B6D99-AE2A-4E43-A296-0722E64F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B42AD-2AD6-4B12-AFF7-52165DE3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951782-C53D-41B8-9DFB-E61B2F66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2B515-1A2A-4DCA-B4C1-D04E8D82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E3D5C-FFD9-4AB3-98AD-39E1F2E5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03DE8-DDE4-4244-A82C-547C771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9EC0D-F901-46F1-823D-77E50855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CB7A-7D1B-453D-954D-FA4935E3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20850-AB89-4F62-85C4-AB72C45D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2F50B-6F5C-46ED-BD96-7A4B5E46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51F18-D13E-4DC5-A328-FC2FA3B2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1DEF9-4198-4DC3-AB79-76409D1A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0906B-3E42-4665-A768-3EC0EB8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1E76F-EAD4-4607-BC48-B087EACA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FA9AF-9289-4D91-902C-F7D80804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A3241-082C-4084-9BBE-A46D94C2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1551F-E6CD-456E-ABA7-45CC535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3D221-CCA6-4443-ABAD-882B5D64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11C3-ABB3-456B-A31D-E2F8C684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E378E-B520-406A-AC2A-033F6150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3FC41-A4B3-4036-9CF5-D4418CCF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117E6-155C-4F03-8A05-F4295A7A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254C0-68FA-4A2A-A800-A3EC786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144AD-DD04-4170-892E-7CCB575D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DC776-B9AE-4B0F-B579-1C9C102B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1FEC9-3301-49BC-8860-B2019468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6D67B-8AA3-4613-9F51-ED14F2CC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B5DCF-A16A-47E6-A1F1-ADE8276D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19EC6-31C4-4497-9375-59B6A628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5A25-2114-4685-B6C6-501F6969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C2BD5-1EC5-4819-8EC2-8D291108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AB4AF-D046-495E-BA19-65DC3BE9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BE73E-7FA3-4935-9DC6-800DB327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07740-21A9-4506-812B-E5184ACD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EC06D-46CC-495F-A010-F99E1D45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1084E-CAFD-4CE9-A250-5FA700D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D8930-D9FD-473A-9935-7B8391D0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FFC72D-E4AA-4575-BA0F-5D4AFFA5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DA0F3-71CC-4F8C-B546-4C11D5F0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7331F-7434-41DA-B129-5F2E2172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71FC-D056-44FA-A64F-5345D61D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520FB-F925-4535-BE94-C33556B0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8550D-BDC6-42D3-B55B-0E51778C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912F3-D8FB-45DB-84EC-00F6CA24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DD686-69CB-4FEC-89FF-C48067F6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D57717-4784-472F-B000-71D1F3D1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0E54D-BC65-41C0-8F26-926126BE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359B7E-32DD-4B72-88B3-D5A6274F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4F753-DCA9-413D-8221-B39971F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60ED1-CF44-4BF0-B157-37C7BB55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92512-A546-4700-8981-1DDF795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6E0D-07ED-4602-B052-1FBD8BBB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8FD51-E5E3-4B87-9EFD-31223816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8330E-03E0-4C65-8018-49F6D91E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03A39-A5EF-4448-BC6A-E2E1F18F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9B6EB-FBD5-4F9A-9DE6-A638A129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4DBD9-1F14-450C-BD5A-9958214D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FC5B6-7014-4200-8661-A08D797D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09D84-A0C8-4D40-886C-DA5AEF39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4C522-8820-4DCD-A858-D756F300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75B8A-9D56-421E-93B7-F2DB35E4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A6134-5E59-401E-A06D-5780F4F1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867-20E6-482B-99B0-71526AEE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1F13-E962-437B-AE6C-0D3B2C9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F873D-3352-4DE0-B373-F443A98F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DDDBB-98CA-4486-BF85-B2B6978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3ED47-03FE-4613-BE14-7E96A204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CFD9B-30A9-4FBA-BB33-E1A743A6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01D91-8F6C-425D-800E-332381EF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2E9C5-A065-454C-885C-45ABDEF1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89A78-5963-4E5D-AAB1-247D580A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08F18-C6B3-42B4-AB65-F3D23C52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9E81C-AFC1-4936-B97B-6EC38BB2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048B05-118B-41E1-8330-59DD3659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5793-6708-4478-8333-E30CB39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DE05BD-F480-471F-BB32-4072DE0C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108BC-4AC9-4AAE-9628-42AB147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8961F-8FB3-458B-AD8E-FCF20BE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260BFD-41B9-49B6-8722-F49AD835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6DAA0-68AD-4879-B085-2354C532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C9AC2-7D1A-4988-9127-422E2AF6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D68D6-E476-4A9B-A3A3-ED5B5CE4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6F73C-BA73-4176-A123-C312F6E8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F0B67-3288-49A8-9088-92BC2100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900F45-85EE-4587-9E91-400509CE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0583-9983-4C0C-9A05-480E2251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447A8-E79A-4EB9-A4E5-F61D006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F3AB34-FF91-4A94-8B45-7C52237A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15CB3-73C0-4827-9069-A33BA24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A5E60-A02C-4E96-B1F4-8046D98F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F875F-ADB7-4577-809E-0C013E4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36847-166F-4300-B1FC-913724F8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87271-8F81-41B1-B6AE-62D9B4D0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AB40A8-BDEC-4158-80E5-07C7C2C4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157E2-5789-4819-8516-2136AD3E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459E31-2674-4C85-92DA-3D2D8528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2E5C-B611-4225-8B57-31690E8E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09B4A8-110D-48CF-8487-28860D32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757CD-9F31-4BF5-93F9-D36E5F66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52F9D-0590-41B2-B85C-E4689B4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A241C9-261C-4CD4-BA1E-F0D7C035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48527-BE63-4E3D-8E9E-86492611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1CD8F-20E5-4986-BD7F-E2A83F4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835E1-FD7A-4682-BEE6-6D42C360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A6DE7-BEDD-492E-9A31-94F1AF8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B33A0-B668-4DBF-AE4D-0B3EFDB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B1D298-E7B6-4510-8DBE-C3AF7458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EC2B-B2E1-4EEC-92D6-148584A3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B04A4-BE1B-4247-A2A8-0DB93D48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6DBC-9009-4D4F-99D3-7897FE72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A048-4D2E-4216-A364-797024EB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44AB-2C6F-4084-AAA7-0CC2BD6B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A38C-3ABC-4230-9455-66C8169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2EB9-FA50-4B62-8DAA-1975725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DFD-B5A3-46BB-BE45-392EC8C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44CD-581A-44EB-A5FB-F02B666F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22A2-D377-4E96-95AA-56106E8C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39E0-6B28-4856-8C36-388F7FD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29AE-C2FC-4E17-A842-6D70F60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378D-0743-4AB5-896F-ECB42D21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951F-F88D-4152-8B14-2B7F9AB0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2675-C0BC-426D-B338-A51B0A14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6E2C8-A94D-4EBD-98C7-25303737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84D0-ED29-4108-A6F1-458034CF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3D9E8-F7B2-43F1-8D79-0357A9AE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CD1-70F2-4509-88A6-9A21845B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81B4-E125-477F-8A42-F3A3DBC7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639D-E5F6-486C-B9C8-2A107982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B457D-922A-4BC3-83ED-BC896705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48944-F9F9-431E-9689-AFDED15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24CAB-F7A5-4BCF-8D3E-E9CAB8A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6C8C6-B112-4772-9F76-F398A22E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0795-F2F4-4158-BA5C-999AEF0B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738D-5B06-4FAF-B311-CE82BB12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99A2-BF0E-416D-BBD0-131CC03E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C8CC8-DE42-47C1-9FE2-C67E8618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B71-7D2F-47D0-80B5-C7F10D45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0ADAE-20F9-4321-B2DD-076B206D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C2AF-ECF9-46DE-85FE-901D7508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49755-EA0E-4B47-9973-D48AA6DE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1E164-9D6C-402F-8BA6-07B4CE10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E394D-34CC-4944-8EF4-56C7B671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2F585-C626-4095-9D19-F6F9C42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A534-E927-49AD-8CD9-256B4007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50055-FA8D-4BA5-9E30-82749736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C87F-38AF-4919-ACD6-CAF1359D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CEC4-F2E4-4301-A2E1-14554E54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79D-4DAE-49E6-8AEC-FF2A966E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F5441-6320-41E3-8C58-AA732314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9E9A2-4E88-438C-84B7-70FD6D72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C9753-6E6E-42DD-B211-09CD87C8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AF16D-5CC5-4CF7-BB43-077DB13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734C9-649B-43ED-814D-C2338B1B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39411-9613-4644-B488-5F8B67CA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EB26-1409-44A5-89CC-E0493E46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771E-E530-42D5-BE9B-9B64B96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2F632-0E7F-42AA-8233-59DF3A10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4B1CE-FF19-4F81-B42F-69174EF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F57-3E9D-4831-8A5C-C2A786B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FAE8A-7D9C-4797-B3D5-818DB900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B7E12-2C95-464E-81D3-3B0394C4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1B283-BC83-4288-B16F-DBC6195D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C487C-CED4-466C-994C-63BC7C57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650F0-8E14-41FF-A82B-60D86D36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53B88-1B64-4A4B-B184-4724177D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11951-981B-4FBA-9E69-AA84AF80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BE8FF-EFBB-4F9E-8735-88B2CEB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0B57E-540F-4294-9FDF-F1717F24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EB5F4-465B-4830-8082-C99B255B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4CD-B16D-434D-ADEE-47E6556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17370-84D6-4B4D-99A6-48D954E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B9333-2D9B-4D9E-8A5C-05561B16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A794B-C9EC-438B-A5E8-0FE10A5D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C4BF1-C8B6-44B3-ABFA-5DD7416F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BF60A-3338-446F-BE4A-4CEAFB53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E1939-B3DB-49CA-9D41-BB5B2528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B3BD3-463F-4FBB-9803-BAAD15CE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B4D57-129F-464B-8D1E-9179E3B2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945A1-BA5B-43D1-A077-50E3E708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09B9A-1818-4881-9F1F-1BAEA13A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8F2-F073-47A2-82FC-0166E3A2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A11F1-256F-405F-8103-33DB14BC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0BCD0-1360-4797-813B-A83A1182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49C45-D06E-4280-B270-73DDCC9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855F1-386F-4676-BB1E-BF3E516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6EEC7-491A-469A-9844-3405BE54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A6384-6B8E-4B0D-A669-12EC1510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903F5-9D1A-4D2F-9EFF-1D3D8894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93E1E-DCC6-47B0-90B3-28FCD7B4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4E7DC-077F-447A-A650-FEC525C2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689E1-E21E-4D3C-91BA-AC71F9B7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7C5E-B486-46DD-99B6-B1D2F46782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19" name="Freeform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Freeform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42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779B-AD0A-47B8-B25A-9D09989001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374-F4E1-4F21-8310-34725EACCF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9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242A-457A-4D64-B399-D8D5148018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6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C38D-A304-4554-B11D-BF386104C2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A461-E41A-442B-A05E-C23930A824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5E8C-FCF1-4C34-AA85-ECDE4B93C0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0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0D47-2DB4-4958-A8E2-5F55D7D79D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94BA-7969-4DBD-A1EC-2D11008B51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reeform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88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0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91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8F39-25E5-4E4A-9A27-5B3B689C2D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6F4-9566-49DF-B948-F34D751EB1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D6F7-C298-4139-BD2E-7918AD32A5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995-F788-4512-A789-FA24B85692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6" name="Freeform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Freeform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685C-EBA3-47AA-9C58-BFEDAF8E2C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EFE-21E2-44E1-8FB8-AF0897151F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12A2-E325-4910-B86C-B020EBA1D5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4248-C700-4699-9948-9BFAD95DBD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5D02-B4E5-4861-9196-8898DE1310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6AEE-C6E5-460F-B513-92A977F9A1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1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4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AB4A-5E93-4207-AF85-E831C55A09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6" name="WordArt 30"/>
          <p:cNvSpPr txBox="1"/>
          <p:nvPr/>
        </p:nvSpPr>
        <p:spPr>
          <a:xfrm>
            <a:off x="755640" y="928800"/>
            <a:ext cx="705636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okinetics II: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availability and Distributio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755640" y="263700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rof. Hanan Hagar</a:t>
            </a: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r. Ishfaq Buk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bioavailability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same factors controlling drug absorp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ass effec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WordArt 3"/>
          <p:cNvSpPr txBox="1"/>
          <p:nvPr/>
        </p:nvSpPr>
        <p:spPr>
          <a:xfrm>
            <a:off x="1908000" y="2781360"/>
            <a:ext cx="575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by which drugs leave blood circulation and enters the interstitium and/or the cells of the tissu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WordArt 3"/>
          <p:cNvSpPr txBox="1"/>
          <p:nvPr/>
        </p:nvSpPr>
        <p:spPr>
          <a:xfrm>
            <a:off x="2894040" y="333360"/>
            <a:ext cx="3355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4"/>
          <p:cNvSpPr/>
          <p:nvPr/>
        </p:nvSpPr>
        <p:spPr>
          <a:xfrm>
            <a:off x="179280" y="2060640"/>
            <a:ext cx="25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3057480" y="2421000"/>
            <a:ext cx="1154160" cy="345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7"/>
          <p:cNvSpPr/>
          <p:nvPr/>
        </p:nvSpPr>
        <p:spPr>
          <a:xfrm>
            <a:off x="1944720" y="4149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0"/>
          <p:cNvSpPr/>
          <p:nvPr/>
        </p:nvSpPr>
        <p:spPr>
          <a:xfrm>
            <a:off x="250920" y="3716280"/>
            <a:ext cx="16938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11"/>
          <p:cNvSpPr/>
          <p:nvPr/>
        </p:nvSpPr>
        <p:spPr>
          <a:xfrm>
            <a:off x="5003640" y="2187720"/>
            <a:ext cx="1785960" cy="22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x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5"/>
          <p:cNvSpPr/>
          <p:nvPr/>
        </p:nvSpPr>
        <p:spPr>
          <a:xfrm>
            <a:off x="826920" y="299736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1"/>
          <p:cNvSpPr/>
          <p:nvPr/>
        </p:nvSpPr>
        <p:spPr>
          <a:xfrm>
            <a:off x="4356000" y="4133880"/>
            <a:ext cx="576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1"/>
          <p:cNvSpPr/>
          <p:nvPr/>
        </p:nvSpPr>
        <p:spPr>
          <a:xfrm>
            <a:off x="6858000" y="2187720"/>
            <a:ext cx="2286000" cy="22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000000"/>
              </a:solidFill>
              <a:latin typeface="Lucida Sans Unicode"/>
              <a:ea typeface="Arial"/>
            </a:endParaRPr>
          </a:p>
        </p:txBody>
      </p:sp>
      <p:pic>
        <p:nvPicPr>
          <p:cNvPr id="965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6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6"/>
          <p:cNvSpPr/>
          <p:nvPr/>
        </p:nvSpPr>
        <p:spPr>
          <a:xfrm>
            <a:off x="214200" y="3286080"/>
            <a:ext cx="3786480" cy="370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Rectangle 2" descr=""/>
          <p:cNvPicPr/>
          <p:nvPr/>
        </p:nvPicPr>
        <p:blipFill>
          <a:blip r:embed="rId1"/>
          <a:stretch/>
        </p:blipFill>
        <p:spPr>
          <a:xfrm>
            <a:off x="566640" y="42840"/>
            <a:ext cx="7925040" cy="92700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214200" y="836280"/>
            <a:ext cx="867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ratio of drug amount in the body (dose) to the concentration of drug in blood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ose            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g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g/L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Vd important?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alculate loading dose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 = mean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 duration of action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01200" cy="63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major body fluid compartments a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Extracellular fluid (21%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 Plasma ( 5 % of body weight = 4 liters 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 Interstitial fluid ( 16 % = 10 liters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Intracellular fluid ( 35 %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luid present inside all cells in the body (28 L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214200" y="260280"/>
            <a:ext cx="8701200" cy="6292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tal body fluid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70% of body weight in 70-kg individua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volume (4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titial volume (10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volume ( 28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Line 3"/>
          <p:cNvSpPr/>
          <p:nvPr/>
        </p:nvSpPr>
        <p:spPr>
          <a:xfrm>
            <a:off x="2666880" y="23623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6"/>
          <p:cNvSpPr/>
          <p:nvPr/>
        </p:nvSpPr>
        <p:spPr>
          <a:xfrm>
            <a:off x="2643120" y="42861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8"/>
          <p:cNvSpPr/>
          <p:nvPr/>
        </p:nvSpPr>
        <p:spPr>
          <a:xfrm>
            <a:off x="2643120" y="3357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428760" y="1905120"/>
            <a:ext cx="2162160" cy="32004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bo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Rectangle 2" descr=""/>
          <p:cNvPicPr/>
          <p:nvPr/>
        </p:nvPicPr>
        <p:blipFill>
          <a:blip r:embed="rId1"/>
          <a:stretch/>
        </p:blipFill>
        <p:spPr>
          <a:xfrm>
            <a:off x="433440" y="-36360"/>
            <a:ext cx="8478720" cy="11397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VC-Z"/>
          <p:cNvPicPr/>
          <p:nvPr/>
        </p:nvPicPr>
        <p:blipFill>
          <a:blip r:embed="rId2"/>
          <a:stretch/>
        </p:blipFill>
        <p:spPr>
          <a:xfrm>
            <a:off x="324000" y="1484280"/>
            <a:ext cx="2735280" cy="41054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5" descr="VC-2"/>
          <p:cNvPicPr/>
          <p:nvPr/>
        </p:nvPicPr>
        <p:blipFill>
          <a:blip r:embed="rId3"/>
          <a:stretch/>
        </p:blipFill>
        <p:spPr>
          <a:xfrm>
            <a:off x="3594240" y="3429000"/>
            <a:ext cx="2562120" cy="34290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6" descr="VC-3"/>
          <p:cNvPicPr/>
          <p:nvPr/>
        </p:nvPicPr>
        <p:blipFill>
          <a:blip r:embed="rId4"/>
          <a:srcRect l="27706" t="24952" r="0" b="19707"/>
          <a:stretch/>
        </p:blipFill>
        <p:spPr>
          <a:xfrm>
            <a:off x="3570120" y="1052640"/>
            <a:ext cx="2586240" cy="18716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7" descr="vc-4"/>
          <p:cNvPicPr/>
          <p:nvPr/>
        </p:nvPicPr>
        <p:blipFill>
          <a:blip r:embed="rId5"/>
          <a:srcRect l="0" t="22087" r="0" b="22516"/>
          <a:stretch/>
        </p:blipFill>
        <p:spPr>
          <a:xfrm>
            <a:off x="6316560" y="1052640"/>
            <a:ext cx="2602080" cy="14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285840" y="333000"/>
            <a:ext cx="8462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s may distribute through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ompart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ompartm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compartm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179280" y="404640"/>
            <a:ext cx="8507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e lectures, students should be able to  define the following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body fluid compart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 of compartmen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nt volume of distribution (vd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 bind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Rectangle 2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78720" cy="113364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3708360" y="786960"/>
            <a:ext cx="56167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Vd: around 4 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Lucida Sans Unicode"/>
              </a:rPr>
              <a:t>Very high molecular weight 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drugs, or </a:t>
            </a:r>
            <a:r>
              <a:rPr b="0" lang="es-ES_tradnl" sz="2700" spc="-1" strike="noStrike">
                <a:solidFill>
                  <a:srgbClr val="ff0000"/>
                </a:solidFill>
                <a:latin typeface="Lucida Sans Unicode"/>
              </a:rPr>
              <a:t>drugs that bind to plasma prote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Can not moves across endotelial cells of capi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Drugs are trapped in bloo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Example: heparin 4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6" name="Picture 4" descr="vd-iv-"/>
          <p:cNvPicPr/>
          <p:nvPr/>
        </p:nvPicPr>
        <p:blipFill>
          <a:blip r:embed="rId2"/>
          <a:stretch/>
        </p:blipFill>
        <p:spPr>
          <a:xfrm>
            <a:off x="585720" y="1197000"/>
            <a:ext cx="1365480" cy="4567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5" descr="vc-4"/>
          <p:cNvPicPr/>
          <p:nvPr/>
        </p:nvPicPr>
        <p:blipFill>
          <a:blip r:embed="rId3"/>
          <a:srcRect l="49792" t="27650" r="0" b="22516"/>
          <a:stretch/>
        </p:blipFill>
        <p:spPr>
          <a:xfrm>
            <a:off x="1965240" y="2421000"/>
            <a:ext cx="1562040" cy="1708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Rectangle 2" descr=""/>
          <p:cNvPicPr/>
          <p:nvPr/>
        </p:nvPicPr>
        <p:blipFill>
          <a:blip r:embed="rId1"/>
          <a:stretch/>
        </p:blipFill>
        <p:spPr>
          <a:xfrm>
            <a:off x="-182520" y="115920"/>
            <a:ext cx="4694040" cy="117000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4265280" y="272520"/>
            <a:ext cx="4878360" cy="63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79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stribute through    extracellular fluid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ss endothelium into interstitial fluids BUT can not cross cell membranes to intracellular fluid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Lucida Sans Unicode"/>
              </a:rPr>
              <a:t>Drugs that have a low molecular weight but are hydrophili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Vd:  between 4 and 14 L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E.g. atracuronium 11 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90" name="Picture 4" descr="vc-4"/>
          <p:cNvPicPr/>
          <p:nvPr/>
        </p:nvPicPr>
        <p:blipFill>
          <a:blip r:embed="rId2"/>
          <a:srcRect l="0" t="22087" r="0" b="22516"/>
          <a:stretch/>
        </p:blipFill>
        <p:spPr>
          <a:xfrm>
            <a:off x="1895400" y="1805040"/>
            <a:ext cx="2241720" cy="19429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vd-ec-"/>
          <p:cNvPicPr/>
          <p:nvPr/>
        </p:nvPicPr>
        <p:blipFill>
          <a:blip r:embed="rId3"/>
          <a:stretch/>
        </p:blipFill>
        <p:spPr>
          <a:xfrm>
            <a:off x="380880" y="907920"/>
            <a:ext cx="1411560" cy="532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Rectangle 2" descr=""/>
          <p:cNvPicPr/>
          <p:nvPr/>
        </p:nvPicPr>
        <p:blipFill>
          <a:blip r:embed="rId1"/>
          <a:stretch/>
        </p:blipFill>
        <p:spPr>
          <a:xfrm>
            <a:off x="480960" y="-79200"/>
            <a:ext cx="8229600" cy="1579320"/>
          </a:xfrm>
          <a:prstGeom prst="rect">
            <a:avLst/>
          </a:prstGeom>
          <a:ln w="0">
            <a:noFill/>
          </a:ln>
        </p:spPr>
      </p:pic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2627280" y="1196640"/>
            <a:ext cx="6059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Lucida Sans Unicode"/>
              </a:rPr>
              <a:t>Diffusion to intracelullar flu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Lucida Sans Unicode"/>
              </a:rPr>
              <a:t>For lipid soluble dru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d equal to total body water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Lucida Sans Unicode"/>
              </a:rPr>
              <a:t>Ethanol 38 L </a:t>
            </a: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(34-41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Drug that binds strongly to tissues. Vd higher than total body wa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Digoxin:385 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94" name="Picture 4" descr="vd-tejido"/>
          <p:cNvPicPr/>
          <p:nvPr/>
        </p:nvPicPr>
        <p:blipFill>
          <a:blip r:embed="rId2"/>
          <a:stretch/>
        </p:blipFill>
        <p:spPr>
          <a:xfrm>
            <a:off x="250920" y="1197000"/>
            <a:ext cx="213840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Rectangle 2" descr=""/>
          <p:cNvPicPr/>
          <p:nvPr/>
        </p:nvPicPr>
        <p:blipFill>
          <a:blip r:embed="rId1"/>
          <a:stretch/>
        </p:blipFill>
        <p:spPr>
          <a:xfrm>
            <a:off x="237960" y="128520"/>
            <a:ext cx="8436240" cy="1023840"/>
          </a:xfrm>
          <a:prstGeom prst="rect">
            <a:avLst/>
          </a:prstGeom>
          <a:ln w="0">
            <a:noFill/>
          </a:ln>
        </p:spPr>
      </p:pic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285480" y="1071360"/>
            <a:ext cx="8575560" cy="545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with low Vd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 in extracellular compartments (plasma &amp; interstitial fluid)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lar comp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pid insoluble drug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.g. gentamycin, atracu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MW  e.g. heparin – insuli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lasma protein binding e.g. warfarin (anticoagulant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 BBB or placental  barriers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Rectangle 2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375400" cy="87156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228600" y="806400"/>
            <a:ext cx="8686800" cy="5718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Drugs with high Vd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ave higher concentrations in tissues than in plasma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ipid solu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tributed intracellul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.g. digoxin, phenytion, morph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DISTRIBU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Cardiac output and blood flow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nd chemical properties of the dru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pillary Permeability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lasma protein bindi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issue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7940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grea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ood flow to tissues,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that occurs from plasma to interstitial fluid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distribute more rapidly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ain, liver and kidn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more than skeletal muscles &amp; fa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85248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213840" y="14810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lipid soluble drug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unionized, uncharged, nonpola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 biological membran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ionized, charged, polar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readily cross membranes but go through slit junctions in endothelial cells of capillari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213840" y="1142640"/>
            <a:ext cx="8472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helial cells of capillaries in tissues other than brain have wide slit junctions allowing easy movement, permeation and distribu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has tight junc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od Brain Barrier (BBB)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Blood brain barrier (BBB)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lipid soluble drugs or actively transported drugs can cross BBB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(ionized or polar drugs) can not cross BBB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ion  as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ingit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 permeability to hydrophilic drug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. penicillin &amp; gentamyci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Placental barrie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can cross placental barrier and enter the fetal blood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-9360">
              <a:lnSpc>
                <a:spcPct val="11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s the amount of </a:t>
            </a:r>
            <a:r>
              <a:rPr b="0" lang="en-US" sz="3400" spc="-1" strike="noStrike" u="sng">
                <a:solidFill>
                  <a:srgbClr val="3366ff"/>
                </a:solidFill>
                <a:uFillTx/>
                <a:latin typeface="Times New Roman"/>
              </a:rPr>
              <a:t>unchanged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drug that enters systemic circulation after administration and becomes available to produce pharmacological actions (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rate and extent of active reaching systemic circu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ioavailability (F) = 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UC  (oral)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X  100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UC  (I.V.)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0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666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144360" y="100080"/>
            <a:ext cx="9036000" cy="67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"/>
          <p:cNvPicPr/>
          <p:nvPr/>
        </p:nvPicPr>
        <p:blipFill>
          <a:blip r:embed="rId1"/>
          <a:stretch/>
        </p:blipFill>
        <p:spPr>
          <a:xfrm>
            <a:off x="179280" y="216000"/>
            <a:ext cx="8569440" cy="645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Binding of Drug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roteins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142920" y="188640"/>
            <a:ext cx="878688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Plasma protein binding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ve plasma protein binding will cause more drug to stay in the blood compartment 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drugs which bind strongly to plasma protein tend to have lower distribution (Vd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bumi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cid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arfarin, phenytoin, aspir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pha 1 -acid glycoprotein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as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tionic) as diazepam, quinid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 bind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hich bind strongly to plasma protein tend to have lower distribution (Vd)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od, drugs exist in two forms bound and unbound forms in equilib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dru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Line 3"/>
          <p:cNvSpPr/>
          <p:nvPr/>
        </p:nvSpPr>
        <p:spPr>
          <a:xfrm flipH="1">
            <a:off x="4357440" y="5300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4"/>
          <p:cNvSpPr/>
          <p:nvPr/>
        </p:nvSpPr>
        <p:spPr>
          <a:xfrm flipH="1">
            <a:off x="4357440" y="501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750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s can bind to specific tissues and will hav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gh volume of distribution (Vd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 bind 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one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71280" y="404640"/>
            <a:ext cx="4500720" cy="612000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82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form of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diffusible for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ross endothelial barri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ombine wi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 for metabolism &amp; excre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 duration o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(t ½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Rectangle 2"/>
          <p:cNvSpPr/>
          <p:nvPr/>
        </p:nvSpPr>
        <p:spPr>
          <a:xfrm>
            <a:off x="4788000" y="357120"/>
            <a:ext cx="4213080" cy="61675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usibl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endothelial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wit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metabolism &amp; excre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(t 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700" spc="-1" strike="noStrike">
              <a:solidFill>
                <a:srgbClr val="ffff00"/>
              </a:solidFill>
              <a:latin typeface="Times New Roman"/>
              <a:ea typeface="Arial"/>
            </a:endParaRPr>
          </a:p>
        </p:txBody>
      </p:sp>
      <p:pic>
        <p:nvPicPr>
          <p:cNvPr id="942" name="Picture 3" descr=""/>
          <p:cNvPicPr/>
          <p:nvPr/>
        </p:nvPicPr>
        <p:blipFill>
          <a:blip r:embed="rId1"/>
          <a:srcRect l="0" t="11363" r="0" b="568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s &amp; consequences of Bind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reversib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volume of distribution (vd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s drug metabolism &amp; excre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s duration of drug action (t1/2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in clinically important drug inter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petition for the same  binding site   on   the   plasma  proteins may occur between two drugs 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displacement of one drug &amp; increasing  its concentrations &amp; effec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3366ff"/>
                </a:solidFill>
                <a:latin typeface="Lucida Sans Unicode"/>
              </a:rPr>
              <a:t>Aspirin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+</a:t>
            </a: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lbumin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-warfarin</a:t>
            </a: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lbumin</a:t>
            </a:r>
            <a:r>
              <a:rPr b="1" lang="en-US" sz="2700" spc="-1" strike="noStrike">
                <a:solidFill>
                  <a:srgbClr val="3366ff"/>
                </a:solidFill>
                <a:latin typeface="Lucida Sans Unicode"/>
              </a:rPr>
              <a:t>-aspirin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+  free warfari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blee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Line 3"/>
          <p:cNvSpPr/>
          <p:nvPr/>
        </p:nvSpPr>
        <p:spPr>
          <a:xfrm>
            <a:off x="5435640" y="4437000"/>
            <a:ext cx="79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4"/>
          <p:cNvSpPr/>
          <p:nvPr/>
        </p:nvSpPr>
        <p:spPr>
          <a:xfrm flipV="1">
            <a:off x="7451640" y="5229000"/>
            <a:ext cx="0" cy="64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250920" y="642600"/>
            <a:ext cx="8642160" cy="5954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V. provides 100% bioavailability i.e. F= 1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, intramuscular, oral, rectal, and other extra vascular routes of administration require that the drug be absorbed first, which can reduce bioavailability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itle 1" descr=""/>
          <p:cNvPicPr/>
          <p:nvPr/>
        </p:nvPicPr>
        <p:blipFill>
          <a:blip r:embed="rId1"/>
          <a:stretch/>
        </p:blipFill>
        <p:spPr>
          <a:xfrm>
            <a:off x="201600" y="2620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 txBox="1"/>
          <p:nvPr/>
        </p:nvSpPr>
        <p:spPr>
          <a:xfrm>
            <a:off x="179280" y="1413000"/>
            <a:ext cx="85075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oavailability of a drug after administration by any route is compared to its intravenous standard formul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Title 1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 txBox="1"/>
          <p:nvPr/>
        </p:nvSpPr>
        <p:spPr>
          <a:xfrm>
            <a:off x="214200" y="1142640"/>
            <a:ext cx="8715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s determined when two products are compared to each other, not to an intravenous standard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commonly calculated in the drug industry to determine that the generic formulation is bioequivalent to another formul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Tyle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 compared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anad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Title 1" descr=""/>
          <p:cNvPicPr/>
          <p:nvPr/>
        </p:nvPicPr>
        <p:blipFill>
          <a:blip r:embed="rId1"/>
          <a:stretch/>
        </p:blipFill>
        <p:spPr>
          <a:xfrm>
            <a:off x="244440" y="66600"/>
            <a:ext cx="8485200" cy="129852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 txBox="1"/>
          <p:nvPr/>
        </p:nvSpPr>
        <p:spPr>
          <a:xfrm>
            <a:off x="285840" y="12859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portant to get  an idea of how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ferent formulation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utes of administr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 in their bioavailability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adjustment is required when changing formulations or routes of administration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323640" y="549360"/>
            <a:ext cx="85690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ioequivalenc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rmaceutically products are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ioequivale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rate and extent of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availability of active ingredients in two products are the same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User</cp:lastModifiedBy>
  <dcterms:modified xsi:type="dcterms:W3CDTF">2015-10-05T05:51:21Z</dcterms:modified>
  <cp:revision>237</cp:revision>
  <dc:subject/>
  <dc:title>GENERAL PHARMACOLOGY</dc:title>
</cp:coreProperties>
</file>