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3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8.jpeg" ContentType="image/jpeg"/>
  <Override PartName="/ppt/media/image30.png" ContentType="image/png"/>
  <Override PartName="/ppt/media/image5.jpeg" ContentType="image/jpeg"/>
  <Override PartName="/ppt/media/image26.jpeg" ContentType="image/jpeg"/>
  <Override PartName="/ppt/media/image35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0.jpeg" ContentType="image/jpeg"/>
  <Override PartName="/ppt/media/image12.png" ContentType="image/png"/>
  <Override PartName="/ppt/media/image28.png" ContentType="image/png"/>
  <Override PartName="/ppt/media/image7.jpeg" ContentType="image/jpe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24.jpeg" ContentType="image/jpe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  <p:sldId id="289" r:id="rId56"/>
    <p:sldId id="290" r:id="rId57"/>
    <p:sldId id="291" r:id="rId58"/>
    <p:sldId id="292" r:id="rId59"/>
    <p:sldId id="293" r:id="rId60"/>
    <p:sldId id="294" r:id="rId61"/>
    <p:sldId id="295" r:id="rId62"/>
    <p:sldId id="29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slide" Target="slides/slide34.xml"/><Relationship Id="rId57" Type="http://schemas.openxmlformats.org/officeDocument/2006/relationships/slide" Target="slides/slide35.xml"/><Relationship Id="rId58" Type="http://schemas.openxmlformats.org/officeDocument/2006/relationships/slide" Target="slides/slide36.xml"/><Relationship Id="rId59" Type="http://schemas.openxmlformats.org/officeDocument/2006/relationships/slide" Target="slides/slide37.xml"/><Relationship Id="rId60" Type="http://schemas.openxmlformats.org/officeDocument/2006/relationships/slide" Target="slides/slide38.xml"/><Relationship Id="rId61" Type="http://schemas.openxmlformats.org/officeDocument/2006/relationships/slide" Target="slides/slide39.xml"/><Relationship Id="rId62" Type="http://schemas.openxmlformats.org/officeDocument/2006/relationships/slide" Target="slides/slide40.xml"/><Relationship Id="rId63" Type="http://schemas.openxmlformats.org/officeDocument/2006/relationships/slide" Target="slides/slide41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dt" idx="6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 type="ftr" idx="6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 type="sldNum" idx="6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3028-8DE0-4D7E-A452-5467E3B9BF4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4CAC-CE43-427B-8C92-21A3520F1D2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5870-D4B0-40C7-8D3C-1B48CB32F40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A4E6-9585-46A2-A91D-28FFBAC3383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FBFF-F9F6-4E48-9479-966319B3902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5E17-68B1-45FB-80F3-D324509CAA4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64D4-EC5C-494C-8E4E-E5D99B99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5F16-63E5-452C-985D-8C7E37AA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89881-E39A-451E-BB90-F2524DB9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825BC-DD4F-4A17-AB12-26BDA9C7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A76EA-D935-424D-84F5-FF9E2291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CC438-67B9-4384-B69E-884A1F26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16AB8-1D96-45D3-971E-88E4FD68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01597-DF71-4D33-BD66-2CCAF589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57CD0-C637-4CD0-8B16-3937412D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52965-A0F5-418B-80D1-78A08239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0E12D-9FE2-45A9-BFF3-1994561D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E0AB1-3AE9-4B16-81EE-C121BCFEA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7527-DFE1-4FA1-978D-BA6B11A3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BF52F-70AD-47CB-B0E5-E6C87999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9F2D7-CC9D-4455-AEBF-5A83FDF8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7A732-FE5F-46FC-B0E5-BCA2A556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08D41-4FEF-442D-ABEA-D834DC1A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6B4AB-E967-4E2E-8CC8-FBF49380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BF06F-5D90-430B-AAA0-1374F8A9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9C56B-1D10-4206-A207-83987B87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6D8B0-DABB-46D3-831F-5A1BFC79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5E59A-2951-4739-936A-02C55D7D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3BF4E-2906-404B-A96E-49318872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97E-BE48-4B47-8FA0-4B34945A0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C8F62-C9CE-4F85-B4CE-F02506B7A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203C23-E2DD-4FD4-8E32-13041AC9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505A8-963C-4398-8BB0-62CE3688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21A82-4060-4B5F-BBE5-800E4769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958D4-D70B-4396-94B2-B3EC0D17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3C31D-CD23-4859-AE82-5E2E203C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9A3FB-1E8A-4717-9077-AAE24A83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5174F-BAE1-48DC-B2D5-BF2AF979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0FAE4-ABDE-4EB8-AD6E-604D77C8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D6CB9-59D4-4CA3-8685-C20F63C2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7912-BA4D-4216-99EF-6E616F2C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6B9F3-DFD6-467B-92A8-7224BD62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A78E4-F0D9-42A1-8C3A-CF54E9CB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D9A9D-7170-4BFD-AB81-A34EF80B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6B717-7319-44FC-803D-34B34043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8BC7B-F1F2-4EB6-B6A9-C81829E7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56EA0-6E97-4AC1-85F9-CBC01065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651E74-A7CA-4B88-ABC7-B9C605D0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F64D9-6B46-4B6F-A19B-0A69C7E2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9E920B-23DB-4354-94CD-A7A94A41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B99F4-5B75-4CB2-B345-9FD38D10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244C-3A6B-4DB8-82D0-83F18C5C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1DE9F-60D3-40F7-A4FD-46709F99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6EC166-F7E2-4177-BE62-01FF139B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9917A-C685-45E4-A7C6-A6C20CF1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50071-1591-46ED-BB90-2D0777BC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1F3FD-D1E6-49C0-A776-3A4430642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07A30E-1611-42F2-8658-B56FE73E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2E2B7F-01F6-45B2-A252-AACFA4B0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CF24AF-746F-42E3-9D4B-40459F47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C103A7-D028-4D2F-8307-D9A90D9A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77126F-EA1B-4075-B48C-F92C46B7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694D-D6DD-40E6-9FC1-7D3BA6DF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506007-F357-42B6-A1EF-6BD66AD7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71C53-3C04-4ADE-8652-0A8F4ABA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5EB2C3-A4AF-46C2-87F7-6230B2CB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D7D7E-765F-4B6B-90AD-7EB1455F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F7180-E61F-4AC0-A70B-B41524A0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7482D8-FE0D-41EE-9D31-CD2C4496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BC004-7284-4357-9281-BEC5393B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6DFCBB-A17E-438B-9BB8-28118941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D18C7B-AD7E-4967-95BA-C87C4667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99C7B1-3259-43CD-B348-AF5D984A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309A-75CE-4B43-B94D-870EC3FB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F092A4-8AE6-4695-BB35-ED621AFA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A72DA0-E6D1-4644-AA62-7D89B656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9DA6E-3D12-4A97-9FBC-1E6AF1FE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BDFABE-9BE6-4976-8BE0-16C276A6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EEDC56-2CE4-42F7-967D-E21D732C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0D51D2-5454-40CF-8F04-E8B5E339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C9EF60-A7AD-4275-A9FD-AED6C079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68ED02-EEAF-48FB-990D-778F72AE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CFD414-C6FB-47B3-AAF8-89F283AE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F0BE7F-AFA0-450A-88CD-08489527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1520-C95B-427F-87F0-A146A116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79E341-4C66-4D37-8A6E-903CA762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DA89EB-8C39-46E0-BF28-8F175153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2CF3D0-620C-4E4D-BF5F-6816FB3C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F8FEFE-918D-4F62-A537-A6C8F31D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3356E4-3FDA-470D-9AE8-1DD9A0E2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2CD40E-E521-49F5-AB9E-2FA89DD9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112F5A-724A-49AF-B9EA-D5AF7287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13F7CB-47D0-4BD2-9CFD-9BCFC25B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FF7C82-3A29-4608-AD0E-62A5AF21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E16ACA-85FD-40CA-9B55-29F7A85B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E1A1-7123-4D33-A8E9-E95CC3AA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AEAFF5-F43A-4D83-AE6D-A20E921D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865C0A-FC83-45A1-ADFF-535DB2B4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52E308-6DAB-4C72-8DE0-FBD47CF2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DBAD45-60FA-4A03-8A38-7B3871447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262726-0708-4EB7-B9F5-8A04F2C8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CFDE29-9E21-4D8B-84B6-6741CF9C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0B480A-3037-45C6-860D-F9720B1E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D153F1-6CE0-4934-B409-8C763108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33ABF9-3765-4F15-9A71-4CE2E276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55AB47-66ED-4517-A822-8FFFF54C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190E-F9A9-4030-8C16-1236F559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CB91BF-2859-4D24-91F4-96890FD6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233960-CFEA-45F1-9AB7-F9AD3706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27DE82-939F-4EF4-8619-4282969C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DF2A15-15FA-4E77-8B81-56F87A4D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33CE32-C6B0-40B2-B03F-C7BD91A7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93E238-30E8-4128-A5A1-5AEA4B5D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7372C4-DBCA-4C72-85C1-80587C34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C6A3F8-363B-499F-8B0F-ED6FA01B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DEC3C3-3A35-4F00-BDD2-9B60F835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08386C-C315-4E86-B52F-178B0DA1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AE1-23E5-4D0A-AF0C-EEC3AD6F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0564-A6A9-4489-8242-BEC9E283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CF46EC-1FF2-4D5C-82B7-212529CF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DE8622-50CB-4248-8E4A-2C16910F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88D790-4212-4973-A1A3-B736B99E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75E4DE-18B1-4647-82E5-25B86086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8512A9-AB1C-483B-AF48-8ACE10ED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FF8D1D-5F57-452C-A9D6-95EC9896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E6F65D-06B3-4C70-B391-57BBC167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9FE636-2FD7-440F-B478-4AB83EE1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E65AEC-1EAF-4351-A4A5-FD76A389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859EB7-BEC9-4188-9784-CDEC67F9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41E8-E4DF-41BC-B13C-C36FE463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FE6113-E4B6-4EAD-B737-5A1AC7EE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08C9BD-CA46-4439-869E-EB20BF44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729611-32D0-43E5-9673-675EE7A4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52A9A6-D5C6-44FE-9919-35449855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7886D8-A38C-49DF-8470-1B0FAD32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C817DE-C336-4477-8597-7CACD3DBB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420E46-6879-4B6D-A21A-1F7DD349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1A63B7-8BF5-4847-8DAB-B1887CCD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23DDEC-2B3A-467D-BE64-607727E0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909CC1-3B59-4745-82C4-A17C8956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7B22-98A7-4610-A067-40DA03E9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A11AE9-3AFF-43EA-BB5D-7EB2EF66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2EA371-2E2D-49AA-A9D4-CCF4A960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C6776A-3DE9-4F61-8C75-49D588E0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6ECCE0-9876-4F62-A624-6596B79D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1B02C9-A802-4B83-8A63-8E68CA1E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99CE54-3045-477C-A891-B0C428C3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6D63D8-349A-46A3-9ECD-00A73B9E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53F1DD-832D-418D-B9CA-7B3018D5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96458A-CE8C-4D20-8DF6-408FAEB57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606971-BF7C-49C2-B176-94FBA2997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C34D-79D7-462A-89F5-DF2A7FB4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6F5407-079E-4FA3-B427-0DA01500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8FAB15-3AEC-489D-AB17-489C057E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696A1E-C933-4355-A031-60A51991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3FA3F7-B63B-40D6-B0DE-81409B07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EE7C36-4D97-48E3-9604-8C88C69F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CAF65A-3E1A-49BF-985C-87FE94DA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A9ABAB-4A6B-46AF-B610-5C561BDA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4EBEDF-6A0F-43DF-B0D1-E1145536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64FBC7-6818-4489-B84B-265D68E9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4BFE1D-B0C6-400A-8AC0-686D8658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5013-7CAF-4E9C-821F-E388DC9F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D090F5-8098-4490-B4D3-760FE381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6F169-AFF4-4F7D-8B76-005283FB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3C0F0-4CFB-4E70-B776-7D40D492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C37CC-A1A2-4BA4-81B9-CE22EF79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C096E-344F-4483-887A-A74FB047E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8FEE2-5CEC-487C-9180-4790FF6B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AB15-BB9B-480B-A713-B2FAE03E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0A6F2-DB7A-48D2-A3DB-74B70209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2F568-7576-4EDD-A27C-694824B8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7AD60-A628-4AAE-9E9C-44FCBD52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16D90-0207-4856-BE6E-FACE2CED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A52A6-98C5-4736-9540-E6DF4812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49701-955E-487B-BA20-371C11BD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551F8-979D-4418-B6AE-057D5CBEA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0E221-A4B4-4C76-B681-49038AA7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E8669-D7C9-4808-92D9-061DE477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E66E3-A117-45DA-AFE0-E16AA447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ACE9-CC4C-42E0-88EC-ADF5462D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DC000-D548-42B3-B16A-0E7D6F6A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252E3-B1A3-45BB-8283-B956A560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2FAC2-422A-47AC-B1E6-5B3C0B72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43F71-07DE-4593-BDC7-F4004C9B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B5727-6F87-4C3C-B783-52BBF5C2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D511B-4649-4F70-96AF-B629C0D6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F729F-C985-404D-AC23-DC899791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93903-847E-4FDB-B10C-AE7F72C3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E2F1E-E2E5-4414-BAB4-0B814D69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2F59A-989C-48F9-AE85-B93F803A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767E-94BB-40F3-8298-8E3EC3EF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6E629-3FA8-42B9-8B48-EB01E145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4CE40-D865-4ACB-9F90-CBF08488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12DC0-D7E5-46DE-9D15-FBDC8DDE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85EF9-AFA7-4A67-B6EC-662422F8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49103-E12B-41B7-B77A-34BCB0E4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3FBA7-2348-4550-BA42-4DB99066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C396F-A23B-4D6B-9ACB-4691E8CB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6BF0B-3FF3-4B73-8603-F8D01536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FD2BB-DC33-45B5-A961-341C8339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73425-012F-44EB-ABEA-6E4ACEA7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1F4B-9291-4BBB-A57F-8CF74A68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0D060-952E-47B9-A8CF-B405A605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39377-6801-4347-AEDD-5A195DFF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15696-3634-4B38-97F3-BBC24C70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6416F-12CE-4F87-9826-962A35C8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562E7-EDD7-4A0E-8C60-30C5416E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AFBA2-61DC-419E-8032-154CA4C9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7DED3-8C7B-4414-B86F-EC48C617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AD25E-2B6F-4B29-B38E-8F21AC1D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8E9DE-EE11-45CA-8EBB-2DAFDEDF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E6927-AE25-4FDC-A1FC-854CE9D4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F9C-E681-4DFA-A15A-D8C16061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19D89-FF6D-423A-B0E5-C7BD8C03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49A90-A209-47EC-9E0C-015BF1F3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C6408-7AB3-4383-BAF9-0BE030C5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01293-17D3-470C-A349-E887A23C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98C40-956E-4E9E-A194-688B2E6B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8BFD2-1E61-485C-B13C-E1D715C1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6C2C8-3E03-4950-8AA9-082DE852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36CA1-E7A1-4AE9-8A98-76C25F6E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824C0-2525-4485-9403-527C2E9F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4F5CD-1A2F-46B0-9FE4-8E9906B8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6025-BAF1-49E8-BF9F-629E8357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53B2E-91FB-4E64-B679-0CB73B1A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01B53-A95A-46B7-8EB3-0A1D619B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BE387-2D50-456E-994C-75A7D0C1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5A491-A72A-46BD-B2D0-B7E76E2F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DCB03-5662-465F-9B39-67072AD4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03D27-BCEE-471A-AFD6-C4E99B23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4E79A-08CD-4227-AF86-34E4A9EF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4BF84-74E3-4CA4-96EC-50AE727A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72E88-88F9-4CA8-8F4F-B69128B1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BA84C-0EA0-4D5D-B8F8-A0DDA6C8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2CC6-1CC4-43C8-A3F5-CD0307DE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D45ABE-D6DB-41A3-B626-CBF6A826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5ECD4-1126-44E2-8436-1E71BAD5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10786-0EE2-4BF3-B7B7-B6EFC511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6112D-F934-4258-9044-4F8E84E8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59F3D-08B0-40B7-8237-ED94DA7C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729AE-C7C0-48C8-95D7-6D2AFC65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C76F3-AF5C-47E8-B769-B07478A4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A77F3-288A-4264-9202-FDE3E28F1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CB1E7-4605-490C-AF2C-55CB3A95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5A869-510B-4FB3-B843-AE067908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70B8-4C0F-4F39-9F96-FBB4F95A2B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19" name="Freeform 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7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Freeform 10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422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4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5C3D-A233-4B7C-8FFE-7BFC9522B7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6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12C8-9A0A-483C-BFF1-1DAFE4028B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1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19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3261-3932-4E94-B005-113D21FEF1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6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2220-DA58-48EA-9DB2-0DF4770061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400B-F6B3-4B71-8A5D-C30FD5C904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5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B616-A5C6-4A85-9025-51737B337D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0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C2BD-E514-4DFE-8ACC-E7EEF08CF7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 type="dt" idx="4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 type="ftr" idx="5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 type="sldNum" idx="5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BE31-E4D0-4C27-A7BD-C540C4B66F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Freeform 7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8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88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0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91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dt" idx="5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ftr" idx="5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sldNum" idx="5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A015-4977-4A8E-9AD2-AA555BA3FB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3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5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5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5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A2E1-151F-484E-8ECC-94B01BCBEF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A587-4004-4288-BF59-E9FD0DA7B1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8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5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5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6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0A3A-854E-42D5-94B2-FB41AB7D81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ight Tri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6" name="Freeform 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7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Freeform 10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9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" name="Straight Connector 11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37F3-3989-4CDB-9C5B-4EAB0FF664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9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73F4-6C8E-4DAF-A6D5-8FA2FE17A4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D537-24C3-4387-B6F7-82F283302F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CE13-918D-427E-A238-632927198A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8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57D1-6A70-4B93-8ACD-57476CC498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0525-5DE3-4CEF-9F79-60BE61AF6B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reeform 7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8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1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Straight Connector 10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4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40A8-47C3-40F5-AF1D-8884DB435E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Picture 5" descr="logo"/>
          <p:cNvPicPr/>
          <p:nvPr/>
        </p:nvPicPr>
        <p:blipFill>
          <a:blip r:embed="rId1"/>
          <a:stretch/>
        </p:blipFill>
        <p:spPr>
          <a:xfrm>
            <a:off x="7924680" y="228600"/>
            <a:ext cx="90828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36" name="WordArt 30"/>
          <p:cNvSpPr txBox="1"/>
          <p:nvPr/>
        </p:nvSpPr>
        <p:spPr>
          <a:xfrm>
            <a:off x="755640" y="928800"/>
            <a:ext cx="7056360" cy="14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harmacokinetics II: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ioavailability and Distribution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7" name="Rectangle 4"/>
          <p:cNvSpPr/>
          <p:nvPr/>
        </p:nvSpPr>
        <p:spPr>
          <a:xfrm>
            <a:off x="755640" y="2637000"/>
            <a:ext cx="742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Prof. Hanan Hagar</a:t>
            </a:r>
            <a:r>
              <a:rPr b="1" i="1" lang="en-US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Dr. Ishfaq Bukh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Pharmacology De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/>
          </p:nvPr>
        </p:nvSpPr>
        <p:spPr>
          <a:xfrm>
            <a:off x="142560" y="260280"/>
            <a:ext cx="889308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actors affecting bioavailability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same factors controlling drug absorp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pass effec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WordArt 3"/>
          <p:cNvSpPr txBox="1"/>
          <p:nvPr/>
        </p:nvSpPr>
        <p:spPr>
          <a:xfrm>
            <a:off x="1908000" y="2781360"/>
            <a:ext cx="5759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stribution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rocess by which drugs leave blood circulation and enters the interstitium and/or the cells of the tissu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WordArt 3"/>
          <p:cNvSpPr txBox="1"/>
          <p:nvPr/>
        </p:nvSpPr>
        <p:spPr>
          <a:xfrm>
            <a:off x="2894040" y="333360"/>
            <a:ext cx="3355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stribution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4"/>
          <p:cNvSpPr/>
          <p:nvPr/>
        </p:nvSpPr>
        <p:spPr>
          <a:xfrm>
            <a:off x="179280" y="2060640"/>
            <a:ext cx="251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6"/>
          <p:cNvSpPr/>
          <p:nvPr/>
        </p:nvSpPr>
        <p:spPr>
          <a:xfrm>
            <a:off x="3057480" y="2421000"/>
            <a:ext cx="1154160" cy="3456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7"/>
          <p:cNvSpPr/>
          <p:nvPr/>
        </p:nvSpPr>
        <p:spPr>
          <a:xfrm>
            <a:off x="1944720" y="414972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10"/>
          <p:cNvSpPr/>
          <p:nvPr/>
        </p:nvSpPr>
        <p:spPr>
          <a:xfrm>
            <a:off x="250920" y="3716280"/>
            <a:ext cx="16938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11"/>
          <p:cNvSpPr/>
          <p:nvPr/>
        </p:nvSpPr>
        <p:spPr>
          <a:xfrm>
            <a:off x="5003640" y="2187720"/>
            <a:ext cx="1785960" cy="22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xtracel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5"/>
          <p:cNvSpPr/>
          <p:nvPr/>
        </p:nvSpPr>
        <p:spPr>
          <a:xfrm>
            <a:off x="826920" y="2997360"/>
            <a:ext cx="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21"/>
          <p:cNvSpPr/>
          <p:nvPr/>
        </p:nvSpPr>
        <p:spPr>
          <a:xfrm>
            <a:off x="4356000" y="4133880"/>
            <a:ext cx="576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11"/>
          <p:cNvSpPr/>
          <p:nvPr/>
        </p:nvSpPr>
        <p:spPr>
          <a:xfrm>
            <a:off x="6858000" y="2187720"/>
            <a:ext cx="2286000" cy="22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Intracel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700" spc="-1" strike="noStrike">
              <a:solidFill>
                <a:srgbClr val="000000"/>
              </a:solidFill>
              <a:latin typeface="Lucida Sans Unicode"/>
              <a:ea typeface="Arial"/>
            </a:endParaRPr>
          </a:p>
        </p:txBody>
      </p:sp>
      <p:pic>
        <p:nvPicPr>
          <p:cNvPr id="965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3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6" name="Rectangle 4"/>
          <p:cNvSpPr/>
          <p:nvPr/>
        </p:nvSpPr>
        <p:spPr>
          <a:xfrm>
            <a:off x="179280" y="189000"/>
            <a:ext cx="1871640" cy="718920"/>
          </a:xfrm>
          <a:prstGeom prst="rect">
            <a:avLst/>
          </a:prstGeom>
          <a:solidFill>
            <a:srgbClr val="da1f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5"/>
          <p:cNvSpPr/>
          <p:nvPr/>
        </p:nvSpPr>
        <p:spPr>
          <a:xfrm>
            <a:off x="2698920" y="117360"/>
            <a:ext cx="3960720" cy="719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rption &amp;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6"/>
          <p:cNvSpPr/>
          <p:nvPr/>
        </p:nvSpPr>
        <p:spPr>
          <a:xfrm>
            <a:off x="7093080" y="117360"/>
            <a:ext cx="1871640" cy="719280"/>
          </a:xfrm>
          <a:prstGeom prst="rect">
            <a:avLst/>
          </a:prstGeom>
          <a:solidFill>
            <a:srgbClr val="da1f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6"/>
          <p:cNvSpPr/>
          <p:nvPr/>
        </p:nvSpPr>
        <p:spPr>
          <a:xfrm>
            <a:off x="214200" y="3286080"/>
            <a:ext cx="3786480" cy="3700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Rectangle 2" descr=""/>
          <p:cNvPicPr/>
          <p:nvPr/>
        </p:nvPicPr>
        <p:blipFill>
          <a:blip r:embed="rId1"/>
          <a:stretch/>
        </p:blipFill>
        <p:spPr>
          <a:xfrm>
            <a:off x="566640" y="42840"/>
            <a:ext cx="7925040" cy="927000"/>
          </a:xfrm>
          <a:prstGeom prst="rect">
            <a:avLst/>
          </a:prstGeom>
          <a:ln w="0">
            <a:noFill/>
          </a:ln>
        </p:spPr>
      </p:pic>
      <p:sp>
        <p:nvSpPr>
          <p:cNvPr id="971" name="PlaceHolder 1"/>
          <p:cNvSpPr>
            <a:spLocks noGrp="1"/>
          </p:cNvSpPr>
          <p:nvPr>
            <p:ph/>
          </p:nvPr>
        </p:nvSpPr>
        <p:spPr>
          <a:xfrm>
            <a:off x="214200" y="836280"/>
            <a:ext cx="86788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ratio of drug amount in the body (dose) to the concentration of drug in blood.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d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L)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 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Dose            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g)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concentration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g/L)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Vd important?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alculate loading dose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Vd = means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ng duration of action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8701200" cy="638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92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e major body fluid compartments ar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Extracellular fluid (21%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-  Plasma ( 5 % of body weight = 4 liters 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-  Interstitial fluid ( 16 % = 10 liters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Intracellular fluid ( 35 % )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fluid present inside all cells in the body (28 L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/>
          </p:nvPr>
        </p:nvSpPr>
        <p:spPr>
          <a:xfrm>
            <a:off x="214200" y="260280"/>
            <a:ext cx="8701200" cy="6292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otal body fluid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70% of body weight in 70-kg individua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volume (4 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stitial volume (10 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cellular volume ( 28 L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Line 3"/>
          <p:cNvSpPr/>
          <p:nvPr/>
        </p:nvSpPr>
        <p:spPr>
          <a:xfrm>
            <a:off x="2666880" y="23623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Line 6"/>
          <p:cNvSpPr/>
          <p:nvPr/>
        </p:nvSpPr>
        <p:spPr>
          <a:xfrm>
            <a:off x="2643120" y="42861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8"/>
          <p:cNvSpPr/>
          <p:nvPr/>
        </p:nvSpPr>
        <p:spPr>
          <a:xfrm>
            <a:off x="2643120" y="33577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7"/>
          <p:cNvSpPr/>
          <p:nvPr/>
        </p:nvSpPr>
        <p:spPr>
          <a:xfrm>
            <a:off x="428760" y="1905120"/>
            <a:ext cx="2162160" cy="3200400"/>
          </a:xfrm>
          <a:prstGeom prst="rect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bod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u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Rectangle 2" descr=""/>
          <p:cNvPicPr/>
          <p:nvPr/>
        </p:nvPicPr>
        <p:blipFill>
          <a:blip r:embed="rId1"/>
          <a:stretch/>
        </p:blipFill>
        <p:spPr>
          <a:xfrm>
            <a:off x="433440" y="-36360"/>
            <a:ext cx="8478720" cy="11397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4" descr="VC-Z"/>
          <p:cNvPicPr/>
          <p:nvPr/>
        </p:nvPicPr>
        <p:blipFill>
          <a:blip r:embed="rId2"/>
          <a:stretch/>
        </p:blipFill>
        <p:spPr>
          <a:xfrm>
            <a:off x="324000" y="1484280"/>
            <a:ext cx="2735280" cy="410544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5" descr="VC-2"/>
          <p:cNvPicPr/>
          <p:nvPr/>
        </p:nvPicPr>
        <p:blipFill>
          <a:blip r:embed="rId3"/>
          <a:stretch/>
        </p:blipFill>
        <p:spPr>
          <a:xfrm>
            <a:off x="3594240" y="3429000"/>
            <a:ext cx="2562120" cy="342900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6" descr="VC-3"/>
          <p:cNvPicPr/>
          <p:nvPr/>
        </p:nvPicPr>
        <p:blipFill>
          <a:blip r:embed="rId4"/>
          <a:srcRect l="27706" t="24952" r="0" b="19707"/>
          <a:stretch/>
        </p:blipFill>
        <p:spPr>
          <a:xfrm>
            <a:off x="3570120" y="1052640"/>
            <a:ext cx="2586240" cy="187164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7" descr="vc-4"/>
          <p:cNvPicPr/>
          <p:nvPr/>
        </p:nvPicPr>
        <p:blipFill>
          <a:blip r:embed="rId5"/>
          <a:srcRect l="0" t="22087" r="0" b="22516"/>
          <a:stretch/>
        </p:blipFill>
        <p:spPr>
          <a:xfrm>
            <a:off x="6316560" y="1052640"/>
            <a:ext cx="2602080" cy="14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/>
          </p:nvPr>
        </p:nvSpPr>
        <p:spPr>
          <a:xfrm>
            <a:off x="285840" y="333000"/>
            <a:ext cx="8462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ugs may distribute through: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7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compartmen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7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compartmen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7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compartmen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 txBox="1"/>
          <p:nvPr/>
        </p:nvSpPr>
        <p:spPr>
          <a:xfrm>
            <a:off x="179280" y="404640"/>
            <a:ext cx="850752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the end of the lectures, students should be able to  define the following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body fluid compartmen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 of compartment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arent volume of distribution (vd)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protein binding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binding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Rectangle 2" descr=""/>
          <p:cNvPicPr/>
          <p:nvPr/>
        </p:nvPicPr>
        <p:blipFill>
          <a:blip r:embed="rId1"/>
          <a:stretch/>
        </p:blipFill>
        <p:spPr>
          <a:xfrm>
            <a:off x="208080" y="-6480"/>
            <a:ext cx="8478720" cy="113364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/>
          </p:nvPr>
        </p:nvSpPr>
        <p:spPr>
          <a:xfrm>
            <a:off x="3708360" y="786960"/>
            <a:ext cx="561672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Vd: around 4 L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Lucida Sans Unicode"/>
              </a:rPr>
              <a:t>Very high molecular weight 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drugs, or </a:t>
            </a:r>
            <a:r>
              <a:rPr b="0" lang="es-ES_tradnl" sz="2700" spc="-1" strike="noStrike">
                <a:solidFill>
                  <a:srgbClr val="ff0000"/>
                </a:solidFill>
                <a:latin typeface="Lucida Sans Unicode"/>
              </a:rPr>
              <a:t>drugs that bind to plasma protei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Can not moves across endotelial cells of capill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Drugs are trapped in bloo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Example: heparin 4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86" name="Picture 4" descr="vd-iv-"/>
          <p:cNvPicPr/>
          <p:nvPr/>
        </p:nvPicPr>
        <p:blipFill>
          <a:blip r:embed="rId2"/>
          <a:stretch/>
        </p:blipFill>
        <p:spPr>
          <a:xfrm>
            <a:off x="585720" y="1197000"/>
            <a:ext cx="1365480" cy="456732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5" descr="vc-4"/>
          <p:cNvPicPr/>
          <p:nvPr/>
        </p:nvPicPr>
        <p:blipFill>
          <a:blip r:embed="rId3"/>
          <a:srcRect l="49792" t="27650" r="0" b="22516"/>
          <a:stretch/>
        </p:blipFill>
        <p:spPr>
          <a:xfrm>
            <a:off x="1965240" y="2421000"/>
            <a:ext cx="1562040" cy="1708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Rectangle 2" descr=""/>
          <p:cNvPicPr/>
          <p:nvPr/>
        </p:nvPicPr>
        <p:blipFill>
          <a:blip r:embed="rId1"/>
          <a:stretch/>
        </p:blipFill>
        <p:spPr>
          <a:xfrm>
            <a:off x="-182520" y="115920"/>
            <a:ext cx="4694040" cy="1170000"/>
          </a:xfrm>
          <a:prstGeom prst="rect">
            <a:avLst/>
          </a:prstGeom>
          <a:ln w="0">
            <a:noFill/>
          </a:ln>
        </p:spPr>
      </p:pic>
      <p:sp>
        <p:nvSpPr>
          <p:cNvPr id="989" name="PlaceHolder 1"/>
          <p:cNvSpPr>
            <a:spLocks noGrp="1"/>
          </p:cNvSpPr>
          <p:nvPr>
            <p:ph/>
          </p:nvPr>
        </p:nvSpPr>
        <p:spPr>
          <a:xfrm>
            <a:off x="4265280" y="272520"/>
            <a:ext cx="4878360" cy="639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79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istribute through    extracellular fluid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79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ass endothelium into interstitial fluids BUT can not cross cell membranes to intracellular fluid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79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0000"/>
                </a:solidFill>
                <a:latin typeface="Lucida Sans Unicode"/>
              </a:rPr>
              <a:t>Drugs that have a low molecular weight but are hydrophili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92160" indent="79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Vd:  between 4 and 14 L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E.g. atracuronium 11 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90" name="Picture 4" descr="vc-4"/>
          <p:cNvPicPr/>
          <p:nvPr/>
        </p:nvPicPr>
        <p:blipFill>
          <a:blip r:embed="rId2"/>
          <a:srcRect l="0" t="22087" r="0" b="22516"/>
          <a:stretch/>
        </p:blipFill>
        <p:spPr>
          <a:xfrm>
            <a:off x="1895400" y="1805040"/>
            <a:ext cx="2241720" cy="194292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5" descr="vd-ec-"/>
          <p:cNvPicPr/>
          <p:nvPr/>
        </p:nvPicPr>
        <p:blipFill>
          <a:blip r:embed="rId3"/>
          <a:stretch/>
        </p:blipFill>
        <p:spPr>
          <a:xfrm>
            <a:off x="380880" y="907920"/>
            <a:ext cx="1411560" cy="5329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Rectangle 2" descr=""/>
          <p:cNvPicPr/>
          <p:nvPr/>
        </p:nvPicPr>
        <p:blipFill>
          <a:blip r:embed="rId1"/>
          <a:stretch/>
        </p:blipFill>
        <p:spPr>
          <a:xfrm>
            <a:off x="480960" y="-79200"/>
            <a:ext cx="8229600" cy="1579320"/>
          </a:xfrm>
          <a:prstGeom prst="rect">
            <a:avLst/>
          </a:prstGeom>
          <a:ln w="0">
            <a:noFill/>
          </a:ln>
        </p:spPr>
      </p:pic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2627280" y="1196640"/>
            <a:ext cx="6059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Lucida Sans Unicode"/>
              </a:rPr>
              <a:t>Diffusion to intracelullar flui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Lucida Sans Unicode"/>
              </a:rPr>
              <a:t>For lipid soluble drug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Vd equal to total body water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0000"/>
                </a:solidFill>
                <a:latin typeface="Lucida Sans Unicode"/>
              </a:rPr>
              <a:t>Ethanol 38 L </a:t>
            </a: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(34-41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Drug that binds strongly to tissues. Vd higher than total body wat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Lucida Sans Unicode"/>
              </a:rPr>
              <a:t>Digoxin:385 L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94" name="Picture 4" descr="vd-tejido"/>
          <p:cNvPicPr/>
          <p:nvPr/>
        </p:nvPicPr>
        <p:blipFill>
          <a:blip r:embed="rId2"/>
          <a:stretch/>
        </p:blipFill>
        <p:spPr>
          <a:xfrm>
            <a:off x="250920" y="1197000"/>
            <a:ext cx="2138400" cy="5445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9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Rectangle 2" descr=""/>
          <p:cNvPicPr/>
          <p:nvPr/>
        </p:nvPicPr>
        <p:blipFill>
          <a:blip r:embed="rId1"/>
          <a:stretch/>
        </p:blipFill>
        <p:spPr>
          <a:xfrm>
            <a:off x="237960" y="128520"/>
            <a:ext cx="8436240" cy="1023840"/>
          </a:xfrm>
          <a:prstGeom prst="rect">
            <a:avLst/>
          </a:prstGeom>
          <a:ln w="0">
            <a:noFill/>
          </a:ln>
        </p:spPr>
      </p:pic>
      <p:sp>
        <p:nvSpPr>
          <p:cNvPr id="996" name="PlaceHolder 1"/>
          <p:cNvSpPr>
            <a:spLocks noGrp="1"/>
          </p:cNvSpPr>
          <p:nvPr>
            <p:ph/>
          </p:nvPr>
        </p:nvSpPr>
        <p:spPr>
          <a:xfrm>
            <a:off x="285480" y="1071360"/>
            <a:ext cx="8575560" cy="545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174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s with low Vd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 in extracellular compartments (plasma &amp; interstitial fluid)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lar comp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pid insoluble drug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.g. gentamycin, atracuriu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MW  e.g. heparin – insuli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lasma protein binding e.g. warfarin (anticoagulant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cross  BBB or placental  barriers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7" name="Rectangle 2" descr=""/>
          <p:cNvPicPr/>
          <p:nvPr/>
        </p:nvPicPr>
        <p:blipFill>
          <a:blip r:embed="rId1"/>
          <a:stretch/>
        </p:blipFill>
        <p:spPr>
          <a:xfrm>
            <a:off x="304920" y="30240"/>
            <a:ext cx="8375400" cy="871560"/>
          </a:xfrm>
          <a:prstGeom prst="rect">
            <a:avLst/>
          </a:prstGeom>
          <a:ln w="0">
            <a:noFill/>
          </a:ln>
        </p:spPr>
      </p:pic>
      <p:sp>
        <p:nvSpPr>
          <p:cNvPr id="998" name="PlaceHolder 1"/>
          <p:cNvSpPr>
            <a:spLocks noGrp="1"/>
          </p:cNvSpPr>
          <p:nvPr>
            <p:ph/>
          </p:nvPr>
        </p:nvSpPr>
        <p:spPr>
          <a:xfrm>
            <a:off x="228600" y="806400"/>
            <a:ext cx="8686800" cy="5718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17400" indent="0"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0">
              <a:spcBef>
                <a:spcPts val="400"/>
              </a:spcBef>
              <a:buNone/>
              <a:tabLst>
                <a:tab algn="l" pos="0"/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 Unicode"/>
              </a:rPr>
              <a:t>Drugs with high Vd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ave higher concentrations in tissues than in plasma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ipid solub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istributed intracellula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17400" indent="-43488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82800"/>
                <a:tab algn="l" pos="1074600"/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.g. digoxin, phenytion, morphin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CTORS AFFECTING DISTRIBU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Cardiac output and blood flow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and chemical properties of the dru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weigh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a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ility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apillary Permeability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Plasma protein bindin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Tissue bind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779400"/>
          </a:xfrm>
          <a:prstGeom prst="rect">
            <a:avLst/>
          </a:prstGeom>
          <a:ln w="0">
            <a:noFill/>
          </a:ln>
        </p:spPr>
      </p:pic>
      <p:sp>
        <p:nvSpPr>
          <p:cNvPr id="100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greate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lood flow to tissues,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r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 that occurs from plasma to interstitial fluids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distribute more rapidly to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rain, liver and kidne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more than skeletal muscles &amp; fat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2" name="Rectangle 2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74040" cy="85248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/>
          </p:nvPr>
        </p:nvSpPr>
        <p:spPr>
          <a:xfrm>
            <a:off x="213840" y="148104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lipid soluble drug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unionized, uncharged, nonpolar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oss biological membran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philic drug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ionized, charged, polar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readily cross membranes but go through slit junctions in endothelial cells of capillari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05" name="PlaceHolder 1"/>
          <p:cNvSpPr>
            <a:spLocks noGrp="1"/>
          </p:cNvSpPr>
          <p:nvPr>
            <p:ph/>
          </p:nvPr>
        </p:nvSpPr>
        <p:spPr>
          <a:xfrm>
            <a:off x="213840" y="1142640"/>
            <a:ext cx="8472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thelial cells of capillaries in tissues other than brain have wide slit junctions allowing easy movement, permeation and distribu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in has tight junctio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lood Brain Barrier (BBB)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/>
          </p:nvPr>
        </p:nvSpPr>
        <p:spPr>
          <a:xfrm>
            <a:off x="214200" y="285840"/>
            <a:ext cx="871560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Blood brain barrier (BBB)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lipid soluble drugs or actively transported drugs can cross BBB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philic drugs (ionized or polar drugs) can not cross BBB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tion  as i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ningit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rease permeability to hydrophilic drug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.g. penicillin &amp; gentamycin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Placental barrier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le drugs can cross placental barrier and enter the fetal blood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98280" indent="-9360">
              <a:lnSpc>
                <a:spcPct val="115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s the amount of </a:t>
            </a:r>
            <a:r>
              <a:rPr b="0" lang="en-US" sz="3400" spc="-1" strike="noStrike" u="sng">
                <a:solidFill>
                  <a:srgbClr val="3366ff"/>
                </a:solidFill>
                <a:uFillTx/>
                <a:latin typeface="Times New Roman"/>
              </a:rPr>
              <a:t>unchanged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drug that enters systemic circulation after administration and becomes available to produce pharmacological actions (</a:t>
            </a: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rate and extent of active reaching systemic circulatio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-93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Bioavailability (F) =  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</a:rPr>
              <a:t>AUC  (oral)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X  100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AUC  (I.V.)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0" name="WordArt 3"/>
          <p:cNvSpPr txBox="1"/>
          <p:nvPr/>
        </p:nvSpPr>
        <p:spPr>
          <a:xfrm>
            <a:off x="2519280" y="260280"/>
            <a:ext cx="410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ioavailabil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597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Picture 2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9036000" cy="6669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2" descr=""/>
          <p:cNvPicPr/>
          <p:nvPr/>
        </p:nvPicPr>
        <p:blipFill>
          <a:blip r:embed="rId1"/>
          <a:stretch/>
        </p:blipFill>
        <p:spPr>
          <a:xfrm>
            <a:off x="144360" y="100080"/>
            <a:ext cx="9036000" cy="671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2" descr=""/>
          <p:cNvPicPr/>
          <p:nvPr/>
        </p:nvPicPr>
        <p:blipFill>
          <a:blip r:embed="rId1"/>
          <a:stretch/>
        </p:blipFill>
        <p:spPr>
          <a:xfrm>
            <a:off x="179280" y="216000"/>
            <a:ext cx="8569440" cy="6453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Lucida Sans Unicode"/>
              </a:rPr>
              <a:t>Binding of Drug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proteins bind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ff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proteins bind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"/>
          <p:cNvSpPr txBox="1"/>
          <p:nvPr/>
        </p:nvSpPr>
        <p:spPr>
          <a:xfrm>
            <a:off x="142920" y="188640"/>
            <a:ext cx="8786880" cy="58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Lucida Sans Unicode"/>
              </a:rPr>
              <a:t>Plasma protein binding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ve plasma protein binding will cause more drug to stay in the blood compartment 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drugs which bind strongly to plasma protein tend to have lower distribution (Vd)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sma Protein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bumin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affinity for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cidic drug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warfarin, phenytoin, aspir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pha 1 -acid glycoprotein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finity for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basic drug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tionic) as diazepam, quinidin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sma protein bind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792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which bind strongly to plasma protein tend to have lower distribution (Vd)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792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blood, drugs exist in two forms bound and unbound forms in equilibriu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bound dru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ree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und dru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4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5" name="Line 3"/>
          <p:cNvSpPr/>
          <p:nvPr/>
        </p:nvSpPr>
        <p:spPr>
          <a:xfrm flipH="1">
            <a:off x="4357440" y="530064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4"/>
          <p:cNvSpPr/>
          <p:nvPr/>
        </p:nvSpPr>
        <p:spPr>
          <a:xfrm flipH="1">
            <a:off x="4357440" y="501336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60520"/>
          </a:xfrm>
          <a:prstGeom prst="rect">
            <a:avLst/>
          </a:prstGeom>
          <a:ln w="0">
            <a:noFill/>
          </a:ln>
        </p:spPr>
      </p:pic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8750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ugs can bind to specific tissues and will hav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igh volume of distribution (Vd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tracycline bind to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bone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71280" y="404640"/>
            <a:ext cx="4500720" cy="612000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 fontScale="98000"/>
          </a:bodyPr>
          <a:p>
            <a:pPr marL="824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und form of dru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82440" indent="756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diffusible form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82440" indent="756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not cross endothelial barrie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82440" indent="756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not combine wit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82440" indent="756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82440" indent="756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vailable for metabolism &amp; excre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82440" indent="756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long duration of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82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(t ½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Rectangle 2"/>
          <p:cNvSpPr/>
          <p:nvPr/>
        </p:nvSpPr>
        <p:spPr>
          <a:xfrm>
            <a:off x="4788000" y="357120"/>
            <a:ext cx="4213080" cy="61675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4240" indent="7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bound form of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usible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 endothelial b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with re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for metabolism &amp; excre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short duration 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4240" indent="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 (t 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2700" spc="-1" strike="noStrike">
              <a:solidFill>
                <a:srgbClr val="ffff00"/>
              </a:solidFill>
              <a:latin typeface="Times New Roman"/>
              <a:ea typeface="Arial"/>
            </a:endParaRPr>
          </a:p>
        </p:txBody>
      </p:sp>
      <p:pic>
        <p:nvPicPr>
          <p:cNvPr id="942" name="Picture 3" descr=""/>
          <p:cNvPicPr/>
          <p:nvPr/>
        </p:nvPicPr>
        <p:blipFill>
          <a:blip r:embed="rId1"/>
          <a:srcRect l="0" t="11363" r="0" b="5682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haracters &amp; consequences of Binding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reversibl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s volume of distribution (vd)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s drug metabolism &amp; excre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ongs duration of drug action (t1/2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in clinically important drug interac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Displacemen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mpetition for the same  binding site   on   the   plasma  proteins may occur between two drugs  </a:t>
            </a:r>
            <a:r>
              <a:rPr b="1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displacement of one drug &amp; increasing  its concentrations &amp; effect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3366ff"/>
                </a:solidFill>
                <a:latin typeface="Lucida Sans Unicode"/>
              </a:rPr>
              <a:t>Aspirin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 +</a:t>
            </a:r>
            <a:r>
              <a:rPr b="1" lang="en-US" sz="2700" spc="-1" strike="noStrike">
                <a:solidFill>
                  <a:srgbClr val="ffff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lbumin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-warfarin</a:t>
            </a:r>
            <a:r>
              <a:rPr b="1" lang="en-US" sz="2700" spc="-1" strike="noStrike">
                <a:solidFill>
                  <a:srgbClr val="ffff00"/>
                </a:solidFill>
                <a:latin typeface="Lucida Sans Unicode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lbumin</a:t>
            </a:r>
            <a:r>
              <a:rPr b="1" lang="en-US" sz="2700" spc="-1" strike="noStrike">
                <a:solidFill>
                  <a:srgbClr val="3366ff"/>
                </a:solidFill>
                <a:latin typeface="Lucida Sans Unicode"/>
              </a:rPr>
              <a:t>-aspirin </a:t>
            </a: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+  free warfari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bleed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3" name="Line 3"/>
          <p:cNvSpPr/>
          <p:nvPr/>
        </p:nvSpPr>
        <p:spPr>
          <a:xfrm>
            <a:off x="5435640" y="4437000"/>
            <a:ext cx="79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4"/>
          <p:cNvSpPr/>
          <p:nvPr/>
        </p:nvSpPr>
        <p:spPr>
          <a:xfrm flipV="1">
            <a:off x="7451640" y="5229000"/>
            <a:ext cx="0" cy="64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/>
          </p:nvPr>
        </p:nvSpPr>
        <p:spPr>
          <a:xfrm>
            <a:off x="250920" y="642600"/>
            <a:ext cx="8642160" cy="59547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98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-936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V. provides 100% bioavailability i.e. F= 1.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-936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cutaneous, intramuscular, oral, rectal, and other extra vascular routes of administration require that the drug be absorbed first, which can reduce bioavailability.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98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4" name="WordArt 3"/>
          <p:cNvSpPr txBox="1"/>
          <p:nvPr/>
        </p:nvSpPr>
        <p:spPr>
          <a:xfrm>
            <a:off x="2519280" y="260280"/>
            <a:ext cx="410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ioavailabilit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itle 1" descr=""/>
          <p:cNvPicPr/>
          <p:nvPr/>
        </p:nvPicPr>
        <p:blipFill>
          <a:blip r:embed="rId1"/>
          <a:stretch/>
        </p:blipFill>
        <p:spPr>
          <a:xfrm>
            <a:off x="201600" y="262080"/>
            <a:ext cx="8485200" cy="115884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 txBox="1"/>
          <p:nvPr/>
        </p:nvSpPr>
        <p:spPr>
          <a:xfrm>
            <a:off x="179280" y="1413000"/>
            <a:ext cx="850752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ioavailability of a drug after administration by any route is compared to its intravenous standard formula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Title 1" descr=""/>
          <p:cNvPicPr/>
          <p:nvPr/>
        </p:nvPicPr>
        <p:blipFill>
          <a:blip r:embed="rId1"/>
          <a:stretch/>
        </p:blipFill>
        <p:spPr>
          <a:xfrm>
            <a:off x="201600" y="152280"/>
            <a:ext cx="8485200" cy="1158840"/>
          </a:xfrm>
          <a:prstGeom prst="rect">
            <a:avLst/>
          </a:prstGeom>
          <a:ln w="0">
            <a:noFill/>
          </a:ln>
        </p:spPr>
      </p:pic>
      <p:sp>
        <p:nvSpPr>
          <p:cNvPr id="948" name=""/>
          <p:cNvSpPr txBox="1"/>
          <p:nvPr/>
        </p:nvSpPr>
        <p:spPr>
          <a:xfrm>
            <a:off x="214200" y="1142640"/>
            <a:ext cx="87156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is determined when two products are compared to each other, not to an intravenous standard.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commonly calculated in the drug industry to determine that the generic formulation is bioequivalent to another formula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Tyleno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acetamol 500 mg) compared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panado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racetamol 500 mg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Title 1" descr=""/>
          <p:cNvPicPr/>
          <p:nvPr/>
        </p:nvPicPr>
        <p:blipFill>
          <a:blip r:embed="rId1"/>
          <a:stretch/>
        </p:blipFill>
        <p:spPr>
          <a:xfrm>
            <a:off x="244440" y="66600"/>
            <a:ext cx="8485200" cy="1298520"/>
          </a:xfrm>
          <a:prstGeom prst="rect">
            <a:avLst/>
          </a:prstGeom>
          <a:ln w="0">
            <a:noFill/>
          </a:ln>
        </p:spPr>
      </p:pic>
      <p:sp>
        <p:nvSpPr>
          <p:cNvPr id="950" name=""/>
          <p:cNvSpPr txBox="1"/>
          <p:nvPr/>
        </p:nvSpPr>
        <p:spPr>
          <a:xfrm>
            <a:off x="285840" y="128592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mportant to get  an idea of how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fferent formulation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utes of administration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 in their bioavailability.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age adjustment is required when changing formulations or routes of administration.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 txBox="1"/>
          <p:nvPr/>
        </p:nvSpPr>
        <p:spPr>
          <a:xfrm>
            <a:off x="323640" y="549360"/>
            <a:ext cx="85690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ioequivalenc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harmaceutically products are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ioequivalent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the rate and extent of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availability of active ingredients in two products are the same.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User</cp:lastModifiedBy>
  <dcterms:modified xsi:type="dcterms:W3CDTF">2015-10-05T05:51:21Z</dcterms:modified>
  <cp:revision>237</cp:revision>
  <dc:subject/>
  <dc:title>GENERAL PHARMACOLOGY</dc:title>
</cp:coreProperties>
</file>