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notesMasterIdLst>
    <p:notesMasterId r:id="rId42"/>
  </p:notes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  <p:sldId id="268" r:id="rId55"/>
    <p:sldId id="269" r:id="rId56"/>
    <p:sldId id="270" r:id="rId57"/>
    <p:sldId id="271" r:id="rId58"/>
    <p:sldId id="272" r:id="rId59"/>
    <p:sldId id="273" r:id="rId60"/>
    <p:sldId id="274" r:id="rId61"/>
    <p:sldId id="275" r:id="rId62"/>
    <p:sldId id="276" r:id="rId63"/>
    <p:sldId id="277" r:id="rId64"/>
    <p:sldId id="278" r:id="rId65"/>
    <p:sldId id="279" r:id="rId66"/>
    <p:sldId id="280" r:id="rId67"/>
    <p:sldId id="281" r:id="rId68"/>
    <p:sldId id="282" r:id="rId69"/>
    <p:sldId id="283" r:id="rId70"/>
    <p:sldId id="284" r:id="rId71"/>
    <p:sldId id="285" r:id="rId72"/>
    <p:sldId id="286" r:id="rId73"/>
    <p:sldId id="287" r:id="rId74"/>
    <p:sldId id="28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notesMaster" Target="notesMasters/notesMaster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slide" Target="slides/slide13.xml"/><Relationship Id="rId56" Type="http://schemas.openxmlformats.org/officeDocument/2006/relationships/slide" Target="slides/slide14.xml"/><Relationship Id="rId57" Type="http://schemas.openxmlformats.org/officeDocument/2006/relationships/slide" Target="slides/slide15.xml"/><Relationship Id="rId58" Type="http://schemas.openxmlformats.org/officeDocument/2006/relationships/slide" Target="slides/slide16.xml"/><Relationship Id="rId59" Type="http://schemas.openxmlformats.org/officeDocument/2006/relationships/slide" Target="slides/slide17.xml"/><Relationship Id="rId60" Type="http://schemas.openxmlformats.org/officeDocument/2006/relationships/slide" Target="slides/slide18.xml"/><Relationship Id="rId61" Type="http://schemas.openxmlformats.org/officeDocument/2006/relationships/slide" Target="slides/slide19.xml"/><Relationship Id="rId62" Type="http://schemas.openxmlformats.org/officeDocument/2006/relationships/slide" Target="slides/slide20.xml"/><Relationship Id="rId63" Type="http://schemas.openxmlformats.org/officeDocument/2006/relationships/slide" Target="slides/slide21.xml"/><Relationship Id="rId64" Type="http://schemas.openxmlformats.org/officeDocument/2006/relationships/slide" Target="slides/slide22.xml"/><Relationship Id="rId65" Type="http://schemas.openxmlformats.org/officeDocument/2006/relationships/slide" Target="slides/slide23.xml"/><Relationship Id="rId66" Type="http://schemas.openxmlformats.org/officeDocument/2006/relationships/slide" Target="slides/slide24.xml"/><Relationship Id="rId67" Type="http://schemas.openxmlformats.org/officeDocument/2006/relationships/slide" Target="slides/slide25.xml"/><Relationship Id="rId68" Type="http://schemas.openxmlformats.org/officeDocument/2006/relationships/slide" Target="slides/slide26.xml"/><Relationship Id="rId69" Type="http://schemas.openxmlformats.org/officeDocument/2006/relationships/slide" Target="slides/slide27.xml"/><Relationship Id="rId70" Type="http://schemas.openxmlformats.org/officeDocument/2006/relationships/slide" Target="slides/slide28.xml"/><Relationship Id="rId71" Type="http://schemas.openxmlformats.org/officeDocument/2006/relationships/slide" Target="slides/slide29.xml"/><Relationship Id="rId72" Type="http://schemas.openxmlformats.org/officeDocument/2006/relationships/slide" Target="slides/slide30.xml"/><Relationship Id="rId73" Type="http://schemas.openxmlformats.org/officeDocument/2006/relationships/slide" Target="slides/slide31.xml"/><Relationship Id="rId74" Type="http://schemas.openxmlformats.org/officeDocument/2006/relationships/slide" Target="slides/slide32.xml"/><Relationship Id="rId75" Type="http://schemas.openxmlformats.org/officeDocument/2006/relationships/slide" Target="slides/slide33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dt" idx="12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 type="ftr" idx="12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PlaceHolder 6"/>
          <p:cNvSpPr>
            <a:spLocks noGrp="1"/>
          </p:cNvSpPr>
          <p:nvPr>
            <p:ph type="sldNum" idx="12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AD5A-5D81-41F5-A25C-3FCFAA9A7DA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F623-B5F3-4594-A847-AE8E39C3FE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012-E002-4DA6-A54C-5258802DF7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3692-D1B9-4580-9144-DA52FEAE2D4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D5DE-E0F5-4C89-9D84-9D128F20FA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6ABC-69BA-4EDE-B632-238176F6758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A0B2-DAD6-4A27-990C-1E6F170FC6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F742-CECE-48CA-A249-1470913E7AE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80DE-E180-411F-B8E2-C1C2B079D22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31AF-A5BF-48F7-930F-D4121897B79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13A-F6DE-4BB5-8213-AC862FD84D3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CBDB-1367-4D03-8B4F-0623619B794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6C8-240E-40FF-89FB-E48E9EB6DD7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8A3A-F884-41AF-8F3E-4DBB84DA746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320C-3BAE-4F79-92CC-408D7AAA53A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C881-CD3F-4D92-A3BB-C5455C1910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8A5B-3ED0-4526-A1A1-67E7168611B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020B-E405-4860-ADA8-E3554041C0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5DE2-791F-41B1-8321-659BB42E6F3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A6A5-8E1B-4639-8AF2-2888DBF1602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2545-867C-4E97-A480-815664ECCE7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ED8-1389-48F0-943A-A2F6D2928D3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F843-A8F0-42FB-969C-B1A8D61975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250E-0610-47B9-83CC-3443A8517D4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1D64-033B-4AB8-AB49-E3FA08665ED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695B-C1BF-4ECC-92F8-D10923CFF9F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4040-CAD6-4EB8-90FE-3A0019317D3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D1C-E81B-4BED-A5DE-807401F1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8B9E-24A0-459A-86FF-1AAD1132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0B9DE-FDAD-430A-BAA4-E477BEF4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606BC-6118-4981-93A3-CA832F5F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BCA83-1C8B-4427-90DF-B064D1DD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27BA2-C32C-457B-8AA9-E65767F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7AAD40-AE42-458C-9113-DFCD3CEB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E583D-0343-4768-B741-C94E4E4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3FEB1-D079-4038-9710-75F165A2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18B78-9A32-4ABC-A332-1469802E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14576-594A-48C0-B60A-46D54570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87204-FE7A-4B8D-8B5C-E77462B1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F5F-3F0E-4EF8-9B23-DE8FB5EF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708F1-C46E-4AC0-9574-593D67BC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3769E-F67D-4533-BFB2-26CF2B09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EE800D-F21C-43FB-8626-FB3E3FA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F0367-4373-421E-951E-90CE2025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CB42A-C2C2-4FF1-963C-9F1F11CC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73A92-6336-41EB-8F50-DFDDBC2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29062-5230-4AAD-95D6-70E5E82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DFE5A9-B64E-4831-836A-049BFBB5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6B6AE-9300-464E-B769-B688CAC4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E003F-176E-4E03-B047-08826E3E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EE47-2585-4D84-9580-C18B23BC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59739-91D4-4791-BC3C-505831B5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D5BE0-66B4-4B26-B468-A3918F2D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D44D2-6762-4427-A3AF-A4C3AEAB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FB103-BFFA-472E-880D-39C22C82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F683-79B7-4035-97B0-3B3061CE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173BC-63C1-4E11-BE90-5E495EE1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1DFAD-545B-444B-B9D0-50ED3A2D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D37A91-A836-42ED-A525-1CE479DF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267FD-0561-415B-BED8-1093E573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08EBB-F713-4966-8305-21E24BF1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3A3C-F1F2-4390-8987-F4E25F2F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18A9C-B1E6-4CD2-9D82-9E1EB9F7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23BE8-42C7-4CA6-AE9E-69E8E693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3DAA00-0753-487F-9D19-E5B159E3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F23C-3D95-4A1B-AA06-5674FA05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CB098-3C8D-4C41-930E-E42D5E7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2962E-E154-426E-815C-CC0C73C6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D9119-C296-42DE-9C22-1A21DB01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E42EF-EC85-41E9-B3F0-DEF45EC0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8C5B7-5FC6-4E63-B78E-876364D2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280DD8-7689-4F98-87B2-B3305770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AAD8-CFEA-41AF-A6EE-ADA3D3B1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233ED-1729-4A76-B126-0E553DDA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6302D-1AC3-44E3-ACA2-AA912E42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2B32F-3E09-4266-A23E-EB151819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879CEB-572A-48CB-AF70-4A76041F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EF7E0-3DEA-484D-915E-11AD4C04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95C7B-5034-4ECC-852C-2D7CC757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080F3-E849-4C9F-8067-C02F9966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1970A-C4A1-4DCC-BB9E-6D5B23E3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A6380-0E60-4659-8114-7DB95CEE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F4298-4F8D-425A-A27A-79CF668B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86C3-A91C-4F72-98AA-A1D5BD88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AA6DA-E58A-44F1-979C-BFFBFD52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BA184-4ED0-4632-9C27-311E6EF6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CCD6E-65C0-4621-9450-73BD64D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A43FA-731B-4F98-9F6C-DC304742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ED754-BACB-4F1D-A440-0DC1CF34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647661-8FAE-4D8F-87BE-E6DB5420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AE45F-31A6-4D57-B4CD-583EC97DF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FF0CD6-2A74-46FA-B6B6-B33558E3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E1348-79E7-462A-9F48-B2D970E6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BFC3B-5B8B-4879-AA2E-6228B6F7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7D66-EB24-4CCB-B0B5-4628C3C4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41149-CC29-44FD-81D1-95C77ABE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7738A-E259-4660-B0C2-FC37C7AA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E064C1-0BDB-4DB8-B9DE-99220BB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719D5-6F32-40BB-8A76-D5B23AC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1B3A8-AAD2-4964-8911-5DB46E2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637472-E05B-4C91-B494-E3143F2B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E3163D-466B-4333-9D4C-857E889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9D490-B466-4604-996C-02622734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EC26CE-8E19-4246-AA62-54288962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428B99-F9AD-4A9F-8142-49F43A71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C91E-FAA3-4232-977C-5713FD9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27DEEB-E329-4221-9A77-7448C8FA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961D2-E249-4FB7-89B6-CB1577B0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79510-D4C4-40E7-A545-687C715F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862239-7E00-40F1-BEBC-2867B77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A01475-3F69-4440-B544-157D095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D9738-B647-41B4-A588-7C327E7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0D721-B50A-45D1-91B1-F5EF680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9DB7D4-53F9-4800-8C26-B49500CE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D0BAB4-FF8C-4682-A10A-C9B503F1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5CC33D-7E80-40C9-96DE-BC8A7ED9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3F58-11CF-4F4F-8D88-5123EA0D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C880DF-B0F4-4D10-8921-AE7E9FA5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D770D-E05F-4963-AE7D-7194F9603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748C6-11EF-4591-A858-1232FB41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DF49B-A992-4EDE-AED1-6DDDBB59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50EB2-9FEF-40F8-8B32-95730F97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7C3AE-D8E9-4F98-A6CF-FF7A2D33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283AC-B775-4BCE-BC9A-5E2839F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C2717-A10E-47AE-BDAF-7D575E53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BC278-6EE3-472A-B4B7-AD40A1DE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077197-2C62-4A5D-B1DD-3F0C566B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DC7F-FA03-4881-AA03-F93CA9C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6738B7-9321-4139-BD31-61AFE4E0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2E045-1BA7-49B8-B08C-E475A84C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AF175B-B867-4D18-B076-8A85198B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5282B2-C785-47AB-8960-DE4C1C5F2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D5B7B-0C69-4B9A-9B47-46D689F9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56939-E918-407D-A451-FFEF3D80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025224-E193-4B45-89B8-E049EC9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52CBA7-D4F7-4BB1-8581-E159D1EE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278458-31A5-4C68-A23F-E0530BED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189B4A-A32C-4DAD-882A-83423DB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856-70A8-4663-9251-A8254271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F7BF-FF16-45E3-8BC0-EC35940A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9F51BC-DA8A-4914-B75C-8C82375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D2D62C-8966-4AA5-B56A-AFB0F01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30B51D-E3CC-4FB6-A232-A6E2E742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3160D-7376-40C7-BBD9-31D547A2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1F719-18E7-46C4-9909-A5DD5962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50856C-A7E0-4511-934C-34234F87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87527-7259-4895-91F9-B687631B8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60398-AFB1-458A-BF2A-CD99B85F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69BB2E-8988-499D-84EF-2B39E333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973E3-AE1B-44AD-9B84-C1798ACD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1CC4-5522-4EA7-9ABC-D39FF96B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BB014-0341-4DBE-89DF-2F5F28A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0E387-F097-435F-BBE1-FA33E4DF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D6B18-9408-45C0-800D-021E4697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E72E5-4081-4059-93F9-F82EF5F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93D8D-41F3-43CE-9F6B-950E423B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148695-0360-40FA-8D6D-F8C2AD90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A51F7-3BD8-4629-A636-4C7A497C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0192E-3910-4F3C-A896-CA88D3A8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420A00-7902-49D7-9255-55DCCC4B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DE694A-9926-43D8-9D68-B799CB4E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58ED-0CD1-4DD5-830B-01897C1C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780F1A-6DE6-4D52-87AD-A013BEE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FF3AA4-FB94-450A-9902-2149F3614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82E8B8-C1AC-465E-9383-B4856ED4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181C3C-12E4-493C-BBFC-8C1C2AC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8B5E7-8788-4860-93DF-B00EADC1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D3165A-7659-485D-879B-3B5A2A24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38D75D-E4DA-4591-AF40-B980F9A1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E77856-9FA3-47B1-861D-E26884EE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E6B2AD-CB77-47FF-9767-647CEF19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E5B54E-6D7D-484F-B79F-CB4E4039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40F7-C55D-4BEC-865D-DBEB72C5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8A83D-FE38-441D-AF09-F4A6C8F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34934-1A17-40E5-B726-7F3B6679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4B753-1FBC-42F4-9ACE-FDBD7850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E2AB2-9760-4088-90D4-DADC5186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D55757-478B-4CD6-9AA3-F0A76311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21661F-0482-4F09-B5E0-5297BD7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F9F7D-0422-4EDC-AF22-F8C04E9C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837D6-4FD3-45C7-9444-E7B71146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53BDE8-2E40-4AEA-9DC5-08C5F2DE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056C79-1005-4629-B170-85404395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F367-223E-4F23-B185-4D81BCA3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701EC-208F-46D8-AA0F-DA03B83C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BAC24C-F686-419F-BDCB-D78996F4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17A785-4950-492A-BEDE-FE079334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8C99B1-D637-492E-A14A-B5269C2A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F83AC-213B-4808-8307-82C9C164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BF8A2-40E0-4757-8489-B3AF342F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2C93B6-3EE1-422B-BCBF-E3D9477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AEDA73-5C2A-4297-8180-4F5EF101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F50FA3-DAEE-4037-A06A-FB52081B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F668C8-D2C9-4095-A742-C3AC0611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7D50-63DE-4C92-BAC7-B608BE88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416CCF-9583-4591-B5A6-B8D80A88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3D02C-E4E8-45CE-8A02-B14C5BF5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35D5E-141F-4968-9512-6D367412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19E447-7E4D-4835-95DF-2A47BD4D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554DBB-0E39-4CCC-BEC4-1819B6C2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E2E8D3-9EDD-4CDA-929F-68B65BBE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A50522-DD97-4332-8FB4-4DB7B21A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744DD-2D0F-4BE9-8F10-A52191B8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105F29-4703-491B-8F53-225B4F85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EFA300-D29D-4898-ABEA-37A75432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A6427-F358-47EF-A6C3-1EDE9CB2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8F8625-55CE-443F-8E22-5509DBE8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3D6F5E-0FA8-48CE-A50E-7B601F7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CF16C-55ED-40FC-BDB0-D3859C1B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C12D27-8655-433F-9896-D6D070E1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09D799-0570-4CD3-95DE-8E7C5746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19EE2A-5501-4BB3-82DD-B3649CC0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AC9374-4969-4ABE-8595-EF9D96E6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43C83F-F22B-4ACC-AE76-C0D0131C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0BEA7B-529D-4940-9C83-472866D9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E40818-B811-4BDF-84B4-27B51FAD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054A-2AE5-4A48-BFB4-F6C5ABCD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2C30D7-F9C5-4282-9F24-DB1B15C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5F82D3-49F2-4718-8DAD-868ACB39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6161EA-B5CA-49E9-B9EC-5D79E646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C2D17D-4831-4DA4-BD14-960009C4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134494-A9DE-4F01-9B07-BD769E0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1EDF76-4981-4D97-89D3-EB63A999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4297E4-1594-4B5A-9FA7-21B3E67D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696436-CB0E-4117-AEE7-46D24CDD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CA9DCC-EC7A-4CB1-8508-BAC0603E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14074E-14B5-4E99-9B32-24048EEA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49469-6D71-4A9B-8B6F-021E3FD66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202508E-548E-42F5-A50B-0C0F6C0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B8526-BBB1-4878-8D2B-20862707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FDFA0F-FB39-4374-A511-3593DAB9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E90C91-DF66-454F-AF58-83AC0054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0E4EAB-863A-4528-8DC6-D7A76985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CB4419-388E-4CA3-A78C-F1ACF4CD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69514A-BD56-4716-9C0E-D015FAFE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B15F1A-83B6-4262-9C30-76F0F9FD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32A3F0-A088-4B15-9A6E-DAD21450A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AEA31D-3249-4EBC-B0E9-24D47C3E4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0692-ED05-41CF-8586-36E7AABE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B7E613-0BD5-4BF8-813F-C211AD36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4CCA12-5550-4610-809A-0A1A3C57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CD012F-34B3-4846-B2E4-CD86008B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FB5FB8-0C7C-4D06-B329-8090009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3B73E4-8096-4D5E-A2A7-32BDDF4F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FE05CB-52D1-4E50-ADD7-114A35A9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002777-1EC5-4E73-A48F-07A94475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A2A6A7-35DA-4704-B224-C06995F2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ED30F2-434F-4EC5-BEB4-C4AEEFF3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078D40-0BD9-4CC3-9C5E-F858757CA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B10B-1D00-4C1B-8EE8-63DA10B4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3AD5-3A77-4B40-85E0-D05D9244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864FEE-6413-4216-9152-01FCD6BB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5E2601-2B39-4EDC-8D56-75B7E255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52B24C-E5A7-4645-AB9E-8363FCD5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C0C87C-080E-411F-9E87-AE5B7B49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6D8B0E-1631-4D15-8E79-8DA76DE2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04A125-7F3C-47EC-BC74-FAEDCD04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7ED3A5-C4FC-4F03-8DB5-1AC59A67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F12FF4-3771-4867-AC10-D8F8D31F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DE721F-81B4-4CB5-B1AF-03950197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B4BBF3-863B-4A03-BC25-9F05B765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3F6C-E5F9-452D-ACB5-16D281F9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F05728-6DAC-4B4D-8B94-F294E5D5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86925D-6172-4F95-92CF-9B9330FA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D6D472-DA1E-4A60-BD9E-E21E90B0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C69057-583E-4170-B254-6B771B5A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31A9EE2-C992-4DE4-89D9-E46877B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DF8E3A-3AC2-4BDF-8067-F5BBF22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B5BE0F-EA42-47F9-887D-5DE429E6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F4E543-3D25-4DAB-983E-69BE6EEB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2D042F-878F-4E4E-8E25-08FF0462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B476D7-EA8A-42BF-AE25-1C12A8E9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5C167-465D-4E67-9C02-6FDFB549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99C643-678E-43E8-86A0-15B5F5C4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E39091-97CC-4B69-98DC-2922750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7F6E87-B9C6-4B0A-9208-AECFE726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2DA20C-4639-4305-8266-14A2CEF5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87916B-E1D2-494B-BFF3-49E4D9B8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772D25-D469-44EB-9B10-DF80E7522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FD29D5-1798-4C76-B495-AF45A357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46E134-4A6F-41C5-B8B2-8F494F85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28CAC6-C44A-4EA4-93B7-3D838609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CD21AD-2B16-4DC0-8ED6-7F0B8E63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85D1-CF25-46AF-96D1-B55E90E9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DD6C31-2D7E-4E5C-A1EE-5D33708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0E7A01-A319-4883-A6C5-51594EDC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0CF93B-05DF-469A-A494-6F61683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482AF-BD66-4C07-A5BF-5AF70CA8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F77521-AFA3-4B88-A271-7C16F03E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4B000A-1F2B-4C10-AC98-959C227D1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7AE73F-C218-4C8A-8484-02339AEA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E07421-0691-4484-98F2-0995BB86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3B6A9A-0853-4AA5-8346-CA636215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CF9251-FF01-4F5B-B585-4D08CC7F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FA3B-4DEE-470C-8B43-D52F8066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994D95-49B2-49C6-AD42-DB1C25E7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660B50-41A0-4EC7-A4F7-34E19D35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DBE57E-0B0F-40C4-9C70-97BF9602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A457D2-CCEE-46AC-85EE-F18BF37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364FB3-B687-4E92-9F2D-B9CA104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0BFB56-629E-46CD-94D3-7F9F6381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F40BDA-6726-4457-86F6-D72413DD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68F5930-70AE-4CC6-BF56-EC2CAC270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A3DADED-6B95-4506-9BD3-A6CBC571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166D024-5B0F-4C99-A999-2B5C21909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F009-AF0B-4366-86D7-D4DC749B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A2536D-7803-47B7-956D-EC0EE55C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D596E0-F8EB-43E9-B4C7-82A9AB8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D7B9A5-C794-4C83-9EF9-8625CC55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B4B615B-8A6F-479B-B189-0BB9ACB0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853B09-4DCA-4066-B7BC-BA84B9E5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595C13-798E-4C99-A7FC-C042000A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079B5E-F578-44F5-A848-675A658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E888D98-AA66-44FE-B59E-E4AA1DD7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3B4F21-D834-4523-B80A-EE6B8702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EE25AF-AF74-47B1-B9ED-426DDF80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E4046-DD2F-4EFF-A677-A5DEC714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422C41-2D79-4A83-982F-9ED1D73F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2AF4B1-8265-4FF5-BEEB-60362A11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1394256-EF70-40AD-89EC-60018723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AEA5F1-E30E-4AF5-A271-BF69963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C2DB86-9EF0-43C1-A933-E750574E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924CA2E-27CF-4A80-8086-7168BFDD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3C0AE5-AB0E-46A4-9712-23518164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77538A-383E-4A2C-945A-18F8DDFB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D474C7-F250-43D5-B61A-A9DEAB0D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180741-1068-492D-BF52-A94EDF5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613E-481E-45BD-9ECF-8ABDD3A5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ACE5AB-3B38-480F-B338-30C8BCB0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908859-56E2-43D5-BFF2-567CBAF9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3DB417-6296-4E81-A9C0-6BE86FE9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70E205F-2387-4FCE-A44D-452BC2CD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62A612-D5A2-4C85-9934-51F9095C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EAE4EB-E19E-4B47-AE94-EC6B800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ADED83-70BD-44A4-8FFA-F317463E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A4752E-C626-45DB-AA66-EA0F79D4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49D670-7280-4119-9088-0EEC5406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749BD0-74D8-4E1F-93B6-744AEA6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F706B-CA35-4BAB-8992-08AC1D1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B282CA-7F8E-4074-9D7D-BD84FF75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A6A758-8C7F-4309-87B9-0FC4CA8D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5EDFCB-A496-4D0A-A846-7863D286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7DED13-7AA2-4FDB-9F5D-02E7958B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080550-ED38-44BC-8717-BDB2E3FE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22DCC6-6ADF-4974-A5B6-E0EB4A03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A790DE-194F-457A-B9BB-45241805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A86564-59A1-4A68-91DD-C76D5491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7F9409-99C6-40B5-BBA8-651DD46B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CD02BC-09BB-46EE-85D7-1E40BBBE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9E7F8-7C12-4CE6-9B37-D5DBBCC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442CC6-59EF-4220-9916-E082320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DB7950-A081-4719-82FB-D52D06FA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F194E8-6D45-40AA-AE58-16F7A8BE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B0DC43-42E8-4B98-96D7-80B87382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F0F4AA-8D64-4496-AB7C-883AB609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5016A4-1DFC-4ADB-BE39-6D956CA0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B55359-8055-4580-BE44-387265A0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D0F893-0020-4A6A-BA3B-2C95AD94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E48BC0-0BE7-4DD7-9180-A42DE9A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B928FB2-6BA5-4208-93BE-765FA54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51FD-AB85-44EF-80AA-2C04FFA3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079A1-EBDE-44E5-9B45-0E34803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7B2229-3747-4096-8ABE-196B8DC4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9CA3D3-C465-4612-93FF-B37C00BC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97CD587-5CB4-4755-A83F-AAC04DE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149040-536F-4945-8A0E-175BA2A1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500F99-6AD7-4786-9270-66807F9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79728CA-5560-417D-BFE8-A52E13C1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0217AE-C3F3-4976-BC1B-64757423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1B4F15-6B16-4F7B-8266-98D6C607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F7177B-B50A-4420-817C-E47235D1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129376-55D4-4C6A-B47F-320B9C6C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43B4B-FF25-4C84-B87A-669EB412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5AB03E-ED84-4CF3-914C-00C3B55D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AA144D-4738-4F5B-9682-A15E1D0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7FCE41-C850-45EE-A69C-F4FE5C64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7DE6E6-50F7-41EA-8CCD-5C1B28D2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57E845-068D-4894-A9D2-B04FAC39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D809E2-851E-4C2C-B1BC-525D4E9A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76BA39-E9C9-4AF9-A3A0-BE8C207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C4B4C1-E23E-4171-AC81-AE8F290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9EB9E9-60BD-4D23-99BD-AFE98279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E8ED20-32B0-4193-82E9-E99E024F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4D66B-E28D-43B2-AA66-2C4363C5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BA11CB-0CBB-496E-9659-E91C4CE2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6A2F9F-D415-422D-8CFA-A06A1D47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6D2302-DA0C-460C-8075-00762B0A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DCF477E-6E44-4A47-B59C-D6B6A428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5C3D05-9AF5-4A40-B192-F373F19B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F14374-5CC1-4498-9765-8252861F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4CA1FD-48BF-4D2D-AB37-96DD129D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36BA9A-D0B6-4C2E-A4EA-1FB94DC8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0006612-EE40-40E4-AF39-44469A65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5D2DAE0-F6CF-4122-9736-B6CA0F9D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AA2B-7547-4FF0-93CB-CC440DCF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F2574B-7AB1-42C9-988B-52D7BA6B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958683-38CC-49E3-9D15-B2777D6C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2B33B9-8158-49CD-B383-48CB6F44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0DE3097-B043-472F-B84B-91CFC4C3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7375B7-C3C7-4839-8685-66A29222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EC58F85-E018-4105-B693-57DBB80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DE64D13-963B-42E2-A9E1-E830A8C7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BA3D4B-0574-438C-A92A-68355B0E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8A9621-F421-47E8-B823-1761B9C1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E519B2-445D-4170-94C5-3556B8F9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B6407-3C73-497A-A078-3D9A7D92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563827-F58E-4377-8AE8-75F94995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81AC8F-F01C-4FE8-BEC0-3386BDEF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4C7A29-C3E8-4B48-8DE8-5766DB9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8E21BD-128C-42F6-8A05-EB2AA0F0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654842F-AFDC-46F9-9610-75EF0490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15F923C-2F11-49B4-BE8F-06E8FA8B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E6E3864-D915-47E6-B062-CCFB9575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244A8F-C4F4-4604-A0FE-27B5542C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7398F58-A1E2-49BF-ADFE-F6CA184E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914D12-16FB-4443-BAC5-08044567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84947-4B61-46BB-80D8-1D70ED5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4A3D37-1655-4CDE-BB61-498E15EF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F5FA71-BF3E-4744-990C-4FD1061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81AD20-7F53-4553-ADFE-1DC7EA73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AF57C9-E38C-4998-BE00-1519A4FC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F99EB4-809E-41BC-B86C-17ADE1E6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CB54C0A-482A-4E8E-8296-EF86E1EC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8F9A6E-FF3B-48D2-AD70-F5969A00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B376491-4EB2-41FE-AD92-3064B578B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FC9B45-BC65-4612-B681-401A465D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7DB138-D845-4208-ADF8-47A707FB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F440-4F5E-4C65-AFA1-021F94FF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14DE84-FFAD-4CAF-93D0-DA010046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C2E2D5-DFF5-40A0-A0BA-6AD43BCD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DFCC35F-4F5B-479E-B1CD-D041F30F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718533-D0DC-47D1-B1E1-A7A8CE0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80BF03-31CA-4BC7-B053-CB72E2A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FCE8A02-5528-465C-8FFD-6935B7FA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A5F6DF3-11FC-4C6E-9F2A-91698244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B90AA29-4DC7-480A-BB9E-DE4272AA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E0D8D94-C771-4422-88A0-F773931F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47CD9B-1A0C-44EF-A11E-E7799EECD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B2C9-8F35-440D-88DA-CD92A208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4A456D-C3F0-4F5F-AD95-5FA291A6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F5E31A-F65C-43B9-9183-9CB7AF36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4844D71-41EE-4596-BE65-32E2B5E3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0ACC003-0132-4D8C-840E-2EC6292B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BF74548-C0C7-4EB7-96B4-81BAAE4E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16525E7-896B-40D5-82EB-9872367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24E79D5-72B2-44D1-BFD6-4903FEA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FA5AE60-4A31-4D7D-A170-68C8F5FE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05FF39-8D87-4CB7-9B63-27EDB925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C48242-8C7D-49BB-ADC9-420963C8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064E7-29A8-41BE-A49F-5B48288F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05E5235-AD78-4F2A-A1ED-F26F34A0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DFB6A-07E1-4E3B-A98F-AA8A7C21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A56-EF98-4E65-A590-610B6602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B7130-9928-4A0D-909A-799E34AC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96286-3D74-468B-8B23-3B96481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E80CE-8B07-4B0A-B78E-DBA6A0D5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8D0A-7CEC-4C18-BBC3-DF64DE12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0338C-58EE-4EEE-B871-BE13867D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3528-F469-44FF-910A-559661C8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158B8-5CFE-49D8-9396-8813560C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1A9C4-827D-4B95-BD87-6959CA6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472F-D00E-404B-ACFC-1F880202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7D942-F13A-4600-8AF1-1B23E222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3F11-5893-42B5-BF69-9EF20EB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C96E-A45B-4AA9-ABEC-85B5EDB2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F8AF6-C275-45C9-AA88-21E26268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4F66-6DD4-410F-B101-39D6EDBA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124B0-8357-41D6-B9EC-AAF19D76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2D61B-3E84-480F-A935-EB483BCA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F3DE3-ACB7-410A-A0F9-A199CDDD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FEEF-9685-43FC-B679-FA5E30B8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A1B8-8A0F-4CAE-AB84-7D9C1DF5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3927D-55FD-4912-98F1-831D1AFC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746AD-55C9-49E5-885A-9B98EBA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3312-9EC8-4EE6-AD13-7721B033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B2217-395B-4DC4-A9CE-52AF90E3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83D58-2162-48F2-8088-C52FD2FF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0071A-6ACE-4B9B-8656-44EE7852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70FDB-7FB9-4563-84D4-66F94D37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51F7D-66D2-4895-8A52-BF4EBB3C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75B4-C375-436D-84B8-22B6D61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2E0CF-CF4D-4394-AD1D-22E7F46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4F574-A997-4C3A-87F7-62A2A47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DA476-9137-4C3E-B8AE-F7BB1E8B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1F489-AC6B-4223-BBBB-4A84F3A9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7695-503A-49A4-810B-890462E9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A3249-DB42-4392-8879-C62DAE14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0A631-A724-48C9-86EF-7365402C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01085-E4D9-4624-939B-B5FBF8DC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3031-512A-4C57-81FB-8DAF2987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FEF5A-BF31-46E3-859E-E5971934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56213-30CC-4F19-B71A-DB8897132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D34F1-B7C7-4B33-BFFC-01D8A9FD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9326-1BF0-46F6-BFE5-A3AE9066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96EC6-009B-49E9-BDED-DCBC39AC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3E6D-9FA7-4837-821D-0953CA4C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380-1B0F-4874-A250-B28AB5AD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D5D87-8F71-40EC-8AAE-E41127EE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E1671-1F48-4BF1-B642-72FA0664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BF119-8A87-42A5-AC2A-89748F5E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F7C8-484C-4499-ACD6-E0C73CF1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84AF-7FDF-4DBB-B5C6-855D896A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27553-1292-4994-8332-FEF442A5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4083-9FCF-4E28-8181-2FD1B05F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303AB-5495-41FF-9A95-F97E61B3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79DBF-92CC-4FB8-8314-B6D7E76A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9C76E-7B7E-462C-86EB-3F44FC15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7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CAD4-4C2D-4D39-80F6-F8BC0B6D0A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2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FDAC-312C-47EE-8113-80E5ABDA5C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F208-3E9E-4CA1-8E11-67DEED0739C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12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4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15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C09F-5A6F-4570-81BD-63B453D5F6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60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63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4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5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AFAA-4D76-462E-8957-49FAEDB8DF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1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1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6A0A-0D8F-423C-A32B-23CB3CC1D0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65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5114-D91D-446D-A92E-DB85DA6D82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E0DF-68F8-4615-A3C2-CAD46F9D8B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74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2628-2F82-4CFB-BC85-E96338781D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3A3F-5402-4F7E-96CA-58CB736CAE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35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7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838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DA9D-404E-423F-AA73-8B047303CD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7363-C9EF-4894-BCEA-0AFF72A046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883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886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8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5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5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D056-DE57-420D-A1D6-AB561423BB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36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6100-5321-44C7-A31A-2B088FE222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82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4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6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6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AD39-0777-4A21-980E-2B24066A59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4132-E142-44E5-A051-112F550A4B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7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1D10-60AE-429A-A7A6-5C09537288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dt" idx="7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 type="ftr" idx="7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1B85-5E0B-4935-9F83-132430824C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158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0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16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7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CC11-C0BB-4348-9E97-7078F3F207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206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8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209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11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 type="dt" idx="7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 type="ftr" idx="8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F031-B7FF-4A9D-8A9F-870DA9FC2E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5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25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3DB7-2F9F-4696-AD73-E31A59BC9C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0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692B-2DEF-4F3E-B9CC-C1E0E7CB4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A877-8274-4CE7-A84E-C8534315B3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5F6-4A56-4F99-9E69-9845168E2C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9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9D3-2EB8-4A2C-AD35-B2D1368F2B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F3A-6D42-4191-A161-0D8E3F749F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8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5D70-5ED5-4B6D-804F-361F0BD8A1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529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1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153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3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D333-F3FD-4015-99CF-727A1D98D5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7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8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02D6-258B-4279-96C1-4A439F9194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2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18DF-F55C-4919-96BD-46A4A5C239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95A1-3156-468D-B89F-ECFCA1AFE7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1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A36E-D344-4FA8-863C-3F26744B4D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D9D1-515B-4676-B80E-79F3590AA6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86B9-A883-4907-8D93-17CA49D6AB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3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0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80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FBC0-F747-443F-94CC-C8B90F0F08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9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27A8-8A41-469C-8EA4-3E5A07EE104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37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240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1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2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129A-F27B-493A-A052-75B20601C5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8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A4EA-FC16-4023-9459-30380F64CC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F77F-FE8F-4FC3-85D5-B07E319724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BE9A-BDE8-49FB-B9FA-63D18BD37F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7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58" name="WordArt 30"/>
          <p:cNvSpPr txBox="1"/>
          <p:nvPr/>
        </p:nvSpPr>
        <p:spPr>
          <a:xfrm>
            <a:off x="1571760" y="1714680"/>
            <a:ext cx="5486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9" name="Rectangle 4"/>
          <p:cNvSpPr/>
          <p:nvPr/>
        </p:nvSpPr>
        <p:spPr>
          <a:xfrm>
            <a:off x="857160" y="3071880"/>
            <a:ext cx="742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"/>
          <p:cNvSpPr txBox="1"/>
          <p:nvPr/>
        </p:nvSpPr>
        <p:spPr>
          <a:xfrm>
            <a:off x="71280" y="260280"/>
            <a:ext cx="91440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tochondr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Monoamine oxidase enzyme (MAO)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35000" indent="-577800">
              <a:lnSpc>
                <a:spcPct val="12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 of catecholamines as adrena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e.g. Alcohol dehydrogenase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lcoho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dehyd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anol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ldehyde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ic acid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2OH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"/>
          <p:cNvSpPr txBox="1"/>
          <p:nvPr/>
        </p:nvSpPr>
        <p:spPr>
          <a:xfrm>
            <a:off x="142560" y="142920"/>
            <a:ext cx="9001080" cy="61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enzyme system = Cytochrome P-450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ore than 20 families CYP1, CYP2,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families are identified as A, B, and C etc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huma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3 isoenzyme families are important CYP1, CYP2 and CYP3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60240" indent="-6602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"/>
          <p:cNvSpPr txBox="1"/>
          <p:nvPr/>
        </p:nvSpPr>
        <p:spPr>
          <a:xfrm>
            <a:off x="142920" y="214200"/>
            <a:ext cx="878688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hases of hepatic metabolic re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 reactions include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id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lysi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reactions includ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9" name="Picture 4" descr=""/>
          <p:cNvPicPr/>
          <p:nvPr/>
        </p:nvPicPr>
        <p:blipFill>
          <a:blip r:embed="rId1"/>
          <a:stretch/>
        </p:blipFill>
        <p:spPr>
          <a:xfrm>
            <a:off x="4643280" y="1071720"/>
            <a:ext cx="4286520" cy="5643360"/>
          </a:xfrm>
          <a:prstGeom prst="rect">
            <a:avLst/>
          </a:prstGeom>
          <a:ln w="0">
            <a:noFill/>
          </a:ln>
        </p:spPr>
      </p:pic>
      <p:sp>
        <p:nvSpPr>
          <p:cNvPr id="1880" name="Rectangle 2"/>
          <p:cNvSpPr/>
          <p:nvPr/>
        </p:nvSpPr>
        <p:spPr>
          <a:xfrm>
            <a:off x="302040" y="214200"/>
            <a:ext cx="72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hepatic metabolic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 Box 5"/>
          <p:cNvSpPr/>
          <p:nvPr/>
        </p:nvSpPr>
        <p:spPr>
          <a:xfrm>
            <a:off x="380880" y="1341360"/>
            <a:ext cx="4046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two) Phases of Biotrans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ase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te may be active or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ase I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bolites are in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ddition of oxygen or removal of hydroge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most important drug metabolizing re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microso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3" name="AutoShape 2" descr=""/>
          <p:cNvPicPr/>
          <p:nvPr/>
        </p:nvPicPr>
        <p:blipFill>
          <a:blip r:embed="rId1"/>
          <a:stretch/>
        </p:blipFill>
        <p:spPr>
          <a:xfrm>
            <a:off x="1116000" y="66600"/>
            <a:ext cx="7358040" cy="113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"/>
          <p:cNvSpPr txBox="1"/>
          <p:nvPr/>
        </p:nvSpPr>
        <p:spPr>
          <a:xfrm>
            <a:off x="178920" y="907560"/>
            <a:ext cx="8750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microsom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cytochrome P450 enzymes, NADPH and oxyge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n microsomal oxida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cytosol  or mitochondr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xidases and dehydrogen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28320" indent="-230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5" name="AutoShape 2" descr=""/>
          <p:cNvPicPr/>
          <p:nvPr/>
        </p:nvPicPr>
        <p:blipFill>
          <a:blip r:embed="rId1"/>
          <a:stretch/>
        </p:blipFill>
        <p:spPr>
          <a:xfrm>
            <a:off x="1116000" y="66600"/>
            <a:ext cx="7358040" cy="113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ehydrogen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dehydrogenase &amp; aldehyde dehydrogen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xidase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noamine oxidase (MAO):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catecholamines as adrenaline and seroton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clobem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MAO inhibitor and used as antidepressant since it increases serotonin in brain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7" name="AutoShape 2" descr=""/>
          <p:cNvPicPr/>
          <p:nvPr/>
        </p:nvPicPr>
        <p:blipFill>
          <a:blip r:embed="rId1"/>
          <a:stretch/>
        </p:blipFill>
        <p:spPr>
          <a:xfrm>
            <a:off x="1536840" y="-66600"/>
            <a:ext cx="5930640" cy="10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4920" y="836280"/>
            <a:ext cx="896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Xanthine oxidas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xanth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xid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anth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ric acid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c acid accum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OU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6504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purino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inhibitor of xanthine oxidase and used in treatment of gou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89" name="AutoShape 2" descr=""/>
          <p:cNvPicPr/>
          <p:nvPr/>
        </p:nvPicPr>
        <p:blipFill>
          <a:blip r:embed="rId1"/>
          <a:stretch/>
        </p:blipFill>
        <p:spPr>
          <a:xfrm>
            <a:off x="1536840" y="-66600"/>
            <a:ext cx="5930640" cy="10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0" name="Title 2" descr=""/>
          <p:cNvPicPr/>
          <p:nvPr/>
        </p:nvPicPr>
        <p:blipFill>
          <a:blip r:embed="rId1"/>
          <a:stretch/>
        </p:blipFill>
        <p:spPr>
          <a:xfrm>
            <a:off x="426960" y="-6480"/>
            <a:ext cx="8229600" cy="1133640"/>
          </a:xfrm>
          <a:prstGeom prst="rect">
            <a:avLst/>
          </a:prstGeom>
          <a:ln w="0">
            <a:noFill/>
          </a:ln>
        </p:spPr>
      </p:pic>
      <p:pic>
        <p:nvPicPr>
          <p:cNvPr id="1891" name="Content Placeholder 3" descr=""/>
          <p:cNvPicPr/>
          <p:nvPr/>
        </p:nvPicPr>
        <p:blipFill>
          <a:blip r:embed="rId2"/>
          <a:srcRect l="2803" t="0" r="0" b="0"/>
          <a:stretch/>
        </p:blipFill>
        <p:spPr>
          <a:xfrm>
            <a:off x="182520" y="928800"/>
            <a:ext cx="8890200" cy="5857920"/>
          </a:xfrm>
          <a:prstGeom prst="rect">
            <a:avLst/>
          </a:prstGeom>
          <a:ln w="0">
            <a:noFill/>
          </a:ln>
        </p:spPr>
      </p:pic>
      <p:sp>
        <p:nvSpPr>
          <p:cNvPr id="1892" name="Frame 11"/>
          <p:cNvSpPr/>
          <p:nvPr/>
        </p:nvSpPr>
        <p:spPr>
          <a:xfrm>
            <a:off x="6588000" y="1052640"/>
            <a:ext cx="1266840" cy="785520"/>
          </a:xfrm>
          <a:custGeom>
            <a:avLst/>
            <a:gdLst/>
            <a:ahLst/>
            <a:rect l="l" t="t" r="r" b="b"/>
            <a:pathLst>
              <a:path w="1266825" h="785812">
                <a:moveTo>
                  <a:pt x="0" y="0"/>
                </a:moveTo>
                <a:lnTo>
                  <a:pt x="1266825" y="0"/>
                </a:lnTo>
                <a:lnTo>
                  <a:pt x="1266825" y="785812"/>
                </a:lnTo>
                <a:lnTo>
                  <a:pt x="0" y="785812"/>
                </a:lnTo>
                <a:lnTo>
                  <a:pt x="0" y="0"/>
                </a:lnTo>
                <a:close/>
                <a:moveTo>
                  <a:pt x="98227" y="98227"/>
                </a:moveTo>
                <a:lnTo>
                  <a:pt x="98227" y="687586"/>
                </a:lnTo>
                <a:lnTo>
                  <a:pt x="1168599" y="687586"/>
                </a:lnTo>
                <a:lnTo>
                  <a:pt x="1168599" y="98227"/>
                </a:lnTo>
                <a:lnTo>
                  <a:pt x="98227" y="98227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Frame 5"/>
          <p:cNvSpPr/>
          <p:nvPr/>
        </p:nvSpPr>
        <p:spPr>
          <a:xfrm>
            <a:off x="2268360" y="981000"/>
            <a:ext cx="1656000" cy="863640"/>
          </a:xfrm>
          <a:custGeom>
            <a:avLst/>
            <a:gdLst/>
            <a:ahLst/>
            <a:rect l="l" t="t" r="r" b="b"/>
            <a:pathLst>
              <a:path w="1655762" h="863600">
                <a:moveTo>
                  <a:pt x="0" y="0"/>
                </a:moveTo>
                <a:lnTo>
                  <a:pt x="1655762" y="0"/>
                </a:lnTo>
                <a:lnTo>
                  <a:pt x="1655762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2" y="755650"/>
                </a:lnTo>
                <a:lnTo>
                  <a:pt x="1547812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Frame 6"/>
          <p:cNvSpPr/>
          <p:nvPr/>
        </p:nvSpPr>
        <p:spPr>
          <a:xfrm>
            <a:off x="6286680" y="4143240"/>
            <a:ext cx="1655640" cy="863640"/>
          </a:xfrm>
          <a:custGeom>
            <a:avLst/>
            <a:gdLst/>
            <a:ahLst/>
            <a:rect l="l" t="t" r="r" b="b"/>
            <a:pathLst>
              <a:path w="1655763" h="863600">
                <a:moveTo>
                  <a:pt x="0" y="0"/>
                </a:moveTo>
                <a:lnTo>
                  <a:pt x="1655763" y="0"/>
                </a:lnTo>
                <a:lnTo>
                  <a:pt x="1655763" y="863600"/>
                </a:lnTo>
                <a:lnTo>
                  <a:pt x="0" y="863600"/>
                </a:lnTo>
                <a:lnTo>
                  <a:pt x="0" y="0"/>
                </a:lnTo>
                <a:close/>
                <a:moveTo>
                  <a:pt x="107950" y="107950"/>
                </a:moveTo>
                <a:lnTo>
                  <a:pt x="107950" y="755650"/>
                </a:lnTo>
                <a:lnTo>
                  <a:pt x="1547813" y="755650"/>
                </a:lnTo>
                <a:lnTo>
                  <a:pt x="1547813" y="107950"/>
                </a:lnTo>
                <a:lnTo>
                  <a:pt x="107950" y="10795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uction reaction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al of oxygen or addition of hydroge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microsomal or non microsomal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odop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6" name="Text Box 4"/>
          <p:cNvSpPr/>
          <p:nvPr/>
        </p:nvSpPr>
        <p:spPr>
          <a:xfrm>
            <a:off x="642960" y="4643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119"/>
                </a:solidFill>
                <a:latin typeface="Arial Narrow"/>
              </a:rPr>
              <a:t>Levodopa (DOPA)                                             Dop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1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3000240" cy="976320"/>
          </a:xfrm>
          <a:prstGeom prst="rect">
            <a:avLst/>
          </a:prstGeom>
          <a:ln w="0">
            <a:noFill/>
          </a:ln>
        </p:spPr>
      </p:pic>
      <p:sp>
        <p:nvSpPr>
          <p:cNvPr id="1898" name="Line 6"/>
          <p:cNvSpPr/>
          <p:nvPr/>
        </p:nvSpPr>
        <p:spPr>
          <a:xfrm>
            <a:off x="3429000" y="47149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9" name="Picture 14" descr=""/>
          <p:cNvPicPr/>
          <p:nvPr/>
        </p:nvPicPr>
        <p:blipFill>
          <a:blip r:embed="rId2"/>
          <a:stretch/>
        </p:blipFill>
        <p:spPr>
          <a:xfrm>
            <a:off x="6154560" y="3213000"/>
            <a:ext cx="2989440" cy="976320"/>
          </a:xfrm>
          <a:prstGeom prst="rect">
            <a:avLst/>
          </a:prstGeom>
          <a:ln w="0">
            <a:noFill/>
          </a:ln>
        </p:spPr>
      </p:pic>
      <p:sp>
        <p:nvSpPr>
          <p:cNvPr id="1900" name="Text Box 5"/>
          <p:cNvSpPr/>
          <p:nvPr/>
        </p:nvSpPr>
        <p:spPr>
          <a:xfrm>
            <a:off x="3429000" y="41432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 Narrow"/>
              </a:rPr>
              <a:t>DOPA- decarboxy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"/>
          <p:cNvSpPr txBox="1"/>
          <p:nvPr/>
        </p:nvSpPr>
        <p:spPr>
          <a:xfrm>
            <a:off x="214200" y="1341360"/>
            <a:ext cx="8715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, students should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importance of biotransform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different sites for drug metabolism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the major phase I and phase II metabolic reaction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odulation of liver microsomal enzymes by inducers and inhibito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wo drugs that are known as enzyme inducers and inhibito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impact of first pass metabolism on drug bioavailability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1" name="WordArt 3"/>
          <p:cNvSpPr txBox="1"/>
          <p:nvPr/>
        </p:nvSpPr>
        <p:spPr>
          <a:xfrm>
            <a:off x="2357280" y="404640"/>
            <a:ext cx="441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ETABOLISM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</a:t>
            </a:r>
            <a:r>
              <a:rPr b="1" i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non microsoma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by addition of water molecules in presence of enzymes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sterases &amp; amidases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"/>
          <p:cNvSpPr txBox="1"/>
          <p:nvPr/>
        </p:nvSpPr>
        <p:spPr>
          <a:xfrm>
            <a:off x="71280" y="214200"/>
            <a:ext cx="9001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drolysis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etylchol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eurotransmitte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steras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etate + cholin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des a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idoca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d as local anesthetic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3" name="Text Box 5"/>
          <p:cNvSpPr/>
          <p:nvPr/>
        </p:nvSpPr>
        <p:spPr>
          <a:xfrm>
            <a:off x="500040" y="1609560"/>
            <a:ext cx="800100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ter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Acid + Alco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Text Box 5"/>
          <p:cNvSpPr/>
          <p:nvPr/>
        </p:nvSpPr>
        <p:spPr>
          <a:xfrm>
            <a:off x="714240" y="4786200"/>
            <a:ext cx="6986880" cy="5101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mide 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0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Acid + 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"/>
          <p:cNvSpPr txBox="1"/>
          <p:nvPr/>
        </p:nvSpPr>
        <p:spPr>
          <a:xfrm>
            <a:off x="70920" y="928800"/>
            <a:ext cx="8929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ation of pro-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levodopa to dopam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ation of drug (termination of act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dru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tive metabolit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of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ontoxic drug </a:t>
            </a: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en-US" sz="3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metabolite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cetamo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epatotoxic metabolite (hepatic necrosis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might undergo phase I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06" name="AutoShape 2" descr=""/>
          <p:cNvPicPr/>
          <p:nvPr/>
        </p:nvPicPr>
        <p:blipFill>
          <a:blip r:embed="rId1"/>
          <a:stretch/>
        </p:blipFill>
        <p:spPr>
          <a:xfrm>
            <a:off x="-6480" y="66600"/>
            <a:ext cx="8437680" cy="1030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"/>
          <p:cNvSpPr txBox="1"/>
          <p:nvPr/>
        </p:nvSpPr>
        <p:spPr>
          <a:xfrm>
            <a:off x="71280" y="1483920"/>
            <a:ext cx="90727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gation of metabolite coming from (phase I) with endogenous substance as methyl group, acetyl group, sulphate, amino acid or glucouronic acid to produce conjugate that i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water solu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asily excreted in urine or 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8" name="Text Box 4"/>
          <p:cNvSpPr/>
          <p:nvPr/>
        </p:nvSpPr>
        <p:spPr>
          <a:xfrm>
            <a:off x="755640" y="4046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 Conjugation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5"/>
          <p:cNvSpPr/>
          <p:nvPr/>
        </p:nvSpPr>
        <p:spPr>
          <a:xfrm>
            <a:off x="285840" y="71280"/>
            <a:ext cx="792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conjugation reactions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0" name=""/>
          <p:cNvGraphicFramePr/>
          <p:nvPr/>
        </p:nvGraphicFramePr>
        <p:xfrm>
          <a:off x="142920" y="857160"/>
          <a:ext cx="8929800" cy="5715000"/>
        </p:xfrm>
        <a:graphic>
          <a:graphicData uri="http://schemas.openxmlformats.org/drawingml/2006/table">
            <a:tbl>
              <a:tblPr/>
              <a:tblGrid>
                <a:gridCol w="4857840"/>
                <a:gridCol w="4071960"/>
              </a:tblGrid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Conjugation 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 requi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ucouronide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Glucouron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etylation (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O </a:t>
                      </a:r>
                      <a:r>
                        <a:rPr b="1" lang="en-US" sz="3200" spc="-1" strike="noStrike" baseline="6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N-acet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lphation  (SO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 baseline="64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 _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Sulfo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7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hylation ( CH</a:t>
                      </a:r>
                      <a:r>
                        <a:rPr b="1" lang="en-US" sz="3200" spc="-1" strike="noStrike" baseline="-32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cc"/>
                          </a:solidFill>
                          <a:uFillTx/>
                          <a:latin typeface="Times New Roman"/>
                          <a:ea typeface="Times New Roman"/>
                        </a:rPr>
                        <a:t>methyl  transfer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8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 acids conjuga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lycine conjug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"/>
          <p:cNvSpPr txBox="1"/>
          <p:nvPr/>
        </p:nvSpPr>
        <p:spPr>
          <a:xfrm>
            <a:off x="71280" y="1143000"/>
            <a:ext cx="900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non microsom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cep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uronide conjugation is a microsomal process (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most comm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y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lucouronyl transf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 neonates may result into toxicity with chloramphenicol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Gray baby syndrom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2" name="AutoShape 2" descr=""/>
          <p:cNvPicPr/>
          <p:nvPr/>
        </p:nvPicPr>
        <p:blipFill>
          <a:blip r:embed="rId1"/>
          <a:stretch/>
        </p:blipFill>
        <p:spPr>
          <a:xfrm>
            <a:off x="36360" y="122400"/>
            <a:ext cx="6046920" cy="1139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pharmacologically inactiv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ater soluble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excreted in urine.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4" name="AutoShape 2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7888320" cy="1049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neonates &amp; elderl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eases: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 in liver diseases</a:t>
            </a:r>
            <a:r>
              <a:rPr b="1" lang="en-US" sz="28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gree of Protein Binding: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 rate 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 use of drugs: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Induction &amp; inhibi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nutrition </a:t>
            </a:r>
            <a:r>
              <a:rPr b="0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0" lang="en-US" sz="2800" spc="-1" strike="noStrike">
                <a:solidFill>
                  <a:srgbClr val="0000cc"/>
                </a:solidFill>
                <a:latin typeface="Lucida Sans Unicode"/>
              </a:rPr>
              <a:t> rate </a:t>
            </a:r>
            <a:r>
              <a:rPr b="1" lang="en-US" sz="2800" spc="-1" strike="noStrike">
                <a:solidFill>
                  <a:srgbClr val="0000cc"/>
                </a:solidFill>
                <a:latin typeface="Lucida Sans Unicode"/>
              </a:rPr>
              <a:t>of metabo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enetic polymorph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6" name="Title 2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40096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"/>
          <p:cNvSpPr txBox="1"/>
          <p:nvPr/>
        </p:nvSpPr>
        <p:spPr>
          <a:xfrm>
            <a:off x="71280" y="1285920"/>
            <a:ext cx="9001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th-TH" sz="2800" spc="-1" strike="noStrike">
                <a:solidFill>
                  <a:srgbClr val="000000"/>
                </a:solidFill>
                <a:latin typeface="Lucida Sans Unicode"/>
                <a:ea typeface="Cordia New"/>
              </a:rPr>
              <a:t>enetic polymorphis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soniazid (Anti-TB), etc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Slow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eripheral neuropath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Lucida Sans Unicode"/>
              </a:rPr>
              <a:t>Rapid acetylator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henotyp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hepatiti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918" name="Title 2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8400960" cy="1152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 txBox="1"/>
          <p:nvPr/>
        </p:nvSpPr>
        <p:spPr>
          <a:xfrm>
            <a:off x="142560" y="142920"/>
            <a:ext cx="89298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Enzyme Induction &amp; inhibitio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ducer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that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ahoma"/>
              </a:rPr>
              <a:t>increase activities of liver microsomal enzym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&amp; increase the metabolism of drug itself and other drugs taken with the inducer at the same tim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ahoma"/>
              </a:rPr>
              <a:t>Liver microsomal enzymes inhibitors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ahoma"/>
              </a:rPr>
              <a:t>drugs that decrease activit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ahoma"/>
              </a:rPr>
              <a:t>of liver microsomal enzymes &amp; decrease the metabolism of the drug itself and other drug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 txBox="1"/>
          <p:nvPr/>
        </p:nvSpPr>
        <p:spPr>
          <a:xfrm>
            <a:off x="250920" y="1125360"/>
            <a:ext cx="84470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Lucida Sans Unicode"/>
              </a:rPr>
              <a:t>Defin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hemical reactions which occur in the body to change drugs from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nonpolar lipid soluble forms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to </a:t>
            </a:r>
            <a:r>
              <a:rPr b="1" lang="en-US" sz="2700" spc="-1" strike="noStrike" u="sng">
                <a:solidFill>
                  <a:srgbClr val="0000cc"/>
                </a:solidFill>
                <a:uFillTx/>
                <a:latin typeface="Lucida Sans Unicode"/>
              </a:rPr>
              <a:t>polar water soluble form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 are easily excreted by the kidne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3" name="AutoShape 2" descr=""/>
          <p:cNvPicPr/>
          <p:nvPr/>
        </p:nvPicPr>
        <p:blipFill>
          <a:blip r:embed="rId1"/>
          <a:stretch/>
        </p:blipFill>
        <p:spPr>
          <a:xfrm>
            <a:off x="689040" y="146160"/>
            <a:ext cx="8345520" cy="104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3"/>
          <p:cNvSpPr/>
          <p:nvPr/>
        </p:nvSpPr>
        <p:spPr>
          <a:xfrm>
            <a:off x="71280" y="214200"/>
            <a:ext cx="43578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du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garette smo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obarbiton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hypn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enyto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epilep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fampi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 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3"/>
          <p:cNvSpPr/>
          <p:nvPr/>
        </p:nvSpPr>
        <p:spPr>
          <a:xfrm>
            <a:off x="4429080" y="214200"/>
            <a:ext cx="4653000" cy="6429600"/>
          </a:xfrm>
          <a:prstGeom prst="rect">
            <a:avLst/>
          </a:prstGeom>
          <a:gradFill rotWithShape="0">
            <a:gsLst>
              <a:gs pos="0">
                <a:srgbClr val="95d4ee"/>
              </a:gs>
              <a:gs pos="100000">
                <a:srgbClr val="d6f3ff"/>
              </a:gs>
            </a:gsLst>
            <a:lin ang="16200000"/>
          </a:gradFill>
          <a:ln w="9360">
            <a:solidFill>
              <a:srgbClr val="2da2bf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nzyme inhib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metidine (anti-ul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ythromycin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biot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oconazole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ntifung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tabolism  and excretion of  the inducer drug itself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tion of the inducer drug itself &amp;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may occu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crease in the pharmacological action of the drug by repeated administration 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3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 txBox="1"/>
          <p:nvPr/>
        </p:nvSpPr>
        <p:spPr>
          <a:xfrm>
            <a:off x="70920" y="1214280"/>
            <a:ext cx="89298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may occur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in action of one drug by administration of another dru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oral contraceptives &amp; phenyto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ducer).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ff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ure of oral contraceptive may lead to pregnancy if combined with phenyto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5" name="Text Box 5"/>
          <p:cNvSpPr/>
          <p:nvPr/>
        </p:nvSpPr>
        <p:spPr>
          <a:xfrm>
            <a:off x="214200" y="21420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duction may result 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"/>
          <p:cNvSpPr txBox="1"/>
          <p:nvPr/>
        </p:nvSpPr>
        <p:spPr>
          <a:xfrm>
            <a:off x="214200" y="214200"/>
            <a:ext cx="8715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zyme inhibition may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the metabolism  and excretion of  the inhibitor drug and 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ong the action of the inhibitor  drug &amp; co-administered drug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.g. warfarin &amp; erythromycin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hibitor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warfarin metabolism may lead to increase it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coagulant effect (bleeding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"/>
          <p:cNvSpPr txBox="1"/>
          <p:nvPr/>
        </p:nvSpPr>
        <p:spPr>
          <a:xfrm>
            <a:off x="250920" y="1282680"/>
            <a:ext cx="86868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activation or termination of drug ac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most drugs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toxificatio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otransformation is required for protection of body from toxic metaboli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Activation of prodrug </a:t>
            </a:r>
            <a:r>
              <a:rPr b="1" lang="en-US" sz="2700" spc="-1" strike="noStrike">
                <a:solidFill>
                  <a:srgbClr val="0000cc"/>
                </a:solidFill>
                <a:latin typeface="Lucida Sans Unicode"/>
              </a:rPr>
              <a:t>(convert inactive form of drug to active form) e.g.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levodopa - carbidopa, prednisone – prednisolon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865" name="Title 2" descr=""/>
          <p:cNvPicPr/>
          <p:nvPr/>
        </p:nvPicPr>
        <p:blipFill>
          <a:blip r:embed="rId1"/>
          <a:stretch/>
        </p:blipFill>
        <p:spPr>
          <a:xfrm>
            <a:off x="457200" y="176040"/>
            <a:ext cx="8229600" cy="115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"/>
          <p:cNvSpPr txBox="1"/>
          <p:nvPr/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gan sites of drug metabolis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iver </a:t>
            </a: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(the major sit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Lu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Lucida Sans Unicode"/>
              </a:rPr>
              <a:t>Intestinal Mucosa and Lume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Mucos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no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ine 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xidase (</a:t>
            </a:r>
            <a:r>
              <a:rPr b="0" lang="en-US" sz="3200" spc="-1" strike="noStrike">
                <a:solidFill>
                  <a:srgbClr val="0000cc"/>
                </a:solidFill>
                <a:latin typeface="Lucida Sans Unicode"/>
              </a:rPr>
              <a:t>MAO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Gut lumen (bacterial flor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Glucouronidas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"/>
          <p:cNvSpPr txBox="1"/>
          <p:nvPr/>
        </p:nvSpPr>
        <p:spPr>
          <a:xfrm>
            <a:off x="179280" y="260280"/>
            <a:ext cx="8507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Lucida Sans Unicode"/>
              </a:rPr>
              <a:t>Plasm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627120" indent="-627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154160" indent="-228600"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1869" name=""/>
          <p:cNvGraphicFramePr/>
          <p:nvPr/>
        </p:nvGraphicFramePr>
        <p:xfrm>
          <a:off x="71280" y="1071720"/>
          <a:ext cx="9001440" cy="5179680"/>
        </p:xfrm>
        <a:graphic>
          <a:graphicData uri="http://schemas.openxmlformats.org/drawingml/2006/table">
            <a:tbl>
              <a:tblPr/>
              <a:tblGrid>
                <a:gridCol w="5869080"/>
                <a:gridCol w="3132360"/>
              </a:tblGrid>
              <a:tr h="898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Enzymes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substra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C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atecho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o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-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m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ethyl </a:t>
                      </a:r>
                      <a:r>
                        <a:rPr b="1" lang="en-US" sz="3000" spc="-1" strike="noStrike">
                          <a:solidFill>
                            <a:srgbClr val="0000cc"/>
                          </a:solidFill>
                          <a:latin typeface="Lucida Sans Unicode"/>
                          <a:ea typeface="Arial"/>
                        </a:rPr>
                        <a:t>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ransferase  </a:t>
                      </a: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Lucida Sans Unicode"/>
                          <a:ea typeface="Arial"/>
                        </a:rPr>
                        <a:t>(COM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atecholamines (adrenal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ste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554120">
                <a:tc>
                  <a:txBody>
                    <a:bodyPr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mides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Lucida Sans Unicode"/>
                        </a:rPr>
                        <a:t>Local anesthetic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TextBox 3"/>
          <p:cNvSpPr/>
          <p:nvPr/>
        </p:nvSpPr>
        <p:spPr>
          <a:xfrm>
            <a:off x="611280" y="1979640"/>
            <a:ext cx="1008000" cy="3697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1" name="Title 2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478720" cy="1249200"/>
          </a:xfrm>
          <a:prstGeom prst="rect">
            <a:avLst/>
          </a:prstGeom>
          <a:ln w="0">
            <a:noFill/>
          </a:ln>
        </p:spPr>
      </p:pic>
      <p:pic>
        <p:nvPicPr>
          <p:cNvPr id="1872" name="Picture 1027" descr=""/>
          <p:cNvPicPr/>
          <p:nvPr/>
        </p:nvPicPr>
        <p:blipFill>
          <a:blip r:embed="rId2"/>
          <a:srcRect l="7920" t="3701" r="2972" b="3637"/>
          <a:stretch/>
        </p:blipFill>
        <p:spPr>
          <a:xfrm>
            <a:off x="222120" y="1844640"/>
            <a:ext cx="8742600" cy="2941560"/>
          </a:xfrm>
          <a:prstGeom prst="rect">
            <a:avLst/>
          </a:prstGeom>
          <a:ln w="0">
            <a:noFill/>
          </a:ln>
        </p:spPr>
      </p:pic>
      <p:sp>
        <p:nvSpPr>
          <p:cNvPr id="1873" name="Flowchart: Process 5"/>
          <p:cNvSpPr/>
          <p:nvPr/>
        </p:nvSpPr>
        <p:spPr>
          <a:xfrm>
            <a:off x="324000" y="1844640"/>
            <a:ext cx="143964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Flowchart: Process 6"/>
          <p:cNvSpPr/>
          <p:nvPr/>
        </p:nvSpPr>
        <p:spPr>
          <a:xfrm>
            <a:off x="5435640" y="1844640"/>
            <a:ext cx="1440000" cy="576360"/>
          </a:xfrm>
          <a:prstGeom prst="flowChartProcess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"/>
          <p:cNvSpPr txBox="1"/>
          <p:nvPr/>
        </p:nvSpPr>
        <p:spPr>
          <a:xfrm>
            <a:off x="70920" y="259920"/>
            <a:ext cx="89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llular sites of drug metaboli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toplas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ochondri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711360" indent="-71136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5-10-06T06:52:15Z</dcterms:modified>
  <cp:revision>274</cp:revision>
  <dc:subject/>
  <dc:title>GENERAL PHARMACOLOGY</dc:title>
</cp:coreProperties>
</file>