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dt" idx="12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 type="ftr" idx="12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 type="sldNum" idx="12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810-FB97-46DC-B1EF-9542637087B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F2F-7E68-411F-B8FD-D58C474F12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B2D7-B0C3-45A4-80AF-89FB61C0D43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4CAF-C9CD-4A3E-9D5B-A81274D760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F81-1D99-4AF0-B205-A8637173EC6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C601-ACA5-41B5-87C4-DB50AD198E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2E1A-E079-4A2D-AEE0-A1ECF5F692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1E03-A238-4C94-A81B-6BFF3ABC4B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7C5F-0A7B-4655-9C89-A95935CF7B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513D-8303-490B-8C15-6F727B73A0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2D7-00FF-4029-956B-BE407191F6B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89E-326E-44DE-A01B-17944C8B73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097-623A-4C47-9F43-127DD29C8B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8758-BCBE-4ADD-A0A3-9CFA6337BD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5CD2-196C-433F-9E7B-DE2F434BD6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9A9-5869-4A3D-BDB3-BC0DB6B54E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049-3228-4043-BB85-282E135B8A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98E4-29AC-4B8E-A0B1-BC1D5E0332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82E-DBD7-46AE-9428-B89D050044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24B-A51E-4AE6-B81D-E4C06906B0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D1AD-2A87-4B95-886C-66FE29E1EB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2F4E-250F-477D-893A-3080AEEA91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7E7D-E569-456F-A1B1-5127DB93ED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9CC-B058-4A91-8721-55A984A3F4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41C-1BB5-41DE-B306-8BD98973F4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743-6650-4A0D-9F9B-0DDFBBD846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9EC-EA76-49AA-B440-8AD9CE08D0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C91-616B-47BE-BF76-2428FA1D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83A-174A-4E4F-A9F5-D69021C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75E4-95A9-4AD7-8F53-46B9A9DB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93F79-E2E5-4960-A0AF-74F94C5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CB968-3EEB-4C4C-82C8-D9BD3FB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513C2-6262-4333-97ED-DF9D179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39E1B-5442-4A93-849A-DFC993BA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EF432-7C1C-4214-BFA2-E399691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9CF7E-B6F2-42ED-A3D3-C968550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C4415-84F8-49C3-8280-FA7EE48C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E962D-DABB-4A3E-90ED-2371FFBB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34B4F-C6A9-4F32-B7B9-B12B6736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C76-31C6-40A4-B148-7E14D1A9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C1C3C-B1BD-4B0C-9DC2-142D62B0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6077E-958F-4E6F-9D0A-A12D87C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25DA-D673-4668-9C7F-AF5E0B89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A0386-5819-472B-A443-849F3F6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E5425-49FF-4DD4-AE24-0E62355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11962-5AB4-41FC-8B49-A2A7433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6E37C-F808-4D50-801C-7F987A7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B08F6-69AA-4DAF-9F19-B49AC1C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EE631-99C6-42DC-B96F-F0D0B801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6167F-ACB6-456D-AC91-9F523191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ACD-5EF7-4282-BB84-188FD3D8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F53DD-92EB-404F-89AE-04FA8DBE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9B2C9-E59F-483A-80C2-7020D5C1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DBBB-E80B-45D0-83A6-431CBEB0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F27AD-FE30-40F0-BD22-DFFF7FA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FF563-0060-4B87-ADC3-3434A2DA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2B27-A074-4865-8E89-DB86DC8A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4279-013A-4366-B2E4-FD7FE6BF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A0960-90A0-47BD-9F49-1FCABBC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FA0D6-A7A5-499C-B56F-39ACDB8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398EE-8739-4521-A4C9-3538D8A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3EF5-4414-4FDD-9BCE-411BD49F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D87C5-D1BF-4C0D-9755-D2E3B6B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2548D-2197-4018-99FE-551525A3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1B622-1B08-44C8-8754-5285A7D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37869-3B03-4539-8D46-147F7675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B83C6-2D78-48F0-A17C-D3792AE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A3A6A-C8D0-412E-B963-288EDFED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ED403-9D95-4E33-8AE2-1AF90B7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B2CBA-CD4B-4F43-8A09-07564A38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F3AEE-ED6B-4176-84A4-3F631F8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77685-0587-4C60-8410-C9064CC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A53B-3E75-440E-B8D6-3CF0BD54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056C3-7242-436D-AAF6-5562746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4023-0744-47D2-920B-02C399B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63083-8FD3-4E4A-9884-8D0DE51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D2A74-BC3B-49CA-827A-A8C45FB7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6FEE-D623-4890-B39F-F149D0A1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7C7F0-9691-4E61-8C90-DFF447A4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D4E6C-B790-4E02-B045-B215151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AF934-003F-496A-8973-BDB844B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7A8A9-AD58-4E81-9DCB-8F42415B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015EA-EDB9-48F1-9B0E-E8A6221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327D-3525-495D-B7A5-C5D9FE0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3CEA6-58D8-457F-8266-A9CB119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7EEA2-ED50-4F11-A4B2-9B49EA8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6D62F-B3E3-4ABA-9237-E3E1ACE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E5361-73BA-4F12-8BA5-21F2947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2113C-56C8-494D-A698-A49D208E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BEECE-770C-447D-8E1C-1EFDBBC5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1275F-529A-4C51-8C61-EC8D7A24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BEB7C-0DDB-4F2C-A0E4-FF344F01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D9C16-BE91-47B4-A0EF-C39D4D45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FF282-CB5F-47F7-B02C-67A56DA1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C74B-F480-4061-9C1B-4FDCBA89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6C078-3E42-4FF1-BC32-37B41E5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CFE7E-B3F6-4263-90CE-C245FC9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ADDB0-4D28-42AE-A680-1B69E95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5CAC6-A86E-4CA8-8341-94479EC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41CA1-8209-487F-9FB5-15BD77F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038D8-68C2-440B-9633-4C6DFF6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D1188-8DBE-48F6-8F3E-23869E2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52A0D-C5FD-4685-A9EA-4BB47D01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37055-BA5C-455B-8383-160C2E5F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81B70-2241-431B-BC82-19FE7F2C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19A-E180-4F79-95E0-B617D44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0B74F-CEC0-4435-9CA8-2D5D24D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932DB-ADB4-4C69-8DF3-5E274508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82593-AAFC-4A3D-8616-9FD4820C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6EC37-6D7F-46BE-AC0D-9BD56EBD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6F23A-CB82-4697-A11C-EE438578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423C8-E9ED-429D-9073-A02CF32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6528F-CF48-43DE-A340-E4E4CAB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0B1EE-9C67-4C73-81D1-4BDE803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CF5D3-0C16-44E2-9D98-562F04EA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0F54B-3F6B-4AAB-917D-19A050A7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13B-B9D6-47A1-A532-E04B6F5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6FD84-160E-4711-8998-4596BBB4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03EA7-DAD4-4D3B-8153-22C6FB25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89A95-7313-44DA-AB44-4F4F716B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43853-1B1A-48AA-B88E-7DF89346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C0722-0C29-462A-9792-B89AC68A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2AE96-BCF1-4E54-9F37-F34B5DE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B0266-DD49-4633-8CFC-F4D2452F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8A2A6-D303-4819-8E53-E863F63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44815-A8B6-472B-A3B2-C5B4491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5E9F0-B0CE-447D-B35D-068F483A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CF2-80E2-4080-B501-6759A7D1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6C327-2B28-45B7-9D5C-14008BA2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307DC-918E-427F-8A8B-D39EDCCE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220B8-BC8F-459A-A9A0-FC1891B9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DA980-991F-4E46-B0A5-9369C97D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7B7557-5FE5-487E-8120-A39A3482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46264-D624-465C-8804-C35A6AF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BA0DD-6470-42DE-8CB6-21CA7032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82E14-047E-4548-A61A-D0B5FFA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961F1-532B-4258-99FD-33DEE33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AB489-0A50-4F0C-B6F4-7A852C40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F75-AFD4-4193-89EF-E35C5B3C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C72D-02AB-4034-9275-1E8C72D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04CF5-2374-4D57-9E0C-9CF3BAF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CDC53-45BE-42E1-9967-07D3D7B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CF6FA-E320-4CC8-AC8A-58CC6BBF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C1200-EA51-4655-83ED-B081A931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6B715-1295-4C8C-B073-8651AE0B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BFD59-A1DE-4A25-A5A6-2179031D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71014-388D-48B6-A064-CF2551A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E106F-EEE3-4A85-B5C3-DF2000DE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E985A-09CB-456B-A609-DEC7807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9CC85-43C8-4917-8D67-2DEC904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DC65-DE61-42C2-B50B-E636221D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F75EE-1817-44C0-9920-D19F8CD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4AED9-3B9B-4015-85B4-0E9A6E7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F6768-B7FC-4F68-BF3C-0A89B2D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D5CA5-581E-4219-8DD4-DC843EF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77837-DB2F-4BC7-8C13-B0BDE461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1820F-959A-4935-B629-22996060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C4297-ECBA-42EB-8C04-3BF66669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B36AF-E2AF-41AA-B2E2-00D77784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D6006-9994-44D0-8247-233D3C5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05B28-3FD3-4605-8D0F-B37B7DD6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5222-12B2-4C77-8F21-38EFF469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2AEDFE-BE63-442C-B73F-03EE2B4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AF469-28DB-49F6-B304-D5EEDDC5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A0F45-0CC9-48CF-BD56-91361A9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8C598-3BC1-4240-B437-488F1F17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273F6-37E5-4FB2-988D-30AF981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310B4-D1A2-4C8C-AB77-4DE45B09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E9470-76F5-4D30-A263-2604AB0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F1B0E5-F7D6-4002-8B9A-1AA54F3D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5ED6C-9DF6-4CCF-8811-51AC8A29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09CDE-8DC3-44E6-B33A-1C44ECB2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0308-C6A5-426E-9265-F0DEBE8B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8085A-789A-4D99-9799-E33A79E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B2B14-EB79-4F71-9F23-179D074C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27A76-763D-4F90-B3F6-032060D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06452-2D80-4377-A6CA-7D63358A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F3CD7-AE7F-4C45-90F9-D7B922F1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92E06-F41C-401B-8B06-B23FEC0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E8838-922A-46C8-B1D8-8BCE570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35677-D529-40D6-8CE9-76B3601F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716B5-8A4D-45D6-93D4-13784537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97165B-2F9B-47E8-9CD5-65F41B4E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468-35F5-49B0-B99E-8B7B0BAE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1E2CC-5620-4E24-9C79-87C7F044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6F3A6-29C2-47B1-9559-5AA8AB59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9AE96F-521A-47F7-BF29-7E5A139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E92B0-78DF-4A50-A73D-590181E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A6F41-A4C9-4E4C-887F-00AF242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5E4F2-75A7-4ED1-8950-37335C69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36067-57BB-4899-AD4A-BB440463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DE58C-1397-4843-BAD2-B1F3431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28C0B-2CB3-4FB0-9291-3FA9742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B450A-48C7-4A16-9A78-C7D2E4F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DFEB-C684-440C-929C-F7956353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74E37-91F4-4C71-BF18-9C70E2A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15F72-4CA2-45AD-8798-F2AD266C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B91CB-D684-45AB-92D0-7A59F71F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E5BA5-EA00-43DD-82EA-5169C85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36830-071C-4990-963B-7BEA3CB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F017AB-CC03-4C4E-A0AF-8B2B049C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FE269-AE1E-4079-B084-7EF3B8C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39C84D-CFB3-4DD5-A87B-3AF25FAC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752BA7-A0A2-45B8-8552-6B81BBA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144BF3-5FB3-4271-999D-D152C328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153F-A98F-4FEA-80F8-E5DED4C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7600CE-FA5D-43CB-A87B-E0F8587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B81698-D0B3-4F49-A444-C01A07FB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33ED6-76E9-4D0F-821E-9285980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F075ED-F8D6-467E-916D-71EC4434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8487F-2F63-44DC-99CE-AAA690CB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D0C03-21AA-4467-B64A-F65EE92F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C47CFF-C114-4733-AFA7-27C20D4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4108D-CB0D-4BBF-B9FF-B86CF55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41FFF-F0A8-4F26-ADCC-DE502315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944DE7-D783-4485-A9EE-AA553967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CDE8-C612-4171-BA23-F1FA0933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37919-D6CB-4ECB-A144-7CD1BE2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F05E89-6493-48EE-88EF-8302802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36AEBF-1436-4E5E-9247-E324E91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FB36AB-CBFF-4E18-B5CA-D04CFAC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18C1F2-4388-4D59-B95E-1F63068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670BE-DC06-4658-9EC1-16F31B51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F6EFB-4993-4FFF-8CAE-A618ECF5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E5A14F-EDC6-4C01-BCB2-8B3D0244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17331-63CA-4166-8EB2-B2F34F3C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3B14EE-B330-4379-9D71-252FD9E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FCCF-F9F8-481C-947B-7ABA7F6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3940FB-936C-4E00-9273-781AAED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97AA78-5D21-4533-92DE-10D3CE0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B2B79-8E37-4F4E-9A50-7C34F33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C4FF64-BD71-40EE-B42D-EA4E37C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0F77E-7A2D-40A6-90FE-0F8233C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65FEDE-13E5-4B5F-9DE4-D3B0971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374440-05A1-451D-97DB-F720444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8563A2-92AD-4B1A-AFEA-396AF7CD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9E7849-81BD-4889-B16A-5CDC8F9F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77E91E-BC1D-4A47-A3D6-64C72D9E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642A-A138-48BF-8F1C-90D8514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DB3EE-5D56-41EC-AB35-0A566A4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C4B702-FEC4-43B5-90D8-DF7AE61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4F0FB1-D15A-4086-9254-C4298B1F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B84A93-078F-46F4-97D6-E25A84A1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791E8A-AE65-4D71-BE29-0AC8C3C6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6269A3-69CF-4CAA-93E7-E73F834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A8EAEE-CE71-4F98-9232-2429A30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C709CF-B689-42D0-A6FA-C7CE04C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C791DF-82A9-4339-9D7E-24D3975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D5EB63-6406-4714-80B0-733F30AD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00F-02CC-433C-8FEF-2604406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496F-0640-4807-BACC-10D66EDB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5F9C26-92E7-4E92-BF58-C212A5EE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0E143-3D0F-4EB3-9574-9C132756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7CE1A1-7987-4170-AD11-0348698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CF6988-1303-48DA-AE54-E8F6144A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9D02AA-DBA4-452C-9EA1-E4E737D5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F4543B-CD74-4457-8B09-BC73EF05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84FFA4-6BB5-4852-B12D-F3902BE6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EE87D3-C7F2-4E24-A3A6-36FE4D6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60A7D5-A184-44F5-9D01-17FB89A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2C93B7-CE6F-4D53-90C1-4F9FBC1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3F91-C1F7-4455-A027-6805285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B89CE2-BAD5-4643-832A-B89A11C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B73FC8-C05B-48FE-8AB4-AFAB66D2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10407C-BE51-47D4-BF27-802B7D51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D67169-40FA-487B-8C9D-E06A861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389BC6-E3BF-4818-9822-5F3D9AC8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57C545-8839-439F-9B8D-C9A6C93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4A4384-30BA-42BB-AD87-DECF69B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313E70-21C1-45DB-B9A0-7813856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6821E4-4D92-4C5A-9BE3-CB32CBC4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4FCE13-0470-4A49-A181-BAA7284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B5FE-0AB1-4AED-A503-7CC4166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1885EE-6EBB-449E-A7F8-6F3008C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10EA41-197C-48B7-9DB9-B65B586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5A0397-C5AB-45DC-9014-F0008C4C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B55453-87A4-4D85-8814-1C009180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7C9DA9-D555-42AB-A231-3FE71B3E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A701E1-FA73-4E69-BD14-9DD77ED0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F0353-1AE1-4BDC-ADD9-053C06E0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185F63-2A4A-493C-A02A-E4C8639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F5A362-A9AB-41A3-9879-50C4173B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AE11EF-3F6B-4AED-98A4-A4B5E4D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3AA0-641F-4CB5-83CD-27A0DD0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626621-2D2D-4C76-B565-3E678464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147232-3252-4020-9C5A-AE97C39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C26FC2-7F75-4B98-8E3A-899F60A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291F45-2BD1-4159-A035-60A135F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178294-F7B6-401B-8491-BD5C1E41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896746-4DAA-40F4-B92D-3994BEA3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029C4B-E1E2-40CD-BD70-7BBF878A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F34191-8903-4B6A-81C4-B60D664B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2EAB1A-C5CD-461F-8900-046F8F9A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B685DE-D06D-4872-8F2C-3BD5E3D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5B0D-76BF-43BE-8A0E-CF33125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C34BD7-5454-4B69-848A-AEBBC38B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B10069-EAB6-40A5-A8B4-E582FBC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B9DB53-0D40-45F8-94BC-389C4404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D78422-361E-4056-8C10-C4E2518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0F39BC-3972-420B-B191-A479B535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44E281-2686-43B0-8570-CD975DA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F83577-06A5-4E70-8FC9-03ECBA7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2EA55B-A6C5-4A6C-8A42-2D0D7044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E934BF-BD68-43D3-BD8E-AE16FA25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847784-A588-49FD-9992-9A674E12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4AE7-5734-44F0-9547-78B0521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00D402-4388-463E-8541-9A41A20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B9EAA0-79AA-489C-9D07-D52559C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52BC2D-D414-4280-8464-B81D949B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0D4792-6A33-4EB8-AC72-78B668A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E18599-F516-4EB3-8A1E-8E334460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FDB8F5-A8A5-4B8D-90F0-A8D67CA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60F359-77A4-455D-876D-C7855C6A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BA046E-8364-4D27-8ADB-79C89238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9AFDE-E0E9-473F-97E2-DF3627D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FAEAF0-CE76-4C05-BB1C-C7B034F9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B95E-1798-4822-93A2-CA4DD591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B8DFF0-E92B-4F15-B6C5-262472B3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96F508-3FA0-49E9-9CBA-DFFB9745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8F14C2-F705-47D8-9E2A-2295F0EC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92CF9E-06AB-457B-B63E-4C6E5029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4CC39-FE42-498D-B1C4-4B52DAE2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D1FD11-6EED-4FC2-BF18-22E56791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3C9190-53DE-4EFA-9E87-0E49B65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81BB1B-6889-4CFD-9DA0-13569B5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377AAD-C1E3-415C-9657-DD31574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5D79DE-A2F3-439D-8A90-19EE60F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DFD6-02AF-42A6-B7E4-5E749E91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6ED8E7-62FC-44D2-B6C5-674386B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8AB01A-F46E-4670-B3F6-EE1D672B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897B44-2886-4B80-86D8-0FFC284B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57655F-AAE4-42F6-A539-5286356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5AF543-1BA5-4D8C-9506-38D5515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4341BB-C88C-4429-88DD-8F2A3300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651ADA-FA7B-46E7-83BD-D20CC4F5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650BBC-8E30-4467-A73C-8E56C631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04F766-D66B-47D3-BB69-9BB3E60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F99DEC-A9DA-4BB5-8817-68F7EC66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3F43-29F9-4C76-A75F-761FB06F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AD2BA3-71DA-4AFD-8E37-5E4A07A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A62D9D-D462-4C87-BF25-C02483F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3D48A0-1156-49F7-B879-85D9CC0E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03A4D8-90DA-462F-9BA2-1124B2D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48520B-F2CB-4954-B376-15A59D1B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C7BF66-AE72-4EA3-BCA0-41979051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70B5F7-C53F-4A87-8993-D7A9B173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06C0A4-66A8-4C88-A5D5-8DF4CE4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B10FC4-362F-4820-86D6-CD0F379A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E2816E-A32D-4D74-A0E4-575537C4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BD9E-D106-4A32-8FD0-DE7D6ED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8723A9-8877-49AE-B0BD-85BF8D8F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597ACF-140A-4BBD-BED3-06D4E55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31077F-F799-421F-807D-6862F61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D2E50C-8E10-4637-9047-B20F991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A31B2D-8862-454F-846D-BF275AA5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FBE0DB-9A63-4D17-AC28-CD290D5F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FE7EF1-1389-4B18-82C5-28A4570E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C856E0-3B95-47B5-932E-60E1F3D3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A943DE-F325-4708-A323-28FD289B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51E792-9FF9-4A66-A3F3-6F5AC09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8B4-A1C0-48E0-9447-5025CC42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2D4A-19F5-49A7-93B9-E6943D3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08FE9D-1598-445F-9793-30C2741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62D7B9-B4F3-43CD-BF64-B0012726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C92676-8851-4F20-9096-6613139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9D255C-3A5C-4DEC-A512-6078E20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5ACF53-5C2D-453C-B867-4776F947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FFA35B-E952-4DE1-BF0C-65A446E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414964-DB89-469A-A260-26953E2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CA76AE-33A9-4B4D-BB48-B91E7E3D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FF85F0-E778-4B8F-82DA-F2F2C794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96F95C-CD1B-4638-877B-9DE807BB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A551C-76C6-45CE-A981-F1D92D7B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A2483A-9EC8-44E0-88D8-442976C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A23656-E212-4B4D-A665-0A0943A9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592175-C081-4424-B46A-A938AC4E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C862D9-33C0-4095-AFF0-7D9B935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C48D32-0BF1-42E9-88DA-2616EAA9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6638FF-2A31-4CC7-9A37-513519A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37A01E-2E61-48E2-8CAB-0D288F0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8EF5B7-E1AF-4428-8F1F-CC4EE849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02924F-C8F1-419E-84D7-23C931C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98744A-0E39-4F8E-B029-D50A3832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570A-8F63-45B5-8FF1-54070A52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A771BC-44B3-4138-97F1-FD00DEED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DA33AA-D8FC-4792-9961-CE2CBA60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16488A-A7F7-4015-88AD-7E837ED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39BBB2-CB46-401F-9CAF-008700BF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AF6F6D-B7D7-4D75-9C1C-6D2B83A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991FB5-FB2D-4E17-AF3C-36C5266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2CF3D7-A6F2-4F23-90BF-BAF0267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FED3EF-35D1-4AF7-86D5-7A8AE55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0F548C-7862-41A5-952D-D32D332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E23710-BE1F-4D95-AE21-009D593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2BBB-57C1-4A1D-A8CB-B61E914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D2209C-27FA-4238-B282-A8CEA6DE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9AA563-CEDD-4FCE-AFFC-87A6F976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F07A59-6D8A-47E4-8D32-DD0CBA8D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51ECD4-CC8B-4EE4-80F1-10087EC2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70C1D7-E093-475D-B2A5-A5F23AE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B7E08F-C536-44F6-90D6-12041071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3C853B-02A0-43D1-AF13-270FF44E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607C4B-D8C9-4193-806A-C0C6A299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006620-3EF9-4947-974A-28B75AC9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D3A31A-64F2-41B3-B938-75EB625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F092-17A0-4E88-95DD-7A958EF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B19798-4553-4DB0-839E-FDB38E3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30315C-6B8F-4F9F-864F-1F7CE78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1B8763-61E3-4E76-8E17-CAADECAE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9B48F1-EB0D-49F5-A24E-DD2C6007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DA5298-AF0F-4C57-9022-09BCFDF9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202BF9-1A35-4CB0-BE3E-55F5B562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53174F-698D-4E7F-8BAD-A79D46C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D59E45-F0BE-40D4-BC2C-7198172F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FBAF8A-15C2-402D-9876-2A3DB9D6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D1F80C-4E86-48A5-A68D-07821E7F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FF1C-A7F2-405F-A795-A86C4F9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18DA64-7911-4530-9E2C-5C063FC2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44E803-6B57-44C8-B5E9-7E4D5FA2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78605D-DD7D-426E-9841-4BA2958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25A835-58DD-4B9E-9C41-106787A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5ADAB6-DCB5-426B-9501-5025D829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FFAFE3-2F28-42FA-BD8E-9F515B05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8E8DCE-B05C-4247-9C2C-CA87A2CC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952596-3017-44D2-B0F0-FF41A09E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0F7E32-6F77-4721-A128-48A95269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74B7D4-FE9B-4CA3-AE75-85B2DBD3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8C41-F9CB-4172-B49C-9031B13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FB29D1-87E1-4102-87C8-72C6D2C1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FEB955-0A89-4247-AB40-E197A43A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D3F415-A2FA-4C27-891A-3D7DB6E3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1F8877-0A7F-4C0F-96F2-4BCFF2DF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63DD5D-D2CA-4967-A659-407FCF4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3F942E-8C21-4A90-A058-47DC109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77CA18-6BE3-4A6A-96E4-A4A81271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66A369-0AC8-49C6-BFA6-87048CAC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A362DB-E1C7-4796-9322-46C352C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0455E9-EE84-49FE-83EA-362DC882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B337-BA11-4282-90B8-1D97DF04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161DB4-5C5E-46F4-80EB-A41D562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BB3ED9-B00F-4AE4-94E5-B9E30AC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1CBAF3-439C-4831-B681-F58ABD64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B1210A-1F8C-44B5-B13C-1DC1C29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9C1E1D-3CBD-4C8C-91D8-0B5453F8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583D68-5562-4591-BC17-B4066B3B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6A31BA-C986-42BC-88F3-B3D438E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1EDB34-C146-4DB6-805C-30A6C3FF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4E1ACA-83D4-4408-B940-FC7AE76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C59308-C74C-4321-B3DB-8892173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833E-B112-42C7-8412-A0086AE7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6AD440-7852-4994-8D82-8AC059CA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C010-0845-453B-BEF8-03424FD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EB3-8F3E-4BBA-A1BB-FE5CB8D0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0EC9-CC7C-494F-981C-2FD1683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CC53-23DD-4B05-A5D1-E74453D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B2B3-2DA1-4C3D-B533-1187346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2F6E-A273-4D3A-BA47-18205292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AF9E-A02E-451D-8975-36C8AEF8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7E0E-BAB9-4779-A7DD-108FD26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ABEC-1381-4DC0-8076-A690F89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7F80A-1D20-4895-8676-B900040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75791-F596-4CE5-B612-7E8F1F35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0B70-E49F-441F-9DBD-644F4602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F9C-BEE0-4136-ABFE-79C141E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F548-A58D-4EE4-ABA5-6F07C232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FC5A-C0A4-4494-B314-3D4CA3DC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0B95-718F-40E9-AFD0-64CEF70B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A8DA-4FD3-42F8-9474-1B119CE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287C-9A2E-4D54-9049-B6448019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E288-666C-45F9-BB6A-7D3ADA8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5B3E2-974A-4F8F-B363-9119A76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2161-D2FB-4C3F-97FB-38C1416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8270C-467B-4366-BEFD-7251CF9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9160-0531-4172-B755-75EEF5EB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C12-CF3F-426F-9958-13F9699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5F4D-9749-45C3-B83C-9E470B8B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0F4A-858F-4CCD-916E-D3AF0797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7747-49C4-406C-9841-E15A5EC2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8E83-73E3-4CE1-AF16-7980964C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10CA-3B95-4603-85CD-0AD4F29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A6DFE-20B1-4F4A-825C-52B3C70F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BA83-E129-4DCD-8A12-F8D38E5B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45347-D17B-4068-A2BE-7F2E2B2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B3A7-E290-4ACB-8E87-DE382EF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BF90-BA37-446D-A714-D53902E1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0D4-20E7-4C47-982C-5A7C220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8AAB-C90E-4329-B9B9-BDE29E9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EB0F-AC56-4C59-AB9A-804EC9F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F7C6-1D5D-451C-A670-6CFD6656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0CC7-E57E-4219-B653-79BF10BF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90A05-F66F-4AC2-A792-2FAE5B71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C7EF0-A8BF-4E69-B33E-A9F0FDF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20705-10A4-449F-93B9-5777501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CFA9C-47E9-4D9E-B960-87E67FA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F8A82-7284-402E-AFF9-504D9C7E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A8EE5-199B-4915-BFF0-6014D906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D9F-2B2F-4BF6-A43B-863736D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0E883-D58D-40A9-B45A-C59AED85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11067-61E7-45F2-A579-2B52EC5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326B-CC75-4E7A-AE05-6E2588A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6815-2DFC-4065-BA29-1E3DF46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EE40-C96C-48D9-B849-52FD774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1A37-2151-4FF1-93A6-998E1A29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3430D-E6B2-42EA-831A-3DFCDCA6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6F6E5-59F7-4247-9D43-51A4E6B8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7446-C1B6-493C-AB97-32125722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3627D-3C99-4075-9297-54596EA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7658-AEED-411E-B532-B96F675704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05E2-0381-479F-8C9A-E0B1E32A5B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6DA-C92A-4981-B63E-68340C9187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2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5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03CC-6C8A-42CD-AB90-664FB4FDA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60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63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E916-8B14-4E2C-868F-25DA63B2E8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1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1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B0D-119A-4674-8E9E-826FDC034B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F6E-E4C5-4156-8098-E14AB7B3A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106-A6D9-4FF7-B973-E3F4293AD6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4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3772-239D-47E7-9CB5-43249663D1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CB3-1717-4802-8679-C6CD6A2622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5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7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38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7564-682B-4E9A-BE38-7CDBB77A4F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730-BE39-4BAB-866C-45FC970FE7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83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886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8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1BCB-F672-4439-933D-B63608489C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8D0-108D-4104-BBF1-E076315083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6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BDCF-721A-4820-8EC4-05273FCB8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5AE8-8AAB-4376-B5C6-817AAA2235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7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578-0738-4B8F-AFB0-FB50571E55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7B2F-8609-41DC-84D9-79868162A9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8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0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5853-EA5E-40D9-805B-260A90E130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206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209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1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DD05-B6FA-41C6-B97C-009875C8EC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5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5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5C52-918D-43B6-8D9A-044B4378C6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0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0C8E-B28C-4995-9B65-B51A642E1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A6CD-E2F8-4136-84CC-3887344A74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FE7-2932-4EDA-826D-B4659BDEB9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9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E58C-4D07-45CC-8A37-F02CBDF82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814E-86B7-43AC-8857-DE9687844A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8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D44-5A62-44B8-AB3F-812E8831C7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52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53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3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11B4-0D20-48F5-90B7-3B96156F7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8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BAF3-FB02-48DE-8D90-E0E6D08B19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2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4E8-6F60-4842-99C5-FA2FE53C16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59DA-95AB-48DB-B0AD-AA19DD7E8A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1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4A21-D986-4AAB-9C60-9BDEC4FDBA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FD6B-A611-45F2-A077-89EAA668D7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2B8-4361-4A43-ACCB-F8E7A60C1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0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9D5F-45E9-4534-9E16-8DD592F00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E087-C96A-403E-AE88-995AD5EBA8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3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24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6683-1AC8-4E1D-B3F4-EDFFD56B40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B67-D93B-4B41-A122-8CC5DFDE31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CB7-FC9D-4613-8718-D7FD59F624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BBF-BA8A-41D3-99B9-187CC8EAB3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9" name="Rectangle 4"/>
          <p:cNvSpPr/>
          <p:nvPr/>
        </p:nvSpPr>
        <p:spPr>
          <a:xfrm>
            <a:off x="857160" y="30718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dehyd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CYP1, CYP2,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families are identified as A, B, and C etc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9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1880" name="Rectangle 2"/>
          <p:cNvSpPr/>
          <p:nvPr/>
        </p:nvSpPr>
        <p:spPr>
          <a:xfrm>
            <a:off x="302040" y="214200"/>
            <a:ext cx="72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 Box 5"/>
          <p:cNvSpPr/>
          <p:nvPr/>
        </p:nvSpPr>
        <p:spPr>
          <a:xfrm>
            <a:off x="380880" y="1341360"/>
            <a:ext cx="4046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two) Phases of Biotrans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ase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te may be active or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ase 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tes are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important drug metabolizing re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3" name="AutoShape 2" descr=""/>
          <p:cNvPicPr/>
          <p:nvPr/>
        </p:nvPicPr>
        <p:blipFill>
          <a:blip r:embed="rId1"/>
          <a:stretch/>
        </p:blipFill>
        <p:spPr>
          <a:xfrm>
            <a:off x="1116000" y="66600"/>
            <a:ext cx="7358040" cy="113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5" name="AutoShape 2" descr=""/>
          <p:cNvPicPr/>
          <p:nvPr/>
        </p:nvPicPr>
        <p:blipFill>
          <a:blip r:embed="rId1"/>
          <a:stretch/>
        </p:blipFill>
        <p:spPr>
          <a:xfrm>
            <a:off x="1116000" y="66600"/>
            <a:ext cx="7358040" cy="113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 &amp; 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clobem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O inhibitor and used as antidepressant since it increases serotonin in brai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7" name="AutoShape 2" descr=""/>
          <p:cNvPicPr/>
          <p:nvPr/>
        </p:nvPicPr>
        <p:blipFill>
          <a:blip r:embed="rId1"/>
          <a:stretch/>
        </p:blipFill>
        <p:spPr>
          <a:xfrm>
            <a:off x="1536840" y="-66600"/>
            <a:ext cx="5930640" cy="10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 accum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puri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hibitor of xanthine oxidase and used in treatment of gou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9" name="AutoShape 2" descr=""/>
          <p:cNvPicPr/>
          <p:nvPr/>
        </p:nvPicPr>
        <p:blipFill>
          <a:blip r:embed="rId1"/>
          <a:stretch/>
        </p:blipFill>
        <p:spPr>
          <a:xfrm>
            <a:off x="1536840" y="-66600"/>
            <a:ext cx="5930640" cy="10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0" name="Title 2" descr=""/>
          <p:cNvPicPr/>
          <p:nvPr/>
        </p:nvPicPr>
        <p:blipFill>
          <a:blip r:embed="rId1"/>
          <a:stretch/>
        </p:blipFill>
        <p:spPr>
          <a:xfrm>
            <a:off x="426960" y="-6480"/>
            <a:ext cx="8229600" cy="1133640"/>
          </a:xfrm>
          <a:prstGeom prst="rect">
            <a:avLst/>
          </a:prstGeom>
          <a:ln w="0">
            <a:noFill/>
          </a:ln>
        </p:spPr>
      </p:pic>
      <p:pic>
        <p:nvPicPr>
          <p:cNvPr id="1891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1892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/>
            <a:ahLst/>
            <a:rect l="l" t="t" r="r" b="b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lnTo>
                  <a:pt x="0" y="0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lnTo>
                  <a:pt x="98227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/>
            <a:ahLst/>
            <a:rect l="l" t="t" r="r" b="b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/>
            <a:ahLst/>
            <a:rect l="l" t="t" r="r" b="b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6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1898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9" name="Picture 14" descr=""/>
          <p:cNvPicPr/>
          <p:nvPr/>
        </p:nvPicPr>
        <p:blipFill>
          <a:blip r:embed="rId2"/>
          <a:stretch/>
        </p:blipFill>
        <p:spPr>
          <a:xfrm>
            <a:off x="6154560" y="3213000"/>
            <a:ext cx="2989440" cy="976320"/>
          </a:xfrm>
          <a:prstGeom prst="rect">
            <a:avLst/>
          </a:prstGeom>
          <a:ln w="0">
            <a:noFill/>
          </a:ln>
        </p:spPr>
      </p:pic>
      <p:sp>
        <p:nvSpPr>
          <p:cNvPr id="1900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&amp;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3" name="Text Box 5"/>
          <p:cNvSpPr/>
          <p:nvPr/>
        </p:nvSpPr>
        <p:spPr>
          <a:xfrm>
            <a:off x="500040" y="1609560"/>
            <a:ext cx="800100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5"/>
          <p:cNvSpPr/>
          <p:nvPr/>
        </p:nvSpPr>
        <p:spPr>
          <a:xfrm>
            <a:off x="714240" y="4786200"/>
            <a:ext cx="698688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06" name="AutoShape 2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37680" cy="10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8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0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2" name="AutoShape 2" descr=""/>
          <p:cNvPicPr/>
          <p:nvPr/>
        </p:nvPicPr>
        <p:blipFill>
          <a:blip r:embed="rId1"/>
          <a:stretch/>
        </p:blipFill>
        <p:spPr>
          <a:xfrm>
            <a:off x="36360" y="122400"/>
            <a:ext cx="6046920" cy="113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4" name="AutoShape 2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7888320" cy="104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6" name="Title 2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40096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oniazid (Anti-TB), etc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8" name="Title 2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40096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ahoma"/>
              </a:rPr>
              <a:t>increase activities of liver microsomal enzym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&amp; increase the metabolism of drug itself and other drugs taken with the inducer at the same tim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ahoma"/>
              </a:rPr>
              <a:t>drugs that decrease activit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f liver microsomal enzymes &amp; decrease the metabolism of the drug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nonpolar 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polar 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3" name="AutoShape 2" descr=""/>
          <p:cNvPicPr/>
          <p:nvPr/>
        </p:nvPicPr>
        <p:blipFill>
          <a:blip r:embed="rId1"/>
          <a:stretch/>
        </p:blipFill>
        <p:spPr>
          <a:xfrm>
            <a:off x="689040" y="146160"/>
            <a:ext cx="8345520" cy="104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(anti-ul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3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5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agulant effect 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250920" y="1282680"/>
            <a:ext cx="86868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most drug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otransformation is required for protection of body from toxic metabol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 e.g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vodopa - carbidopa, prednisone – prednisolo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5" name="Tit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15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8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Lucida Sans Unicode"/>
                          <a:ea typeface="Arial"/>
                        </a:rPr>
                        <a:t>(COM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 (adrena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Tit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187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5-10-06T06:52:15Z</dcterms:modified>
  <cp:revision>274</cp:revision>
  <dc:subject/>
  <dc:title>GENERAL PHARMACOLOGY</dc:title>
</cp:coreProperties>
</file>