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38F52-FD51-4E1D-AF95-ECDC5FD5178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4279-9386-446D-94EB-6483FEB8FDA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F1A4-ECC9-4849-95D7-6E3252615760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8277-8339-467C-B53F-3996A560660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8414-63EA-4483-AF1B-35D5570604B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0ECF-4535-44E2-B76C-66A89DD838E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E94C-3717-41F8-B143-1BFA31705DC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7F79-A8F8-4964-A12E-8650D722DBB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FCD1-BDE5-4208-9B1E-2E76E29B7F6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6F0E-26CE-4150-876B-6EB6E0D6720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BBE7-FC0F-4813-81A8-52CF9FA59B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1E2D-13E9-4633-8B4D-494FF0919B7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93A-5815-40E0-B6DD-12A7D6FAD21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CD6-6C78-46BA-832F-01F2426924DF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3226-C23A-45D5-9A6D-137802CB11C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DF38-64F1-4B29-941D-3AB05D30560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8374-417C-426C-B625-25695020A02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75FA-E664-4528-AAEA-28E42A5E42B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BCB0-9648-43CA-AF7A-80B05D23B7A5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DEF-398F-43C3-BCE2-0DEB5AF8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B945-0AAF-4F10-9888-8C18533F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5BCD-DD28-4976-A336-BBEC830D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C49-F1BF-474B-BFF5-E8199874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EEF7-955E-40B7-91F7-9BD4C361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C61E-5147-437B-8042-4B32785A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90A9-1153-4BF6-877E-A791DBDC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189-E6FF-4D2A-8CC5-0E938F7C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CD1A-67D5-41AF-8EA8-D4832E58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FBF0-2221-4A0E-872E-3DDB0BDC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C8FC-6BAF-4FD1-B6A7-D4F82C37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DD7-D56F-40E5-8F72-E12D133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2DD4-8E38-4F75-A1BA-C9A176DA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C8C2-A773-4870-9CF2-90CD33E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DE2A-88B1-4ECB-8C6E-94E22375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857E-F017-46C6-9F91-FF8BD43C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C1A-1CC8-4F74-A0DE-FEF39503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455FB-9EB0-4613-B696-E8D180DF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6964-CB2F-43C7-8417-3EC4433E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DE643-613E-4030-9D82-A705D1607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DF526-6302-4508-9EBE-42F90E39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AE2E-FBC6-4AFF-BFF6-C21FA481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A64-A0C1-4040-B301-B5D8A987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4D66A-3C51-4BB9-9AD7-15F1A77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87BF2-E524-4D72-8DE6-8B80EBD5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F8622-6FAB-4443-AE38-AA69872E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DEC8-EF75-4E84-8582-3F67C701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45324-84AB-449B-8111-96389A9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4D8F-2C70-40D7-9596-FAD32E22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9943-6CFB-4E09-AA26-382DA2E7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60BC-773C-4438-87D2-F10BA62E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66405-2266-465C-8F6C-35C424F9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7565A-D43A-4CF0-B50C-3A9A0857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319-6298-483A-84AE-18C5ACFC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4536E-209E-4091-9C19-9546416B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C328B-08A1-411A-B273-37724ED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240D-2439-4B46-A1ED-CFFE43AA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7AE16-590D-46CB-9A54-E2AEF90FB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090CA-E1BD-453A-B090-2A5C885A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DFF76-C32F-40BD-B55F-8075D4F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B2C97-E40E-43DD-88CE-E504559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43910-4F45-467F-8B7D-43973705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F2FEE-FB81-45A2-BF15-2F4E4934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049-112C-4C0B-BEEA-989E150C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879-7865-451E-95CE-A216C65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EF2-B215-4A80-9301-3C0F8D9B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FC1-6C8A-47A3-9E62-0871A3EC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D1-1C7F-43AF-B843-84FE018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A96E-99B3-4D1C-AC1D-CFA6ADB65E52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5343-DEB9-4E41-BBE5-61A50043A707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008F-68D8-41EA-8FC1-AB429B77B108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9B92-A16F-49B5-ABDD-71C31E81EFB4}" type="slidenum">
              <a:rPr b="0" lang="ar-SA" sz="1200" spc="-1" strike="noStrike">
                <a:solidFill>
                  <a:srgbClr val="000000"/>
                </a:solidFill>
                <a:latin typeface="Garamond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187280" y="2060640"/>
            <a:ext cx="676944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755640" y="4221000"/>
            <a:ext cx="742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rof. Hanan H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Dr. Ishfaq Bukh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  <a:ea typeface="Andalus"/>
              </a:rPr>
              <a:t>Pharmacology De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812000" y="404640"/>
            <a:ext cx="908280" cy="1067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13840" y="214200"/>
            <a:ext cx="8643960" cy="64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ssive tubular re-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stal convoluted tubules &amp; collecting 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diffusion of unionized, lipophil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pophilic drug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reabsorbed back into blood circul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excretion in urine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8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ized drugs are poorly reabsorbed &amp; so urinary excretion will b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hig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569440" cy="640872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40720" cy="6337440"/>
          </a:xfrm>
          <a:prstGeom prst="rect">
            <a:avLst/>
          </a:prstGeom>
          <a:ln w="31680">
            <a:solidFill>
              <a:srgbClr val="000000"/>
            </a:solidFill>
            <a:round/>
          </a:ln>
        </p:spPr>
      </p:pic>
      <p:sp>
        <p:nvSpPr>
          <p:cNvPr id="201" name="Oval 5"/>
          <p:cNvSpPr/>
          <p:nvPr/>
        </p:nvSpPr>
        <p:spPr>
          <a:xfrm>
            <a:off x="457200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395280" y="83664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4211640" y="2781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4788000" y="256536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5292720" y="234936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5003640" y="285264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3708360" y="249228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485928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572000" y="692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71636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4572000" y="76500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471636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572000" y="907920"/>
            <a:ext cx="1429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4788000" y="83664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4500720" y="2421000"/>
            <a:ext cx="1425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>
            <a:off x="4716360" y="119700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>
            <a:off x="500364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>
            <a:off x="4427640" y="549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3"/>
          <p:cNvSpPr/>
          <p:nvPr/>
        </p:nvSpPr>
        <p:spPr>
          <a:xfrm>
            <a:off x="4788000" y="69228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4859280" y="333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25"/>
          <p:cNvSpPr/>
          <p:nvPr/>
        </p:nvSpPr>
        <p:spPr>
          <a:xfrm>
            <a:off x="395280" y="476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611280" y="33336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 drug= water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7"/>
          <p:cNvSpPr/>
          <p:nvPr/>
        </p:nvSpPr>
        <p:spPr>
          <a:xfrm>
            <a:off x="611280" y="69228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polar drug = lipid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28"/>
          <p:cNvSpPr/>
          <p:nvPr/>
        </p:nvSpPr>
        <p:spPr>
          <a:xfrm>
            <a:off x="5003640" y="1341360"/>
            <a:ext cx="1429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9"/>
          <p:cNvSpPr/>
          <p:nvPr/>
        </p:nvSpPr>
        <p:spPr>
          <a:xfrm>
            <a:off x="5003640" y="1557360"/>
            <a:ext cx="1429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72 -0.07052 C 0.01042 0.03168 0.01302 0.12578 0.00816 0.22543 C 0.0059 0.37919 0.0283 0.33364 -0.09826 0.3311 C -0.10139 0.32971 -0.10469 0.32832 -0.10781 0.32694 C -0.11337 0.32462 -0.12517 0.32902 -0.12517 0.32902 L -0.12517 0.3163 E">
                                      <p:cBhvr>
                                        <p:cTn id="7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2.65896E-006 C 0.01633 0.08671 -0.00954 0.18012 0.00799 0.26636 C 0.00747 0.30428 0.0073 0.34243 0.00626 0.38035 C 0.00521 0.42335 0.00539 0.39145 0.00313 0.3889 C 0.00105 0.38659 -0.00225 0.38752 -0.00485 0.38682 C -0.0085 0.38567 -0.01562 0.38289 -0.01909 0.38266 C -0.07673 0.37873 -0.07465 0.40509 -0.07465 0.37179 E">
                                      <p:cBhvr>
                                        <p:cTn id="75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01573 C 0.00903 0.02197 0.01007 0.02844 0.01007 0.03469 C 0.01007 0.4837 0.10678 0.43191 -0.11215 0.42775 C -0.12829 0.42521 -0.1434 0.42359 -0.15972 0.42359 E">
                                      <p:cBhvr>
                                        <p:cTn id="85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ing pH of urine by chemicals can inhibit or enhance the drug reabsorption from renal tubules back into blood circul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n trapping is used to enhance renal clearance of drugs during toxi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e is normally slightly acidic and favors excretion of </a:t>
            </a:r>
            <a:r>
              <a:rPr b="1" lang="en-US" sz="3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sic drug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4292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rinary pH trapping (Ion trapping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fic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urine using ammonium chloride (NH4Cl)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asic drugs as amphetamine.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kalinization of  urin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sodium bicarbonate NaHCO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creases excretion of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idic drugs as aspir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8785080" cy="6264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al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mainly by the kidne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antibiotics (as gentamyc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h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se drugs should be prescribed carefully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ients with 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Biliary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2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to few drugs that are excreted into f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h drugs are secreted from the liver into bile by active transporters, then into duoden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401"/>
              </a:spcBef>
              <a:buClr>
                <a:srgbClr val="ff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undergo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nterohepatic circul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 into systemic blood circulation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Enterohepatic circ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750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excreted in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i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form of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glucouronides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 hydrolyzed in  intestine by bacterial flora liberating  free drugs that can be reabsorbed back into blood if the drugs are lipid solu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olongs the duration of action of drugs e.g.  digoxin, morphine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Plasma half-life (t ½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93440" cy="5591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time required for the plasma concentration of a drug to fall to half of its initial concen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easure of duration of 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dosing inter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short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, tubocura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of long plasma half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oxin, thyrox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920" y="142920"/>
            <a:ext cx="850752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Garamond"/>
              </a:rPr>
              <a:t>Factors that may increase half-life (t ½ 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mal inhibi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ased cl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gestive heart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 binding of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sma prote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terohepatic recyc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8000" y="286920"/>
            <a:ext cx="6769080" cy="9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of Drug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y the end of this lecture, students should be able 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main and minor routes of Excretion including renal elimination and biliary excre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enterohepatic circulation and its consequences on duration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some pharmacokinetics terms including clearance of dru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half-life (t ½), multiple dosing, steady state levels, maintenance dose and Loading dose.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1280" y="190440"/>
            <a:ext cx="9001440" cy="6524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eady state level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te at which the therapeutic plasma concentration of the drug (mg/ml) remains constant with the therapeutic window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the range between effective and toxic levels of drug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steady st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of drug administration = elimination rat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61b"/>
                </a:solidFill>
                <a:latin typeface="Garamond"/>
              </a:rPr>
              <a:t>Therapeutic window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11280" y="1214280"/>
            <a:ext cx="8032680" cy="509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Garamond"/>
              </a:rPr>
              <a:t>Steady state of a drug</a:t>
            </a:r>
            <a:r>
              <a:rPr b="0" lang="ar-SA" sz="3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457200" y="1125360"/>
            <a:ext cx="8229600" cy="532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13840" y="188640"/>
            <a:ext cx="864396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How many half-lives would be necessary to reach steady stat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teady state concentration is attained after 3-5 hal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.g. Morp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aramond"/>
              </a:rPr>
              <a:t>Steady state levels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457200" y="1071720"/>
            <a:ext cx="8258040" cy="5094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ading do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large initial dose that is given to achiev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rapid therapeutic plasma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administration of the drug,  the plasma concentration decreases due to distribution of drug to other t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ing dose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balances the drug distribu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important for drugs with long halve l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277920"/>
            <a:ext cx="889308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linical applications of Loading dose 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oading dose may be desirable if the time required to attain steady state of drug (4 elimination t1/2 values) is long and rapid relief is required in  the condition being tre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t1/2 of lidocaine (antiarrhythmic drug)  is usually 1-2 hour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rrhythmias after myocardial infarction are life-threatening,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ne cannot wait 4-8 hours to achieve a therapeutic concentr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a loading dose of lidocaine in the coronary care unit is standar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42920" y="117360"/>
            <a:ext cx="8786880" cy="666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intenance 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 doses required to  maintain the therapeutic level of the drug constant or the steady state of the dru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oses balance the amount of drug lost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during metabolism and clear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ient needs to take regular doses of a drug such a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oxicillin ( 500 mg) / 8 hours to maintain the therapeutic leve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drugs are readily excreted and poorly reabsor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pid soluble drugs are reabsorbed back and excretion will be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c drugs are best excreted in alkaline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dium bicarbonat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drugs are best excreted in acidic urine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mmonium chlori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ohepatic circulation prolongs half life of the dru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QUESTION"/>
          <p:cNvPicPr/>
          <p:nvPr/>
        </p:nvPicPr>
        <p:blipFill>
          <a:blip r:embed="rId1"/>
          <a:stretch/>
        </p:blipFill>
        <p:spPr>
          <a:xfrm>
            <a:off x="5940360" y="981000"/>
            <a:ext cx="2376720" cy="410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j0078711"/>
          <p:cNvPicPr/>
          <p:nvPr/>
        </p:nvPicPr>
        <p:blipFill>
          <a:blip r:embed="rId2"/>
          <a:stretch/>
        </p:blipFill>
        <p:spPr>
          <a:xfrm>
            <a:off x="1476360" y="1916280"/>
            <a:ext cx="2057400" cy="3933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Garamond"/>
              </a:rPr>
              <a:t>Routes of Excre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2560" y="1314000"/>
            <a:ext cx="8677080" cy="52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Main Routes of Excre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al Excre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ary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inor Routes of Ex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excre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ex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excretion via mil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/ Dermal excretion via sw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nal Excre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ructure of 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e unit of kidney is neph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consists o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 of Hen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l convoluted tub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cting 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23"/>
          <p:cNvPicPr/>
          <p:nvPr/>
        </p:nvPicPr>
        <p:blipFill>
          <a:blip r:embed="rId1"/>
          <a:stretch/>
        </p:blipFill>
        <p:spPr>
          <a:xfrm>
            <a:off x="71280" y="115920"/>
            <a:ext cx="8964720" cy="666900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189" name="Text Box 5"/>
          <p:cNvSpPr/>
          <p:nvPr/>
        </p:nvSpPr>
        <p:spPr>
          <a:xfrm>
            <a:off x="2050920" y="260280"/>
            <a:ext cx="482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611280" y="537372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d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626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nal Excretion incl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principle processes that determin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rinary excretion of drug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merular filt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tubular reabsorp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-2854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"/>
              <a:tabLst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tubular secre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0160" indent="0">
              <a:spcBef>
                <a:spcPts val="751"/>
              </a:spcBef>
              <a:buNone/>
              <a:tabLst>
                <a:tab algn="l" pos="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  <a:tab algn="l" pos="5518080"/>
                <a:tab algn="l" pos="5769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  <a:tab algn="l" pos="52671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516720" y="3357720"/>
            <a:ext cx="1800360" cy="2867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Glomerular filtration (GF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s upon renal blood flow (600 ml/mi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 20% of renal blood flow = 125 ml/m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800"/>
              </a:spcBef>
              <a:buClr>
                <a:srgbClr val="ff00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omerular filtration occu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ow molecular weight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180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500" spc="-1" strike="noStrike">
                <a:solidFill>
                  <a:srgbClr val="0000cc"/>
                </a:solidFill>
                <a:latin typeface="Arial"/>
              </a:rPr>
              <a:t>free drugs (unbound to plasma protein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re filter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605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tive tubular secre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urs mainly in proximal tubules; increases drug concentration in 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c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nioni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cationic tranporte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te active secretion of anionic and cation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transport drugs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gain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c. grad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609480">
              <a:lnSpc>
                <a:spcPct val="100000"/>
              </a:lnSpc>
              <a:spcBef>
                <a:spcPts val="11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 is an example of actively secreted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87156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Acidic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cy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phon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ransport of acidic drugs is blocked by probenecid </a:t>
            </a:r>
            <a:r>
              <a:rPr b="1" lang="en-US" sz="18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(Because the compet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stem for Basic drugs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n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3636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</a:t>
            </a:r>
            <a:r>
              <a:rPr b="1" lang="en-US" sz="3200" spc="-1" strike="noStrike">
                <a:solidFill>
                  <a:srgbClr val="ec1edd"/>
                </a:solidFill>
                <a:latin typeface="Times New Roman"/>
                <a:ea typeface="Times New Roman"/>
              </a:rPr>
              <a:t>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3422</cp:lastModifiedBy>
  <dcterms:modified xsi:type="dcterms:W3CDTF">2015-10-08T06:56:14Z</dcterms:modified>
  <cp:revision>219</cp:revision>
  <dc:subject/>
  <dc:title>GENERAL PHARMACOLOGY</dc:title>
</cp:coreProperties>
</file>