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6A2A-DBA1-4C95-AC99-8C80194E9CB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B20D-68F1-427B-BE3F-C328BD1D615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03D1-CFC8-4B0F-81CF-31E85C385E2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49B8-C422-40F4-9EDF-59794BF6697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695A-88CF-43C8-909A-F8EF7BAB7B7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094B-6224-427F-A9B2-6045F98ED5F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B70B-9F15-493C-BA8A-5BAEAFED88D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3748-D0F7-42A2-A8C8-63A8BC67448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E0F7-BF54-4F2B-985F-CDBDC9ADF29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C50C-799E-4BA0-AEBB-A53BEB70A7F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BF55-C7E2-4B20-B56A-48CC879E898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F992-8597-44E0-9B8C-B8CCE18AB9A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5770-8339-4B28-ACE7-3C1E0F90846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C239-475E-4CBF-956D-48E21E06BF9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EC73-95FA-4662-8D41-F565A6F5FDC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0C82-1C8D-4D45-A59D-E7BCC90AA4B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106D-5DF7-4477-8E53-F33B69E244A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3814-462F-4C90-9D7B-FFF508065A4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53C8-770F-4115-AEE8-05F952C446B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5036-9FC4-47AD-B675-E9A02BDE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6D27-B01E-4BBE-9519-F36C6650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8E3C-762E-444B-887F-F81C2BB4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E3D6-7AE6-41E0-B6B8-6F6002DA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7612-28C8-4B3F-BE55-6EDD3CB4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EA3C-8934-4814-A839-35CB2D95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B4F4-7715-4268-8175-5E29285B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AC4B-E357-4E8B-944E-B5FEE1C4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75E9-2A70-449A-A8A9-82D4F1DE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BE79-6E49-419E-B9C2-EEC0C50F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3B5C-E199-43EB-B166-41A12954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CCF1-46E8-41FC-9C15-9B694E5E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7352-ADD0-4431-A3FF-7E025CA4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582A-B905-4D31-A4DE-2B05FB59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7749-0450-49FD-A045-BF4D1F86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EB6E-6A6F-4CC5-90DF-CD1BA89D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733F-E540-4E12-8E1B-0C73653F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6B89E-E206-404E-8CB5-B71CB5BF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4F011-9BB4-48BC-9E9D-2146B403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EDD55-774C-4749-8B5E-9E8B6A6A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C26EB-6BD8-46AC-880D-3142D886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E9DBD-84FE-4DA3-A430-15F14942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716-70E4-4DE2-84FC-8E8D1237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FB414-2A2A-4D0F-B016-6D68FDC6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FA136-D571-453B-869A-5DC5D1BD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740E8-6D9A-4AE0-ABB3-19BA3946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BB8E7-DF2A-4690-972A-5BB490BD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0A9F7-D26F-4878-903D-F8701972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868C4-21A4-4282-A88E-905E6656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930D3-4B55-41A4-A29F-18B3ABE1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96CFA-33E3-4D35-8BAC-AD79E41D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D255C-F9B2-4971-BE4F-AAC58543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67494-976F-4828-92FF-F0D12B15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EDB-8D7E-4322-9CF4-7EC276B4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EC740-E2BB-4022-8A1F-FD36640A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5E7E8-DB3F-4294-9CFC-FBE32817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1CDBD-3655-4951-8945-8C9E3FBB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8FC51-DBFD-48EB-9386-FD1BA2C1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AE4EC-991C-4D51-B161-908B8F2D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87504-8873-439E-8FB7-3A2C8C9C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739C4-8DB7-4F99-AD7D-B38483AB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7F471-0240-4BE8-8309-F9CDA350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2E42B-C4D4-4F5D-9B60-87619E40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0E0C-6775-48F9-B0FE-AA7325DE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8F71-C870-4056-AC31-54169946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55EB-D926-46E1-B26E-C2A77713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FA5A-EC02-447A-A2E8-3DB359AF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B269-13DF-4F0B-A1EA-4A5193EB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3F7E-97F2-43A9-ABC2-863EC53F5FFC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09B8-3DCD-4D35-9666-F17CF1C9B5C5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B21C-7D58-492C-9300-8EF256992380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72B3-C85B-4E37-A322-C114FABEAD7C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1187280" y="2060640"/>
            <a:ext cx="67694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of Drug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755640" y="4221000"/>
            <a:ext cx="742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ndalus"/>
              </a:rPr>
              <a:t>Prof. Hanan H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ndalus"/>
              </a:rPr>
              <a:t>Dr. Ishfaq Bukh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ndalus"/>
              </a:rPr>
              <a:t>Pharmac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logo"/>
          <p:cNvPicPr/>
          <p:nvPr/>
        </p:nvPicPr>
        <p:blipFill>
          <a:blip r:embed="rId1"/>
          <a:stretch/>
        </p:blipFill>
        <p:spPr>
          <a:xfrm>
            <a:off x="7812000" y="404640"/>
            <a:ext cx="908280" cy="1067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13840" y="214200"/>
            <a:ext cx="864396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sive tubular re-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istal convoluted tubules &amp; collecting 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diffusion of unionized, lipophil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pophilic drug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reabsorbed back into blood circul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excretion in urine will be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ized drugs are poorly reabsorbed &amp; so urinary excretion will be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69440" cy="640872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633744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  <p:sp>
        <p:nvSpPr>
          <p:cNvPr id="201" name="Oval 5"/>
          <p:cNvSpPr/>
          <p:nvPr/>
        </p:nvSpPr>
        <p:spPr>
          <a:xfrm>
            <a:off x="457200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395280" y="83664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421164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4788000" y="2565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9"/>
          <p:cNvSpPr/>
          <p:nvPr/>
        </p:nvSpPr>
        <p:spPr>
          <a:xfrm>
            <a:off x="5292720" y="234936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5003640" y="2852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3708360" y="249228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2"/>
          <p:cNvSpPr/>
          <p:nvPr/>
        </p:nvSpPr>
        <p:spPr>
          <a:xfrm>
            <a:off x="4859280" y="69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3"/>
          <p:cNvSpPr/>
          <p:nvPr/>
        </p:nvSpPr>
        <p:spPr>
          <a:xfrm>
            <a:off x="4572000" y="69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716360" y="47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5"/>
          <p:cNvSpPr/>
          <p:nvPr/>
        </p:nvSpPr>
        <p:spPr>
          <a:xfrm>
            <a:off x="4572000" y="765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6"/>
          <p:cNvSpPr/>
          <p:nvPr/>
        </p:nvSpPr>
        <p:spPr>
          <a:xfrm>
            <a:off x="4716360" y="83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7"/>
          <p:cNvSpPr/>
          <p:nvPr/>
        </p:nvSpPr>
        <p:spPr>
          <a:xfrm>
            <a:off x="4572000" y="90792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4788000" y="83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9"/>
          <p:cNvSpPr/>
          <p:nvPr/>
        </p:nvSpPr>
        <p:spPr>
          <a:xfrm>
            <a:off x="4500720" y="2421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>
            <a:off x="4716360" y="119700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1"/>
          <p:cNvSpPr/>
          <p:nvPr/>
        </p:nvSpPr>
        <p:spPr>
          <a:xfrm>
            <a:off x="5003640" y="69228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2"/>
          <p:cNvSpPr/>
          <p:nvPr/>
        </p:nvSpPr>
        <p:spPr>
          <a:xfrm>
            <a:off x="4427640" y="549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3"/>
          <p:cNvSpPr/>
          <p:nvPr/>
        </p:nvSpPr>
        <p:spPr>
          <a:xfrm>
            <a:off x="4788000" y="69228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4"/>
          <p:cNvSpPr/>
          <p:nvPr/>
        </p:nvSpPr>
        <p:spPr>
          <a:xfrm>
            <a:off x="4859280" y="333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5"/>
          <p:cNvSpPr/>
          <p:nvPr/>
        </p:nvSpPr>
        <p:spPr>
          <a:xfrm>
            <a:off x="395280" y="47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61128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 drug= water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611280" y="692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 polar drug = lipid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8"/>
          <p:cNvSpPr/>
          <p:nvPr/>
        </p:nvSpPr>
        <p:spPr>
          <a:xfrm>
            <a:off x="5003640" y="1341360"/>
            <a:ext cx="14292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9"/>
          <p:cNvSpPr/>
          <p:nvPr/>
        </p:nvSpPr>
        <p:spPr>
          <a:xfrm>
            <a:off x="5003640" y="1557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3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72 -0.07052 C 0.01042 0.03168 0.01302 0.12578 0.00816 0.22543 C 0.0059 0.37919 0.0283 0.33364 -0.09826 0.3311 C -0.10139 0.32971 -0.10469 0.32832 -0.10781 0.32694 C -0.11337 0.32462 -0.12517 0.32902 -0.12517 0.32902 L -0.12517 0.3163 E">
                                      <p:cBhvr>
                                        <p:cTn id="71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2.65896E-006 C 0.01633 0.08671 -0.00954 0.18012 0.00799 0.26636 C 0.00747 0.30428 0.0073 0.34243 0.00626 0.38035 C 0.00521 0.42335 0.00539 0.39145 0.00313 0.3889 C 0.00105 0.38659 -0.00225 0.38752 -0.00485 0.38682 C -0.0085 0.38567 -0.01562 0.38289 -0.01909 0.38266 C -0.07673 0.37873 -0.07465 0.40509 -0.07465 0.37179 E">
                                      <p:cBhvr>
                                        <p:cTn id="75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3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1 0.01573 C 0.00903 0.02197 0.01007 0.02844 0.01007 0.03469 C 0.01007 0.4837 0.10678 0.43191 -0.11215 0.42775 C -0.12829 0.42521 -0.1434 0.42359 -0.15972 0.42359 E">
                                      <p:cBhvr>
                                        <p:cTn id="85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3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3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3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3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3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3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pH trapping (Ion trapping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pH of urine by chemicals can inhibit or enhance the drug reabsorption from renal tubules back into blood circulati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 trapping is used to enhance renal clearance of drugs during toxic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is normally slightly acidic and favors excretion of 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basic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pH trapping (Ion trapping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idificatio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urine using ammonium chloride (NH4Cl) increases excretion o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asic drugs as amphetamine.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lkalinization of  urin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ing sodium bicarbonate NaHC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reases excretion o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idic drugs as aspir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7640" y="259920"/>
            <a:ext cx="8785080" cy="6264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excreted mainly by the kidney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glycosides antibiotics (as gentamyc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h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se drugs should be prescribed carefully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with renal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derly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Biliary Excre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2560" y="105264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4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to few drugs that are excreted into fe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drugs are secreted from the liver into bile by active transporters, then into duoden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rugs undergo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nterohepatic circula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 into systemic blood circulation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Enterohepatic circul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13840" y="999720"/>
            <a:ext cx="8750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excreted in the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i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form of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glucouronides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be  hydrolyzed in  intestine by bacterial flora liberating  free drugs that can be reabsorbed back into blood if the drugs are lipid solu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longs the duration of action of drugs e.g.  digoxin, morphine, thyrox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85840" y="277920"/>
            <a:ext cx="84009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Plasma half-life (t ½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893440" cy="5591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time required for the plasma concentration of a drug to fall to half of its initial concen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measure of duration of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dosing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rugs of short plasma half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lin, tubocura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rugs of long plasma half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oxin, thyrox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50752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Factors that may increase half-life (t ½ 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14200" y="928440"/>
            <a:ext cx="8715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ased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al inhibi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ased clea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stive heart fail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gh binding of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prote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bi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terohepatic recyc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8000" y="286920"/>
            <a:ext cx="67690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of Drug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the end of this lecture, students should be able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main and minor routes of Excretion including renal elimination and biliary excre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enterohepatic circulation and its consequences on duration of dru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some pharmacokinetics terms including clearance of dru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half-life (t ½), multiple dosing, steady state levels, maintenance dose and Loading dose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1280" y="190440"/>
            <a:ext cx="9001440" cy="65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eady state leve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te at which the therapeutic plasma concentration of the drug (mg/ml) remains constant with the therapeutic window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the range between effective and toxic levels of drug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steady st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of drug administration = elimination ra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61b"/>
                </a:solidFill>
                <a:latin typeface="Garamond"/>
              </a:rPr>
              <a:t>Therapeutic wind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611280" y="1214280"/>
            <a:ext cx="8032680" cy="509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Steady state of a drug</a:t>
            </a:r>
            <a:r>
              <a:rPr b="0" lang="ar-SA" sz="3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457200" y="1125360"/>
            <a:ext cx="8229600" cy="532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13840" y="188640"/>
            <a:ext cx="864396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How many half-lives would be necessary to reach steady stat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teady state concentration is attained after 3-5 half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E.g. Morp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Steady state level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457200" y="1071720"/>
            <a:ext cx="8258040" cy="509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42920" y="117360"/>
            <a:ext cx="8786880" cy="666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ading do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large initial dose that is given to achieve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rapid therapeutic plasma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administration of the drug,  the plasma concentration decreases due to distribution of drug to other t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ing dose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balances the drug distribu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important for drugs with long halv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89308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linical applications of Loading dose 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50560" y="1052640"/>
            <a:ext cx="87138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ading dose may be desirable if the time required to attain steady state of drug (4 elimination t1/2 values) is long and rapid relief is required in  the condition being trea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t1/2 of lidocaine (antiarrhythmic drug)  is usually 1-2 hour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rrhythmias after myocardial infarction are life-threatening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ne cannot wait 4-8 hours to achieve a therapeutic concentr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a loading dose of lidocaine in the coronary care unit is stand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42920" y="117360"/>
            <a:ext cx="8786880" cy="666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intenance do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doses required to  maintain the therapeutic level of the drug constant or the steady state of the dru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oses balance the amount of drug lost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during metabolism and clear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tient needs to take regular doses of a drug such a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oxicillin ( 500 mg) / 8 hours to maintain the therapeutic leve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drugs are readily excreted and poorly re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le drugs are reabsorbed back and excretion will be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c drugs are best excreted in alkaline urine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dium bicarbon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drugs are best excreted in acidic urine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monium chlori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hepatic circulation prolongs half life of the dru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QUESTION"/>
          <p:cNvPicPr/>
          <p:nvPr/>
        </p:nvPicPr>
        <p:blipFill>
          <a:blip r:embed="rId1"/>
          <a:stretch/>
        </p:blipFill>
        <p:spPr>
          <a:xfrm>
            <a:off x="5940360" y="981000"/>
            <a:ext cx="2376720" cy="410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j0078711"/>
          <p:cNvPicPr/>
          <p:nvPr/>
        </p:nvPicPr>
        <p:blipFill>
          <a:blip r:embed="rId2"/>
          <a:stretch/>
        </p:blipFill>
        <p:spPr>
          <a:xfrm>
            <a:off x="1476360" y="1916280"/>
            <a:ext cx="2057400" cy="39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Routes of Excre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2560" y="1314000"/>
            <a:ext cx="8677080" cy="52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ain Routes of Excre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Excre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iary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or Routes of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xcre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vary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mmary excretion via mil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/ Dermal excretion via swe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Excre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e of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unit of kidney is neph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onsists o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mer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p of Hen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ng 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23"/>
          <p:cNvPicPr/>
          <p:nvPr/>
        </p:nvPicPr>
        <p:blipFill>
          <a:blip r:embed="rId1"/>
          <a:stretch/>
        </p:blipFill>
        <p:spPr>
          <a:xfrm>
            <a:off x="71280" y="115920"/>
            <a:ext cx="8964720" cy="66690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89" name="Text Box 5"/>
          <p:cNvSpPr/>
          <p:nvPr/>
        </p:nvSpPr>
        <p:spPr>
          <a:xfrm>
            <a:off x="2050920" y="260280"/>
            <a:ext cx="482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611280" y="53737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d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nal Excretion inclu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 principle processes that determine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ary excretion of drug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merular fil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tubular reabsorp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tubular se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751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6516720" y="3357720"/>
            <a:ext cx="1800360" cy="2867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Glomerular filtration (GF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s upon renal blood flow (600 ml/mi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 20% of renal blood flow = 125 ml/m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omerular filtration occur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ow molecular weight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500" spc="-1" strike="noStrike">
                <a:solidFill>
                  <a:srgbClr val="0000cc"/>
                </a:solidFill>
                <a:latin typeface="Arial"/>
              </a:rPr>
              <a:t>free drugs (unbound to plasma protein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re filter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605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ve tubular secretio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urs mainly in proximal tubules; increases drug concentration in 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c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anioni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cationic tranporter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te active secretion of anionic and cationic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ransport drug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gain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c. grad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lin is an example of actively secreted d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87156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9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stem for Acidic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cy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phonam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ransport of acidic drugs is blocked by probenecid </a:t>
            </a:r>
            <a:r>
              <a:rPr b="1" lang="en-US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(Because the compet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9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stem for Basic drug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ph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i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op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n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stigm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3422</cp:lastModifiedBy>
  <dcterms:modified xsi:type="dcterms:W3CDTF">2015-10-08T06:56:14Z</dcterms:modified>
  <cp:revision>219</cp:revision>
  <dc:subject/>
  <dc:title>GENERAL PHARMACOLOGY</dc:title>
</cp:coreProperties>
</file>