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3071-CB73-4BE9-99C2-E8687C8B7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ABEB-C74C-4085-8FA8-0004FA6C3A8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9F86-F06C-4F07-A26B-8B824571D39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7EAF-943A-43B8-A02D-4F148D185A8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A26D-86D5-4197-8C25-2CB1265AE08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9474-CCE9-4204-8BAB-B2C118983B2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D8BC-10C5-4B82-8D63-C16C5AB053E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9A83-7631-44AB-9438-551BEDD1AD5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5C46F-6259-4D6F-84F3-0CC6566E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DBE7-5F1F-4A7C-A0B7-72BE408F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9066-D9E4-47B2-B847-CAC6216E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67C7E-EB73-45A0-B880-9E924ABD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77B3-6174-4E94-ABB4-9395162C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0331-1827-4A6D-B245-43AF9B7A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5E3A-84CB-4C15-AE8C-EEFE89FF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6F17-892B-45A9-A4C5-EBD35700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4756-5777-4B3C-8D33-F55A95E6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53AA-D7E5-4F80-BC08-150805F8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9B77-3E1B-4D68-BBA7-34A30EF2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B6D82-10F5-4018-86FE-8E6D98AD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73AE-CCCD-4D4D-AE33-92F36FCA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29FB-DFD4-4C8B-89E5-84B03A08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B3A6-FEA7-4DC0-A4A6-58863C9F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C8FA-2CBD-423D-A078-BEFDC9E3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D267-B05E-48BE-ABE1-CB27A19D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19907-B474-4B55-AA28-5CC4D137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B1F52-3915-4CDC-9FF2-03C154DC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01906-257D-4049-962F-F1288EEE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1A317-A4F9-4F10-8B78-E2685F22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B4412-64ED-4582-B068-19D2FD13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37756-C74D-47C3-954B-0D6595D7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C671F-01FA-44BF-A0DD-BBA6E9FC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BA1B8-5DB7-46B7-981B-4AA33CEC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9B371-F79B-4C9A-A4C7-B9641AB9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E827D-48BD-4052-AEB0-41DD5290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D5BF7-0DDB-43F3-AF0A-FAEE28CD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9379D-22D5-43FF-B31B-EBB48E28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13A07-3304-4D73-BE48-072623BD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4E096-B839-46FF-BD4D-C44E8E46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A71CD-1FFA-4F1D-B77C-B3060308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2022A-6B1F-46AE-8165-CBE13AAE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5F391-36A2-4F04-AA37-6662D8D3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ED7D9-CAED-4F92-9633-1089D9D7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E478A-EA53-4B1C-AD8A-B888C498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BFBFD-F58E-4F37-B8DC-CDB9B45B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E61E8-396D-4B40-AE67-8E7CF0CF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439C5-9B0A-41B3-AE86-8579EE30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A603C-99F5-45E0-8FB2-B31AF0A1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AFB96-5823-4DB3-A41B-4CE883D2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073FD-E454-49F1-8778-C7432942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496DE-D93F-4706-906A-43AAD83F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1AF9A-3728-4280-8A14-2B4115F8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360C-C90F-4A84-B4BF-C5737AC7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39A24-E710-4E00-A936-A56C1040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7F348-B81F-4084-A282-7F492A79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9E1D3-94AA-428A-A63C-1643BD7B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0CBE-A7E7-467A-AB0E-C1AE971CA6D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9B7F-DBF5-4463-BD51-6D2424BDF7C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11FE-2233-4ADE-BE6F-1AFF04A7EA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9303-A73E-4C9C-A5C8-CF00ADB050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-360" y="4149720"/>
            <a:ext cx="4932360" cy="2448000"/>
          </a:xfrm>
          <a:prstGeom prst="rect">
            <a:avLst/>
          </a:prstGeom>
          <a:noFill/>
          <a:ln w="9360">
            <a:solidFill>
              <a:srgbClr val="f0fb5f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By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rof.Saeed Abulmakar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r. Sanaa Al-Sharaw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Picture 5" descr="Untitled-13a"/>
          <p:cNvPicPr/>
          <p:nvPr/>
        </p:nvPicPr>
        <p:blipFill>
          <a:blip r:embed="rId1"/>
          <a:stretch/>
        </p:blipFill>
        <p:spPr>
          <a:xfrm>
            <a:off x="4967280" y="189000"/>
            <a:ext cx="4176720" cy="64087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"/>
          <p:cNvSpPr/>
          <p:nvPr/>
        </p:nvSpPr>
        <p:spPr>
          <a:xfrm>
            <a:off x="214200" y="476280"/>
            <a:ext cx="464364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FOREARM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78920" y="228600"/>
            <a:ext cx="2792520" cy="640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Garamond"/>
              </a:rPr>
              <a:t>Flexor Digitorum Profund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Garamond"/>
              </a:rPr>
              <a:t>Insertion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: bases of distal phalanges of medial 4 dig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Garamond"/>
              </a:rPr>
              <a:t>Action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: Flexes distal phalanges of medial 4 digit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9" name="Picture 6" descr="C:\Documents and Settings\KSU\My Documents\My Pictures\fa3.jpg"/>
          <p:cNvPicPr/>
          <p:nvPr/>
        </p:nvPicPr>
        <p:blipFill>
          <a:blip r:embed="rId1"/>
          <a:srcRect l="5776" t="4521" r="73065" b="12073"/>
          <a:stretch/>
        </p:blipFill>
        <p:spPr>
          <a:xfrm>
            <a:off x="611280" y="2857680"/>
            <a:ext cx="1657080" cy="381132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3"/>
          <p:cNvSpPr/>
          <p:nvPr/>
        </p:nvSpPr>
        <p:spPr>
          <a:xfrm>
            <a:off x="3048120" y="228600"/>
            <a:ext cx="2963880" cy="64008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Garamond"/>
              </a:rPr>
              <a:t>Flexor Pollicis  Long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Garamond"/>
              </a:rPr>
              <a:t>Insertion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: Base of distal phalanx of thum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Garamond"/>
              </a:rPr>
              <a:t>Action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: flexes interphalangeal, metacarpophalangeal &amp; carpometacarpal joints of thumb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Picture 6" descr="C:\Documents and Settings\KSU\My Documents\My Pictures\fa3.jpg"/>
          <p:cNvPicPr/>
          <p:nvPr/>
        </p:nvPicPr>
        <p:blipFill>
          <a:blip r:embed="rId2"/>
          <a:srcRect l="41455" t="7423" r="37014" b="10554"/>
          <a:stretch/>
        </p:blipFill>
        <p:spPr>
          <a:xfrm>
            <a:off x="3564000" y="3143160"/>
            <a:ext cx="1800000" cy="34545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6172200" y="189000"/>
            <a:ext cx="2792520" cy="64404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Garamond"/>
              </a:rPr>
              <a:t>Pronator Quadrat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Garamond"/>
                <a:ea typeface="Arial"/>
              </a:rPr>
              <a:t>Insertion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: distal fourth of ant. surface of radi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Garamond"/>
                <a:ea typeface="Arial"/>
              </a:rPr>
              <a:t>Action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: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  <a:ea typeface="Arial"/>
              </a:rPr>
              <a:t>pronates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 forearm (prime mover), helps to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  <a:ea typeface="Arial"/>
              </a:rPr>
              <a:t>hold the bones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together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3" name="Picture 6" descr="C:\Documents and Settings\KSU\My Documents\My Pictures\fa3.jpg"/>
          <p:cNvPicPr/>
          <p:nvPr/>
        </p:nvPicPr>
        <p:blipFill>
          <a:blip r:embed="rId3"/>
          <a:srcRect l="79983" t="13642" r="4083" b="30272"/>
          <a:stretch/>
        </p:blipFill>
        <p:spPr>
          <a:xfrm>
            <a:off x="6804000" y="2924280"/>
            <a:ext cx="1800360" cy="3673440"/>
          </a:xfrm>
          <a:prstGeom prst="rect">
            <a:avLst/>
          </a:prstGeom>
          <a:ln w="0">
            <a:noFill/>
          </a:ln>
        </p:spPr>
      </p:pic>
      <p:sp>
        <p:nvSpPr>
          <p:cNvPr id="254" name="5-Point Star 7"/>
          <p:cNvSpPr/>
          <p:nvPr/>
        </p:nvSpPr>
        <p:spPr>
          <a:xfrm flipH="1">
            <a:off x="8001000" y="5214960"/>
            <a:ext cx="71280" cy="214200"/>
          </a:xfrm>
          <a:prstGeom prst="pie">
            <a:avLst/>
          </a:prstGeom>
          <a:solidFill>
            <a:srgbClr val="fc6a9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5-Point Star 8"/>
          <p:cNvSpPr/>
          <p:nvPr/>
        </p:nvSpPr>
        <p:spPr>
          <a:xfrm flipV="1">
            <a:off x="7429680" y="5357160"/>
            <a:ext cx="142560" cy="214200"/>
          </a:xfrm>
          <a:prstGeom prst="pie">
            <a:avLst/>
          </a:prstGeom>
          <a:solidFill>
            <a:srgbClr val="0a47ff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E:\dad\Student Gray\7. Upper limb\F66122-007-f080.jpg"/>
          <p:cNvPicPr/>
          <p:nvPr/>
        </p:nvPicPr>
        <p:blipFill>
          <a:blip r:embed="rId1"/>
          <a:srcRect l="0" t="0" r="0" b="4069"/>
          <a:stretch/>
        </p:blipFill>
        <p:spPr>
          <a:xfrm>
            <a:off x="3276720" y="189000"/>
            <a:ext cx="5688000" cy="640872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179280" y="260280"/>
            <a:ext cx="2808360" cy="1373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upin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ron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179280" y="1844640"/>
            <a:ext cx="2952720" cy="527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t occurs in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superior and  inferior radioulnar joints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Muscles produce supin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Biceps brachi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upinato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Muscles produce pron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ronator ter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ronator quadratu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B. </a:t>
            </a:r>
            <a:r>
              <a:rPr b="1" lang="en-US" sz="2000" spc="-1" strike="noStrike">
                <a:solidFill>
                  <a:srgbClr val="99ff33"/>
                </a:solidFill>
                <a:latin typeface="Garamond"/>
              </a:rPr>
              <a:t>Brachioradialis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put the forearm in 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midprone- posi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826920" y="260280"/>
            <a:ext cx="7490160" cy="1191240"/>
          </a:xfrm>
          <a:prstGeom prst="rect">
            <a:avLst/>
          </a:prstGeom>
          <a:solidFill>
            <a:srgbClr val="c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0d"/>
                </a:solidFill>
                <a:latin typeface="Garamond"/>
              </a:rPr>
              <a:t>Posterior compartment:   3 group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214200" y="2714760"/>
            <a:ext cx="4143600" cy="39333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Superficial group (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99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carpi radialis brev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digitoru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digiti mini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carpi uln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coneu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3143160"/>
            <a:ext cx="4716360" cy="4786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Deep group  (5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)                                   </a:t>
            </a:r>
            <a:r>
              <a:rPr b="1" lang="en-US" sz="2800" spc="-1" strike="noStrike">
                <a:solidFill>
                  <a:srgbClr val="99ff33"/>
                </a:solidFill>
                <a:latin typeface="Garamond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3 to thumb+ 1 to index + supinator</a:t>
            </a:r>
            <a:r>
              <a:rPr b="1" lang="en-US" sz="2800" spc="-1" strike="noStrike">
                <a:solidFill>
                  <a:srgbClr val="99ff33"/>
                </a:solidFill>
                <a:latin typeface="Garamond"/>
              </a:rPr>
              <a:t>)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pinat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ductor </a:t>
            </a:r>
            <a:r>
              <a:rPr b="1" lang="en-US" sz="2800" spc="-1" strike="noStrike">
                <a:solidFill>
                  <a:srgbClr val="99ff33"/>
                </a:solidFill>
                <a:latin typeface="Garamond"/>
              </a:rPr>
              <a:t>pollici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longu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</a:t>
            </a:r>
            <a:r>
              <a:rPr b="1" lang="en-US" sz="2800" spc="-1" strike="noStrike">
                <a:solidFill>
                  <a:srgbClr val="99ff33"/>
                </a:solidFill>
                <a:latin typeface="Garamond"/>
              </a:rPr>
              <a:t>pollicis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rev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</a:t>
            </a:r>
            <a:r>
              <a:rPr b="1" lang="en-US" sz="2800" spc="-1" strike="noStrike">
                <a:solidFill>
                  <a:srgbClr val="99ff33"/>
                </a:solidFill>
                <a:latin typeface="Garamond"/>
              </a:rPr>
              <a:t>pollici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long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</a:t>
            </a:r>
            <a:r>
              <a:rPr b="1" lang="en-US" sz="2800" spc="-1" strike="noStrike">
                <a:solidFill>
                  <a:srgbClr val="fb9be2"/>
                </a:solidFill>
                <a:latin typeface="Garamond"/>
              </a:rPr>
              <a:t>indi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647640" y="1523880"/>
            <a:ext cx="5695920" cy="190512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5429160" y="1341360"/>
            <a:ext cx="3500640" cy="167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Common Extenso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Origin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(front of lateral epicondyle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14200" y="1214280"/>
            <a:ext cx="5072040" cy="222696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Superficial Lateral group  (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rachioradial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carpi radialis long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4032360" cy="612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Garamond"/>
              </a:rPr>
              <a:t>Posterior compartment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Superficial group: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7 muscle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( from lateral to medial) 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rachioradialis, (BR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tensor carpi radialis longus, (ECRL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tensor carpi radialis brevis, (ECRB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tensor digitorum,  (E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tensor digiti minimi, (EDM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tensor carpi ulnaris, (ECU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coneus. (An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6" name="Picture 3" descr="F71683-052-f017"/>
          <p:cNvPicPr/>
          <p:nvPr/>
        </p:nvPicPr>
        <p:blipFill>
          <a:blip r:embed="rId1"/>
          <a:srcRect l="6252" t="0" r="6252" b="4001"/>
          <a:stretch/>
        </p:blipFill>
        <p:spPr>
          <a:xfrm>
            <a:off x="4356000" y="189000"/>
            <a:ext cx="4464000" cy="6408720"/>
          </a:xfrm>
          <a:prstGeom prst="rect">
            <a:avLst/>
          </a:prstGeom>
          <a:ln w="0">
            <a:noFill/>
          </a:ln>
        </p:spPr>
      </p:pic>
      <p:sp>
        <p:nvSpPr>
          <p:cNvPr id="267" name="5-Point Star 3"/>
          <p:cNvSpPr/>
          <p:nvPr/>
        </p:nvSpPr>
        <p:spPr>
          <a:xfrm flipV="1">
            <a:off x="6357960" y="785880"/>
            <a:ext cx="7128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5-Point Star 4"/>
          <p:cNvSpPr/>
          <p:nvPr/>
        </p:nvSpPr>
        <p:spPr>
          <a:xfrm>
            <a:off x="6500880" y="1143000"/>
            <a:ext cx="7128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5-Point Star 5"/>
          <p:cNvSpPr/>
          <p:nvPr/>
        </p:nvSpPr>
        <p:spPr>
          <a:xfrm>
            <a:off x="6572160" y="1571760"/>
            <a:ext cx="7164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5-Point Star 6"/>
          <p:cNvSpPr/>
          <p:nvPr/>
        </p:nvSpPr>
        <p:spPr>
          <a:xfrm flipH="1" flipV="1">
            <a:off x="6857280" y="1928160"/>
            <a:ext cx="142920" cy="14292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5-Point Star 7"/>
          <p:cNvSpPr/>
          <p:nvPr/>
        </p:nvSpPr>
        <p:spPr>
          <a:xfrm>
            <a:off x="6929280" y="3214800"/>
            <a:ext cx="4608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5-Point Star 8"/>
          <p:cNvSpPr/>
          <p:nvPr/>
        </p:nvSpPr>
        <p:spPr>
          <a:xfrm>
            <a:off x="7072200" y="3500280"/>
            <a:ext cx="71640" cy="7164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5-Point Star 9"/>
          <p:cNvSpPr/>
          <p:nvPr/>
        </p:nvSpPr>
        <p:spPr>
          <a:xfrm>
            <a:off x="7286760" y="1357200"/>
            <a:ext cx="71280" cy="14292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3600360" cy="72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uperficial extensor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1052280"/>
            <a:ext cx="4500720" cy="5329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All arises from the 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common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extensor origin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front of lateral epicondyle of the humerus), 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EXCEPT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2 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(BR &amp; ECRL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All cross the wrist 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EXCEPT,  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one,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brachioradialis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All supplied by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deep branch of radial  nerve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200" spc="-1" strike="noStrike" u="sng">
                <a:solidFill>
                  <a:srgbClr val="f0fb5f"/>
                </a:solidFill>
                <a:uFillTx/>
                <a:latin typeface="Garamond"/>
              </a:rPr>
              <a:t>EXCEPT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200" spc="-1" strike="noStrike" u="sng">
                <a:solidFill>
                  <a:srgbClr val="ff9933"/>
                </a:solidFill>
                <a:uFillTx/>
                <a:latin typeface="Garamond"/>
              </a:rPr>
              <a:t>AB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00"/>
                </a:solidFill>
                <a:uFillTx/>
                <a:latin typeface="Garamond"/>
              </a:rPr>
              <a:t>A,  anconeu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00"/>
                </a:solidFill>
                <a:uFillTx/>
                <a:latin typeface="Garamond"/>
              </a:rPr>
              <a:t>B, Brachioradiali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00"/>
                </a:solidFill>
                <a:uFillTx/>
                <a:latin typeface="Garamond"/>
              </a:rPr>
              <a:t>E, Extensor carpi radialis longu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99ff33"/>
                </a:solidFill>
                <a:uFillTx/>
                <a:latin typeface="Garamond"/>
              </a:rPr>
              <a:t>These 3 muscles are supplied by the radial nerve itself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6" name="Picture 6" descr="F71683-052-f018"/>
          <p:cNvPicPr/>
          <p:nvPr/>
        </p:nvPicPr>
        <p:blipFill>
          <a:blip r:embed="rId1"/>
          <a:srcRect l="6894" t="0" r="6894" b="2703"/>
          <a:stretch/>
        </p:blipFill>
        <p:spPr>
          <a:xfrm>
            <a:off x="4572000" y="189000"/>
            <a:ext cx="4176720" cy="6480000"/>
          </a:xfrm>
          <a:prstGeom prst="rect">
            <a:avLst/>
          </a:prstGeom>
          <a:ln w="0">
            <a:noFill/>
          </a:ln>
        </p:spPr>
      </p:pic>
      <p:sp>
        <p:nvSpPr>
          <p:cNvPr id="277" name="5-Point Star 4"/>
          <p:cNvSpPr/>
          <p:nvPr/>
        </p:nvSpPr>
        <p:spPr>
          <a:xfrm>
            <a:off x="6429240" y="857160"/>
            <a:ext cx="142920" cy="14292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5-Point Star 5"/>
          <p:cNvSpPr/>
          <p:nvPr/>
        </p:nvSpPr>
        <p:spPr>
          <a:xfrm>
            <a:off x="6286680" y="642960"/>
            <a:ext cx="7128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5-Point Star 6"/>
          <p:cNvSpPr/>
          <p:nvPr/>
        </p:nvSpPr>
        <p:spPr>
          <a:xfrm>
            <a:off x="7215120" y="1857240"/>
            <a:ext cx="71640" cy="7164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Frame 8"/>
          <p:cNvSpPr/>
          <p:nvPr/>
        </p:nvSpPr>
        <p:spPr>
          <a:xfrm>
            <a:off x="4786200" y="2857680"/>
            <a:ext cx="1000080" cy="428400"/>
          </a:xfrm>
          <a:prstGeom prst="pie">
            <a:avLst/>
          </a:prstGeom>
          <a:solidFill>
            <a:srgbClr val="0099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179280" y="620640"/>
            <a:ext cx="2521080" cy="489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Brachioradial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Origin: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ateral supracondylar ridge of humer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Insertion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Base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styloid process of radi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Action: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lexes forearm; (elbow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otates forearm to the midprone posi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588000" y="549360"/>
            <a:ext cx="2556000" cy="5022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Extensor Carpi  radialis long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Origin: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ateral supracondylar ridge of humer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Insertion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osterior surface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base of 2</a:t>
            </a:r>
            <a:r>
              <a:rPr b="1" lang="en-US" sz="2000" spc="-1" strike="noStrike" u="sng" baseline="30000">
                <a:solidFill>
                  <a:srgbClr val="ffffff"/>
                </a:solidFill>
                <a:uFillTx/>
                <a:latin typeface="Garamond"/>
              </a:rPr>
              <a:t>nd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 metacarpal bo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Ac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xtends and abducts hand at wrist joi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3" name="Picture 2" descr="E:\dad\Student Gray\7. Upper limb\F66122-007-f087.jpg"/>
          <p:cNvPicPr/>
          <p:nvPr/>
        </p:nvPicPr>
        <p:blipFill>
          <a:blip r:embed="rId1"/>
          <a:srcRect l="14894" t="0" r="0" b="0"/>
          <a:stretch/>
        </p:blipFill>
        <p:spPr>
          <a:xfrm>
            <a:off x="2771640" y="333360"/>
            <a:ext cx="3745080" cy="6191280"/>
          </a:xfrm>
          <a:prstGeom prst="rect">
            <a:avLst/>
          </a:prstGeom>
          <a:ln w="0">
            <a:noFill/>
          </a:ln>
        </p:spPr>
      </p:pic>
      <p:sp>
        <p:nvSpPr>
          <p:cNvPr id="284" name="5-Point Star 5"/>
          <p:cNvSpPr/>
          <p:nvPr/>
        </p:nvSpPr>
        <p:spPr>
          <a:xfrm>
            <a:off x="3000240" y="2000160"/>
            <a:ext cx="71640" cy="14292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5-Point Star 6"/>
          <p:cNvSpPr/>
          <p:nvPr/>
        </p:nvSpPr>
        <p:spPr>
          <a:xfrm>
            <a:off x="5572080" y="1785960"/>
            <a:ext cx="7164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5-Point Star 7"/>
          <p:cNvSpPr/>
          <p:nvPr/>
        </p:nvSpPr>
        <p:spPr>
          <a:xfrm>
            <a:off x="5286240" y="4714920"/>
            <a:ext cx="7164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297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5-Point Star 8"/>
          <p:cNvSpPr/>
          <p:nvPr/>
        </p:nvSpPr>
        <p:spPr>
          <a:xfrm>
            <a:off x="3000240" y="4429080"/>
            <a:ext cx="46080" cy="46080"/>
          </a:xfrm>
          <a:prstGeom prst="pie">
            <a:avLst/>
          </a:prstGeom>
          <a:solidFill>
            <a:srgbClr val="0099cc"/>
          </a:solidFill>
          <a:ln w="25560">
            <a:solidFill>
              <a:srgbClr val="297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E:\dad\Student Gray\7. Upper limb\F66122-007-f087.jpg"/>
          <p:cNvPicPr/>
          <p:nvPr/>
        </p:nvPicPr>
        <p:blipFill>
          <a:blip r:embed="rId1"/>
          <a:srcRect l="38469" t="7523" r="0" b="6261"/>
          <a:stretch/>
        </p:blipFill>
        <p:spPr>
          <a:xfrm>
            <a:off x="4643280" y="260280"/>
            <a:ext cx="4105440" cy="59770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2"/>
          <p:cNvSpPr/>
          <p:nvPr/>
        </p:nvSpPr>
        <p:spPr>
          <a:xfrm>
            <a:off x="179280" y="1628640"/>
            <a:ext cx="4248360" cy="448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Extensor carpi radialis brevis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ase of 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metacarpal bon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Extensor digitorum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Extensor expansio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of the medial 4 finge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Extensor digiti minimi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Extensor expansio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of the little fing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Extensor carpi ulnaris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ase of the 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metacarpal bon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539640" y="549360"/>
            <a:ext cx="35276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INSER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5-Point Star 4"/>
          <p:cNvSpPr/>
          <p:nvPr/>
        </p:nvSpPr>
        <p:spPr>
          <a:xfrm>
            <a:off x="7143840" y="1857240"/>
            <a:ext cx="71280" cy="71640"/>
          </a:xfrm>
          <a:prstGeom prst="pie">
            <a:avLst/>
          </a:prstGeom>
          <a:solidFill>
            <a:srgbClr val="0099cc"/>
          </a:solidFill>
          <a:ln w="25560">
            <a:solidFill>
              <a:srgbClr val="297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5-Point Star 5"/>
          <p:cNvSpPr/>
          <p:nvPr/>
        </p:nvSpPr>
        <p:spPr>
          <a:xfrm flipV="1">
            <a:off x="6643800" y="3499560"/>
            <a:ext cx="142920" cy="142920"/>
          </a:xfrm>
          <a:prstGeom prst="pie">
            <a:avLst/>
          </a:prstGeom>
          <a:solidFill>
            <a:srgbClr val="0099cc"/>
          </a:solidFill>
          <a:ln w="25560">
            <a:solidFill>
              <a:srgbClr val="297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5-Point Star 6"/>
          <p:cNvSpPr/>
          <p:nvPr/>
        </p:nvSpPr>
        <p:spPr>
          <a:xfrm>
            <a:off x="6500880" y="3000240"/>
            <a:ext cx="71280" cy="71640"/>
          </a:xfrm>
          <a:prstGeom prst="pie">
            <a:avLst/>
          </a:prstGeom>
          <a:solidFill>
            <a:srgbClr val="0099cc"/>
          </a:solidFill>
          <a:ln w="25560">
            <a:solidFill>
              <a:srgbClr val="297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5-Point Star 7"/>
          <p:cNvSpPr/>
          <p:nvPr/>
        </p:nvSpPr>
        <p:spPr>
          <a:xfrm>
            <a:off x="6357960" y="2571840"/>
            <a:ext cx="7128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297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95" name="Straight Arrow Connector 11"/>
          <p:cNvCxnSpPr/>
          <p:nvPr/>
        </p:nvCxnSpPr>
        <p:spPr>
          <a:xfrm flipH="1" flipV="1">
            <a:off x="5785560" y="5500440"/>
            <a:ext cx="1715400" cy="7200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296" name="Straight Arrow Connector 13"/>
          <p:cNvCxnSpPr/>
          <p:nvPr/>
        </p:nvCxnSpPr>
        <p:spPr>
          <a:xfrm flipH="1">
            <a:off x="7071480" y="5571720"/>
            <a:ext cx="429480" cy="42948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297" name="TextBox 14"/>
          <p:cNvSpPr/>
          <p:nvPr/>
        </p:nvSpPr>
        <p:spPr>
          <a:xfrm>
            <a:off x="7429680" y="5500800"/>
            <a:ext cx="1000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Garamond"/>
              </a:rPr>
              <a:t>Extensor Expansion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0" y="333360"/>
            <a:ext cx="2987640" cy="7442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II- Deep group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5 musc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- Abductor pollicis longus, (APL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- Extensor pollicis brevis, (EPB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- Extensor pollicis longus, (EPL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- Extensor indicis (EI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- Supinat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ll back muscles of forearm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are supplied by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posterior interosseous nerv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Garamond"/>
              </a:rPr>
              <a:t>except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 ,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B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by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Radial nerv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9" name="Picture 8" descr="ap11_029"/>
          <p:cNvPicPr/>
          <p:nvPr/>
        </p:nvPicPr>
        <p:blipFill>
          <a:blip r:embed="rId1"/>
          <a:srcRect l="0" t="2856" r="0" b="1099"/>
          <a:stretch/>
        </p:blipFill>
        <p:spPr>
          <a:xfrm>
            <a:off x="6372360" y="189000"/>
            <a:ext cx="2592360" cy="6480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E:\dad\Student Gray\7. Upper limb\F66122-007-f088.jpg"/>
          <p:cNvPicPr/>
          <p:nvPr/>
        </p:nvPicPr>
        <p:blipFill>
          <a:blip r:embed="rId2"/>
          <a:srcRect l="42741" t="0" r="0" b="5745"/>
          <a:stretch/>
        </p:blipFill>
        <p:spPr>
          <a:xfrm>
            <a:off x="3059280" y="260280"/>
            <a:ext cx="3313080" cy="6264360"/>
          </a:xfrm>
          <a:prstGeom prst="rect">
            <a:avLst/>
          </a:prstGeom>
          <a:ln w="0">
            <a:noFill/>
          </a:ln>
        </p:spPr>
      </p:pic>
      <p:sp>
        <p:nvSpPr>
          <p:cNvPr id="301" name="5-Point Star 4"/>
          <p:cNvSpPr/>
          <p:nvPr/>
        </p:nvSpPr>
        <p:spPr>
          <a:xfrm>
            <a:off x="4857840" y="2857680"/>
            <a:ext cx="4608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5-Point Star 5"/>
          <p:cNvSpPr/>
          <p:nvPr/>
        </p:nvSpPr>
        <p:spPr>
          <a:xfrm>
            <a:off x="4929120" y="3643200"/>
            <a:ext cx="46080" cy="7164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5-Point Star 6"/>
          <p:cNvSpPr/>
          <p:nvPr/>
        </p:nvSpPr>
        <p:spPr>
          <a:xfrm>
            <a:off x="4643280" y="3214800"/>
            <a:ext cx="7164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5-Point Star 7"/>
          <p:cNvSpPr/>
          <p:nvPr/>
        </p:nvSpPr>
        <p:spPr>
          <a:xfrm>
            <a:off x="4572000" y="3714840"/>
            <a:ext cx="71280" cy="4608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5-Point Star 8"/>
          <p:cNvSpPr/>
          <p:nvPr/>
        </p:nvSpPr>
        <p:spPr>
          <a:xfrm>
            <a:off x="5000760" y="1500120"/>
            <a:ext cx="142920" cy="14292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5-Point Star 9"/>
          <p:cNvSpPr/>
          <p:nvPr/>
        </p:nvSpPr>
        <p:spPr>
          <a:xfrm>
            <a:off x="5286240" y="4572000"/>
            <a:ext cx="7164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5-Point Star 10"/>
          <p:cNvSpPr/>
          <p:nvPr/>
        </p:nvSpPr>
        <p:spPr>
          <a:xfrm>
            <a:off x="5643720" y="5072040"/>
            <a:ext cx="71280" cy="46080"/>
          </a:xfrm>
          <a:prstGeom prst="pie">
            <a:avLst/>
          </a:prstGeom>
          <a:solidFill>
            <a:srgbClr val="0099cc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5-Point Star 11"/>
          <p:cNvSpPr/>
          <p:nvPr/>
        </p:nvSpPr>
        <p:spPr>
          <a:xfrm>
            <a:off x="5857920" y="5429160"/>
            <a:ext cx="71280" cy="71640"/>
          </a:xfrm>
          <a:prstGeom prst="pie">
            <a:avLst/>
          </a:prstGeom>
          <a:solidFill>
            <a:srgbClr val="0099cc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5-Point Star 12"/>
          <p:cNvSpPr/>
          <p:nvPr/>
        </p:nvSpPr>
        <p:spPr>
          <a:xfrm>
            <a:off x="4929120" y="5572080"/>
            <a:ext cx="71640" cy="71640"/>
          </a:xfrm>
          <a:prstGeom prst="pie">
            <a:avLst/>
          </a:prstGeom>
          <a:solidFill>
            <a:srgbClr val="0099cc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5"/>
          <p:cNvSpPr/>
          <p:nvPr/>
        </p:nvSpPr>
        <p:spPr>
          <a:xfrm>
            <a:off x="1692360" y="189000"/>
            <a:ext cx="5543640" cy="1068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Dorsal Extensor Expans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1" name="Picture 6" descr="447 label"/>
          <p:cNvPicPr/>
          <p:nvPr/>
        </p:nvPicPr>
        <p:blipFill>
          <a:blip r:embed="rId1"/>
          <a:srcRect l="841" t="9680" r="0" b="4548"/>
          <a:stretch/>
        </p:blipFill>
        <p:spPr>
          <a:xfrm>
            <a:off x="395280" y="907920"/>
            <a:ext cx="8497800" cy="295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12" name="TextBox 3"/>
          <p:cNvSpPr/>
          <p:nvPr/>
        </p:nvSpPr>
        <p:spPr>
          <a:xfrm>
            <a:off x="179280" y="4000680"/>
            <a:ext cx="8713800" cy="3020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It is formed on the dorsum of medial 4 fingers b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: the union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he tendons of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Extensor digitorum, Extensor digiti minimi, Extensor indici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 palmar and dorsal  </a:t>
            </a:r>
            <a:r>
              <a:rPr b="1" lang="en-US" sz="2400" spc="-1" strike="noStrike">
                <a:solidFill>
                  <a:srgbClr val="fb9be2"/>
                </a:solidFill>
                <a:latin typeface="Garamond"/>
              </a:rPr>
              <a:t>interossei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and </a:t>
            </a:r>
            <a:r>
              <a:rPr b="1" lang="en-US" sz="2400" spc="-1" strike="noStrike">
                <a:solidFill>
                  <a:srgbClr val="fb9be2"/>
                </a:solidFill>
                <a:latin typeface="Garamond"/>
              </a:rPr>
              <a:t>lumbrical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uscl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ll these tendons unite to form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one tendon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hich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divides into 3 slip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median one attached to middle phalange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2 lateral attached to th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erminal phalang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Frame 4"/>
          <p:cNvSpPr/>
          <p:nvPr/>
        </p:nvSpPr>
        <p:spPr>
          <a:xfrm>
            <a:off x="285840" y="1285920"/>
            <a:ext cx="2786040" cy="500040"/>
          </a:xfrm>
          <a:prstGeom prst="pie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Frame 5"/>
          <p:cNvSpPr/>
          <p:nvPr/>
        </p:nvSpPr>
        <p:spPr>
          <a:xfrm>
            <a:off x="285840" y="2786040"/>
            <a:ext cx="2143080" cy="428760"/>
          </a:xfrm>
          <a:prstGeom prst="pie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5-Point Star 6"/>
          <p:cNvSpPr/>
          <p:nvPr/>
        </p:nvSpPr>
        <p:spPr>
          <a:xfrm>
            <a:off x="3500280" y="2357280"/>
            <a:ext cx="285840" cy="71640"/>
          </a:xfrm>
          <a:prstGeom prst="pie">
            <a:avLst/>
          </a:prstGeom>
          <a:solidFill>
            <a:srgbClr val="0099cc"/>
          </a:solidFill>
          <a:ln w="25560">
            <a:solidFill>
              <a:srgbClr val="297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5-Point Star 7"/>
          <p:cNvSpPr/>
          <p:nvPr/>
        </p:nvSpPr>
        <p:spPr>
          <a:xfrm flipH="1" flipV="1">
            <a:off x="2071800" y="2356560"/>
            <a:ext cx="117360" cy="189000"/>
          </a:xfrm>
          <a:prstGeom prst="pie">
            <a:avLst/>
          </a:prstGeom>
          <a:solidFill>
            <a:srgbClr val="0099cc"/>
          </a:solidFill>
          <a:ln w="25560">
            <a:solidFill>
              <a:srgbClr val="297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285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Garamond"/>
              </a:rPr>
              <a:t>THANK YOU</a:t>
            </a: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aramond"/>
              </a:rPr>
              <a:t>OBJECTIV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85520" y="1714680"/>
            <a:ext cx="7643880" cy="464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At the end of this lecture, the student should able to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ist 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ames of the Flexors Group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f Forearm (superficial &amp; deep muscles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dentify 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ommon flexor origin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f flexor muscles and their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nnervation &amp; moveme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dentify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upination &amp; poronation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d list the muscles produced these 2 movement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ist 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ames of the Extensor Group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f Forearm (superficial &amp; deep muscles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dentify 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ommon extensor origin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f extensor musles and their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nnervation &amp; moveme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714240" y="857160"/>
            <a:ext cx="7500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1. Which one of the following muscles contributes as powerful supinator of forearm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. Palmaris longu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. Pronator tere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. Biceps brachii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. Supinator.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Which muscle is supplied by median nerve ?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coneus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rachioradiali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tensor carpi radialis longu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lexor digitorum superficiali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Which muscle is related to common flexor origin  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lexor digitorum profundu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lexor pollicis longu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onator quadratu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onator tere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Left Arrow 2"/>
          <p:cNvSpPr/>
          <p:nvPr/>
        </p:nvSpPr>
        <p:spPr>
          <a:xfrm>
            <a:off x="2714760" y="2143080"/>
            <a:ext cx="1785960" cy="71640"/>
          </a:xfrm>
          <a:prstGeom prst="leftArrow">
            <a:avLst>
              <a:gd name="adj1" fmla="val 50000"/>
              <a:gd name="adj2" fmla="val 49859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Left Arrow 3"/>
          <p:cNvSpPr/>
          <p:nvPr/>
        </p:nvSpPr>
        <p:spPr>
          <a:xfrm>
            <a:off x="4214880" y="4071960"/>
            <a:ext cx="1428840" cy="71280"/>
          </a:xfrm>
          <a:prstGeom prst="leftArrow">
            <a:avLst>
              <a:gd name="adj1" fmla="val 50000"/>
              <a:gd name="adj2" fmla="val 50114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Left Arrow 4"/>
          <p:cNvSpPr/>
          <p:nvPr/>
        </p:nvSpPr>
        <p:spPr>
          <a:xfrm>
            <a:off x="2786040" y="5715000"/>
            <a:ext cx="1714680" cy="71280"/>
          </a:xfrm>
          <a:prstGeom prst="leftArrow">
            <a:avLst>
              <a:gd name="adj1" fmla="val 50000"/>
              <a:gd name="adj2" fmla="val 50116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3600360" cy="6669000"/>
          </a:xfrm>
          <a:prstGeom prst="rect">
            <a:avLst/>
          </a:prstGeom>
          <a:solidFill>
            <a:srgbClr val="002673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entury Gothic"/>
              </a:rPr>
              <a:t>The forearm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tends fro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elbow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wrist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It posses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Century Gothic"/>
              </a:rPr>
              <a:t>two bones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99ff33"/>
                </a:solidFill>
                <a:latin typeface="Century Gothic"/>
              </a:rPr>
              <a:t>radius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laterally &amp; </a:t>
            </a:r>
            <a:r>
              <a:rPr b="0" lang="en-US" sz="2200" spc="-1" strike="noStrike">
                <a:solidFill>
                  <a:srgbClr val="99ff33"/>
                </a:solidFill>
                <a:latin typeface="Century Gothic"/>
              </a:rPr>
              <a:t>Ulna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edially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The two bone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re  connected together by the </a:t>
            </a:r>
            <a:r>
              <a:rPr b="0" lang="en-US" sz="2400" spc="-1" strike="noStrike" u="sng">
                <a:solidFill>
                  <a:srgbClr val="99ff33"/>
                </a:solidFill>
                <a:uFillTx/>
                <a:latin typeface="Century Gothic"/>
              </a:rPr>
              <a:t>interosseous membrane.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membrane allows movement of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entury Gothic"/>
              </a:rPr>
              <a:t>Pronation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nd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entury Gothic"/>
              </a:rPr>
              <a:t>Supination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while the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wo  bones are connected togethe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lso it gives origin for the deep muscl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3" name="Picture 4" descr="ap11_007"/>
          <p:cNvPicPr/>
          <p:nvPr/>
        </p:nvPicPr>
        <p:blipFill>
          <a:blip r:embed="rId1"/>
          <a:srcRect l="29115" t="0" r="38428" b="4835"/>
          <a:stretch/>
        </p:blipFill>
        <p:spPr>
          <a:xfrm>
            <a:off x="6732720" y="142920"/>
            <a:ext cx="2087280" cy="6526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ap11_019"/>
          <p:cNvPicPr/>
          <p:nvPr/>
        </p:nvPicPr>
        <p:blipFill>
          <a:blip r:embed="rId2"/>
          <a:srcRect l="24826" t="15350" r="20501" b="8002"/>
          <a:stretch/>
        </p:blipFill>
        <p:spPr>
          <a:xfrm>
            <a:off x="3995640" y="907920"/>
            <a:ext cx="266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916360" y="333360"/>
            <a:ext cx="6048360" cy="94716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ascial Compartments of the Forear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79280" y="260280"/>
            <a:ext cx="2678400" cy="7467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The forearm 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is enclosed in </a:t>
            </a:r>
            <a:r>
              <a:rPr b="1" lang="en-US" sz="2200" spc="-1" strike="noStrike">
                <a:solidFill>
                  <a:srgbClr val="99ff33"/>
                </a:solidFill>
                <a:latin typeface="Garamond"/>
              </a:rPr>
              <a:t>a sheath of deep fascia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, which is attached to the 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posterior border of the ulna 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This 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fascial sheath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, together with the 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interosseous membrane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 &amp; fibrous 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intermuscular septa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divides the forearm 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into several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compartments, 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each having its own </a:t>
            </a:r>
            <a:r>
              <a:rPr b="1" lang="en-US" sz="2200" spc="-1" strike="noStrike">
                <a:solidFill>
                  <a:srgbClr val="99ff33"/>
                </a:solidFill>
                <a:latin typeface="Garamond"/>
              </a:rPr>
              <a:t>muscles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200" spc="-1" strike="noStrike">
                <a:solidFill>
                  <a:srgbClr val="99ff33"/>
                </a:solidFill>
                <a:latin typeface="Garamond"/>
              </a:rPr>
              <a:t>nerves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, and </a:t>
            </a:r>
            <a:r>
              <a:rPr b="1" lang="en-US" sz="2200" spc="-1" strike="noStrike">
                <a:solidFill>
                  <a:srgbClr val="99ff33"/>
                </a:solidFill>
                <a:latin typeface="Garamond"/>
              </a:rPr>
              <a:t>blood supply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Picture 5" descr="E:\dad\Student Gray\7. Upper limb\F66122-007-f010.jpg"/>
          <p:cNvPicPr/>
          <p:nvPr/>
        </p:nvPicPr>
        <p:blipFill>
          <a:blip r:embed="rId1"/>
          <a:srcRect l="22027" t="50004" r="0" b="4641"/>
          <a:stretch/>
        </p:blipFill>
        <p:spPr>
          <a:xfrm>
            <a:off x="3000240" y="1268280"/>
            <a:ext cx="5964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94920" y="3428640"/>
            <a:ext cx="3319560" cy="2087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I-Superficial: 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Pronator te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Flexor carpi radial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Palmaris long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Flexor carpi ulnar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13840" y="5661000"/>
            <a:ext cx="4429080" cy="1008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II-Intermediate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Flexor digitorum superficial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79280" y="260280"/>
            <a:ext cx="3606840" cy="3713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These  muscle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t o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elbow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&amp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wris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joints and those of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finge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m </a:t>
            </a:r>
            <a:r>
              <a:rPr b="0" lang="en-US" sz="2400" spc="-1" strike="noStrike">
                <a:solidFill>
                  <a:srgbClr val="99ff33"/>
                </a:solidFill>
                <a:latin typeface="Garamond"/>
              </a:rPr>
              <a:t>fleshy masses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proximal par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become </a:t>
            </a:r>
            <a:r>
              <a:rPr b="0" lang="en-US" sz="2400" spc="-1" strike="noStrike">
                <a:solidFill>
                  <a:srgbClr val="99ff33"/>
                </a:solidFill>
                <a:latin typeface="Garamond"/>
              </a:rPr>
              <a:t>tendinou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distal par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the forearm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ranged in </a:t>
            </a:r>
            <a:r>
              <a:rPr b="0" lang="en-US" sz="2400" spc="-1" strike="noStrike" u="sng">
                <a:solidFill>
                  <a:srgbClr val="e5e5ff"/>
                </a:solidFill>
                <a:uFillTx/>
                <a:latin typeface="Garamond"/>
              </a:rPr>
              <a:t>thre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group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Content Placeholder 3"/>
          <p:cNvSpPr/>
          <p:nvPr/>
        </p:nvSpPr>
        <p:spPr>
          <a:xfrm>
            <a:off x="4788000" y="4643280"/>
            <a:ext cx="4356000" cy="221472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III- Deep: 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Flexor digitorum profund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Flexor pollicis long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ronator quadrat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2" name="Picture 6" descr="Untitled-12"/>
          <p:cNvPicPr/>
          <p:nvPr/>
        </p:nvPicPr>
        <p:blipFill>
          <a:blip r:embed="rId1"/>
          <a:srcRect l="5889" t="5556" r="5041" b="11112"/>
          <a:stretch/>
        </p:blipFill>
        <p:spPr>
          <a:xfrm>
            <a:off x="3780000" y="836640"/>
            <a:ext cx="5184720" cy="37447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6"/>
          <p:cNvSpPr/>
          <p:nvPr/>
        </p:nvSpPr>
        <p:spPr>
          <a:xfrm>
            <a:off x="4716360" y="189000"/>
            <a:ext cx="3527640" cy="520560"/>
          </a:xfrm>
          <a:prstGeom prst="rect">
            <a:avLst/>
          </a:prstGeom>
          <a:solidFill>
            <a:srgbClr val="00b0f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LEXOR GRO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3816360" cy="6095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Superficial Flexors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arise - more or less- from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he common flexor origi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(front of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Garamond"/>
              </a:rPr>
              <a:t>medial  epicondyle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ll are supplied by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median nerv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xcept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one, </a:t>
            </a:r>
            <a:r>
              <a:rPr b="1" lang="en-US" sz="2800" spc="-1" strike="noStrike">
                <a:solidFill>
                  <a:srgbClr val="ffc000"/>
                </a:solidFill>
                <a:latin typeface="Garamond"/>
              </a:rPr>
              <a:t>flexor carpi ulnaris,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FCU (ulnar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ll cross the wrist joint except one, </a:t>
            </a:r>
            <a:r>
              <a:rPr b="1" lang="en-US" sz="2800" spc="-1" strike="noStrike">
                <a:solidFill>
                  <a:srgbClr val="ffc000"/>
                </a:solidFill>
                <a:latin typeface="Garamond"/>
              </a:rPr>
              <a:t>pronator teres,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(PT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5" name="Picture 4" descr="C:\Documents and Settings\Prof. Saeed Makarem\Desktop\52 Forearm\F71683-052-f015.jpg"/>
          <p:cNvPicPr/>
          <p:nvPr/>
        </p:nvPicPr>
        <p:blipFill>
          <a:blip r:embed="rId1"/>
          <a:srcRect l="8354" t="0" r="6756" b="3023"/>
          <a:stretch/>
        </p:blipFill>
        <p:spPr>
          <a:xfrm>
            <a:off x="4211640" y="133200"/>
            <a:ext cx="4681440" cy="6535800"/>
          </a:xfrm>
          <a:prstGeom prst="rect">
            <a:avLst/>
          </a:prstGeom>
          <a:ln w="0">
            <a:noFill/>
          </a:ln>
        </p:spPr>
      </p:pic>
      <p:sp>
        <p:nvSpPr>
          <p:cNvPr id="226" name="Oval 3"/>
          <p:cNvSpPr/>
          <p:nvPr/>
        </p:nvSpPr>
        <p:spPr>
          <a:xfrm>
            <a:off x="4211640" y="836640"/>
            <a:ext cx="431640" cy="576360"/>
          </a:xfrm>
          <a:prstGeom prst="ellipse">
            <a:avLst/>
          </a:prstGeom>
          <a:noFill/>
          <a:ln w="381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7451640" y="4437000"/>
            <a:ext cx="720720" cy="216000"/>
          </a:xfrm>
          <a:prstGeom prst="rect">
            <a:avLst/>
          </a:prstGeom>
          <a:noFill/>
          <a:ln w="2844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5-Point Star 5"/>
          <p:cNvSpPr/>
          <p:nvPr/>
        </p:nvSpPr>
        <p:spPr>
          <a:xfrm>
            <a:off x="5000760" y="1857240"/>
            <a:ext cx="71280" cy="46080"/>
          </a:xfrm>
          <a:prstGeom prst="pie">
            <a:avLst/>
          </a:prstGeom>
          <a:solidFill>
            <a:srgbClr val="ffff00"/>
          </a:solidFill>
          <a:ln w="25560">
            <a:solidFill>
              <a:srgbClr val="f0fb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5-Point Star 6"/>
          <p:cNvSpPr/>
          <p:nvPr/>
        </p:nvSpPr>
        <p:spPr>
          <a:xfrm>
            <a:off x="5000760" y="2214720"/>
            <a:ext cx="7128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f0fb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5-Point Star 7"/>
          <p:cNvSpPr/>
          <p:nvPr/>
        </p:nvSpPr>
        <p:spPr>
          <a:xfrm>
            <a:off x="4714920" y="2428920"/>
            <a:ext cx="4608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f0fb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5-Point Star 8"/>
          <p:cNvSpPr/>
          <p:nvPr/>
        </p:nvSpPr>
        <p:spPr>
          <a:xfrm>
            <a:off x="4500720" y="2643120"/>
            <a:ext cx="45720" cy="71640"/>
          </a:xfrm>
          <a:prstGeom prst="pie">
            <a:avLst/>
          </a:prstGeom>
          <a:solidFill>
            <a:srgbClr val="0099cc"/>
          </a:solidFill>
          <a:ln w="25560">
            <a:solidFill>
              <a:srgbClr val="f0fb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2644560" cy="6364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Garamond"/>
              </a:rPr>
              <a:t>Pronator teres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Insertion: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middle of lateral surface of radi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66"/>
                </a:solidFill>
                <a:uFillTx/>
                <a:latin typeface="Garamond"/>
              </a:rPr>
              <a:t>Action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pronation &amp; flexion of forearm 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3" name="Picture 5" descr="C:\Documents and Settings\Free User\My Documents\My Pictures\zzz.jpg"/>
          <p:cNvPicPr/>
          <p:nvPr/>
        </p:nvPicPr>
        <p:blipFill>
          <a:blip r:embed="rId1"/>
          <a:srcRect l="3793" t="4161" r="3793" b="4161"/>
          <a:stretch/>
        </p:blipFill>
        <p:spPr>
          <a:xfrm>
            <a:off x="324000" y="2286000"/>
            <a:ext cx="2447640" cy="416736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3"/>
          <p:cNvSpPr/>
          <p:nvPr/>
        </p:nvSpPr>
        <p:spPr>
          <a:xfrm>
            <a:off x="3048120" y="228600"/>
            <a:ext cx="2666880" cy="632448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Flexor Carpi Radiali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Garamond"/>
              </a:rPr>
              <a:t>Insertion: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ase of 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metacarpal bo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66"/>
                </a:solidFill>
                <a:uFillTx/>
                <a:latin typeface="Garamond"/>
              </a:rPr>
              <a:t>Actio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: Flexion &amp; abduction of the han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5" name="Picture 6" descr="C:\Documents and Settings\KSU\My Documents\My Pictures\Copy (2) of fa1.jpg"/>
          <p:cNvPicPr/>
          <p:nvPr/>
        </p:nvPicPr>
        <p:blipFill>
          <a:blip r:embed="rId2"/>
          <a:srcRect l="39513" t="3320" r="39183" b="56513"/>
          <a:stretch/>
        </p:blipFill>
        <p:spPr>
          <a:xfrm>
            <a:off x="3203640" y="2276640"/>
            <a:ext cx="2376360" cy="39178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5867280" y="228600"/>
            <a:ext cx="3097440" cy="632448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Garamond"/>
              </a:rPr>
              <a:t>Palmaris Long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Garamond"/>
                <a:ea typeface="Arial"/>
              </a:rPr>
              <a:t>Insertion: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into the flexor retinaculum &amp; palmar aponeurosi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66"/>
                </a:solidFill>
                <a:uFillTx/>
                <a:latin typeface="Garamond"/>
                <a:ea typeface="Arial"/>
              </a:rPr>
              <a:t>Action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  <a:ea typeface="Arial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 Flexes hand &amp; tightens palmer aponeuros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5" descr="C:\Documents and Settings\KSU\My Documents\My Pictures\Copy (3) of fa1.jpg"/>
          <p:cNvPicPr/>
          <p:nvPr/>
        </p:nvPicPr>
        <p:blipFill>
          <a:blip r:embed="rId3"/>
          <a:srcRect l="71657" t="2246" r="5401" b="56452"/>
          <a:stretch/>
        </p:blipFill>
        <p:spPr>
          <a:xfrm>
            <a:off x="6012000" y="2349360"/>
            <a:ext cx="2736720" cy="4079880"/>
          </a:xfrm>
          <a:prstGeom prst="rect">
            <a:avLst/>
          </a:prstGeom>
          <a:ln cap="sq" w="28440">
            <a:solidFill>
              <a:srgbClr val="ffffff"/>
            </a:solidFill>
            <a:miter/>
          </a:ln>
        </p:spPr>
      </p:pic>
      <p:sp>
        <p:nvSpPr>
          <p:cNvPr id="238" name="Rectangle 7"/>
          <p:cNvSpPr/>
          <p:nvPr/>
        </p:nvSpPr>
        <p:spPr>
          <a:xfrm>
            <a:off x="1071720" y="4071960"/>
            <a:ext cx="215640" cy="50328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79280" y="999720"/>
            <a:ext cx="2178000" cy="4714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Garamond"/>
              </a:rPr>
              <a:t>Flexor Carpi Ulnar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Insertion: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isiform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ook of hamat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metacarpal bo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66"/>
                </a:solidFill>
                <a:uFillTx/>
                <a:latin typeface="Garamond"/>
              </a:rPr>
              <a:t>Action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lexion and adduction of the han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0" name="Picture 9" descr="C:\Documents and Settings\KSU\My Documents\My Pictures\Copy (2) of fa1.jpg"/>
          <p:cNvPicPr/>
          <p:nvPr/>
        </p:nvPicPr>
        <p:blipFill>
          <a:blip r:embed="rId1"/>
          <a:srcRect l="17102" t="43553" r="61789" b="11972"/>
          <a:stretch/>
        </p:blipFill>
        <p:spPr>
          <a:xfrm>
            <a:off x="2340000" y="981000"/>
            <a:ext cx="1727280" cy="50403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4140360" y="549360"/>
            <a:ext cx="2788920" cy="60228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Garamond"/>
              </a:rPr>
              <a:t>Flexor Digitorum Superficial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  <a:ea typeface="Arial"/>
              </a:rPr>
              <a:t>Origi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Common flexor origin,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Coronoid process of ulna;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Anterior surface of radius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n-US" sz="2000" spc="-1" strike="noStrike">
                <a:solidFill>
                  <a:srgbClr val="ffcc66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  <a:ea typeface="Arial"/>
              </a:rPr>
              <a:t>Inser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base 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  <a:ea typeface="Arial"/>
              </a:rPr>
              <a:t>middle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phalanges of medial 4 fing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66"/>
                </a:solidFill>
                <a:uFillTx/>
                <a:latin typeface="Garamond"/>
                <a:ea typeface="Arial"/>
              </a:rPr>
              <a:t>Action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  <a:ea typeface="Arial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Flexes middle and  proximal phalanges of medial 4 fingers, and the han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2" name="Picture 5" descr="C:\Documents and Settings\KSU\My Documents\My Pictures\Copy (2) of fa1.jpg"/>
          <p:cNvPicPr/>
          <p:nvPr/>
        </p:nvPicPr>
        <p:blipFill>
          <a:blip r:embed="rId2"/>
          <a:srcRect l="43398" t="44038" r="29606" b="5637"/>
          <a:stretch/>
        </p:blipFill>
        <p:spPr>
          <a:xfrm>
            <a:off x="6948360" y="189000"/>
            <a:ext cx="194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13840" y="549000"/>
            <a:ext cx="3714840" cy="5879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Deep Flex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One above uln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 Flexor Digitorum profund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One above radiu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 Flexor pollicis long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One above the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bones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onator Quadratu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4" name="Picture 4" descr="ap11_011"/>
          <p:cNvPicPr/>
          <p:nvPr/>
        </p:nvPicPr>
        <p:blipFill>
          <a:blip r:embed="rId1"/>
          <a:srcRect l="2926" t="6558" r="15316" b="2863"/>
          <a:stretch/>
        </p:blipFill>
        <p:spPr>
          <a:xfrm>
            <a:off x="4067280" y="260280"/>
            <a:ext cx="4825800" cy="6408720"/>
          </a:xfrm>
          <a:prstGeom prst="rect">
            <a:avLst/>
          </a:prstGeom>
          <a:ln w="0">
            <a:noFill/>
          </a:ln>
        </p:spPr>
      </p:pic>
      <p:sp>
        <p:nvSpPr>
          <p:cNvPr id="245" name="Round Single Corner Rectangle 5"/>
          <p:cNvSpPr/>
          <p:nvPr/>
        </p:nvSpPr>
        <p:spPr>
          <a:xfrm>
            <a:off x="4643280" y="3068640"/>
            <a:ext cx="2200320" cy="216000"/>
          </a:xfrm>
          <a:prstGeom prst="pie">
            <a:avLst/>
          </a:prstGeom>
          <a:noFill/>
          <a:ln w="2844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067280" y="2781360"/>
            <a:ext cx="2808360" cy="216000"/>
          </a:xfrm>
          <a:prstGeom prst="rect">
            <a:avLst/>
          </a:prstGeom>
          <a:noFill/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788000" y="3357720"/>
            <a:ext cx="194472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2:19:53Z</dcterms:created>
  <dc:creator>Prof. Saeed Abuel Makarem</dc:creator>
  <dc:description/>
  <dc:language>en-US</dc:language>
  <cp:lastModifiedBy>user</cp:lastModifiedBy>
  <dcterms:modified xsi:type="dcterms:W3CDTF">2014-12-11T18:54:37Z</dcterms:modified>
  <cp:revision>205</cp:revision>
  <dc:subject>forearm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orearm">
    <vt:lpwstr>prof. Saeed Abuel makarem</vt:lpwstr>
  </property>
</Properties>
</file>