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325F7-5402-498C-848D-8C757271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30FF-FFF3-4A7F-AEB5-2E0D40D94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776C-5172-408F-B486-B263DA85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BDBA-B667-4812-B700-D0013D5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DB8-EF51-42D1-AD60-BFCA42AB7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0B5-63B4-415C-AD8F-F9F2E20C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9D73-6EEE-4C02-99AF-C6C67A5E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8A03-B725-4134-9F75-EF78C7BD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01B7-86B4-4DB6-993D-73E48391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A9CC-A411-4B0A-AAC9-9384C384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875-1487-45D9-A8A9-4187332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E5EA-CC4E-48A2-AB51-E37A45E75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784E-2395-4C79-B23F-A5770C54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A8D-514A-4E25-9DCA-BEDAB29A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5D82-A4DA-410D-81C5-B17C67CB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7D36-EAFF-4816-9553-48D9CCFD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13F1-D24D-42E2-92CC-3AEA18C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F84E-8730-4A8C-A751-2495469FB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BB9B-D149-49BA-B3BB-13C0F925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7199-191B-44B2-AF8B-EDAED487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EBD0-3F9A-4E20-BB60-06049D7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A39-2A40-4E38-88B2-94B700E9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552-09F0-46A5-ACE5-AAD89769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F96A-29DC-4A89-8387-3EEFE9C8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D4D-040E-4961-B25C-EFDBD360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1A1F-8902-4311-9985-20C33EDB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ACC0-5E27-44D5-BA3F-92D7EFC6C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31AB-727F-4313-AC89-A682CEAC5AD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971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VASCULAR Anatomy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of 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"/>
              </a:rPr>
              <a:t>the upper limb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4952520"/>
            <a:ext cx="8229600" cy="16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Dr Jamila EL M edany &amp;  Dr. Essam Eldin Salam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8006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Brach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tent Placeholder 5"/>
          <p:cNvSpPr/>
          <p:nvPr/>
        </p:nvSpPr>
        <p:spPr>
          <a:xfrm>
            <a:off x="457200" y="1143000"/>
            <a:ext cx="3733920" cy="4724280"/>
          </a:xfrm>
          <a:prstGeom prst="rect">
            <a:avLst/>
          </a:prstGeom>
          <a:solidFill>
            <a:srgbClr val="dbeef4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ower border of teres maj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main arterial supply to the 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rminat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pposit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ck of Radi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dividing into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Radial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&amp;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lnar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上肢神经"/>
          <p:cNvPicPr/>
          <p:nvPr/>
        </p:nvPicPr>
        <p:blipFill>
          <a:blip r:embed="rId1"/>
          <a:stretch/>
        </p:blipFill>
        <p:spPr>
          <a:xfrm>
            <a:off x="4495680" y="108000"/>
            <a:ext cx="4038840" cy="63943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6629400" y="43434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4648320" y="312408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7315200" y="2514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Straight Arrow Connector 12"/>
          <p:cNvCxnSpPr/>
          <p:nvPr/>
        </p:nvCxnSpPr>
        <p:spPr>
          <a:xfrm flipH="1" flipV="1">
            <a:off x="6933960" y="251388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Straight Arrow Connector 13"/>
          <p:cNvCxnSpPr/>
          <p:nvPr/>
        </p:nvCxnSpPr>
        <p:spPr>
          <a:xfrm flipH="1" flipV="1">
            <a:off x="7772040" y="76140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6171840" y="4190760"/>
            <a:ext cx="4579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7" name="Straight Arrow Connector 17"/>
          <p:cNvCxnSpPr/>
          <p:nvPr/>
        </p:nvCxnSpPr>
        <p:spPr>
          <a:xfrm>
            <a:off x="5409720" y="3657240"/>
            <a:ext cx="38196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8" name="Straight Connector 21"/>
          <p:cNvSpPr/>
          <p:nvPr/>
        </p:nvSpPr>
        <p:spPr>
          <a:xfrm flipH="1" flipV="1">
            <a:off x="5790960" y="2895120"/>
            <a:ext cx="1143000" cy="762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3"/>
          <p:cNvSpPr/>
          <p:nvPr/>
        </p:nvSpPr>
        <p:spPr>
          <a:xfrm>
            <a:off x="80010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of Brachial Arter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33160" y="1142640"/>
            <a:ext cx="5181480" cy="5181480"/>
          </a:xfrm>
          <a:prstGeom prst="rect">
            <a:avLst/>
          </a:prstGeom>
          <a:solidFill>
            <a:srgbClr val="c6d9f1"/>
          </a:solidFill>
          <a:ln w="9360">
            <a:solidFill>
              <a:srgbClr val="26262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rly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ossed from above downward by medial cutanous nerve of the forearm, median nerve, and bicipital aponeuro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osterioly: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ceps, coraco-brachialis and brachial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edially: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lic vein, ulnar and median ner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acbrachialis and biceps musc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5" descr="上肢神经"/>
          <p:cNvPicPr/>
          <p:nvPr/>
        </p:nvPicPr>
        <p:blipFill>
          <a:blip r:embed="rId1"/>
          <a:stretch/>
        </p:blipFill>
        <p:spPr>
          <a:xfrm>
            <a:off x="5791320" y="1523880"/>
            <a:ext cx="2857320" cy="4524480"/>
          </a:xfrm>
          <a:prstGeom prst="rect">
            <a:avLst/>
          </a:prstGeom>
          <a:ln w="9360">
            <a:solidFill>
              <a:srgbClr val="262626"/>
            </a:solidFill>
            <a:miter/>
          </a:ln>
        </p:spPr>
      </p:pic>
      <p:sp>
        <p:nvSpPr>
          <p:cNvPr id="203" name="TextBox 6"/>
          <p:cNvSpPr/>
          <p:nvPr/>
        </p:nvSpPr>
        <p:spPr>
          <a:xfrm>
            <a:off x="579132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aco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"/>
          <p:cNvSpPr/>
          <p:nvPr/>
        </p:nvSpPr>
        <p:spPr>
          <a:xfrm>
            <a:off x="5791320" y="205740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ce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5791320" y="266688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achial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7772400" y="31240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lnar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7543800" y="36576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an  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traight Arrow Connector 13"/>
          <p:cNvCxnSpPr/>
          <p:nvPr/>
        </p:nvCxnSpPr>
        <p:spPr>
          <a:xfrm>
            <a:off x="7086240" y="1904760"/>
            <a:ext cx="686520" cy="1530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09" name="Straight Arrow Connector 14"/>
          <p:cNvCxnSpPr/>
          <p:nvPr/>
        </p:nvCxnSpPr>
        <p:spPr>
          <a:xfrm>
            <a:off x="6476760" y="2209680"/>
            <a:ext cx="1067400" cy="15336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0" name="Straight Arrow Connector 16"/>
          <p:cNvCxnSpPr/>
          <p:nvPr/>
        </p:nvCxnSpPr>
        <p:spPr>
          <a:xfrm>
            <a:off x="6705720" y="2895480"/>
            <a:ext cx="762480" cy="7668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1" name="Straight Arrow Connector 19"/>
          <p:cNvCxnSpPr/>
          <p:nvPr/>
        </p:nvCxnSpPr>
        <p:spPr>
          <a:xfrm flipH="1" flipV="1">
            <a:off x="7619400" y="3123720"/>
            <a:ext cx="153000" cy="15480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2" name="Straight Arrow Connector 21"/>
          <p:cNvCxnSpPr/>
          <p:nvPr/>
        </p:nvCxnSpPr>
        <p:spPr>
          <a:xfrm flipH="1" flipV="1">
            <a:off x="7466760" y="3428280"/>
            <a:ext cx="305640" cy="229320"/>
          </a:xfrm>
          <a:prstGeom prst="straightConnector1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13" name="Straight Arrow Connector 2"/>
          <p:cNvCxnSpPr/>
          <p:nvPr/>
        </p:nvCxnSpPr>
        <p:spPr>
          <a:xfrm>
            <a:off x="6781320" y="3277800"/>
            <a:ext cx="381960" cy="2660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762120" y="1447560"/>
            <a:ext cx="4038480" cy="373356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trient to humer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funda brachi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ior ulnar collater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ior ulnar collateral.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6" descr="C:\Users\user\Pictures\qq.png"/>
          <p:cNvPicPr/>
          <p:nvPr/>
        </p:nvPicPr>
        <p:blipFill>
          <a:blip r:embed="rId1"/>
          <a:stretch/>
        </p:blipFill>
        <p:spPr>
          <a:xfrm>
            <a:off x="5029200" y="1143000"/>
            <a:ext cx="2193840" cy="5060880"/>
          </a:xfrm>
          <a:prstGeom prst="rect">
            <a:avLst/>
          </a:prstGeom>
          <a:ln w="0">
            <a:noFill/>
          </a:ln>
        </p:spPr>
      </p:pic>
      <p:sp>
        <p:nvSpPr>
          <p:cNvPr id="216" name="Title 4"/>
          <p:cNvSpPr/>
          <p:nvPr/>
        </p:nvSpPr>
        <p:spPr>
          <a:xfrm>
            <a:off x="0" y="0"/>
            <a:ext cx="9144000" cy="944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hial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5"/>
          <p:cNvCxnSpPr/>
          <p:nvPr/>
        </p:nvCxnSpPr>
        <p:spPr>
          <a:xfrm>
            <a:off x="3657240" y="2742840"/>
            <a:ext cx="2439000" cy="1530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8" name="Straight Arrow Connector 6"/>
          <p:cNvCxnSpPr/>
          <p:nvPr/>
        </p:nvCxnSpPr>
        <p:spPr>
          <a:xfrm>
            <a:off x="3276720" y="3352680"/>
            <a:ext cx="3048480" cy="15336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19" name="Straight Arrow Connector 9"/>
          <p:cNvCxnSpPr/>
          <p:nvPr/>
        </p:nvCxnSpPr>
        <p:spPr>
          <a:xfrm>
            <a:off x="4572000" y="4267080"/>
            <a:ext cx="1829520" cy="5342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486400" y="609480"/>
            <a:ext cx="1828800" cy="5757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434340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Ulnar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7543800" y="3581280"/>
            <a:ext cx="14032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7"/>
          <p:cNvCxnSpPr>
            <a:stCxn id="222" idx="1"/>
          </p:cNvCxnSpPr>
          <p:nvPr/>
        </p:nvCxnSpPr>
        <p:spPr>
          <a:xfrm flipH="1" flipV="1">
            <a:off x="6933600" y="3733560"/>
            <a:ext cx="610200" cy="33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TextBox 5"/>
          <p:cNvSpPr/>
          <p:nvPr/>
        </p:nvSpPr>
        <p:spPr>
          <a:xfrm>
            <a:off x="7467480" y="5562720"/>
            <a:ext cx="1403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Straight Arrow Connector 13"/>
          <p:cNvCxnSpPr>
            <a:stCxn id="224" idx="1"/>
          </p:cNvCxnSpPr>
          <p:nvPr/>
        </p:nvCxnSpPr>
        <p:spPr>
          <a:xfrm flipH="1">
            <a:off x="6629040" y="5884920"/>
            <a:ext cx="83880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Content Placeholder 8"/>
          <p:cNvSpPr/>
          <p:nvPr/>
        </p:nvSpPr>
        <p:spPr>
          <a:xfrm>
            <a:off x="228600" y="990720"/>
            <a:ext cx="4800600" cy="513540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rger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cubital fossa at the level of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neck of rad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through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ompartm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fore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palm,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front of the flexor retinaculu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ith the ulnar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nd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forming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ficial palmer arch,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anastomosing with superficial palmer branch of radial artery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C:\Users\user\Pictures\xxxx.png"/>
          <p:cNvPicPr/>
          <p:nvPr/>
        </p:nvPicPr>
        <p:blipFill>
          <a:blip r:embed="rId1"/>
          <a:stretch/>
        </p:blipFill>
        <p:spPr>
          <a:xfrm>
            <a:off x="609480" y="304920"/>
            <a:ext cx="2667240" cy="6324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3885840" y="1066680"/>
            <a:ext cx="4419720" cy="510552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urrent branc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or anastomosis around the elbow joint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mmon Interosseou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ery, which gives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and Posterior Interosseous arter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to anastomoses around the wrist joi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itle 4"/>
          <p:cNvSpPr/>
          <p:nvPr/>
        </p:nvSpPr>
        <p:spPr>
          <a:xfrm>
            <a:off x="3733920" y="152280"/>
            <a:ext cx="5029200" cy="914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nar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Straight Arrow Connector 11"/>
          <p:cNvCxnSpPr/>
          <p:nvPr/>
        </p:nvCxnSpPr>
        <p:spPr>
          <a:xfrm flipH="1" flipV="1">
            <a:off x="2209320" y="1447560"/>
            <a:ext cx="1829520" cy="38160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1" name="Straight Arrow Connector 12"/>
          <p:cNvCxnSpPr/>
          <p:nvPr/>
        </p:nvCxnSpPr>
        <p:spPr>
          <a:xfrm flipH="1" flipV="1">
            <a:off x="1980720" y="1980360"/>
            <a:ext cx="2057760" cy="122004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32" name="Straight Arrow Connector 24"/>
          <p:cNvCxnSpPr/>
          <p:nvPr/>
        </p:nvCxnSpPr>
        <p:spPr>
          <a:xfrm flipH="1" flipV="1">
            <a:off x="2057040" y="4190760"/>
            <a:ext cx="22867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5562720" y="533520"/>
            <a:ext cx="1904760" cy="5997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449568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Radial Art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8"/>
          <p:cNvSpPr/>
          <p:nvPr/>
        </p:nvSpPr>
        <p:spPr>
          <a:xfrm>
            <a:off x="7620120" y="3276720"/>
            <a:ext cx="13716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0"/>
          <p:cNvCxnSpPr>
            <a:stCxn id="235" idx="1"/>
          </p:cNvCxnSpPr>
          <p:nvPr/>
        </p:nvCxnSpPr>
        <p:spPr>
          <a:xfrm flipH="1" flipV="1">
            <a:off x="6323760" y="3351960"/>
            <a:ext cx="1296360" cy="110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Content Placeholder 7"/>
          <p:cNvSpPr/>
          <p:nvPr/>
        </p:nvSpPr>
        <p:spPr>
          <a:xfrm>
            <a:off x="457200" y="914400"/>
            <a:ext cx="4495680" cy="556272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mall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two terminal branches of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in the cubital fossa at the level of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ck of rad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ends downward and lateral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the forearm by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nd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ound the lateral aspect of the wrist to reach the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rsu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itle 4"/>
          <p:cNvSpPr/>
          <p:nvPr/>
        </p:nvSpPr>
        <p:spPr>
          <a:xfrm>
            <a:off x="304920" y="380880"/>
            <a:ext cx="533376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e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l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ontent Placeholder 5"/>
          <p:cNvSpPr/>
          <p:nvPr/>
        </p:nvSpPr>
        <p:spPr>
          <a:xfrm>
            <a:off x="762120" y="1447920"/>
            <a:ext cx="4038480" cy="480060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current branch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or anastomosis around the elbow joi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palmar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nch , joins the ulnar artery to form the superficial palmar 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ontent Placeholder 7" descr="C:\Users\user\Pictures\xxxx.png"/>
          <p:cNvPicPr/>
          <p:nvPr/>
        </p:nvPicPr>
        <p:blipFill>
          <a:blip r:embed="rId1"/>
          <a:stretch/>
        </p:blipFill>
        <p:spPr>
          <a:xfrm>
            <a:off x="5791320" y="533520"/>
            <a:ext cx="2666880" cy="5852880"/>
          </a:xfrm>
          <a:prstGeom prst="rect">
            <a:avLst/>
          </a:prstGeom>
          <a:ln w="0">
            <a:noFill/>
          </a:ln>
        </p:spPr>
      </p:pic>
      <p:cxnSp>
        <p:nvCxnSpPr>
          <p:cNvPr id="241" name="Straight Arrow Connector 8"/>
          <p:cNvCxnSpPr/>
          <p:nvPr/>
        </p:nvCxnSpPr>
        <p:spPr>
          <a:xfrm flipV="1">
            <a:off x="4495320" y="1447560"/>
            <a:ext cx="2515320" cy="76248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  <p:cxnSp>
        <p:nvCxnSpPr>
          <p:cNvPr id="242" name="Straight Arrow Connector 10"/>
          <p:cNvCxnSpPr/>
          <p:nvPr/>
        </p:nvCxnSpPr>
        <p:spPr>
          <a:xfrm>
            <a:off x="4267080" y="3962520"/>
            <a:ext cx="2363040" cy="457920"/>
          </a:xfrm>
          <a:prstGeom prst="straightConnector1">
            <a:avLst/>
          </a:prstGeom>
          <a:ln w="28440">
            <a:solidFill>
              <a:srgbClr val="00ff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0" y="333360"/>
            <a:ext cx="3800520" cy="1008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stomosis around Elbow J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549360"/>
            <a:ext cx="4140360" cy="63086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Arial"/>
              </a:rPr>
              <a:t>Brachial, Radial  and Ulnar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Brachial Arter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funda Brachii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p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erior ulnar collateral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ranches from </a:t>
            </a:r>
            <a:r>
              <a:rPr b="1" lang="en-US" sz="16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Ulnar and Radial Arteri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adial &amp; ulnar recurrent arter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-457200">
              <a:lnSpc>
                <a:spcPct val="2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osseous recurrent arte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45720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C:\Documents and Settings\Dr.Essam\My Documents\summer courseNew Folder\fig\image526 (1).gif"/>
          <p:cNvPicPr/>
          <p:nvPr/>
        </p:nvPicPr>
        <p:blipFill>
          <a:blip r:embed="rId1"/>
          <a:stretch/>
        </p:blipFill>
        <p:spPr>
          <a:xfrm>
            <a:off x="4202280" y="1542960"/>
            <a:ext cx="4762440" cy="498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手掌面血管和神经（2）"/>
          <p:cNvPicPr/>
          <p:nvPr/>
        </p:nvPicPr>
        <p:blipFill>
          <a:blip r:embed="rId1"/>
          <a:stretch/>
        </p:blipFill>
        <p:spPr>
          <a:xfrm>
            <a:off x="5105520" y="1295280"/>
            <a:ext cx="3504960" cy="487692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247" name="TextBox 4"/>
          <p:cNvSpPr/>
          <p:nvPr/>
        </p:nvSpPr>
        <p:spPr>
          <a:xfrm>
            <a:off x="7924680" y="1523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Ulnar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7"/>
          <p:cNvCxnSpPr/>
          <p:nvPr/>
        </p:nvCxnSpPr>
        <p:spPr>
          <a:xfrm flipH="1">
            <a:off x="7391160" y="2133720"/>
            <a:ext cx="762480" cy="30528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  <p:sp>
        <p:nvSpPr>
          <p:cNvPr id="249" name="Content Placeholder 9"/>
          <p:cNvSpPr/>
          <p:nvPr/>
        </p:nvSpPr>
        <p:spPr>
          <a:xfrm>
            <a:off x="304920" y="1143000"/>
            <a:ext cx="4647960" cy="518148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Ulnar art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s the ha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rior to the flexor retinacul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lateral side of the ulnar nerve and pisiform b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as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ficial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6934320" y="228600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5029200" y="4800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erficial palmar 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Straight Arrow Connector 18"/>
          <p:cNvCxnSpPr/>
          <p:nvPr/>
        </p:nvCxnSpPr>
        <p:spPr>
          <a:xfrm flipV="1">
            <a:off x="6018840" y="3123360"/>
            <a:ext cx="1067400" cy="1753560"/>
          </a:xfrm>
          <a:prstGeom prst="straightConnector1">
            <a:avLst/>
          </a:prstGeom>
          <a:ln w="28440">
            <a:solidFill>
              <a:srgbClr val="0000cc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8" descr="C:\Users\user\Pictures\aqaq.png"/>
          <p:cNvPicPr/>
          <p:nvPr/>
        </p:nvPicPr>
        <p:blipFill>
          <a:blip r:embed="rId1"/>
          <a:stretch/>
        </p:blipFill>
        <p:spPr>
          <a:xfrm>
            <a:off x="4952880" y="1143000"/>
            <a:ext cx="3557880" cy="4649760"/>
          </a:xfrm>
          <a:prstGeom prst="rect">
            <a:avLst/>
          </a:prstGeom>
          <a:ln w="0">
            <a:noFill/>
          </a:ln>
        </p:spPr>
      </p:pic>
      <p:cxnSp>
        <p:nvCxnSpPr>
          <p:cNvPr id="255" name="Straight Arrow Connector 10"/>
          <p:cNvCxnSpPr/>
          <p:nvPr/>
        </p:nvCxnSpPr>
        <p:spPr>
          <a:xfrm flipH="1">
            <a:off x="7314480" y="2286000"/>
            <a:ext cx="68652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11"/>
          <p:cNvSpPr/>
          <p:nvPr/>
        </p:nvSpPr>
        <p:spPr>
          <a:xfrm>
            <a:off x="7010280" y="1905120"/>
            <a:ext cx="1447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alibri"/>
              </a:rPr>
              <a:t>Rad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tent Placeholder 10"/>
          <p:cNvSpPr/>
          <p:nvPr/>
        </p:nvSpPr>
        <p:spPr>
          <a:xfrm>
            <a:off x="457200" y="1143000"/>
            <a:ext cx="4419720" cy="504684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ves dorsum of the hand by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urning forwar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the proximal ends of the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nd 2</a:t>
            </a:r>
            <a:r>
              <a:rPr b="0" lang="en-GB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metacarpa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nes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eads of the 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rsal inerossous mus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entering the palm it continues 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palmar arch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arteria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is indeci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rteria 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nceps polic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itle 4"/>
          <p:cNvSpPr/>
          <p:nvPr/>
        </p:nvSpPr>
        <p:spPr>
          <a:xfrm>
            <a:off x="0" y="22860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the Pal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16"/>
          <p:cNvCxnSpPr/>
          <p:nvPr/>
        </p:nvCxnSpPr>
        <p:spPr>
          <a:xfrm flipH="1" flipV="1">
            <a:off x="7466760" y="4266720"/>
            <a:ext cx="381960" cy="1448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Straight Arrow Connector 19"/>
          <p:cNvCxnSpPr/>
          <p:nvPr/>
        </p:nvCxnSpPr>
        <p:spPr>
          <a:xfrm flipH="1" flipV="1">
            <a:off x="7695720" y="4114080"/>
            <a:ext cx="153360" cy="1677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TextBox 11"/>
          <p:cNvSpPr/>
          <p:nvPr/>
        </p:nvSpPr>
        <p:spPr>
          <a:xfrm>
            <a:off x="6629400" y="5867280"/>
            <a:ext cx="2286000" cy="64260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dorsal interosseo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42640"/>
            <a:ext cx="8229600" cy="441972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end of the lecture, the students should be able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origin of the vascular supply for the upper lim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main arteries and their branches of the arm, forearm &amp; han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vascular arches for the h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the superficial and deep veins of the upper lim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457200"/>
            <a:ext cx="487692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uperficial Palmar 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Content Placeholder 11"/>
          <p:cNvSpPr/>
          <p:nvPr/>
        </p:nvSpPr>
        <p:spPr>
          <a:xfrm>
            <a:off x="380880" y="1143000"/>
            <a:ext cx="4267440" cy="51814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direct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nar arte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it curves laterally behind the palmar aponeur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by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nch from the radial art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pproximately at the level of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stal Border of the Extended Thum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gital arteri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its convexity to supply the fin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C:\Users\user\Pictures\def.png"/>
          <p:cNvPicPr/>
          <p:nvPr/>
        </p:nvPicPr>
        <p:blipFill>
          <a:blip r:embed="rId1"/>
          <a:stretch/>
        </p:blipFill>
        <p:spPr>
          <a:xfrm>
            <a:off x="5105520" y="762120"/>
            <a:ext cx="3352680" cy="51624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7"/>
          <p:cNvSpPr/>
          <p:nvPr/>
        </p:nvSpPr>
        <p:spPr>
          <a:xfrm>
            <a:off x="5105520" y="5334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8"/>
          <p:cNvSpPr/>
          <p:nvPr/>
        </p:nvSpPr>
        <p:spPr>
          <a:xfrm>
            <a:off x="5105520" y="19051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nceps pollici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9"/>
          <p:cNvSpPr/>
          <p:nvPr/>
        </p:nvSpPr>
        <p:spPr>
          <a:xfrm>
            <a:off x="5105520" y="9907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is indices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0"/>
          <p:cNvSpPr/>
          <p:nvPr/>
        </p:nvSpPr>
        <p:spPr>
          <a:xfrm>
            <a:off x="7696080" y="5105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8381880" y="259092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al art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13"/>
          <p:cNvCxnSpPr/>
          <p:nvPr/>
        </p:nvCxnSpPr>
        <p:spPr>
          <a:xfrm>
            <a:off x="4952880" y="3809880"/>
            <a:ext cx="182952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1" name="Straight Arrow Connector 15"/>
          <p:cNvCxnSpPr/>
          <p:nvPr/>
        </p:nvCxnSpPr>
        <p:spPr>
          <a:xfrm flipH="1">
            <a:off x="6780960" y="2971800"/>
            <a:ext cx="1677240" cy="3816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2" name="Straight Arrow Connector 16"/>
          <p:cNvCxnSpPr/>
          <p:nvPr/>
        </p:nvCxnSpPr>
        <p:spPr>
          <a:xfrm flipH="1">
            <a:off x="7162560" y="2971800"/>
            <a:ext cx="1296000" cy="5342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3" name="Straight Arrow Connector 17"/>
          <p:cNvCxnSpPr/>
          <p:nvPr/>
        </p:nvCxnSpPr>
        <p:spPr>
          <a:xfrm flipH="1">
            <a:off x="7390800" y="2970720"/>
            <a:ext cx="1067400" cy="68652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4" name="Straight Arrow Connector 22"/>
          <p:cNvCxnSpPr/>
          <p:nvPr/>
        </p:nvCxnSpPr>
        <p:spPr>
          <a:xfrm>
            <a:off x="6095520" y="5562360"/>
            <a:ext cx="381960" cy="153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5" name="Straight Arrow Connector 23"/>
          <p:cNvCxnSpPr/>
          <p:nvPr/>
        </p:nvCxnSpPr>
        <p:spPr>
          <a:xfrm flipH="1">
            <a:off x="7238520" y="5257800"/>
            <a:ext cx="53424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276" name="Straight Connector 32"/>
          <p:cNvSpPr/>
          <p:nvPr/>
        </p:nvSpPr>
        <p:spPr>
          <a:xfrm flipH="1" flipV="1">
            <a:off x="4723920" y="1371240"/>
            <a:ext cx="228600" cy="2438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33"/>
          <p:cNvCxnSpPr/>
          <p:nvPr/>
        </p:nvCxnSpPr>
        <p:spPr>
          <a:xfrm flipH="1">
            <a:off x="5638320" y="2514600"/>
            <a:ext cx="153360" cy="838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78" name="Straight Arrow Connector 34"/>
          <p:cNvCxnSpPr/>
          <p:nvPr/>
        </p:nvCxnSpPr>
        <p:spPr>
          <a:xfrm>
            <a:off x="6018840" y="1600200"/>
            <a:ext cx="229320" cy="99144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Content Placeholder 12"/>
          <p:cNvSpPr/>
          <p:nvPr/>
        </p:nvSpPr>
        <p:spPr>
          <a:xfrm>
            <a:off x="228600" y="228600"/>
            <a:ext cx="4952880" cy="61722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al arte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curves medially beneath long flexor tendons , in front of the metacarpal bones and interosseous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ompleted on the medial side b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ep branch of ulnar art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at a level of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ximal Border of Extended thum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nds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p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hare in anastomosis around the wrist joint 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ferior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join branches of the superficial palmar arch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C:\Users\user\Pictures\ssaa.png"/>
          <p:cNvPicPr/>
          <p:nvPr/>
        </p:nvPicPr>
        <p:blipFill>
          <a:blip r:embed="rId1"/>
          <a:stretch/>
        </p:blipFill>
        <p:spPr>
          <a:xfrm>
            <a:off x="5334120" y="990720"/>
            <a:ext cx="3611520" cy="5181480"/>
          </a:xfrm>
          <a:prstGeom prst="rect">
            <a:avLst/>
          </a:prstGeom>
          <a:ln w="0">
            <a:noFill/>
          </a:ln>
        </p:spPr>
      </p:pic>
      <p:sp>
        <p:nvSpPr>
          <p:cNvPr id="281" name="Title 1"/>
          <p:cNvSpPr/>
          <p:nvPr/>
        </p:nvSpPr>
        <p:spPr>
          <a:xfrm>
            <a:off x="5181480" y="304920"/>
            <a:ext cx="3962520" cy="64116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Deep Palmar 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5638680" y="5562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dial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8229600" y="480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lnar 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3"/>
          <p:cNvCxnSpPr/>
          <p:nvPr/>
        </p:nvCxnSpPr>
        <p:spPr>
          <a:xfrm>
            <a:off x="6019920" y="1066680"/>
            <a:ext cx="1219680" cy="24390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5" name="Straight Arrow Connector 14"/>
          <p:cNvCxnSpPr/>
          <p:nvPr/>
        </p:nvCxnSpPr>
        <p:spPr>
          <a:xfrm flipV="1">
            <a:off x="6705720" y="5486400"/>
            <a:ext cx="381600" cy="7668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  <p:cxnSp>
        <p:nvCxnSpPr>
          <p:cNvPr id="286" name="Straight Arrow Connector 15"/>
          <p:cNvCxnSpPr>
            <a:stCxn id="283" idx="1"/>
          </p:cNvCxnSpPr>
          <p:nvPr/>
        </p:nvCxnSpPr>
        <p:spPr>
          <a:xfrm flipH="1" flipV="1">
            <a:off x="7923960" y="5104800"/>
            <a:ext cx="305640" cy="19800"/>
          </a:xfrm>
          <a:prstGeom prst="straightConnector1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C:\Users\user\Pictures\428px-Gray1237_svg.png"/>
          <p:cNvPicPr/>
          <p:nvPr/>
        </p:nvPicPr>
        <p:blipFill>
          <a:blip r:embed="rId1"/>
          <a:stretch/>
        </p:blipFill>
        <p:spPr>
          <a:xfrm>
            <a:off x="3276720" y="228600"/>
            <a:ext cx="4572000" cy="6397560"/>
          </a:xfrm>
          <a:prstGeom prst="rect">
            <a:avLst/>
          </a:prstGeom>
          <a:ln w="9360">
            <a:solidFill>
              <a:srgbClr val="00ff00"/>
            </a:solidFill>
            <a:miter/>
          </a:ln>
        </p:spPr>
      </p:pic>
      <p:sp>
        <p:nvSpPr>
          <p:cNvPr id="288" name="Rectangle 4"/>
          <p:cNvSpPr/>
          <p:nvPr/>
        </p:nvSpPr>
        <p:spPr>
          <a:xfrm>
            <a:off x="380880" y="2133720"/>
            <a:ext cx="2590920" cy="2226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superficial palmar arch is more distal than the deep palmar 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7859880" cy="7081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RTERIAL INNERVATION AND RAYNAUD’S DISEA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322800" cy="46911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aynaud’s diseas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s a vasospastic disease involves digital arte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requir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ervicodors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ganglionic sympathectomy to prevent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ecrosis of the fin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C:\Documents and Settings\Dr.Essam\My Documents\summer courseNew Folder\2014\raynauds3.bmp"/>
          <p:cNvPicPr/>
          <p:nvPr/>
        </p:nvPicPr>
        <p:blipFill>
          <a:blip r:embed="rId1"/>
          <a:srcRect l="0" t="0" r="5619" b="14852"/>
          <a:stretch/>
        </p:blipFill>
        <p:spPr>
          <a:xfrm>
            <a:off x="3780000" y="981000"/>
            <a:ext cx="4824360" cy="352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92" name="Picture 3" descr="C:\Documents and Settings\Dr.Essam\My Documents\summer courseNew Folder\2014\images (1).jpg"/>
          <p:cNvPicPr/>
          <p:nvPr/>
        </p:nvPicPr>
        <p:blipFill>
          <a:blip r:embed="rId2"/>
          <a:stretch/>
        </p:blipFill>
        <p:spPr>
          <a:xfrm>
            <a:off x="4788000" y="4581360"/>
            <a:ext cx="3247920" cy="208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1"/>
          <a:srcRect l="1215" t="1215" r="2379" b="8414"/>
          <a:stretch/>
        </p:blipFill>
        <p:spPr>
          <a:xfrm>
            <a:off x="4572000" y="1600200"/>
            <a:ext cx="4145040" cy="4114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294" name="Title 1"/>
          <p:cNvSpPr/>
          <p:nvPr/>
        </p:nvSpPr>
        <p:spPr>
          <a:xfrm>
            <a:off x="0" y="22860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Veins of the Upper Lim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142640"/>
            <a:ext cx="3962520" cy="525780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eins of the upper limb are divided into two set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sets anastomose frequently with each ot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erfic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placed immediately beneath the skin, in the superficial fasc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ep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pany the arteries, and constitute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næ comitan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ose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752480"/>
            <a:ext cx="4648320" cy="467856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digit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rain into  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metacarp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unite to form a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or networ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rsal venous network lies on the dorsum of the hand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the subcutanous tiss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ximal to the  metacarpophalangeal j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ins into the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Cephal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in laterally, and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Basilic</a:t>
            </a:r>
            <a:r>
              <a:rPr b="0" lang="en-US" sz="2400" spc="-1" strike="noStrike">
                <a:solidFill>
                  <a:srgbClr val="4f81bd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in medial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716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Superficial Veins of the Upper Lim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1828800" y="1066680"/>
            <a:ext cx="5603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orsal Venous Arch (network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C:\Users\user\Documents\Downloads\image573.gif"/>
          <p:cNvPicPr/>
          <p:nvPr/>
        </p:nvPicPr>
        <p:blipFill>
          <a:blip r:embed="rId1"/>
          <a:stretch/>
        </p:blipFill>
        <p:spPr>
          <a:xfrm>
            <a:off x="5105520" y="1752480"/>
            <a:ext cx="3429000" cy="46483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04560" y="990360"/>
            <a:ext cx="2895480" cy="380988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lateral 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radial sid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forearm to the elbow and continues up the arm in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ltopectoral groove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Pierce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SimSun"/>
              </a:rPr>
              <a:t>clavipectoral fasc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to drain into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axillary vein</a:t>
            </a:r>
            <a:r>
              <a:rPr b="1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Picture 2" descr="C:\Users\user\Pictures\vvv.png"/>
          <p:cNvPicPr/>
          <p:nvPr/>
        </p:nvPicPr>
        <p:blipFill>
          <a:blip r:embed="rId1"/>
          <a:stretch/>
        </p:blipFill>
        <p:spPr>
          <a:xfrm>
            <a:off x="3352680" y="1143000"/>
            <a:ext cx="2430720" cy="365760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5"/>
          <p:cNvSpPr/>
          <p:nvPr/>
        </p:nvSpPr>
        <p:spPr>
          <a:xfrm>
            <a:off x="380880" y="380880"/>
            <a:ext cx="274320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Cephalic 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Content Placeholder 2"/>
          <p:cNvSpPr/>
          <p:nvPr/>
        </p:nvSpPr>
        <p:spPr>
          <a:xfrm>
            <a:off x="5943600" y="1066680"/>
            <a:ext cx="2895480" cy="373392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rises from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l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the dorsal venous arch of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scends on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ulnar side</a:t>
            </a:r>
            <a:r>
              <a:rPr b="0" lang="en-US" sz="2000" spc="-1" strike="noStrike">
                <a:solidFill>
                  <a:srgbClr val="4f81bd"/>
                </a:solidFill>
                <a:latin typeface="Times New Roman"/>
                <a:ea typeface="SimSu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of forearm to the elbow 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n the  middle of the arm, it pierce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deep fasci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nd joins the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SimSun"/>
              </a:rPr>
              <a:t>brachial vein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SimSun"/>
              </a:rPr>
              <a:t>or axillary v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1295280" y="5029200"/>
            <a:ext cx="1524240" cy="1245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Median Cubital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6095880" y="457200"/>
            <a:ext cx="2590920" cy="53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Basilic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  <a:ea typeface="SimSun"/>
              </a:rPr>
              <a:t>Ve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2819520" y="4952880"/>
            <a:ext cx="3886200" cy="1371600"/>
          </a:xfrm>
          <a:prstGeom prst="rect">
            <a:avLst/>
          </a:prstGeom>
          <a:solidFill>
            <a:srgbClr val="dce6f2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Links cephalic vein and basilic vein in the cubital fos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Is a frequent site for venipun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228600" y="1218960"/>
            <a:ext cx="7315200" cy="5257800"/>
          </a:xfrm>
          <a:prstGeom prst="rect">
            <a:avLst/>
          </a:prstGeom>
          <a:solidFill>
            <a:srgbClr val="f2dcdb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Accompany the arteries of the same region and bear similar nam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SimSun"/>
              </a:rPr>
              <a:t>Venae commitan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: They are generally arranged in pairs, and are situated one on either side of the corresponding artery, and connected at intervals by short transverse branch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uperficial and deep palmar arterial arches are each accompanied by a pair of venæ comitantes which constitute 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erf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palmar venous arch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nd receive the veins corresponding to the branches of the arterial arch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deep veins of the fore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the venæ comitantes of the radial and ulnar arte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 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SimSun"/>
              </a:rPr>
              <a:t>brachial ve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 are placed one on either side of the brachial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itle 1"/>
          <p:cNvSpPr/>
          <p:nvPr/>
        </p:nvSpPr>
        <p:spPr>
          <a:xfrm>
            <a:off x="0" y="304920"/>
            <a:ext cx="9144000" cy="715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 Rounded MT Bold"/>
                <a:ea typeface="SimSun"/>
              </a:rPr>
              <a:t>Deep Veins of the Upper Li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ClipArt Placeholder 7" descr="C:\Documents and Settings\Free User\My Documents\My Pictures\ssas.png"/>
          <p:cNvPicPr/>
          <p:nvPr/>
        </p:nvPicPr>
        <p:blipFill>
          <a:blip r:embed="rId1"/>
          <a:stretch/>
        </p:blipFill>
        <p:spPr>
          <a:xfrm>
            <a:off x="7543800" y="1523880"/>
            <a:ext cx="1438200" cy="4530960"/>
          </a:xfrm>
          <a:prstGeom prst="rect">
            <a:avLst/>
          </a:prstGeom>
          <a:ln w="0">
            <a:noFill/>
          </a:ln>
        </p:spPr>
      </p:pic>
      <p:cxnSp>
        <p:nvCxnSpPr>
          <p:cNvPr id="310" name="Straight Arrow Connector 2"/>
          <p:cNvCxnSpPr/>
          <p:nvPr/>
        </p:nvCxnSpPr>
        <p:spPr>
          <a:xfrm>
            <a:off x="7772040" y="1904760"/>
            <a:ext cx="610200" cy="61020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11" name="Straight Arrow Connector 5"/>
          <p:cNvCxnSpPr/>
          <p:nvPr/>
        </p:nvCxnSpPr>
        <p:spPr>
          <a:xfrm>
            <a:off x="7696080" y="2361960"/>
            <a:ext cx="61056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324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 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Axillary vein</a:t>
            </a:r>
            <a:r>
              <a:rPr b="1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eg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the Teres maj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s the continuation of the basi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s the subclavian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s the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rachial vei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, close to its termination, the </a:t>
            </a:r>
            <a:r>
              <a:rPr b="1" lang="en-US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ephalic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Subclavian ve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continuation of the axillary vei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er border of the first rib to the sternal end of the clav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it unites with the internal jugular to form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rachiocephalic (Innominate) vein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Users\user\Documents\Downloads\576.gif"/>
          <p:cNvPicPr/>
          <p:nvPr/>
        </p:nvPicPr>
        <p:blipFill>
          <a:blip r:embed="rId1"/>
          <a:stretch/>
        </p:blipFill>
        <p:spPr>
          <a:xfrm>
            <a:off x="5486400" y="533520"/>
            <a:ext cx="3214800" cy="25905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314" name="Picture 4" descr="http://l.yimg.com/a/i/edu/ref/ga/l/577.gif"/>
          <p:cNvPicPr/>
          <p:nvPr/>
        </p:nvPicPr>
        <p:blipFill>
          <a:blip r:embed="rId2"/>
          <a:srcRect l="5476" t="0" r="0" b="68004"/>
          <a:stretch/>
        </p:blipFill>
        <p:spPr>
          <a:xfrm>
            <a:off x="5340240" y="3352680"/>
            <a:ext cx="3635640" cy="26672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18440" cy="10224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ein Catheter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330800" cy="52340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Calibri"/>
              </a:rPr>
              <a:t>Basi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the vein of choice for central venous catheterization,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Because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om the cubital fossa until reaching the axillary vein it increases in diameter and lies in direct line with the axillary ve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000" spc="-1" strike="noStrike" u="sng">
                <a:solidFill>
                  <a:srgbClr val="0000cc"/>
                </a:solidFill>
                <a:uFillTx/>
                <a:latin typeface="Calibri"/>
              </a:rPr>
              <a:t>Cephalic ve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se not increase in size as it ascends in the arm, and frequently divides into small branche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it joins the axillary vein at right angle 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o it is difficult to maneuver the catheter around this angl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2" descr="C:\Documents and Settings\Dr.Essam\My Documents\summer courseNew Folder\2014\Gray576.png"/>
          <p:cNvPicPr/>
          <p:nvPr/>
        </p:nvPicPr>
        <p:blipFill>
          <a:blip r:embed="rId1"/>
          <a:stretch/>
        </p:blipFill>
        <p:spPr>
          <a:xfrm>
            <a:off x="4788000" y="1685880"/>
            <a:ext cx="4259160" cy="3433680"/>
          </a:xfrm>
          <a:prstGeom prst="rect">
            <a:avLst/>
          </a:prstGeom>
          <a:ln w="0">
            <a:noFill/>
          </a:ln>
        </p:spPr>
      </p:pic>
      <p:cxnSp>
        <p:nvCxnSpPr>
          <p:cNvPr id="318" name="Straight Arrow Connector 2"/>
          <p:cNvCxnSpPr/>
          <p:nvPr/>
        </p:nvCxnSpPr>
        <p:spPr>
          <a:xfrm flipV="1">
            <a:off x="5943600" y="3733200"/>
            <a:ext cx="7668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19" name="Straight Arrow Connector 4"/>
          <p:cNvCxnSpPr/>
          <p:nvPr/>
        </p:nvCxnSpPr>
        <p:spPr>
          <a:xfrm flipH="1" flipV="1">
            <a:off x="7923960" y="3123360"/>
            <a:ext cx="762840" cy="381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895480" y="1219320"/>
            <a:ext cx="3802320" cy="5181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</a:t>
            </a:r>
            <a:r>
              <a:rPr b="1" lang="en-US" sz="40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Arteries Of The Upper Limb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51160" y="2057400"/>
            <a:ext cx="1374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illary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2895480" y="1143000"/>
            <a:ext cx="1447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0"/>
          <p:cNvSpPr/>
          <p:nvPr/>
        </p:nvSpPr>
        <p:spPr>
          <a:xfrm>
            <a:off x="7086600" y="1143000"/>
            <a:ext cx="1371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subclav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9"/>
          <p:cNvSpPr/>
          <p:nvPr/>
        </p:nvSpPr>
        <p:spPr>
          <a:xfrm>
            <a:off x="1600200" y="2895480"/>
            <a:ext cx="1255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rach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4"/>
          <p:cNvSpPr/>
          <p:nvPr/>
        </p:nvSpPr>
        <p:spPr>
          <a:xfrm>
            <a:off x="4419720" y="44956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al 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5"/>
          <p:cNvSpPr/>
          <p:nvPr/>
        </p:nvSpPr>
        <p:spPr>
          <a:xfrm>
            <a:off x="1828800" y="4038480"/>
            <a:ext cx="609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lna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5"/>
          <p:cNvSpPr/>
          <p:nvPr/>
        </p:nvSpPr>
        <p:spPr>
          <a:xfrm>
            <a:off x="1905120" y="5410080"/>
            <a:ext cx="761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lmar arch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11"/>
          <p:cNvCxnSpPr/>
          <p:nvPr/>
        </p:nvCxnSpPr>
        <p:spPr>
          <a:xfrm flipH="1">
            <a:off x="6019200" y="1447920"/>
            <a:ext cx="114372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>
            <a:off x="2742840" y="2209320"/>
            <a:ext cx="2057760" cy="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V="1">
            <a:off x="2895120" y="2971440"/>
            <a:ext cx="1335960" cy="20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 flipV="1">
            <a:off x="3962160" y="4647960"/>
            <a:ext cx="3816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>
            <a:off x="2362320" y="4343400"/>
            <a:ext cx="13723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6"/>
          <p:cNvCxnSpPr/>
          <p:nvPr/>
        </p:nvCxnSpPr>
        <p:spPr>
          <a:xfrm>
            <a:off x="4190760" y="1371600"/>
            <a:ext cx="99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25"/>
          <p:cNvCxnSpPr/>
          <p:nvPr/>
        </p:nvCxnSpPr>
        <p:spPr>
          <a:xfrm>
            <a:off x="2666520" y="5562720"/>
            <a:ext cx="83916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3520" y="2590920"/>
            <a:ext cx="8229600" cy="121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omic"/>
                <a:ea typeface="Arial"/>
              </a:rPr>
              <a:t>Thank you 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6415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Times New Roman"/>
              </a:rPr>
              <a:t>The Subclavian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2667240" cy="4419360"/>
          </a:xfrm>
          <a:prstGeom prst="rect">
            <a:avLst/>
          </a:prstGeom>
          <a:solidFill>
            <a:srgbClr val="ebf1de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igh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ocephalic arte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ft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tes from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ch of the  aort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5867280" y="3733920"/>
            <a:ext cx="289584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inues a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arter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lateral border of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6" descr="C:\Users\user\Documents\Downloads\79222827a656c75e11007cd3811a18cf.png"/>
          <p:cNvPicPr/>
          <p:nvPr/>
        </p:nvPicPr>
        <p:blipFill>
          <a:blip r:embed="rId1"/>
          <a:stretch/>
        </p:blipFill>
        <p:spPr>
          <a:xfrm>
            <a:off x="3200400" y="2209680"/>
            <a:ext cx="2571840" cy="317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3" name="Picture 5" descr="腋动脉"/>
          <p:cNvPicPr/>
          <p:nvPr/>
        </p:nvPicPr>
        <p:blipFill>
          <a:blip r:embed="rId2"/>
          <a:stretch/>
        </p:blipFill>
        <p:spPr>
          <a:xfrm>
            <a:off x="5867280" y="990720"/>
            <a:ext cx="289872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Straight Connector 39"/>
          <p:cNvSpPr/>
          <p:nvPr/>
        </p:nvSpPr>
        <p:spPr>
          <a:xfrm flipH="1" flipV="1">
            <a:off x="7619760" y="1218960"/>
            <a:ext cx="685800" cy="99036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"/>
          <p:cNvSpPr/>
          <p:nvPr/>
        </p:nvSpPr>
        <p:spPr>
          <a:xfrm>
            <a:off x="3200400" y="2895480"/>
            <a:ext cx="8380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8"/>
          <p:cNvSpPr/>
          <p:nvPr/>
        </p:nvSpPr>
        <p:spPr>
          <a:xfrm>
            <a:off x="5105520" y="2971800"/>
            <a:ext cx="60948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52280" y="914040"/>
            <a:ext cx="4724640" cy="5638680"/>
          </a:xfrm>
          <a:prstGeom prst="rect">
            <a:avLst/>
          </a:prstGeom>
          <a:solidFill>
            <a:srgbClr val="dbeef4"/>
          </a:solidFill>
          <a:ln w="9360">
            <a:solidFill>
              <a:srgbClr val="00b0f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s at the lateral border of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ib as continuation of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clavian arte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s as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arter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lower bord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es maj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losely related to the cords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rachial plex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ir branc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nclosed within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xillary shea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crossed anteriorly by th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ctoralis min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cle, and is divided into three parts;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 2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nd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&amp; 3</a:t>
            </a:r>
            <a:r>
              <a:rPr b="1" lang="en-US" sz="24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rd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Rounded MT Bold"/>
                <a:ea typeface="SimSun-ExtB"/>
              </a:rPr>
              <a:t>The Axillary Arter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腋动脉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71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120" name="Straight Arrow Connector 15"/>
          <p:cNvCxnSpPr/>
          <p:nvPr/>
        </p:nvCxnSpPr>
        <p:spPr>
          <a:xfrm flipH="1">
            <a:off x="8305200" y="1828800"/>
            <a:ext cx="229320" cy="77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Straight Arrow Connector 19"/>
          <p:cNvCxnSpPr/>
          <p:nvPr/>
        </p:nvCxnSpPr>
        <p:spPr>
          <a:xfrm flipH="1" flipV="1">
            <a:off x="7009920" y="3352320"/>
            <a:ext cx="915120" cy="236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Straight Arrow Connector 21"/>
          <p:cNvCxnSpPr/>
          <p:nvPr/>
        </p:nvCxnSpPr>
        <p:spPr>
          <a:xfrm flipH="1" flipV="1">
            <a:off x="6019560" y="3962160"/>
            <a:ext cx="305280" cy="1753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7"/>
          <p:cNvSpPr/>
          <p:nvPr/>
        </p:nvSpPr>
        <p:spPr>
          <a:xfrm>
            <a:off x="7086600" y="1447920"/>
            <a:ext cx="19051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bclavian arte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8"/>
          <p:cNvSpPr/>
          <p:nvPr/>
        </p:nvSpPr>
        <p:spPr>
          <a:xfrm>
            <a:off x="7467480" y="5715000"/>
            <a:ext cx="15242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xillary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05520" y="5715000"/>
            <a:ext cx="1676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Brachial ar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8"/>
          <p:cNvSpPr/>
          <p:nvPr/>
        </p:nvSpPr>
        <p:spPr>
          <a:xfrm flipH="1" flipV="1">
            <a:off x="7162920" y="19810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3"/>
          <p:cNvSpPr/>
          <p:nvPr/>
        </p:nvSpPr>
        <p:spPr>
          <a:xfrm flipH="1" flipV="1">
            <a:off x="5791320" y="2895480"/>
            <a:ext cx="914400" cy="1371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6553080" y="32004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toralis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800600" y="304812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solidFill>
            <a:srgbClr val="dbeef4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border of 1</a:t>
            </a:r>
            <a:r>
              <a:rPr b="0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ri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upper border of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Anterioly: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pectoralis major mus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cords of the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ranch: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ghest thoracic ar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21"/>
          <p:cNvSpPr/>
          <p:nvPr/>
        </p:nvSpPr>
        <p:spPr>
          <a:xfrm>
            <a:off x="7543800" y="26668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est thoracic artery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23"/>
          <p:cNvSpPr/>
          <p:nvPr/>
        </p:nvSpPr>
        <p:spPr>
          <a:xfrm flipH="1" flipV="1">
            <a:off x="7315200" y="2514240"/>
            <a:ext cx="457200" cy="22860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7467480" y="28954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oraco-acromial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1"/>
          <p:cNvSpPr/>
          <p:nvPr/>
        </p:nvSpPr>
        <p:spPr>
          <a:xfrm>
            <a:off x="7772400" y="4191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teral Thoracic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7238880" y="4419720"/>
            <a:ext cx="60984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5"/>
          <p:cNvSpPr/>
          <p:nvPr/>
        </p:nvSpPr>
        <p:spPr>
          <a:xfrm>
            <a:off x="304920" y="1066680"/>
            <a:ext cx="4343400" cy="4876920"/>
          </a:xfrm>
          <a:prstGeom prst="rect">
            <a:avLst/>
          </a:prstGeom>
          <a:solidFill>
            <a:srgbClr val="dbeef4"/>
          </a:solidFill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es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hind the pectoralis minor mus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related medially, laterally, and posterioly to the corresponding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or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 brachial plex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WO branch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oracoacromial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teral thoraci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5" descr="腋动脉1"/>
          <p:cNvPicPr/>
          <p:nvPr/>
        </p:nvPicPr>
        <p:blipFill>
          <a:blip r:embed="rId1"/>
          <a:stretch/>
        </p:blipFill>
        <p:spPr>
          <a:xfrm>
            <a:off x="4952880" y="762120"/>
            <a:ext cx="3810240" cy="49910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8"/>
          <p:cNvSpPr/>
          <p:nvPr/>
        </p:nvSpPr>
        <p:spPr>
          <a:xfrm>
            <a:off x="6248520" y="1600200"/>
            <a:ext cx="990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6"/>
          <p:cNvSpPr/>
          <p:nvPr/>
        </p:nvSpPr>
        <p:spPr>
          <a:xfrm>
            <a:off x="6781680" y="34290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c. mi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7"/>
          <p:cNvSpPr/>
          <p:nvPr/>
        </p:nvSpPr>
        <p:spPr>
          <a:xfrm>
            <a:off x="57150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es maj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8"/>
          <p:cNvSpPr/>
          <p:nvPr/>
        </p:nvSpPr>
        <p:spPr>
          <a:xfrm rot="18462000">
            <a:off x="7132680" y="1279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Bracket 12"/>
          <p:cNvSpPr/>
          <p:nvPr/>
        </p:nvSpPr>
        <p:spPr>
          <a:xfrm rot="3187800">
            <a:off x="6930720" y="1644480"/>
            <a:ext cx="44280" cy="892440"/>
          </a:xfrm>
          <a:custGeom>
            <a:avLst/>
            <a:gdLst>
              <a:gd name="textAreaLeft" fmla="*/ 12960 w 44280"/>
              <a:gd name="textAreaRight" fmla="*/ 44640 w 44280"/>
              <a:gd name="textAreaTop" fmla="*/ 1800 h 892440"/>
              <a:gd name="textAreaBottom" fmla="*/ 890640 h 892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5"/>
                  <a:pt x="0" y="90"/>
                </a:cubicBezTo>
                <a:lnTo>
                  <a:pt x="0" y="21510"/>
                </a:lnTo>
                <a:cubicBezTo>
                  <a:pt x="0" y="21555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Bracket 14"/>
          <p:cNvSpPr/>
          <p:nvPr/>
        </p:nvSpPr>
        <p:spPr>
          <a:xfrm rot="1229400">
            <a:off x="5746680" y="2652480"/>
            <a:ext cx="119160" cy="2209680"/>
          </a:xfrm>
          <a:custGeom>
            <a:avLst/>
            <a:gdLst>
              <a:gd name="textAreaLeft" fmla="*/ 34920 w 119160"/>
              <a:gd name="textAreaRight" fmla="*/ 119520 w 119160"/>
              <a:gd name="textAreaTop" fmla="*/ 4680 h 2209680"/>
              <a:gd name="textAreaBottom" fmla="*/ 220500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9"/>
                  <a:pt x="0" y="97"/>
                </a:cubicBezTo>
                <a:lnTo>
                  <a:pt x="0" y="21503"/>
                </a:lnTo>
                <a:cubicBezTo>
                  <a:pt x="0" y="21552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eft Bracket 15"/>
          <p:cNvSpPr/>
          <p:nvPr/>
        </p:nvSpPr>
        <p:spPr>
          <a:xfrm rot="3187800">
            <a:off x="6382440" y="2389680"/>
            <a:ext cx="72720" cy="388800"/>
          </a:xfrm>
          <a:custGeom>
            <a:avLst/>
            <a:gdLst>
              <a:gd name="textAreaLeft" fmla="*/ 21240 w 72720"/>
              <a:gd name="textAreaRight" fmla="*/ 73080 w 72720"/>
              <a:gd name="textAreaTop" fmla="*/ 2880 h 388800"/>
              <a:gd name="textAreaBottom" fmla="*/ 385920 h 38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69"/>
                  <a:pt x="0" y="338"/>
                </a:cubicBezTo>
                <a:lnTo>
                  <a:pt x="0" y="21262"/>
                </a:lnTo>
                <a:cubicBezTo>
                  <a:pt x="0" y="21431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"/>
          <p:cNvSpPr/>
          <p:nvPr/>
        </p:nvSpPr>
        <p:spPr>
          <a:xfrm>
            <a:off x="5410080" y="1905120"/>
            <a:ext cx="10670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n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4800600" y="2895480"/>
            <a:ext cx="10666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en-US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rd</a:t>
            </a:r>
            <a:r>
              <a:rPr b="1" lang="en-US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5"/>
          <p:cNvSpPr/>
          <p:nvPr/>
        </p:nvSpPr>
        <p:spPr>
          <a:xfrm>
            <a:off x="304920" y="990720"/>
            <a:ext cx="44193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3rd part of the axillary art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5105520" y="571500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rior &amp; posterior circumflex humeral 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1"/>
          <p:cNvSpPr/>
          <p:nvPr/>
        </p:nvSpPr>
        <p:spPr>
          <a:xfrm>
            <a:off x="7467480" y="5486400"/>
            <a:ext cx="144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capular 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3"/>
          <p:cNvSpPr/>
          <p:nvPr/>
        </p:nvSpPr>
        <p:spPr>
          <a:xfrm>
            <a:off x="7391520" y="5257800"/>
            <a:ext cx="533160" cy="22860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tent Placeholder 9"/>
          <p:cNvSpPr/>
          <p:nvPr/>
        </p:nvSpPr>
        <p:spPr>
          <a:xfrm>
            <a:off x="152280" y="914400"/>
            <a:ext cx="4496040" cy="571500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s from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wer border of pectoralis minor musc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lower border teres major mus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medially, laterally, and posterioly, to the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branches</a:t>
            </a:r>
            <a:r>
              <a:rPr b="0" lang="en-US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cords of the brachial plex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gives;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REE Bran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cabul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terior circumflex hum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terior circumflex humer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6"/>
          <p:cNvSpPr/>
          <p:nvPr/>
        </p:nvSpPr>
        <p:spPr>
          <a:xfrm>
            <a:off x="5486400" y="3809880"/>
            <a:ext cx="838080" cy="19814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28"/>
          <p:cNvSpPr/>
          <p:nvPr/>
        </p:nvSpPr>
        <p:spPr>
          <a:xfrm>
            <a:off x="5714280" y="3352680"/>
            <a:ext cx="609480" cy="243864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19280" y="260280"/>
            <a:ext cx="3008520" cy="1224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nastomosis around Shoulder joint (SCAPUL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476280"/>
            <a:ext cx="3889440" cy="56498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astomosis occurs between branches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ubclavian and Axillary arter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Subclavian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ra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verse cervic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anches from Axillary Arter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scapular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31960" indent="-4158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sterior circumflex humeral art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ontent Placeholder 4" descr="C:\Users\ssarain\Desktop\KFMC data\Anatomy books\Grey's Anatomy pictures\C9780443069529-007-f039.jpg"/>
          <p:cNvPicPr/>
          <p:nvPr/>
        </p:nvPicPr>
        <p:blipFill>
          <a:blip r:embed="rId1"/>
          <a:srcRect l="0" t="0" r="0" b="4413"/>
          <a:stretch/>
        </p:blipFill>
        <p:spPr>
          <a:xfrm>
            <a:off x="4243320" y="1628640"/>
            <a:ext cx="4792680" cy="46800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4716360" y="2708280"/>
            <a:ext cx="57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4419720" y="2286000"/>
            <a:ext cx="873000" cy="152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4267080" y="2971800"/>
            <a:ext cx="1025640" cy="4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7"/>
          <p:cNvSpPr/>
          <p:nvPr/>
        </p:nvSpPr>
        <p:spPr>
          <a:xfrm>
            <a:off x="6400800" y="1828800"/>
            <a:ext cx="990720" cy="2286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7924680" y="3352680"/>
            <a:ext cx="1143000" cy="152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7924680" y="2590920"/>
            <a:ext cx="914400" cy="333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Zeenat Zaidi</dc:creator>
  <dc:description/>
  <dc:language>en-US</dc:language>
  <cp:lastModifiedBy>Gamilah H. Al-Madani</cp:lastModifiedBy>
  <dcterms:modified xsi:type="dcterms:W3CDTF">2015-12-08T09:03:18Z</dcterms:modified>
  <cp:revision>138</cp:revision>
  <dc:subject/>
  <dc:title>Vascular anatomy of the upper limb2010</dc:title>
</cp:coreProperties>
</file>