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19.jpeg" ContentType="image/jpeg"/>
  <Override PartName="/ppt/media/image25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10.jpeg" ContentType="image/jpeg"/>
  <Override PartName="/ppt/media/image29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AE4E-E916-4DE2-9BA5-AB2A4F44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D31-0085-4E54-B5B7-06FBC41F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3C96-470A-4802-B142-D365C61C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1D56-D098-4B1E-8FFB-A19803C6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7727-D659-45E4-BD2F-C5E20231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6603-09DF-4A43-A5A0-82EC0DC4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0401-8FF6-4896-9FE0-822A0375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1FE9-02C4-4DFB-B097-04FE4669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0A62-C0F3-4D75-8620-C8594526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4FB3-6EF9-45F4-9600-6C1B4CD6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B3B90-A951-4695-8845-0A51ACB5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2BB-9357-4DE8-AAA7-0848D8EA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F219-A3DE-492B-89DC-B8BB2E5F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5F97-C7DA-4C08-9CA2-CFB79348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0DF5-0CAD-444D-BEE5-5B1E19A3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ED31-3310-43B6-9837-DA53B550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3170-3634-4ABF-8567-355C0124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C9C7-083B-4BBC-8120-5D54880B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195-832F-488E-B874-177F8E26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E23-2225-45C9-A33D-89D5D5A7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7C0-EAC5-4156-8F8A-9D7CEFD9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610B-20F6-4037-9574-4D0F87F0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7355-4A24-4123-A932-6B6712F5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87CC-EA41-44C2-B171-448632AD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652C-E6FD-4F8C-98B0-AE17D4CFA4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AF7B-E0D9-4D42-86F5-23580EB41D3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CAcQjRw&amp;url=http%3A%2F%2Ffaculty.weber.edu%2Fnokazaki%2FHuman%2520Anatomy%2FNotes%2FArticulations.htm&amp;ei=syPnVMW6D8quPKTjgdgK&amp;psig=AFQjCNFGAwnvsZa9qjVgxDe_JjwZ_jseig&amp;ust=1424520428177796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google.com.sa/url?sa=i&amp;rct=j&amp;q=&amp;esrc=s&amp;source=images&amp;cd=&amp;cad=rja&amp;uact=8&amp;ved=0CAcQjRw&amp;url=http%3A%2F%2Fbrentbrookbush.com%2Faltered-scapular-kinematics-in-individuals-with-shoulder-pain%2F&amp;ei=tSTnVLXqHYfUOar-gbAO&amp;psig=AFQjCNHECpNtFjA9qqmoIGbz3r1aAbyNiQ&amp;ust=1424520730982872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hyperlink" Target="http://www.google.com.sa/url?sa=i&amp;rct=j&amp;q=&amp;esrc=s&amp;source=images&amp;cd=&amp;cad=rja&amp;uact=8&amp;ved=0ahUKEwiItJ-En57JAhVC1RoKHb5zCYcQjRwIBw&amp;url=http%3A%2F%2Fslideplayer.com%2Fslide%2F3433470%2F&amp;psig=AFQjCNEXvldzamHNre97zhnoCEjGU79ozw&amp;ust=1448082769554757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ahUKEwiO8a-UoZ7JAhUByRoKHeSqCyUQjRwIBw&amp;url=http%3A%2F%2Fwww.memrise.com%2Fuser%2Fkelleyfrazer%2F&amp;psig=AFQjCNGNAypWVK4nbKT-4WWD2Z2CXmxr0g&amp;ust=1448083368437130" TargetMode="Externa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com.sa/url?sa=i&amp;rct=j&amp;q=&amp;esrc=s&amp;source=images&amp;cd=&amp;cad=rja&amp;uact=8&amp;ved=0ahUKEwiO8a-UoZ7JAhUByRoKHeSqCyUQjRwIBw&amp;url=http%3A%2F%2Fwww.neuronarc.com%2Fjoint-articulations-and-movements-ppt.html&amp;psig=AFQjCNGNAypWVK4nbKT-4WWD2Z2CXmxr0g&amp;ust=1448083368437130" TargetMode="External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CAcQjRw&amp;url=http%3A%2F%2Fwww.nlm.nih.gov%2Fmedlineplus%2Fency%2Fimagepages%2F19622.htm&amp;ei=lXKdVIWZAcf3O5jMgfAM&amp;psig=AFQjCNGavYgRFzu8iXyeLYdEpH0md7en8w&amp;ust=1419691025322610" TargetMode="External"/><Relationship Id="rId2" Type="http://schemas.openxmlformats.org/officeDocument/2006/relationships/hyperlink" Target="http://www.google.com.sa/url?sa=i&amp;rct=j&amp;q=&amp;esrc=s&amp;source=images&amp;cd=&amp;cad=rja&amp;uact=8&amp;ved=0CAcQjRw&amp;url=http%3A%2F%2Fwww.nlm.nih.gov%2Fmedlineplus%2Fency%2Fimagepages%2F19622.htm&amp;ei=lXKdVIWZAcf3O5jMgfAM&amp;psig=AFQjCNGavYgRFzu8iXyeLYdEpH0md7en8w&amp;ust=1419691025322610" TargetMode="External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s://www.google.com.sa/url?sa=i&amp;rct=j&amp;q=&amp;esrc=s&amp;source=images&amp;cd=&amp;cad=rja&amp;uact=8&amp;ved=0CAcQjRw&amp;url=https%3A%2F%2Fwww.studyblue.com%2Fnotes%2Fnote%2Fn%2Fjoints-of-the-lower-limb%2Fdeck%2F6814883&amp;ei=Bh3nVJiRCYnHOo63gNgC&amp;psig=AFQjCNGNLfsFbvA2syEzqqCcoeMGECKEUg&amp;ust=1424518566081633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s://www.google.com.sa/url?sa=i&amp;rct=j&amp;q=&amp;esrc=s&amp;source=images&amp;cd=&amp;cad=rja&amp;uact=8&amp;ved=0ahUKEwj93PuQlp7JAhWK1BoKHUbbBA0QjRwIBw&amp;url=https%3A%2F%2Fwww.studyblue.com%2Fnotes%2Fnote%2Fn%2Fap-lab-test-2%2Fdeck%2F6213698&amp;psig=AFQjCNFp_ErpKkHX3EC6qJ1TaffMVcq0Xg&amp;ust=1448079946154939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6.jpeg"/><Relationship Id="rId4" Type="http://schemas.openxmlformats.org/officeDocument/2006/relationships/hyperlink" Target="http://www.google.com.sa/url?sa=i&amp;rct=j&amp;q=&amp;esrc=s&amp;source=images&amp;cd=&amp;cad=rja&amp;uact=8&amp;ved=0CAcQjRw&amp;url=http%3A%2F%2Fmedical-dictionary.thefreedictionary.com%2Fgomphosis&amp;ei=hh7nVOWkM8a3PMPUgcgJ&amp;psig=AFQjCNHHFNe730RP_ds_MB4LIrtkx_JvcA&amp;ust=1424519165703399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/index.php?title=Plane_joints&amp;action=edit&amp;redlink=1" TargetMode="External"/><Relationship Id="rId2" Type="http://schemas.openxmlformats.org/officeDocument/2006/relationships/hyperlink" Target="https://www.google.com.sa/url?sa=i&amp;rct=j&amp;q=&amp;esrc=s&amp;source=images&amp;cd=&amp;cad=rja&amp;uact=8&amp;ved=0ahUKEwj93PuQlp7JAhWK1BoKHUbbBA0QjRwIBw&amp;url=https%3A%2F%2Fwww.studyblue.com%2Fnotes%2Fnote%2Fn%2Fap-lab-test-2%2Fdeck%2F6213698&amp;psig=AFQjCNFp_ErpKkHX3EC6qJ1TaffMVcq0Xg&amp;ust=1448079946154939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3" descr=""/>
          <p:cNvPicPr/>
          <p:nvPr/>
        </p:nvPicPr>
        <p:blipFill>
          <a:blip r:embed="rId1"/>
          <a:stretch/>
        </p:blipFill>
        <p:spPr>
          <a:xfrm>
            <a:off x="291960" y="-23760"/>
            <a:ext cx="4292640" cy="1438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File0121"/>
          <p:cNvPicPr/>
          <p:nvPr/>
        </p:nvPicPr>
        <p:blipFill>
          <a:blip r:embed="rId2"/>
          <a:stretch/>
        </p:blipFill>
        <p:spPr>
          <a:xfrm>
            <a:off x="5181480" y="380880"/>
            <a:ext cx="3657600" cy="6172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HINGE"/>
          <p:cNvPicPr/>
          <p:nvPr/>
        </p:nvPicPr>
        <p:blipFill>
          <a:blip r:embed="rId3"/>
          <a:srcRect l="2736" t="0" r="51378" b="23316"/>
          <a:stretch/>
        </p:blipFill>
        <p:spPr>
          <a:xfrm>
            <a:off x="3048120" y="1523880"/>
            <a:ext cx="2057400" cy="44960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609480" y="6019920"/>
            <a:ext cx="3657600" cy="764640"/>
          </a:xfrm>
          <a:prstGeom prst="rect">
            <a:avLst/>
          </a:prstGeom>
          <a:solidFill>
            <a:srgbClr val="ff00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Sanaa Alshaaraw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8683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ASSIFICATION OF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28600" y="1371600"/>
            <a:ext cx="4114800" cy="4952880"/>
          </a:xfrm>
          <a:prstGeom prst="rect">
            <a:avLst/>
          </a:prstGeom>
          <a:solidFill>
            <a:srgbClr val="dbeef4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Synovial joints can be classified according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range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ticular surfa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ange of movemen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are possi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So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according to the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range of movement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synovial joints are classified in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Plane synovial j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Axial synovial j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5" descr="File0122"/>
          <p:cNvPicPr/>
          <p:nvPr/>
        </p:nvPicPr>
        <p:blipFill>
          <a:blip r:embed="rId1"/>
          <a:stretch/>
        </p:blipFill>
        <p:spPr>
          <a:xfrm>
            <a:off x="4419720" y="12952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LANE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280" y="1142640"/>
            <a:ext cx="3276720" cy="57150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05bb"/>
                </a:solidFill>
                <a:latin typeface="Calibri"/>
              </a:rPr>
              <a:t>The articulating surfaces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are</a:t>
            </a:r>
            <a:r>
              <a:rPr b="1" lang="en-US" sz="2800" spc="-1" strike="noStrike">
                <a:solidFill>
                  <a:srgbClr val="1b05bb"/>
                </a:solidFill>
                <a:latin typeface="Calibri"/>
              </a:rPr>
              <a:t> flat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and the bones slide on one another, producing a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gliding movement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xampl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05b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05bb"/>
                </a:solidFill>
                <a:latin typeface="Calibri"/>
              </a:rPr>
              <a:t>Intercarpal Join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05b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05bb"/>
                </a:solidFill>
                <a:latin typeface="Calibri"/>
              </a:rPr>
              <a:t>Sterno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lavicul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b05b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05bb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1b05bb"/>
                </a:solidFill>
                <a:latin typeface="Calibri"/>
              </a:rPr>
              <a:t>Acromio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clavicular</a:t>
            </a:r>
            <a:r>
              <a:rPr b="1" lang="en-US" sz="2600" spc="-1" strike="noStrike">
                <a:solidFill>
                  <a:srgbClr val="1b05bb"/>
                </a:solidFill>
                <a:latin typeface="Calibri"/>
              </a:rPr>
              <a:t> joi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" descr="https://encrypted-tbn2.gstatic.com/images?q=tbn:ANd9GcSMsa-uUh_LhjZORrYjrjRQfBFFR4wbwdugISS6tAe2M0r1rG6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14800" y="1066680"/>
            <a:ext cx="434340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Picture 12" descr="https://encrypted-tbn3.gstatic.com/images?q=tbn:ANd9GcT-YEamBFR7-54s7Iyu44LvUFLnbF5SDGaE_WFPf1O7ek1IdYRN">
            <a:hlinkClick r:id="rId3"/>
          </p:cNvPr>
          <p:cNvPicPr/>
          <p:nvPr/>
        </p:nvPicPr>
        <p:blipFill>
          <a:blip r:embed="rId4"/>
          <a:srcRect l="0" t="9994" r="0" b="0"/>
          <a:stretch/>
        </p:blipFill>
        <p:spPr>
          <a:xfrm>
            <a:off x="4191120" y="4343400"/>
            <a:ext cx="41148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6" name="Down Arrow 5"/>
          <p:cNvSpPr/>
          <p:nvPr/>
        </p:nvSpPr>
        <p:spPr>
          <a:xfrm>
            <a:off x="7391520" y="5029200"/>
            <a:ext cx="46080" cy="30492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own Arrow 6"/>
          <p:cNvSpPr/>
          <p:nvPr/>
        </p:nvSpPr>
        <p:spPr>
          <a:xfrm>
            <a:off x="6095880" y="4952880"/>
            <a:ext cx="46080" cy="30492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AXIAL SYNOVIAL J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240" y="1066680"/>
            <a:ext cx="3809880" cy="54864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Movements occur </a:t>
            </a:r>
            <a:r>
              <a:rPr b="1" lang="en-US" sz="3200" spc="-1" strike="noStrike" u="sng">
                <a:solidFill>
                  <a:srgbClr val="1f497d"/>
                </a:solidFill>
                <a:uFillTx/>
                <a:latin typeface="Calibri"/>
              </a:rPr>
              <a:t>along ax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ransverse: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flexion &amp; extension occu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ongitudinal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: rotation occ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ntero-posterior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: abduction &amp; adduction occu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70c0"/>
                </a:solidFill>
                <a:uFillTx/>
                <a:latin typeface="Calibri"/>
              </a:rPr>
              <a:t>Axial joints are divided in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Uniaxi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Biaxi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Multi-axial (polyaxial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File0134b"/>
          <p:cNvPicPr/>
          <p:nvPr/>
        </p:nvPicPr>
        <p:blipFill>
          <a:blip r:embed="rId1"/>
          <a:srcRect l="4694" t="15165" r="4582" b="13142"/>
          <a:stretch/>
        </p:blipFill>
        <p:spPr>
          <a:xfrm>
            <a:off x="4419720" y="1066680"/>
            <a:ext cx="4419360" cy="26672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41" name="Picture 5" descr="File0134c"/>
          <p:cNvPicPr/>
          <p:nvPr/>
        </p:nvPicPr>
        <p:blipFill>
          <a:blip r:embed="rId2"/>
          <a:srcRect l="5358" t="3449" r="8962" b="18868"/>
          <a:stretch/>
        </p:blipFill>
        <p:spPr>
          <a:xfrm>
            <a:off x="4419720" y="3809880"/>
            <a:ext cx="4419360" cy="2819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42" name="Picture 7" descr="http://images.slideplayer.com/12/3433470/slides/slide_57.jpg">
            <a:hlinkClick r:id="rId3"/>
          </p:cNvPr>
          <p:cNvPicPr/>
          <p:nvPr/>
        </p:nvPicPr>
        <p:blipFill>
          <a:blip r:embed="rId4"/>
          <a:srcRect l="42222" t="26831" r="4444" b="26831"/>
          <a:stretch/>
        </p:blipFill>
        <p:spPr>
          <a:xfrm>
            <a:off x="4419720" y="3809880"/>
            <a:ext cx="4495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1000" cy="8384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UNIAXIAL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560" y="1143000"/>
            <a:ext cx="3809880" cy="54100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inge joi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Axis: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transverse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Movements: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flexion &amp; exten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Example: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dd11c0"/>
                </a:solidFill>
                <a:latin typeface="Calibri"/>
              </a:rPr>
              <a:t>elbow  and ankle jo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ivo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Axis: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longitudinal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Movements: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ro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Example:</a:t>
            </a:r>
            <a:r>
              <a:rPr b="1" lang="en-US" sz="2800" spc="-1" strike="noStrike">
                <a:solidFill>
                  <a:srgbClr val="dd11c0"/>
                </a:solidFill>
                <a:latin typeface="Calibri"/>
              </a:rPr>
              <a:t> radio-ulnar j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Content Placeholder 10" descr="F66122-007-f070a.jpg"/>
          <p:cNvPicPr/>
          <p:nvPr/>
        </p:nvPicPr>
        <p:blipFill>
          <a:blip r:embed="rId1"/>
          <a:srcRect l="0" t="0" r="12498" b="8332"/>
          <a:stretch/>
        </p:blipFill>
        <p:spPr>
          <a:xfrm>
            <a:off x="4191120" y="1143000"/>
            <a:ext cx="2133360" cy="25146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46" name="Picture 3" descr="C:\Documents and Settings\user1\Desktop\joints\F66122-007-f079.jpg"/>
          <p:cNvPicPr/>
          <p:nvPr/>
        </p:nvPicPr>
        <p:blipFill>
          <a:blip r:embed="rId2"/>
          <a:srcRect l="3447" t="0" r="10347" b="6062"/>
          <a:stretch/>
        </p:blipFill>
        <p:spPr>
          <a:xfrm>
            <a:off x="4267080" y="3733920"/>
            <a:ext cx="2438640" cy="2895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47" name="Picture 4" descr="C:\Documents and Settings\user1\Desktop\joints\F66122-007-f070c.jpg"/>
          <p:cNvPicPr/>
          <p:nvPr/>
        </p:nvPicPr>
        <p:blipFill>
          <a:blip r:embed="rId3"/>
          <a:srcRect l="0" t="0" r="0" b="11115"/>
          <a:stretch/>
        </p:blipFill>
        <p:spPr>
          <a:xfrm>
            <a:off x="6705720" y="3657600"/>
            <a:ext cx="2209680" cy="2971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48" name="Picture 5" descr="HINGE"/>
          <p:cNvPicPr/>
          <p:nvPr/>
        </p:nvPicPr>
        <p:blipFill>
          <a:blip r:embed="rId4"/>
          <a:srcRect l="38189" t="37831" r="0" b="0"/>
          <a:stretch/>
        </p:blipFill>
        <p:spPr>
          <a:xfrm>
            <a:off x="6477120" y="106668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BIAXIAL SYNOVIAL J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28240" y="1066680"/>
            <a:ext cx="3886200" cy="54864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Ellipsoid joi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An elliptical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vex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ts into an elliptical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cave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articular surfa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Axes: 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Transverse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&amp; 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antero-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Movements: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lexion &amp; extension  + abduction &amp; adductio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ut rotation is impossible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Example:  </a:t>
            </a:r>
            <a:r>
              <a:rPr b="1" lang="en-US" sz="2800" spc="-1" strike="noStrike">
                <a:solidFill>
                  <a:srgbClr val="dd11c0"/>
                </a:solidFill>
                <a:latin typeface="Calibri"/>
              </a:rPr>
              <a:t>Wrist j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6" descr="http://www.memrise.com/s3_proxy/?f=uploads/mems/5376191000150216011540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066680"/>
            <a:ext cx="4572000" cy="548640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BIAXIAL SYNOVIAL J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1920" y="990360"/>
            <a:ext cx="4038840" cy="5715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addle joi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The articular surfaces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are reciprocally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concavoconvex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They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resemble a saddle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on a  horse’s back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Movement: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As ellipsoid joints (Flexion &amp; extension + abduction &amp; adduction)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+ 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 small range of rotation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Example:</a:t>
            </a:r>
            <a:r>
              <a:rPr b="1" i="1" lang="en-U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dd11c0"/>
                </a:solidFill>
                <a:latin typeface="Calibri"/>
              </a:rPr>
              <a:t>Carpometacarpal joint of the thumb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dd11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Content Placeholder 5" descr="File0134e"/>
          <p:cNvPicPr/>
          <p:nvPr/>
        </p:nvPicPr>
        <p:blipFill>
          <a:blip r:embed="rId1"/>
          <a:srcRect l="9096" t="8483" r="0" b="13004"/>
          <a:stretch/>
        </p:blipFill>
        <p:spPr>
          <a:xfrm>
            <a:off x="4343400" y="1066680"/>
            <a:ext cx="4495680" cy="556272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  <p:pic>
        <p:nvPicPr>
          <p:cNvPr id="155" name="Picture 6" descr="http://1.bp.blogspot.com/--FGEf_TPpdk/T9t7SmYr1sI/AAAAAAAADBs/dwP7xzioGc4/s1600/Picture17.png">
            <a:hlinkClick r:id="rId2"/>
          </p:cNvPr>
          <p:cNvPicPr/>
          <p:nvPr/>
        </p:nvPicPr>
        <p:blipFill>
          <a:blip r:embed="rId3"/>
          <a:srcRect l="0" t="0" r="0" b="10108"/>
          <a:stretch/>
        </p:blipFill>
        <p:spPr>
          <a:xfrm>
            <a:off x="4267080" y="1143000"/>
            <a:ext cx="4648320" cy="548640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OLYAXIAL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228600" y="1066680"/>
            <a:ext cx="4038480" cy="55627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all-and-socket joi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A ball </a:t>
            </a:r>
            <a:r>
              <a:rPr b="0" lang="en-US" sz="2600" spc="-1" strike="noStrike">
                <a:solidFill>
                  <a:srgbClr val="0070c0"/>
                </a:solidFill>
                <a:latin typeface="Arial"/>
              </a:rPr>
              <a:t>–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shaped head of a bone fits into a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socket-like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concavity of another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7030a0"/>
                </a:solidFill>
                <a:latin typeface="Calibri"/>
              </a:rPr>
              <a:t>Movements: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Flexion &amp; extension + abduction &amp; adduction) +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rotation along a separate ax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dd11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11c0"/>
                </a:solidFill>
                <a:latin typeface="Calibri"/>
              </a:rPr>
              <a:t>Shoulder joi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dd11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dd11c0"/>
                </a:solidFill>
                <a:latin typeface="Calibri"/>
              </a:rPr>
              <a:t>Hip Joi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dd11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C:\Documents and Settings\user1\Desktop\joints\F66122-007-f027.jpg"/>
          <p:cNvPicPr/>
          <p:nvPr/>
        </p:nvPicPr>
        <p:blipFill>
          <a:blip r:embed="rId1"/>
          <a:srcRect l="12769" t="0" r="12769" b="5989"/>
          <a:stretch/>
        </p:blipFill>
        <p:spPr>
          <a:xfrm>
            <a:off x="4343400" y="1066680"/>
            <a:ext cx="2743200" cy="297180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  <p:pic>
        <p:nvPicPr>
          <p:cNvPr id="159" name="Picture 3" descr="BALLSOCK"/>
          <p:cNvPicPr/>
          <p:nvPr/>
        </p:nvPicPr>
        <p:blipFill>
          <a:blip r:embed="rId2"/>
          <a:srcRect l="0" t="0" r="10908" b="5009"/>
          <a:stretch/>
        </p:blipFill>
        <p:spPr>
          <a:xfrm>
            <a:off x="6095880" y="4114800"/>
            <a:ext cx="2819520" cy="2590920"/>
          </a:xfrm>
          <a:prstGeom prst="rect">
            <a:avLst/>
          </a:prstGeom>
          <a:ln w="9360">
            <a:solidFill>
              <a:srgbClr val="40404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TABILITY OF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28600" y="1218960"/>
            <a:ext cx="4038480" cy="51814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1-The shape of articular surfac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The ball and socket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hape  of th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Hip joint 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is a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alibri"/>
              </a:rPr>
              <a:t>good examples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of the  importance of bone shape to maintain  joint </a:t>
            </a: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st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e 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shape of the bones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orming the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Knee joint 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has nothing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o do for 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st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File0134f"/>
          <p:cNvPicPr/>
          <p:nvPr/>
        </p:nvPicPr>
        <p:blipFill>
          <a:blip r:embed="rId1"/>
          <a:srcRect l="7933" t="6295" r="0" b="8598"/>
          <a:stretch/>
        </p:blipFill>
        <p:spPr>
          <a:xfrm>
            <a:off x="4648320" y="1143000"/>
            <a:ext cx="4267080" cy="2819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63" name="Picture 7" descr="File0131"/>
          <p:cNvPicPr/>
          <p:nvPr/>
        </p:nvPicPr>
        <p:blipFill>
          <a:blip r:embed="rId2"/>
          <a:stretch/>
        </p:blipFill>
        <p:spPr>
          <a:xfrm>
            <a:off x="4876920" y="3962520"/>
            <a:ext cx="3657600" cy="25905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TABILITY OF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8240" y="1980720"/>
            <a:ext cx="2971800" cy="403884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2-Strength of the ligame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They </a:t>
            </a:r>
            <a:r>
              <a:rPr b="0" lang="en-US" sz="3000" spc="-1" strike="noStrike">
                <a:solidFill>
                  <a:srgbClr val="7030a0"/>
                </a:solidFill>
                <a:latin typeface="Calibri"/>
              </a:rPr>
              <a:t>prevent excessive movement 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in a joi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030a0"/>
                </a:solidFill>
                <a:latin typeface="Calibri"/>
              </a:rPr>
              <a:t>Example: 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cruciate ligaments 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of the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knee joint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Content Placeholder 4" descr="F66122-006-f032.jpg"/>
          <p:cNvPicPr/>
          <p:nvPr/>
        </p:nvPicPr>
        <p:blipFill>
          <a:blip r:embed="rId1"/>
          <a:srcRect l="0" t="0" r="0" b="7407"/>
          <a:stretch/>
        </p:blipFill>
        <p:spPr>
          <a:xfrm>
            <a:off x="3657600" y="1828800"/>
            <a:ext cx="5181480" cy="4419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7" name="Picture 7" descr="File0131"/>
          <p:cNvPicPr/>
          <p:nvPr/>
        </p:nvPicPr>
        <p:blipFill>
          <a:blip r:embed="rId2"/>
          <a:stretch/>
        </p:blipFill>
        <p:spPr>
          <a:xfrm>
            <a:off x="3657600" y="1752480"/>
            <a:ext cx="5181480" cy="4572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TABILITY OF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28240" y="1599840"/>
            <a:ext cx="4343400" cy="48006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3-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one of the surrounding musc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In most joints, it is the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major factor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ontrolling st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05bb"/>
                </a:solidFill>
                <a:latin typeface="Calibri"/>
              </a:rPr>
              <a:t>The short muscles around the </a:t>
            </a:r>
            <a:r>
              <a:rPr b="1" lang="en-US" sz="2800" spc="-1" strike="noStrike" u="sng">
                <a:solidFill>
                  <a:srgbClr val="1b05bb"/>
                </a:solidFill>
                <a:uFillTx/>
                <a:latin typeface="Calibri"/>
              </a:rPr>
              <a:t>shoulder joint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keeps the head of the humerus in the shallow glenoid ca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6">
            <a:hlinkClick r:id="rId1"/>
          </p:cNvPr>
          <p:cNvSpPr/>
          <p:nvPr/>
        </p:nvSpPr>
        <p:spPr>
          <a:xfrm>
            <a:off x="54000" y="-1461960"/>
            <a:ext cx="38098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8">
            <a:hlinkClick r:id="rId2"/>
          </p:cNvPr>
          <p:cNvSpPr/>
          <p:nvPr/>
        </p:nvSpPr>
        <p:spPr>
          <a:xfrm>
            <a:off x="54000" y="-1461960"/>
            <a:ext cx="38098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https://encrypted-tbn1.gstatic.com/images?q=tbn:ANd9GcSUD-5Vvj2jfVgwgZe8wjHSVXkIpGAiFX5rbnL6ci_YnMucN50P"/>
          <p:cNvPicPr/>
          <p:nvPr/>
        </p:nvPicPr>
        <p:blipFill>
          <a:blip r:embed="rId3"/>
          <a:srcRect l="0" t="0" r="0" b="8631"/>
          <a:stretch/>
        </p:blipFill>
        <p:spPr>
          <a:xfrm>
            <a:off x="4724280" y="1676520"/>
            <a:ext cx="4191120" cy="40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00000"/>
                </a:solidFill>
                <a:latin typeface="Calibri"/>
              </a:rPr>
              <a:t>OBJECTIVE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920" y="1295280"/>
            <a:ext cx="8610480" cy="518184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By the end of the lecture, students should be able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Define the term </a:t>
            </a: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“Joint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Describe the </a:t>
            </a: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classification of the 3 types of joints 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&amp;</a:t>
            </a: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give an example of 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characteristics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of synovial joints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classification of synovial joints 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&amp;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give an </a:t>
            </a: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example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 of 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List factors maintaining </a:t>
            </a: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stability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 of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joi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Recite </a:t>
            </a: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“Hilton’s law” </a:t>
            </a:r>
            <a:r>
              <a:rPr b="1" i="1" lang="en-US" sz="3200" spc="-1" strike="noStrike">
                <a:solidFill>
                  <a:srgbClr val="002060"/>
                </a:solidFill>
                <a:latin typeface="Calibri"/>
              </a:rPr>
              <a:t>for nerve supply of joi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NERVE SUPPLY OF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1920" y="1676160"/>
            <a:ext cx="4953240" cy="4724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capsule and ligaments </a:t>
            </a: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receive an abundant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sensory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 nerve supp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0000"/>
                </a:solidFill>
                <a:latin typeface="comic"/>
              </a:rPr>
              <a:t>Hilton’s Law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“</a:t>
            </a:r>
            <a:r>
              <a:rPr b="1" lang="en-US" sz="3000" spc="-1" strike="noStrike" u="sng">
                <a:solidFill>
                  <a:srgbClr val="002060"/>
                </a:solidFill>
                <a:uFillTx/>
                <a:latin typeface="Calibri"/>
              </a:rPr>
              <a:t>A nerve supplying a </a:t>
            </a:r>
            <a:r>
              <a:rPr b="1" lang="en-US" sz="3000" spc="-1" strike="noStrike" u="sng">
                <a:solidFill>
                  <a:srgbClr val="002060"/>
                </a:solidFill>
                <a:uFillTx/>
                <a:latin typeface="Calibri"/>
              </a:rPr>
              <a:t>joint</a:t>
            </a:r>
            <a:r>
              <a:rPr b="1" lang="en-US" sz="3000" spc="-1" strike="noStrike" u="sng">
                <a:solidFill>
                  <a:srgbClr val="002060"/>
                </a:solidFill>
                <a:uFillTx/>
                <a:latin typeface="Calibri"/>
              </a:rPr>
              <a:t> </a:t>
            </a: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also supplies th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muscles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moving that joint and the </a:t>
            </a:r>
            <a:r>
              <a:rPr b="1" lang="en-US" sz="3000" spc="-1" strike="noStrike">
                <a:solidFill>
                  <a:srgbClr val="ff0000"/>
                </a:solidFill>
                <a:latin typeface="Calibri"/>
              </a:rPr>
              <a:t>skin</a:t>
            </a: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 overlying the insertions of these muscles.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5" descr="https://encrypted-tbn3.gstatic.com/images?q=tbn:ANd9GcTNfu4dXajwIcu_Q9rj5IGqV7_leht5QYtv6WPKnYJIsVjlkuzT_A"/>
          <p:cNvPicPr/>
          <p:nvPr/>
        </p:nvPicPr>
        <p:blipFill>
          <a:blip r:embed="rId1"/>
          <a:stretch/>
        </p:blipFill>
        <p:spPr>
          <a:xfrm>
            <a:off x="5334120" y="1981080"/>
            <a:ext cx="3581280" cy="38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0000"/>
                </a:solidFill>
                <a:latin typeface="Calibri"/>
              </a:rPr>
              <a:t>GOOD LUC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7160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Joint i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ite where two or more bones come together, whether movement occurs or not between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Joints are classifi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rding to the tissues that lie between the bones into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3 typ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fibrous, cartilaginous &amp; synov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ynovial join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freely movable &amp; characterized by the presence of : fibrous capsule, articular cartilage, synovial membrane &amp; joint cavity containing synovial fl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28600" y="1599840"/>
            <a:ext cx="8763120" cy="44197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ynovial joints are classifie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rding to the range of movement into: plane and ax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xia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divided according to the number of axes of movements into:  uniaxial, biaxial &amp; polyaxial or multiax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Stability of synovial joint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: shape of articular surfaces, ligaments &amp;  muscle t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Joints have same nerve suppl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muscles moving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2666520"/>
            <a:ext cx="3352680" cy="25909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hat is a joi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t is th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ite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where two or more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ones meet toge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File0134e"/>
          <p:cNvPicPr/>
          <p:nvPr/>
        </p:nvPicPr>
        <p:blipFill>
          <a:blip r:embed="rId1"/>
          <a:srcRect l="10004" t="8067" r="0" b="9676"/>
          <a:stretch/>
        </p:blipFill>
        <p:spPr>
          <a:xfrm>
            <a:off x="3809880" y="1676520"/>
            <a:ext cx="4876920" cy="48765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1" name="Picture 6" descr="https://encrypted-tbn3.gstatic.com/images?q=tbn:ANd9GcSqFT8X9DHgHl29X60hMCnZ8OaQSnZK8IrwczUGtrABQLI8gN-x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9880" y="1676520"/>
            <a:ext cx="502920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ASS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51920" y="1980720"/>
            <a:ext cx="3505320" cy="38862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Joints are classified 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according to the tissues that lie between the bon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in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b05b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05bb"/>
                </a:solidFill>
                <a:latin typeface="Calibri"/>
              </a:rPr>
              <a:t>Fibro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b05b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05bb"/>
                </a:solidFill>
                <a:latin typeface="Calibri"/>
              </a:rPr>
              <a:t>Cartilagino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b05b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05bb"/>
                </a:solidFill>
                <a:latin typeface="Calibri"/>
              </a:rPr>
              <a:t>Synov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File0125"/>
          <p:cNvPicPr/>
          <p:nvPr/>
        </p:nvPicPr>
        <p:blipFill>
          <a:blip r:embed="rId1"/>
          <a:srcRect l="5406" t="22726" r="40544" b="7023"/>
          <a:stretch/>
        </p:blipFill>
        <p:spPr>
          <a:xfrm>
            <a:off x="6934320" y="1447920"/>
            <a:ext cx="2209680" cy="27432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pic>
        <p:nvPicPr>
          <p:cNvPr id="95" name="Picture 5" descr="File0132"/>
          <p:cNvPicPr/>
          <p:nvPr/>
        </p:nvPicPr>
        <p:blipFill>
          <a:blip r:embed="rId2"/>
          <a:stretch/>
        </p:blipFill>
        <p:spPr>
          <a:xfrm>
            <a:off x="3809880" y="1371600"/>
            <a:ext cx="3048120" cy="289548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7848720" y="3657600"/>
            <a:ext cx="12952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br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4419720" y="1600200"/>
            <a:ext cx="137160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nov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https://classconnection.s3.amazonaws.com/254/flashcards/1411254/png/cartilagenous11365604612378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4267080"/>
            <a:ext cx="5334120" cy="2590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99" name="TextBox 9"/>
          <p:cNvSpPr/>
          <p:nvPr/>
        </p:nvSpPr>
        <p:spPr>
          <a:xfrm>
            <a:off x="7467480" y="6477120"/>
            <a:ext cx="167652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tilagen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FIBROUS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280" y="1371240"/>
            <a:ext cx="4267440" cy="51814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The articulating surfaces are joined by </a:t>
            </a:r>
            <a:r>
              <a:rPr b="1" lang="en-US" sz="2600" spc="-1" strike="noStrike">
                <a:solidFill>
                  <a:srgbClr val="e46c0a"/>
                </a:solidFill>
                <a:latin typeface="Calibri"/>
              </a:rPr>
              <a:t>fibrous connective 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tissue, where 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Calibri"/>
              </a:rPr>
              <a:t> No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or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Calibri"/>
              </a:rPr>
              <a:t> very mild moveme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b05b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1b05bb"/>
                </a:solidFill>
                <a:uFillTx/>
                <a:latin typeface="Calibri"/>
              </a:rPr>
              <a:t>Skull  sutures</a:t>
            </a:r>
            <a:r>
              <a:rPr b="1" lang="en-US" sz="2600" spc="-1" strike="noStrike">
                <a:solidFill>
                  <a:srgbClr val="1b05bb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        </a:t>
            </a:r>
            <a:r>
              <a:rPr b="1" lang="en-US" sz="2600" spc="-1" strike="noStrike">
                <a:solidFill>
                  <a:srgbClr val="e46c0a"/>
                </a:solidFill>
                <a:latin typeface="Calibri"/>
              </a:rPr>
              <a:t>Temporary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(as it ossify later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b05bb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1b05bb"/>
                </a:solidFill>
                <a:uFillTx/>
                <a:latin typeface="Calibri"/>
              </a:rPr>
              <a:t>Inferior tibiofibular</a:t>
            </a:r>
            <a:r>
              <a:rPr b="1" i="1" lang="en-US" sz="3300" spc="-1" strike="noStrike" u="sng">
                <a:solidFill>
                  <a:srgbClr val="1b05bb"/>
                </a:solidFill>
                <a:uFillTx/>
                <a:latin typeface="Calibri"/>
              </a:rPr>
              <a:t> </a:t>
            </a:r>
            <a:r>
              <a:rPr b="1" lang="en-US" sz="2600" spc="-1" strike="noStrike">
                <a:solidFill>
                  <a:srgbClr val="1b05bb"/>
                </a:solidFill>
                <a:latin typeface="Calibri"/>
              </a:rPr>
              <a:t>joints (syndesmosis): </a:t>
            </a:r>
            <a:r>
              <a:rPr b="1" lang="en-US" sz="2600" spc="-1" strike="noStrike" u="sng">
                <a:solidFill>
                  <a:srgbClr val="e46c0a"/>
                </a:solidFill>
                <a:uFillTx/>
                <a:latin typeface="Calibri"/>
              </a:rPr>
              <a:t>minimal</a:t>
            </a:r>
            <a:r>
              <a:rPr b="1" lang="en-US" sz="2600" spc="-1" strike="noStrike" u="sng">
                <a:solidFill>
                  <a:srgbClr val="0070c0"/>
                </a:solidFill>
                <a:uFillTx/>
                <a:latin typeface="Calibri"/>
              </a:rPr>
              <a:t> movement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e46c0a"/>
                </a:solidFill>
                <a:latin typeface="Calibri"/>
              </a:rPr>
              <a:t>permanent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joi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b05bb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1b05bb"/>
                </a:solidFill>
                <a:uFillTx/>
                <a:latin typeface="Calibri"/>
              </a:rPr>
              <a:t>Gomphosis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: dental alveolar joi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5" descr="C9221C93"/>
          <p:cNvPicPr/>
          <p:nvPr/>
        </p:nvPicPr>
        <p:blipFill>
          <a:blip r:embed="rId1"/>
          <a:srcRect l="1779" t="64385" r="81628" b="12218"/>
          <a:stretch/>
        </p:blipFill>
        <p:spPr>
          <a:xfrm>
            <a:off x="7010280" y="1905120"/>
            <a:ext cx="1905120" cy="4419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3" name="Picture 4" descr="29AA9DCB"/>
          <p:cNvPicPr/>
          <p:nvPr/>
        </p:nvPicPr>
        <p:blipFill>
          <a:blip r:embed="rId2"/>
          <a:srcRect l="18840" t="8432" r="27330" b="55758"/>
          <a:stretch/>
        </p:blipFill>
        <p:spPr>
          <a:xfrm>
            <a:off x="4495680" y="1371600"/>
            <a:ext cx="2286000" cy="2743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4" name="Picture 5" descr="File0125"/>
          <p:cNvPicPr/>
          <p:nvPr/>
        </p:nvPicPr>
        <p:blipFill>
          <a:blip r:embed="rId3"/>
          <a:srcRect l="36796" t="5097" r="24788" b="63318"/>
          <a:stretch/>
        </p:blipFill>
        <p:spPr>
          <a:xfrm>
            <a:off x="4419720" y="4267080"/>
            <a:ext cx="236196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Picture 8" descr="https://encrypted-tbn3.gstatic.com/images?q=tbn:ANd9GcQJ79SEa-SHXNKKtJXRdGYcJ5A2BPYE5MEIrTIiYNo1pBMTUiev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4295880"/>
            <a:ext cx="2361960" cy="256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ARTILAGINOUS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1066320"/>
            <a:ext cx="4572000" cy="57913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bones are joined by </a:t>
            </a: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cartil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It is of 2 typ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Calibri"/>
              </a:rPr>
              <a:t>Primary Cartilaginous (synchondrosis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The bones are united by a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plate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or a bar of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hyaline cartilage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46c0a"/>
                </a:solidFill>
                <a:uFillTx/>
                <a:latin typeface="Calibri"/>
              </a:rPr>
              <a:t>No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Calibri"/>
              </a:rPr>
              <a:t>movemen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temporary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joints  (ossify later), 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Calibri"/>
              </a:rPr>
              <a:t>example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Between the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Epiphysis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and the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Diaphysis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of a growing bone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Between the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First Rib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and the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Sternum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(1</a:t>
            </a:r>
            <a:r>
              <a:rPr b="1" lang="en-US" sz="2400" spc="-1" strike="noStrike" baseline="30000">
                <a:solidFill>
                  <a:srgbClr val="c00000"/>
                </a:solidFill>
                <a:latin typeface="Calibri"/>
              </a:rPr>
              <a:t>st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sternocostal joint).                            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The rest of the sternocostal joints are synovial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plane join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4952880" y="6019920"/>
            <a:ext cx="3429000" cy="459720"/>
          </a:xfrm>
          <a:prstGeom prst="rect">
            <a:avLst/>
          </a:prstGeom>
          <a:noFill/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Primary Cartilagi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1" descr="https://classconnection.s3.amazonaws.com/254/flashcards/1411254/png/cartilagenous11365604612378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295280"/>
            <a:ext cx="4572000" cy="46483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10" name="Picture 9" descr="http://o.quizlet.com/oUUFmZ20Fn97-m-ycZQTaQ.png"/>
          <p:cNvPicPr/>
          <p:nvPr/>
        </p:nvPicPr>
        <p:blipFill>
          <a:blip r:embed="rId4"/>
          <a:stretch/>
        </p:blipFill>
        <p:spPr>
          <a:xfrm>
            <a:off x="4648320" y="1295280"/>
            <a:ext cx="4495680" cy="472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ARTILAGINOUS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1920" y="1295280"/>
            <a:ext cx="4800600" cy="518184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Calibri"/>
              </a:rPr>
              <a:t>Secondary Cartilagino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The bones are united by 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a </a:t>
            </a:r>
            <a:r>
              <a:rPr b="1" lang="en-US" sz="2600" spc="-1" strike="noStrike" u="sng">
                <a:solidFill>
                  <a:srgbClr val="002060"/>
                </a:solidFill>
                <a:uFillTx/>
                <a:latin typeface="Calibri"/>
              </a:rPr>
              <a:t>plate of </a:t>
            </a: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fibrocartilag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Their </a:t>
            </a:r>
            <a:r>
              <a:rPr b="1" lang="en-US" sz="2600" spc="-1" strike="noStrike" u="sng">
                <a:solidFill>
                  <a:srgbClr val="0070c0"/>
                </a:solidFill>
                <a:uFillTx/>
                <a:latin typeface="Calibri"/>
              </a:rPr>
              <a:t>articulating surfaces 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are covered by a thin plate of </a:t>
            </a:r>
            <a:r>
              <a:rPr b="1" lang="en-US" sz="2600" spc="-1" strike="noStrike" u="sng">
                <a:solidFill>
                  <a:srgbClr val="0070c0"/>
                </a:solidFill>
                <a:uFillTx/>
                <a:latin typeface="Calibri"/>
              </a:rPr>
              <a:t>hyaline cartilage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e46c0a"/>
                </a:solidFill>
                <a:uFillTx/>
                <a:latin typeface="Calibri"/>
              </a:rPr>
              <a:t>Little</a:t>
            </a:r>
            <a:r>
              <a:rPr b="1" lang="en-US" sz="2700" spc="-1" strike="noStrike" u="sng">
                <a:solidFill>
                  <a:srgbClr val="0070c0"/>
                </a:solidFill>
                <a:uFillTx/>
                <a:latin typeface="Calibri"/>
              </a:rPr>
              <a:t> movement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lang="en-US" sz="2700" spc="-1" strike="noStrike">
                <a:solidFill>
                  <a:srgbClr val="e46c0a"/>
                </a:solidFill>
                <a:latin typeface="Calibri"/>
              </a:rPr>
              <a:t>permanent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 joi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he are called </a:t>
            </a:r>
            <a:r>
              <a:rPr b="1" lang="en-US" sz="2700" spc="-1" strike="noStrike" u="sng">
                <a:solidFill>
                  <a:srgbClr val="ff0000"/>
                </a:solidFill>
                <a:uFillTx/>
                <a:latin typeface="Calibri"/>
              </a:rPr>
              <a:t>Midline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joi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b05b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b05bb"/>
                </a:solidFill>
                <a:latin typeface="Calibri"/>
              </a:rPr>
              <a:t>Joints between the </a:t>
            </a:r>
            <a:r>
              <a:rPr b="1" i="1" lang="en-US" sz="2600" spc="-1" strike="noStrike">
                <a:solidFill>
                  <a:srgbClr val="1b05bb"/>
                </a:solidFill>
                <a:latin typeface="Calibri"/>
              </a:rPr>
              <a:t>Vertebral Bodies</a:t>
            </a:r>
            <a:r>
              <a:rPr b="1" lang="en-US" sz="2600" spc="-1" strike="noStrike">
                <a:solidFill>
                  <a:srgbClr val="1b05bb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(intervertebral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iscs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b05b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1b05bb"/>
                </a:solidFill>
                <a:latin typeface="Calibri"/>
              </a:rPr>
              <a:t>Symphysis Pubis</a:t>
            </a:r>
            <a:r>
              <a:rPr b="1" lang="en-US" sz="2600" spc="-1" strike="noStrike">
                <a:solidFill>
                  <a:srgbClr val="1b05bb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5" descr="File0127A"/>
          <p:cNvPicPr/>
          <p:nvPr/>
        </p:nvPicPr>
        <p:blipFill>
          <a:blip r:embed="rId1"/>
          <a:srcRect l="7548" t="7067" r="7548" b="6734"/>
          <a:stretch/>
        </p:blipFill>
        <p:spPr>
          <a:xfrm>
            <a:off x="5029200" y="1752480"/>
            <a:ext cx="3886200" cy="46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Down Arrow 4"/>
          <p:cNvSpPr/>
          <p:nvPr/>
        </p:nvSpPr>
        <p:spPr>
          <a:xfrm>
            <a:off x="7924680" y="1905120"/>
            <a:ext cx="76320" cy="30456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wn Arrow 5"/>
          <p:cNvSpPr/>
          <p:nvPr/>
        </p:nvSpPr>
        <p:spPr>
          <a:xfrm>
            <a:off x="6934320" y="4724280"/>
            <a:ext cx="46080" cy="304920"/>
          </a:xfrm>
          <a:prstGeom prst="downArrow">
            <a:avLst>
              <a:gd name="adj1" fmla="val 50000"/>
              <a:gd name="adj2" fmla="val 49966"/>
            </a:avLst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SYNOVIAL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2280" y="1371600"/>
            <a:ext cx="3733920" cy="50292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46c0a"/>
                </a:solidFill>
                <a:latin typeface="Calibri"/>
              </a:rPr>
              <a:t>Characteristic featur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Freely movable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j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The 2 bones are joined by a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fibrous capsule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, which is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ttached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to the margins of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rticular surfaces &amp; enclosing the joi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e articular surfaces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ar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alibri"/>
              </a:rPr>
              <a:t>covered by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1b05bb"/>
                </a:solidFill>
                <a:latin typeface="Calibri"/>
              </a:rPr>
              <a:t>thin layer of hyaline cartilage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(articular cartilag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joint cavity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enclosed within the capsule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7320600" y="251460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ps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Content Placeholder 12" descr="12"/>
          <p:cNvPicPr/>
          <p:nvPr/>
        </p:nvPicPr>
        <p:blipFill>
          <a:blip r:embed="rId1"/>
          <a:srcRect l="3465" t="17181" r="2707" b="16206"/>
          <a:stretch/>
        </p:blipFill>
        <p:spPr>
          <a:xfrm>
            <a:off x="3962520" y="1219320"/>
            <a:ext cx="4952880" cy="5410080"/>
          </a:xfrm>
          <a:prstGeom prst="rect">
            <a:avLst/>
          </a:prstGeom>
          <a:ln w="0">
            <a:noFill/>
          </a:ln>
        </p:spPr>
      </p:pic>
      <p:sp>
        <p:nvSpPr>
          <p:cNvPr id="120" name="5-Point Star 5"/>
          <p:cNvSpPr/>
          <p:nvPr/>
        </p:nvSpPr>
        <p:spPr>
          <a:xfrm>
            <a:off x="5867280" y="3657600"/>
            <a:ext cx="76320" cy="7632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5-Point Star 6"/>
          <p:cNvSpPr/>
          <p:nvPr/>
        </p:nvSpPr>
        <p:spPr>
          <a:xfrm>
            <a:off x="7010280" y="3581280"/>
            <a:ext cx="76320" cy="7632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640" bIns="-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5-Point Star 7"/>
          <p:cNvSpPr/>
          <p:nvPr/>
        </p:nvSpPr>
        <p:spPr>
          <a:xfrm flipH="1">
            <a:off x="5715000" y="4191120"/>
            <a:ext cx="76320" cy="46080"/>
          </a:xfrm>
          <a:prstGeom prst="pie">
            <a:avLst/>
          </a:pr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SYNOVIAL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1920" y="1219320"/>
            <a:ext cx="3962520" cy="54100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ynovial membrane : a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thin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vascular membrane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lining the inner surface of the capsu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ynovial fluid : a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lubricating fluid </a:t>
            </a:r>
            <a:r>
              <a:rPr b="1" lang="en-US" sz="2800" spc="-1" strike="noStrike">
                <a:solidFill>
                  <a:srgbClr val="1b05bb"/>
                </a:solidFill>
                <a:latin typeface="Calibri"/>
              </a:rPr>
              <a:t>produced by the synovial membrane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in the joint cav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b05b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b05bb"/>
                </a:solidFill>
                <a:latin typeface="Calibri"/>
              </a:rPr>
              <a:t>The fluid minimizes the friction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between the articular surfa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8"/>
          <p:cNvSpPr/>
          <p:nvPr/>
        </p:nvSpPr>
        <p:spPr>
          <a:xfrm flipH="1">
            <a:off x="7467480" y="28947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3"/>
          <p:cNvSpPr/>
          <p:nvPr/>
        </p:nvSpPr>
        <p:spPr>
          <a:xfrm flipH="1">
            <a:off x="6858000" y="2670120"/>
            <a:ext cx="20304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File0132"/>
          <p:cNvPicPr/>
          <p:nvPr/>
        </p:nvPicPr>
        <p:blipFill>
          <a:blip r:embed="rId1"/>
          <a:stretch/>
        </p:blipFill>
        <p:spPr>
          <a:xfrm>
            <a:off x="4800600" y="1371600"/>
            <a:ext cx="3581280" cy="5181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Diagram of a synovial joint"/>
          <p:cNvPicPr/>
          <p:nvPr/>
        </p:nvPicPr>
        <p:blipFill>
          <a:blip r:embed="rId2"/>
          <a:srcRect l="2868" t="10418" r="2351" b="9375"/>
          <a:stretch/>
        </p:blipFill>
        <p:spPr>
          <a:xfrm>
            <a:off x="4267080" y="1143000"/>
            <a:ext cx="457200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08:25:16Z</dcterms:created>
  <dc:creator>user</dc:creator>
  <dc:description/>
  <dc:language>en-US</dc:language>
  <cp:lastModifiedBy>user</cp:lastModifiedBy>
  <dcterms:modified xsi:type="dcterms:W3CDTF">2015-11-20T05:50:07Z</dcterms:modified>
  <cp:revision>371</cp:revision>
  <dc:subject/>
  <dc:title>MUSCLES INVOLVED IN RESPIRATION</dc:title>
</cp:coreProperties>
</file>