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027-6588-4695-B00F-215B7B2A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6A4-BE15-4F09-A11E-D9B6425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BEC-E95F-42C8-AB74-1A4211D3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FD1-1424-4E43-AC8A-02D2C40C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94A8-48D3-497C-B919-E14CC14B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355-5B92-4EB3-96BC-45F0C5A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2FBE-4D37-4E7C-AA2E-BEF9F6E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7453-FED7-4719-8C95-672DF1A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CE5-62CB-4741-87A0-1164A08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42C-56EF-4115-B8D3-45752D6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45A8-4E26-4BAD-80C7-4C765C4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4CF-CA49-48E9-9511-2B775DF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AD8-DAA4-458A-915E-305EE0C4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9E1-20AC-443D-A414-3C8B776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892-E2FF-4163-90FD-A92BF15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DB4-7298-478C-A6CE-EDA26E33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3FBA-D305-48E8-A6C8-662FC5A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23B-3C22-400E-BA77-FA533A47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E9E-5AE6-4F72-B084-85B349A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6C8-EFE2-4616-8160-7FEA1DE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8C6-C2CE-4AB5-A87D-D8AF5CA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FA0-0A8B-444C-B8C2-02EFA327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C2-2DBE-48FB-8F7F-16638A3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D3A-2994-49F4-903C-563903E7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7929-8159-4927-92B0-3E66474D0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03A6-74EB-42DD-BFCB-F274B325DB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faculty.weber.edu%2Fnokazaki%2FHuman%2520Anatomy%2FNotes%2FArticulations.htm&amp;ei=syPnVMW6D8quPKTjgdgK&amp;psig=AFQjCNFGAwnvsZa9qjVgxDe_JjwZ_jseig&amp;ust=1424520428177796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com.sa/url?sa=i&amp;rct=j&amp;q=&amp;esrc=s&amp;source=images&amp;cd=&amp;cad=rja&amp;uact=8&amp;ved=0CAcQjRw&amp;url=http%3A%2F%2Fbrentbrookbush.com%2Faltered-scapular-kinematics-in-individuals-with-shoulder-pain%2F&amp;ei=tSTnVLXqHYfUOar-gbAO&amp;psig=AFQjCNHECpNtFjA9qqmoIGbz3r1aAbyNiQ&amp;ust=1424520730982872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google.com.sa/url?sa=i&amp;rct=j&amp;q=&amp;esrc=s&amp;source=images&amp;cd=&amp;cad=rja&amp;uact=8&amp;ved=0ahUKEwiItJ-En57JAhVC1RoKHb5zCYcQjRwIBw&amp;url=http%3A%2F%2Fslideplayer.com%2Fslide%2F3433470%2F&amp;psig=AFQjCNEXvldzamHNre97zhnoCEjGU79ozw&amp;ust=1448082769554757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O8a-UoZ7JAhUByRoKHeSqCyUQjRwIBw&amp;url=http%3A%2F%2Fwww.memrise.com%2Fuser%2Fkelleyfrazer%2F&amp;psig=AFQjCNGNAypWVK4nbKT-4WWD2Z2CXmxr0g&amp;ust=1448083368437130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source=images&amp;cd=&amp;cad=rja&amp;uact=8&amp;ved=0ahUKEwiO8a-UoZ7JAhUByRoKHeSqCyUQjRwIBw&amp;url=http%3A%2F%2Fwww.neuronarc.com%2Fjoint-articulations-and-movements-ppt.html&amp;psig=AFQjCNGNAypWVK4nbKT-4WWD2Z2CXmxr0g&amp;ust=1448083368437130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nlm.nih.gov%2Fmedlineplus%2Fency%2Fimagepages%2F19622.htm&amp;ei=lXKdVIWZAcf3O5jMgfAM&amp;psig=AFQjCNGavYgRFzu8iXyeLYdEpH0md7en8w&amp;ust=1419691025322610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nlm.nih.gov%2Fmedlineplus%2Fency%2Fimagepages%2F19622.htm&amp;ei=lXKdVIWZAcf3O5jMgfAM&amp;psig=AFQjCNGavYgRFzu8iXyeLYdEpH0md7en8w&amp;ust=1419691025322610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google.com.sa/url?sa=i&amp;rct=j&amp;q=&amp;esrc=s&amp;source=images&amp;cd=&amp;cad=rja&amp;uact=8&amp;ved=0CAcQjRw&amp;url=https%3A%2F%2Fwww.studyblue.com%2Fnotes%2Fnote%2Fn%2Fjoints-of-the-lower-limb%2Fdeck%2F6814883&amp;ei=Bh3nVJiRCYnHOo63gNgC&amp;psig=AFQjCNGNLfsFbvA2syEzqqCcoeMGECKEUg&amp;ust=1424518566081633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s://www.google.com.sa/url?sa=i&amp;rct=j&amp;q=&amp;esrc=s&amp;source=images&amp;cd=&amp;cad=rja&amp;uact=8&amp;ved=0ahUKEwj93PuQlp7JAhWK1BoKHUbbBA0QjRwIBw&amp;url=https%3A%2F%2Fwww.studyblue.com%2Fnotes%2Fnote%2Fn%2Fap-lab-test-2%2Fdeck%2F6213698&amp;psig=AFQjCNFp_ErpKkHX3EC6qJ1TaffMVcq0Xg&amp;ust=1448079946154939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hyperlink" Target="http://www.google.com.sa/url?sa=i&amp;rct=j&amp;q=&amp;esrc=s&amp;source=images&amp;cd=&amp;cad=rja&amp;uact=8&amp;ved=0CAcQjRw&amp;url=http%3A%2F%2Fmedical-dictionary.thefreedictionary.com%2Fgomphosis&amp;ei=hh7nVOWkM8a3PMPUgcgJ&amp;psig=AFQjCNHHFNe730RP_ds_MB4LIrtkx_JvcA&amp;ust=1424519165703399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Plane_joints&amp;action=edit&amp;redlink=1" TargetMode="External"/><Relationship Id="rId2" Type="http://schemas.openxmlformats.org/officeDocument/2006/relationships/hyperlink" Target="https://www.google.com.sa/url?sa=i&amp;rct=j&amp;q=&amp;esrc=s&amp;source=images&amp;cd=&amp;cad=rja&amp;uact=8&amp;ved=0ahUKEwj93PuQlp7JAhWK1BoKHUbbBA0QjRwIBw&amp;url=https%3A%2F%2Fwww.studyblue.com%2Fnotes%2Fnote%2Fn%2Fap-lab-test-2%2Fdeck%2F6213698&amp;psig=AFQjCNFp_ErpKkHX3EC6qJ1TaffMVcq0Xg&amp;ust=1448079946154939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291960" y="-23760"/>
            <a:ext cx="429264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File0121"/>
          <p:cNvPicPr/>
          <p:nvPr/>
        </p:nvPicPr>
        <p:blipFill>
          <a:blip r:embed="rId2"/>
          <a:stretch/>
        </p:blipFill>
        <p:spPr>
          <a:xfrm>
            <a:off x="5181480" y="380880"/>
            <a:ext cx="3657600" cy="6172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INGE"/>
          <p:cNvPicPr/>
          <p:nvPr/>
        </p:nvPicPr>
        <p:blipFill>
          <a:blip r:embed="rId3"/>
          <a:srcRect l="2736" t="0" r="51378" b="23316"/>
          <a:stretch/>
        </p:blipFill>
        <p:spPr>
          <a:xfrm>
            <a:off x="3048120" y="1523880"/>
            <a:ext cx="205740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09480" y="6019920"/>
            <a:ext cx="3657600" cy="76464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Sanaa Alshaar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600"/>
            <a:ext cx="4114800" cy="495288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ynovial joints can be classified according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rang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r surfa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nge of m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are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o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ccording to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range of movement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ynovial joints ar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lane synovial 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xial synovial 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ile0122"/>
          <p:cNvPicPr/>
          <p:nvPr/>
        </p:nvPicPr>
        <p:blipFill>
          <a:blip r:embed="rId1"/>
          <a:stretch/>
        </p:blipFill>
        <p:spPr>
          <a:xfrm>
            <a:off x="4419720" y="12952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NE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1142640"/>
            <a:ext cx="3276720" cy="57150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articulating surface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 flat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nd the bones slide on one another, producing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liding movement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Intercarpal Joi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Stern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vicul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Acromio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vicular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https://encrypted-tbn2.gstatic.com/images?q=tbn:ANd9GcSMsa-uUh_LhjZORrYjrjRQfBFFR4wbwdugISS6tAe2M0r1rG6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066680"/>
            <a:ext cx="434340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12" descr="https://encrypted-tbn3.gstatic.com/images?q=tbn:ANd9GcT-YEamBFR7-54s7Iyu44LvUFLnbF5SDGaE_WFPf1O7ek1IdYRN">
            <a:hlinkClick r:id="rId3"/>
          </p:cNvPr>
          <p:cNvPicPr/>
          <p:nvPr/>
        </p:nvPicPr>
        <p:blipFill>
          <a:blip r:embed="rId4"/>
          <a:srcRect l="0" t="9994" r="0" b="0"/>
          <a:stretch/>
        </p:blipFill>
        <p:spPr>
          <a:xfrm>
            <a:off x="4191120" y="4343400"/>
            <a:ext cx="41148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Down Arrow 5"/>
          <p:cNvSpPr/>
          <p:nvPr/>
        </p:nvSpPr>
        <p:spPr>
          <a:xfrm>
            <a:off x="7391520" y="502920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n Arrow 6"/>
          <p:cNvSpPr/>
          <p:nvPr/>
        </p:nvSpPr>
        <p:spPr>
          <a:xfrm>
            <a:off x="6095880" y="49528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066680"/>
            <a:ext cx="380988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Movements occur </a:t>
            </a:r>
            <a:r>
              <a:rPr b="1" lang="en-US" sz="3200" spc="-1" strike="noStrike" u="sng">
                <a:solidFill>
                  <a:srgbClr val="1f497d"/>
                </a:solidFill>
                <a:uFillTx/>
                <a:latin typeface="Calibri"/>
              </a:rPr>
              <a:t>along a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ransverse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flexion &amp; extens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ngitudinal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rotation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tero-posterior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abduction &amp; adduct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xial joints are divid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Uniaxi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Biaxi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Multi-axial (polyaxial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File0134b"/>
          <p:cNvPicPr/>
          <p:nvPr/>
        </p:nvPicPr>
        <p:blipFill>
          <a:blip r:embed="rId1"/>
          <a:srcRect l="4694" t="15165" r="4582" b="13142"/>
          <a:stretch/>
        </p:blipFill>
        <p:spPr>
          <a:xfrm>
            <a:off x="4419720" y="1066680"/>
            <a:ext cx="441936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1" name="Picture 5" descr="File0134c"/>
          <p:cNvPicPr/>
          <p:nvPr/>
        </p:nvPicPr>
        <p:blipFill>
          <a:blip r:embed="rId2"/>
          <a:srcRect l="5358" t="3449" r="8962" b="18868"/>
          <a:stretch/>
        </p:blipFill>
        <p:spPr>
          <a:xfrm>
            <a:off x="4419720" y="3809880"/>
            <a:ext cx="441936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2" name="Picture 7" descr="http://images.slideplayer.com/12/3433470/slides/slide_57.jpg">
            <a:hlinkClick r:id="rId3"/>
          </p:cNvPr>
          <p:cNvPicPr/>
          <p:nvPr/>
        </p:nvPicPr>
        <p:blipFill>
          <a:blip r:embed="rId4"/>
          <a:srcRect l="42222" t="26831" r="4444" b="26831"/>
          <a:stretch/>
        </p:blipFill>
        <p:spPr>
          <a:xfrm>
            <a:off x="4419720" y="3809880"/>
            <a:ext cx="4495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UNI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143000"/>
            <a:ext cx="380988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nge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i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transverse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flexion &amp;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elbow  and ankle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iv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i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longitudinal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 radio-ulnar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10" descr="F66122-007-f070a.jpg"/>
          <p:cNvPicPr/>
          <p:nvPr/>
        </p:nvPicPr>
        <p:blipFill>
          <a:blip r:embed="rId1"/>
          <a:srcRect l="0" t="0" r="12498" b="8332"/>
          <a:stretch/>
        </p:blipFill>
        <p:spPr>
          <a:xfrm>
            <a:off x="4191120" y="1143000"/>
            <a:ext cx="213336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6" name="Picture 3" descr="C:\Documents and Settings\user1\Desktop\joints\F66122-007-f079.jpg"/>
          <p:cNvPicPr/>
          <p:nvPr/>
        </p:nvPicPr>
        <p:blipFill>
          <a:blip r:embed="rId2"/>
          <a:srcRect l="3447" t="0" r="10347" b="6062"/>
          <a:stretch/>
        </p:blipFill>
        <p:spPr>
          <a:xfrm>
            <a:off x="4267080" y="3733920"/>
            <a:ext cx="2438640" cy="2895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7" name="Picture 4" descr="C:\Documents and Settings\user1\Desktop\joints\F66122-007-f070c.jpg"/>
          <p:cNvPicPr/>
          <p:nvPr/>
        </p:nvPicPr>
        <p:blipFill>
          <a:blip r:embed="rId3"/>
          <a:srcRect l="0" t="0" r="0" b="11115"/>
          <a:stretch/>
        </p:blipFill>
        <p:spPr>
          <a:xfrm>
            <a:off x="6705720" y="3657600"/>
            <a:ext cx="220968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8" name="Picture 5" descr="HINGE"/>
          <p:cNvPicPr/>
          <p:nvPr/>
        </p:nvPicPr>
        <p:blipFill>
          <a:blip r:embed="rId4"/>
          <a:srcRect l="38189" t="37831" r="0" b="0"/>
          <a:stretch/>
        </p:blipFill>
        <p:spPr>
          <a:xfrm>
            <a:off x="6477120" y="10666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066680"/>
            <a:ext cx="388620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llipsoid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vex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ts into 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ave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rticular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es: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Transverse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&amp;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antero-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lexion &amp; extension  + abduction &amp; adduc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ut rotation is impossib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  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http://www.memrise.com/s3_proxy/?f=uploads/mems/537619100015021601154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066680"/>
            <a:ext cx="4572000" cy="54864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990360"/>
            <a:ext cx="403884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ddle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he articular surfaces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re reciprocally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oncavoconv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y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resemble a saddle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on a  horse’s bac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ovement: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s ellipsoid joints (Flexion &amp; extension + abduction &amp; adduction)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small range of rota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xample: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Carpometacarpal joint of the thum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11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5" descr="File0134e"/>
          <p:cNvPicPr/>
          <p:nvPr/>
        </p:nvPicPr>
        <p:blipFill>
          <a:blip r:embed="rId1"/>
          <a:srcRect l="9096" t="8483" r="0" b="13004"/>
          <a:stretch/>
        </p:blipFill>
        <p:spPr>
          <a:xfrm>
            <a:off x="4343400" y="1066680"/>
            <a:ext cx="4495680" cy="5562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5" name="Picture 6" descr="http://1.bp.blogspot.com/--FGEf_TPpdk/T9t7SmYr1sI/AAAAAAAADBs/dwP7xzioGc4/s1600/Picture17.png">
            <a:hlinkClick r:id="rId2"/>
          </p:cNvPr>
          <p:cNvPicPr/>
          <p:nvPr/>
        </p:nvPicPr>
        <p:blipFill>
          <a:blip r:embed="rId3"/>
          <a:srcRect l="0" t="0" r="0" b="10108"/>
          <a:stretch/>
        </p:blipFill>
        <p:spPr>
          <a:xfrm>
            <a:off x="4267080" y="1143000"/>
            <a:ext cx="4648320" cy="54864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OLY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066680"/>
            <a:ext cx="4038480" cy="5562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ll-and-socket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 ball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shaped head of a bone fits into a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ocket-like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concavity of another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Flexion &amp; extension + abduction &amp; adduction) +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rotation along a separate 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Shoulder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Hip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Documents and Settings\user1\Desktop\joints\F66122-007-f027.jpg"/>
          <p:cNvPicPr/>
          <p:nvPr/>
        </p:nvPicPr>
        <p:blipFill>
          <a:blip r:embed="rId1"/>
          <a:srcRect l="12769" t="0" r="12769" b="5989"/>
          <a:stretch/>
        </p:blipFill>
        <p:spPr>
          <a:xfrm>
            <a:off x="4343400" y="1066680"/>
            <a:ext cx="2743200" cy="29718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9" name="Picture 3" descr="BALLSOCK"/>
          <p:cNvPicPr/>
          <p:nvPr/>
        </p:nvPicPr>
        <p:blipFill>
          <a:blip r:embed="rId2"/>
          <a:srcRect l="0" t="0" r="10908" b="5009"/>
          <a:stretch/>
        </p:blipFill>
        <p:spPr>
          <a:xfrm>
            <a:off x="6095880" y="4114800"/>
            <a:ext cx="2819520" cy="25909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218960"/>
            <a:ext cx="403848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-The shape of articular surfa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he ball and socket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ape  of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p joint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ood example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f the  importance of bone shape to maintain  join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shape of the bone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rming the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Knee joint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has nothing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o do for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File0134f"/>
          <p:cNvPicPr/>
          <p:nvPr/>
        </p:nvPicPr>
        <p:blipFill>
          <a:blip r:embed="rId1"/>
          <a:srcRect l="7933" t="6295" r="0" b="8598"/>
          <a:stretch/>
        </p:blipFill>
        <p:spPr>
          <a:xfrm>
            <a:off x="4648320" y="1143000"/>
            <a:ext cx="426708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3" name="Picture 7" descr="File0131"/>
          <p:cNvPicPr/>
          <p:nvPr/>
        </p:nvPicPr>
        <p:blipFill>
          <a:blip r:embed="rId2"/>
          <a:stretch/>
        </p:blipFill>
        <p:spPr>
          <a:xfrm>
            <a:off x="4876920" y="3962520"/>
            <a:ext cx="36576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980720"/>
            <a:ext cx="2971800" cy="4038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2-Strength of the liga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hey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prevent excessive movement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in a joi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Examp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ruciate ligaments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of the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knee joint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4" descr="F66122-006-f032.jpg"/>
          <p:cNvPicPr/>
          <p:nvPr/>
        </p:nvPicPr>
        <p:blipFill>
          <a:blip r:embed="rId1"/>
          <a:srcRect l="0" t="0" r="0" b="7407"/>
          <a:stretch/>
        </p:blipFill>
        <p:spPr>
          <a:xfrm>
            <a:off x="3657600" y="1828800"/>
            <a:ext cx="5181480" cy="44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7" name="Picture 7" descr="File0131"/>
          <p:cNvPicPr/>
          <p:nvPr/>
        </p:nvPicPr>
        <p:blipFill>
          <a:blip r:embed="rId2"/>
          <a:stretch/>
        </p:blipFill>
        <p:spPr>
          <a:xfrm>
            <a:off x="3657600" y="1752480"/>
            <a:ext cx="5181480" cy="457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599840"/>
            <a:ext cx="4343400" cy="4800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ne of the surrounding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n most joints, it is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ajor factor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trolling 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short muscles around the </a:t>
            </a:r>
            <a:r>
              <a:rPr b="1" lang="en-US" sz="2800" spc="-1" strike="noStrike" u="sng">
                <a:solidFill>
                  <a:srgbClr val="1b05bb"/>
                </a:solidFill>
                <a:uFillTx/>
                <a:latin typeface="Calibri"/>
              </a:rPr>
              <a:t>shoulder joint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keeps the head of the humerus in the shallow glenoid ca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54000" y="-1461960"/>
            <a:ext cx="3809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2"/>
          </p:cNvPr>
          <p:cNvSpPr/>
          <p:nvPr/>
        </p:nvSpPr>
        <p:spPr>
          <a:xfrm>
            <a:off x="54000" y="-1461960"/>
            <a:ext cx="3809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https://encrypted-tbn1.gstatic.com/images?q=tbn:ANd9GcSUD-5Vvj2jfVgwgZe8wjHSVXkIpGAiFX5rbnL6ci_YnMucN50P"/>
          <p:cNvPicPr/>
          <p:nvPr/>
        </p:nvPicPr>
        <p:blipFill>
          <a:blip r:embed="rId3"/>
          <a:srcRect l="0" t="0" r="0" b="8631"/>
          <a:stretch/>
        </p:blipFill>
        <p:spPr>
          <a:xfrm>
            <a:off x="4724280" y="1676520"/>
            <a:ext cx="41911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students should be abl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Define the term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“Join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lassification of the 3 types of joints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&amp;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haracteristics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of synovial joints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lassification of synovial joints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give an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example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List factors maintaining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tability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of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Recit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“Hilton’s law”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for nerve supply of 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ERVE SUPPLY OF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1920" y="1676160"/>
            <a:ext cx="4953240" cy="4724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apsule and ligaments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receive an abundant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sensory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comic"/>
              </a:rPr>
              <a:t>Hilton’s Law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A nerve supplying a 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joint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also supplies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uscles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moving that joint and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kin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 overlying the insertions of these muscle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https://encrypted-tbn3.gstatic.com/images?q=tbn:ANd9GcTNfu4dXajwIcu_Q9rj5IGqV7_leht5QYtv6WPKnYJIsVjlkuzT_A"/>
          <p:cNvPicPr/>
          <p:nvPr/>
        </p:nvPicPr>
        <p:blipFill>
          <a:blip r:embed="rId1"/>
          <a:stretch/>
        </p:blipFill>
        <p:spPr>
          <a:xfrm>
            <a:off x="5334120" y="1981080"/>
            <a:ext cx="35812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Calibri"/>
              </a:rPr>
              <a:t>GOOD LUC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te where two or more bones come together, whether movement occurs or not between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s are classifi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tissues that lie between the bones in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 typ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fibrous, cartilaginous &amp; synov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novial j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freely movable &amp; characterized by the presence of : fibrous capsule, articular cartilage, synovial membrane &amp; joint cavity containing synovial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600" y="1599840"/>
            <a:ext cx="8763120" cy="4419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novial joints are classifi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range of movement into: plane and 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x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divided according to the number of axes of movements into:  uniaxial, biaxial &amp; polyaxial or multi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bility of synovial j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 shape of articular surfaces, ligaments &amp;  muscle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s have same nerve supp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muscles moving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3352680" cy="259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hat is a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t i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te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ere two or mo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nes meet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File0134e"/>
          <p:cNvPicPr/>
          <p:nvPr/>
        </p:nvPicPr>
        <p:blipFill>
          <a:blip r:embed="rId1"/>
          <a:srcRect l="10004" t="8067" r="0" b="9676"/>
          <a:stretch/>
        </p:blipFill>
        <p:spPr>
          <a:xfrm>
            <a:off x="3809880" y="1676520"/>
            <a:ext cx="4876920" cy="4876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Picture 6" descr="https://encrypted-tbn3.gstatic.com/images?q=tbn:ANd9GcSqFT8X9DHgHl29X60hMCnZ8OaQSnZK8IrwczUGtrABQLI8gN-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1676520"/>
            <a:ext cx="50292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1920" y="1980720"/>
            <a:ext cx="3505320" cy="38862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Joints are classified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cording to the tissues that lie between the bon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Fibr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Cartilagin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Synov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File0125"/>
          <p:cNvPicPr/>
          <p:nvPr/>
        </p:nvPicPr>
        <p:blipFill>
          <a:blip r:embed="rId1"/>
          <a:srcRect l="5406" t="22726" r="40544" b="7023"/>
          <a:stretch/>
        </p:blipFill>
        <p:spPr>
          <a:xfrm>
            <a:off x="6934320" y="1447920"/>
            <a:ext cx="2209680" cy="2743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95" name="Picture 5" descr="File0132"/>
          <p:cNvPicPr/>
          <p:nvPr/>
        </p:nvPicPr>
        <p:blipFill>
          <a:blip r:embed="rId2"/>
          <a:stretch/>
        </p:blipFill>
        <p:spPr>
          <a:xfrm>
            <a:off x="3809880" y="137160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7848720" y="3657600"/>
            <a:ext cx="1295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419720" y="1600200"/>
            <a:ext cx="1371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https://classconnection.s3.amazonaws.com/254/flashcards/1411254/png/cartilagenous1136560461237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4267080"/>
            <a:ext cx="5334120" cy="2590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9" name="TextBox 9"/>
          <p:cNvSpPr/>
          <p:nvPr/>
        </p:nvSpPr>
        <p:spPr>
          <a:xfrm>
            <a:off x="7467480" y="6477120"/>
            <a:ext cx="1676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ilage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IBR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371240"/>
            <a:ext cx="426744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articulating surfaces are joined by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fibrous connective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tissue, where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N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very mild mov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Skull  suture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(as it ossify later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Inferior tibiofibular</a:t>
            </a:r>
            <a:r>
              <a:rPr b="1" i="1" lang="en-US" sz="3300" spc="-1" strike="noStrike" u="sng">
                <a:solidFill>
                  <a:srgbClr val="1b05bb"/>
                </a:solidFill>
                <a:uFillTx/>
                <a:latin typeface="Calibri"/>
              </a:rPr>
              <a:t> 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joints (syndesmosis): </a:t>
            </a:r>
            <a:r>
              <a:rPr b="1" lang="en-US" sz="2600" spc="-1" strike="noStrike" u="sng">
                <a:solidFill>
                  <a:srgbClr val="e46c0a"/>
                </a:solidFill>
                <a:uFillTx/>
                <a:latin typeface="Calibri"/>
              </a:rPr>
              <a:t>minimal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 movem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Gomphos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dental alveolar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9221C93"/>
          <p:cNvPicPr/>
          <p:nvPr/>
        </p:nvPicPr>
        <p:blipFill>
          <a:blip r:embed="rId1"/>
          <a:srcRect l="1779" t="64385" r="81628" b="12218"/>
          <a:stretch/>
        </p:blipFill>
        <p:spPr>
          <a:xfrm>
            <a:off x="7010280" y="1905120"/>
            <a:ext cx="1905120" cy="441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4" descr="29AA9DCB"/>
          <p:cNvPicPr/>
          <p:nvPr/>
        </p:nvPicPr>
        <p:blipFill>
          <a:blip r:embed="rId2"/>
          <a:srcRect l="18840" t="8432" r="27330" b="55758"/>
          <a:stretch/>
        </p:blipFill>
        <p:spPr>
          <a:xfrm>
            <a:off x="4495680" y="1371600"/>
            <a:ext cx="2286000" cy="27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Picture 5" descr="File0125"/>
          <p:cNvPicPr/>
          <p:nvPr/>
        </p:nvPicPr>
        <p:blipFill>
          <a:blip r:embed="rId3"/>
          <a:srcRect l="36796" t="5097" r="24788" b="63318"/>
          <a:stretch/>
        </p:blipFill>
        <p:spPr>
          <a:xfrm>
            <a:off x="4419720" y="4267080"/>
            <a:ext cx="236196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8" descr="https://encrypted-tbn3.gstatic.com/images?q=tbn:ANd9GcQJ79SEa-SHXNKKtJXRdGYcJ5A2BPYE5MEIrTIiYNo1pBMTUiev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295880"/>
            <a:ext cx="236196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066320"/>
            <a:ext cx="4572000" cy="57913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ones are joined by 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cartil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t is of 2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Primary Cartilaginous (synchondrosi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e bones are united by a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lat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or a bar of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hyaline cartilag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46c0a"/>
                </a:solidFill>
                <a:uFillTx/>
                <a:latin typeface="Calibri"/>
              </a:rPr>
              <a:t>No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moveme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joints  (ossify later),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exampl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piphysi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Diaphysis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of a growing bon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irst Rib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(1</a:t>
            </a:r>
            <a:r>
              <a:rPr b="1" lang="en-US" sz="2400" spc="-1" strike="noStrike" baseline="30000">
                <a:solidFill>
                  <a:srgbClr val="c00000"/>
                </a:solidFill>
                <a:latin typeface="Calibri"/>
              </a:rPr>
              <a:t>st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sternocostal joint).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he rest of the sternocostal joints are synovial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lane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952880" y="6019920"/>
            <a:ext cx="3429000" cy="4597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s://classconnection.s3.amazonaws.com/254/flashcards/1411254/png/cartilagenous1136560461237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95280"/>
            <a:ext cx="4572000" cy="46483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0" name="Picture 9" descr="http://o.quizlet.com/oUUFmZ20Fn97-m-ycZQTaQ.png"/>
          <p:cNvPicPr/>
          <p:nvPr/>
        </p:nvPicPr>
        <p:blipFill>
          <a:blip r:embed="rId4"/>
          <a:stretch/>
        </p:blipFill>
        <p:spPr>
          <a:xfrm>
            <a:off x="4648320" y="1295280"/>
            <a:ext cx="449568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1920" y="1295280"/>
            <a:ext cx="480060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Secondary Cartilagi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bones are united by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Calibri"/>
              </a:rPr>
              <a:t>plate of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fibro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ir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rticulating surface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re covered by a thin plate of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hyaline cartilag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e46c0a"/>
                </a:solidFill>
                <a:uFillTx/>
                <a:latin typeface="Calibri"/>
              </a:rPr>
              <a:t>Little</a:t>
            </a:r>
            <a:r>
              <a:rPr b="1" lang="en-US" sz="2700" spc="-1" strike="noStrike" u="sng">
                <a:solidFill>
                  <a:srgbClr val="0070c0"/>
                </a:solidFill>
                <a:uFillTx/>
                <a:latin typeface="Calibri"/>
              </a:rPr>
              <a:t> movem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are called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Calibri"/>
              </a:rPr>
              <a:t>Midlin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Joints between the </a:t>
            </a:r>
            <a:r>
              <a:rPr b="1" i="1" lang="en-US" sz="2600" spc="-1" strike="noStrike">
                <a:solidFill>
                  <a:srgbClr val="1b05bb"/>
                </a:solidFill>
                <a:latin typeface="Calibri"/>
              </a:rPr>
              <a:t>Vertebral Bodie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intervertebral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c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b05bb"/>
                </a:solidFill>
                <a:latin typeface="Calibri"/>
              </a:rPr>
              <a:t>Symphysis Pubi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File0127A"/>
          <p:cNvPicPr/>
          <p:nvPr/>
        </p:nvPicPr>
        <p:blipFill>
          <a:blip r:embed="rId1"/>
          <a:srcRect l="7548" t="7067" r="7548" b="6734"/>
          <a:stretch/>
        </p:blipFill>
        <p:spPr>
          <a:xfrm>
            <a:off x="5029200" y="1752480"/>
            <a:ext cx="38862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Down Arrow 4"/>
          <p:cNvSpPr/>
          <p:nvPr/>
        </p:nvSpPr>
        <p:spPr>
          <a:xfrm>
            <a:off x="7924680" y="1905120"/>
            <a:ext cx="7632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5"/>
          <p:cNvSpPr/>
          <p:nvPr/>
        </p:nvSpPr>
        <p:spPr>
          <a:xfrm>
            <a:off x="6934320" y="47242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1371600"/>
            <a:ext cx="3733920" cy="50292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haracteristic featu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reely movable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 2 bones are joined by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ibrous capsul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, which is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ttached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to the margins of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rticular surfaces &amp; enclosing the j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articular surfaces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r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covered by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1b05bb"/>
                </a:solidFill>
                <a:latin typeface="Calibri"/>
              </a:rPr>
              <a:t>thin layer of hyaline cartilage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articular cartilag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cavity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enclosed within the capsu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320600" y="25146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12" descr="12"/>
          <p:cNvPicPr/>
          <p:nvPr/>
        </p:nvPicPr>
        <p:blipFill>
          <a:blip r:embed="rId1"/>
          <a:srcRect l="3465" t="17181" r="2707" b="16206"/>
          <a:stretch/>
        </p:blipFill>
        <p:spPr>
          <a:xfrm>
            <a:off x="3962520" y="1219320"/>
            <a:ext cx="4952880" cy="5410080"/>
          </a:xfrm>
          <a:prstGeom prst="rect">
            <a:avLst/>
          </a:prstGeom>
          <a:ln w="0">
            <a:noFill/>
          </a:ln>
        </p:spPr>
      </p:pic>
      <p:sp>
        <p:nvSpPr>
          <p:cNvPr id="120" name="5-Point Star 5"/>
          <p:cNvSpPr/>
          <p:nvPr/>
        </p:nvSpPr>
        <p:spPr>
          <a:xfrm>
            <a:off x="5867280" y="365760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-Point Star 6"/>
          <p:cNvSpPr/>
          <p:nvPr/>
        </p:nvSpPr>
        <p:spPr>
          <a:xfrm>
            <a:off x="7010280" y="358128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-Point Star 7"/>
          <p:cNvSpPr/>
          <p:nvPr/>
        </p:nvSpPr>
        <p:spPr>
          <a:xfrm flipH="1">
            <a:off x="5715000" y="4191120"/>
            <a:ext cx="763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19320"/>
            <a:ext cx="396252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membrane : a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vascular membrane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ining the inner surface of the caps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fluid : a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lubricating fluid </a:t>
            </a: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produced by the synovial membrane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in the joint ca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fluid minimizes the friction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between the 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8"/>
          <p:cNvSpPr/>
          <p:nvPr/>
        </p:nvSpPr>
        <p:spPr>
          <a:xfrm flipH="1">
            <a:off x="7467480" y="28947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>
            <a:off x="6858000" y="2670120"/>
            <a:ext cx="20304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File0132"/>
          <p:cNvPicPr/>
          <p:nvPr/>
        </p:nvPicPr>
        <p:blipFill>
          <a:blip r:embed="rId1"/>
          <a:stretch/>
        </p:blipFill>
        <p:spPr>
          <a:xfrm>
            <a:off x="4800600" y="1371600"/>
            <a:ext cx="3581280" cy="518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Diagram of a synovial joint"/>
          <p:cNvPicPr/>
          <p:nvPr/>
        </p:nvPicPr>
        <p:blipFill>
          <a:blip r:embed="rId2"/>
          <a:srcRect l="2868" t="10418" r="2351" b="9375"/>
          <a:stretch/>
        </p:blipFill>
        <p:spPr>
          <a:xfrm>
            <a:off x="4267080" y="1143000"/>
            <a:ext cx="4572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11-20T05:50:07Z</dcterms:modified>
  <cp:revision>371</cp:revision>
  <dc:subject/>
  <dc:title>MUSCLES INVOLVED IN RESPIRATION</dc:title>
</cp:coreProperties>
</file>