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BA3-2E1F-4853-BA90-29E5974EC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64D2-495F-4CA1-ADFF-C9CA40588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44B5-658B-4AA1-B755-79E8C29E0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CBB7-1C16-43DB-9725-083B86C61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5535-7DA5-40F9-8715-F6FD40D2A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67B5-FFDB-46C2-97AC-700E04C73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D35-7EAB-4721-8E0D-568D10F6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C8F-2CF7-428C-822E-77C81A50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9DD-7E7E-4387-9034-802B071D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6C2-3E7B-4629-B8D7-96725FBB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6EC0-8B00-4AEB-9AEE-57CE5EE3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E266-E991-4A49-8A85-88E68FE8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F5A5-A80D-4E7C-8E73-3E4C1EF6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3926-7A91-4E80-8804-0E140888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DC12-833B-45B2-9F3C-2A78E04C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038A-B1AB-4A53-82DE-ED185492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DB34-F3DF-4A06-B09E-F7A57B0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6D7-E595-4507-80F3-4F84D1F6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939F-EC1E-4966-9244-7975D6E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0747-7F90-4FC4-B27E-FB2B453F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20A0-A290-42D8-A06B-B6E0A978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32D0-6628-4E88-9027-EF060458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5FB7-B9D8-4108-850F-E29FBF13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BC6F-54F1-481B-AD9B-5A0661C2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496E-8979-41EC-9A7E-5ED196D2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72F8-3ED5-4187-9677-93A1500D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5C63-CA36-4731-BD2D-D499D58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6DC9-1113-4F32-B8B1-CA6F4771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47C-FA1B-4C49-8DD4-96F07FAC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5EEA-FFBA-4EC7-9698-11B9CD35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0255-E0A2-456D-AE1A-94EE395A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E7F5-8485-46F8-8B7E-CECCBA4A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2898-03EB-467C-B0AC-AE500E97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EFCD-966E-4028-ADD6-9BE200E7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6B60-9A9E-4525-9384-A681A0F5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F937-B0D2-4323-8217-7BF9E786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436DF-886F-41D7-9FDE-2BE10B3B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7654B-E354-480C-94BA-D4313635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C502-2E3D-4ED8-A5BC-BB2658A2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5B7-5D46-4E21-90B3-8D688551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86B5-3D50-4BDF-B3D3-75901E1E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DD12-4AE7-4620-872D-8DF7E141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3B78-115B-4937-8ED6-791BCC76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821E-B9F3-42AE-8ABF-B7277CAF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DFE7-98E3-485D-8F72-AA17507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1D2B3-9817-4D3F-BD86-D1CBA6B9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6F5F-2B68-4C93-9559-75046FCF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1AFE-BC77-4680-AFDC-A11EBF19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C483-C673-4D67-B23E-BF9C184C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FD180-DA6C-4230-A538-8C4361360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197-1CFF-4BBB-BECA-F1F2C4B8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C74BD-C938-4AB3-9D5C-E35122717E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7F160-9B3A-4CAF-9A75-AECA30DA0D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C71AE-10DE-4C4E-B902-CCEECFC6EE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C4F74-AD99-42E7-B9C6-490440871E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CFE1C-2BF6-4EF1-97CB-C7E98F66E4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EC4D9-2C32-424E-9D91-04AB694D45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76074-7A65-4BF8-B7C2-D02E4884A8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30574-85CC-49C6-A74E-FDDA89DFC5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30636-B0A4-4CF3-9DCF-39DCD4F2BC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5CC28-BABC-494F-B5AE-1C1BED1DD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998-8454-44CC-AFAC-8D54F5B5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3781C-4D1B-4933-ACFA-2261399A2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867-0237-4B8C-9E2F-97580D5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CD6-06BE-431B-9DCC-2BA3A68A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E26-E95D-4C8C-88C4-7743EC8B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9AEB-D160-4DFA-99DD-4F9C9FF9BB5F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5FB-9647-436C-A1F1-629A21C15634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A100-2FA1-45B5-85A9-1CE25B2D4C06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F737-4329-4FBF-9F55-469B45E7B764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3"/>
          </p:nvPr>
        </p:nvSpPr>
        <p:spPr>
          <a:xfrm>
            <a:off x="547992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Prof. Maka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8462880" y="6400440"/>
            <a:ext cx="50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9EC9-7B07-453A-8C0C-BED182C55B9F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-633240" y="49320"/>
            <a:ext cx="8167680" cy="5522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ttp://www.footdoc.ca/sciatic%20nerve.jpg"/>
          <p:cNvPicPr/>
          <p:nvPr/>
        </p:nvPicPr>
        <p:blipFill>
          <a:blip r:embed="rId2"/>
          <a:stretch/>
        </p:blipFill>
        <p:spPr>
          <a:xfrm>
            <a:off x="6161040" y="2286000"/>
            <a:ext cx="275436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696080" cy="685800"/>
          </a:xfrm>
          <a:prstGeom prst="rect">
            <a:avLst/>
          </a:prstGeom>
          <a:solidFill>
            <a:srgbClr val="a3171e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ommon Peroneal (Fibular) Nerve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990720"/>
            <a:ext cx="4038480" cy="533376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70c0"/>
                </a:solidFill>
                <a:uFillTx/>
                <a:latin typeface="Constantia"/>
              </a:rPr>
              <a:t>Course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eaves popliteal fossa &amp; turn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ound th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lateral aspect of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nstantia"/>
              </a:rPr>
              <a:t>neck of fibul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(Dangerous Position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n divides int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Superficial peroneal or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en-US" sz="2200" spc="-1" strike="noStrike" u="sng">
                <a:solidFill>
                  <a:srgbClr val="0070c0"/>
                </a:solidFill>
                <a:uFillTx/>
                <a:latin typeface="Constantia"/>
              </a:rPr>
              <a:t>(Musculocutaneous) 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70c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supply the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Lateral compartment of  the le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Deep peroneal 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i="1" lang="en-US" sz="2200" spc="-1" strike="noStrike" u="sng">
                <a:solidFill>
                  <a:srgbClr val="0070c0"/>
                </a:solidFill>
                <a:uFillTx/>
                <a:latin typeface="Constantia"/>
              </a:rPr>
              <a:t>(Anterior Tibial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supply the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Anterior compartment of  the le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Down Arrow 6"/>
          <p:cNvSpPr/>
          <p:nvPr/>
        </p:nvSpPr>
        <p:spPr>
          <a:xfrm>
            <a:off x="7010280" y="388620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7"/>
          <p:cNvSpPr/>
          <p:nvPr/>
        </p:nvSpPr>
        <p:spPr>
          <a:xfrm>
            <a:off x="6934320" y="4724280"/>
            <a:ext cx="152280" cy="2286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C:\Documents and Settings\User\My Documents\Student Gray\6. Lower limb\F66122-006-f020.jpg"/>
          <p:cNvPicPr/>
          <p:nvPr/>
        </p:nvPicPr>
        <p:blipFill>
          <a:blip r:embed="rId1"/>
          <a:srcRect l="16216" t="0" r="16216" b="3520"/>
          <a:stretch/>
        </p:blipFill>
        <p:spPr>
          <a:xfrm>
            <a:off x="5057640" y="990720"/>
            <a:ext cx="341316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8" name="Picture 7" descr="C:\Users\Administrator\Pictures\Picture9.jpg"/>
          <p:cNvPicPr/>
          <p:nvPr/>
        </p:nvPicPr>
        <p:blipFill>
          <a:blip r:embed="rId2"/>
          <a:stretch/>
        </p:blipFill>
        <p:spPr>
          <a:xfrm>
            <a:off x="4267080" y="990720"/>
            <a:ext cx="228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4038840" cy="685800"/>
          </a:xfrm>
          <a:prstGeom prst="rect">
            <a:avLst/>
          </a:prstGeom>
          <a:solidFill>
            <a:srgbClr val="b54a1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uscular Branches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4191120" cy="380988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Constantia"/>
              </a:rPr>
              <a:t>Muscles of anterior &amp; lateral compartments of le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orsi flexors of ank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ors of toe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vertors of foo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C:\Users\Administrator\Pictures\Picture10.jpg"/>
          <p:cNvPicPr/>
          <p:nvPr/>
        </p:nvPicPr>
        <p:blipFill>
          <a:blip r:embed="rId1"/>
          <a:stretch/>
        </p:blipFill>
        <p:spPr>
          <a:xfrm>
            <a:off x="4952880" y="1457280"/>
            <a:ext cx="32338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4120" y="228240"/>
            <a:ext cx="3581280" cy="61722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ciatic nerve is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most frequently injur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y…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I-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adly placed intramuscular injections in the gluteal region.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avoid this, injections should be done into the gluteus maximus or medius (into the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upper outer quadrant of the buttock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ost nerve lesions are incomplete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and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in 90% of injuries, the common peroneal (part of the nerve) is the most affected.</a:t>
            </a: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y?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The common peroneal nerve fibers lie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superficial</a:t>
            </a: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sciatic nerv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9" descr="Untitled-5"/>
          <p:cNvPicPr/>
          <p:nvPr/>
        </p:nvPicPr>
        <p:blipFill>
          <a:blip r:embed="rId1"/>
          <a:srcRect l="0" t="0" r="0" b="22890"/>
          <a:stretch/>
        </p:blipFill>
        <p:spPr>
          <a:xfrm>
            <a:off x="2438280" y="1295280"/>
            <a:ext cx="28195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4" name="AutoShape 10"/>
          <p:cNvSpPr/>
          <p:nvPr/>
        </p:nvSpPr>
        <p:spPr>
          <a:xfrm>
            <a:off x="4191120" y="18288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9900">
              <a:alpha val="15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04920" y="304920"/>
            <a:ext cx="3657600" cy="82548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USES OF SCIATIC NERV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76F73617"/>
          <p:cNvPicPr/>
          <p:nvPr/>
        </p:nvPicPr>
        <p:blipFill>
          <a:blip r:embed="rId2"/>
          <a:srcRect l="0" t="0" r="0" b="67243"/>
          <a:stretch/>
        </p:blipFill>
        <p:spPr>
          <a:xfrm>
            <a:off x="304920" y="4343400"/>
            <a:ext cx="4800600" cy="21337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304920" y="3200400"/>
            <a:ext cx="1752480" cy="100872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-Posterior dislocation of the hip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250" autoRev="1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486400" cy="91440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FFECTS OF SCIATIC NERVE INJURY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142640"/>
            <a:ext cx="4038480" cy="52578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e2d37"/>
                </a:solidFill>
                <a:uFillTx/>
                <a:latin typeface="Constantia"/>
              </a:rPr>
              <a:t>MOTOR EFFEC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Marked wasting of the muscles below the knee</a:t>
            </a: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Constantia"/>
              </a:rPr>
              <a:t>Weak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flexion of the kne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artorius &amp; gracilis are intact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Weak extension of hip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gluteus maximus is intact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the muscles below the knee are paralyzed, and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eight of the foot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uses it to assume the </a:t>
            </a:r>
            <a:r>
              <a:rPr b="0" i="1" lang="en-US" sz="2200" spc="-1" strike="noStrike">
                <a:solidFill>
                  <a:srgbClr val="0033cc"/>
                </a:solidFill>
                <a:latin typeface="Constantia"/>
              </a:rPr>
              <a:t>plantar-flexed position</a:t>
            </a:r>
            <a:r>
              <a:rPr b="0" i="1" lang="en-US" sz="2200" spc="-1" strike="noStrike">
                <a:solidFill>
                  <a:srgbClr val="ff9900"/>
                </a:solidFill>
                <a:latin typeface="Constanti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Foot Dro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Stamping gait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4" descr="BC27097F"/>
          <p:cNvPicPr/>
          <p:nvPr/>
        </p:nvPicPr>
        <p:blipFill>
          <a:blip r:embed="rId1"/>
          <a:srcRect l="12460" t="5829" r="62982" b="62616"/>
          <a:stretch/>
        </p:blipFill>
        <p:spPr>
          <a:xfrm>
            <a:off x="4495680" y="1219320"/>
            <a:ext cx="228600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1" name="Picture 7" descr="Untitled-7"/>
          <p:cNvPicPr/>
          <p:nvPr/>
        </p:nvPicPr>
        <p:blipFill>
          <a:blip r:embed="rId2"/>
          <a:srcRect l="4807" t="6172" r="5291" b="4629"/>
          <a:stretch/>
        </p:blipFill>
        <p:spPr>
          <a:xfrm>
            <a:off x="6934320" y="3505320"/>
            <a:ext cx="220968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02" name="Straight Arrow Connector 7"/>
          <p:cNvCxnSpPr/>
          <p:nvPr/>
        </p:nvCxnSpPr>
        <p:spPr>
          <a:xfrm flipH="1" flipV="1">
            <a:off x="5790960" y="312336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3809880" cy="762120"/>
          </a:xfrm>
          <a:prstGeom prst="rect">
            <a:avLst/>
          </a:prstGeom>
          <a:solidFill>
            <a:srgbClr val="ead3d8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ENSORY EFFECT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600" y="2209320"/>
            <a:ext cx="4038480" cy="38862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nsation is lost </a:t>
            </a:r>
            <a:r>
              <a:rPr b="0" i="1" lang="en-US" sz="2400" spc="-1" strike="noStrike">
                <a:solidFill>
                  <a:srgbClr val="002060"/>
                </a:solidFill>
                <a:latin typeface="Constantia"/>
              </a:rPr>
              <a:t>below the knee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cept for a narrow area down the medial side of the lower part of the leg </a:t>
            </a:r>
            <a:r>
              <a:rPr b="1" lang="en-US" sz="2400" spc="-1" strike="noStrike">
                <a:solidFill>
                  <a:srgbClr val="0066ff"/>
                </a:solidFill>
                <a:latin typeface="Constantia"/>
              </a:rPr>
              <a:t>(blue)</a:t>
            </a:r>
            <a:r>
              <a:rPr b="0" lang="en-US" sz="2400" spc="-1" strike="noStrike">
                <a:solidFill>
                  <a:srgbClr val="0066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along the medial border of the foot as far as the ball of the big toe, which is supplied by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phenous nerv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femoral nerv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Picture 6" descr="Untitled-2"/>
          <p:cNvPicPr/>
          <p:nvPr/>
        </p:nvPicPr>
        <p:blipFill>
          <a:blip r:embed="rId1"/>
          <a:srcRect l="14809" t="3614" r="11119" b="0"/>
          <a:stretch/>
        </p:blipFill>
        <p:spPr>
          <a:xfrm>
            <a:off x="7315200" y="228600"/>
            <a:ext cx="1447920" cy="6400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Untitled-11"/>
          <p:cNvPicPr/>
          <p:nvPr/>
        </p:nvPicPr>
        <p:blipFill>
          <a:blip r:embed="rId2"/>
          <a:srcRect l="18745" t="8176" r="15627" b="8820"/>
          <a:stretch/>
        </p:blipFill>
        <p:spPr>
          <a:xfrm>
            <a:off x="4800600" y="685800"/>
            <a:ext cx="1600200" cy="3886200"/>
          </a:xfrm>
          <a:prstGeom prst="rect">
            <a:avLst/>
          </a:prstGeom>
          <a:ln w="0">
            <a:noFill/>
          </a:ln>
        </p:spPr>
      </p:pic>
      <p:cxnSp>
        <p:nvCxnSpPr>
          <p:cNvPr id="307" name="Straight Arrow Connector 5"/>
          <p:cNvCxnSpPr/>
          <p:nvPr/>
        </p:nvCxnSpPr>
        <p:spPr>
          <a:xfrm flipH="1">
            <a:off x="8381520" y="441936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FFECT OF SCIATIC NERVE INJURY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9480" y="1600200"/>
          <a:ext cx="8153640" cy="449568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e2d37"/>
                          </a:solidFill>
                          <a:latin typeface="Constantia"/>
                        </a:rPr>
                        <a:t>MOTOR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ar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ovements aff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Hamstrings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Flexion of knee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Extension of 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All muscles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Leg &amp; Fo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All movements of the  </a:t>
                      </a:r>
                      <a:r>
                        <a:rPr b="1" lang="en-US" sz="20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leg &amp; Foo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e2d37"/>
                          </a:solidFill>
                          <a:latin typeface="Constantia"/>
                        </a:rPr>
                        <a:t>SENSORY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Loss of sensation of  the areas supplied by sciatic nerve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(below knee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EXCEPT area supplied by the (Saphenous nerv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e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5680" y="207720"/>
            <a:ext cx="3240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4646"/>
                </a:solidFill>
                <a:latin typeface="Calibri"/>
              </a:rPr>
              <a:t>SCIATICA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38680" y="914400"/>
            <a:ext cx="3353040" cy="541008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atica describes the condition in which patients have </a:t>
            </a:r>
            <a:r>
              <a:rPr b="1" i="1" lang="en-US" sz="2400" spc="-1" strike="noStrike">
                <a:solidFill>
                  <a:srgbClr val="0070c0"/>
                </a:solidFill>
                <a:latin typeface="Constantia"/>
              </a:rPr>
              <a:t>pain along the sensory distribution of the sciatic nerv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Thus the pain is experienced in the posterior aspect of the thigh, the posterior and lateral sides of the leg, and the lateral part of the foo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5" descr="19503_8244_5"/>
          <p:cNvPicPr/>
          <p:nvPr/>
        </p:nvPicPr>
        <p:blipFill>
          <a:blip r:embed="rId1"/>
          <a:srcRect l="0" t="0" r="0" b="5823"/>
          <a:stretch/>
        </p:blipFill>
        <p:spPr>
          <a:xfrm>
            <a:off x="326880" y="1066680"/>
            <a:ext cx="5159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3" name="Flowchart: Data 5"/>
          <p:cNvSpPr/>
          <p:nvPr/>
        </p:nvSpPr>
        <p:spPr>
          <a:xfrm>
            <a:off x="685800" y="1828800"/>
            <a:ext cx="457200" cy="685800"/>
          </a:xfrm>
          <a:prstGeom prst="flowChartInputOutput">
            <a:avLst/>
          </a:prstGeom>
          <a:solidFill>
            <a:srgbClr val="d5a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240" y="3962520"/>
            <a:ext cx="6095880" cy="266688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auses of Sciatic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lapse of an intervertebral disc, with pressure on one or more roots of the lower lumbar and sacral spinal nerve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ssure on the sacral plexus or sciatic nerve by an intrpelvic tumor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flammation of the sciatic nerve or its terminal branch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Picture 7" descr="IDH_ADAM"/>
          <p:cNvPicPr/>
          <p:nvPr/>
        </p:nvPicPr>
        <p:blipFill>
          <a:blip r:embed="rId1"/>
          <a:srcRect l="4611" t="7665" r="4035" b="13523"/>
          <a:stretch/>
        </p:blipFill>
        <p:spPr>
          <a:xfrm>
            <a:off x="380880" y="228600"/>
            <a:ext cx="50292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6" name="Picture 8" descr="csctovdy"/>
          <p:cNvPicPr/>
          <p:nvPr/>
        </p:nvPicPr>
        <p:blipFill>
          <a:blip r:embed="rId2"/>
          <a:stretch/>
        </p:blipFill>
        <p:spPr>
          <a:xfrm>
            <a:off x="5611680" y="316080"/>
            <a:ext cx="3054600" cy="2884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ig055"/>
          <p:cNvPicPr/>
          <p:nvPr/>
        </p:nvPicPr>
        <p:blipFill>
          <a:blip r:embed="rId3"/>
          <a:srcRect l="0" t="18731" r="0" b="0"/>
          <a:stretch/>
        </p:blipFill>
        <p:spPr>
          <a:xfrm>
            <a:off x="6400800" y="3276720"/>
            <a:ext cx="2438280" cy="3309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4876920" cy="106668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Calibri"/>
              </a:rPr>
              <a:t>Common Peroneal Nerve Injury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581640" cy="221004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common peroneal ner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s in an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exposed posi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s it leaves the popliteal fossa it winds around neck of the fibula to ent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eroneus longu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uscle, (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angerous Position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Picture 5" descr="Untitled-8"/>
          <p:cNvPicPr/>
          <p:nvPr/>
        </p:nvPicPr>
        <p:blipFill>
          <a:blip r:embed="rId1"/>
          <a:srcRect l="16815" t="5893" r="13526" b="4557"/>
          <a:stretch/>
        </p:blipFill>
        <p:spPr>
          <a:xfrm>
            <a:off x="380880" y="1447920"/>
            <a:ext cx="1371600" cy="5181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ashcast"/>
          <p:cNvPicPr/>
          <p:nvPr/>
        </p:nvPicPr>
        <p:blipFill>
          <a:blip r:embed="rId2"/>
          <a:srcRect l="12623" t="0" r="7232" b="3805"/>
          <a:stretch/>
        </p:blipFill>
        <p:spPr>
          <a:xfrm>
            <a:off x="5486400" y="228600"/>
            <a:ext cx="3276720" cy="53341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6"/>
          <p:cNvSpPr/>
          <p:nvPr/>
        </p:nvSpPr>
        <p:spPr>
          <a:xfrm>
            <a:off x="3276720" y="5657760"/>
            <a:ext cx="5638680" cy="97812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ommon peroneal nerve is commonly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actur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neck of the fibula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ss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casts or spl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5257440" y="1752480"/>
            <a:ext cx="3886200" cy="510552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Mot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onstantia"/>
              </a:rPr>
              <a:t>The muscles of the anterior and lateral compartments of the leg are paralyzed,</a:t>
            </a:r>
            <a:r>
              <a:rPr b="0" lang="en-US" sz="2000" spc="-1" strike="noStrike">
                <a:solidFill>
                  <a:srgbClr val="0033cc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a result, the opposing muscles, the plantar flexors of the ankle joint and the invertors of the subtalar joints,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cause the foot to be </a:t>
            </a: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Plantar Flexed (Foot Drop) and Invert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 attitude referred to a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Talipe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Equinovarus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7" descr="umns008_0001"/>
          <p:cNvPicPr/>
          <p:nvPr/>
        </p:nvPicPr>
        <p:blipFill>
          <a:blip r:embed="rId1"/>
          <a:srcRect l="12137" t="6209" r="0" b="5438"/>
          <a:stretch/>
        </p:blipFill>
        <p:spPr>
          <a:xfrm>
            <a:off x="685800" y="304920"/>
            <a:ext cx="3048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4114800" y="228600"/>
            <a:ext cx="4724280" cy="137376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festations of Common Peroneal Nerv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Content Placeholder 4" descr="B84D3ED7"/>
          <p:cNvPicPr/>
          <p:nvPr/>
        </p:nvPicPr>
        <p:blipFill>
          <a:blip r:embed="rId2"/>
          <a:srcRect l="0" t="0" r="0" b="30798"/>
          <a:stretch/>
        </p:blipFill>
        <p:spPr>
          <a:xfrm>
            <a:off x="3048120" y="4952880"/>
            <a:ext cx="2265120" cy="1905120"/>
          </a:xfrm>
          <a:prstGeom prst="rect">
            <a:avLst/>
          </a:prstGeom>
          <a:ln w="0">
            <a:noFill/>
          </a:ln>
        </p:spPr>
      </p:pic>
      <p:sp>
        <p:nvSpPr>
          <p:cNvPr id="327" name="Left Arrow 1"/>
          <p:cNvSpPr/>
          <p:nvPr/>
        </p:nvSpPr>
        <p:spPr>
          <a:xfrm>
            <a:off x="1371600" y="5486400"/>
            <a:ext cx="5335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09680"/>
            <a:ext cx="8229600" cy="381024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b54a10"/>
                </a:solidFill>
                <a:uFillTx/>
                <a:latin typeface="Constantia"/>
              </a:rPr>
              <a:t>By the end of the lecture, students should be able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Describe the anatomy (origin, course &amp; distribution) of the sciatic ner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List the branches of the sciatic ner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Describe briefly the </a:t>
            </a:r>
            <a:r>
              <a:rPr b="1" lang="en-US" sz="2800" spc="-1" strike="noStrike">
                <a:solidFill>
                  <a:srgbClr val="5e2d37"/>
                </a:solidFill>
                <a:latin typeface="Constantia"/>
              </a:rPr>
              <a:t>main motor and sensory manifestations in case of injury of the sciatic nerve or its main branch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3962520" cy="3733920"/>
          </a:xfrm>
          <a:prstGeom prst="rect">
            <a:avLst/>
          </a:prstGeom>
          <a:solidFill>
            <a:srgbClr val="d3eef5"/>
          </a:solidFill>
          <a:ln w="2844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3171e"/>
                </a:solidFill>
                <a:uFillTx/>
                <a:latin typeface="Constantia"/>
              </a:rPr>
              <a:t>Sensor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ation is lost between the first and second to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rsum of the foot and to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ial side of the big to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teral side of the le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Content Placeholder 4" descr="4FEAB48A"/>
          <p:cNvPicPr/>
          <p:nvPr/>
        </p:nvPicPr>
        <p:blipFill>
          <a:blip r:embed="rId1"/>
          <a:srcRect l="38337" t="17248" r="38315" b="15073"/>
          <a:stretch/>
        </p:blipFill>
        <p:spPr>
          <a:xfrm>
            <a:off x="4343400" y="152280"/>
            <a:ext cx="3429000" cy="5715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330" name="TextBox 7"/>
          <p:cNvSpPr/>
          <p:nvPr/>
        </p:nvSpPr>
        <p:spPr>
          <a:xfrm>
            <a:off x="7848720" y="2057400"/>
            <a:ext cx="1143000" cy="520200"/>
          </a:xfrm>
          <a:prstGeom prst="rect">
            <a:avLst/>
          </a:prstGeom>
          <a:solidFill>
            <a:srgbClr val="a6dd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ficial peron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Up Arrow 4"/>
          <p:cNvSpPr/>
          <p:nvPr/>
        </p:nvSpPr>
        <p:spPr>
          <a:xfrm>
            <a:off x="5943600" y="4648320"/>
            <a:ext cx="152280" cy="38088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eft Arrow 5"/>
          <p:cNvSpPr/>
          <p:nvPr/>
        </p:nvSpPr>
        <p:spPr>
          <a:xfrm>
            <a:off x="6934320" y="2319480"/>
            <a:ext cx="761760" cy="261720"/>
          </a:xfrm>
          <a:prstGeom prst="leftArrow">
            <a:avLst>
              <a:gd name="adj1" fmla="val 50000"/>
              <a:gd name="adj2" fmla="val 50033"/>
            </a:avLst>
          </a:prstGeom>
          <a:solidFill>
            <a:srgbClr val="0033cc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c00000"/>
          </a:solidFill>
          <a:ln w="9360">
            <a:solidFill>
              <a:srgbClr val="2da2bf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bial Nerve Injury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47960" y="1371600"/>
            <a:ext cx="4267080" cy="50292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of its deep and protected position, the tibial nerve is </a:t>
            </a:r>
            <a:r>
              <a:rPr b="0" i="1" lang="en-US" sz="2000" spc="-1" strike="noStrike" u="sng">
                <a:solidFill>
                  <a:srgbClr val="0033cc"/>
                </a:solidFill>
                <a:uFillTx/>
                <a:latin typeface="Constantia"/>
              </a:rPr>
              <a:t>rarely injur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ivision results in the following clinical featur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onstantia"/>
              </a:rPr>
              <a:t>Motor:</a:t>
            </a:r>
            <a:r>
              <a:rPr b="1" lang="en-US" sz="2800" spc="-1" strike="noStrike">
                <a:solidFill>
                  <a:srgbClr val="ff33cc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All the muscles in the back of the leg and the sole of the foot are paralyz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opposing muscles </a:t>
            </a:r>
            <a:r>
              <a:rPr b="0" i="1" lang="en-US" sz="2000" spc="-1" strike="noStrike">
                <a:solidFill>
                  <a:srgbClr val="0033cc"/>
                </a:solidFill>
                <a:latin typeface="Constantia"/>
              </a:rPr>
              <a:t>Dorsiflex</a:t>
            </a:r>
            <a:r>
              <a:rPr b="0" lang="en-US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oot at the ankle joint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and </a:t>
            </a:r>
            <a:r>
              <a:rPr b="0" i="1" lang="en-US" sz="2000" spc="-1" strike="noStrike">
                <a:solidFill>
                  <a:srgbClr val="0033cc"/>
                </a:solidFill>
                <a:latin typeface="Constantia"/>
              </a:rPr>
              <a:t>Evert the foot</a:t>
            </a:r>
            <a:r>
              <a:rPr b="0" lang="en-US" sz="2000" spc="-1" strike="noStrike">
                <a:solidFill>
                  <a:srgbClr val="0033cc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t the subtalar joint, an attitude referred to as </a:t>
            </a: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Taleps </a:t>
            </a: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Calcaneovalg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5" name="Content Placeholder 4" descr="67B20F21"/>
          <p:cNvPicPr/>
          <p:nvPr/>
        </p:nvPicPr>
        <p:blipFill>
          <a:blip r:embed="rId1"/>
          <a:srcRect l="0" t="1782" r="12120" b="18007"/>
          <a:stretch/>
        </p:blipFill>
        <p:spPr>
          <a:xfrm>
            <a:off x="228600" y="1676520"/>
            <a:ext cx="4343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6" name="Right Arrow 2"/>
          <p:cNvSpPr/>
          <p:nvPr/>
        </p:nvSpPr>
        <p:spPr>
          <a:xfrm>
            <a:off x="990720" y="4800600"/>
            <a:ext cx="990360" cy="30492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c0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2362320" cy="525780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Sensory 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nsation is lost on the Lateral side of the leg and foot &amp;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Trophic ulcer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so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also seen in case of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Sciatic nerve inju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7" descr="BC27097F"/>
          <p:cNvPicPr/>
          <p:nvPr/>
        </p:nvPicPr>
        <p:blipFill>
          <a:blip r:embed="rId1"/>
          <a:srcRect l="12323" t="42372" r="56133" b="23858"/>
          <a:stretch/>
        </p:blipFill>
        <p:spPr>
          <a:xfrm>
            <a:off x="6629400" y="2362320"/>
            <a:ext cx="2209680" cy="3733560"/>
          </a:xfrm>
          <a:prstGeom prst="rect">
            <a:avLst/>
          </a:prstGeom>
          <a:ln w="28440">
            <a:solidFill>
              <a:srgbClr val="da1f28"/>
            </a:solidFill>
            <a:miter/>
          </a:ln>
        </p:spPr>
      </p:pic>
      <p:pic>
        <p:nvPicPr>
          <p:cNvPr id="339" name="Picture 2" descr="C:\Documents and Settings\User\My Documents\Student Gray\6. Lower limb\F66122-006-f019.jpg"/>
          <p:cNvPicPr/>
          <p:nvPr/>
        </p:nvPicPr>
        <p:blipFill>
          <a:blip r:embed="rId2"/>
          <a:srcRect l="0" t="0" r="0" b="3635"/>
          <a:stretch/>
        </p:blipFill>
        <p:spPr>
          <a:xfrm>
            <a:off x="2819520" y="1600200"/>
            <a:ext cx="335268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0" name="Up Arrow 2"/>
          <p:cNvSpPr/>
          <p:nvPr/>
        </p:nvSpPr>
        <p:spPr>
          <a:xfrm>
            <a:off x="7543800" y="3924360"/>
            <a:ext cx="228600" cy="41904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c0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1"/>
          <p:cNvSpPr/>
          <p:nvPr/>
        </p:nvSpPr>
        <p:spPr>
          <a:xfrm>
            <a:off x="1447920" y="2514600"/>
            <a:ext cx="6476760" cy="1312920"/>
          </a:xfrm>
          <a:prstGeom prst="rect">
            <a:avLst/>
          </a:prstGeom>
          <a:solidFill>
            <a:srgbClr val="da1f2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490205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514440"/>
            <a:ext cx="2286000" cy="7048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2590920" cy="3352680"/>
          </a:xfrm>
          <a:prstGeom prst="rect">
            <a:avLst/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Sacral the Plexu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L4,5, S1, 2,3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the largest branch of the plexus &amp; the larges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erve of the bod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Content Placeholder 4" descr="F66122-005-f060.jpg"/>
          <p:cNvPicPr/>
          <p:nvPr/>
        </p:nvPicPr>
        <p:blipFill>
          <a:blip r:embed="rId1"/>
          <a:srcRect l="0" t="0" r="11981" b="3330"/>
          <a:stretch/>
        </p:blipFill>
        <p:spPr>
          <a:xfrm>
            <a:off x="2819520" y="304920"/>
            <a:ext cx="6095880" cy="6019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4419360" cy="685800"/>
          </a:xfrm>
          <a:prstGeom prst="rect">
            <a:avLst/>
          </a:prstGeom>
          <a:solidFill>
            <a:srgbClr val="ead3d8"/>
          </a:solidFill>
          <a:ln w="381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acral Plexu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2280" y="1219320"/>
            <a:ext cx="3657600" cy="45720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onstantia"/>
              </a:rPr>
              <a:t>Formation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entral (anterior) rami of a part of L4 &amp; whole L5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(lumbosacral trunk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+ S1,2,3 and most of S4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Site: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n the posterior wall of the pelvi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front of Piriformis musc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Content Placeholder 4" descr="F66122-005-f061.jpg"/>
          <p:cNvPicPr/>
          <p:nvPr/>
        </p:nvPicPr>
        <p:blipFill>
          <a:blip r:embed="rId1"/>
          <a:srcRect l="0" t="0" r="0" b="3350"/>
          <a:stretch/>
        </p:blipFill>
        <p:spPr>
          <a:xfrm>
            <a:off x="3962520" y="1066680"/>
            <a:ext cx="4952880" cy="5334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1" name="TextBox 5"/>
          <p:cNvSpPr/>
          <p:nvPr/>
        </p:nvSpPr>
        <p:spPr>
          <a:xfrm>
            <a:off x="7696080" y="2514600"/>
            <a:ext cx="1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14"/>
          <p:cNvCxnSpPr/>
          <p:nvPr/>
        </p:nvCxnSpPr>
        <p:spPr>
          <a:xfrm flipH="1" flipV="1">
            <a:off x="7772040" y="312336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15"/>
          <p:cNvSpPr/>
          <p:nvPr/>
        </p:nvSpPr>
        <p:spPr>
          <a:xfrm>
            <a:off x="762012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17"/>
          <p:cNvCxnSpPr/>
          <p:nvPr/>
        </p:nvCxnSpPr>
        <p:spPr>
          <a:xfrm flipH="1">
            <a:off x="7848360" y="3659040"/>
            <a:ext cx="381600" cy="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3733560" cy="685800"/>
          </a:xfrm>
          <a:prstGeom prst="rect">
            <a:avLst/>
          </a:prstGeom>
          <a:solidFill>
            <a:srgbClr val="d5a7b1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Course &amp; Distribution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066320"/>
            <a:ext cx="3962520" cy="5334120"/>
          </a:xfrm>
          <a:prstGeom prst="rect">
            <a:avLst/>
          </a:prstGeom>
          <a:solidFill>
            <a:srgbClr val="fbe0d1"/>
          </a:solidFill>
          <a:ln w="9360">
            <a:solidFill>
              <a:srgbClr val="2da2bf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It leaves the pelvis </a:t>
            </a:r>
            <a:r>
              <a:rPr b="1" lang="en-US" sz="2200" spc="-1" strike="noStrike">
                <a:solidFill>
                  <a:srgbClr val="5e2d37"/>
                </a:solidFill>
                <a:latin typeface="Constantia"/>
              </a:rPr>
              <a:t>through greater sciatic foramen</a:t>
            </a: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, </a:t>
            </a:r>
            <a:r>
              <a:rPr b="1" lang="en-US" sz="2200" spc="-1" strike="noStrike">
                <a:solidFill>
                  <a:srgbClr val="5e2d37"/>
                </a:solidFill>
                <a:latin typeface="Constantia"/>
              </a:rPr>
              <a:t>below the piriformis </a:t>
            </a: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&amp; passes in the gluteal region </a:t>
            </a:r>
            <a:r>
              <a:rPr b="1" lang="en-US" sz="2200" spc="-1" strike="noStrike">
                <a:solidFill>
                  <a:srgbClr val="5e2d37"/>
                </a:solidFill>
                <a:latin typeface="Constantia"/>
              </a:rPr>
              <a:t>(between ischial tuberosity &amp; greater trochanter) </a:t>
            </a: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then to </a:t>
            </a:r>
            <a:r>
              <a:rPr b="1" lang="en-US" sz="2200" spc="-1" strike="noStrike">
                <a:solidFill>
                  <a:srgbClr val="5e2d37"/>
                </a:solidFill>
                <a:latin typeface="Constantia"/>
              </a:rPr>
              <a:t>posterior compartment of thigh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Termination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middle of the back of th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gh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vides into 2 branch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Constantia"/>
              </a:rPr>
              <a:t>Tibial &am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Constantia"/>
              </a:rPr>
              <a:t>Common Peroneal (Fibular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Content Placeholder 6" descr="lumbosacral 006.jpg"/>
          <p:cNvPicPr/>
          <p:nvPr/>
        </p:nvPicPr>
        <p:blipFill>
          <a:blip r:embed="rId1"/>
          <a:stretch/>
        </p:blipFill>
        <p:spPr>
          <a:xfrm>
            <a:off x="4191120" y="304920"/>
            <a:ext cx="4724280" cy="624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ranches of Sciatic Nerve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1904760"/>
            <a:ext cx="3352680" cy="335268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onstantia"/>
              </a:rPr>
              <a:t>1.  Cutaneous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o all leg &amp; foo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nstantia"/>
              </a:rPr>
              <a:t>EXCEPT: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reas supplied by the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saphenous nerve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ranch of femoral nerve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2" descr="C:\Documents and Settings\User\My Documents\Student Gray\6. Lower limb\F66122-006-f019.jpg"/>
          <p:cNvPicPr/>
          <p:nvPr/>
        </p:nvPicPr>
        <p:blipFill>
          <a:blip r:embed="rId1"/>
          <a:srcRect l="0" t="0" r="0" b="3635"/>
          <a:stretch/>
        </p:blipFill>
        <p:spPr>
          <a:xfrm>
            <a:off x="3657600" y="1066680"/>
            <a:ext cx="518148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1" name="Rectangle 6"/>
          <p:cNvSpPr/>
          <p:nvPr/>
        </p:nvSpPr>
        <p:spPr>
          <a:xfrm>
            <a:off x="7543800" y="4267080"/>
            <a:ext cx="1371600" cy="304920"/>
          </a:xfrm>
          <a:prstGeom prst="rect">
            <a:avLst/>
          </a:prstGeom>
          <a:noFill/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657600" y="4419720"/>
            <a:ext cx="1371600" cy="457200"/>
          </a:xfrm>
          <a:prstGeom prst="rect">
            <a:avLst/>
          </a:prstGeom>
          <a:noFill/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28600" y="838080"/>
            <a:ext cx="4648320" cy="601992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2. Muscular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To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Hamstrings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(flexors of knee &amp; extensors of the hip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through tibial  par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Hamstring part of Adductor Magn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Long head of Biceps Femor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emitendinos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emimembranos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B.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The short head of biceps receives its branch from the lateral popliteal (common peroneal) ner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3" descr="C:\Users\galmadani\Desktop\Documents\Documents\Student Gray\6. Lower limb\F66122-006-f067.jpg"/>
          <p:cNvPicPr/>
          <p:nvPr/>
        </p:nvPicPr>
        <p:blipFill>
          <a:blip r:embed="rId1"/>
          <a:srcRect l="11113" t="0" r="13336" b="3722"/>
          <a:stretch/>
        </p:blipFill>
        <p:spPr>
          <a:xfrm>
            <a:off x="5105520" y="380880"/>
            <a:ext cx="358128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657600" cy="53352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ibial  Nerve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2280" y="837720"/>
            <a:ext cx="3810240" cy="579132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Cour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Descends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through popliteal fossa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to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posterior compartment of leg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ccompanied with posterior tibi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Passes </a:t>
            </a:r>
            <a:r>
              <a:rPr b="1" lang="en-US" sz="2400" spc="-1" strike="noStrike">
                <a:solidFill>
                  <a:srgbClr val="5e2d37"/>
                </a:solidFill>
                <a:latin typeface="Constantia"/>
              </a:rPr>
              <a:t>deep to flexor retinaculum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(through the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tarsal tunnel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ehind medial malleolu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) to reach the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sole of foot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where it divides into 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2 terminal branches 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(Medial &amp; Lateral planter nerv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Content Placeholder 4" descr="F66122-006-f085.jpg"/>
          <p:cNvPicPr/>
          <p:nvPr/>
        </p:nvPicPr>
        <p:blipFill>
          <a:blip r:embed="rId1"/>
          <a:srcRect l="13465" t="0" r="13465" b="3031"/>
          <a:stretch/>
        </p:blipFill>
        <p:spPr>
          <a:xfrm>
            <a:off x="4071960" y="228600"/>
            <a:ext cx="3624120" cy="640080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8" name="Picture 2" descr="C:\Documents and Settings\User\My Documents\Student Gray\6. Lower limb\F66122-006-f120.jpg"/>
          <p:cNvPicPr/>
          <p:nvPr/>
        </p:nvPicPr>
        <p:blipFill>
          <a:blip r:embed="rId2"/>
          <a:srcRect l="12385" t="0" r="13330" b="32396"/>
          <a:stretch/>
        </p:blipFill>
        <p:spPr>
          <a:xfrm>
            <a:off x="5792760" y="3429000"/>
            <a:ext cx="190512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cxnSp>
        <p:nvCxnSpPr>
          <p:cNvPr id="279" name="Straight Arrow Connector 7"/>
          <p:cNvCxnSpPr/>
          <p:nvPr/>
        </p:nvCxnSpPr>
        <p:spPr>
          <a:xfrm flipH="1" flipV="1">
            <a:off x="4799880" y="495216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4267080" cy="685800"/>
          </a:xfrm>
          <a:prstGeom prst="rect">
            <a:avLst/>
          </a:prstGeom>
          <a:solidFill>
            <a:srgbClr val="b54a1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uscular Branches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14800" cy="464796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marL="514440" indent="-514440">
              <a:spcBef>
                <a:spcPts val="700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Muscles of posterior compartment of leg: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nter flexors of ankle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exors of to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ONE Invertor of foot (tibialis posterior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2. 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ntrinsic muscles of so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2" descr="C:\Users\galmadani\Desktop\Documents\Documents\Student Gray\6. Lower limb\F66122-006-f082.jpg"/>
          <p:cNvPicPr/>
          <p:nvPr/>
        </p:nvPicPr>
        <p:blipFill>
          <a:blip r:embed="rId1"/>
          <a:srcRect l="0" t="0" r="0" b="2189"/>
          <a:stretch/>
        </p:blipFill>
        <p:spPr>
          <a:xfrm>
            <a:off x="4800600" y="539640"/>
            <a:ext cx="3962520" cy="608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5:38:32Z</dcterms:created>
  <dc:creator>Prof. Saeed Abuel makarem</dc:creator>
  <dc:description/>
  <dc:language>en-US</dc:language>
  <cp:lastModifiedBy>Administrator</cp:lastModifiedBy>
  <dcterms:modified xsi:type="dcterms:W3CDTF">2012-12-25T09:42:01Z</dcterms:modified>
  <cp:revision>61</cp:revision>
  <dc:subject/>
  <dc:title>SCIATIC NE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iatic nerve">
    <vt:lpwstr>Prof. saeed abuel makarem</vt:lpwstr>
  </property>
</Properties>
</file>